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342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FE9C-17CE-4677-BCE7-BB7EB62C9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696F-AA71-4391-96B7-3D88312D4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5458-081C-4BF6-9CD1-EF7F8746B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F816-09D1-4588-BD2A-75BA74C6A1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FFB3-05F1-4411-ABB2-D64650765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285A-3142-41C8-BEF0-6F8211527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24F9-5237-4067-BD35-DD847AD46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DFBF-0CFE-4FD2-A005-568E119F8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5A10-AF64-4254-94FC-834E69D43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3A28-83E6-43F4-8133-AFFD8DC10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A4CE-E68B-4C5F-B38A-FC268696F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2FC5-68E3-462D-9F03-F32764B94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762120"/>
              <a:chOff x="0" y="0"/>
              <a:chExt cx="9144000" cy="762120"/>
            </a:xfrm>
          </p:grpSpPr>
          <p:pic>
            <p:nvPicPr>
              <p:cNvPr id="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0" y="0"/>
                <a:ext cx="761400" cy="75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" name=""/>
            <p:cNvSpPr/>
            <p:nvPr/>
          </p:nvSpPr>
          <p:spPr>
            <a:xfrm>
              <a:off x="6120" y="762120"/>
              <a:ext cx="9137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ftr" idx="1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137160" bIns="46800" anchor="t">
            <a:noAutofit/>
          </a:bodyPr>
          <a:lstStyle>
            <a:lvl1pPr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ctober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005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he Pinchot Institute                       Catherine M. M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8029-D856-4B03-942E-F09B248C9CF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403880" y="13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110320" y="12852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tional Association of State Fore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095520" y="6402240"/>
            <a:ext cx="2770200" cy="455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herine@mater.com" TargetMode="External"/><Relationship Id="rId2" Type="http://schemas.openxmlformats.org/officeDocument/2006/relationships/hyperlink" Target="http://www.pinchot.org/" TargetMode="External"/><Relationship Id="rId3" Type="http://schemas.openxmlformats.org/officeDocument/2006/relationships/hyperlink" Target="mailto:catherine@mater.comwww.mater.com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010640" cy="99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Family Forests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hat Will the Next Generation Do?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therine M. M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nior Fellow —The Pinchot Instit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sident — Mater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rvallis,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:  541-753-7335  Fx:  541-752-29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-mail: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atherine@mater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pinchot.org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;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mater.co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04C8-3C39-4C9A-82EA-AAC4640C8C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2165400" y="1846440"/>
            <a:ext cx="4979880" cy="1922400"/>
            <a:chOff x="2165400" y="1846440"/>
            <a:chExt cx="4979880" cy="1922400"/>
          </a:xfrm>
        </p:grpSpPr>
        <p:sp>
          <p:nvSpPr>
            <p:cNvPr id="119" name=""/>
            <p:cNvSpPr/>
            <p:nvPr/>
          </p:nvSpPr>
          <p:spPr>
            <a:xfrm>
              <a:off x="4635720" y="2135520"/>
              <a:ext cx="696960" cy="785520"/>
            </a:xfrm>
            <a:custGeom>
              <a:avLst/>
              <a:gdLst/>
              <a:ahLst/>
              <a:rect l="l" t="t" r="r" b="b"/>
              <a:pathLst>
                <a:path w="1133" h="1279">
                  <a:moveTo>
                    <a:pt x="566" y="1263"/>
                  </a:moveTo>
                  <a:lnTo>
                    <a:pt x="550" y="1263"/>
                  </a:lnTo>
                  <a:lnTo>
                    <a:pt x="502" y="1263"/>
                  </a:lnTo>
                  <a:lnTo>
                    <a:pt x="453" y="1263"/>
                  </a:lnTo>
                  <a:lnTo>
                    <a:pt x="421" y="1263"/>
                  </a:lnTo>
                  <a:lnTo>
                    <a:pt x="356" y="1263"/>
                  </a:lnTo>
                  <a:lnTo>
                    <a:pt x="356" y="1263"/>
                  </a:lnTo>
                  <a:lnTo>
                    <a:pt x="275" y="1279"/>
                  </a:lnTo>
                  <a:lnTo>
                    <a:pt x="259" y="1279"/>
                  </a:lnTo>
                  <a:lnTo>
                    <a:pt x="194" y="1279"/>
                  </a:lnTo>
                  <a:lnTo>
                    <a:pt x="162" y="1279"/>
                  </a:lnTo>
                  <a:lnTo>
                    <a:pt x="113" y="1279"/>
                  </a:lnTo>
                  <a:lnTo>
                    <a:pt x="113" y="1198"/>
                  </a:lnTo>
                  <a:lnTo>
                    <a:pt x="113" y="1117"/>
                  </a:lnTo>
                  <a:lnTo>
                    <a:pt x="113" y="1052"/>
                  </a:lnTo>
                  <a:lnTo>
                    <a:pt x="113" y="1020"/>
                  </a:lnTo>
                  <a:lnTo>
                    <a:pt x="113" y="987"/>
                  </a:lnTo>
                  <a:lnTo>
                    <a:pt x="113" y="955"/>
                  </a:lnTo>
                  <a:lnTo>
                    <a:pt x="113" y="890"/>
                  </a:lnTo>
                  <a:lnTo>
                    <a:pt x="113" y="874"/>
                  </a:lnTo>
                  <a:lnTo>
                    <a:pt x="97" y="858"/>
                  </a:lnTo>
                  <a:lnTo>
                    <a:pt x="65" y="858"/>
                  </a:lnTo>
                  <a:lnTo>
                    <a:pt x="48" y="809"/>
                  </a:lnTo>
                  <a:lnTo>
                    <a:pt x="48" y="793"/>
                  </a:lnTo>
                  <a:lnTo>
                    <a:pt x="81" y="777"/>
                  </a:lnTo>
                  <a:lnTo>
                    <a:pt x="81" y="761"/>
                  </a:lnTo>
                  <a:lnTo>
                    <a:pt x="97" y="745"/>
                  </a:lnTo>
                  <a:lnTo>
                    <a:pt x="97" y="729"/>
                  </a:lnTo>
                  <a:lnTo>
                    <a:pt x="97" y="712"/>
                  </a:lnTo>
                  <a:lnTo>
                    <a:pt x="81" y="648"/>
                  </a:lnTo>
                  <a:lnTo>
                    <a:pt x="65" y="631"/>
                  </a:lnTo>
                  <a:lnTo>
                    <a:pt x="65" y="583"/>
                  </a:lnTo>
                  <a:lnTo>
                    <a:pt x="65" y="583"/>
                  </a:lnTo>
                  <a:lnTo>
                    <a:pt x="65" y="551"/>
                  </a:lnTo>
                  <a:lnTo>
                    <a:pt x="65" y="518"/>
                  </a:lnTo>
                  <a:lnTo>
                    <a:pt x="48" y="502"/>
                  </a:lnTo>
                  <a:lnTo>
                    <a:pt x="48" y="470"/>
                  </a:lnTo>
                  <a:lnTo>
                    <a:pt x="48" y="453"/>
                  </a:lnTo>
                  <a:lnTo>
                    <a:pt x="48" y="421"/>
                  </a:lnTo>
                  <a:lnTo>
                    <a:pt x="48" y="421"/>
                  </a:lnTo>
                  <a:lnTo>
                    <a:pt x="48" y="405"/>
                  </a:lnTo>
                  <a:lnTo>
                    <a:pt x="48" y="372"/>
                  </a:lnTo>
                  <a:lnTo>
                    <a:pt x="48" y="356"/>
                  </a:lnTo>
                  <a:lnTo>
                    <a:pt x="32" y="324"/>
                  </a:lnTo>
                  <a:lnTo>
                    <a:pt x="32" y="308"/>
                  </a:lnTo>
                  <a:lnTo>
                    <a:pt x="16" y="259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27"/>
                  </a:lnTo>
                  <a:lnTo>
                    <a:pt x="16" y="227"/>
                  </a:lnTo>
                  <a:lnTo>
                    <a:pt x="16" y="211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16" y="146"/>
                  </a:lnTo>
                  <a:lnTo>
                    <a:pt x="0" y="114"/>
                  </a:lnTo>
                  <a:lnTo>
                    <a:pt x="0" y="81"/>
                  </a:lnTo>
                  <a:lnTo>
                    <a:pt x="113" y="81"/>
                  </a:lnTo>
                  <a:lnTo>
                    <a:pt x="291" y="81"/>
                  </a:lnTo>
                  <a:lnTo>
                    <a:pt x="307" y="81"/>
                  </a:lnTo>
                  <a:lnTo>
                    <a:pt x="307" y="0"/>
                  </a:lnTo>
                  <a:lnTo>
                    <a:pt x="340" y="0"/>
                  </a:lnTo>
                  <a:lnTo>
                    <a:pt x="372" y="97"/>
                  </a:lnTo>
                  <a:lnTo>
                    <a:pt x="372" y="130"/>
                  </a:lnTo>
                  <a:lnTo>
                    <a:pt x="388" y="130"/>
                  </a:lnTo>
                  <a:lnTo>
                    <a:pt x="404" y="130"/>
                  </a:lnTo>
                  <a:lnTo>
                    <a:pt x="421" y="130"/>
                  </a:lnTo>
                  <a:lnTo>
                    <a:pt x="437" y="146"/>
                  </a:lnTo>
                  <a:lnTo>
                    <a:pt x="502" y="146"/>
                  </a:lnTo>
                  <a:lnTo>
                    <a:pt x="502" y="178"/>
                  </a:lnTo>
                  <a:lnTo>
                    <a:pt x="502" y="178"/>
                  </a:lnTo>
                  <a:lnTo>
                    <a:pt x="550" y="178"/>
                  </a:lnTo>
                  <a:lnTo>
                    <a:pt x="550" y="162"/>
                  </a:lnTo>
                  <a:lnTo>
                    <a:pt x="550" y="162"/>
                  </a:lnTo>
                  <a:lnTo>
                    <a:pt x="566" y="146"/>
                  </a:lnTo>
                  <a:lnTo>
                    <a:pt x="599" y="146"/>
                  </a:lnTo>
                  <a:lnTo>
                    <a:pt x="631" y="146"/>
                  </a:lnTo>
                  <a:lnTo>
                    <a:pt x="663" y="162"/>
                  </a:lnTo>
                  <a:lnTo>
                    <a:pt x="663" y="162"/>
                  </a:lnTo>
                  <a:lnTo>
                    <a:pt x="680" y="178"/>
                  </a:lnTo>
                  <a:lnTo>
                    <a:pt x="663" y="178"/>
                  </a:lnTo>
                  <a:lnTo>
                    <a:pt x="663" y="178"/>
                  </a:lnTo>
                  <a:lnTo>
                    <a:pt x="696" y="194"/>
                  </a:lnTo>
                  <a:lnTo>
                    <a:pt x="696" y="194"/>
                  </a:lnTo>
                  <a:lnTo>
                    <a:pt x="696" y="211"/>
                  </a:lnTo>
                  <a:lnTo>
                    <a:pt x="712" y="227"/>
                  </a:lnTo>
                  <a:lnTo>
                    <a:pt x="728" y="227"/>
                  </a:lnTo>
                  <a:lnTo>
                    <a:pt x="728" y="211"/>
                  </a:lnTo>
                  <a:lnTo>
                    <a:pt x="728" y="211"/>
                  </a:lnTo>
                  <a:lnTo>
                    <a:pt x="744" y="194"/>
                  </a:lnTo>
                  <a:lnTo>
                    <a:pt x="760" y="211"/>
                  </a:lnTo>
                  <a:lnTo>
                    <a:pt x="777" y="227"/>
                  </a:lnTo>
                  <a:lnTo>
                    <a:pt x="793" y="227"/>
                  </a:lnTo>
                  <a:lnTo>
                    <a:pt x="809" y="243"/>
                  </a:lnTo>
                  <a:lnTo>
                    <a:pt x="809" y="259"/>
                  </a:lnTo>
                  <a:lnTo>
                    <a:pt x="825" y="259"/>
                  </a:lnTo>
                  <a:lnTo>
                    <a:pt x="825" y="259"/>
                  </a:lnTo>
                  <a:lnTo>
                    <a:pt x="874" y="259"/>
                  </a:lnTo>
                  <a:lnTo>
                    <a:pt x="906" y="227"/>
                  </a:lnTo>
                  <a:lnTo>
                    <a:pt x="938" y="211"/>
                  </a:lnTo>
                  <a:lnTo>
                    <a:pt x="955" y="259"/>
                  </a:lnTo>
                  <a:lnTo>
                    <a:pt x="971" y="243"/>
                  </a:lnTo>
                  <a:lnTo>
                    <a:pt x="987" y="243"/>
                  </a:lnTo>
                  <a:lnTo>
                    <a:pt x="1036" y="243"/>
                  </a:lnTo>
                  <a:lnTo>
                    <a:pt x="1052" y="243"/>
                  </a:lnTo>
                  <a:lnTo>
                    <a:pt x="1068" y="259"/>
                  </a:lnTo>
                  <a:lnTo>
                    <a:pt x="1084" y="259"/>
                  </a:lnTo>
                  <a:lnTo>
                    <a:pt x="1100" y="259"/>
                  </a:lnTo>
                  <a:lnTo>
                    <a:pt x="1133" y="259"/>
                  </a:lnTo>
                  <a:lnTo>
                    <a:pt x="1117" y="259"/>
                  </a:lnTo>
                  <a:lnTo>
                    <a:pt x="1117" y="275"/>
                  </a:lnTo>
                  <a:lnTo>
                    <a:pt x="1068" y="308"/>
                  </a:lnTo>
                  <a:lnTo>
                    <a:pt x="987" y="324"/>
                  </a:lnTo>
                  <a:lnTo>
                    <a:pt x="922" y="389"/>
                  </a:lnTo>
                  <a:lnTo>
                    <a:pt x="858" y="470"/>
                  </a:lnTo>
                  <a:lnTo>
                    <a:pt x="809" y="518"/>
                  </a:lnTo>
                  <a:lnTo>
                    <a:pt x="760" y="534"/>
                  </a:lnTo>
                  <a:lnTo>
                    <a:pt x="744" y="567"/>
                  </a:lnTo>
                  <a:lnTo>
                    <a:pt x="728" y="567"/>
                  </a:lnTo>
                  <a:lnTo>
                    <a:pt x="744" y="567"/>
                  </a:lnTo>
                  <a:lnTo>
                    <a:pt x="744" y="631"/>
                  </a:lnTo>
                  <a:lnTo>
                    <a:pt x="744" y="680"/>
                  </a:lnTo>
                  <a:lnTo>
                    <a:pt x="744" y="696"/>
                  </a:lnTo>
                  <a:lnTo>
                    <a:pt x="728" y="712"/>
                  </a:lnTo>
                  <a:lnTo>
                    <a:pt x="728" y="712"/>
                  </a:lnTo>
                  <a:lnTo>
                    <a:pt x="712" y="712"/>
                  </a:lnTo>
                  <a:lnTo>
                    <a:pt x="712" y="712"/>
                  </a:lnTo>
                  <a:lnTo>
                    <a:pt x="680" y="729"/>
                  </a:lnTo>
                  <a:lnTo>
                    <a:pt x="663" y="777"/>
                  </a:lnTo>
                  <a:lnTo>
                    <a:pt x="647" y="793"/>
                  </a:lnTo>
                  <a:lnTo>
                    <a:pt x="663" y="809"/>
                  </a:lnTo>
                  <a:lnTo>
                    <a:pt x="680" y="809"/>
                  </a:lnTo>
                  <a:lnTo>
                    <a:pt x="696" y="842"/>
                  </a:lnTo>
                  <a:lnTo>
                    <a:pt x="696" y="842"/>
                  </a:lnTo>
                  <a:lnTo>
                    <a:pt x="680" y="874"/>
                  </a:lnTo>
                  <a:lnTo>
                    <a:pt x="680" y="890"/>
                  </a:lnTo>
                  <a:lnTo>
                    <a:pt x="680" y="907"/>
                  </a:lnTo>
                  <a:lnTo>
                    <a:pt x="680" y="923"/>
                  </a:lnTo>
                  <a:lnTo>
                    <a:pt x="680" y="923"/>
                  </a:lnTo>
                  <a:lnTo>
                    <a:pt x="680" y="971"/>
                  </a:lnTo>
                  <a:lnTo>
                    <a:pt x="680" y="987"/>
                  </a:lnTo>
                  <a:lnTo>
                    <a:pt x="680" y="1004"/>
                  </a:lnTo>
                  <a:lnTo>
                    <a:pt x="712" y="1020"/>
                  </a:lnTo>
                  <a:lnTo>
                    <a:pt x="744" y="1036"/>
                  </a:lnTo>
                  <a:lnTo>
                    <a:pt x="760" y="1052"/>
                  </a:lnTo>
                  <a:lnTo>
                    <a:pt x="793" y="1052"/>
                  </a:lnTo>
                  <a:lnTo>
                    <a:pt x="809" y="1068"/>
                  </a:lnTo>
                  <a:lnTo>
                    <a:pt x="825" y="1101"/>
                  </a:lnTo>
                  <a:lnTo>
                    <a:pt x="874" y="1133"/>
                  </a:lnTo>
                  <a:lnTo>
                    <a:pt x="890" y="1149"/>
                  </a:lnTo>
                  <a:lnTo>
                    <a:pt x="922" y="1182"/>
                  </a:lnTo>
                  <a:lnTo>
                    <a:pt x="922" y="1182"/>
                  </a:lnTo>
                  <a:lnTo>
                    <a:pt x="922" y="1198"/>
                  </a:lnTo>
                  <a:lnTo>
                    <a:pt x="938" y="1246"/>
                  </a:lnTo>
                  <a:lnTo>
                    <a:pt x="874" y="1263"/>
                  </a:lnTo>
                  <a:lnTo>
                    <a:pt x="858" y="1263"/>
                  </a:lnTo>
                  <a:lnTo>
                    <a:pt x="793" y="1263"/>
                  </a:lnTo>
                  <a:lnTo>
                    <a:pt x="744" y="1263"/>
                  </a:lnTo>
                  <a:lnTo>
                    <a:pt x="728" y="1263"/>
                  </a:lnTo>
                  <a:lnTo>
                    <a:pt x="647" y="1263"/>
                  </a:lnTo>
                  <a:lnTo>
                    <a:pt x="647" y="1263"/>
                  </a:lnTo>
                  <a:lnTo>
                    <a:pt x="566" y="126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37440" y="2463840"/>
              <a:ext cx="807840" cy="608040"/>
            </a:xfrm>
            <a:custGeom>
              <a:avLst/>
              <a:gdLst/>
              <a:ahLst/>
              <a:rect l="l" t="t" r="r" b="b"/>
              <a:pathLst>
                <a:path w="1311" h="988">
                  <a:moveTo>
                    <a:pt x="1004" y="890"/>
                  </a:moveTo>
                  <a:lnTo>
                    <a:pt x="987" y="874"/>
                  </a:lnTo>
                  <a:lnTo>
                    <a:pt x="939" y="858"/>
                  </a:lnTo>
                  <a:lnTo>
                    <a:pt x="939" y="858"/>
                  </a:lnTo>
                  <a:lnTo>
                    <a:pt x="907" y="842"/>
                  </a:lnTo>
                  <a:lnTo>
                    <a:pt x="858" y="826"/>
                  </a:lnTo>
                  <a:lnTo>
                    <a:pt x="842" y="810"/>
                  </a:lnTo>
                  <a:lnTo>
                    <a:pt x="793" y="810"/>
                  </a:lnTo>
                  <a:lnTo>
                    <a:pt x="777" y="777"/>
                  </a:lnTo>
                  <a:lnTo>
                    <a:pt x="777" y="745"/>
                  </a:lnTo>
                  <a:lnTo>
                    <a:pt x="761" y="729"/>
                  </a:lnTo>
                  <a:lnTo>
                    <a:pt x="745" y="729"/>
                  </a:lnTo>
                  <a:lnTo>
                    <a:pt x="729" y="712"/>
                  </a:lnTo>
                  <a:lnTo>
                    <a:pt x="712" y="712"/>
                  </a:lnTo>
                  <a:lnTo>
                    <a:pt x="696" y="712"/>
                  </a:lnTo>
                  <a:lnTo>
                    <a:pt x="599" y="729"/>
                  </a:lnTo>
                  <a:lnTo>
                    <a:pt x="583" y="729"/>
                  </a:lnTo>
                  <a:lnTo>
                    <a:pt x="518" y="745"/>
                  </a:lnTo>
                  <a:lnTo>
                    <a:pt x="470" y="761"/>
                  </a:lnTo>
                  <a:lnTo>
                    <a:pt x="453" y="761"/>
                  </a:lnTo>
                  <a:lnTo>
                    <a:pt x="356" y="777"/>
                  </a:lnTo>
                  <a:lnTo>
                    <a:pt x="340" y="777"/>
                  </a:lnTo>
                  <a:lnTo>
                    <a:pt x="259" y="793"/>
                  </a:lnTo>
                  <a:lnTo>
                    <a:pt x="243" y="793"/>
                  </a:lnTo>
                  <a:lnTo>
                    <a:pt x="146" y="826"/>
                  </a:lnTo>
                  <a:lnTo>
                    <a:pt x="130" y="826"/>
                  </a:lnTo>
                  <a:lnTo>
                    <a:pt x="49" y="842"/>
                  </a:lnTo>
                  <a:lnTo>
                    <a:pt x="16" y="842"/>
                  </a:lnTo>
                  <a:lnTo>
                    <a:pt x="0" y="777"/>
                  </a:lnTo>
                  <a:lnTo>
                    <a:pt x="49" y="745"/>
                  </a:lnTo>
                  <a:lnTo>
                    <a:pt x="65" y="729"/>
                  </a:lnTo>
                  <a:lnTo>
                    <a:pt x="97" y="696"/>
                  </a:lnTo>
                  <a:lnTo>
                    <a:pt x="97" y="664"/>
                  </a:lnTo>
                  <a:lnTo>
                    <a:pt x="130" y="648"/>
                  </a:lnTo>
                  <a:lnTo>
                    <a:pt x="114" y="615"/>
                  </a:lnTo>
                  <a:lnTo>
                    <a:pt x="114" y="599"/>
                  </a:lnTo>
                  <a:lnTo>
                    <a:pt x="114" y="583"/>
                  </a:lnTo>
                  <a:lnTo>
                    <a:pt x="81" y="583"/>
                  </a:lnTo>
                  <a:lnTo>
                    <a:pt x="81" y="583"/>
                  </a:lnTo>
                  <a:lnTo>
                    <a:pt x="81" y="551"/>
                  </a:lnTo>
                  <a:lnTo>
                    <a:pt x="162" y="518"/>
                  </a:lnTo>
                  <a:lnTo>
                    <a:pt x="243" y="502"/>
                  </a:lnTo>
                  <a:lnTo>
                    <a:pt x="275" y="502"/>
                  </a:lnTo>
                  <a:lnTo>
                    <a:pt x="308" y="518"/>
                  </a:lnTo>
                  <a:lnTo>
                    <a:pt x="340" y="502"/>
                  </a:lnTo>
                  <a:lnTo>
                    <a:pt x="421" y="486"/>
                  </a:lnTo>
                  <a:lnTo>
                    <a:pt x="437" y="470"/>
                  </a:lnTo>
                  <a:lnTo>
                    <a:pt x="437" y="470"/>
                  </a:lnTo>
                  <a:lnTo>
                    <a:pt x="453" y="437"/>
                  </a:lnTo>
                  <a:lnTo>
                    <a:pt x="470" y="421"/>
                  </a:lnTo>
                  <a:lnTo>
                    <a:pt x="502" y="405"/>
                  </a:lnTo>
                  <a:lnTo>
                    <a:pt x="518" y="389"/>
                  </a:lnTo>
                  <a:lnTo>
                    <a:pt x="502" y="373"/>
                  </a:lnTo>
                  <a:lnTo>
                    <a:pt x="486" y="340"/>
                  </a:lnTo>
                  <a:lnTo>
                    <a:pt x="502" y="324"/>
                  </a:lnTo>
                  <a:lnTo>
                    <a:pt x="502" y="324"/>
                  </a:lnTo>
                  <a:lnTo>
                    <a:pt x="502" y="308"/>
                  </a:lnTo>
                  <a:lnTo>
                    <a:pt x="486" y="292"/>
                  </a:lnTo>
                  <a:lnTo>
                    <a:pt x="470" y="308"/>
                  </a:lnTo>
                  <a:lnTo>
                    <a:pt x="470" y="292"/>
                  </a:lnTo>
                  <a:lnTo>
                    <a:pt x="534" y="211"/>
                  </a:lnTo>
                  <a:lnTo>
                    <a:pt x="534" y="178"/>
                  </a:lnTo>
                  <a:lnTo>
                    <a:pt x="583" y="97"/>
                  </a:lnTo>
                  <a:lnTo>
                    <a:pt x="631" y="65"/>
                  </a:lnTo>
                  <a:lnTo>
                    <a:pt x="664" y="49"/>
                  </a:lnTo>
                  <a:lnTo>
                    <a:pt x="777" y="17"/>
                  </a:lnTo>
                  <a:lnTo>
                    <a:pt x="874" y="0"/>
                  </a:lnTo>
                  <a:lnTo>
                    <a:pt x="874" y="17"/>
                  </a:lnTo>
                  <a:lnTo>
                    <a:pt x="874" y="33"/>
                  </a:lnTo>
                  <a:lnTo>
                    <a:pt x="890" y="33"/>
                  </a:lnTo>
                  <a:lnTo>
                    <a:pt x="890" y="49"/>
                  </a:lnTo>
                  <a:lnTo>
                    <a:pt x="890" y="81"/>
                  </a:lnTo>
                  <a:lnTo>
                    <a:pt x="907" y="97"/>
                  </a:lnTo>
                  <a:lnTo>
                    <a:pt x="907" y="97"/>
                  </a:lnTo>
                  <a:lnTo>
                    <a:pt x="907" y="114"/>
                  </a:lnTo>
                  <a:lnTo>
                    <a:pt x="907" y="130"/>
                  </a:lnTo>
                  <a:lnTo>
                    <a:pt x="923" y="146"/>
                  </a:lnTo>
                  <a:lnTo>
                    <a:pt x="907" y="162"/>
                  </a:lnTo>
                  <a:lnTo>
                    <a:pt x="907" y="195"/>
                  </a:lnTo>
                  <a:lnTo>
                    <a:pt x="923" y="227"/>
                  </a:lnTo>
                  <a:lnTo>
                    <a:pt x="939" y="243"/>
                  </a:lnTo>
                  <a:lnTo>
                    <a:pt x="939" y="259"/>
                  </a:lnTo>
                  <a:lnTo>
                    <a:pt x="939" y="292"/>
                  </a:lnTo>
                  <a:lnTo>
                    <a:pt x="939" y="292"/>
                  </a:lnTo>
                  <a:lnTo>
                    <a:pt x="939" y="308"/>
                  </a:lnTo>
                  <a:lnTo>
                    <a:pt x="939" y="292"/>
                  </a:lnTo>
                  <a:lnTo>
                    <a:pt x="955" y="292"/>
                  </a:lnTo>
                  <a:lnTo>
                    <a:pt x="971" y="308"/>
                  </a:lnTo>
                  <a:lnTo>
                    <a:pt x="971" y="356"/>
                  </a:lnTo>
                  <a:lnTo>
                    <a:pt x="987" y="437"/>
                  </a:lnTo>
                  <a:lnTo>
                    <a:pt x="1004" y="453"/>
                  </a:lnTo>
                  <a:lnTo>
                    <a:pt x="1004" y="470"/>
                  </a:lnTo>
                  <a:lnTo>
                    <a:pt x="1004" y="518"/>
                  </a:lnTo>
                  <a:lnTo>
                    <a:pt x="1004" y="615"/>
                  </a:lnTo>
                  <a:lnTo>
                    <a:pt x="1004" y="632"/>
                  </a:lnTo>
                  <a:lnTo>
                    <a:pt x="1020" y="712"/>
                  </a:lnTo>
                  <a:lnTo>
                    <a:pt x="1020" y="745"/>
                  </a:lnTo>
                  <a:lnTo>
                    <a:pt x="1036" y="777"/>
                  </a:lnTo>
                  <a:lnTo>
                    <a:pt x="1036" y="793"/>
                  </a:lnTo>
                  <a:lnTo>
                    <a:pt x="1052" y="810"/>
                  </a:lnTo>
                  <a:lnTo>
                    <a:pt x="1020" y="842"/>
                  </a:lnTo>
                  <a:lnTo>
                    <a:pt x="1036" y="858"/>
                  </a:lnTo>
                  <a:lnTo>
                    <a:pt x="1020" y="890"/>
                  </a:lnTo>
                  <a:lnTo>
                    <a:pt x="1020" y="907"/>
                  </a:lnTo>
                  <a:lnTo>
                    <a:pt x="1004" y="907"/>
                  </a:lnTo>
                  <a:lnTo>
                    <a:pt x="987" y="939"/>
                  </a:lnTo>
                  <a:lnTo>
                    <a:pt x="987" y="907"/>
                  </a:lnTo>
                  <a:lnTo>
                    <a:pt x="1004" y="890"/>
                  </a:lnTo>
                  <a:lnTo>
                    <a:pt x="1004" y="890"/>
                  </a:lnTo>
                  <a:lnTo>
                    <a:pt x="1004" y="890"/>
                  </a:lnTo>
                  <a:close/>
                  <a:moveTo>
                    <a:pt x="1036" y="939"/>
                  </a:moveTo>
                  <a:lnTo>
                    <a:pt x="1020" y="939"/>
                  </a:lnTo>
                  <a:lnTo>
                    <a:pt x="1004" y="939"/>
                  </a:lnTo>
                  <a:lnTo>
                    <a:pt x="1020" y="955"/>
                  </a:lnTo>
                  <a:lnTo>
                    <a:pt x="1004" y="955"/>
                  </a:lnTo>
                  <a:lnTo>
                    <a:pt x="987" y="955"/>
                  </a:lnTo>
                  <a:lnTo>
                    <a:pt x="1004" y="923"/>
                  </a:lnTo>
                  <a:lnTo>
                    <a:pt x="1004" y="907"/>
                  </a:lnTo>
                  <a:lnTo>
                    <a:pt x="1036" y="907"/>
                  </a:lnTo>
                  <a:lnTo>
                    <a:pt x="1020" y="890"/>
                  </a:lnTo>
                  <a:lnTo>
                    <a:pt x="1052" y="874"/>
                  </a:lnTo>
                  <a:lnTo>
                    <a:pt x="1068" y="874"/>
                  </a:lnTo>
                  <a:lnTo>
                    <a:pt x="1068" y="858"/>
                  </a:lnTo>
                  <a:lnTo>
                    <a:pt x="1101" y="858"/>
                  </a:lnTo>
                  <a:lnTo>
                    <a:pt x="1117" y="842"/>
                  </a:lnTo>
                  <a:lnTo>
                    <a:pt x="1133" y="842"/>
                  </a:lnTo>
                  <a:lnTo>
                    <a:pt x="1198" y="826"/>
                  </a:lnTo>
                  <a:lnTo>
                    <a:pt x="1230" y="777"/>
                  </a:lnTo>
                  <a:lnTo>
                    <a:pt x="1246" y="777"/>
                  </a:lnTo>
                  <a:lnTo>
                    <a:pt x="1230" y="777"/>
                  </a:lnTo>
                  <a:lnTo>
                    <a:pt x="1230" y="810"/>
                  </a:lnTo>
                  <a:lnTo>
                    <a:pt x="1214" y="826"/>
                  </a:lnTo>
                  <a:lnTo>
                    <a:pt x="1198" y="842"/>
                  </a:lnTo>
                  <a:lnTo>
                    <a:pt x="1230" y="826"/>
                  </a:lnTo>
                  <a:lnTo>
                    <a:pt x="1246" y="793"/>
                  </a:lnTo>
                  <a:lnTo>
                    <a:pt x="1263" y="793"/>
                  </a:lnTo>
                  <a:lnTo>
                    <a:pt x="1279" y="793"/>
                  </a:lnTo>
                  <a:lnTo>
                    <a:pt x="1311" y="777"/>
                  </a:lnTo>
                  <a:lnTo>
                    <a:pt x="1311" y="777"/>
                  </a:lnTo>
                  <a:lnTo>
                    <a:pt x="1311" y="777"/>
                  </a:lnTo>
                  <a:lnTo>
                    <a:pt x="1230" y="858"/>
                  </a:lnTo>
                  <a:lnTo>
                    <a:pt x="1085" y="923"/>
                  </a:lnTo>
                  <a:lnTo>
                    <a:pt x="1036" y="955"/>
                  </a:lnTo>
                  <a:lnTo>
                    <a:pt x="1020" y="955"/>
                  </a:lnTo>
                  <a:lnTo>
                    <a:pt x="1036" y="939"/>
                  </a:lnTo>
                  <a:lnTo>
                    <a:pt x="1036" y="939"/>
                  </a:lnTo>
                  <a:lnTo>
                    <a:pt x="1036" y="939"/>
                  </a:lnTo>
                  <a:close/>
                  <a:moveTo>
                    <a:pt x="1117" y="923"/>
                  </a:moveTo>
                  <a:lnTo>
                    <a:pt x="1182" y="874"/>
                  </a:lnTo>
                  <a:lnTo>
                    <a:pt x="1149" y="907"/>
                  </a:lnTo>
                  <a:lnTo>
                    <a:pt x="1117" y="923"/>
                  </a:lnTo>
                  <a:lnTo>
                    <a:pt x="1117" y="923"/>
                  </a:lnTo>
                  <a:close/>
                  <a:moveTo>
                    <a:pt x="971" y="988"/>
                  </a:moveTo>
                  <a:lnTo>
                    <a:pt x="971" y="955"/>
                  </a:lnTo>
                  <a:lnTo>
                    <a:pt x="987" y="955"/>
                  </a:lnTo>
                  <a:lnTo>
                    <a:pt x="987" y="955"/>
                  </a:lnTo>
                  <a:lnTo>
                    <a:pt x="987" y="971"/>
                  </a:lnTo>
                  <a:lnTo>
                    <a:pt x="971" y="988"/>
                  </a:lnTo>
                  <a:lnTo>
                    <a:pt x="971" y="9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6960" y="2901960"/>
              <a:ext cx="619200" cy="398520"/>
            </a:xfrm>
            <a:custGeom>
              <a:avLst/>
              <a:gdLst/>
              <a:ahLst/>
              <a:rect l="l" t="t" r="r" b="b"/>
              <a:pathLst>
                <a:path w="1004" h="648">
                  <a:moveTo>
                    <a:pt x="728" y="518"/>
                  </a:moveTo>
                  <a:lnTo>
                    <a:pt x="680" y="535"/>
                  </a:lnTo>
                  <a:lnTo>
                    <a:pt x="648" y="535"/>
                  </a:lnTo>
                  <a:lnTo>
                    <a:pt x="615" y="551"/>
                  </a:lnTo>
                  <a:lnTo>
                    <a:pt x="583" y="551"/>
                  </a:lnTo>
                  <a:lnTo>
                    <a:pt x="567" y="551"/>
                  </a:lnTo>
                  <a:lnTo>
                    <a:pt x="470" y="567"/>
                  </a:lnTo>
                  <a:lnTo>
                    <a:pt x="437" y="583"/>
                  </a:lnTo>
                  <a:lnTo>
                    <a:pt x="421" y="583"/>
                  </a:lnTo>
                  <a:lnTo>
                    <a:pt x="356" y="599"/>
                  </a:lnTo>
                  <a:lnTo>
                    <a:pt x="340" y="599"/>
                  </a:lnTo>
                  <a:lnTo>
                    <a:pt x="259" y="615"/>
                  </a:lnTo>
                  <a:lnTo>
                    <a:pt x="243" y="615"/>
                  </a:lnTo>
                  <a:lnTo>
                    <a:pt x="194" y="632"/>
                  </a:lnTo>
                  <a:lnTo>
                    <a:pt x="178" y="632"/>
                  </a:lnTo>
                  <a:lnTo>
                    <a:pt x="97" y="648"/>
                  </a:lnTo>
                  <a:lnTo>
                    <a:pt x="81" y="648"/>
                  </a:lnTo>
                  <a:lnTo>
                    <a:pt x="65" y="599"/>
                  </a:lnTo>
                  <a:lnTo>
                    <a:pt x="65" y="583"/>
                  </a:lnTo>
                  <a:lnTo>
                    <a:pt x="65" y="551"/>
                  </a:lnTo>
                  <a:lnTo>
                    <a:pt x="49" y="502"/>
                  </a:lnTo>
                  <a:lnTo>
                    <a:pt x="49" y="486"/>
                  </a:lnTo>
                  <a:lnTo>
                    <a:pt x="49" y="454"/>
                  </a:lnTo>
                  <a:lnTo>
                    <a:pt x="33" y="405"/>
                  </a:lnTo>
                  <a:lnTo>
                    <a:pt x="33" y="389"/>
                  </a:lnTo>
                  <a:lnTo>
                    <a:pt x="33" y="340"/>
                  </a:lnTo>
                  <a:lnTo>
                    <a:pt x="16" y="259"/>
                  </a:lnTo>
                  <a:lnTo>
                    <a:pt x="16" y="259"/>
                  </a:lnTo>
                  <a:lnTo>
                    <a:pt x="0" y="178"/>
                  </a:lnTo>
                  <a:lnTo>
                    <a:pt x="0" y="146"/>
                  </a:lnTo>
                  <a:lnTo>
                    <a:pt x="97" y="65"/>
                  </a:lnTo>
                  <a:lnTo>
                    <a:pt x="113" y="130"/>
                  </a:lnTo>
                  <a:lnTo>
                    <a:pt x="146" y="130"/>
                  </a:lnTo>
                  <a:lnTo>
                    <a:pt x="227" y="114"/>
                  </a:lnTo>
                  <a:lnTo>
                    <a:pt x="243" y="114"/>
                  </a:lnTo>
                  <a:lnTo>
                    <a:pt x="340" y="81"/>
                  </a:lnTo>
                  <a:lnTo>
                    <a:pt x="356" y="81"/>
                  </a:lnTo>
                  <a:lnTo>
                    <a:pt x="437" y="65"/>
                  </a:lnTo>
                  <a:lnTo>
                    <a:pt x="453" y="65"/>
                  </a:lnTo>
                  <a:lnTo>
                    <a:pt x="550" y="49"/>
                  </a:lnTo>
                  <a:lnTo>
                    <a:pt x="567" y="49"/>
                  </a:lnTo>
                  <a:lnTo>
                    <a:pt x="615" y="33"/>
                  </a:lnTo>
                  <a:lnTo>
                    <a:pt x="680" y="17"/>
                  </a:lnTo>
                  <a:lnTo>
                    <a:pt x="696" y="17"/>
                  </a:lnTo>
                  <a:lnTo>
                    <a:pt x="793" y="0"/>
                  </a:lnTo>
                  <a:lnTo>
                    <a:pt x="809" y="0"/>
                  </a:lnTo>
                  <a:lnTo>
                    <a:pt x="826" y="0"/>
                  </a:lnTo>
                  <a:lnTo>
                    <a:pt x="842" y="17"/>
                  </a:lnTo>
                  <a:lnTo>
                    <a:pt x="858" y="17"/>
                  </a:lnTo>
                  <a:lnTo>
                    <a:pt x="874" y="33"/>
                  </a:lnTo>
                  <a:lnTo>
                    <a:pt x="874" y="65"/>
                  </a:lnTo>
                  <a:lnTo>
                    <a:pt x="890" y="98"/>
                  </a:lnTo>
                  <a:lnTo>
                    <a:pt x="939" y="98"/>
                  </a:lnTo>
                  <a:lnTo>
                    <a:pt x="955" y="114"/>
                  </a:lnTo>
                  <a:lnTo>
                    <a:pt x="923" y="130"/>
                  </a:lnTo>
                  <a:lnTo>
                    <a:pt x="923" y="162"/>
                  </a:lnTo>
                  <a:lnTo>
                    <a:pt x="906" y="178"/>
                  </a:lnTo>
                  <a:lnTo>
                    <a:pt x="923" y="178"/>
                  </a:lnTo>
                  <a:lnTo>
                    <a:pt x="890" y="211"/>
                  </a:lnTo>
                  <a:lnTo>
                    <a:pt x="906" y="227"/>
                  </a:lnTo>
                  <a:lnTo>
                    <a:pt x="906" y="227"/>
                  </a:lnTo>
                  <a:lnTo>
                    <a:pt x="906" y="243"/>
                  </a:lnTo>
                  <a:lnTo>
                    <a:pt x="890" y="259"/>
                  </a:lnTo>
                  <a:lnTo>
                    <a:pt x="906" y="292"/>
                  </a:lnTo>
                  <a:lnTo>
                    <a:pt x="906" y="292"/>
                  </a:lnTo>
                  <a:lnTo>
                    <a:pt x="906" y="292"/>
                  </a:lnTo>
                  <a:lnTo>
                    <a:pt x="923" y="292"/>
                  </a:lnTo>
                  <a:lnTo>
                    <a:pt x="939" y="324"/>
                  </a:lnTo>
                  <a:lnTo>
                    <a:pt x="955" y="324"/>
                  </a:lnTo>
                  <a:lnTo>
                    <a:pt x="955" y="340"/>
                  </a:lnTo>
                  <a:lnTo>
                    <a:pt x="1004" y="373"/>
                  </a:lnTo>
                  <a:lnTo>
                    <a:pt x="971" y="405"/>
                  </a:lnTo>
                  <a:lnTo>
                    <a:pt x="955" y="421"/>
                  </a:lnTo>
                  <a:lnTo>
                    <a:pt x="939" y="421"/>
                  </a:lnTo>
                  <a:lnTo>
                    <a:pt x="939" y="437"/>
                  </a:lnTo>
                  <a:lnTo>
                    <a:pt x="939" y="454"/>
                  </a:lnTo>
                  <a:lnTo>
                    <a:pt x="923" y="454"/>
                  </a:lnTo>
                  <a:lnTo>
                    <a:pt x="906" y="470"/>
                  </a:lnTo>
                  <a:lnTo>
                    <a:pt x="874" y="470"/>
                  </a:lnTo>
                  <a:lnTo>
                    <a:pt x="858" y="470"/>
                  </a:lnTo>
                  <a:lnTo>
                    <a:pt x="842" y="502"/>
                  </a:lnTo>
                  <a:lnTo>
                    <a:pt x="793" y="502"/>
                  </a:lnTo>
                  <a:lnTo>
                    <a:pt x="777" y="518"/>
                  </a:lnTo>
                  <a:lnTo>
                    <a:pt x="728" y="5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39080" y="3181680"/>
              <a:ext cx="477720" cy="468000"/>
            </a:xfrm>
            <a:custGeom>
              <a:avLst/>
              <a:gdLst/>
              <a:ahLst/>
              <a:rect l="l" t="t" r="r" b="b"/>
              <a:pathLst>
                <a:path w="776" h="760">
                  <a:moveTo>
                    <a:pt x="550" y="437"/>
                  </a:moveTo>
                  <a:lnTo>
                    <a:pt x="517" y="437"/>
                  </a:lnTo>
                  <a:lnTo>
                    <a:pt x="501" y="420"/>
                  </a:lnTo>
                  <a:lnTo>
                    <a:pt x="485" y="404"/>
                  </a:lnTo>
                  <a:lnTo>
                    <a:pt x="485" y="437"/>
                  </a:lnTo>
                  <a:lnTo>
                    <a:pt x="485" y="453"/>
                  </a:lnTo>
                  <a:lnTo>
                    <a:pt x="485" y="469"/>
                  </a:lnTo>
                  <a:lnTo>
                    <a:pt x="469" y="469"/>
                  </a:lnTo>
                  <a:lnTo>
                    <a:pt x="469" y="485"/>
                  </a:lnTo>
                  <a:lnTo>
                    <a:pt x="453" y="501"/>
                  </a:lnTo>
                  <a:lnTo>
                    <a:pt x="453" y="534"/>
                  </a:lnTo>
                  <a:lnTo>
                    <a:pt x="437" y="566"/>
                  </a:lnTo>
                  <a:lnTo>
                    <a:pt x="420" y="582"/>
                  </a:lnTo>
                  <a:lnTo>
                    <a:pt x="404" y="631"/>
                  </a:lnTo>
                  <a:lnTo>
                    <a:pt x="420" y="631"/>
                  </a:lnTo>
                  <a:lnTo>
                    <a:pt x="420" y="631"/>
                  </a:lnTo>
                  <a:lnTo>
                    <a:pt x="420" y="647"/>
                  </a:lnTo>
                  <a:lnTo>
                    <a:pt x="404" y="663"/>
                  </a:lnTo>
                  <a:lnTo>
                    <a:pt x="420" y="663"/>
                  </a:lnTo>
                  <a:lnTo>
                    <a:pt x="420" y="663"/>
                  </a:lnTo>
                  <a:lnTo>
                    <a:pt x="388" y="695"/>
                  </a:lnTo>
                  <a:lnTo>
                    <a:pt x="388" y="679"/>
                  </a:lnTo>
                  <a:lnTo>
                    <a:pt x="339" y="712"/>
                  </a:lnTo>
                  <a:lnTo>
                    <a:pt x="323" y="695"/>
                  </a:lnTo>
                  <a:lnTo>
                    <a:pt x="323" y="712"/>
                  </a:lnTo>
                  <a:lnTo>
                    <a:pt x="323" y="712"/>
                  </a:lnTo>
                  <a:lnTo>
                    <a:pt x="307" y="728"/>
                  </a:lnTo>
                  <a:lnTo>
                    <a:pt x="275" y="744"/>
                  </a:lnTo>
                  <a:lnTo>
                    <a:pt x="242" y="728"/>
                  </a:lnTo>
                  <a:lnTo>
                    <a:pt x="242" y="744"/>
                  </a:lnTo>
                  <a:lnTo>
                    <a:pt x="210" y="760"/>
                  </a:lnTo>
                  <a:lnTo>
                    <a:pt x="194" y="760"/>
                  </a:lnTo>
                  <a:lnTo>
                    <a:pt x="178" y="760"/>
                  </a:lnTo>
                  <a:lnTo>
                    <a:pt x="161" y="760"/>
                  </a:lnTo>
                  <a:lnTo>
                    <a:pt x="145" y="744"/>
                  </a:lnTo>
                  <a:lnTo>
                    <a:pt x="145" y="728"/>
                  </a:lnTo>
                  <a:lnTo>
                    <a:pt x="129" y="712"/>
                  </a:lnTo>
                  <a:lnTo>
                    <a:pt x="145" y="712"/>
                  </a:lnTo>
                  <a:lnTo>
                    <a:pt x="129" y="712"/>
                  </a:lnTo>
                  <a:lnTo>
                    <a:pt x="97" y="695"/>
                  </a:lnTo>
                  <a:lnTo>
                    <a:pt x="97" y="695"/>
                  </a:lnTo>
                  <a:lnTo>
                    <a:pt x="97" y="679"/>
                  </a:lnTo>
                  <a:lnTo>
                    <a:pt x="97" y="695"/>
                  </a:lnTo>
                  <a:lnTo>
                    <a:pt x="81" y="679"/>
                  </a:lnTo>
                  <a:lnTo>
                    <a:pt x="64" y="663"/>
                  </a:lnTo>
                  <a:lnTo>
                    <a:pt x="64" y="663"/>
                  </a:lnTo>
                  <a:lnTo>
                    <a:pt x="48" y="647"/>
                  </a:lnTo>
                  <a:lnTo>
                    <a:pt x="48" y="647"/>
                  </a:lnTo>
                  <a:lnTo>
                    <a:pt x="32" y="631"/>
                  </a:lnTo>
                  <a:lnTo>
                    <a:pt x="32" y="615"/>
                  </a:lnTo>
                  <a:lnTo>
                    <a:pt x="0" y="582"/>
                  </a:lnTo>
                  <a:lnTo>
                    <a:pt x="0" y="582"/>
                  </a:lnTo>
                  <a:lnTo>
                    <a:pt x="0" y="566"/>
                  </a:lnTo>
                  <a:lnTo>
                    <a:pt x="0" y="566"/>
                  </a:lnTo>
                  <a:lnTo>
                    <a:pt x="0" y="534"/>
                  </a:lnTo>
                  <a:lnTo>
                    <a:pt x="16" y="534"/>
                  </a:lnTo>
                  <a:lnTo>
                    <a:pt x="48" y="517"/>
                  </a:lnTo>
                  <a:lnTo>
                    <a:pt x="48" y="485"/>
                  </a:lnTo>
                  <a:lnTo>
                    <a:pt x="64" y="485"/>
                  </a:lnTo>
                  <a:lnTo>
                    <a:pt x="64" y="469"/>
                  </a:lnTo>
                  <a:lnTo>
                    <a:pt x="48" y="437"/>
                  </a:lnTo>
                  <a:lnTo>
                    <a:pt x="64" y="420"/>
                  </a:lnTo>
                  <a:lnTo>
                    <a:pt x="64" y="404"/>
                  </a:lnTo>
                  <a:lnTo>
                    <a:pt x="81" y="388"/>
                  </a:lnTo>
                  <a:lnTo>
                    <a:pt x="81" y="388"/>
                  </a:lnTo>
                  <a:lnTo>
                    <a:pt x="97" y="388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113" y="404"/>
                  </a:lnTo>
                  <a:lnTo>
                    <a:pt x="113" y="388"/>
                  </a:lnTo>
                  <a:lnTo>
                    <a:pt x="129" y="388"/>
                  </a:lnTo>
                  <a:lnTo>
                    <a:pt x="113" y="372"/>
                  </a:lnTo>
                  <a:lnTo>
                    <a:pt x="113" y="372"/>
                  </a:lnTo>
                  <a:lnTo>
                    <a:pt x="113" y="356"/>
                  </a:lnTo>
                  <a:lnTo>
                    <a:pt x="113" y="339"/>
                  </a:lnTo>
                  <a:lnTo>
                    <a:pt x="113" y="339"/>
                  </a:lnTo>
                  <a:lnTo>
                    <a:pt x="129" y="323"/>
                  </a:lnTo>
                  <a:lnTo>
                    <a:pt x="145" y="323"/>
                  </a:lnTo>
                  <a:lnTo>
                    <a:pt x="145" y="307"/>
                  </a:lnTo>
                  <a:lnTo>
                    <a:pt x="161" y="291"/>
                  </a:lnTo>
                  <a:lnTo>
                    <a:pt x="178" y="291"/>
                  </a:lnTo>
                  <a:lnTo>
                    <a:pt x="194" y="275"/>
                  </a:lnTo>
                  <a:lnTo>
                    <a:pt x="210" y="259"/>
                  </a:lnTo>
                  <a:lnTo>
                    <a:pt x="226" y="242"/>
                  </a:lnTo>
                  <a:lnTo>
                    <a:pt x="242" y="226"/>
                  </a:lnTo>
                  <a:lnTo>
                    <a:pt x="242" y="226"/>
                  </a:lnTo>
                  <a:lnTo>
                    <a:pt x="242" y="194"/>
                  </a:lnTo>
                  <a:lnTo>
                    <a:pt x="242" y="194"/>
                  </a:lnTo>
                  <a:lnTo>
                    <a:pt x="242" y="178"/>
                  </a:lnTo>
                  <a:lnTo>
                    <a:pt x="242" y="178"/>
                  </a:lnTo>
                  <a:lnTo>
                    <a:pt x="259" y="161"/>
                  </a:lnTo>
                  <a:lnTo>
                    <a:pt x="242" y="161"/>
                  </a:lnTo>
                  <a:lnTo>
                    <a:pt x="259" y="161"/>
                  </a:lnTo>
                  <a:lnTo>
                    <a:pt x="259" y="129"/>
                  </a:lnTo>
                  <a:lnTo>
                    <a:pt x="259" y="97"/>
                  </a:lnTo>
                  <a:lnTo>
                    <a:pt x="259" y="97"/>
                  </a:lnTo>
                  <a:lnTo>
                    <a:pt x="275" y="64"/>
                  </a:lnTo>
                  <a:lnTo>
                    <a:pt x="259" y="48"/>
                  </a:lnTo>
                  <a:lnTo>
                    <a:pt x="259" y="32"/>
                  </a:lnTo>
                  <a:lnTo>
                    <a:pt x="242" y="16"/>
                  </a:lnTo>
                  <a:lnTo>
                    <a:pt x="275" y="0"/>
                  </a:lnTo>
                  <a:lnTo>
                    <a:pt x="275" y="32"/>
                  </a:lnTo>
                  <a:lnTo>
                    <a:pt x="275" y="48"/>
                  </a:lnTo>
                  <a:lnTo>
                    <a:pt x="291" y="97"/>
                  </a:lnTo>
                  <a:lnTo>
                    <a:pt x="291" y="129"/>
                  </a:lnTo>
                  <a:lnTo>
                    <a:pt x="291" y="145"/>
                  </a:lnTo>
                  <a:lnTo>
                    <a:pt x="307" y="194"/>
                  </a:lnTo>
                  <a:lnTo>
                    <a:pt x="323" y="194"/>
                  </a:lnTo>
                  <a:lnTo>
                    <a:pt x="404" y="178"/>
                  </a:lnTo>
                  <a:lnTo>
                    <a:pt x="420" y="178"/>
                  </a:lnTo>
                  <a:lnTo>
                    <a:pt x="469" y="161"/>
                  </a:lnTo>
                  <a:lnTo>
                    <a:pt x="485" y="275"/>
                  </a:lnTo>
                  <a:lnTo>
                    <a:pt x="517" y="242"/>
                  </a:lnTo>
                  <a:lnTo>
                    <a:pt x="550" y="194"/>
                  </a:lnTo>
                  <a:lnTo>
                    <a:pt x="566" y="210"/>
                  </a:lnTo>
                  <a:lnTo>
                    <a:pt x="582" y="178"/>
                  </a:lnTo>
                  <a:lnTo>
                    <a:pt x="582" y="178"/>
                  </a:lnTo>
                  <a:lnTo>
                    <a:pt x="598" y="161"/>
                  </a:lnTo>
                  <a:lnTo>
                    <a:pt x="598" y="161"/>
                  </a:lnTo>
                  <a:lnTo>
                    <a:pt x="598" y="161"/>
                  </a:lnTo>
                  <a:lnTo>
                    <a:pt x="598" y="178"/>
                  </a:lnTo>
                  <a:lnTo>
                    <a:pt x="615" y="178"/>
                  </a:lnTo>
                  <a:lnTo>
                    <a:pt x="647" y="178"/>
                  </a:lnTo>
                  <a:lnTo>
                    <a:pt x="647" y="161"/>
                  </a:lnTo>
                  <a:lnTo>
                    <a:pt x="647" y="161"/>
                  </a:lnTo>
                  <a:lnTo>
                    <a:pt x="647" y="161"/>
                  </a:lnTo>
                  <a:lnTo>
                    <a:pt x="647" y="145"/>
                  </a:lnTo>
                  <a:lnTo>
                    <a:pt x="663" y="145"/>
                  </a:lnTo>
                  <a:lnTo>
                    <a:pt x="679" y="145"/>
                  </a:lnTo>
                  <a:lnTo>
                    <a:pt x="679" y="129"/>
                  </a:lnTo>
                  <a:lnTo>
                    <a:pt x="712" y="145"/>
                  </a:lnTo>
                  <a:lnTo>
                    <a:pt x="728" y="145"/>
                  </a:lnTo>
                  <a:lnTo>
                    <a:pt x="728" y="145"/>
                  </a:lnTo>
                  <a:lnTo>
                    <a:pt x="744" y="145"/>
                  </a:lnTo>
                  <a:lnTo>
                    <a:pt x="744" y="145"/>
                  </a:lnTo>
                  <a:lnTo>
                    <a:pt x="744" y="145"/>
                  </a:lnTo>
                  <a:lnTo>
                    <a:pt x="744" y="161"/>
                  </a:lnTo>
                  <a:lnTo>
                    <a:pt x="744" y="145"/>
                  </a:lnTo>
                  <a:lnTo>
                    <a:pt x="744" y="161"/>
                  </a:lnTo>
                  <a:lnTo>
                    <a:pt x="760" y="161"/>
                  </a:lnTo>
                  <a:lnTo>
                    <a:pt x="760" y="161"/>
                  </a:lnTo>
                  <a:lnTo>
                    <a:pt x="760" y="178"/>
                  </a:lnTo>
                  <a:lnTo>
                    <a:pt x="776" y="178"/>
                  </a:lnTo>
                  <a:lnTo>
                    <a:pt x="776" y="194"/>
                  </a:lnTo>
                  <a:lnTo>
                    <a:pt x="776" y="194"/>
                  </a:lnTo>
                  <a:lnTo>
                    <a:pt x="760" y="242"/>
                  </a:lnTo>
                  <a:lnTo>
                    <a:pt x="728" y="210"/>
                  </a:lnTo>
                  <a:lnTo>
                    <a:pt x="696" y="194"/>
                  </a:lnTo>
                  <a:lnTo>
                    <a:pt x="663" y="178"/>
                  </a:lnTo>
                  <a:lnTo>
                    <a:pt x="663" y="210"/>
                  </a:lnTo>
                  <a:lnTo>
                    <a:pt x="679" y="210"/>
                  </a:lnTo>
                  <a:lnTo>
                    <a:pt x="663" y="226"/>
                  </a:lnTo>
                  <a:lnTo>
                    <a:pt x="663" y="242"/>
                  </a:lnTo>
                  <a:lnTo>
                    <a:pt x="663" y="275"/>
                  </a:lnTo>
                  <a:lnTo>
                    <a:pt x="647" y="275"/>
                  </a:lnTo>
                  <a:lnTo>
                    <a:pt x="647" y="291"/>
                  </a:lnTo>
                  <a:lnTo>
                    <a:pt x="647" y="291"/>
                  </a:lnTo>
                  <a:lnTo>
                    <a:pt x="631" y="307"/>
                  </a:lnTo>
                  <a:lnTo>
                    <a:pt x="631" y="323"/>
                  </a:lnTo>
                  <a:lnTo>
                    <a:pt x="631" y="307"/>
                  </a:lnTo>
                  <a:lnTo>
                    <a:pt x="615" y="323"/>
                  </a:lnTo>
                  <a:lnTo>
                    <a:pt x="615" y="356"/>
                  </a:lnTo>
                  <a:lnTo>
                    <a:pt x="582" y="339"/>
                  </a:lnTo>
                  <a:lnTo>
                    <a:pt x="582" y="356"/>
                  </a:lnTo>
                  <a:lnTo>
                    <a:pt x="582" y="388"/>
                  </a:lnTo>
                  <a:lnTo>
                    <a:pt x="566" y="388"/>
                  </a:lnTo>
                  <a:lnTo>
                    <a:pt x="566" y="420"/>
                  </a:lnTo>
                  <a:lnTo>
                    <a:pt x="550" y="4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02360" y="3021120"/>
              <a:ext cx="428760" cy="747720"/>
            </a:xfrm>
            <a:custGeom>
              <a:avLst/>
              <a:gdLst/>
              <a:ahLst/>
              <a:rect l="l" t="t" r="r" b="b"/>
              <a:pathLst>
                <a:path w="696" h="1213">
                  <a:moveTo>
                    <a:pt x="243" y="857"/>
                  </a:moveTo>
                  <a:lnTo>
                    <a:pt x="243" y="841"/>
                  </a:lnTo>
                  <a:lnTo>
                    <a:pt x="243" y="825"/>
                  </a:lnTo>
                  <a:lnTo>
                    <a:pt x="243" y="825"/>
                  </a:lnTo>
                  <a:lnTo>
                    <a:pt x="227" y="809"/>
                  </a:lnTo>
                  <a:lnTo>
                    <a:pt x="195" y="793"/>
                  </a:lnTo>
                  <a:lnTo>
                    <a:pt x="178" y="825"/>
                  </a:lnTo>
                  <a:lnTo>
                    <a:pt x="162" y="825"/>
                  </a:lnTo>
                  <a:lnTo>
                    <a:pt x="146" y="809"/>
                  </a:lnTo>
                  <a:lnTo>
                    <a:pt x="146" y="744"/>
                  </a:lnTo>
                  <a:lnTo>
                    <a:pt x="130" y="728"/>
                  </a:lnTo>
                  <a:lnTo>
                    <a:pt x="97" y="712"/>
                  </a:lnTo>
                  <a:lnTo>
                    <a:pt x="49" y="663"/>
                  </a:lnTo>
                  <a:lnTo>
                    <a:pt x="33" y="647"/>
                  </a:lnTo>
                  <a:lnTo>
                    <a:pt x="33" y="631"/>
                  </a:lnTo>
                  <a:lnTo>
                    <a:pt x="16" y="615"/>
                  </a:lnTo>
                  <a:lnTo>
                    <a:pt x="16" y="598"/>
                  </a:lnTo>
                  <a:lnTo>
                    <a:pt x="0" y="566"/>
                  </a:lnTo>
                  <a:lnTo>
                    <a:pt x="0" y="534"/>
                  </a:lnTo>
                  <a:lnTo>
                    <a:pt x="0" y="518"/>
                  </a:lnTo>
                  <a:lnTo>
                    <a:pt x="0" y="501"/>
                  </a:lnTo>
                  <a:lnTo>
                    <a:pt x="16" y="485"/>
                  </a:lnTo>
                  <a:lnTo>
                    <a:pt x="16" y="469"/>
                  </a:lnTo>
                  <a:lnTo>
                    <a:pt x="16" y="453"/>
                  </a:lnTo>
                  <a:lnTo>
                    <a:pt x="49" y="437"/>
                  </a:lnTo>
                  <a:lnTo>
                    <a:pt x="65" y="420"/>
                  </a:lnTo>
                  <a:lnTo>
                    <a:pt x="65" y="388"/>
                  </a:lnTo>
                  <a:lnTo>
                    <a:pt x="81" y="372"/>
                  </a:lnTo>
                  <a:lnTo>
                    <a:pt x="81" y="340"/>
                  </a:lnTo>
                  <a:lnTo>
                    <a:pt x="81" y="323"/>
                  </a:lnTo>
                  <a:lnTo>
                    <a:pt x="49" y="307"/>
                  </a:lnTo>
                  <a:lnTo>
                    <a:pt x="65" y="291"/>
                  </a:lnTo>
                  <a:lnTo>
                    <a:pt x="65" y="259"/>
                  </a:lnTo>
                  <a:lnTo>
                    <a:pt x="97" y="259"/>
                  </a:lnTo>
                  <a:lnTo>
                    <a:pt x="130" y="259"/>
                  </a:lnTo>
                  <a:lnTo>
                    <a:pt x="130" y="242"/>
                  </a:lnTo>
                  <a:lnTo>
                    <a:pt x="162" y="242"/>
                  </a:lnTo>
                  <a:lnTo>
                    <a:pt x="178" y="226"/>
                  </a:lnTo>
                  <a:lnTo>
                    <a:pt x="178" y="194"/>
                  </a:lnTo>
                  <a:lnTo>
                    <a:pt x="178" y="178"/>
                  </a:lnTo>
                  <a:lnTo>
                    <a:pt x="195" y="178"/>
                  </a:lnTo>
                  <a:lnTo>
                    <a:pt x="195" y="145"/>
                  </a:lnTo>
                  <a:lnTo>
                    <a:pt x="195" y="129"/>
                  </a:lnTo>
                  <a:lnTo>
                    <a:pt x="195" y="97"/>
                  </a:lnTo>
                  <a:lnTo>
                    <a:pt x="162" y="81"/>
                  </a:lnTo>
                  <a:lnTo>
                    <a:pt x="162" y="81"/>
                  </a:lnTo>
                  <a:lnTo>
                    <a:pt x="146" y="64"/>
                  </a:lnTo>
                  <a:lnTo>
                    <a:pt x="146" y="48"/>
                  </a:lnTo>
                  <a:lnTo>
                    <a:pt x="114" y="32"/>
                  </a:lnTo>
                  <a:lnTo>
                    <a:pt x="114" y="16"/>
                  </a:lnTo>
                  <a:lnTo>
                    <a:pt x="146" y="16"/>
                  </a:lnTo>
                  <a:lnTo>
                    <a:pt x="227" y="16"/>
                  </a:lnTo>
                  <a:lnTo>
                    <a:pt x="243" y="16"/>
                  </a:lnTo>
                  <a:lnTo>
                    <a:pt x="308" y="16"/>
                  </a:lnTo>
                  <a:lnTo>
                    <a:pt x="324" y="16"/>
                  </a:lnTo>
                  <a:lnTo>
                    <a:pt x="389" y="16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486" y="0"/>
                  </a:lnTo>
                  <a:lnTo>
                    <a:pt x="502" y="0"/>
                  </a:lnTo>
                  <a:lnTo>
                    <a:pt x="567" y="0"/>
                  </a:lnTo>
                  <a:lnTo>
                    <a:pt x="567" y="32"/>
                  </a:lnTo>
                  <a:lnTo>
                    <a:pt x="583" y="64"/>
                  </a:lnTo>
                  <a:lnTo>
                    <a:pt x="599" y="81"/>
                  </a:lnTo>
                  <a:lnTo>
                    <a:pt x="615" y="129"/>
                  </a:lnTo>
                  <a:lnTo>
                    <a:pt x="631" y="161"/>
                  </a:lnTo>
                  <a:lnTo>
                    <a:pt x="631" y="210"/>
                  </a:lnTo>
                  <a:lnTo>
                    <a:pt x="631" y="259"/>
                  </a:lnTo>
                  <a:lnTo>
                    <a:pt x="631" y="275"/>
                  </a:lnTo>
                  <a:lnTo>
                    <a:pt x="648" y="307"/>
                  </a:lnTo>
                  <a:lnTo>
                    <a:pt x="648" y="372"/>
                  </a:lnTo>
                  <a:lnTo>
                    <a:pt x="648" y="420"/>
                  </a:lnTo>
                  <a:lnTo>
                    <a:pt x="648" y="437"/>
                  </a:lnTo>
                  <a:lnTo>
                    <a:pt x="648" y="501"/>
                  </a:lnTo>
                  <a:lnTo>
                    <a:pt x="664" y="566"/>
                  </a:lnTo>
                  <a:lnTo>
                    <a:pt x="664" y="615"/>
                  </a:lnTo>
                  <a:lnTo>
                    <a:pt x="664" y="647"/>
                  </a:lnTo>
                  <a:lnTo>
                    <a:pt x="664" y="679"/>
                  </a:lnTo>
                  <a:lnTo>
                    <a:pt x="664" y="696"/>
                  </a:lnTo>
                  <a:lnTo>
                    <a:pt x="664" y="696"/>
                  </a:lnTo>
                  <a:lnTo>
                    <a:pt x="664" y="712"/>
                  </a:lnTo>
                  <a:lnTo>
                    <a:pt x="664" y="712"/>
                  </a:lnTo>
                  <a:lnTo>
                    <a:pt x="648" y="728"/>
                  </a:lnTo>
                  <a:lnTo>
                    <a:pt x="664" y="744"/>
                  </a:lnTo>
                  <a:lnTo>
                    <a:pt x="664" y="760"/>
                  </a:lnTo>
                  <a:lnTo>
                    <a:pt x="680" y="760"/>
                  </a:lnTo>
                  <a:lnTo>
                    <a:pt x="680" y="776"/>
                  </a:lnTo>
                  <a:lnTo>
                    <a:pt x="680" y="793"/>
                  </a:lnTo>
                  <a:lnTo>
                    <a:pt x="696" y="809"/>
                  </a:lnTo>
                  <a:lnTo>
                    <a:pt x="664" y="841"/>
                  </a:lnTo>
                  <a:lnTo>
                    <a:pt x="680" y="841"/>
                  </a:lnTo>
                  <a:lnTo>
                    <a:pt x="664" y="857"/>
                  </a:lnTo>
                  <a:lnTo>
                    <a:pt x="664" y="874"/>
                  </a:lnTo>
                  <a:lnTo>
                    <a:pt x="648" y="874"/>
                  </a:lnTo>
                  <a:lnTo>
                    <a:pt x="648" y="890"/>
                  </a:lnTo>
                  <a:lnTo>
                    <a:pt x="648" y="906"/>
                  </a:lnTo>
                  <a:lnTo>
                    <a:pt x="631" y="922"/>
                  </a:lnTo>
                  <a:lnTo>
                    <a:pt x="631" y="906"/>
                  </a:lnTo>
                  <a:lnTo>
                    <a:pt x="631" y="922"/>
                  </a:lnTo>
                  <a:lnTo>
                    <a:pt x="631" y="906"/>
                  </a:lnTo>
                  <a:lnTo>
                    <a:pt x="615" y="922"/>
                  </a:lnTo>
                  <a:lnTo>
                    <a:pt x="615" y="922"/>
                  </a:lnTo>
                  <a:lnTo>
                    <a:pt x="631" y="938"/>
                  </a:lnTo>
                  <a:lnTo>
                    <a:pt x="615" y="954"/>
                  </a:lnTo>
                  <a:lnTo>
                    <a:pt x="615" y="954"/>
                  </a:lnTo>
                  <a:lnTo>
                    <a:pt x="615" y="971"/>
                  </a:lnTo>
                  <a:lnTo>
                    <a:pt x="615" y="971"/>
                  </a:lnTo>
                  <a:lnTo>
                    <a:pt x="615" y="987"/>
                  </a:lnTo>
                  <a:lnTo>
                    <a:pt x="599" y="1003"/>
                  </a:lnTo>
                  <a:lnTo>
                    <a:pt x="615" y="1003"/>
                  </a:lnTo>
                  <a:lnTo>
                    <a:pt x="599" y="1003"/>
                  </a:lnTo>
                  <a:lnTo>
                    <a:pt x="615" y="1019"/>
                  </a:lnTo>
                  <a:lnTo>
                    <a:pt x="615" y="1019"/>
                  </a:lnTo>
                  <a:lnTo>
                    <a:pt x="615" y="1019"/>
                  </a:lnTo>
                  <a:lnTo>
                    <a:pt x="599" y="1052"/>
                  </a:lnTo>
                  <a:lnTo>
                    <a:pt x="599" y="1068"/>
                  </a:lnTo>
                  <a:lnTo>
                    <a:pt x="615" y="1084"/>
                  </a:lnTo>
                  <a:lnTo>
                    <a:pt x="615" y="1100"/>
                  </a:lnTo>
                  <a:lnTo>
                    <a:pt x="583" y="1100"/>
                  </a:lnTo>
                  <a:lnTo>
                    <a:pt x="567" y="1116"/>
                  </a:lnTo>
                  <a:lnTo>
                    <a:pt x="551" y="1116"/>
                  </a:lnTo>
                  <a:lnTo>
                    <a:pt x="551" y="1116"/>
                  </a:lnTo>
                  <a:lnTo>
                    <a:pt x="551" y="1149"/>
                  </a:lnTo>
                  <a:lnTo>
                    <a:pt x="567" y="1165"/>
                  </a:lnTo>
                  <a:lnTo>
                    <a:pt x="551" y="1197"/>
                  </a:lnTo>
                  <a:lnTo>
                    <a:pt x="534" y="1197"/>
                  </a:lnTo>
                  <a:lnTo>
                    <a:pt x="470" y="1165"/>
                  </a:lnTo>
                  <a:lnTo>
                    <a:pt x="453" y="1165"/>
                  </a:lnTo>
                  <a:lnTo>
                    <a:pt x="437" y="1197"/>
                  </a:lnTo>
                  <a:lnTo>
                    <a:pt x="437" y="1213"/>
                  </a:lnTo>
                  <a:lnTo>
                    <a:pt x="437" y="1213"/>
                  </a:lnTo>
                  <a:lnTo>
                    <a:pt x="437" y="1213"/>
                  </a:lnTo>
                  <a:lnTo>
                    <a:pt x="421" y="1197"/>
                  </a:lnTo>
                  <a:lnTo>
                    <a:pt x="405" y="1197"/>
                  </a:lnTo>
                  <a:lnTo>
                    <a:pt x="421" y="1213"/>
                  </a:lnTo>
                  <a:lnTo>
                    <a:pt x="405" y="1213"/>
                  </a:lnTo>
                  <a:lnTo>
                    <a:pt x="405" y="1213"/>
                  </a:lnTo>
                  <a:lnTo>
                    <a:pt x="405" y="1197"/>
                  </a:lnTo>
                  <a:lnTo>
                    <a:pt x="373" y="1165"/>
                  </a:lnTo>
                  <a:lnTo>
                    <a:pt x="373" y="1149"/>
                  </a:lnTo>
                  <a:lnTo>
                    <a:pt x="373" y="1149"/>
                  </a:lnTo>
                  <a:lnTo>
                    <a:pt x="389" y="1133"/>
                  </a:lnTo>
                  <a:lnTo>
                    <a:pt x="389" y="1133"/>
                  </a:lnTo>
                  <a:lnTo>
                    <a:pt x="373" y="1100"/>
                  </a:lnTo>
                  <a:lnTo>
                    <a:pt x="373" y="1068"/>
                  </a:lnTo>
                  <a:lnTo>
                    <a:pt x="340" y="1052"/>
                  </a:lnTo>
                  <a:lnTo>
                    <a:pt x="340" y="1052"/>
                  </a:lnTo>
                  <a:lnTo>
                    <a:pt x="308" y="1019"/>
                  </a:lnTo>
                  <a:lnTo>
                    <a:pt x="292" y="1035"/>
                  </a:lnTo>
                  <a:lnTo>
                    <a:pt x="292" y="1019"/>
                  </a:lnTo>
                  <a:lnTo>
                    <a:pt x="292" y="1019"/>
                  </a:lnTo>
                  <a:lnTo>
                    <a:pt x="243" y="987"/>
                  </a:lnTo>
                  <a:lnTo>
                    <a:pt x="227" y="987"/>
                  </a:lnTo>
                  <a:lnTo>
                    <a:pt x="211" y="954"/>
                  </a:lnTo>
                  <a:lnTo>
                    <a:pt x="211" y="922"/>
                  </a:lnTo>
                  <a:lnTo>
                    <a:pt x="227" y="890"/>
                  </a:lnTo>
                  <a:lnTo>
                    <a:pt x="227" y="890"/>
                  </a:lnTo>
                  <a:lnTo>
                    <a:pt x="243" y="874"/>
                  </a:lnTo>
                  <a:lnTo>
                    <a:pt x="243" y="8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59720" y="2992680"/>
              <a:ext cx="449280" cy="517320"/>
            </a:xfrm>
            <a:custGeom>
              <a:avLst/>
              <a:gdLst/>
              <a:ahLst/>
              <a:rect l="l" t="t" r="r" b="b"/>
              <a:pathLst>
                <a:path w="729" h="842">
                  <a:moveTo>
                    <a:pt x="98" y="728"/>
                  </a:moveTo>
                  <a:lnTo>
                    <a:pt x="81" y="728"/>
                  </a:lnTo>
                  <a:lnTo>
                    <a:pt x="65" y="728"/>
                  </a:lnTo>
                  <a:lnTo>
                    <a:pt x="65" y="696"/>
                  </a:lnTo>
                  <a:lnTo>
                    <a:pt x="65" y="696"/>
                  </a:lnTo>
                  <a:lnTo>
                    <a:pt x="49" y="647"/>
                  </a:lnTo>
                  <a:lnTo>
                    <a:pt x="49" y="631"/>
                  </a:lnTo>
                  <a:lnTo>
                    <a:pt x="49" y="599"/>
                  </a:lnTo>
                  <a:lnTo>
                    <a:pt x="49" y="550"/>
                  </a:lnTo>
                  <a:lnTo>
                    <a:pt x="49" y="534"/>
                  </a:lnTo>
                  <a:lnTo>
                    <a:pt x="33" y="469"/>
                  </a:lnTo>
                  <a:lnTo>
                    <a:pt x="33" y="453"/>
                  </a:lnTo>
                  <a:lnTo>
                    <a:pt x="33" y="405"/>
                  </a:lnTo>
                  <a:lnTo>
                    <a:pt x="17" y="372"/>
                  </a:lnTo>
                  <a:lnTo>
                    <a:pt x="17" y="340"/>
                  </a:lnTo>
                  <a:lnTo>
                    <a:pt x="17" y="324"/>
                  </a:lnTo>
                  <a:lnTo>
                    <a:pt x="17" y="259"/>
                  </a:lnTo>
                  <a:lnTo>
                    <a:pt x="17" y="259"/>
                  </a:lnTo>
                  <a:lnTo>
                    <a:pt x="0" y="227"/>
                  </a:lnTo>
                  <a:lnTo>
                    <a:pt x="0" y="210"/>
                  </a:lnTo>
                  <a:lnTo>
                    <a:pt x="0" y="162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146" y="146"/>
                  </a:lnTo>
                  <a:lnTo>
                    <a:pt x="162" y="146"/>
                  </a:lnTo>
                  <a:lnTo>
                    <a:pt x="211" y="130"/>
                  </a:lnTo>
                  <a:lnTo>
                    <a:pt x="259" y="146"/>
                  </a:lnTo>
                  <a:lnTo>
                    <a:pt x="292" y="162"/>
                  </a:lnTo>
                  <a:lnTo>
                    <a:pt x="324" y="162"/>
                  </a:lnTo>
                  <a:lnTo>
                    <a:pt x="324" y="162"/>
                  </a:lnTo>
                  <a:lnTo>
                    <a:pt x="292" y="178"/>
                  </a:lnTo>
                  <a:lnTo>
                    <a:pt x="308" y="194"/>
                  </a:lnTo>
                  <a:lnTo>
                    <a:pt x="340" y="178"/>
                  </a:lnTo>
                  <a:lnTo>
                    <a:pt x="373" y="194"/>
                  </a:lnTo>
                  <a:lnTo>
                    <a:pt x="405" y="178"/>
                  </a:lnTo>
                  <a:lnTo>
                    <a:pt x="454" y="146"/>
                  </a:lnTo>
                  <a:lnTo>
                    <a:pt x="454" y="146"/>
                  </a:lnTo>
                  <a:lnTo>
                    <a:pt x="502" y="146"/>
                  </a:lnTo>
                  <a:lnTo>
                    <a:pt x="535" y="113"/>
                  </a:lnTo>
                  <a:lnTo>
                    <a:pt x="551" y="81"/>
                  </a:lnTo>
                  <a:lnTo>
                    <a:pt x="599" y="49"/>
                  </a:lnTo>
                  <a:lnTo>
                    <a:pt x="680" y="0"/>
                  </a:lnTo>
                  <a:lnTo>
                    <a:pt x="680" y="32"/>
                  </a:lnTo>
                  <a:lnTo>
                    <a:pt x="696" y="113"/>
                  </a:lnTo>
                  <a:lnTo>
                    <a:pt x="696" y="113"/>
                  </a:lnTo>
                  <a:lnTo>
                    <a:pt x="713" y="194"/>
                  </a:lnTo>
                  <a:lnTo>
                    <a:pt x="713" y="243"/>
                  </a:lnTo>
                  <a:lnTo>
                    <a:pt x="713" y="259"/>
                  </a:lnTo>
                  <a:lnTo>
                    <a:pt x="729" y="308"/>
                  </a:lnTo>
                  <a:lnTo>
                    <a:pt x="696" y="324"/>
                  </a:lnTo>
                  <a:lnTo>
                    <a:pt x="713" y="340"/>
                  </a:lnTo>
                  <a:lnTo>
                    <a:pt x="713" y="356"/>
                  </a:lnTo>
                  <a:lnTo>
                    <a:pt x="729" y="372"/>
                  </a:lnTo>
                  <a:lnTo>
                    <a:pt x="713" y="405"/>
                  </a:lnTo>
                  <a:lnTo>
                    <a:pt x="713" y="405"/>
                  </a:lnTo>
                  <a:lnTo>
                    <a:pt x="713" y="437"/>
                  </a:lnTo>
                  <a:lnTo>
                    <a:pt x="713" y="469"/>
                  </a:lnTo>
                  <a:lnTo>
                    <a:pt x="696" y="469"/>
                  </a:lnTo>
                  <a:lnTo>
                    <a:pt x="713" y="469"/>
                  </a:lnTo>
                  <a:lnTo>
                    <a:pt x="696" y="486"/>
                  </a:lnTo>
                  <a:lnTo>
                    <a:pt x="696" y="486"/>
                  </a:lnTo>
                  <a:lnTo>
                    <a:pt x="696" y="502"/>
                  </a:lnTo>
                  <a:lnTo>
                    <a:pt x="696" y="502"/>
                  </a:lnTo>
                  <a:lnTo>
                    <a:pt x="696" y="534"/>
                  </a:lnTo>
                  <a:lnTo>
                    <a:pt x="696" y="534"/>
                  </a:lnTo>
                  <a:lnTo>
                    <a:pt x="680" y="550"/>
                  </a:lnTo>
                  <a:lnTo>
                    <a:pt x="664" y="567"/>
                  </a:lnTo>
                  <a:lnTo>
                    <a:pt x="648" y="583"/>
                  </a:lnTo>
                  <a:lnTo>
                    <a:pt x="632" y="599"/>
                  </a:lnTo>
                  <a:lnTo>
                    <a:pt x="615" y="599"/>
                  </a:lnTo>
                  <a:lnTo>
                    <a:pt x="599" y="615"/>
                  </a:lnTo>
                  <a:lnTo>
                    <a:pt x="599" y="631"/>
                  </a:lnTo>
                  <a:lnTo>
                    <a:pt x="583" y="631"/>
                  </a:lnTo>
                  <a:lnTo>
                    <a:pt x="567" y="647"/>
                  </a:lnTo>
                  <a:lnTo>
                    <a:pt x="567" y="647"/>
                  </a:lnTo>
                  <a:lnTo>
                    <a:pt x="567" y="664"/>
                  </a:lnTo>
                  <a:lnTo>
                    <a:pt x="567" y="680"/>
                  </a:lnTo>
                  <a:lnTo>
                    <a:pt x="567" y="680"/>
                  </a:lnTo>
                  <a:lnTo>
                    <a:pt x="583" y="696"/>
                  </a:lnTo>
                  <a:lnTo>
                    <a:pt x="567" y="696"/>
                  </a:lnTo>
                  <a:lnTo>
                    <a:pt x="567" y="712"/>
                  </a:lnTo>
                  <a:lnTo>
                    <a:pt x="551" y="712"/>
                  </a:lnTo>
                  <a:lnTo>
                    <a:pt x="551" y="712"/>
                  </a:lnTo>
                  <a:lnTo>
                    <a:pt x="551" y="696"/>
                  </a:lnTo>
                  <a:lnTo>
                    <a:pt x="535" y="696"/>
                  </a:lnTo>
                  <a:lnTo>
                    <a:pt x="535" y="696"/>
                  </a:lnTo>
                  <a:lnTo>
                    <a:pt x="518" y="712"/>
                  </a:lnTo>
                  <a:lnTo>
                    <a:pt x="518" y="728"/>
                  </a:lnTo>
                  <a:lnTo>
                    <a:pt x="502" y="745"/>
                  </a:lnTo>
                  <a:lnTo>
                    <a:pt x="518" y="777"/>
                  </a:lnTo>
                  <a:lnTo>
                    <a:pt x="518" y="793"/>
                  </a:lnTo>
                  <a:lnTo>
                    <a:pt x="502" y="793"/>
                  </a:lnTo>
                  <a:lnTo>
                    <a:pt x="502" y="825"/>
                  </a:lnTo>
                  <a:lnTo>
                    <a:pt x="470" y="842"/>
                  </a:lnTo>
                  <a:lnTo>
                    <a:pt x="454" y="842"/>
                  </a:lnTo>
                  <a:lnTo>
                    <a:pt x="454" y="825"/>
                  </a:lnTo>
                  <a:lnTo>
                    <a:pt x="437" y="825"/>
                  </a:lnTo>
                  <a:lnTo>
                    <a:pt x="437" y="809"/>
                  </a:lnTo>
                  <a:lnTo>
                    <a:pt x="405" y="809"/>
                  </a:lnTo>
                  <a:lnTo>
                    <a:pt x="389" y="777"/>
                  </a:lnTo>
                  <a:lnTo>
                    <a:pt x="373" y="777"/>
                  </a:lnTo>
                  <a:lnTo>
                    <a:pt x="356" y="809"/>
                  </a:lnTo>
                  <a:lnTo>
                    <a:pt x="340" y="809"/>
                  </a:lnTo>
                  <a:lnTo>
                    <a:pt x="324" y="809"/>
                  </a:lnTo>
                  <a:lnTo>
                    <a:pt x="324" y="793"/>
                  </a:lnTo>
                  <a:lnTo>
                    <a:pt x="292" y="793"/>
                  </a:lnTo>
                  <a:lnTo>
                    <a:pt x="276" y="809"/>
                  </a:lnTo>
                  <a:lnTo>
                    <a:pt x="276" y="809"/>
                  </a:lnTo>
                  <a:lnTo>
                    <a:pt x="259" y="809"/>
                  </a:lnTo>
                  <a:lnTo>
                    <a:pt x="227" y="793"/>
                  </a:lnTo>
                  <a:lnTo>
                    <a:pt x="195" y="793"/>
                  </a:lnTo>
                  <a:lnTo>
                    <a:pt x="162" y="793"/>
                  </a:lnTo>
                  <a:lnTo>
                    <a:pt x="162" y="777"/>
                  </a:lnTo>
                  <a:lnTo>
                    <a:pt x="146" y="745"/>
                  </a:lnTo>
                  <a:lnTo>
                    <a:pt x="130" y="745"/>
                  </a:lnTo>
                  <a:lnTo>
                    <a:pt x="130" y="728"/>
                  </a:lnTo>
                  <a:lnTo>
                    <a:pt x="114" y="728"/>
                  </a:lnTo>
                  <a:lnTo>
                    <a:pt x="98" y="7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65400" y="1846440"/>
              <a:ext cx="717480" cy="517680"/>
            </a:xfrm>
            <a:custGeom>
              <a:avLst/>
              <a:gdLst/>
              <a:ahLst/>
              <a:rect l="l" t="t" r="r" b="b"/>
              <a:pathLst>
                <a:path w="1165" h="841">
                  <a:moveTo>
                    <a:pt x="1165" y="210"/>
                  </a:moveTo>
                  <a:lnTo>
                    <a:pt x="1149" y="243"/>
                  </a:lnTo>
                  <a:lnTo>
                    <a:pt x="1117" y="405"/>
                  </a:lnTo>
                  <a:lnTo>
                    <a:pt x="1117" y="421"/>
                  </a:lnTo>
                  <a:lnTo>
                    <a:pt x="1085" y="550"/>
                  </a:lnTo>
                  <a:lnTo>
                    <a:pt x="1085" y="583"/>
                  </a:lnTo>
                  <a:lnTo>
                    <a:pt x="1068" y="599"/>
                  </a:lnTo>
                  <a:lnTo>
                    <a:pt x="1036" y="728"/>
                  </a:lnTo>
                  <a:lnTo>
                    <a:pt x="1036" y="744"/>
                  </a:lnTo>
                  <a:lnTo>
                    <a:pt x="1036" y="761"/>
                  </a:lnTo>
                  <a:lnTo>
                    <a:pt x="1036" y="777"/>
                  </a:lnTo>
                  <a:lnTo>
                    <a:pt x="1036" y="809"/>
                  </a:lnTo>
                  <a:lnTo>
                    <a:pt x="1036" y="825"/>
                  </a:lnTo>
                  <a:lnTo>
                    <a:pt x="1036" y="841"/>
                  </a:lnTo>
                  <a:lnTo>
                    <a:pt x="955" y="825"/>
                  </a:lnTo>
                  <a:lnTo>
                    <a:pt x="939" y="825"/>
                  </a:lnTo>
                  <a:lnTo>
                    <a:pt x="874" y="809"/>
                  </a:lnTo>
                  <a:lnTo>
                    <a:pt x="874" y="809"/>
                  </a:lnTo>
                  <a:lnTo>
                    <a:pt x="728" y="777"/>
                  </a:lnTo>
                  <a:lnTo>
                    <a:pt x="696" y="777"/>
                  </a:lnTo>
                  <a:lnTo>
                    <a:pt x="664" y="777"/>
                  </a:lnTo>
                  <a:lnTo>
                    <a:pt x="631" y="777"/>
                  </a:lnTo>
                  <a:lnTo>
                    <a:pt x="615" y="777"/>
                  </a:lnTo>
                  <a:lnTo>
                    <a:pt x="599" y="777"/>
                  </a:lnTo>
                  <a:lnTo>
                    <a:pt x="567" y="777"/>
                  </a:lnTo>
                  <a:lnTo>
                    <a:pt x="534" y="793"/>
                  </a:lnTo>
                  <a:lnTo>
                    <a:pt x="502" y="777"/>
                  </a:lnTo>
                  <a:lnTo>
                    <a:pt x="486" y="777"/>
                  </a:lnTo>
                  <a:lnTo>
                    <a:pt x="470" y="761"/>
                  </a:lnTo>
                  <a:lnTo>
                    <a:pt x="421" y="777"/>
                  </a:lnTo>
                  <a:lnTo>
                    <a:pt x="405" y="777"/>
                  </a:lnTo>
                  <a:lnTo>
                    <a:pt x="389" y="777"/>
                  </a:lnTo>
                  <a:lnTo>
                    <a:pt x="389" y="761"/>
                  </a:lnTo>
                  <a:lnTo>
                    <a:pt x="356" y="744"/>
                  </a:lnTo>
                  <a:lnTo>
                    <a:pt x="340" y="728"/>
                  </a:lnTo>
                  <a:lnTo>
                    <a:pt x="292" y="728"/>
                  </a:lnTo>
                  <a:lnTo>
                    <a:pt x="275" y="728"/>
                  </a:lnTo>
                  <a:lnTo>
                    <a:pt x="227" y="744"/>
                  </a:lnTo>
                  <a:lnTo>
                    <a:pt x="162" y="712"/>
                  </a:lnTo>
                  <a:lnTo>
                    <a:pt x="162" y="696"/>
                  </a:lnTo>
                  <a:lnTo>
                    <a:pt x="162" y="680"/>
                  </a:lnTo>
                  <a:lnTo>
                    <a:pt x="162" y="663"/>
                  </a:lnTo>
                  <a:lnTo>
                    <a:pt x="162" y="631"/>
                  </a:lnTo>
                  <a:lnTo>
                    <a:pt x="162" y="599"/>
                  </a:lnTo>
                  <a:lnTo>
                    <a:pt x="130" y="566"/>
                  </a:lnTo>
                  <a:lnTo>
                    <a:pt x="114" y="566"/>
                  </a:lnTo>
                  <a:lnTo>
                    <a:pt x="114" y="566"/>
                  </a:lnTo>
                  <a:lnTo>
                    <a:pt x="97" y="534"/>
                  </a:lnTo>
                  <a:lnTo>
                    <a:pt x="65" y="534"/>
                  </a:lnTo>
                  <a:lnTo>
                    <a:pt x="49" y="518"/>
                  </a:lnTo>
                  <a:lnTo>
                    <a:pt x="33" y="534"/>
                  </a:lnTo>
                  <a:lnTo>
                    <a:pt x="16" y="502"/>
                  </a:lnTo>
                  <a:lnTo>
                    <a:pt x="0" y="518"/>
                  </a:lnTo>
                  <a:lnTo>
                    <a:pt x="33" y="437"/>
                  </a:lnTo>
                  <a:lnTo>
                    <a:pt x="33" y="453"/>
                  </a:lnTo>
                  <a:lnTo>
                    <a:pt x="16" y="485"/>
                  </a:lnTo>
                  <a:lnTo>
                    <a:pt x="49" y="502"/>
                  </a:lnTo>
                  <a:lnTo>
                    <a:pt x="33" y="469"/>
                  </a:lnTo>
                  <a:lnTo>
                    <a:pt x="49" y="469"/>
                  </a:lnTo>
                  <a:lnTo>
                    <a:pt x="33" y="453"/>
                  </a:lnTo>
                  <a:lnTo>
                    <a:pt x="49" y="437"/>
                  </a:lnTo>
                  <a:lnTo>
                    <a:pt x="65" y="437"/>
                  </a:lnTo>
                  <a:lnTo>
                    <a:pt x="65" y="421"/>
                  </a:lnTo>
                  <a:lnTo>
                    <a:pt x="33" y="421"/>
                  </a:lnTo>
                  <a:lnTo>
                    <a:pt x="33" y="421"/>
                  </a:lnTo>
                  <a:lnTo>
                    <a:pt x="33" y="405"/>
                  </a:lnTo>
                  <a:lnTo>
                    <a:pt x="33" y="372"/>
                  </a:lnTo>
                  <a:lnTo>
                    <a:pt x="33" y="372"/>
                  </a:lnTo>
                  <a:lnTo>
                    <a:pt x="33" y="388"/>
                  </a:lnTo>
                  <a:lnTo>
                    <a:pt x="49" y="405"/>
                  </a:lnTo>
                  <a:lnTo>
                    <a:pt x="49" y="388"/>
                  </a:lnTo>
                  <a:lnTo>
                    <a:pt x="81" y="372"/>
                  </a:lnTo>
                  <a:lnTo>
                    <a:pt x="65" y="372"/>
                  </a:lnTo>
                  <a:lnTo>
                    <a:pt x="49" y="356"/>
                  </a:lnTo>
                  <a:lnTo>
                    <a:pt x="49" y="356"/>
                  </a:lnTo>
                  <a:lnTo>
                    <a:pt x="33" y="372"/>
                  </a:lnTo>
                  <a:lnTo>
                    <a:pt x="49" y="324"/>
                  </a:lnTo>
                  <a:lnTo>
                    <a:pt x="49" y="291"/>
                  </a:lnTo>
                  <a:lnTo>
                    <a:pt x="33" y="275"/>
                  </a:lnTo>
                  <a:lnTo>
                    <a:pt x="49" y="243"/>
                  </a:lnTo>
                  <a:lnTo>
                    <a:pt x="49" y="210"/>
                  </a:lnTo>
                  <a:lnTo>
                    <a:pt x="49" y="178"/>
                  </a:lnTo>
                  <a:lnTo>
                    <a:pt x="33" y="162"/>
                  </a:lnTo>
                  <a:lnTo>
                    <a:pt x="33" y="97"/>
                  </a:lnTo>
                  <a:lnTo>
                    <a:pt x="33" y="81"/>
                  </a:lnTo>
                  <a:lnTo>
                    <a:pt x="49" y="48"/>
                  </a:lnTo>
                  <a:lnTo>
                    <a:pt x="65" y="65"/>
                  </a:lnTo>
                  <a:lnTo>
                    <a:pt x="130" y="129"/>
                  </a:lnTo>
                  <a:lnTo>
                    <a:pt x="211" y="162"/>
                  </a:lnTo>
                  <a:lnTo>
                    <a:pt x="259" y="162"/>
                  </a:lnTo>
                  <a:lnTo>
                    <a:pt x="275" y="178"/>
                  </a:lnTo>
                  <a:lnTo>
                    <a:pt x="275" y="194"/>
                  </a:lnTo>
                  <a:lnTo>
                    <a:pt x="292" y="178"/>
                  </a:lnTo>
                  <a:lnTo>
                    <a:pt x="308" y="178"/>
                  </a:lnTo>
                  <a:lnTo>
                    <a:pt x="292" y="194"/>
                  </a:lnTo>
                  <a:lnTo>
                    <a:pt x="308" y="226"/>
                  </a:lnTo>
                  <a:lnTo>
                    <a:pt x="308" y="243"/>
                  </a:lnTo>
                  <a:lnTo>
                    <a:pt x="292" y="243"/>
                  </a:lnTo>
                  <a:lnTo>
                    <a:pt x="275" y="243"/>
                  </a:lnTo>
                  <a:lnTo>
                    <a:pt x="275" y="243"/>
                  </a:lnTo>
                  <a:lnTo>
                    <a:pt x="275" y="243"/>
                  </a:lnTo>
                  <a:lnTo>
                    <a:pt x="259" y="275"/>
                  </a:lnTo>
                  <a:lnTo>
                    <a:pt x="243" y="275"/>
                  </a:lnTo>
                  <a:lnTo>
                    <a:pt x="211" y="307"/>
                  </a:lnTo>
                  <a:lnTo>
                    <a:pt x="194" y="324"/>
                  </a:lnTo>
                  <a:lnTo>
                    <a:pt x="227" y="340"/>
                  </a:lnTo>
                  <a:lnTo>
                    <a:pt x="259" y="324"/>
                  </a:lnTo>
                  <a:lnTo>
                    <a:pt x="211" y="324"/>
                  </a:lnTo>
                  <a:lnTo>
                    <a:pt x="211" y="324"/>
                  </a:lnTo>
                  <a:lnTo>
                    <a:pt x="227" y="291"/>
                  </a:lnTo>
                  <a:lnTo>
                    <a:pt x="259" y="275"/>
                  </a:lnTo>
                  <a:lnTo>
                    <a:pt x="275" y="275"/>
                  </a:lnTo>
                  <a:lnTo>
                    <a:pt x="292" y="259"/>
                  </a:lnTo>
                  <a:lnTo>
                    <a:pt x="308" y="243"/>
                  </a:lnTo>
                  <a:lnTo>
                    <a:pt x="308" y="226"/>
                  </a:lnTo>
                  <a:lnTo>
                    <a:pt x="324" y="243"/>
                  </a:lnTo>
                  <a:lnTo>
                    <a:pt x="324" y="275"/>
                  </a:lnTo>
                  <a:lnTo>
                    <a:pt x="292" y="275"/>
                  </a:lnTo>
                  <a:lnTo>
                    <a:pt x="292" y="307"/>
                  </a:lnTo>
                  <a:lnTo>
                    <a:pt x="308" y="307"/>
                  </a:lnTo>
                  <a:lnTo>
                    <a:pt x="292" y="324"/>
                  </a:lnTo>
                  <a:lnTo>
                    <a:pt x="308" y="324"/>
                  </a:lnTo>
                  <a:lnTo>
                    <a:pt x="292" y="340"/>
                  </a:lnTo>
                  <a:lnTo>
                    <a:pt x="292" y="340"/>
                  </a:lnTo>
                  <a:lnTo>
                    <a:pt x="275" y="356"/>
                  </a:lnTo>
                  <a:lnTo>
                    <a:pt x="275" y="372"/>
                  </a:lnTo>
                  <a:lnTo>
                    <a:pt x="275" y="372"/>
                  </a:lnTo>
                  <a:lnTo>
                    <a:pt x="275" y="356"/>
                  </a:lnTo>
                  <a:lnTo>
                    <a:pt x="275" y="372"/>
                  </a:lnTo>
                  <a:lnTo>
                    <a:pt x="259" y="356"/>
                  </a:lnTo>
                  <a:lnTo>
                    <a:pt x="275" y="340"/>
                  </a:lnTo>
                  <a:lnTo>
                    <a:pt x="275" y="340"/>
                  </a:lnTo>
                  <a:lnTo>
                    <a:pt x="259" y="340"/>
                  </a:lnTo>
                  <a:lnTo>
                    <a:pt x="259" y="356"/>
                  </a:lnTo>
                  <a:lnTo>
                    <a:pt x="259" y="372"/>
                  </a:lnTo>
                  <a:lnTo>
                    <a:pt x="243" y="388"/>
                  </a:lnTo>
                  <a:lnTo>
                    <a:pt x="243" y="372"/>
                  </a:lnTo>
                  <a:lnTo>
                    <a:pt x="259" y="340"/>
                  </a:lnTo>
                  <a:lnTo>
                    <a:pt x="259" y="340"/>
                  </a:lnTo>
                  <a:lnTo>
                    <a:pt x="243" y="356"/>
                  </a:lnTo>
                  <a:lnTo>
                    <a:pt x="194" y="356"/>
                  </a:lnTo>
                  <a:lnTo>
                    <a:pt x="194" y="388"/>
                  </a:lnTo>
                  <a:lnTo>
                    <a:pt x="211" y="388"/>
                  </a:lnTo>
                  <a:lnTo>
                    <a:pt x="211" y="405"/>
                  </a:lnTo>
                  <a:lnTo>
                    <a:pt x="243" y="388"/>
                  </a:lnTo>
                  <a:lnTo>
                    <a:pt x="243" y="405"/>
                  </a:lnTo>
                  <a:lnTo>
                    <a:pt x="243" y="405"/>
                  </a:lnTo>
                  <a:lnTo>
                    <a:pt x="275" y="388"/>
                  </a:lnTo>
                  <a:lnTo>
                    <a:pt x="292" y="372"/>
                  </a:lnTo>
                  <a:lnTo>
                    <a:pt x="292" y="356"/>
                  </a:lnTo>
                  <a:lnTo>
                    <a:pt x="308" y="372"/>
                  </a:lnTo>
                  <a:lnTo>
                    <a:pt x="308" y="372"/>
                  </a:lnTo>
                  <a:lnTo>
                    <a:pt x="308" y="372"/>
                  </a:lnTo>
                  <a:lnTo>
                    <a:pt x="308" y="372"/>
                  </a:lnTo>
                  <a:lnTo>
                    <a:pt x="324" y="356"/>
                  </a:lnTo>
                  <a:lnTo>
                    <a:pt x="324" y="356"/>
                  </a:lnTo>
                  <a:lnTo>
                    <a:pt x="324" y="324"/>
                  </a:lnTo>
                  <a:lnTo>
                    <a:pt x="324" y="307"/>
                  </a:lnTo>
                  <a:lnTo>
                    <a:pt x="324" y="291"/>
                  </a:lnTo>
                  <a:lnTo>
                    <a:pt x="340" y="275"/>
                  </a:lnTo>
                  <a:lnTo>
                    <a:pt x="356" y="243"/>
                  </a:lnTo>
                  <a:lnTo>
                    <a:pt x="372" y="243"/>
                  </a:lnTo>
                  <a:lnTo>
                    <a:pt x="372" y="226"/>
                  </a:lnTo>
                  <a:lnTo>
                    <a:pt x="356" y="194"/>
                  </a:lnTo>
                  <a:lnTo>
                    <a:pt x="356" y="178"/>
                  </a:lnTo>
                  <a:lnTo>
                    <a:pt x="356" y="178"/>
                  </a:lnTo>
                  <a:lnTo>
                    <a:pt x="340" y="194"/>
                  </a:lnTo>
                  <a:lnTo>
                    <a:pt x="356" y="210"/>
                  </a:lnTo>
                  <a:lnTo>
                    <a:pt x="340" y="194"/>
                  </a:lnTo>
                  <a:lnTo>
                    <a:pt x="340" y="178"/>
                  </a:lnTo>
                  <a:lnTo>
                    <a:pt x="340" y="162"/>
                  </a:lnTo>
                  <a:lnTo>
                    <a:pt x="356" y="178"/>
                  </a:lnTo>
                  <a:lnTo>
                    <a:pt x="372" y="162"/>
                  </a:lnTo>
                  <a:lnTo>
                    <a:pt x="356" y="129"/>
                  </a:lnTo>
                  <a:lnTo>
                    <a:pt x="340" y="129"/>
                  </a:lnTo>
                  <a:lnTo>
                    <a:pt x="340" y="113"/>
                  </a:lnTo>
                  <a:lnTo>
                    <a:pt x="356" y="113"/>
                  </a:lnTo>
                  <a:lnTo>
                    <a:pt x="356" y="129"/>
                  </a:lnTo>
                  <a:lnTo>
                    <a:pt x="372" y="129"/>
                  </a:lnTo>
                  <a:lnTo>
                    <a:pt x="372" y="97"/>
                  </a:lnTo>
                  <a:lnTo>
                    <a:pt x="372" y="97"/>
                  </a:lnTo>
                  <a:lnTo>
                    <a:pt x="372" y="81"/>
                  </a:lnTo>
                  <a:lnTo>
                    <a:pt x="372" y="65"/>
                  </a:lnTo>
                  <a:lnTo>
                    <a:pt x="372" y="65"/>
                  </a:lnTo>
                  <a:lnTo>
                    <a:pt x="356" y="48"/>
                  </a:lnTo>
                  <a:lnTo>
                    <a:pt x="356" y="16"/>
                  </a:lnTo>
                  <a:lnTo>
                    <a:pt x="340" y="16"/>
                  </a:lnTo>
                  <a:lnTo>
                    <a:pt x="356" y="16"/>
                  </a:lnTo>
                  <a:lnTo>
                    <a:pt x="356" y="0"/>
                  </a:lnTo>
                  <a:lnTo>
                    <a:pt x="615" y="81"/>
                  </a:lnTo>
                  <a:lnTo>
                    <a:pt x="907" y="146"/>
                  </a:lnTo>
                  <a:lnTo>
                    <a:pt x="1004" y="178"/>
                  </a:lnTo>
                  <a:lnTo>
                    <a:pt x="1101" y="194"/>
                  </a:lnTo>
                  <a:lnTo>
                    <a:pt x="1165" y="210"/>
                  </a:lnTo>
                  <a:lnTo>
                    <a:pt x="1165" y="210"/>
                  </a:lnTo>
                  <a:close/>
                  <a:moveTo>
                    <a:pt x="292" y="113"/>
                  </a:moveTo>
                  <a:lnTo>
                    <a:pt x="275" y="81"/>
                  </a:lnTo>
                  <a:lnTo>
                    <a:pt x="275" y="65"/>
                  </a:lnTo>
                  <a:lnTo>
                    <a:pt x="292" y="97"/>
                  </a:lnTo>
                  <a:lnTo>
                    <a:pt x="292" y="97"/>
                  </a:lnTo>
                  <a:lnTo>
                    <a:pt x="292" y="113"/>
                  </a:lnTo>
                  <a:lnTo>
                    <a:pt x="292" y="113"/>
                  </a:lnTo>
                  <a:close/>
                  <a:moveTo>
                    <a:pt x="324" y="146"/>
                  </a:moveTo>
                  <a:lnTo>
                    <a:pt x="340" y="129"/>
                  </a:lnTo>
                  <a:lnTo>
                    <a:pt x="340" y="129"/>
                  </a:lnTo>
                  <a:lnTo>
                    <a:pt x="356" y="146"/>
                  </a:lnTo>
                  <a:lnTo>
                    <a:pt x="340" y="162"/>
                  </a:lnTo>
                  <a:lnTo>
                    <a:pt x="340" y="146"/>
                  </a:lnTo>
                  <a:lnTo>
                    <a:pt x="308" y="162"/>
                  </a:lnTo>
                  <a:lnTo>
                    <a:pt x="324" y="178"/>
                  </a:lnTo>
                  <a:lnTo>
                    <a:pt x="324" y="194"/>
                  </a:lnTo>
                  <a:lnTo>
                    <a:pt x="340" y="194"/>
                  </a:lnTo>
                  <a:lnTo>
                    <a:pt x="356" y="210"/>
                  </a:lnTo>
                  <a:lnTo>
                    <a:pt x="356" y="226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40" y="226"/>
                  </a:lnTo>
                  <a:lnTo>
                    <a:pt x="324" y="226"/>
                  </a:lnTo>
                  <a:lnTo>
                    <a:pt x="324" y="210"/>
                  </a:lnTo>
                  <a:lnTo>
                    <a:pt x="324" y="178"/>
                  </a:lnTo>
                  <a:lnTo>
                    <a:pt x="308" y="162"/>
                  </a:lnTo>
                  <a:lnTo>
                    <a:pt x="324" y="146"/>
                  </a:lnTo>
                  <a:lnTo>
                    <a:pt x="324" y="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1752480"/>
            <a:ext cx="6929280" cy="3540240"/>
            <a:chOff x="533520" y="1752480"/>
            <a:chExt cx="6929280" cy="3540240"/>
          </a:xfrm>
        </p:grpSpPr>
        <p:sp>
          <p:nvSpPr>
            <p:cNvPr id="127" name=""/>
            <p:cNvSpPr/>
            <p:nvPr/>
          </p:nvSpPr>
          <p:spPr>
            <a:xfrm>
              <a:off x="3360960" y="3160440"/>
              <a:ext cx="776160" cy="617760"/>
            </a:xfrm>
            <a:custGeom>
              <a:avLst/>
              <a:gdLst/>
              <a:ahLst/>
              <a:rect l="l" t="t" r="r" b="b"/>
              <a:pathLst>
                <a:path w="1263" h="1004">
                  <a:moveTo>
                    <a:pt x="1214" y="842"/>
                  </a:moveTo>
                  <a:lnTo>
                    <a:pt x="1214" y="858"/>
                  </a:lnTo>
                  <a:lnTo>
                    <a:pt x="1214" y="907"/>
                  </a:lnTo>
                  <a:lnTo>
                    <a:pt x="1214" y="1004"/>
                  </a:lnTo>
                  <a:lnTo>
                    <a:pt x="1036" y="987"/>
                  </a:lnTo>
                  <a:lnTo>
                    <a:pt x="1036" y="987"/>
                  </a:lnTo>
                  <a:lnTo>
                    <a:pt x="874" y="971"/>
                  </a:lnTo>
                  <a:lnTo>
                    <a:pt x="664" y="955"/>
                  </a:lnTo>
                  <a:lnTo>
                    <a:pt x="664" y="955"/>
                  </a:lnTo>
                  <a:lnTo>
                    <a:pt x="567" y="939"/>
                  </a:lnTo>
                  <a:lnTo>
                    <a:pt x="534" y="939"/>
                  </a:lnTo>
                  <a:lnTo>
                    <a:pt x="437" y="939"/>
                  </a:lnTo>
                  <a:lnTo>
                    <a:pt x="275" y="907"/>
                  </a:lnTo>
                  <a:lnTo>
                    <a:pt x="275" y="907"/>
                  </a:lnTo>
                  <a:lnTo>
                    <a:pt x="114" y="890"/>
                  </a:lnTo>
                  <a:lnTo>
                    <a:pt x="0" y="874"/>
                  </a:lnTo>
                  <a:lnTo>
                    <a:pt x="16" y="745"/>
                  </a:lnTo>
                  <a:lnTo>
                    <a:pt x="33" y="680"/>
                  </a:lnTo>
                  <a:lnTo>
                    <a:pt x="33" y="631"/>
                  </a:lnTo>
                  <a:lnTo>
                    <a:pt x="49" y="550"/>
                  </a:lnTo>
                  <a:lnTo>
                    <a:pt x="65" y="356"/>
                  </a:lnTo>
                  <a:lnTo>
                    <a:pt x="81" y="324"/>
                  </a:lnTo>
                  <a:lnTo>
                    <a:pt x="81" y="292"/>
                  </a:lnTo>
                  <a:lnTo>
                    <a:pt x="97" y="178"/>
                  </a:lnTo>
                  <a:lnTo>
                    <a:pt x="114" y="81"/>
                  </a:lnTo>
                  <a:lnTo>
                    <a:pt x="130" y="0"/>
                  </a:lnTo>
                  <a:lnTo>
                    <a:pt x="308" y="33"/>
                  </a:lnTo>
                  <a:lnTo>
                    <a:pt x="405" y="49"/>
                  </a:lnTo>
                  <a:lnTo>
                    <a:pt x="470" y="49"/>
                  </a:lnTo>
                  <a:lnTo>
                    <a:pt x="567" y="65"/>
                  </a:lnTo>
                  <a:lnTo>
                    <a:pt x="583" y="65"/>
                  </a:lnTo>
                  <a:lnTo>
                    <a:pt x="729" y="81"/>
                  </a:lnTo>
                  <a:lnTo>
                    <a:pt x="793" y="81"/>
                  </a:lnTo>
                  <a:lnTo>
                    <a:pt x="939" y="97"/>
                  </a:lnTo>
                  <a:lnTo>
                    <a:pt x="1020" y="97"/>
                  </a:lnTo>
                  <a:lnTo>
                    <a:pt x="1036" y="114"/>
                  </a:lnTo>
                  <a:lnTo>
                    <a:pt x="1166" y="114"/>
                  </a:lnTo>
                  <a:lnTo>
                    <a:pt x="1166" y="114"/>
                  </a:lnTo>
                  <a:lnTo>
                    <a:pt x="1263" y="114"/>
                  </a:lnTo>
                  <a:lnTo>
                    <a:pt x="1263" y="178"/>
                  </a:lnTo>
                  <a:lnTo>
                    <a:pt x="1263" y="194"/>
                  </a:lnTo>
                  <a:lnTo>
                    <a:pt x="1246" y="243"/>
                  </a:lnTo>
                  <a:lnTo>
                    <a:pt x="1246" y="259"/>
                  </a:lnTo>
                  <a:lnTo>
                    <a:pt x="1246" y="340"/>
                  </a:lnTo>
                  <a:lnTo>
                    <a:pt x="1246" y="437"/>
                  </a:lnTo>
                  <a:lnTo>
                    <a:pt x="1246" y="437"/>
                  </a:lnTo>
                  <a:lnTo>
                    <a:pt x="1230" y="534"/>
                  </a:lnTo>
                  <a:lnTo>
                    <a:pt x="1230" y="550"/>
                  </a:lnTo>
                  <a:lnTo>
                    <a:pt x="1230" y="631"/>
                  </a:lnTo>
                  <a:lnTo>
                    <a:pt x="1230" y="648"/>
                  </a:lnTo>
                  <a:lnTo>
                    <a:pt x="1230" y="728"/>
                  </a:lnTo>
                  <a:lnTo>
                    <a:pt x="1230" y="728"/>
                  </a:lnTo>
                  <a:lnTo>
                    <a:pt x="1214" y="8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6080" y="3190680"/>
              <a:ext cx="119160" cy="179280"/>
            </a:xfrm>
            <a:custGeom>
              <a:avLst/>
              <a:gdLst/>
              <a:ahLst/>
              <a:rect l="l" t="t" r="r" b="b"/>
              <a:pathLst>
                <a:path w="194" h="291">
                  <a:moveTo>
                    <a:pt x="64" y="259"/>
                  </a:moveTo>
                  <a:lnTo>
                    <a:pt x="64" y="210"/>
                  </a:lnTo>
                  <a:lnTo>
                    <a:pt x="48" y="145"/>
                  </a:lnTo>
                  <a:lnTo>
                    <a:pt x="32" y="129"/>
                  </a:lnTo>
                  <a:lnTo>
                    <a:pt x="32" y="113"/>
                  </a:lnTo>
                  <a:lnTo>
                    <a:pt x="32" y="97"/>
                  </a:lnTo>
                  <a:lnTo>
                    <a:pt x="0" y="32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81"/>
                  </a:lnTo>
                  <a:lnTo>
                    <a:pt x="64" y="97"/>
                  </a:lnTo>
                  <a:lnTo>
                    <a:pt x="97" y="113"/>
                  </a:lnTo>
                  <a:lnTo>
                    <a:pt x="97" y="145"/>
                  </a:lnTo>
                  <a:lnTo>
                    <a:pt x="113" y="162"/>
                  </a:lnTo>
                  <a:lnTo>
                    <a:pt x="129" y="178"/>
                  </a:lnTo>
                  <a:lnTo>
                    <a:pt x="145" y="210"/>
                  </a:lnTo>
                  <a:lnTo>
                    <a:pt x="162" y="194"/>
                  </a:lnTo>
                  <a:lnTo>
                    <a:pt x="194" y="275"/>
                  </a:lnTo>
                  <a:lnTo>
                    <a:pt x="178" y="275"/>
                  </a:lnTo>
                  <a:lnTo>
                    <a:pt x="178" y="275"/>
                  </a:lnTo>
                  <a:lnTo>
                    <a:pt x="145" y="291"/>
                  </a:lnTo>
                  <a:lnTo>
                    <a:pt x="81" y="291"/>
                  </a:lnTo>
                  <a:lnTo>
                    <a:pt x="81" y="275"/>
                  </a:lnTo>
                  <a:lnTo>
                    <a:pt x="64" y="2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8480" y="3170160"/>
              <a:ext cx="687600" cy="449280"/>
            </a:xfrm>
            <a:custGeom>
              <a:avLst/>
              <a:gdLst/>
              <a:ahLst/>
              <a:rect l="l" t="t" r="r" b="b"/>
              <a:pathLst>
                <a:path w="1116" h="728">
                  <a:moveTo>
                    <a:pt x="178" y="64"/>
                  </a:moveTo>
                  <a:lnTo>
                    <a:pt x="161" y="81"/>
                  </a:lnTo>
                  <a:lnTo>
                    <a:pt x="129" y="81"/>
                  </a:lnTo>
                  <a:lnTo>
                    <a:pt x="113" y="64"/>
                  </a:lnTo>
                  <a:lnTo>
                    <a:pt x="97" y="64"/>
                  </a:lnTo>
                  <a:lnTo>
                    <a:pt x="81" y="48"/>
                  </a:lnTo>
                  <a:lnTo>
                    <a:pt x="97" y="16"/>
                  </a:lnTo>
                  <a:lnTo>
                    <a:pt x="129" y="0"/>
                  </a:lnTo>
                  <a:lnTo>
                    <a:pt x="161" y="0"/>
                  </a:lnTo>
                  <a:lnTo>
                    <a:pt x="194" y="32"/>
                  </a:lnTo>
                  <a:lnTo>
                    <a:pt x="178" y="64"/>
                  </a:lnTo>
                  <a:lnTo>
                    <a:pt x="178" y="64"/>
                  </a:lnTo>
                  <a:close/>
                  <a:moveTo>
                    <a:pt x="32" y="48"/>
                  </a:moveTo>
                  <a:lnTo>
                    <a:pt x="32" y="48"/>
                  </a:lnTo>
                  <a:lnTo>
                    <a:pt x="32" y="64"/>
                  </a:lnTo>
                  <a:lnTo>
                    <a:pt x="16" y="81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81"/>
                  </a:lnTo>
                  <a:lnTo>
                    <a:pt x="32" y="48"/>
                  </a:lnTo>
                  <a:lnTo>
                    <a:pt x="32" y="48"/>
                  </a:lnTo>
                  <a:close/>
                  <a:moveTo>
                    <a:pt x="517" y="210"/>
                  </a:moveTo>
                  <a:lnTo>
                    <a:pt x="517" y="210"/>
                  </a:lnTo>
                  <a:lnTo>
                    <a:pt x="485" y="210"/>
                  </a:lnTo>
                  <a:lnTo>
                    <a:pt x="469" y="194"/>
                  </a:lnTo>
                  <a:lnTo>
                    <a:pt x="437" y="210"/>
                  </a:lnTo>
                  <a:lnTo>
                    <a:pt x="404" y="162"/>
                  </a:lnTo>
                  <a:lnTo>
                    <a:pt x="404" y="145"/>
                  </a:lnTo>
                  <a:lnTo>
                    <a:pt x="420" y="145"/>
                  </a:lnTo>
                  <a:lnTo>
                    <a:pt x="437" y="129"/>
                  </a:lnTo>
                  <a:lnTo>
                    <a:pt x="453" y="113"/>
                  </a:lnTo>
                  <a:lnTo>
                    <a:pt x="469" y="129"/>
                  </a:lnTo>
                  <a:lnTo>
                    <a:pt x="485" y="178"/>
                  </a:lnTo>
                  <a:lnTo>
                    <a:pt x="501" y="178"/>
                  </a:lnTo>
                  <a:lnTo>
                    <a:pt x="517" y="210"/>
                  </a:lnTo>
                  <a:lnTo>
                    <a:pt x="517" y="210"/>
                  </a:lnTo>
                  <a:close/>
                  <a:moveTo>
                    <a:pt x="712" y="243"/>
                  </a:moveTo>
                  <a:lnTo>
                    <a:pt x="712" y="259"/>
                  </a:lnTo>
                  <a:lnTo>
                    <a:pt x="679" y="259"/>
                  </a:lnTo>
                  <a:lnTo>
                    <a:pt x="647" y="243"/>
                  </a:lnTo>
                  <a:lnTo>
                    <a:pt x="598" y="259"/>
                  </a:lnTo>
                  <a:lnTo>
                    <a:pt x="598" y="243"/>
                  </a:lnTo>
                  <a:lnTo>
                    <a:pt x="598" y="243"/>
                  </a:lnTo>
                  <a:lnTo>
                    <a:pt x="615" y="226"/>
                  </a:lnTo>
                  <a:lnTo>
                    <a:pt x="615" y="226"/>
                  </a:lnTo>
                  <a:lnTo>
                    <a:pt x="647" y="226"/>
                  </a:lnTo>
                  <a:lnTo>
                    <a:pt x="663" y="226"/>
                  </a:lnTo>
                  <a:lnTo>
                    <a:pt x="663" y="243"/>
                  </a:lnTo>
                  <a:lnTo>
                    <a:pt x="712" y="243"/>
                  </a:lnTo>
                  <a:lnTo>
                    <a:pt x="712" y="243"/>
                  </a:lnTo>
                  <a:close/>
                  <a:moveTo>
                    <a:pt x="825" y="356"/>
                  </a:moveTo>
                  <a:lnTo>
                    <a:pt x="809" y="356"/>
                  </a:lnTo>
                  <a:lnTo>
                    <a:pt x="776" y="372"/>
                  </a:lnTo>
                  <a:lnTo>
                    <a:pt x="760" y="323"/>
                  </a:lnTo>
                  <a:lnTo>
                    <a:pt x="728" y="307"/>
                  </a:lnTo>
                  <a:lnTo>
                    <a:pt x="712" y="291"/>
                  </a:lnTo>
                  <a:lnTo>
                    <a:pt x="728" y="275"/>
                  </a:lnTo>
                  <a:lnTo>
                    <a:pt x="744" y="259"/>
                  </a:lnTo>
                  <a:lnTo>
                    <a:pt x="760" y="291"/>
                  </a:lnTo>
                  <a:lnTo>
                    <a:pt x="793" y="291"/>
                  </a:lnTo>
                  <a:lnTo>
                    <a:pt x="809" y="291"/>
                  </a:lnTo>
                  <a:lnTo>
                    <a:pt x="857" y="307"/>
                  </a:lnTo>
                  <a:lnTo>
                    <a:pt x="857" y="323"/>
                  </a:lnTo>
                  <a:lnTo>
                    <a:pt x="857" y="340"/>
                  </a:lnTo>
                  <a:lnTo>
                    <a:pt x="825" y="356"/>
                  </a:lnTo>
                  <a:lnTo>
                    <a:pt x="825" y="356"/>
                  </a:lnTo>
                  <a:close/>
                  <a:moveTo>
                    <a:pt x="647" y="291"/>
                  </a:moveTo>
                  <a:lnTo>
                    <a:pt x="679" y="291"/>
                  </a:lnTo>
                  <a:lnTo>
                    <a:pt x="696" y="307"/>
                  </a:lnTo>
                  <a:lnTo>
                    <a:pt x="696" y="323"/>
                  </a:lnTo>
                  <a:lnTo>
                    <a:pt x="679" y="323"/>
                  </a:lnTo>
                  <a:lnTo>
                    <a:pt x="663" y="323"/>
                  </a:lnTo>
                  <a:lnTo>
                    <a:pt x="663" y="307"/>
                  </a:lnTo>
                  <a:lnTo>
                    <a:pt x="647" y="291"/>
                  </a:lnTo>
                  <a:lnTo>
                    <a:pt x="647" y="291"/>
                  </a:lnTo>
                  <a:lnTo>
                    <a:pt x="647" y="291"/>
                  </a:lnTo>
                  <a:close/>
                  <a:moveTo>
                    <a:pt x="938" y="728"/>
                  </a:moveTo>
                  <a:lnTo>
                    <a:pt x="906" y="696"/>
                  </a:lnTo>
                  <a:lnTo>
                    <a:pt x="890" y="696"/>
                  </a:lnTo>
                  <a:lnTo>
                    <a:pt x="890" y="679"/>
                  </a:lnTo>
                  <a:lnTo>
                    <a:pt x="890" y="631"/>
                  </a:lnTo>
                  <a:lnTo>
                    <a:pt x="874" y="599"/>
                  </a:lnTo>
                  <a:lnTo>
                    <a:pt x="874" y="566"/>
                  </a:lnTo>
                  <a:lnTo>
                    <a:pt x="857" y="534"/>
                  </a:lnTo>
                  <a:lnTo>
                    <a:pt x="890" y="485"/>
                  </a:lnTo>
                  <a:lnTo>
                    <a:pt x="890" y="453"/>
                  </a:lnTo>
                  <a:lnTo>
                    <a:pt x="890" y="421"/>
                  </a:lnTo>
                  <a:lnTo>
                    <a:pt x="1019" y="485"/>
                  </a:lnTo>
                  <a:lnTo>
                    <a:pt x="1052" y="518"/>
                  </a:lnTo>
                  <a:lnTo>
                    <a:pt x="1052" y="550"/>
                  </a:lnTo>
                  <a:lnTo>
                    <a:pt x="1068" y="550"/>
                  </a:lnTo>
                  <a:lnTo>
                    <a:pt x="1068" y="566"/>
                  </a:lnTo>
                  <a:lnTo>
                    <a:pt x="1116" y="582"/>
                  </a:lnTo>
                  <a:lnTo>
                    <a:pt x="1100" y="599"/>
                  </a:lnTo>
                  <a:lnTo>
                    <a:pt x="1084" y="615"/>
                  </a:lnTo>
                  <a:lnTo>
                    <a:pt x="1068" y="631"/>
                  </a:lnTo>
                  <a:lnTo>
                    <a:pt x="1003" y="647"/>
                  </a:lnTo>
                  <a:lnTo>
                    <a:pt x="954" y="679"/>
                  </a:lnTo>
                  <a:lnTo>
                    <a:pt x="954" y="696"/>
                  </a:lnTo>
                  <a:lnTo>
                    <a:pt x="938" y="728"/>
                  </a:lnTo>
                  <a:lnTo>
                    <a:pt x="938" y="7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73360" y="1974600"/>
              <a:ext cx="636840" cy="1027080"/>
            </a:xfrm>
            <a:custGeom>
              <a:avLst/>
              <a:gdLst/>
              <a:ahLst/>
              <a:rect l="l" t="t" r="r" b="b"/>
              <a:pathLst>
                <a:path w="1035" h="1667">
                  <a:moveTo>
                    <a:pt x="1019" y="1246"/>
                  </a:moveTo>
                  <a:lnTo>
                    <a:pt x="1003" y="1344"/>
                  </a:lnTo>
                  <a:lnTo>
                    <a:pt x="987" y="1392"/>
                  </a:lnTo>
                  <a:lnTo>
                    <a:pt x="987" y="1441"/>
                  </a:lnTo>
                  <a:lnTo>
                    <a:pt x="971" y="1554"/>
                  </a:lnTo>
                  <a:lnTo>
                    <a:pt x="954" y="1667"/>
                  </a:lnTo>
                  <a:lnTo>
                    <a:pt x="874" y="1651"/>
                  </a:lnTo>
                  <a:lnTo>
                    <a:pt x="776" y="1635"/>
                  </a:lnTo>
                  <a:lnTo>
                    <a:pt x="776" y="1635"/>
                  </a:lnTo>
                  <a:lnTo>
                    <a:pt x="647" y="1619"/>
                  </a:lnTo>
                  <a:lnTo>
                    <a:pt x="469" y="1586"/>
                  </a:lnTo>
                  <a:lnTo>
                    <a:pt x="437" y="1570"/>
                  </a:lnTo>
                  <a:lnTo>
                    <a:pt x="323" y="1554"/>
                  </a:lnTo>
                  <a:lnTo>
                    <a:pt x="16" y="1489"/>
                  </a:lnTo>
                  <a:lnTo>
                    <a:pt x="0" y="1489"/>
                  </a:lnTo>
                  <a:lnTo>
                    <a:pt x="81" y="1133"/>
                  </a:lnTo>
                  <a:lnTo>
                    <a:pt x="81" y="1101"/>
                  </a:lnTo>
                  <a:lnTo>
                    <a:pt x="97" y="1085"/>
                  </a:lnTo>
                  <a:lnTo>
                    <a:pt x="113" y="1052"/>
                  </a:lnTo>
                  <a:lnTo>
                    <a:pt x="113" y="1036"/>
                  </a:lnTo>
                  <a:lnTo>
                    <a:pt x="129" y="1036"/>
                  </a:lnTo>
                  <a:lnTo>
                    <a:pt x="129" y="1020"/>
                  </a:lnTo>
                  <a:lnTo>
                    <a:pt x="113" y="1020"/>
                  </a:lnTo>
                  <a:lnTo>
                    <a:pt x="113" y="1004"/>
                  </a:lnTo>
                  <a:lnTo>
                    <a:pt x="97" y="1004"/>
                  </a:lnTo>
                  <a:lnTo>
                    <a:pt x="81" y="988"/>
                  </a:lnTo>
                  <a:lnTo>
                    <a:pt x="97" y="955"/>
                  </a:lnTo>
                  <a:lnTo>
                    <a:pt x="113" y="939"/>
                  </a:lnTo>
                  <a:lnTo>
                    <a:pt x="129" y="890"/>
                  </a:lnTo>
                  <a:lnTo>
                    <a:pt x="145" y="890"/>
                  </a:lnTo>
                  <a:lnTo>
                    <a:pt x="161" y="890"/>
                  </a:lnTo>
                  <a:lnTo>
                    <a:pt x="178" y="874"/>
                  </a:lnTo>
                  <a:lnTo>
                    <a:pt x="178" y="842"/>
                  </a:lnTo>
                  <a:lnTo>
                    <a:pt x="194" y="842"/>
                  </a:lnTo>
                  <a:lnTo>
                    <a:pt x="210" y="793"/>
                  </a:lnTo>
                  <a:lnTo>
                    <a:pt x="210" y="793"/>
                  </a:lnTo>
                  <a:lnTo>
                    <a:pt x="259" y="729"/>
                  </a:lnTo>
                  <a:lnTo>
                    <a:pt x="259" y="696"/>
                  </a:lnTo>
                  <a:lnTo>
                    <a:pt x="226" y="680"/>
                  </a:lnTo>
                  <a:lnTo>
                    <a:pt x="210" y="631"/>
                  </a:lnTo>
                  <a:lnTo>
                    <a:pt x="210" y="615"/>
                  </a:lnTo>
                  <a:lnTo>
                    <a:pt x="210" y="599"/>
                  </a:lnTo>
                  <a:lnTo>
                    <a:pt x="210" y="567"/>
                  </a:lnTo>
                  <a:lnTo>
                    <a:pt x="210" y="551"/>
                  </a:lnTo>
                  <a:lnTo>
                    <a:pt x="210" y="534"/>
                  </a:lnTo>
                  <a:lnTo>
                    <a:pt x="210" y="518"/>
                  </a:lnTo>
                  <a:lnTo>
                    <a:pt x="242" y="389"/>
                  </a:lnTo>
                  <a:lnTo>
                    <a:pt x="259" y="373"/>
                  </a:lnTo>
                  <a:lnTo>
                    <a:pt x="259" y="340"/>
                  </a:lnTo>
                  <a:lnTo>
                    <a:pt x="291" y="211"/>
                  </a:lnTo>
                  <a:lnTo>
                    <a:pt x="291" y="195"/>
                  </a:lnTo>
                  <a:lnTo>
                    <a:pt x="323" y="33"/>
                  </a:lnTo>
                  <a:lnTo>
                    <a:pt x="339" y="0"/>
                  </a:lnTo>
                  <a:lnTo>
                    <a:pt x="469" y="33"/>
                  </a:lnTo>
                  <a:lnTo>
                    <a:pt x="453" y="130"/>
                  </a:lnTo>
                  <a:lnTo>
                    <a:pt x="437" y="195"/>
                  </a:lnTo>
                  <a:lnTo>
                    <a:pt x="437" y="243"/>
                  </a:lnTo>
                  <a:lnTo>
                    <a:pt x="453" y="275"/>
                  </a:lnTo>
                  <a:lnTo>
                    <a:pt x="453" y="292"/>
                  </a:lnTo>
                  <a:lnTo>
                    <a:pt x="469" y="308"/>
                  </a:lnTo>
                  <a:lnTo>
                    <a:pt x="453" y="324"/>
                  </a:lnTo>
                  <a:lnTo>
                    <a:pt x="469" y="340"/>
                  </a:lnTo>
                  <a:lnTo>
                    <a:pt x="453" y="340"/>
                  </a:lnTo>
                  <a:lnTo>
                    <a:pt x="469" y="356"/>
                  </a:lnTo>
                  <a:lnTo>
                    <a:pt x="453" y="373"/>
                  </a:lnTo>
                  <a:lnTo>
                    <a:pt x="469" y="389"/>
                  </a:lnTo>
                  <a:lnTo>
                    <a:pt x="485" y="405"/>
                  </a:lnTo>
                  <a:lnTo>
                    <a:pt x="501" y="421"/>
                  </a:lnTo>
                  <a:lnTo>
                    <a:pt x="501" y="437"/>
                  </a:lnTo>
                  <a:lnTo>
                    <a:pt x="517" y="453"/>
                  </a:lnTo>
                  <a:lnTo>
                    <a:pt x="534" y="486"/>
                  </a:lnTo>
                  <a:lnTo>
                    <a:pt x="534" y="502"/>
                  </a:lnTo>
                  <a:lnTo>
                    <a:pt x="550" y="502"/>
                  </a:lnTo>
                  <a:lnTo>
                    <a:pt x="534" y="518"/>
                  </a:lnTo>
                  <a:lnTo>
                    <a:pt x="550" y="534"/>
                  </a:lnTo>
                  <a:lnTo>
                    <a:pt x="566" y="534"/>
                  </a:lnTo>
                  <a:lnTo>
                    <a:pt x="566" y="551"/>
                  </a:lnTo>
                  <a:lnTo>
                    <a:pt x="582" y="551"/>
                  </a:lnTo>
                  <a:lnTo>
                    <a:pt x="582" y="567"/>
                  </a:lnTo>
                  <a:lnTo>
                    <a:pt x="615" y="583"/>
                  </a:lnTo>
                  <a:lnTo>
                    <a:pt x="615" y="599"/>
                  </a:lnTo>
                  <a:lnTo>
                    <a:pt x="598" y="615"/>
                  </a:lnTo>
                  <a:lnTo>
                    <a:pt x="598" y="631"/>
                  </a:lnTo>
                  <a:lnTo>
                    <a:pt x="598" y="648"/>
                  </a:lnTo>
                  <a:lnTo>
                    <a:pt x="582" y="664"/>
                  </a:lnTo>
                  <a:lnTo>
                    <a:pt x="582" y="680"/>
                  </a:lnTo>
                  <a:lnTo>
                    <a:pt x="566" y="680"/>
                  </a:lnTo>
                  <a:lnTo>
                    <a:pt x="582" y="696"/>
                  </a:lnTo>
                  <a:lnTo>
                    <a:pt x="566" y="712"/>
                  </a:lnTo>
                  <a:lnTo>
                    <a:pt x="582" y="712"/>
                  </a:lnTo>
                  <a:lnTo>
                    <a:pt x="582" y="729"/>
                  </a:lnTo>
                  <a:lnTo>
                    <a:pt x="582" y="745"/>
                  </a:lnTo>
                  <a:lnTo>
                    <a:pt x="566" y="745"/>
                  </a:lnTo>
                  <a:lnTo>
                    <a:pt x="550" y="761"/>
                  </a:lnTo>
                  <a:lnTo>
                    <a:pt x="566" y="777"/>
                  </a:lnTo>
                  <a:lnTo>
                    <a:pt x="550" y="793"/>
                  </a:lnTo>
                  <a:lnTo>
                    <a:pt x="550" y="793"/>
                  </a:lnTo>
                  <a:lnTo>
                    <a:pt x="550" y="793"/>
                  </a:lnTo>
                  <a:lnTo>
                    <a:pt x="550" y="810"/>
                  </a:lnTo>
                  <a:lnTo>
                    <a:pt x="550" y="810"/>
                  </a:lnTo>
                  <a:lnTo>
                    <a:pt x="566" y="826"/>
                  </a:lnTo>
                  <a:lnTo>
                    <a:pt x="582" y="826"/>
                  </a:lnTo>
                  <a:lnTo>
                    <a:pt x="582" y="826"/>
                  </a:lnTo>
                  <a:lnTo>
                    <a:pt x="615" y="826"/>
                  </a:lnTo>
                  <a:lnTo>
                    <a:pt x="631" y="810"/>
                  </a:lnTo>
                  <a:lnTo>
                    <a:pt x="631" y="793"/>
                  </a:lnTo>
                  <a:lnTo>
                    <a:pt x="647" y="793"/>
                  </a:lnTo>
                  <a:lnTo>
                    <a:pt x="647" y="810"/>
                  </a:lnTo>
                  <a:lnTo>
                    <a:pt x="663" y="826"/>
                  </a:lnTo>
                  <a:lnTo>
                    <a:pt x="647" y="842"/>
                  </a:lnTo>
                  <a:lnTo>
                    <a:pt x="663" y="842"/>
                  </a:lnTo>
                  <a:lnTo>
                    <a:pt x="647" y="858"/>
                  </a:lnTo>
                  <a:lnTo>
                    <a:pt x="663" y="874"/>
                  </a:lnTo>
                  <a:lnTo>
                    <a:pt x="679" y="923"/>
                  </a:lnTo>
                  <a:lnTo>
                    <a:pt x="679" y="939"/>
                  </a:lnTo>
                  <a:lnTo>
                    <a:pt x="679" y="939"/>
                  </a:lnTo>
                  <a:lnTo>
                    <a:pt x="696" y="939"/>
                  </a:lnTo>
                  <a:lnTo>
                    <a:pt x="679" y="971"/>
                  </a:lnTo>
                  <a:lnTo>
                    <a:pt x="679" y="971"/>
                  </a:lnTo>
                  <a:lnTo>
                    <a:pt x="679" y="988"/>
                  </a:lnTo>
                  <a:lnTo>
                    <a:pt x="696" y="1004"/>
                  </a:lnTo>
                  <a:lnTo>
                    <a:pt x="712" y="1004"/>
                  </a:lnTo>
                  <a:lnTo>
                    <a:pt x="728" y="1020"/>
                  </a:lnTo>
                  <a:lnTo>
                    <a:pt x="728" y="1052"/>
                  </a:lnTo>
                  <a:lnTo>
                    <a:pt x="728" y="1052"/>
                  </a:lnTo>
                  <a:lnTo>
                    <a:pt x="728" y="1068"/>
                  </a:lnTo>
                  <a:lnTo>
                    <a:pt x="728" y="1085"/>
                  </a:lnTo>
                  <a:lnTo>
                    <a:pt x="760" y="1117"/>
                  </a:lnTo>
                  <a:lnTo>
                    <a:pt x="760" y="1101"/>
                  </a:lnTo>
                  <a:lnTo>
                    <a:pt x="760" y="1085"/>
                  </a:lnTo>
                  <a:lnTo>
                    <a:pt x="776" y="1085"/>
                  </a:lnTo>
                  <a:lnTo>
                    <a:pt x="825" y="1101"/>
                  </a:lnTo>
                  <a:lnTo>
                    <a:pt x="841" y="1085"/>
                  </a:lnTo>
                  <a:lnTo>
                    <a:pt x="857" y="1085"/>
                  </a:lnTo>
                  <a:lnTo>
                    <a:pt x="874" y="1101"/>
                  </a:lnTo>
                  <a:lnTo>
                    <a:pt x="906" y="1101"/>
                  </a:lnTo>
                  <a:lnTo>
                    <a:pt x="922" y="1101"/>
                  </a:lnTo>
                  <a:lnTo>
                    <a:pt x="938" y="1101"/>
                  </a:lnTo>
                  <a:lnTo>
                    <a:pt x="954" y="1101"/>
                  </a:lnTo>
                  <a:lnTo>
                    <a:pt x="971" y="1101"/>
                  </a:lnTo>
                  <a:lnTo>
                    <a:pt x="971" y="1101"/>
                  </a:lnTo>
                  <a:lnTo>
                    <a:pt x="971" y="1085"/>
                  </a:lnTo>
                  <a:lnTo>
                    <a:pt x="971" y="1085"/>
                  </a:lnTo>
                  <a:lnTo>
                    <a:pt x="971" y="1068"/>
                  </a:lnTo>
                  <a:lnTo>
                    <a:pt x="987" y="1068"/>
                  </a:lnTo>
                  <a:lnTo>
                    <a:pt x="987" y="1068"/>
                  </a:lnTo>
                  <a:lnTo>
                    <a:pt x="1003" y="1068"/>
                  </a:lnTo>
                  <a:lnTo>
                    <a:pt x="1003" y="1085"/>
                  </a:lnTo>
                  <a:lnTo>
                    <a:pt x="1019" y="1101"/>
                  </a:lnTo>
                  <a:lnTo>
                    <a:pt x="1019" y="1101"/>
                  </a:lnTo>
                  <a:lnTo>
                    <a:pt x="1035" y="1133"/>
                  </a:lnTo>
                  <a:lnTo>
                    <a:pt x="1035" y="1133"/>
                  </a:lnTo>
                  <a:lnTo>
                    <a:pt x="1019" y="12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06880" y="3369960"/>
              <a:ext cx="787680" cy="427320"/>
            </a:xfrm>
            <a:custGeom>
              <a:avLst/>
              <a:gdLst/>
              <a:ahLst/>
              <a:rect l="l" t="t" r="r" b="b"/>
              <a:pathLst>
                <a:path w="1279" h="696">
                  <a:moveTo>
                    <a:pt x="0" y="664"/>
                  </a:moveTo>
                  <a:lnTo>
                    <a:pt x="0" y="567"/>
                  </a:lnTo>
                  <a:lnTo>
                    <a:pt x="0" y="518"/>
                  </a:lnTo>
                  <a:lnTo>
                    <a:pt x="0" y="502"/>
                  </a:lnTo>
                  <a:lnTo>
                    <a:pt x="16" y="388"/>
                  </a:lnTo>
                  <a:lnTo>
                    <a:pt x="16" y="388"/>
                  </a:lnTo>
                  <a:lnTo>
                    <a:pt x="16" y="308"/>
                  </a:lnTo>
                  <a:lnTo>
                    <a:pt x="16" y="291"/>
                  </a:lnTo>
                  <a:lnTo>
                    <a:pt x="16" y="210"/>
                  </a:lnTo>
                  <a:lnTo>
                    <a:pt x="16" y="194"/>
                  </a:lnTo>
                  <a:lnTo>
                    <a:pt x="32" y="97"/>
                  </a:lnTo>
                  <a:lnTo>
                    <a:pt x="32" y="97"/>
                  </a:lnTo>
                  <a:lnTo>
                    <a:pt x="32" y="0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243" y="16"/>
                  </a:lnTo>
                  <a:lnTo>
                    <a:pt x="259" y="16"/>
                  </a:lnTo>
                  <a:lnTo>
                    <a:pt x="340" y="16"/>
                  </a:lnTo>
                  <a:lnTo>
                    <a:pt x="340" y="16"/>
                  </a:lnTo>
                  <a:lnTo>
                    <a:pt x="437" y="16"/>
                  </a:lnTo>
                  <a:lnTo>
                    <a:pt x="502" y="16"/>
                  </a:lnTo>
                  <a:lnTo>
                    <a:pt x="534" y="16"/>
                  </a:lnTo>
                  <a:lnTo>
                    <a:pt x="583" y="32"/>
                  </a:lnTo>
                  <a:lnTo>
                    <a:pt x="615" y="32"/>
                  </a:lnTo>
                  <a:lnTo>
                    <a:pt x="664" y="32"/>
                  </a:lnTo>
                  <a:lnTo>
                    <a:pt x="712" y="32"/>
                  </a:lnTo>
                  <a:lnTo>
                    <a:pt x="728" y="32"/>
                  </a:lnTo>
                  <a:lnTo>
                    <a:pt x="809" y="32"/>
                  </a:lnTo>
                  <a:lnTo>
                    <a:pt x="890" y="32"/>
                  </a:lnTo>
                  <a:lnTo>
                    <a:pt x="906" y="32"/>
                  </a:lnTo>
                  <a:lnTo>
                    <a:pt x="955" y="32"/>
                  </a:lnTo>
                  <a:lnTo>
                    <a:pt x="1003" y="32"/>
                  </a:lnTo>
                  <a:lnTo>
                    <a:pt x="1036" y="32"/>
                  </a:lnTo>
                  <a:lnTo>
                    <a:pt x="1068" y="32"/>
                  </a:lnTo>
                  <a:lnTo>
                    <a:pt x="1149" y="32"/>
                  </a:lnTo>
                  <a:lnTo>
                    <a:pt x="1149" y="32"/>
                  </a:lnTo>
                  <a:lnTo>
                    <a:pt x="1182" y="65"/>
                  </a:lnTo>
                  <a:lnTo>
                    <a:pt x="1214" y="49"/>
                  </a:lnTo>
                  <a:lnTo>
                    <a:pt x="1214" y="65"/>
                  </a:lnTo>
                  <a:lnTo>
                    <a:pt x="1214" y="81"/>
                  </a:lnTo>
                  <a:lnTo>
                    <a:pt x="1230" y="81"/>
                  </a:lnTo>
                  <a:lnTo>
                    <a:pt x="1214" y="97"/>
                  </a:lnTo>
                  <a:lnTo>
                    <a:pt x="1198" y="113"/>
                  </a:lnTo>
                  <a:lnTo>
                    <a:pt x="1182" y="130"/>
                  </a:lnTo>
                  <a:lnTo>
                    <a:pt x="1214" y="162"/>
                  </a:lnTo>
                  <a:lnTo>
                    <a:pt x="1214" y="162"/>
                  </a:lnTo>
                  <a:lnTo>
                    <a:pt x="1214" y="178"/>
                  </a:lnTo>
                  <a:lnTo>
                    <a:pt x="1246" y="210"/>
                  </a:lnTo>
                  <a:lnTo>
                    <a:pt x="1262" y="210"/>
                  </a:lnTo>
                  <a:lnTo>
                    <a:pt x="1262" y="227"/>
                  </a:lnTo>
                  <a:lnTo>
                    <a:pt x="1262" y="243"/>
                  </a:lnTo>
                  <a:lnTo>
                    <a:pt x="1262" y="291"/>
                  </a:lnTo>
                  <a:lnTo>
                    <a:pt x="1279" y="308"/>
                  </a:lnTo>
                  <a:lnTo>
                    <a:pt x="1279" y="372"/>
                  </a:lnTo>
                  <a:lnTo>
                    <a:pt x="1279" y="388"/>
                  </a:lnTo>
                  <a:lnTo>
                    <a:pt x="1279" y="453"/>
                  </a:lnTo>
                  <a:lnTo>
                    <a:pt x="1279" y="469"/>
                  </a:lnTo>
                  <a:lnTo>
                    <a:pt x="1279" y="534"/>
                  </a:lnTo>
                  <a:lnTo>
                    <a:pt x="1279" y="550"/>
                  </a:lnTo>
                  <a:lnTo>
                    <a:pt x="1279" y="615"/>
                  </a:lnTo>
                  <a:lnTo>
                    <a:pt x="1279" y="615"/>
                  </a:lnTo>
                  <a:lnTo>
                    <a:pt x="1279" y="680"/>
                  </a:lnTo>
                  <a:lnTo>
                    <a:pt x="1279" y="696"/>
                  </a:lnTo>
                  <a:lnTo>
                    <a:pt x="1198" y="696"/>
                  </a:lnTo>
                  <a:lnTo>
                    <a:pt x="1198" y="696"/>
                  </a:lnTo>
                  <a:lnTo>
                    <a:pt x="1133" y="696"/>
                  </a:lnTo>
                  <a:lnTo>
                    <a:pt x="1117" y="696"/>
                  </a:lnTo>
                  <a:lnTo>
                    <a:pt x="1068" y="696"/>
                  </a:lnTo>
                  <a:lnTo>
                    <a:pt x="1036" y="696"/>
                  </a:lnTo>
                  <a:lnTo>
                    <a:pt x="1036" y="696"/>
                  </a:lnTo>
                  <a:lnTo>
                    <a:pt x="939" y="696"/>
                  </a:lnTo>
                  <a:lnTo>
                    <a:pt x="906" y="696"/>
                  </a:lnTo>
                  <a:lnTo>
                    <a:pt x="842" y="696"/>
                  </a:lnTo>
                  <a:lnTo>
                    <a:pt x="777" y="696"/>
                  </a:lnTo>
                  <a:lnTo>
                    <a:pt x="728" y="696"/>
                  </a:lnTo>
                  <a:lnTo>
                    <a:pt x="680" y="680"/>
                  </a:lnTo>
                  <a:lnTo>
                    <a:pt x="631" y="680"/>
                  </a:lnTo>
                  <a:lnTo>
                    <a:pt x="599" y="680"/>
                  </a:lnTo>
                  <a:lnTo>
                    <a:pt x="518" y="680"/>
                  </a:lnTo>
                  <a:lnTo>
                    <a:pt x="437" y="680"/>
                  </a:lnTo>
                  <a:lnTo>
                    <a:pt x="421" y="680"/>
                  </a:lnTo>
                  <a:lnTo>
                    <a:pt x="340" y="680"/>
                  </a:lnTo>
                  <a:lnTo>
                    <a:pt x="324" y="680"/>
                  </a:lnTo>
                  <a:lnTo>
                    <a:pt x="243" y="680"/>
                  </a:lnTo>
                  <a:lnTo>
                    <a:pt x="178" y="664"/>
                  </a:lnTo>
                  <a:lnTo>
                    <a:pt x="162" y="664"/>
                  </a:lnTo>
                  <a:lnTo>
                    <a:pt x="81" y="664"/>
                  </a:lnTo>
                  <a:lnTo>
                    <a:pt x="0" y="664"/>
                  </a:lnTo>
                  <a:lnTo>
                    <a:pt x="0" y="66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32400" y="3438360"/>
              <a:ext cx="785880" cy="399960"/>
            </a:xfrm>
            <a:custGeom>
              <a:avLst/>
              <a:gdLst/>
              <a:ahLst/>
              <a:rect l="l" t="t" r="r" b="b"/>
              <a:pathLst>
                <a:path w="1278" h="648">
                  <a:moveTo>
                    <a:pt x="922" y="534"/>
                  </a:moveTo>
                  <a:lnTo>
                    <a:pt x="825" y="551"/>
                  </a:lnTo>
                  <a:lnTo>
                    <a:pt x="825" y="551"/>
                  </a:lnTo>
                  <a:lnTo>
                    <a:pt x="793" y="551"/>
                  </a:lnTo>
                  <a:lnTo>
                    <a:pt x="744" y="551"/>
                  </a:lnTo>
                  <a:lnTo>
                    <a:pt x="744" y="551"/>
                  </a:lnTo>
                  <a:lnTo>
                    <a:pt x="712" y="567"/>
                  </a:lnTo>
                  <a:lnTo>
                    <a:pt x="647" y="567"/>
                  </a:lnTo>
                  <a:lnTo>
                    <a:pt x="615" y="567"/>
                  </a:lnTo>
                  <a:lnTo>
                    <a:pt x="582" y="567"/>
                  </a:lnTo>
                  <a:lnTo>
                    <a:pt x="550" y="567"/>
                  </a:lnTo>
                  <a:lnTo>
                    <a:pt x="534" y="567"/>
                  </a:lnTo>
                  <a:lnTo>
                    <a:pt x="485" y="583"/>
                  </a:lnTo>
                  <a:lnTo>
                    <a:pt x="437" y="583"/>
                  </a:lnTo>
                  <a:lnTo>
                    <a:pt x="420" y="583"/>
                  </a:lnTo>
                  <a:lnTo>
                    <a:pt x="388" y="583"/>
                  </a:lnTo>
                  <a:lnTo>
                    <a:pt x="339" y="599"/>
                  </a:lnTo>
                  <a:lnTo>
                    <a:pt x="323" y="599"/>
                  </a:lnTo>
                  <a:lnTo>
                    <a:pt x="258" y="599"/>
                  </a:lnTo>
                  <a:lnTo>
                    <a:pt x="258" y="632"/>
                  </a:lnTo>
                  <a:lnTo>
                    <a:pt x="194" y="632"/>
                  </a:lnTo>
                  <a:lnTo>
                    <a:pt x="178" y="632"/>
                  </a:lnTo>
                  <a:lnTo>
                    <a:pt x="129" y="648"/>
                  </a:lnTo>
                  <a:lnTo>
                    <a:pt x="129" y="648"/>
                  </a:lnTo>
                  <a:lnTo>
                    <a:pt x="129" y="648"/>
                  </a:lnTo>
                  <a:lnTo>
                    <a:pt x="48" y="648"/>
                  </a:lnTo>
                  <a:lnTo>
                    <a:pt x="32" y="648"/>
                  </a:lnTo>
                  <a:lnTo>
                    <a:pt x="32" y="615"/>
                  </a:lnTo>
                  <a:lnTo>
                    <a:pt x="32" y="615"/>
                  </a:lnTo>
                  <a:lnTo>
                    <a:pt x="64" y="632"/>
                  </a:lnTo>
                  <a:lnTo>
                    <a:pt x="64" y="615"/>
                  </a:lnTo>
                  <a:lnTo>
                    <a:pt x="64" y="599"/>
                  </a:lnTo>
                  <a:lnTo>
                    <a:pt x="80" y="583"/>
                  </a:lnTo>
                  <a:lnTo>
                    <a:pt x="64" y="567"/>
                  </a:lnTo>
                  <a:lnTo>
                    <a:pt x="64" y="567"/>
                  </a:lnTo>
                  <a:lnTo>
                    <a:pt x="80" y="551"/>
                  </a:lnTo>
                  <a:lnTo>
                    <a:pt x="64" y="534"/>
                  </a:lnTo>
                  <a:lnTo>
                    <a:pt x="64" y="534"/>
                  </a:lnTo>
                  <a:lnTo>
                    <a:pt x="64" y="518"/>
                  </a:lnTo>
                  <a:lnTo>
                    <a:pt x="80" y="486"/>
                  </a:lnTo>
                  <a:lnTo>
                    <a:pt x="97" y="486"/>
                  </a:lnTo>
                  <a:lnTo>
                    <a:pt x="161" y="518"/>
                  </a:lnTo>
                  <a:lnTo>
                    <a:pt x="178" y="518"/>
                  </a:lnTo>
                  <a:lnTo>
                    <a:pt x="194" y="486"/>
                  </a:lnTo>
                  <a:lnTo>
                    <a:pt x="178" y="470"/>
                  </a:lnTo>
                  <a:lnTo>
                    <a:pt x="178" y="437"/>
                  </a:lnTo>
                  <a:lnTo>
                    <a:pt x="178" y="437"/>
                  </a:lnTo>
                  <a:lnTo>
                    <a:pt x="194" y="437"/>
                  </a:lnTo>
                  <a:lnTo>
                    <a:pt x="210" y="421"/>
                  </a:lnTo>
                  <a:lnTo>
                    <a:pt x="242" y="421"/>
                  </a:lnTo>
                  <a:lnTo>
                    <a:pt x="242" y="405"/>
                  </a:lnTo>
                  <a:lnTo>
                    <a:pt x="226" y="389"/>
                  </a:lnTo>
                  <a:lnTo>
                    <a:pt x="226" y="373"/>
                  </a:lnTo>
                  <a:lnTo>
                    <a:pt x="242" y="340"/>
                  </a:lnTo>
                  <a:lnTo>
                    <a:pt x="258" y="356"/>
                  </a:lnTo>
                  <a:lnTo>
                    <a:pt x="258" y="340"/>
                  </a:lnTo>
                  <a:lnTo>
                    <a:pt x="258" y="324"/>
                  </a:lnTo>
                  <a:lnTo>
                    <a:pt x="258" y="324"/>
                  </a:lnTo>
                  <a:lnTo>
                    <a:pt x="275" y="324"/>
                  </a:lnTo>
                  <a:lnTo>
                    <a:pt x="291" y="324"/>
                  </a:lnTo>
                  <a:lnTo>
                    <a:pt x="307" y="324"/>
                  </a:lnTo>
                  <a:lnTo>
                    <a:pt x="307" y="340"/>
                  </a:lnTo>
                  <a:lnTo>
                    <a:pt x="307" y="340"/>
                  </a:lnTo>
                  <a:lnTo>
                    <a:pt x="323" y="324"/>
                  </a:lnTo>
                  <a:lnTo>
                    <a:pt x="307" y="308"/>
                  </a:lnTo>
                  <a:lnTo>
                    <a:pt x="307" y="308"/>
                  </a:lnTo>
                  <a:lnTo>
                    <a:pt x="339" y="308"/>
                  </a:lnTo>
                  <a:lnTo>
                    <a:pt x="339" y="308"/>
                  </a:lnTo>
                  <a:lnTo>
                    <a:pt x="372" y="308"/>
                  </a:lnTo>
                  <a:lnTo>
                    <a:pt x="372" y="324"/>
                  </a:lnTo>
                  <a:lnTo>
                    <a:pt x="404" y="340"/>
                  </a:lnTo>
                  <a:lnTo>
                    <a:pt x="404" y="308"/>
                  </a:lnTo>
                  <a:lnTo>
                    <a:pt x="420" y="308"/>
                  </a:lnTo>
                  <a:lnTo>
                    <a:pt x="453" y="292"/>
                  </a:lnTo>
                  <a:lnTo>
                    <a:pt x="453" y="308"/>
                  </a:lnTo>
                  <a:lnTo>
                    <a:pt x="469" y="292"/>
                  </a:lnTo>
                  <a:lnTo>
                    <a:pt x="469" y="308"/>
                  </a:lnTo>
                  <a:lnTo>
                    <a:pt x="485" y="308"/>
                  </a:lnTo>
                  <a:lnTo>
                    <a:pt x="485" y="292"/>
                  </a:lnTo>
                  <a:lnTo>
                    <a:pt x="501" y="292"/>
                  </a:lnTo>
                  <a:lnTo>
                    <a:pt x="501" y="259"/>
                  </a:lnTo>
                  <a:lnTo>
                    <a:pt x="501" y="259"/>
                  </a:lnTo>
                  <a:lnTo>
                    <a:pt x="501" y="243"/>
                  </a:lnTo>
                  <a:lnTo>
                    <a:pt x="517" y="259"/>
                  </a:lnTo>
                  <a:lnTo>
                    <a:pt x="534" y="243"/>
                  </a:lnTo>
                  <a:lnTo>
                    <a:pt x="517" y="227"/>
                  </a:lnTo>
                  <a:lnTo>
                    <a:pt x="517" y="243"/>
                  </a:lnTo>
                  <a:lnTo>
                    <a:pt x="534" y="243"/>
                  </a:lnTo>
                  <a:lnTo>
                    <a:pt x="534" y="259"/>
                  </a:lnTo>
                  <a:lnTo>
                    <a:pt x="550" y="259"/>
                  </a:lnTo>
                  <a:lnTo>
                    <a:pt x="566" y="275"/>
                  </a:lnTo>
                  <a:lnTo>
                    <a:pt x="582" y="275"/>
                  </a:lnTo>
                  <a:lnTo>
                    <a:pt x="582" y="275"/>
                  </a:lnTo>
                  <a:lnTo>
                    <a:pt x="598" y="259"/>
                  </a:lnTo>
                  <a:lnTo>
                    <a:pt x="598" y="259"/>
                  </a:lnTo>
                  <a:lnTo>
                    <a:pt x="598" y="227"/>
                  </a:lnTo>
                  <a:lnTo>
                    <a:pt x="598" y="211"/>
                  </a:lnTo>
                  <a:lnTo>
                    <a:pt x="615" y="211"/>
                  </a:lnTo>
                  <a:lnTo>
                    <a:pt x="631" y="195"/>
                  </a:lnTo>
                  <a:lnTo>
                    <a:pt x="631" y="178"/>
                  </a:lnTo>
                  <a:lnTo>
                    <a:pt x="647" y="162"/>
                  </a:lnTo>
                  <a:lnTo>
                    <a:pt x="663" y="162"/>
                  </a:lnTo>
                  <a:lnTo>
                    <a:pt x="663" y="146"/>
                  </a:lnTo>
                  <a:lnTo>
                    <a:pt x="663" y="130"/>
                  </a:lnTo>
                  <a:lnTo>
                    <a:pt x="663" y="97"/>
                  </a:lnTo>
                  <a:lnTo>
                    <a:pt x="679" y="97"/>
                  </a:lnTo>
                  <a:lnTo>
                    <a:pt x="695" y="97"/>
                  </a:lnTo>
                  <a:lnTo>
                    <a:pt x="695" y="97"/>
                  </a:lnTo>
                  <a:lnTo>
                    <a:pt x="728" y="81"/>
                  </a:lnTo>
                  <a:lnTo>
                    <a:pt x="760" y="81"/>
                  </a:lnTo>
                  <a:lnTo>
                    <a:pt x="760" y="65"/>
                  </a:lnTo>
                  <a:lnTo>
                    <a:pt x="776" y="49"/>
                  </a:lnTo>
                  <a:lnTo>
                    <a:pt x="760" y="49"/>
                  </a:lnTo>
                  <a:lnTo>
                    <a:pt x="760" y="49"/>
                  </a:lnTo>
                  <a:lnTo>
                    <a:pt x="760" y="33"/>
                  </a:lnTo>
                  <a:lnTo>
                    <a:pt x="744" y="17"/>
                  </a:lnTo>
                  <a:lnTo>
                    <a:pt x="744" y="17"/>
                  </a:lnTo>
                  <a:lnTo>
                    <a:pt x="760" y="0"/>
                  </a:lnTo>
                  <a:lnTo>
                    <a:pt x="776" y="0"/>
                  </a:lnTo>
                  <a:lnTo>
                    <a:pt x="793" y="0"/>
                  </a:lnTo>
                  <a:lnTo>
                    <a:pt x="809" y="0"/>
                  </a:lnTo>
                  <a:lnTo>
                    <a:pt x="825" y="0"/>
                  </a:lnTo>
                  <a:lnTo>
                    <a:pt x="825" y="17"/>
                  </a:lnTo>
                  <a:lnTo>
                    <a:pt x="841" y="17"/>
                  </a:lnTo>
                  <a:lnTo>
                    <a:pt x="857" y="49"/>
                  </a:lnTo>
                  <a:lnTo>
                    <a:pt x="857" y="65"/>
                  </a:lnTo>
                  <a:lnTo>
                    <a:pt x="890" y="65"/>
                  </a:lnTo>
                  <a:lnTo>
                    <a:pt x="922" y="65"/>
                  </a:lnTo>
                  <a:lnTo>
                    <a:pt x="954" y="81"/>
                  </a:lnTo>
                  <a:lnTo>
                    <a:pt x="971" y="81"/>
                  </a:lnTo>
                  <a:lnTo>
                    <a:pt x="971" y="81"/>
                  </a:lnTo>
                  <a:lnTo>
                    <a:pt x="987" y="65"/>
                  </a:lnTo>
                  <a:lnTo>
                    <a:pt x="1019" y="65"/>
                  </a:lnTo>
                  <a:lnTo>
                    <a:pt x="1019" y="81"/>
                  </a:lnTo>
                  <a:lnTo>
                    <a:pt x="1035" y="81"/>
                  </a:lnTo>
                  <a:lnTo>
                    <a:pt x="1051" y="81"/>
                  </a:lnTo>
                  <a:lnTo>
                    <a:pt x="1068" y="49"/>
                  </a:lnTo>
                  <a:lnTo>
                    <a:pt x="1084" y="49"/>
                  </a:lnTo>
                  <a:lnTo>
                    <a:pt x="1100" y="81"/>
                  </a:lnTo>
                  <a:lnTo>
                    <a:pt x="1132" y="81"/>
                  </a:lnTo>
                  <a:lnTo>
                    <a:pt x="1132" y="97"/>
                  </a:lnTo>
                  <a:lnTo>
                    <a:pt x="1149" y="97"/>
                  </a:lnTo>
                  <a:lnTo>
                    <a:pt x="1149" y="114"/>
                  </a:lnTo>
                  <a:lnTo>
                    <a:pt x="1149" y="146"/>
                  </a:lnTo>
                  <a:lnTo>
                    <a:pt x="1149" y="146"/>
                  </a:lnTo>
                  <a:lnTo>
                    <a:pt x="1149" y="162"/>
                  </a:lnTo>
                  <a:lnTo>
                    <a:pt x="1149" y="162"/>
                  </a:lnTo>
                  <a:lnTo>
                    <a:pt x="1181" y="195"/>
                  </a:lnTo>
                  <a:lnTo>
                    <a:pt x="1181" y="211"/>
                  </a:lnTo>
                  <a:lnTo>
                    <a:pt x="1197" y="227"/>
                  </a:lnTo>
                  <a:lnTo>
                    <a:pt x="1197" y="227"/>
                  </a:lnTo>
                  <a:lnTo>
                    <a:pt x="1213" y="243"/>
                  </a:lnTo>
                  <a:lnTo>
                    <a:pt x="1213" y="243"/>
                  </a:lnTo>
                  <a:lnTo>
                    <a:pt x="1230" y="259"/>
                  </a:lnTo>
                  <a:lnTo>
                    <a:pt x="1246" y="275"/>
                  </a:lnTo>
                  <a:lnTo>
                    <a:pt x="1246" y="259"/>
                  </a:lnTo>
                  <a:lnTo>
                    <a:pt x="1246" y="275"/>
                  </a:lnTo>
                  <a:lnTo>
                    <a:pt x="1246" y="275"/>
                  </a:lnTo>
                  <a:lnTo>
                    <a:pt x="1278" y="292"/>
                  </a:lnTo>
                  <a:lnTo>
                    <a:pt x="1230" y="340"/>
                  </a:lnTo>
                  <a:lnTo>
                    <a:pt x="1197" y="373"/>
                  </a:lnTo>
                  <a:lnTo>
                    <a:pt x="1197" y="373"/>
                  </a:lnTo>
                  <a:lnTo>
                    <a:pt x="1165" y="389"/>
                  </a:lnTo>
                  <a:lnTo>
                    <a:pt x="1165" y="405"/>
                  </a:lnTo>
                  <a:lnTo>
                    <a:pt x="1149" y="421"/>
                  </a:lnTo>
                  <a:lnTo>
                    <a:pt x="1149" y="437"/>
                  </a:lnTo>
                  <a:lnTo>
                    <a:pt x="1116" y="454"/>
                  </a:lnTo>
                  <a:lnTo>
                    <a:pt x="1100" y="486"/>
                  </a:lnTo>
                  <a:lnTo>
                    <a:pt x="1051" y="502"/>
                  </a:lnTo>
                  <a:lnTo>
                    <a:pt x="1019" y="534"/>
                  </a:lnTo>
                  <a:lnTo>
                    <a:pt x="971" y="534"/>
                  </a:lnTo>
                  <a:lnTo>
                    <a:pt x="954" y="534"/>
                  </a:lnTo>
                  <a:lnTo>
                    <a:pt x="922" y="534"/>
                  </a:lnTo>
                  <a:lnTo>
                    <a:pt x="922" y="534"/>
                  </a:lnTo>
                  <a:lnTo>
                    <a:pt x="922" y="534"/>
                  </a:lnTo>
                  <a:close/>
                  <a:moveTo>
                    <a:pt x="16" y="648"/>
                  </a:moveTo>
                  <a:lnTo>
                    <a:pt x="16" y="648"/>
                  </a:lnTo>
                  <a:lnTo>
                    <a:pt x="0" y="648"/>
                  </a:lnTo>
                  <a:lnTo>
                    <a:pt x="0" y="632"/>
                  </a:lnTo>
                  <a:lnTo>
                    <a:pt x="16" y="632"/>
                  </a:lnTo>
                  <a:lnTo>
                    <a:pt x="16" y="648"/>
                  </a:lnTo>
                  <a:lnTo>
                    <a:pt x="16" y="6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27800" y="3209760"/>
              <a:ext cx="487440" cy="228600"/>
            </a:xfrm>
            <a:custGeom>
              <a:avLst/>
              <a:gdLst/>
              <a:ahLst/>
              <a:rect l="l" t="t" r="r" b="b"/>
              <a:pathLst>
                <a:path w="793" h="372">
                  <a:moveTo>
                    <a:pt x="566" y="194"/>
                  </a:moveTo>
                  <a:lnTo>
                    <a:pt x="550" y="178"/>
                  </a:lnTo>
                  <a:lnTo>
                    <a:pt x="550" y="178"/>
                  </a:lnTo>
                  <a:lnTo>
                    <a:pt x="550" y="178"/>
                  </a:lnTo>
                  <a:lnTo>
                    <a:pt x="550" y="194"/>
                  </a:lnTo>
                  <a:lnTo>
                    <a:pt x="550" y="194"/>
                  </a:lnTo>
                  <a:lnTo>
                    <a:pt x="550" y="194"/>
                  </a:lnTo>
                  <a:lnTo>
                    <a:pt x="550" y="211"/>
                  </a:lnTo>
                  <a:lnTo>
                    <a:pt x="550" y="178"/>
                  </a:lnTo>
                  <a:lnTo>
                    <a:pt x="550" y="162"/>
                  </a:lnTo>
                  <a:lnTo>
                    <a:pt x="566" y="178"/>
                  </a:lnTo>
                  <a:lnTo>
                    <a:pt x="566" y="178"/>
                  </a:lnTo>
                  <a:lnTo>
                    <a:pt x="566" y="178"/>
                  </a:lnTo>
                  <a:lnTo>
                    <a:pt x="566" y="194"/>
                  </a:lnTo>
                  <a:lnTo>
                    <a:pt x="566" y="194"/>
                  </a:lnTo>
                  <a:close/>
                  <a:moveTo>
                    <a:pt x="777" y="243"/>
                  </a:moveTo>
                  <a:lnTo>
                    <a:pt x="793" y="243"/>
                  </a:lnTo>
                  <a:lnTo>
                    <a:pt x="793" y="275"/>
                  </a:lnTo>
                  <a:lnTo>
                    <a:pt x="777" y="243"/>
                  </a:lnTo>
                  <a:lnTo>
                    <a:pt x="777" y="243"/>
                  </a:lnTo>
                  <a:close/>
                  <a:moveTo>
                    <a:pt x="777" y="340"/>
                  </a:moveTo>
                  <a:lnTo>
                    <a:pt x="793" y="275"/>
                  </a:lnTo>
                  <a:lnTo>
                    <a:pt x="777" y="340"/>
                  </a:lnTo>
                  <a:lnTo>
                    <a:pt x="777" y="340"/>
                  </a:lnTo>
                  <a:lnTo>
                    <a:pt x="777" y="340"/>
                  </a:lnTo>
                  <a:close/>
                  <a:moveTo>
                    <a:pt x="761" y="324"/>
                  </a:move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close/>
                  <a:moveTo>
                    <a:pt x="761" y="324"/>
                  </a:move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lnTo>
                    <a:pt x="744" y="340"/>
                  </a:lnTo>
                  <a:lnTo>
                    <a:pt x="761" y="340"/>
                  </a:lnTo>
                  <a:lnTo>
                    <a:pt x="712" y="356"/>
                  </a:lnTo>
                  <a:lnTo>
                    <a:pt x="712" y="372"/>
                  </a:lnTo>
                  <a:lnTo>
                    <a:pt x="680" y="372"/>
                  </a:lnTo>
                  <a:lnTo>
                    <a:pt x="680" y="340"/>
                  </a:lnTo>
                  <a:lnTo>
                    <a:pt x="663" y="324"/>
                  </a:lnTo>
                  <a:lnTo>
                    <a:pt x="663" y="324"/>
                  </a:lnTo>
                  <a:lnTo>
                    <a:pt x="663" y="324"/>
                  </a:lnTo>
                  <a:lnTo>
                    <a:pt x="680" y="308"/>
                  </a:lnTo>
                  <a:lnTo>
                    <a:pt x="663" y="308"/>
                  </a:lnTo>
                  <a:lnTo>
                    <a:pt x="663" y="291"/>
                  </a:lnTo>
                  <a:lnTo>
                    <a:pt x="647" y="291"/>
                  </a:lnTo>
                  <a:lnTo>
                    <a:pt x="647" y="308"/>
                  </a:lnTo>
                  <a:lnTo>
                    <a:pt x="631" y="308"/>
                  </a:lnTo>
                  <a:lnTo>
                    <a:pt x="631" y="308"/>
                  </a:lnTo>
                  <a:lnTo>
                    <a:pt x="631" y="324"/>
                  </a:lnTo>
                  <a:lnTo>
                    <a:pt x="583" y="291"/>
                  </a:lnTo>
                  <a:lnTo>
                    <a:pt x="583" y="275"/>
                  </a:lnTo>
                  <a:lnTo>
                    <a:pt x="599" y="259"/>
                  </a:lnTo>
                  <a:lnTo>
                    <a:pt x="583" y="259"/>
                  </a:lnTo>
                  <a:lnTo>
                    <a:pt x="615" y="259"/>
                  </a:lnTo>
                  <a:lnTo>
                    <a:pt x="615" y="243"/>
                  </a:lnTo>
                  <a:lnTo>
                    <a:pt x="615" y="243"/>
                  </a:lnTo>
                  <a:lnTo>
                    <a:pt x="615" y="243"/>
                  </a:lnTo>
                  <a:lnTo>
                    <a:pt x="599" y="227"/>
                  </a:lnTo>
                  <a:lnTo>
                    <a:pt x="583" y="227"/>
                  </a:lnTo>
                  <a:lnTo>
                    <a:pt x="583" y="211"/>
                  </a:lnTo>
                  <a:lnTo>
                    <a:pt x="566" y="211"/>
                  </a:lnTo>
                  <a:lnTo>
                    <a:pt x="566" y="243"/>
                  </a:lnTo>
                  <a:lnTo>
                    <a:pt x="566" y="243"/>
                  </a:lnTo>
                  <a:lnTo>
                    <a:pt x="566" y="211"/>
                  </a:lnTo>
                  <a:lnTo>
                    <a:pt x="583" y="211"/>
                  </a:lnTo>
                  <a:lnTo>
                    <a:pt x="583" y="211"/>
                  </a:lnTo>
                  <a:lnTo>
                    <a:pt x="599" y="194"/>
                  </a:lnTo>
                  <a:lnTo>
                    <a:pt x="599" y="178"/>
                  </a:lnTo>
                  <a:lnTo>
                    <a:pt x="599" y="178"/>
                  </a:lnTo>
                  <a:lnTo>
                    <a:pt x="599" y="178"/>
                  </a:lnTo>
                  <a:lnTo>
                    <a:pt x="583" y="178"/>
                  </a:lnTo>
                  <a:lnTo>
                    <a:pt x="566" y="178"/>
                  </a:lnTo>
                  <a:lnTo>
                    <a:pt x="583" y="130"/>
                  </a:lnTo>
                  <a:lnTo>
                    <a:pt x="566" y="146"/>
                  </a:lnTo>
                  <a:lnTo>
                    <a:pt x="566" y="146"/>
                  </a:lnTo>
                  <a:lnTo>
                    <a:pt x="566" y="130"/>
                  </a:lnTo>
                  <a:lnTo>
                    <a:pt x="566" y="97"/>
                  </a:lnTo>
                  <a:lnTo>
                    <a:pt x="583" y="81"/>
                  </a:lnTo>
                  <a:lnTo>
                    <a:pt x="615" y="65"/>
                  </a:lnTo>
                  <a:lnTo>
                    <a:pt x="583" y="65"/>
                  </a:lnTo>
                  <a:lnTo>
                    <a:pt x="599" y="49"/>
                  </a:lnTo>
                  <a:lnTo>
                    <a:pt x="583" y="49"/>
                  </a:lnTo>
                  <a:lnTo>
                    <a:pt x="566" y="33"/>
                  </a:lnTo>
                  <a:lnTo>
                    <a:pt x="566" y="49"/>
                  </a:lnTo>
                  <a:lnTo>
                    <a:pt x="566" y="81"/>
                  </a:lnTo>
                  <a:lnTo>
                    <a:pt x="550" y="81"/>
                  </a:lnTo>
                  <a:lnTo>
                    <a:pt x="534" y="81"/>
                  </a:lnTo>
                  <a:lnTo>
                    <a:pt x="534" y="130"/>
                  </a:lnTo>
                  <a:lnTo>
                    <a:pt x="502" y="130"/>
                  </a:lnTo>
                  <a:lnTo>
                    <a:pt x="502" y="130"/>
                  </a:lnTo>
                  <a:lnTo>
                    <a:pt x="502" y="130"/>
                  </a:lnTo>
                  <a:lnTo>
                    <a:pt x="502" y="130"/>
                  </a:lnTo>
                  <a:lnTo>
                    <a:pt x="502" y="146"/>
                  </a:lnTo>
                  <a:lnTo>
                    <a:pt x="502" y="146"/>
                  </a:lnTo>
                  <a:lnTo>
                    <a:pt x="502" y="130"/>
                  </a:lnTo>
                  <a:lnTo>
                    <a:pt x="534" y="146"/>
                  </a:lnTo>
                  <a:lnTo>
                    <a:pt x="534" y="194"/>
                  </a:lnTo>
                  <a:lnTo>
                    <a:pt x="518" y="227"/>
                  </a:lnTo>
                  <a:lnTo>
                    <a:pt x="534" y="243"/>
                  </a:lnTo>
                  <a:lnTo>
                    <a:pt x="550" y="275"/>
                  </a:lnTo>
                  <a:lnTo>
                    <a:pt x="566" y="308"/>
                  </a:lnTo>
                  <a:lnTo>
                    <a:pt x="566" y="308"/>
                  </a:lnTo>
                  <a:lnTo>
                    <a:pt x="566" y="324"/>
                  </a:lnTo>
                  <a:lnTo>
                    <a:pt x="550" y="324"/>
                  </a:lnTo>
                  <a:lnTo>
                    <a:pt x="550" y="308"/>
                  </a:lnTo>
                  <a:lnTo>
                    <a:pt x="518" y="291"/>
                  </a:lnTo>
                  <a:lnTo>
                    <a:pt x="583" y="340"/>
                  </a:lnTo>
                  <a:lnTo>
                    <a:pt x="599" y="372"/>
                  </a:lnTo>
                  <a:lnTo>
                    <a:pt x="550" y="340"/>
                  </a:lnTo>
                  <a:lnTo>
                    <a:pt x="518" y="356"/>
                  </a:lnTo>
                  <a:lnTo>
                    <a:pt x="485" y="324"/>
                  </a:lnTo>
                  <a:lnTo>
                    <a:pt x="485" y="340"/>
                  </a:lnTo>
                  <a:lnTo>
                    <a:pt x="469" y="340"/>
                  </a:lnTo>
                  <a:lnTo>
                    <a:pt x="469" y="324"/>
                  </a:lnTo>
                  <a:lnTo>
                    <a:pt x="437" y="324"/>
                  </a:lnTo>
                  <a:lnTo>
                    <a:pt x="421" y="324"/>
                  </a:lnTo>
                  <a:lnTo>
                    <a:pt x="421" y="308"/>
                  </a:lnTo>
                  <a:lnTo>
                    <a:pt x="437" y="275"/>
                  </a:lnTo>
                  <a:lnTo>
                    <a:pt x="437" y="259"/>
                  </a:lnTo>
                  <a:lnTo>
                    <a:pt x="453" y="259"/>
                  </a:lnTo>
                  <a:lnTo>
                    <a:pt x="437" y="243"/>
                  </a:lnTo>
                  <a:lnTo>
                    <a:pt x="453" y="211"/>
                  </a:lnTo>
                  <a:lnTo>
                    <a:pt x="437" y="194"/>
                  </a:lnTo>
                  <a:lnTo>
                    <a:pt x="437" y="194"/>
                  </a:lnTo>
                  <a:lnTo>
                    <a:pt x="421" y="211"/>
                  </a:lnTo>
                  <a:lnTo>
                    <a:pt x="421" y="211"/>
                  </a:lnTo>
                  <a:lnTo>
                    <a:pt x="405" y="211"/>
                  </a:lnTo>
                  <a:lnTo>
                    <a:pt x="405" y="194"/>
                  </a:lnTo>
                  <a:lnTo>
                    <a:pt x="388" y="194"/>
                  </a:lnTo>
                  <a:lnTo>
                    <a:pt x="372" y="194"/>
                  </a:lnTo>
                  <a:lnTo>
                    <a:pt x="356" y="178"/>
                  </a:lnTo>
                  <a:lnTo>
                    <a:pt x="356" y="178"/>
                  </a:lnTo>
                  <a:lnTo>
                    <a:pt x="356" y="162"/>
                  </a:lnTo>
                  <a:lnTo>
                    <a:pt x="340" y="146"/>
                  </a:lnTo>
                  <a:lnTo>
                    <a:pt x="307" y="146"/>
                  </a:lnTo>
                  <a:lnTo>
                    <a:pt x="307" y="146"/>
                  </a:lnTo>
                  <a:lnTo>
                    <a:pt x="307" y="146"/>
                  </a:lnTo>
                  <a:lnTo>
                    <a:pt x="307" y="130"/>
                  </a:lnTo>
                  <a:lnTo>
                    <a:pt x="291" y="130"/>
                  </a:lnTo>
                  <a:lnTo>
                    <a:pt x="291" y="113"/>
                  </a:lnTo>
                  <a:lnTo>
                    <a:pt x="291" y="113"/>
                  </a:lnTo>
                  <a:lnTo>
                    <a:pt x="275" y="113"/>
                  </a:lnTo>
                  <a:lnTo>
                    <a:pt x="275" y="97"/>
                  </a:lnTo>
                  <a:lnTo>
                    <a:pt x="275" y="113"/>
                  </a:lnTo>
                  <a:lnTo>
                    <a:pt x="275" y="97"/>
                  </a:lnTo>
                  <a:lnTo>
                    <a:pt x="275" y="97"/>
                  </a:lnTo>
                  <a:lnTo>
                    <a:pt x="275" y="97"/>
                  </a:lnTo>
                  <a:lnTo>
                    <a:pt x="259" y="97"/>
                  </a:lnTo>
                  <a:lnTo>
                    <a:pt x="259" y="97"/>
                  </a:lnTo>
                  <a:lnTo>
                    <a:pt x="243" y="97"/>
                  </a:lnTo>
                  <a:lnTo>
                    <a:pt x="210" y="81"/>
                  </a:lnTo>
                  <a:lnTo>
                    <a:pt x="210" y="97"/>
                  </a:lnTo>
                  <a:lnTo>
                    <a:pt x="194" y="97"/>
                  </a:lnTo>
                  <a:lnTo>
                    <a:pt x="178" y="97"/>
                  </a:lnTo>
                  <a:lnTo>
                    <a:pt x="178" y="113"/>
                  </a:lnTo>
                  <a:lnTo>
                    <a:pt x="178" y="113"/>
                  </a:lnTo>
                  <a:lnTo>
                    <a:pt x="178" y="113"/>
                  </a:lnTo>
                  <a:lnTo>
                    <a:pt x="178" y="130"/>
                  </a:lnTo>
                  <a:lnTo>
                    <a:pt x="146" y="130"/>
                  </a:lnTo>
                  <a:lnTo>
                    <a:pt x="129" y="130"/>
                  </a:lnTo>
                  <a:lnTo>
                    <a:pt x="129" y="113"/>
                  </a:lnTo>
                  <a:lnTo>
                    <a:pt x="129" y="113"/>
                  </a:lnTo>
                  <a:lnTo>
                    <a:pt x="129" y="113"/>
                  </a:lnTo>
                  <a:lnTo>
                    <a:pt x="113" y="130"/>
                  </a:lnTo>
                  <a:lnTo>
                    <a:pt x="113" y="130"/>
                  </a:lnTo>
                  <a:lnTo>
                    <a:pt x="97" y="162"/>
                  </a:lnTo>
                  <a:lnTo>
                    <a:pt x="81" y="146"/>
                  </a:lnTo>
                  <a:lnTo>
                    <a:pt x="48" y="194"/>
                  </a:lnTo>
                  <a:lnTo>
                    <a:pt x="16" y="227"/>
                  </a:lnTo>
                  <a:lnTo>
                    <a:pt x="0" y="113"/>
                  </a:lnTo>
                  <a:lnTo>
                    <a:pt x="16" y="113"/>
                  </a:lnTo>
                  <a:lnTo>
                    <a:pt x="97" y="97"/>
                  </a:lnTo>
                  <a:lnTo>
                    <a:pt x="113" y="97"/>
                  </a:lnTo>
                  <a:lnTo>
                    <a:pt x="178" y="81"/>
                  </a:lnTo>
                  <a:lnTo>
                    <a:pt x="194" y="81"/>
                  </a:lnTo>
                  <a:lnTo>
                    <a:pt x="227" y="65"/>
                  </a:lnTo>
                  <a:lnTo>
                    <a:pt x="324" y="49"/>
                  </a:lnTo>
                  <a:lnTo>
                    <a:pt x="340" y="49"/>
                  </a:lnTo>
                  <a:lnTo>
                    <a:pt x="372" y="49"/>
                  </a:lnTo>
                  <a:lnTo>
                    <a:pt x="405" y="33"/>
                  </a:lnTo>
                  <a:lnTo>
                    <a:pt x="437" y="33"/>
                  </a:lnTo>
                  <a:lnTo>
                    <a:pt x="485" y="16"/>
                  </a:lnTo>
                  <a:lnTo>
                    <a:pt x="534" y="16"/>
                  </a:lnTo>
                  <a:lnTo>
                    <a:pt x="550" y="0"/>
                  </a:lnTo>
                  <a:lnTo>
                    <a:pt x="599" y="0"/>
                  </a:lnTo>
                  <a:lnTo>
                    <a:pt x="631" y="65"/>
                  </a:lnTo>
                  <a:lnTo>
                    <a:pt x="631" y="81"/>
                  </a:lnTo>
                  <a:lnTo>
                    <a:pt x="631" y="97"/>
                  </a:lnTo>
                  <a:lnTo>
                    <a:pt x="647" y="113"/>
                  </a:lnTo>
                  <a:lnTo>
                    <a:pt x="663" y="178"/>
                  </a:lnTo>
                  <a:lnTo>
                    <a:pt x="663" y="227"/>
                  </a:lnTo>
                  <a:lnTo>
                    <a:pt x="680" y="243"/>
                  </a:lnTo>
                  <a:lnTo>
                    <a:pt x="680" y="259"/>
                  </a:lnTo>
                  <a:lnTo>
                    <a:pt x="744" y="259"/>
                  </a:lnTo>
                  <a:lnTo>
                    <a:pt x="777" y="243"/>
                  </a:lnTo>
                  <a:lnTo>
                    <a:pt x="777" y="259"/>
                  </a:lnTo>
                  <a:lnTo>
                    <a:pt x="777" y="291"/>
                  </a:lnTo>
                  <a:lnTo>
                    <a:pt x="761" y="308"/>
                  </a:lnTo>
                  <a:lnTo>
                    <a:pt x="761" y="324"/>
                  </a:lnTo>
                  <a:lnTo>
                    <a:pt x="761" y="324"/>
                  </a:lnTo>
                  <a:close/>
                  <a:moveTo>
                    <a:pt x="761" y="324"/>
                  </a:move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54840" y="2671560"/>
              <a:ext cx="368280" cy="209520"/>
            </a:xfrm>
            <a:custGeom>
              <a:avLst/>
              <a:gdLst/>
              <a:ahLst/>
              <a:rect l="l" t="t" r="r" b="b"/>
              <a:pathLst>
                <a:path w="598" h="340">
                  <a:moveTo>
                    <a:pt x="0" y="292"/>
                  </a:moveTo>
                  <a:lnTo>
                    <a:pt x="0" y="275"/>
                  </a:lnTo>
                  <a:lnTo>
                    <a:pt x="0" y="178"/>
                  </a:lnTo>
                  <a:lnTo>
                    <a:pt x="0" y="130"/>
                  </a:lnTo>
                  <a:lnTo>
                    <a:pt x="32" y="130"/>
                  </a:lnTo>
                  <a:lnTo>
                    <a:pt x="48" y="113"/>
                  </a:lnTo>
                  <a:lnTo>
                    <a:pt x="129" y="97"/>
                  </a:lnTo>
                  <a:lnTo>
                    <a:pt x="162" y="97"/>
                  </a:lnTo>
                  <a:lnTo>
                    <a:pt x="210" y="81"/>
                  </a:lnTo>
                  <a:lnTo>
                    <a:pt x="210" y="81"/>
                  </a:lnTo>
                  <a:lnTo>
                    <a:pt x="307" y="65"/>
                  </a:lnTo>
                  <a:lnTo>
                    <a:pt x="307" y="49"/>
                  </a:lnTo>
                  <a:lnTo>
                    <a:pt x="307" y="49"/>
                  </a:lnTo>
                  <a:lnTo>
                    <a:pt x="323" y="49"/>
                  </a:lnTo>
                  <a:lnTo>
                    <a:pt x="323" y="33"/>
                  </a:lnTo>
                  <a:lnTo>
                    <a:pt x="340" y="33"/>
                  </a:lnTo>
                  <a:lnTo>
                    <a:pt x="340" y="16"/>
                  </a:lnTo>
                  <a:lnTo>
                    <a:pt x="356" y="0"/>
                  </a:lnTo>
                  <a:lnTo>
                    <a:pt x="372" y="0"/>
                  </a:lnTo>
                  <a:lnTo>
                    <a:pt x="388" y="49"/>
                  </a:lnTo>
                  <a:lnTo>
                    <a:pt x="420" y="49"/>
                  </a:lnTo>
                  <a:lnTo>
                    <a:pt x="420" y="65"/>
                  </a:lnTo>
                  <a:lnTo>
                    <a:pt x="388" y="81"/>
                  </a:lnTo>
                  <a:lnTo>
                    <a:pt x="388" y="97"/>
                  </a:lnTo>
                  <a:lnTo>
                    <a:pt x="372" y="113"/>
                  </a:lnTo>
                  <a:lnTo>
                    <a:pt x="372" y="146"/>
                  </a:lnTo>
                  <a:lnTo>
                    <a:pt x="388" y="146"/>
                  </a:lnTo>
                  <a:lnTo>
                    <a:pt x="388" y="146"/>
                  </a:lnTo>
                  <a:lnTo>
                    <a:pt x="404" y="130"/>
                  </a:lnTo>
                  <a:lnTo>
                    <a:pt x="420" y="130"/>
                  </a:lnTo>
                  <a:lnTo>
                    <a:pt x="437" y="146"/>
                  </a:lnTo>
                  <a:lnTo>
                    <a:pt x="453" y="194"/>
                  </a:lnTo>
                  <a:lnTo>
                    <a:pt x="469" y="194"/>
                  </a:lnTo>
                  <a:lnTo>
                    <a:pt x="469" y="227"/>
                  </a:lnTo>
                  <a:lnTo>
                    <a:pt x="501" y="227"/>
                  </a:lnTo>
                  <a:lnTo>
                    <a:pt x="518" y="227"/>
                  </a:lnTo>
                  <a:lnTo>
                    <a:pt x="518" y="227"/>
                  </a:lnTo>
                  <a:lnTo>
                    <a:pt x="534" y="227"/>
                  </a:lnTo>
                  <a:lnTo>
                    <a:pt x="566" y="211"/>
                  </a:lnTo>
                  <a:lnTo>
                    <a:pt x="550" y="194"/>
                  </a:lnTo>
                  <a:lnTo>
                    <a:pt x="534" y="162"/>
                  </a:lnTo>
                  <a:lnTo>
                    <a:pt x="501" y="162"/>
                  </a:lnTo>
                  <a:lnTo>
                    <a:pt x="518" y="146"/>
                  </a:lnTo>
                  <a:lnTo>
                    <a:pt x="534" y="146"/>
                  </a:lnTo>
                  <a:lnTo>
                    <a:pt x="566" y="178"/>
                  </a:lnTo>
                  <a:lnTo>
                    <a:pt x="582" y="194"/>
                  </a:lnTo>
                  <a:lnTo>
                    <a:pt x="582" y="227"/>
                  </a:lnTo>
                  <a:lnTo>
                    <a:pt x="518" y="259"/>
                  </a:lnTo>
                  <a:lnTo>
                    <a:pt x="501" y="259"/>
                  </a:lnTo>
                  <a:lnTo>
                    <a:pt x="469" y="275"/>
                  </a:lnTo>
                  <a:lnTo>
                    <a:pt x="469" y="275"/>
                  </a:lnTo>
                  <a:lnTo>
                    <a:pt x="469" y="243"/>
                  </a:lnTo>
                  <a:lnTo>
                    <a:pt x="437" y="275"/>
                  </a:lnTo>
                  <a:lnTo>
                    <a:pt x="437" y="275"/>
                  </a:lnTo>
                  <a:lnTo>
                    <a:pt x="420" y="308"/>
                  </a:lnTo>
                  <a:lnTo>
                    <a:pt x="404" y="308"/>
                  </a:lnTo>
                  <a:lnTo>
                    <a:pt x="388" y="275"/>
                  </a:lnTo>
                  <a:lnTo>
                    <a:pt x="388" y="275"/>
                  </a:lnTo>
                  <a:lnTo>
                    <a:pt x="372" y="275"/>
                  </a:lnTo>
                  <a:lnTo>
                    <a:pt x="356" y="259"/>
                  </a:lnTo>
                  <a:lnTo>
                    <a:pt x="356" y="259"/>
                  </a:lnTo>
                  <a:lnTo>
                    <a:pt x="340" y="227"/>
                  </a:lnTo>
                  <a:lnTo>
                    <a:pt x="340" y="243"/>
                  </a:lnTo>
                  <a:lnTo>
                    <a:pt x="340" y="227"/>
                  </a:lnTo>
                  <a:lnTo>
                    <a:pt x="340" y="211"/>
                  </a:lnTo>
                  <a:lnTo>
                    <a:pt x="323" y="211"/>
                  </a:lnTo>
                  <a:lnTo>
                    <a:pt x="275" y="227"/>
                  </a:lnTo>
                  <a:lnTo>
                    <a:pt x="226" y="243"/>
                  </a:lnTo>
                  <a:lnTo>
                    <a:pt x="210" y="243"/>
                  </a:lnTo>
                  <a:lnTo>
                    <a:pt x="162" y="259"/>
                  </a:lnTo>
                  <a:lnTo>
                    <a:pt x="113" y="259"/>
                  </a:lnTo>
                  <a:lnTo>
                    <a:pt x="113" y="275"/>
                  </a:lnTo>
                  <a:lnTo>
                    <a:pt x="113" y="275"/>
                  </a:lnTo>
                  <a:lnTo>
                    <a:pt x="113" y="259"/>
                  </a:lnTo>
                  <a:lnTo>
                    <a:pt x="81" y="275"/>
                  </a:lnTo>
                  <a:lnTo>
                    <a:pt x="64" y="275"/>
                  </a:lnTo>
                  <a:lnTo>
                    <a:pt x="0" y="292"/>
                  </a:lnTo>
                  <a:lnTo>
                    <a:pt x="0" y="292"/>
                  </a:lnTo>
                  <a:close/>
                  <a:moveTo>
                    <a:pt x="582" y="308"/>
                  </a:moveTo>
                  <a:lnTo>
                    <a:pt x="582" y="292"/>
                  </a:lnTo>
                  <a:lnTo>
                    <a:pt x="582" y="292"/>
                  </a:lnTo>
                  <a:lnTo>
                    <a:pt x="582" y="308"/>
                  </a:lnTo>
                  <a:lnTo>
                    <a:pt x="582" y="292"/>
                  </a:lnTo>
                  <a:lnTo>
                    <a:pt x="582" y="292"/>
                  </a:lnTo>
                  <a:lnTo>
                    <a:pt x="598" y="308"/>
                  </a:lnTo>
                  <a:lnTo>
                    <a:pt x="598" y="308"/>
                  </a:lnTo>
                  <a:lnTo>
                    <a:pt x="582" y="324"/>
                  </a:lnTo>
                  <a:lnTo>
                    <a:pt x="566" y="324"/>
                  </a:lnTo>
                  <a:lnTo>
                    <a:pt x="566" y="308"/>
                  </a:lnTo>
                  <a:lnTo>
                    <a:pt x="582" y="308"/>
                  </a:lnTo>
                  <a:lnTo>
                    <a:pt x="582" y="308"/>
                  </a:lnTo>
                  <a:lnTo>
                    <a:pt x="582" y="308"/>
                  </a:lnTo>
                  <a:close/>
                  <a:moveTo>
                    <a:pt x="485" y="308"/>
                  </a:moveTo>
                  <a:lnTo>
                    <a:pt x="485" y="292"/>
                  </a:lnTo>
                  <a:lnTo>
                    <a:pt x="501" y="308"/>
                  </a:lnTo>
                  <a:lnTo>
                    <a:pt x="501" y="308"/>
                  </a:lnTo>
                  <a:lnTo>
                    <a:pt x="501" y="308"/>
                  </a:lnTo>
                  <a:lnTo>
                    <a:pt x="518" y="324"/>
                  </a:lnTo>
                  <a:lnTo>
                    <a:pt x="469" y="324"/>
                  </a:lnTo>
                  <a:lnTo>
                    <a:pt x="469" y="340"/>
                  </a:lnTo>
                  <a:lnTo>
                    <a:pt x="453" y="324"/>
                  </a:lnTo>
                  <a:lnTo>
                    <a:pt x="469" y="324"/>
                  </a:lnTo>
                  <a:lnTo>
                    <a:pt x="469" y="340"/>
                  </a:lnTo>
                  <a:lnTo>
                    <a:pt x="469" y="324"/>
                  </a:lnTo>
                  <a:lnTo>
                    <a:pt x="469" y="308"/>
                  </a:lnTo>
                  <a:lnTo>
                    <a:pt x="485" y="292"/>
                  </a:lnTo>
                  <a:lnTo>
                    <a:pt x="485" y="308"/>
                  </a:lnTo>
                  <a:lnTo>
                    <a:pt x="485" y="30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2840" y="2263680"/>
              <a:ext cx="804600" cy="846000"/>
            </a:xfrm>
            <a:custGeom>
              <a:avLst/>
              <a:gdLst/>
              <a:ahLst/>
              <a:rect l="l" t="t" r="r" b="b"/>
              <a:pathLst>
                <a:path w="1311" h="1375">
                  <a:moveTo>
                    <a:pt x="259" y="0"/>
                  </a:moveTo>
                  <a:lnTo>
                    <a:pt x="243" y="32"/>
                  </a:lnTo>
                  <a:lnTo>
                    <a:pt x="211" y="48"/>
                  </a:lnTo>
                  <a:lnTo>
                    <a:pt x="195" y="81"/>
                  </a:lnTo>
                  <a:lnTo>
                    <a:pt x="178" y="81"/>
                  </a:lnTo>
                  <a:lnTo>
                    <a:pt x="162" y="81"/>
                  </a:lnTo>
                  <a:lnTo>
                    <a:pt x="162" y="64"/>
                  </a:lnTo>
                  <a:lnTo>
                    <a:pt x="162" y="64"/>
                  </a:lnTo>
                  <a:lnTo>
                    <a:pt x="259" y="0"/>
                  </a:lnTo>
                  <a:lnTo>
                    <a:pt x="259" y="0"/>
                  </a:lnTo>
                  <a:close/>
                  <a:moveTo>
                    <a:pt x="276" y="194"/>
                  </a:moveTo>
                  <a:lnTo>
                    <a:pt x="292" y="178"/>
                  </a:lnTo>
                  <a:lnTo>
                    <a:pt x="324" y="145"/>
                  </a:lnTo>
                  <a:lnTo>
                    <a:pt x="373" y="145"/>
                  </a:lnTo>
                  <a:lnTo>
                    <a:pt x="389" y="145"/>
                  </a:lnTo>
                  <a:lnTo>
                    <a:pt x="389" y="161"/>
                  </a:lnTo>
                  <a:lnTo>
                    <a:pt x="356" y="161"/>
                  </a:lnTo>
                  <a:lnTo>
                    <a:pt x="324" y="21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59" y="226"/>
                  </a:lnTo>
                  <a:lnTo>
                    <a:pt x="259" y="194"/>
                  </a:lnTo>
                  <a:lnTo>
                    <a:pt x="276" y="194"/>
                  </a:lnTo>
                  <a:lnTo>
                    <a:pt x="276" y="194"/>
                  </a:lnTo>
                  <a:close/>
                  <a:moveTo>
                    <a:pt x="292" y="275"/>
                  </a:moveTo>
                  <a:lnTo>
                    <a:pt x="292" y="291"/>
                  </a:lnTo>
                  <a:lnTo>
                    <a:pt x="292" y="291"/>
                  </a:lnTo>
                  <a:lnTo>
                    <a:pt x="324" y="259"/>
                  </a:lnTo>
                  <a:lnTo>
                    <a:pt x="324" y="275"/>
                  </a:lnTo>
                  <a:lnTo>
                    <a:pt x="356" y="259"/>
                  </a:lnTo>
                  <a:lnTo>
                    <a:pt x="373" y="259"/>
                  </a:lnTo>
                  <a:lnTo>
                    <a:pt x="405" y="275"/>
                  </a:lnTo>
                  <a:lnTo>
                    <a:pt x="454" y="340"/>
                  </a:lnTo>
                  <a:lnTo>
                    <a:pt x="502" y="340"/>
                  </a:lnTo>
                  <a:lnTo>
                    <a:pt x="518" y="340"/>
                  </a:lnTo>
                  <a:lnTo>
                    <a:pt x="534" y="356"/>
                  </a:lnTo>
                  <a:lnTo>
                    <a:pt x="551" y="340"/>
                  </a:lnTo>
                  <a:lnTo>
                    <a:pt x="567" y="356"/>
                  </a:lnTo>
                  <a:lnTo>
                    <a:pt x="599" y="323"/>
                  </a:lnTo>
                  <a:lnTo>
                    <a:pt x="648" y="291"/>
                  </a:lnTo>
                  <a:lnTo>
                    <a:pt x="648" y="291"/>
                  </a:lnTo>
                  <a:lnTo>
                    <a:pt x="680" y="275"/>
                  </a:lnTo>
                  <a:lnTo>
                    <a:pt x="729" y="275"/>
                  </a:lnTo>
                  <a:lnTo>
                    <a:pt x="777" y="259"/>
                  </a:lnTo>
                  <a:lnTo>
                    <a:pt x="810" y="259"/>
                  </a:lnTo>
                  <a:lnTo>
                    <a:pt x="810" y="275"/>
                  </a:lnTo>
                  <a:lnTo>
                    <a:pt x="810" y="307"/>
                  </a:lnTo>
                  <a:lnTo>
                    <a:pt x="810" y="307"/>
                  </a:lnTo>
                  <a:lnTo>
                    <a:pt x="810" y="323"/>
                  </a:lnTo>
                  <a:lnTo>
                    <a:pt x="826" y="307"/>
                  </a:lnTo>
                  <a:lnTo>
                    <a:pt x="842" y="323"/>
                  </a:lnTo>
                  <a:lnTo>
                    <a:pt x="874" y="307"/>
                  </a:lnTo>
                  <a:lnTo>
                    <a:pt x="891" y="323"/>
                  </a:lnTo>
                  <a:lnTo>
                    <a:pt x="907" y="307"/>
                  </a:lnTo>
                  <a:lnTo>
                    <a:pt x="923" y="307"/>
                  </a:lnTo>
                  <a:lnTo>
                    <a:pt x="939" y="356"/>
                  </a:lnTo>
                  <a:lnTo>
                    <a:pt x="939" y="356"/>
                  </a:lnTo>
                  <a:lnTo>
                    <a:pt x="939" y="372"/>
                  </a:lnTo>
                  <a:lnTo>
                    <a:pt x="955" y="372"/>
                  </a:lnTo>
                  <a:lnTo>
                    <a:pt x="971" y="372"/>
                  </a:lnTo>
                  <a:lnTo>
                    <a:pt x="971" y="388"/>
                  </a:lnTo>
                  <a:lnTo>
                    <a:pt x="988" y="388"/>
                  </a:lnTo>
                  <a:lnTo>
                    <a:pt x="988" y="404"/>
                  </a:lnTo>
                  <a:lnTo>
                    <a:pt x="988" y="404"/>
                  </a:lnTo>
                  <a:lnTo>
                    <a:pt x="955" y="404"/>
                  </a:lnTo>
                  <a:lnTo>
                    <a:pt x="923" y="404"/>
                  </a:lnTo>
                  <a:lnTo>
                    <a:pt x="907" y="420"/>
                  </a:lnTo>
                  <a:lnTo>
                    <a:pt x="891" y="404"/>
                  </a:lnTo>
                  <a:lnTo>
                    <a:pt x="874" y="404"/>
                  </a:lnTo>
                  <a:lnTo>
                    <a:pt x="874" y="437"/>
                  </a:lnTo>
                  <a:lnTo>
                    <a:pt x="858" y="437"/>
                  </a:lnTo>
                  <a:lnTo>
                    <a:pt x="826" y="420"/>
                  </a:lnTo>
                  <a:lnTo>
                    <a:pt x="777" y="404"/>
                  </a:lnTo>
                  <a:lnTo>
                    <a:pt x="745" y="404"/>
                  </a:lnTo>
                  <a:lnTo>
                    <a:pt x="729" y="437"/>
                  </a:lnTo>
                  <a:lnTo>
                    <a:pt x="696" y="437"/>
                  </a:lnTo>
                  <a:lnTo>
                    <a:pt x="696" y="437"/>
                  </a:lnTo>
                  <a:lnTo>
                    <a:pt x="696" y="453"/>
                  </a:lnTo>
                  <a:lnTo>
                    <a:pt x="664" y="437"/>
                  </a:lnTo>
                  <a:lnTo>
                    <a:pt x="632" y="453"/>
                  </a:lnTo>
                  <a:lnTo>
                    <a:pt x="632" y="453"/>
                  </a:lnTo>
                  <a:lnTo>
                    <a:pt x="632" y="469"/>
                  </a:lnTo>
                  <a:lnTo>
                    <a:pt x="615" y="501"/>
                  </a:lnTo>
                  <a:lnTo>
                    <a:pt x="599" y="501"/>
                  </a:lnTo>
                  <a:lnTo>
                    <a:pt x="599" y="501"/>
                  </a:lnTo>
                  <a:lnTo>
                    <a:pt x="599" y="501"/>
                  </a:lnTo>
                  <a:lnTo>
                    <a:pt x="583" y="534"/>
                  </a:lnTo>
                  <a:lnTo>
                    <a:pt x="583" y="518"/>
                  </a:lnTo>
                  <a:lnTo>
                    <a:pt x="583" y="518"/>
                  </a:lnTo>
                  <a:lnTo>
                    <a:pt x="599" y="485"/>
                  </a:lnTo>
                  <a:lnTo>
                    <a:pt x="567" y="485"/>
                  </a:lnTo>
                  <a:lnTo>
                    <a:pt x="551" y="518"/>
                  </a:lnTo>
                  <a:lnTo>
                    <a:pt x="518" y="518"/>
                  </a:lnTo>
                  <a:lnTo>
                    <a:pt x="502" y="550"/>
                  </a:lnTo>
                  <a:lnTo>
                    <a:pt x="486" y="582"/>
                  </a:lnTo>
                  <a:lnTo>
                    <a:pt x="454" y="647"/>
                  </a:lnTo>
                  <a:lnTo>
                    <a:pt x="454" y="647"/>
                  </a:lnTo>
                  <a:lnTo>
                    <a:pt x="437" y="647"/>
                  </a:lnTo>
                  <a:lnTo>
                    <a:pt x="437" y="631"/>
                  </a:lnTo>
                  <a:lnTo>
                    <a:pt x="437" y="598"/>
                  </a:lnTo>
                  <a:lnTo>
                    <a:pt x="437" y="598"/>
                  </a:lnTo>
                  <a:lnTo>
                    <a:pt x="421" y="598"/>
                  </a:lnTo>
                  <a:lnTo>
                    <a:pt x="405" y="598"/>
                  </a:lnTo>
                  <a:lnTo>
                    <a:pt x="405" y="598"/>
                  </a:lnTo>
                  <a:lnTo>
                    <a:pt x="405" y="582"/>
                  </a:lnTo>
                  <a:lnTo>
                    <a:pt x="421" y="566"/>
                  </a:lnTo>
                  <a:lnTo>
                    <a:pt x="405" y="550"/>
                  </a:lnTo>
                  <a:lnTo>
                    <a:pt x="421" y="550"/>
                  </a:lnTo>
                  <a:lnTo>
                    <a:pt x="421" y="550"/>
                  </a:lnTo>
                  <a:lnTo>
                    <a:pt x="405" y="534"/>
                  </a:lnTo>
                  <a:lnTo>
                    <a:pt x="421" y="534"/>
                  </a:lnTo>
                  <a:lnTo>
                    <a:pt x="405" y="518"/>
                  </a:lnTo>
                  <a:lnTo>
                    <a:pt x="373" y="501"/>
                  </a:lnTo>
                  <a:lnTo>
                    <a:pt x="373" y="518"/>
                  </a:lnTo>
                  <a:lnTo>
                    <a:pt x="356" y="501"/>
                  </a:lnTo>
                  <a:lnTo>
                    <a:pt x="373" y="485"/>
                  </a:lnTo>
                  <a:lnTo>
                    <a:pt x="356" y="485"/>
                  </a:lnTo>
                  <a:lnTo>
                    <a:pt x="324" y="469"/>
                  </a:lnTo>
                  <a:lnTo>
                    <a:pt x="292" y="469"/>
                  </a:lnTo>
                  <a:lnTo>
                    <a:pt x="276" y="469"/>
                  </a:lnTo>
                  <a:lnTo>
                    <a:pt x="276" y="469"/>
                  </a:lnTo>
                  <a:lnTo>
                    <a:pt x="259" y="469"/>
                  </a:lnTo>
                  <a:lnTo>
                    <a:pt x="227" y="453"/>
                  </a:lnTo>
                  <a:lnTo>
                    <a:pt x="227" y="453"/>
                  </a:lnTo>
                  <a:lnTo>
                    <a:pt x="81" y="420"/>
                  </a:lnTo>
                  <a:lnTo>
                    <a:pt x="49" y="420"/>
                  </a:lnTo>
                  <a:lnTo>
                    <a:pt x="33" y="372"/>
                  </a:lnTo>
                  <a:lnTo>
                    <a:pt x="17" y="372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65" y="340"/>
                  </a:lnTo>
                  <a:lnTo>
                    <a:pt x="81" y="323"/>
                  </a:lnTo>
                  <a:lnTo>
                    <a:pt x="98" y="307"/>
                  </a:lnTo>
                  <a:lnTo>
                    <a:pt x="146" y="291"/>
                  </a:lnTo>
                  <a:lnTo>
                    <a:pt x="178" y="275"/>
                  </a:lnTo>
                  <a:lnTo>
                    <a:pt x="195" y="259"/>
                  </a:lnTo>
                  <a:lnTo>
                    <a:pt x="211" y="259"/>
                  </a:lnTo>
                  <a:lnTo>
                    <a:pt x="211" y="259"/>
                  </a:lnTo>
                  <a:lnTo>
                    <a:pt x="227" y="242"/>
                  </a:lnTo>
                  <a:lnTo>
                    <a:pt x="259" y="210"/>
                  </a:lnTo>
                  <a:lnTo>
                    <a:pt x="259" y="226"/>
                  </a:lnTo>
                  <a:lnTo>
                    <a:pt x="276" y="226"/>
                  </a:lnTo>
                  <a:lnTo>
                    <a:pt x="276" y="242"/>
                  </a:lnTo>
                  <a:lnTo>
                    <a:pt x="292" y="259"/>
                  </a:lnTo>
                  <a:lnTo>
                    <a:pt x="292" y="275"/>
                  </a:lnTo>
                  <a:lnTo>
                    <a:pt x="292" y="275"/>
                  </a:lnTo>
                  <a:close/>
                  <a:moveTo>
                    <a:pt x="1004" y="388"/>
                  </a:moveTo>
                  <a:lnTo>
                    <a:pt x="1004" y="404"/>
                  </a:lnTo>
                  <a:lnTo>
                    <a:pt x="1020" y="388"/>
                  </a:lnTo>
                  <a:lnTo>
                    <a:pt x="1020" y="388"/>
                  </a:lnTo>
                  <a:lnTo>
                    <a:pt x="1020" y="372"/>
                  </a:lnTo>
                  <a:lnTo>
                    <a:pt x="1020" y="372"/>
                  </a:lnTo>
                  <a:lnTo>
                    <a:pt x="1036" y="372"/>
                  </a:lnTo>
                  <a:lnTo>
                    <a:pt x="1036" y="372"/>
                  </a:lnTo>
                  <a:lnTo>
                    <a:pt x="1052" y="388"/>
                  </a:lnTo>
                  <a:lnTo>
                    <a:pt x="1052" y="388"/>
                  </a:lnTo>
                  <a:lnTo>
                    <a:pt x="1052" y="404"/>
                  </a:lnTo>
                  <a:lnTo>
                    <a:pt x="1052" y="404"/>
                  </a:lnTo>
                  <a:lnTo>
                    <a:pt x="1036" y="404"/>
                  </a:lnTo>
                  <a:lnTo>
                    <a:pt x="1004" y="404"/>
                  </a:lnTo>
                  <a:lnTo>
                    <a:pt x="1004" y="404"/>
                  </a:lnTo>
                  <a:lnTo>
                    <a:pt x="1004" y="404"/>
                  </a:lnTo>
                  <a:lnTo>
                    <a:pt x="1004" y="388"/>
                  </a:lnTo>
                  <a:lnTo>
                    <a:pt x="1004" y="388"/>
                  </a:lnTo>
                  <a:close/>
                  <a:moveTo>
                    <a:pt x="1101" y="793"/>
                  </a:moveTo>
                  <a:lnTo>
                    <a:pt x="1101" y="809"/>
                  </a:lnTo>
                  <a:lnTo>
                    <a:pt x="1085" y="825"/>
                  </a:lnTo>
                  <a:lnTo>
                    <a:pt x="1052" y="841"/>
                  </a:lnTo>
                  <a:lnTo>
                    <a:pt x="1052" y="841"/>
                  </a:lnTo>
                  <a:lnTo>
                    <a:pt x="1052" y="890"/>
                  </a:lnTo>
                  <a:lnTo>
                    <a:pt x="1085" y="906"/>
                  </a:lnTo>
                  <a:lnTo>
                    <a:pt x="1101" y="906"/>
                  </a:lnTo>
                  <a:lnTo>
                    <a:pt x="1117" y="890"/>
                  </a:lnTo>
                  <a:lnTo>
                    <a:pt x="1117" y="890"/>
                  </a:lnTo>
                  <a:lnTo>
                    <a:pt x="1117" y="874"/>
                  </a:lnTo>
                  <a:lnTo>
                    <a:pt x="1133" y="857"/>
                  </a:lnTo>
                  <a:lnTo>
                    <a:pt x="1133" y="825"/>
                  </a:lnTo>
                  <a:lnTo>
                    <a:pt x="1198" y="793"/>
                  </a:lnTo>
                  <a:lnTo>
                    <a:pt x="1214" y="793"/>
                  </a:lnTo>
                  <a:lnTo>
                    <a:pt x="1230" y="809"/>
                  </a:lnTo>
                  <a:lnTo>
                    <a:pt x="1263" y="857"/>
                  </a:lnTo>
                  <a:lnTo>
                    <a:pt x="1263" y="874"/>
                  </a:lnTo>
                  <a:lnTo>
                    <a:pt x="1295" y="987"/>
                  </a:lnTo>
                  <a:lnTo>
                    <a:pt x="1311" y="1019"/>
                  </a:lnTo>
                  <a:lnTo>
                    <a:pt x="1311" y="1035"/>
                  </a:lnTo>
                  <a:lnTo>
                    <a:pt x="1311" y="1068"/>
                  </a:lnTo>
                  <a:lnTo>
                    <a:pt x="1311" y="1100"/>
                  </a:lnTo>
                  <a:lnTo>
                    <a:pt x="1279" y="1100"/>
                  </a:lnTo>
                  <a:lnTo>
                    <a:pt x="1295" y="1100"/>
                  </a:lnTo>
                  <a:lnTo>
                    <a:pt x="1279" y="1084"/>
                  </a:lnTo>
                  <a:lnTo>
                    <a:pt x="1263" y="1100"/>
                  </a:lnTo>
                  <a:lnTo>
                    <a:pt x="1263" y="1116"/>
                  </a:lnTo>
                  <a:lnTo>
                    <a:pt x="1247" y="1133"/>
                  </a:lnTo>
                  <a:lnTo>
                    <a:pt x="1263" y="1149"/>
                  </a:lnTo>
                  <a:lnTo>
                    <a:pt x="1247" y="1165"/>
                  </a:lnTo>
                  <a:lnTo>
                    <a:pt x="1230" y="1181"/>
                  </a:lnTo>
                  <a:lnTo>
                    <a:pt x="1214" y="1230"/>
                  </a:lnTo>
                  <a:lnTo>
                    <a:pt x="1214" y="1246"/>
                  </a:lnTo>
                  <a:lnTo>
                    <a:pt x="1182" y="1311"/>
                  </a:lnTo>
                  <a:lnTo>
                    <a:pt x="1133" y="1327"/>
                  </a:lnTo>
                  <a:lnTo>
                    <a:pt x="1117" y="1327"/>
                  </a:lnTo>
                  <a:lnTo>
                    <a:pt x="1036" y="1343"/>
                  </a:lnTo>
                  <a:lnTo>
                    <a:pt x="1036" y="1343"/>
                  </a:lnTo>
                  <a:lnTo>
                    <a:pt x="971" y="1343"/>
                  </a:lnTo>
                  <a:lnTo>
                    <a:pt x="971" y="1327"/>
                  </a:lnTo>
                  <a:lnTo>
                    <a:pt x="971" y="1343"/>
                  </a:lnTo>
                  <a:lnTo>
                    <a:pt x="907" y="1343"/>
                  </a:lnTo>
                  <a:lnTo>
                    <a:pt x="891" y="1343"/>
                  </a:lnTo>
                  <a:lnTo>
                    <a:pt x="826" y="1343"/>
                  </a:lnTo>
                  <a:lnTo>
                    <a:pt x="810" y="1359"/>
                  </a:lnTo>
                  <a:lnTo>
                    <a:pt x="761" y="1359"/>
                  </a:lnTo>
                  <a:lnTo>
                    <a:pt x="745" y="1359"/>
                  </a:lnTo>
                  <a:lnTo>
                    <a:pt x="696" y="1359"/>
                  </a:lnTo>
                  <a:lnTo>
                    <a:pt x="648" y="1375"/>
                  </a:lnTo>
                  <a:lnTo>
                    <a:pt x="680" y="1327"/>
                  </a:lnTo>
                  <a:lnTo>
                    <a:pt x="680" y="1278"/>
                  </a:lnTo>
                  <a:lnTo>
                    <a:pt x="696" y="1262"/>
                  </a:lnTo>
                  <a:lnTo>
                    <a:pt x="713" y="1213"/>
                  </a:lnTo>
                  <a:lnTo>
                    <a:pt x="713" y="1133"/>
                  </a:lnTo>
                  <a:lnTo>
                    <a:pt x="696" y="1068"/>
                  </a:lnTo>
                  <a:lnTo>
                    <a:pt x="664" y="987"/>
                  </a:lnTo>
                  <a:lnTo>
                    <a:pt x="648" y="955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48" y="890"/>
                  </a:lnTo>
                  <a:lnTo>
                    <a:pt x="664" y="890"/>
                  </a:lnTo>
                  <a:lnTo>
                    <a:pt x="648" y="857"/>
                  </a:lnTo>
                  <a:lnTo>
                    <a:pt x="664" y="841"/>
                  </a:lnTo>
                  <a:lnTo>
                    <a:pt x="680" y="793"/>
                  </a:lnTo>
                  <a:lnTo>
                    <a:pt x="680" y="760"/>
                  </a:lnTo>
                  <a:lnTo>
                    <a:pt x="664" y="728"/>
                  </a:lnTo>
                  <a:lnTo>
                    <a:pt x="696" y="712"/>
                  </a:lnTo>
                  <a:lnTo>
                    <a:pt x="696" y="696"/>
                  </a:lnTo>
                  <a:lnTo>
                    <a:pt x="696" y="679"/>
                  </a:lnTo>
                  <a:lnTo>
                    <a:pt x="696" y="679"/>
                  </a:lnTo>
                  <a:lnTo>
                    <a:pt x="729" y="647"/>
                  </a:lnTo>
                  <a:lnTo>
                    <a:pt x="761" y="598"/>
                  </a:lnTo>
                  <a:lnTo>
                    <a:pt x="761" y="598"/>
                  </a:lnTo>
                  <a:lnTo>
                    <a:pt x="761" y="647"/>
                  </a:lnTo>
                  <a:lnTo>
                    <a:pt x="761" y="696"/>
                  </a:lnTo>
                  <a:lnTo>
                    <a:pt x="777" y="696"/>
                  </a:lnTo>
                  <a:lnTo>
                    <a:pt x="793" y="679"/>
                  </a:lnTo>
                  <a:lnTo>
                    <a:pt x="793" y="631"/>
                  </a:lnTo>
                  <a:lnTo>
                    <a:pt x="793" y="598"/>
                  </a:lnTo>
                  <a:lnTo>
                    <a:pt x="793" y="582"/>
                  </a:lnTo>
                  <a:lnTo>
                    <a:pt x="793" y="566"/>
                  </a:lnTo>
                  <a:lnTo>
                    <a:pt x="826" y="550"/>
                  </a:lnTo>
                  <a:lnTo>
                    <a:pt x="842" y="550"/>
                  </a:lnTo>
                  <a:lnTo>
                    <a:pt x="858" y="550"/>
                  </a:lnTo>
                  <a:lnTo>
                    <a:pt x="826" y="534"/>
                  </a:lnTo>
                  <a:lnTo>
                    <a:pt x="826" y="518"/>
                  </a:lnTo>
                  <a:lnTo>
                    <a:pt x="826" y="501"/>
                  </a:lnTo>
                  <a:lnTo>
                    <a:pt x="842" y="485"/>
                  </a:lnTo>
                  <a:lnTo>
                    <a:pt x="842" y="469"/>
                  </a:lnTo>
                  <a:lnTo>
                    <a:pt x="874" y="453"/>
                  </a:lnTo>
                  <a:lnTo>
                    <a:pt x="923" y="485"/>
                  </a:lnTo>
                  <a:lnTo>
                    <a:pt x="939" y="485"/>
                  </a:lnTo>
                  <a:lnTo>
                    <a:pt x="955" y="485"/>
                  </a:lnTo>
                  <a:lnTo>
                    <a:pt x="971" y="501"/>
                  </a:lnTo>
                  <a:lnTo>
                    <a:pt x="971" y="518"/>
                  </a:lnTo>
                  <a:lnTo>
                    <a:pt x="1004" y="501"/>
                  </a:lnTo>
                  <a:lnTo>
                    <a:pt x="1036" y="518"/>
                  </a:lnTo>
                  <a:lnTo>
                    <a:pt x="1036" y="518"/>
                  </a:lnTo>
                  <a:lnTo>
                    <a:pt x="1052" y="534"/>
                  </a:lnTo>
                  <a:lnTo>
                    <a:pt x="1069" y="534"/>
                  </a:lnTo>
                  <a:lnTo>
                    <a:pt x="1069" y="534"/>
                  </a:lnTo>
                  <a:lnTo>
                    <a:pt x="1085" y="550"/>
                  </a:lnTo>
                  <a:lnTo>
                    <a:pt x="1085" y="550"/>
                  </a:lnTo>
                  <a:lnTo>
                    <a:pt x="1101" y="550"/>
                  </a:lnTo>
                  <a:lnTo>
                    <a:pt x="1117" y="582"/>
                  </a:lnTo>
                  <a:lnTo>
                    <a:pt x="1085" y="598"/>
                  </a:lnTo>
                  <a:lnTo>
                    <a:pt x="1101" y="598"/>
                  </a:lnTo>
                  <a:lnTo>
                    <a:pt x="1085" y="598"/>
                  </a:lnTo>
                  <a:lnTo>
                    <a:pt x="1101" y="615"/>
                  </a:lnTo>
                  <a:lnTo>
                    <a:pt x="1117" y="631"/>
                  </a:lnTo>
                  <a:lnTo>
                    <a:pt x="1133" y="663"/>
                  </a:lnTo>
                  <a:lnTo>
                    <a:pt x="1133" y="712"/>
                  </a:lnTo>
                  <a:lnTo>
                    <a:pt x="1117" y="744"/>
                  </a:lnTo>
                  <a:lnTo>
                    <a:pt x="1101" y="760"/>
                  </a:lnTo>
                  <a:lnTo>
                    <a:pt x="1101" y="793"/>
                  </a:lnTo>
                  <a:lnTo>
                    <a:pt x="1101" y="7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36960" y="2950920"/>
              <a:ext cx="876600" cy="438120"/>
            </a:xfrm>
            <a:custGeom>
              <a:avLst/>
              <a:gdLst/>
              <a:ahLst/>
              <a:rect l="l" t="t" r="r" b="b"/>
              <a:pathLst>
                <a:path w="1424" h="712">
                  <a:moveTo>
                    <a:pt x="307" y="680"/>
                  </a:moveTo>
                  <a:lnTo>
                    <a:pt x="307" y="599"/>
                  </a:lnTo>
                  <a:lnTo>
                    <a:pt x="307" y="583"/>
                  </a:lnTo>
                  <a:lnTo>
                    <a:pt x="324" y="534"/>
                  </a:lnTo>
                  <a:lnTo>
                    <a:pt x="324" y="518"/>
                  </a:lnTo>
                  <a:lnTo>
                    <a:pt x="324" y="454"/>
                  </a:lnTo>
                  <a:lnTo>
                    <a:pt x="227" y="454"/>
                  </a:lnTo>
                  <a:lnTo>
                    <a:pt x="227" y="454"/>
                  </a:lnTo>
                  <a:lnTo>
                    <a:pt x="97" y="454"/>
                  </a:lnTo>
                  <a:lnTo>
                    <a:pt x="81" y="437"/>
                  </a:lnTo>
                  <a:lnTo>
                    <a:pt x="0" y="437"/>
                  </a:lnTo>
                  <a:lnTo>
                    <a:pt x="0" y="356"/>
                  </a:lnTo>
                  <a:lnTo>
                    <a:pt x="0" y="308"/>
                  </a:lnTo>
                  <a:lnTo>
                    <a:pt x="16" y="292"/>
                  </a:lnTo>
                  <a:lnTo>
                    <a:pt x="16" y="211"/>
                  </a:lnTo>
                  <a:lnTo>
                    <a:pt x="32" y="81"/>
                  </a:lnTo>
                  <a:lnTo>
                    <a:pt x="32" y="0"/>
                  </a:lnTo>
                  <a:lnTo>
                    <a:pt x="113" y="0"/>
                  </a:lnTo>
                  <a:lnTo>
                    <a:pt x="194" y="17"/>
                  </a:lnTo>
                  <a:lnTo>
                    <a:pt x="227" y="17"/>
                  </a:lnTo>
                  <a:lnTo>
                    <a:pt x="340" y="33"/>
                  </a:lnTo>
                  <a:lnTo>
                    <a:pt x="485" y="33"/>
                  </a:lnTo>
                  <a:lnTo>
                    <a:pt x="647" y="49"/>
                  </a:lnTo>
                  <a:lnTo>
                    <a:pt x="744" y="49"/>
                  </a:lnTo>
                  <a:lnTo>
                    <a:pt x="793" y="49"/>
                  </a:lnTo>
                  <a:lnTo>
                    <a:pt x="922" y="49"/>
                  </a:lnTo>
                  <a:lnTo>
                    <a:pt x="922" y="65"/>
                  </a:lnTo>
                  <a:lnTo>
                    <a:pt x="939" y="81"/>
                  </a:lnTo>
                  <a:lnTo>
                    <a:pt x="971" y="81"/>
                  </a:lnTo>
                  <a:lnTo>
                    <a:pt x="987" y="97"/>
                  </a:lnTo>
                  <a:lnTo>
                    <a:pt x="1003" y="97"/>
                  </a:lnTo>
                  <a:lnTo>
                    <a:pt x="1003" y="81"/>
                  </a:lnTo>
                  <a:lnTo>
                    <a:pt x="1036" y="81"/>
                  </a:lnTo>
                  <a:lnTo>
                    <a:pt x="1052" y="81"/>
                  </a:lnTo>
                  <a:lnTo>
                    <a:pt x="1068" y="81"/>
                  </a:lnTo>
                  <a:lnTo>
                    <a:pt x="1117" y="81"/>
                  </a:lnTo>
                  <a:lnTo>
                    <a:pt x="1133" y="97"/>
                  </a:lnTo>
                  <a:lnTo>
                    <a:pt x="1149" y="114"/>
                  </a:lnTo>
                  <a:lnTo>
                    <a:pt x="1149" y="114"/>
                  </a:lnTo>
                  <a:lnTo>
                    <a:pt x="1149" y="114"/>
                  </a:lnTo>
                  <a:lnTo>
                    <a:pt x="1181" y="114"/>
                  </a:lnTo>
                  <a:lnTo>
                    <a:pt x="1181" y="130"/>
                  </a:lnTo>
                  <a:lnTo>
                    <a:pt x="1198" y="130"/>
                  </a:lnTo>
                  <a:lnTo>
                    <a:pt x="1198" y="146"/>
                  </a:lnTo>
                  <a:lnTo>
                    <a:pt x="1214" y="162"/>
                  </a:lnTo>
                  <a:lnTo>
                    <a:pt x="1246" y="162"/>
                  </a:lnTo>
                  <a:lnTo>
                    <a:pt x="1246" y="178"/>
                  </a:lnTo>
                  <a:lnTo>
                    <a:pt x="1246" y="195"/>
                  </a:lnTo>
                  <a:lnTo>
                    <a:pt x="1262" y="211"/>
                  </a:lnTo>
                  <a:lnTo>
                    <a:pt x="1262" y="227"/>
                  </a:lnTo>
                  <a:lnTo>
                    <a:pt x="1246" y="227"/>
                  </a:lnTo>
                  <a:lnTo>
                    <a:pt x="1262" y="243"/>
                  </a:lnTo>
                  <a:lnTo>
                    <a:pt x="1262" y="243"/>
                  </a:lnTo>
                  <a:lnTo>
                    <a:pt x="1262" y="259"/>
                  </a:lnTo>
                  <a:lnTo>
                    <a:pt x="1278" y="275"/>
                  </a:lnTo>
                  <a:lnTo>
                    <a:pt x="1295" y="275"/>
                  </a:lnTo>
                  <a:lnTo>
                    <a:pt x="1295" y="308"/>
                  </a:lnTo>
                  <a:lnTo>
                    <a:pt x="1295" y="324"/>
                  </a:lnTo>
                  <a:lnTo>
                    <a:pt x="1295" y="340"/>
                  </a:lnTo>
                  <a:lnTo>
                    <a:pt x="1295" y="340"/>
                  </a:lnTo>
                  <a:lnTo>
                    <a:pt x="1295" y="373"/>
                  </a:lnTo>
                  <a:lnTo>
                    <a:pt x="1311" y="373"/>
                  </a:lnTo>
                  <a:lnTo>
                    <a:pt x="1311" y="373"/>
                  </a:lnTo>
                  <a:lnTo>
                    <a:pt x="1311" y="389"/>
                  </a:lnTo>
                  <a:lnTo>
                    <a:pt x="1327" y="389"/>
                  </a:lnTo>
                  <a:lnTo>
                    <a:pt x="1327" y="405"/>
                  </a:lnTo>
                  <a:lnTo>
                    <a:pt x="1327" y="421"/>
                  </a:lnTo>
                  <a:lnTo>
                    <a:pt x="1327" y="421"/>
                  </a:lnTo>
                  <a:lnTo>
                    <a:pt x="1327" y="421"/>
                  </a:lnTo>
                  <a:lnTo>
                    <a:pt x="1327" y="454"/>
                  </a:lnTo>
                  <a:lnTo>
                    <a:pt x="1327" y="454"/>
                  </a:lnTo>
                  <a:lnTo>
                    <a:pt x="1327" y="454"/>
                  </a:lnTo>
                  <a:lnTo>
                    <a:pt x="1327" y="486"/>
                  </a:lnTo>
                  <a:lnTo>
                    <a:pt x="1343" y="518"/>
                  </a:lnTo>
                  <a:lnTo>
                    <a:pt x="1343" y="534"/>
                  </a:lnTo>
                  <a:lnTo>
                    <a:pt x="1327" y="551"/>
                  </a:lnTo>
                  <a:lnTo>
                    <a:pt x="1343" y="567"/>
                  </a:lnTo>
                  <a:lnTo>
                    <a:pt x="1343" y="583"/>
                  </a:lnTo>
                  <a:lnTo>
                    <a:pt x="1359" y="599"/>
                  </a:lnTo>
                  <a:lnTo>
                    <a:pt x="1359" y="599"/>
                  </a:lnTo>
                  <a:lnTo>
                    <a:pt x="1359" y="583"/>
                  </a:lnTo>
                  <a:lnTo>
                    <a:pt x="1359" y="583"/>
                  </a:lnTo>
                  <a:lnTo>
                    <a:pt x="1359" y="599"/>
                  </a:lnTo>
                  <a:lnTo>
                    <a:pt x="1376" y="632"/>
                  </a:lnTo>
                  <a:lnTo>
                    <a:pt x="1376" y="648"/>
                  </a:lnTo>
                  <a:lnTo>
                    <a:pt x="1376" y="648"/>
                  </a:lnTo>
                  <a:lnTo>
                    <a:pt x="1392" y="648"/>
                  </a:lnTo>
                  <a:lnTo>
                    <a:pt x="1392" y="664"/>
                  </a:lnTo>
                  <a:lnTo>
                    <a:pt x="1408" y="680"/>
                  </a:lnTo>
                  <a:lnTo>
                    <a:pt x="1408" y="696"/>
                  </a:lnTo>
                  <a:lnTo>
                    <a:pt x="1424" y="712"/>
                  </a:lnTo>
                  <a:lnTo>
                    <a:pt x="1424" y="712"/>
                  </a:lnTo>
                  <a:lnTo>
                    <a:pt x="1343" y="712"/>
                  </a:lnTo>
                  <a:lnTo>
                    <a:pt x="1311" y="712"/>
                  </a:lnTo>
                  <a:lnTo>
                    <a:pt x="1278" y="712"/>
                  </a:lnTo>
                  <a:lnTo>
                    <a:pt x="1230" y="712"/>
                  </a:lnTo>
                  <a:lnTo>
                    <a:pt x="1181" y="712"/>
                  </a:lnTo>
                  <a:lnTo>
                    <a:pt x="1165" y="712"/>
                  </a:lnTo>
                  <a:lnTo>
                    <a:pt x="1084" y="712"/>
                  </a:lnTo>
                  <a:lnTo>
                    <a:pt x="1003" y="712"/>
                  </a:lnTo>
                  <a:lnTo>
                    <a:pt x="987" y="712"/>
                  </a:lnTo>
                  <a:lnTo>
                    <a:pt x="939" y="712"/>
                  </a:lnTo>
                  <a:lnTo>
                    <a:pt x="890" y="712"/>
                  </a:lnTo>
                  <a:lnTo>
                    <a:pt x="858" y="712"/>
                  </a:lnTo>
                  <a:lnTo>
                    <a:pt x="809" y="696"/>
                  </a:lnTo>
                  <a:lnTo>
                    <a:pt x="777" y="696"/>
                  </a:lnTo>
                  <a:lnTo>
                    <a:pt x="712" y="696"/>
                  </a:lnTo>
                  <a:lnTo>
                    <a:pt x="615" y="696"/>
                  </a:lnTo>
                  <a:lnTo>
                    <a:pt x="615" y="696"/>
                  </a:lnTo>
                  <a:lnTo>
                    <a:pt x="534" y="696"/>
                  </a:lnTo>
                  <a:lnTo>
                    <a:pt x="518" y="696"/>
                  </a:lnTo>
                  <a:lnTo>
                    <a:pt x="437" y="680"/>
                  </a:lnTo>
                  <a:lnTo>
                    <a:pt x="421" y="680"/>
                  </a:lnTo>
                  <a:lnTo>
                    <a:pt x="307" y="68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4560" y="2820960"/>
              <a:ext cx="677880" cy="1046160"/>
            </a:xfrm>
            <a:custGeom>
              <a:avLst/>
              <a:gdLst/>
              <a:ahLst/>
              <a:rect l="l" t="t" r="r" b="b"/>
              <a:pathLst>
                <a:path w="1101" h="1699">
                  <a:moveTo>
                    <a:pt x="211" y="939"/>
                  </a:moveTo>
                  <a:lnTo>
                    <a:pt x="114" y="793"/>
                  </a:lnTo>
                  <a:lnTo>
                    <a:pt x="98" y="761"/>
                  </a:lnTo>
                  <a:lnTo>
                    <a:pt x="49" y="712"/>
                  </a:lnTo>
                  <a:lnTo>
                    <a:pt x="17" y="664"/>
                  </a:lnTo>
                  <a:lnTo>
                    <a:pt x="0" y="631"/>
                  </a:lnTo>
                  <a:lnTo>
                    <a:pt x="0" y="615"/>
                  </a:lnTo>
                  <a:lnTo>
                    <a:pt x="17" y="615"/>
                  </a:lnTo>
                  <a:lnTo>
                    <a:pt x="17" y="599"/>
                  </a:lnTo>
                  <a:lnTo>
                    <a:pt x="17" y="566"/>
                  </a:lnTo>
                  <a:lnTo>
                    <a:pt x="33" y="534"/>
                  </a:lnTo>
                  <a:lnTo>
                    <a:pt x="49" y="485"/>
                  </a:lnTo>
                  <a:lnTo>
                    <a:pt x="130" y="178"/>
                  </a:lnTo>
                  <a:lnTo>
                    <a:pt x="162" y="0"/>
                  </a:lnTo>
                  <a:lnTo>
                    <a:pt x="276" y="32"/>
                  </a:lnTo>
                  <a:lnTo>
                    <a:pt x="276" y="32"/>
                  </a:lnTo>
                  <a:lnTo>
                    <a:pt x="454" y="65"/>
                  </a:lnTo>
                  <a:lnTo>
                    <a:pt x="632" y="113"/>
                  </a:lnTo>
                  <a:lnTo>
                    <a:pt x="648" y="113"/>
                  </a:lnTo>
                  <a:lnTo>
                    <a:pt x="955" y="178"/>
                  </a:lnTo>
                  <a:lnTo>
                    <a:pt x="1069" y="194"/>
                  </a:lnTo>
                  <a:lnTo>
                    <a:pt x="1101" y="210"/>
                  </a:lnTo>
                  <a:lnTo>
                    <a:pt x="1069" y="421"/>
                  </a:lnTo>
                  <a:lnTo>
                    <a:pt x="1036" y="615"/>
                  </a:lnTo>
                  <a:lnTo>
                    <a:pt x="1020" y="664"/>
                  </a:lnTo>
                  <a:lnTo>
                    <a:pt x="1004" y="744"/>
                  </a:lnTo>
                  <a:lnTo>
                    <a:pt x="971" y="922"/>
                  </a:lnTo>
                  <a:lnTo>
                    <a:pt x="955" y="955"/>
                  </a:lnTo>
                  <a:lnTo>
                    <a:pt x="939" y="1036"/>
                  </a:lnTo>
                  <a:lnTo>
                    <a:pt x="923" y="1149"/>
                  </a:lnTo>
                  <a:lnTo>
                    <a:pt x="891" y="1295"/>
                  </a:lnTo>
                  <a:lnTo>
                    <a:pt x="891" y="1327"/>
                  </a:lnTo>
                  <a:lnTo>
                    <a:pt x="874" y="1457"/>
                  </a:lnTo>
                  <a:lnTo>
                    <a:pt x="842" y="1489"/>
                  </a:lnTo>
                  <a:lnTo>
                    <a:pt x="826" y="1489"/>
                  </a:lnTo>
                  <a:lnTo>
                    <a:pt x="810" y="1457"/>
                  </a:lnTo>
                  <a:lnTo>
                    <a:pt x="793" y="1457"/>
                  </a:lnTo>
                  <a:lnTo>
                    <a:pt x="777" y="1457"/>
                  </a:lnTo>
                  <a:lnTo>
                    <a:pt x="761" y="1457"/>
                  </a:lnTo>
                  <a:lnTo>
                    <a:pt x="745" y="1457"/>
                  </a:lnTo>
                  <a:lnTo>
                    <a:pt x="745" y="1489"/>
                  </a:lnTo>
                  <a:lnTo>
                    <a:pt x="745" y="1505"/>
                  </a:lnTo>
                  <a:lnTo>
                    <a:pt x="745" y="1505"/>
                  </a:lnTo>
                  <a:lnTo>
                    <a:pt x="729" y="1537"/>
                  </a:lnTo>
                  <a:lnTo>
                    <a:pt x="745" y="1570"/>
                  </a:lnTo>
                  <a:lnTo>
                    <a:pt x="729" y="1586"/>
                  </a:lnTo>
                  <a:lnTo>
                    <a:pt x="729" y="1618"/>
                  </a:lnTo>
                  <a:lnTo>
                    <a:pt x="729" y="1651"/>
                  </a:lnTo>
                  <a:lnTo>
                    <a:pt x="729" y="1667"/>
                  </a:lnTo>
                  <a:lnTo>
                    <a:pt x="713" y="1667"/>
                  </a:lnTo>
                  <a:lnTo>
                    <a:pt x="729" y="1683"/>
                  </a:lnTo>
                  <a:lnTo>
                    <a:pt x="713" y="1683"/>
                  </a:lnTo>
                  <a:lnTo>
                    <a:pt x="713" y="1699"/>
                  </a:lnTo>
                  <a:lnTo>
                    <a:pt x="583" y="1489"/>
                  </a:lnTo>
                  <a:lnTo>
                    <a:pt x="534" y="1440"/>
                  </a:lnTo>
                  <a:lnTo>
                    <a:pt x="373" y="1181"/>
                  </a:lnTo>
                  <a:lnTo>
                    <a:pt x="276" y="1052"/>
                  </a:lnTo>
                  <a:lnTo>
                    <a:pt x="211" y="93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60880" y="3698640"/>
              <a:ext cx="735120" cy="766800"/>
            </a:xfrm>
            <a:custGeom>
              <a:avLst/>
              <a:gdLst/>
              <a:ahLst/>
              <a:rect l="l" t="t" r="r" b="b"/>
              <a:pathLst>
                <a:path w="1198" h="1246">
                  <a:moveTo>
                    <a:pt x="1117" y="1084"/>
                  </a:moveTo>
                  <a:lnTo>
                    <a:pt x="1117" y="1182"/>
                  </a:lnTo>
                  <a:lnTo>
                    <a:pt x="1117" y="1198"/>
                  </a:lnTo>
                  <a:lnTo>
                    <a:pt x="1069" y="1198"/>
                  </a:lnTo>
                  <a:lnTo>
                    <a:pt x="988" y="1198"/>
                  </a:lnTo>
                  <a:lnTo>
                    <a:pt x="939" y="1198"/>
                  </a:lnTo>
                  <a:lnTo>
                    <a:pt x="939" y="1182"/>
                  </a:lnTo>
                  <a:lnTo>
                    <a:pt x="777" y="1182"/>
                  </a:lnTo>
                  <a:lnTo>
                    <a:pt x="777" y="1182"/>
                  </a:lnTo>
                  <a:lnTo>
                    <a:pt x="567" y="1149"/>
                  </a:lnTo>
                  <a:lnTo>
                    <a:pt x="502" y="1149"/>
                  </a:lnTo>
                  <a:lnTo>
                    <a:pt x="454" y="1149"/>
                  </a:lnTo>
                  <a:lnTo>
                    <a:pt x="454" y="1182"/>
                  </a:lnTo>
                  <a:lnTo>
                    <a:pt x="470" y="1198"/>
                  </a:lnTo>
                  <a:lnTo>
                    <a:pt x="324" y="1182"/>
                  </a:lnTo>
                  <a:lnTo>
                    <a:pt x="162" y="1149"/>
                  </a:lnTo>
                  <a:lnTo>
                    <a:pt x="146" y="1246"/>
                  </a:lnTo>
                  <a:lnTo>
                    <a:pt x="0" y="1230"/>
                  </a:lnTo>
                  <a:lnTo>
                    <a:pt x="33" y="987"/>
                  </a:lnTo>
                  <a:lnTo>
                    <a:pt x="33" y="923"/>
                  </a:lnTo>
                  <a:lnTo>
                    <a:pt x="49" y="826"/>
                  </a:lnTo>
                  <a:lnTo>
                    <a:pt x="65" y="696"/>
                  </a:lnTo>
                  <a:lnTo>
                    <a:pt x="98" y="534"/>
                  </a:lnTo>
                  <a:lnTo>
                    <a:pt x="98" y="453"/>
                  </a:lnTo>
                  <a:lnTo>
                    <a:pt x="130" y="227"/>
                  </a:lnTo>
                  <a:lnTo>
                    <a:pt x="162" y="0"/>
                  </a:lnTo>
                  <a:lnTo>
                    <a:pt x="276" y="16"/>
                  </a:lnTo>
                  <a:lnTo>
                    <a:pt x="437" y="33"/>
                  </a:lnTo>
                  <a:lnTo>
                    <a:pt x="437" y="33"/>
                  </a:lnTo>
                  <a:lnTo>
                    <a:pt x="599" y="65"/>
                  </a:lnTo>
                  <a:lnTo>
                    <a:pt x="696" y="65"/>
                  </a:lnTo>
                  <a:lnTo>
                    <a:pt x="729" y="65"/>
                  </a:lnTo>
                  <a:lnTo>
                    <a:pt x="826" y="81"/>
                  </a:lnTo>
                  <a:lnTo>
                    <a:pt x="826" y="81"/>
                  </a:lnTo>
                  <a:lnTo>
                    <a:pt x="1036" y="97"/>
                  </a:lnTo>
                  <a:lnTo>
                    <a:pt x="1198" y="113"/>
                  </a:lnTo>
                  <a:lnTo>
                    <a:pt x="1198" y="113"/>
                  </a:lnTo>
                  <a:lnTo>
                    <a:pt x="1198" y="227"/>
                  </a:lnTo>
                  <a:lnTo>
                    <a:pt x="1198" y="227"/>
                  </a:lnTo>
                  <a:lnTo>
                    <a:pt x="1182" y="324"/>
                  </a:lnTo>
                  <a:lnTo>
                    <a:pt x="1182" y="389"/>
                  </a:lnTo>
                  <a:lnTo>
                    <a:pt x="1182" y="421"/>
                  </a:lnTo>
                  <a:lnTo>
                    <a:pt x="1166" y="518"/>
                  </a:lnTo>
                  <a:lnTo>
                    <a:pt x="1166" y="550"/>
                  </a:lnTo>
                  <a:lnTo>
                    <a:pt x="1166" y="599"/>
                  </a:lnTo>
                  <a:lnTo>
                    <a:pt x="1150" y="696"/>
                  </a:lnTo>
                  <a:lnTo>
                    <a:pt x="1150" y="809"/>
                  </a:lnTo>
                  <a:lnTo>
                    <a:pt x="1133" y="858"/>
                  </a:lnTo>
                  <a:lnTo>
                    <a:pt x="1133" y="906"/>
                  </a:lnTo>
                  <a:lnTo>
                    <a:pt x="1133" y="1004"/>
                  </a:lnTo>
                  <a:lnTo>
                    <a:pt x="1117" y="108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4760" y="2801880"/>
              <a:ext cx="79560" cy="9972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65" y="48"/>
                  </a:moveTo>
                  <a:lnTo>
                    <a:pt x="81" y="64"/>
                  </a:lnTo>
                  <a:lnTo>
                    <a:pt x="65" y="81"/>
                  </a:lnTo>
                  <a:lnTo>
                    <a:pt x="81" y="113"/>
                  </a:lnTo>
                  <a:lnTo>
                    <a:pt x="81" y="129"/>
                  </a:lnTo>
                  <a:lnTo>
                    <a:pt x="48" y="161"/>
                  </a:lnTo>
                  <a:lnTo>
                    <a:pt x="16" y="161"/>
                  </a:lnTo>
                  <a:lnTo>
                    <a:pt x="32" y="161"/>
                  </a:lnTo>
                  <a:lnTo>
                    <a:pt x="16" y="145"/>
                  </a:lnTo>
                  <a:lnTo>
                    <a:pt x="32" y="145"/>
                  </a:lnTo>
                  <a:lnTo>
                    <a:pt x="16" y="113"/>
                  </a:lnTo>
                  <a:lnTo>
                    <a:pt x="16" y="97"/>
                  </a:lnTo>
                  <a:lnTo>
                    <a:pt x="16" y="81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65" y="0"/>
                  </a:lnTo>
                  <a:lnTo>
                    <a:pt x="65" y="16"/>
                  </a:lnTo>
                  <a:lnTo>
                    <a:pt x="65" y="32"/>
                  </a:lnTo>
                  <a:lnTo>
                    <a:pt x="65" y="16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81" y="64"/>
                  </a:lnTo>
                  <a:lnTo>
                    <a:pt x="65" y="48"/>
                  </a:lnTo>
                  <a:lnTo>
                    <a:pt x="65" y="48"/>
                  </a:lnTo>
                  <a:close/>
                  <a:moveTo>
                    <a:pt x="113" y="64"/>
                  </a:moveTo>
                  <a:lnTo>
                    <a:pt x="113" y="64"/>
                  </a:lnTo>
                  <a:lnTo>
                    <a:pt x="129" y="97"/>
                  </a:lnTo>
                  <a:lnTo>
                    <a:pt x="113" y="113"/>
                  </a:lnTo>
                  <a:lnTo>
                    <a:pt x="113" y="64"/>
                  </a:lnTo>
                  <a:lnTo>
                    <a:pt x="113" y="64"/>
                  </a:lnTo>
                  <a:close/>
                  <a:moveTo>
                    <a:pt x="97" y="81"/>
                  </a:moveTo>
                  <a:lnTo>
                    <a:pt x="97" y="81"/>
                  </a:lnTo>
                  <a:lnTo>
                    <a:pt x="113" y="113"/>
                  </a:lnTo>
                  <a:lnTo>
                    <a:pt x="97" y="113"/>
                  </a:lnTo>
                  <a:lnTo>
                    <a:pt x="97" y="113"/>
                  </a:lnTo>
                  <a:lnTo>
                    <a:pt x="97" y="81"/>
                  </a:lnTo>
                  <a:lnTo>
                    <a:pt x="97" y="8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32120" y="2950920"/>
              <a:ext cx="608040" cy="747720"/>
            </a:xfrm>
            <a:custGeom>
              <a:avLst/>
              <a:gdLst/>
              <a:ahLst/>
              <a:rect l="l" t="t" r="r" b="b"/>
              <a:pathLst>
                <a:path w="987" h="1214">
                  <a:moveTo>
                    <a:pt x="32" y="939"/>
                  </a:moveTo>
                  <a:lnTo>
                    <a:pt x="48" y="826"/>
                  </a:lnTo>
                  <a:lnTo>
                    <a:pt x="64" y="745"/>
                  </a:lnTo>
                  <a:lnTo>
                    <a:pt x="80" y="712"/>
                  </a:lnTo>
                  <a:lnTo>
                    <a:pt x="113" y="534"/>
                  </a:lnTo>
                  <a:lnTo>
                    <a:pt x="129" y="454"/>
                  </a:lnTo>
                  <a:lnTo>
                    <a:pt x="145" y="405"/>
                  </a:lnTo>
                  <a:lnTo>
                    <a:pt x="178" y="211"/>
                  </a:lnTo>
                  <a:lnTo>
                    <a:pt x="210" y="0"/>
                  </a:lnTo>
                  <a:lnTo>
                    <a:pt x="388" y="33"/>
                  </a:lnTo>
                  <a:lnTo>
                    <a:pt x="517" y="49"/>
                  </a:lnTo>
                  <a:lnTo>
                    <a:pt x="517" y="49"/>
                  </a:lnTo>
                  <a:lnTo>
                    <a:pt x="615" y="65"/>
                  </a:lnTo>
                  <a:lnTo>
                    <a:pt x="695" y="81"/>
                  </a:lnTo>
                  <a:lnTo>
                    <a:pt x="679" y="178"/>
                  </a:lnTo>
                  <a:lnTo>
                    <a:pt x="663" y="243"/>
                  </a:lnTo>
                  <a:lnTo>
                    <a:pt x="663" y="292"/>
                  </a:lnTo>
                  <a:lnTo>
                    <a:pt x="809" y="324"/>
                  </a:lnTo>
                  <a:lnTo>
                    <a:pt x="825" y="324"/>
                  </a:lnTo>
                  <a:lnTo>
                    <a:pt x="987" y="340"/>
                  </a:lnTo>
                  <a:lnTo>
                    <a:pt x="971" y="421"/>
                  </a:lnTo>
                  <a:lnTo>
                    <a:pt x="954" y="518"/>
                  </a:lnTo>
                  <a:lnTo>
                    <a:pt x="938" y="632"/>
                  </a:lnTo>
                  <a:lnTo>
                    <a:pt x="938" y="664"/>
                  </a:lnTo>
                  <a:lnTo>
                    <a:pt x="922" y="696"/>
                  </a:lnTo>
                  <a:lnTo>
                    <a:pt x="906" y="890"/>
                  </a:lnTo>
                  <a:lnTo>
                    <a:pt x="890" y="971"/>
                  </a:lnTo>
                  <a:lnTo>
                    <a:pt x="890" y="1020"/>
                  </a:lnTo>
                  <a:lnTo>
                    <a:pt x="873" y="1085"/>
                  </a:lnTo>
                  <a:lnTo>
                    <a:pt x="857" y="1214"/>
                  </a:lnTo>
                  <a:lnTo>
                    <a:pt x="695" y="1198"/>
                  </a:lnTo>
                  <a:lnTo>
                    <a:pt x="566" y="1166"/>
                  </a:lnTo>
                  <a:lnTo>
                    <a:pt x="469" y="1149"/>
                  </a:lnTo>
                  <a:lnTo>
                    <a:pt x="258" y="1117"/>
                  </a:lnTo>
                  <a:lnTo>
                    <a:pt x="194" y="1117"/>
                  </a:lnTo>
                  <a:lnTo>
                    <a:pt x="0" y="1085"/>
                  </a:lnTo>
                  <a:lnTo>
                    <a:pt x="32" y="93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32440" y="2442960"/>
              <a:ext cx="568440" cy="587520"/>
            </a:xfrm>
            <a:custGeom>
              <a:avLst/>
              <a:gdLst/>
              <a:ahLst/>
              <a:rect l="l" t="t" r="r" b="b"/>
              <a:pathLst>
                <a:path w="923" h="955">
                  <a:moveTo>
                    <a:pt x="502" y="955"/>
                  </a:moveTo>
                  <a:lnTo>
                    <a:pt x="421" y="955"/>
                  </a:lnTo>
                  <a:lnTo>
                    <a:pt x="389" y="955"/>
                  </a:lnTo>
                  <a:lnTo>
                    <a:pt x="372" y="939"/>
                  </a:lnTo>
                  <a:lnTo>
                    <a:pt x="340" y="922"/>
                  </a:lnTo>
                  <a:lnTo>
                    <a:pt x="324" y="906"/>
                  </a:lnTo>
                  <a:lnTo>
                    <a:pt x="308" y="858"/>
                  </a:lnTo>
                  <a:lnTo>
                    <a:pt x="291" y="842"/>
                  </a:lnTo>
                  <a:lnTo>
                    <a:pt x="291" y="825"/>
                  </a:lnTo>
                  <a:lnTo>
                    <a:pt x="308" y="793"/>
                  </a:lnTo>
                  <a:lnTo>
                    <a:pt x="308" y="793"/>
                  </a:lnTo>
                  <a:lnTo>
                    <a:pt x="291" y="777"/>
                  </a:lnTo>
                  <a:lnTo>
                    <a:pt x="291" y="761"/>
                  </a:lnTo>
                  <a:lnTo>
                    <a:pt x="291" y="744"/>
                  </a:lnTo>
                  <a:lnTo>
                    <a:pt x="275" y="696"/>
                  </a:lnTo>
                  <a:lnTo>
                    <a:pt x="275" y="680"/>
                  </a:lnTo>
                  <a:lnTo>
                    <a:pt x="275" y="680"/>
                  </a:lnTo>
                  <a:lnTo>
                    <a:pt x="243" y="647"/>
                  </a:lnTo>
                  <a:lnTo>
                    <a:pt x="227" y="631"/>
                  </a:lnTo>
                  <a:lnTo>
                    <a:pt x="178" y="599"/>
                  </a:lnTo>
                  <a:lnTo>
                    <a:pt x="162" y="566"/>
                  </a:lnTo>
                  <a:lnTo>
                    <a:pt x="146" y="550"/>
                  </a:lnTo>
                  <a:lnTo>
                    <a:pt x="113" y="550"/>
                  </a:lnTo>
                  <a:lnTo>
                    <a:pt x="97" y="534"/>
                  </a:lnTo>
                  <a:lnTo>
                    <a:pt x="65" y="518"/>
                  </a:lnTo>
                  <a:lnTo>
                    <a:pt x="33" y="502"/>
                  </a:lnTo>
                  <a:lnTo>
                    <a:pt x="33" y="485"/>
                  </a:lnTo>
                  <a:lnTo>
                    <a:pt x="33" y="469"/>
                  </a:lnTo>
                  <a:lnTo>
                    <a:pt x="33" y="421"/>
                  </a:lnTo>
                  <a:lnTo>
                    <a:pt x="33" y="421"/>
                  </a:lnTo>
                  <a:lnTo>
                    <a:pt x="33" y="405"/>
                  </a:lnTo>
                  <a:lnTo>
                    <a:pt x="33" y="388"/>
                  </a:lnTo>
                  <a:lnTo>
                    <a:pt x="33" y="372"/>
                  </a:lnTo>
                  <a:lnTo>
                    <a:pt x="49" y="340"/>
                  </a:lnTo>
                  <a:lnTo>
                    <a:pt x="49" y="340"/>
                  </a:lnTo>
                  <a:lnTo>
                    <a:pt x="33" y="307"/>
                  </a:lnTo>
                  <a:lnTo>
                    <a:pt x="16" y="307"/>
                  </a:lnTo>
                  <a:lnTo>
                    <a:pt x="0" y="291"/>
                  </a:lnTo>
                  <a:lnTo>
                    <a:pt x="16" y="275"/>
                  </a:lnTo>
                  <a:lnTo>
                    <a:pt x="33" y="227"/>
                  </a:lnTo>
                  <a:lnTo>
                    <a:pt x="65" y="210"/>
                  </a:lnTo>
                  <a:lnTo>
                    <a:pt x="65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97" y="194"/>
                  </a:lnTo>
                  <a:lnTo>
                    <a:pt x="97" y="178"/>
                  </a:lnTo>
                  <a:lnTo>
                    <a:pt x="97" y="129"/>
                  </a:lnTo>
                  <a:lnTo>
                    <a:pt x="97" y="65"/>
                  </a:lnTo>
                  <a:lnTo>
                    <a:pt x="97" y="65"/>
                  </a:lnTo>
                  <a:lnTo>
                    <a:pt x="113" y="49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94" y="49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8" y="16"/>
                  </a:lnTo>
                  <a:lnTo>
                    <a:pt x="291" y="81"/>
                  </a:lnTo>
                  <a:lnTo>
                    <a:pt x="324" y="65"/>
                  </a:lnTo>
                  <a:lnTo>
                    <a:pt x="356" y="65"/>
                  </a:lnTo>
                  <a:lnTo>
                    <a:pt x="372" y="81"/>
                  </a:lnTo>
                  <a:lnTo>
                    <a:pt x="372" y="81"/>
                  </a:lnTo>
                  <a:lnTo>
                    <a:pt x="389" y="81"/>
                  </a:lnTo>
                  <a:lnTo>
                    <a:pt x="405" y="81"/>
                  </a:lnTo>
                  <a:lnTo>
                    <a:pt x="421" y="129"/>
                  </a:lnTo>
                  <a:lnTo>
                    <a:pt x="453" y="129"/>
                  </a:lnTo>
                  <a:lnTo>
                    <a:pt x="599" y="162"/>
                  </a:lnTo>
                  <a:lnTo>
                    <a:pt x="599" y="162"/>
                  </a:lnTo>
                  <a:lnTo>
                    <a:pt x="631" y="178"/>
                  </a:lnTo>
                  <a:lnTo>
                    <a:pt x="648" y="178"/>
                  </a:lnTo>
                  <a:lnTo>
                    <a:pt x="648" y="178"/>
                  </a:lnTo>
                  <a:lnTo>
                    <a:pt x="664" y="178"/>
                  </a:lnTo>
                  <a:lnTo>
                    <a:pt x="696" y="178"/>
                  </a:lnTo>
                  <a:lnTo>
                    <a:pt x="728" y="194"/>
                  </a:lnTo>
                  <a:lnTo>
                    <a:pt x="745" y="194"/>
                  </a:lnTo>
                  <a:lnTo>
                    <a:pt x="728" y="210"/>
                  </a:lnTo>
                  <a:lnTo>
                    <a:pt x="745" y="227"/>
                  </a:lnTo>
                  <a:lnTo>
                    <a:pt x="745" y="210"/>
                  </a:lnTo>
                  <a:lnTo>
                    <a:pt x="777" y="227"/>
                  </a:lnTo>
                  <a:lnTo>
                    <a:pt x="793" y="243"/>
                  </a:lnTo>
                  <a:lnTo>
                    <a:pt x="777" y="243"/>
                  </a:lnTo>
                  <a:lnTo>
                    <a:pt x="793" y="259"/>
                  </a:lnTo>
                  <a:lnTo>
                    <a:pt x="793" y="259"/>
                  </a:lnTo>
                  <a:lnTo>
                    <a:pt x="777" y="259"/>
                  </a:lnTo>
                  <a:lnTo>
                    <a:pt x="793" y="275"/>
                  </a:lnTo>
                  <a:lnTo>
                    <a:pt x="777" y="291"/>
                  </a:lnTo>
                  <a:lnTo>
                    <a:pt x="777" y="307"/>
                  </a:lnTo>
                  <a:lnTo>
                    <a:pt x="777" y="307"/>
                  </a:lnTo>
                  <a:lnTo>
                    <a:pt x="793" y="307"/>
                  </a:lnTo>
                  <a:lnTo>
                    <a:pt x="809" y="307"/>
                  </a:lnTo>
                  <a:lnTo>
                    <a:pt x="809" y="307"/>
                  </a:lnTo>
                  <a:lnTo>
                    <a:pt x="809" y="340"/>
                  </a:lnTo>
                  <a:lnTo>
                    <a:pt x="809" y="356"/>
                  </a:lnTo>
                  <a:lnTo>
                    <a:pt x="809" y="356"/>
                  </a:lnTo>
                  <a:lnTo>
                    <a:pt x="826" y="356"/>
                  </a:lnTo>
                  <a:lnTo>
                    <a:pt x="826" y="372"/>
                  </a:lnTo>
                  <a:lnTo>
                    <a:pt x="826" y="388"/>
                  </a:lnTo>
                  <a:lnTo>
                    <a:pt x="809" y="388"/>
                  </a:lnTo>
                  <a:lnTo>
                    <a:pt x="793" y="405"/>
                  </a:lnTo>
                  <a:lnTo>
                    <a:pt x="793" y="421"/>
                  </a:lnTo>
                  <a:lnTo>
                    <a:pt x="777" y="453"/>
                  </a:lnTo>
                  <a:lnTo>
                    <a:pt x="777" y="453"/>
                  </a:lnTo>
                  <a:lnTo>
                    <a:pt x="777" y="469"/>
                  </a:lnTo>
                  <a:lnTo>
                    <a:pt x="777" y="469"/>
                  </a:lnTo>
                  <a:lnTo>
                    <a:pt x="777" y="469"/>
                  </a:lnTo>
                  <a:lnTo>
                    <a:pt x="761" y="485"/>
                  </a:lnTo>
                  <a:lnTo>
                    <a:pt x="777" y="485"/>
                  </a:lnTo>
                  <a:lnTo>
                    <a:pt x="777" y="485"/>
                  </a:lnTo>
                  <a:lnTo>
                    <a:pt x="793" y="469"/>
                  </a:lnTo>
                  <a:lnTo>
                    <a:pt x="809" y="469"/>
                  </a:lnTo>
                  <a:lnTo>
                    <a:pt x="809" y="453"/>
                  </a:lnTo>
                  <a:lnTo>
                    <a:pt x="826" y="421"/>
                  </a:lnTo>
                  <a:lnTo>
                    <a:pt x="842" y="421"/>
                  </a:lnTo>
                  <a:lnTo>
                    <a:pt x="842" y="421"/>
                  </a:lnTo>
                  <a:lnTo>
                    <a:pt x="858" y="405"/>
                  </a:lnTo>
                  <a:lnTo>
                    <a:pt x="874" y="421"/>
                  </a:lnTo>
                  <a:lnTo>
                    <a:pt x="874" y="421"/>
                  </a:lnTo>
                  <a:lnTo>
                    <a:pt x="874" y="453"/>
                  </a:lnTo>
                  <a:lnTo>
                    <a:pt x="858" y="485"/>
                  </a:lnTo>
                  <a:lnTo>
                    <a:pt x="842" y="534"/>
                  </a:lnTo>
                  <a:lnTo>
                    <a:pt x="858" y="566"/>
                  </a:lnTo>
                  <a:lnTo>
                    <a:pt x="842" y="583"/>
                  </a:lnTo>
                  <a:lnTo>
                    <a:pt x="826" y="631"/>
                  </a:lnTo>
                  <a:lnTo>
                    <a:pt x="842" y="680"/>
                  </a:lnTo>
                  <a:lnTo>
                    <a:pt x="826" y="696"/>
                  </a:lnTo>
                  <a:lnTo>
                    <a:pt x="826" y="728"/>
                  </a:lnTo>
                  <a:lnTo>
                    <a:pt x="809" y="744"/>
                  </a:lnTo>
                  <a:lnTo>
                    <a:pt x="809" y="777"/>
                  </a:lnTo>
                  <a:lnTo>
                    <a:pt x="826" y="809"/>
                  </a:lnTo>
                  <a:lnTo>
                    <a:pt x="826" y="825"/>
                  </a:lnTo>
                  <a:lnTo>
                    <a:pt x="826" y="825"/>
                  </a:lnTo>
                  <a:lnTo>
                    <a:pt x="826" y="858"/>
                  </a:lnTo>
                  <a:lnTo>
                    <a:pt x="842" y="874"/>
                  </a:lnTo>
                  <a:lnTo>
                    <a:pt x="842" y="890"/>
                  </a:lnTo>
                  <a:lnTo>
                    <a:pt x="842" y="939"/>
                  </a:lnTo>
                  <a:lnTo>
                    <a:pt x="777" y="939"/>
                  </a:lnTo>
                  <a:lnTo>
                    <a:pt x="761" y="939"/>
                  </a:lnTo>
                  <a:lnTo>
                    <a:pt x="696" y="939"/>
                  </a:lnTo>
                  <a:lnTo>
                    <a:pt x="696" y="939"/>
                  </a:lnTo>
                  <a:lnTo>
                    <a:pt x="664" y="955"/>
                  </a:lnTo>
                  <a:lnTo>
                    <a:pt x="599" y="955"/>
                  </a:lnTo>
                  <a:lnTo>
                    <a:pt x="583" y="955"/>
                  </a:lnTo>
                  <a:lnTo>
                    <a:pt x="518" y="955"/>
                  </a:lnTo>
                  <a:lnTo>
                    <a:pt x="502" y="955"/>
                  </a:lnTo>
                  <a:lnTo>
                    <a:pt x="502" y="955"/>
                  </a:lnTo>
                  <a:close/>
                  <a:moveTo>
                    <a:pt x="906" y="307"/>
                  </a:moveTo>
                  <a:lnTo>
                    <a:pt x="923" y="307"/>
                  </a:lnTo>
                  <a:lnTo>
                    <a:pt x="923" y="324"/>
                  </a:lnTo>
                  <a:lnTo>
                    <a:pt x="923" y="324"/>
                  </a:lnTo>
                  <a:lnTo>
                    <a:pt x="906" y="324"/>
                  </a:lnTo>
                  <a:lnTo>
                    <a:pt x="906" y="340"/>
                  </a:lnTo>
                  <a:lnTo>
                    <a:pt x="906" y="340"/>
                  </a:lnTo>
                  <a:lnTo>
                    <a:pt x="906" y="356"/>
                  </a:lnTo>
                  <a:lnTo>
                    <a:pt x="906" y="356"/>
                  </a:lnTo>
                  <a:lnTo>
                    <a:pt x="906" y="372"/>
                  </a:lnTo>
                  <a:lnTo>
                    <a:pt x="906" y="356"/>
                  </a:lnTo>
                  <a:lnTo>
                    <a:pt x="890" y="388"/>
                  </a:lnTo>
                  <a:lnTo>
                    <a:pt x="890" y="388"/>
                  </a:lnTo>
                  <a:lnTo>
                    <a:pt x="890" y="405"/>
                  </a:lnTo>
                  <a:lnTo>
                    <a:pt x="874" y="421"/>
                  </a:lnTo>
                  <a:lnTo>
                    <a:pt x="858" y="421"/>
                  </a:lnTo>
                  <a:lnTo>
                    <a:pt x="858" y="405"/>
                  </a:lnTo>
                  <a:lnTo>
                    <a:pt x="858" y="372"/>
                  </a:lnTo>
                  <a:lnTo>
                    <a:pt x="874" y="372"/>
                  </a:lnTo>
                  <a:lnTo>
                    <a:pt x="874" y="340"/>
                  </a:lnTo>
                  <a:lnTo>
                    <a:pt x="890" y="340"/>
                  </a:lnTo>
                  <a:lnTo>
                    <a:pt x="906" y="307"/>
                  </a:lnTo>
                  <a:lnTo>
                    <a:pt x="906" y="307"/>
                  </a:lnTo>
                  <a:lnTo>
                    <a:pt x="906" y="30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32320" y="3619440"/>
              <a:ext cx="728640" cy="836640"/>
            </a:xfrm>
            <a:custGeom>
              <a:avLst/>
              <a:gdLst/>
              <a:ahLst/>
              <a:rect l="l" t="t" r="r" b="b"/>
              <a:pathLst>
                <a:path w="1181" h="1359">
                  <a:moveTo>
                    <a:pt x="32" y="890"/>
                  </a:moveTo>
                  <a:lnTo>
                    <a:pt x="65" y="890"/>
                  </a:lnTo>
                  <a:lnTo>
                    <a:pt x="81" y="874"/>
                  </a:lnTo>
                  <a:lnTo>
                    <a:pt x="97" y="841"/>
                  </a:lnTo>
                  <a:lnTo>
                    <a:pt x="81" y="825"/>
                  </a:lnTo>
                  <a:lnTo>
                    <a:pt x="65" y="825"/>
                  </a:lnTo>
                  <a:lnTo>
                    <a:pt x="48" y="809"/>
                  </a:lnTo>
                  <a:lnTo>
                    <a:pt x="65" y="777"/>
                  </a:lnTo>
                  <a:lnTo>
                    <a:pt x="48" y="760"/>
                  </a:lnTo>
                  <a:lnTo>
                    <a:pt x="65" y="760"/>
                  </a:lnTo>
                  <a:lnTo>
                    <a:pt x="65" y="744"/>
                  </a:lnTo>
                  <a:lnTo>
                    <a:pt x="81" y="744"/>
                  </a:lnTo>
                  <a:lnTo>
                    <a:pt x="97" y="712"/>
                  </a:lnTo>
                  <a:lnTo>
                    <a:pt x="113" y="696"/>
                  </a:lnTo>
                  <a:lnTo>
                    <a:pt x="113" y="679"/>
                  </a:lnTo>
                  <a:lnTo>
                    <a:pt x="113" y="663"/>
                  </a:lnTo>
                  <a:lnTo>
                    <a:pt x="129" y="631"/>
                  </a:lnTo>
                  <a:lnTo>
                    <a:pt x="113" y="631"/>
                  </a:lnTo>
                  <a:lnTo>
                    <a:pt x="146" y="615"/>
                  </a:lnTo>
                  <a:lnTo>
                    <a:pt x="146" y="615"/>
                  </a:lnTo>
                  <a:lnTo>
                    <a:pt x="210" y="582"/>
                  </a:lnTo>
                  <a:lnTo>
                    <a:pt x="194" y="566"/>
                  </a:lnTo>
                  <a:lnTo>
                    <a:pt x="162" y="534"/>
                  </a:lnTo>
                  <a:lnTo>
                    <a:pt x="178" y="518"/>
                  </a:lnTo>
                  <a:lnTo>
                    <a:pt x="162" y="501"/>
                  </a:lnTo>
                  <a:lnTo>
                    <a:pt x="162" y="469"/>
                  </a:lnTo>
                  <a:lnTo>
                    <a:pt x="146" y="437"/>
                  </a:lnTo>
                  <a:lnTo>
                    <a:pt x="146" y="404"/>
                  </a:lnTo>
                  <a:lnTo>
                    <a:pt x="146" y="388"/>
                  </a:lnTo>
                  <a:lnTo>
                    <a:pt x="162" y="388"/>
                  </a:lnTo>
                  <a:lnTo>
                    <a:pt x="146" y="372"/>
                  </a:lnTo>
                  <a:lnTo>
                    <a:pt x="162" y="372"/>
                  </a:lnTo>
                  <a:lnTo>
                    <a:pt x="162" y="356"/>
                  </a:lnTo>
                  <a:lnTo>
                    <a:pt x="162" y="323"/>
                  </a:lnTo>
                  <a:lnTo>
                    <a:pt x="162" y="291"/>
                  </a:lnTo>
                  <a:lnTo>
                    <a:pt x="178" y="275"/>
                  </a:lnTo>
                  <a:lnTo>
                    <a:pt x="162" y="242"/>
                  </a:lnTo>
                  <a:lnTo>
                    <a:pt x="178" y="210"/>
                  </a:lnTo>
                  <a:lnTo>
                    <a:pt x="178" y="210"/>
                  </a:lnTo>
                  <a:lnTo>
                    <a:pt x="178" y="194"/>
                  </a:lnTo>
                  <a:lnTo>
                    <a:pt x="178" y="162"/>
                  </a:lnTo>
                  <a:lnTo>
                    <a:pt x="194" y="162"/>
                  </a:lnTo>
                  <a:lnTo>
                    <a:pt x="210" y="162"/>
                  </a:lnTo>
                  <a:lnTo>
                    <a:pt x="226" y="162"/>
                  </a:lnTo>
                  <a:lnTo>
                    <a:pt x="243" y="162"/>
                  </a:lnTo>
                  <a:lnTo>
                    <a:pt x="259" y="194"/>
                  </a:lnTo>
                  <a:lnTo>
                    <a:pt x="275" y="194"/>
                  </a:lnTo>
                  <a:lnTo>
                    <a:pt x="307" y="162"/>
                  </a:lnTo>
                  <a:lnTo>
                    <a:pt x="324" y="32"/>
                  </a:lnTo>
                  <a:lnTo>
                    <a:pt x="324" y="0"/>
                  </a:lnTo>
                  <a:lnTo>
                    <a:pt x="518" y="32"/>
                  </a:lnTo>
                  <a:lnTo>
                    <a:pt x="582" y="32"/>
                  </a:lnTo>
                  <a:lnTo>
                    <a:pt x="793" y="64"/>
                  </a:lnTo>
                  <a:lnTo>
                    <a:pt x="890" y="81"/>
                  </a:lnTo>
                  <a:lnTo>
                    <a:pt x="1019" y="113"/>
                  </a:lnTo>
                  <a:lnTo>
                    <a:pt x="1181" y="129"/>
                  </a:lnTo>
                  <a:lnTo>
                    <a:pt x="1149" y="356"/>
                  </a:lnTo>
                  <a:lnTo>
                    <a:pt x="1117" y="582"/>
                  </a:lnTo>
                  <a:lnTo>
                    <a:pt x="1117" y="663"/>
                  </a:lnTo>
                  <a:lnTo>
                    <a:pt x="1084" y="825"/>
                  </a:lnTo>
                  <a:lnTo>
                    <a:pt x="1068" y="955"/>
                  </a:lnTo>
                  <a:lnTo>
                    <a:pt x="1052" y="1052"/>
                  </a:lnTo>
                  <a:lnTo>
                    <a:pt x="1052" y="1116"/>
                  </a:lnTo>
                  <a:lnTo>
                    <a:pt x="1019" y="1359"/>
                  </a:lnTo>
                  <a:lnTo>
                    <a:pt x="761" y="1327"/>
                  </a:lnTo>
                  <a:lnTo>
                    <a:pt x="647" y="1311"/>
                  </a:lnTo>
                  <a:lnTo>
                    <a:pt x="582" y="1278"/>
                  </a:lnTo>
                  <a:lnTo>
                    <a:pt x="259" y="1084"/>
                  </a:lnTo>
                  <a:lnTo>
                    <a:pt x="0" y="938"/>
                  </a:lnTo>
                  <a:lnTo>
                    <a:pt x="16" y="906"/>
                  </a:lnTo>
                  <a:lnTo>
                    <a:pt x="32" y="8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54840" y="2811240"/>
              <a:ext cx="190440" cy="179280"/>
            </a:xfrm>
            <a:custGeom>
              <a:avLst/>
              <a:gdLst/>
              <a:ahLst/>
              <a:rect l="l" t="t" r="r" b="b"/>
              <a:pathLst>
                <a:path w="307" h="291">
                  <a:moveTo>
                    <a:pt x="16" y="145"/>
                  </a:moveTo>
                  <a:lnTo>
                    <a:pt x="0" y="65"/>
                  </a:lnTo>
                  <a:lnTo>
                    <a:pt x="64" y="48"/>
                  </a:lnTo>
                  <a:lnTo>
                    <a:pt x="81" y="48"/>
                  </a:lnTo>
                  <a:lnTo>
                    <a:pt x="113" y="32"/>
                  </a:lnTo>
                  <a:lnTo>
                    <a:pt x="113" y="48"/>
                  </a:lnTo>
                  <a:lnTo>
                    <a:pt x="113" y="48"/>
                  </a:lnTo>
                  <a:lnTo>
                    <a:pt x="113" y="32"/>
                  </a:lnTo>
                  <a:lnTo>
                    <a:pt x="162" y="32"/>
                  </a:lnTo>
                  <a:lnTo>
                    <a:pt x="210" y="16"/>
                  </a:lnTo>
                  <a:lnTo>
                    <a:pt x="226" y="16"/>
                  </a:lnTo>
                  <a:lnTo>
                    <a:pt x="275" y="0"/>
                  </a:lnTo>
                  <a:lnTo>
                    <a:pt x="291" y="65"/>
                  </a:lnTo>
                  <a:lnTo>
                    <a:pt x="291" y="81"/>
                  </a:lnTo>
                  <a:lnTo>
                    <a:pt x="291" y="97"/>
                  </a:lnTo>
                  <a:lnTo>
                    <a:pt x="307" y="129"/>
                  </a:lnTo>
                  <a:lnTo>
                    <a:pt x="291" y="129"/>
                  </a:lnTo>
                  <a:lnTo>
                    <a:pt x="307" y="145"/>
                  </a:lnTo>
                  <a:lnTo>
                    <a:pt x="291" y="145"/>
                  </a:lnTo>
                  <a:lnTo>
                    <a:pt x="226" y="178"/>
                  </a:lnTo>
                  <a:lnTo>
                    <a:pt x="226" y="178"/>
                  </a:lnTo>
                  <a:lnTo>
                    <a:pt x="210" y="162"/>
                  </a:lnTo>
                  <a:lnTo>
                    <a:pt x="210" y="178"/>
                  </a:lnTo>
                  <a:lnTo>
                    <a:pt x="194" y="194"/>
                  </a:lnTo>
                  <a:lnTo>
                    <a:pt x="129" y="210"/>
                  </a:lnTo>
                  <a:lnTo>
                    <a:pt x="113" y="243"/>
                  </a:lnTo>
                  <a:lnTo>
                    <a:pt x="32" y="291"/>
                  </a:lnTo>
                  <a:lnTo>
                    <a:pt x="16" y="275"/>
                  </a:lnTo>
                  <a:lnTo>
                    <a:pt x="48" y="243"/>
                  </a:lnTo>
                  <a:lnTo>
                    <a:pt x="32" y="226"/>
                  </a:lnTo>
                  <a:lnTo>
                    <a:pt x="32" y="210"/>
                  </a:lnTo>
                  <a:lnTo>
                    <a:pt x="16" y="178"/>
                  </a:lnTo>
                  <a:lnTo>
                    <a:pt x="16" y="14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70640" y="3081240"/>
              <a:ext cx="338040" cy="577800"/>
            </a:xfrm>
            <a:custGeom>
              <a:avLst/>
              <a:gdLst/>
              <a:ahLst/>
              <a:rect l="l" t="t" r="r" b="b"/>
              <a:pathLst>
                <a:path w="550" h="938">
                  <a:moveTo>
                    <a:pt x="81" y="696"/>
                  </a:moveTo>
                  <a:lnTo>
                    <a:pt x="81" y="679"/>
                  </a:lnTo>
                  <a:lnTo>
                    <a:pt x="81" y="663"/>
                  </a:lnTo>
                  <a:lnTo>
                    <a:pt x="65" y="663"/>
                  </a:lnTo>
                  <a:lnTo>
                    <a:pt x="65" y="647"/>
                  </a:lnTo>
                  <a:lnTo>
                    <a:pt x="49" y="631"/>
                  </a:lnTo>
                  <a:lnTo>
                    <a:pt x="65" y="615"/>
                  </a:lnTo>
                  <a:lnTo>
                    <a:pt x="65" y="615"/>
                  </a:lnTo>
                  <a:lnTo>
                    <a:pt x="65" y="599"/>
                  </a:lnTo>
                  <a:lnTo>
                    <a:pt x="65" y="599"/>
                  </a:lnTo>
                  <a:lnTo>
                    <a:pt x="65" y="582"/>
                  </a:lnTo>
                  <a:lnTo>
                    <a:pt x="65" y="550"/>
                  </a:lnTo>
                  <a:lnTo>
                    <a:pt x="65" y="518"/>
                  </a:lnTo>
                  <a:lnTo>
                    <a:pt x="65" y="469"/>
                  </a:lnTo>
                  <a:lnTo>
                    <a:pt x="49" y="404"/>
                  </a:lnTo>
                  <a:lnTo>
                    <a:pt x="49" y="340"/>
                  </a:lnTo>
                  <a:lnTo>
                    <a:pt x="49" y="323"/>
                  </a:lnTo>
                  <a:lnTo>
                    <a:pt x="49" y="275"/>
                  </a:lnTo>
                  <a:lnTo>
                    <a:pt x="49" y="210"/>
                  </a:lnTo>
                  <a:lnTo>
                    <a:pt x="32" y="178"/>
                  </a:lnTo>
                  <a:lnTo>
                    <a:pt x="32" y="162"/>
                  </a:lnTo>
                  <a:lnTo>
                    <a:pt x="32" y="11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9" y="64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81" y="81"/>
                  </a:lnTo>
                  <a:lnTo>
                    <a:pt x="130" y="48"/>
                  </a:lnTo>
                  <a:lnTo>
                    <a:pt x="146" y="48"/>
                  </a:lnTo>
                  <a:lnTo>
                    <a:pt x="194" y="32"/>
                  </a:lnTo>
                  <a:lnTo>
                    <a:pt x="243" y="32"/>
                  </a:lnTo>
                  <a:lnTo>
                    <a:pt x="259" y="32"/>
                  </a:lnTo>
                  <a:lnTo>
                    <a:pt x="308" y="32"/>
                  </a:lnTo>
                  <a:lnTo>
                    <a:pt x="324" y="16"/>
                  </a:lnTo>
                  <a:lnTo>
                    <a:pt x="389" y="16"/>
                  </a:lnTo>
                  <a:lnTo>
                    <a:pt x="405" y="16"/>
                  </a:lnTo>
                  <a:lnTo>
                    <a:pt x="469" y="16"/>
                  </a:lnTo>
                  <a:lnTo>
                    <a:pt x="469" y="0"/>
                  </a:lnTo>
                  <a:lnTo>
                    <a:pt x="469" y="16"/>
                  </a:lnTo>
                  <a:lnTo>
                    <a:pt x="469" y="64"/>
                  </a:lnTo>
                  <a:lnTo>
                    <a:pt x="469" y="81"/>
                  </a:lnTo>
                  <a:lnTo>
                    <a:pt x="486" y="113"/>
                  </a:lnTo>
                  <a:lnTo>
                    <a:pt x="486" y="113"/>
                  </a:lnTo>
                  <a:lnTo>
                    <a:pt x="486" y="178"/>
                  </a:lnTo>
                  <a:lnTo>
                    <a:pt x="486" y="194"/>
                  </a:lnTo>
                  <a:lnTo>
                    <a:pt x="486" y="226"/>
                  </a:lnTo>
                  <a:lnTo>
                    <a:pt x="502" y="259"/>
                  </a:lnTo>
                  <a:lnTo>
                    <a:pt x="502" y="307"/>
                  </a:lnTo>
                  <a:lnTo>
                    <a:pt x="502" y="323"/>
                  </a:lnTo>
                  <a:lnTo>
                    <a:pt x="518" y="388"/>
                  </a:lnTo>
                  <a:lnTo>
                    <a:pt x="518" y="404"/>
                  </a:lnTo>
                  <a:lnTo>
                    <a:pt x="518" y="453"/>
                  </a:lnTo>
                  <a:lnTo>
                    <a:pt x="518" y="485"/>
                  </a:lnTo>
                  <a:lnTo>
                    <a:pt x="518" y="501"/>
                  </a:lnTo>
                  <a:lnTo>
                    <a:pt x="534" y="550"/>
                  </a:lnTo>
                  <a:lnTo>
                    <a:pt x="534" y="550"/>
                  </a:lnTo>
                  <a:lnTo>
                    <a:pt x="534" y="582"/>
                  </a:lnTo>
                  <a:lnTo>
                    <a:pt x="518" y="599"/>
                  </a:lnTo>
                  <a:lnTo>
                    <a:pt x="518" y="599"/>
                  </a:lnTo>
                  <a:lnTo>
                    <a:pt x="534" y="615"/>
                  </a:lnTo>
                  <a:lnTo>
                    <a:pt x="534" y="631"/>
                  </a:lnTo>
                  <a:lnTo>
                    <a:pt x="534" y="631"/>
                  </a:lnTo>
                  <a:lnTo>
                    <a:pt x="550" y="631"/>
                  </a:lnTo>
                  <a:lnTo>
                    <a:pt x="534" y="647"/>
                  </a:lnTo>
                  <a:lnTo>
                    <a:pt x="534" y="663"/>
                  </a:lnTo>
                  <a:lnTo>
                    <a:pt x="502" y="663"/>
                  </a:lnTo>
                  <a:lnTo>
                    <a:pt x="469" y="679"/>
                  </a:lnTo>
                  <a:lnTo>
                    <a:pt x="469" y="679"/>
                  </a:lnTo>
                  <a:lnTo>
                    <a:pt x="453" y="679"/>
                  </a:lnTo>
                  <a:lnTo>
                    <a:pt x="437" y="679"/>
                  </a:lnTo>
                  <a:lnTo>
                    <a:pt x="437" y="712"/>
                  </a:lnTo>
                  <a:lnTo>
                    <a:pt x="437" y="728"/>
                  </a:lnTo>
                  <a:lnTo>
                    <a:pt x="437" y="744"/>
                  </a:lnTo>
                  <a:lnTo>
                    <a:pt x="421" y="744"/>
                  </a:lnTo>
                  <a:lnTo>
                    <a:pt x="405" y="760"/>
                  </a:lnTo>
                  <a:lnTo>
                    <a:pt x="405" y="777"/>
                  </a:lnTo>
                  <a:lnTo>
                    <a:pt x="389" y="793"/>
                  </a:lnTo>
                  <a:lnTo>
                    <a:pt x="372" y="793"/>
                  </a:lnTo>
                  <a:lnTo>
                    <a:pt x="372" y="809"/>
                  </a:lnTo>
                  <a:lnTo>
                    <a:pt x="372" y="841"/>
                  </a:lnTo>
                  <a:lnTo>
                    <a:pt x="372" y="841"/>
                  </a:lnTo>
                  <a:lnTo>
                    <a:pt x="356" y="857"/>
                  </a:lnTo>
                  <a:lnTo>
                    <a:pt x="356" y="857"/>
                  </a:lnTo>
                  <a:lnTo>
                    <a:pt x="340" y="857"/>
                  </a:lnTo>
                  <a:lnTo>
                    <a:pt x="324" y="841"/>
                  </a:lnTo>
                  <a:lnTo>
                    <a:pt x="308" y="841"/>
                  </a:lnTo>
                  <a:lnTo>
                    <a:pt x="308" y="825"/>
                  </a:lnTo>
                  <a:lnTo>
                    <a:pt x="291" y="825"/>
                  </a:lnTo>
                  <a:lnTo>
                    <a:pt x="291" y="809"/>
                  </a:lnTo>
                  <a:lnTo>
                    <a:pt x="308" y="825"/>
                  </a:lnTo>
                  <a:lnTo>
                    <a:pt x="291" y="841"/>
                  </a:lnTo>
                  <a:lnTo>
                    <a:pt x="275" y="825"/>
                  </a:lnTo>
                  <a:lnTo>
                    <a:pt x="275" y="841"/>
                  </a:lnTo>
                  <a:lnTo>
                    <a:pt x="275" y="841"/>
                  </a:lnTo>
                  <a:lnTo>
                    <a:pt x="275" y="874"/>
                  </a:lnTo>
                  <a:lnTo>
                    <a:pt x="259" y="874"/>
                  </a:lnTo>
                  <a:lnTo>
                    <a:pt x="259" y="890"/>
                  </a:lnTo>
                  <a:lnTo>
                    <a:pt x="243" y="890"/>
                  </a:lnTo>
                  <a:lnTo>
                    <a:pt x="243" y="874"/>
                  </a:lnTo>
                  <a:lnTo>
                    <a:pt x="227" y="890"/>
                  </a:lnTo>
                  <a:lnTo>
                    <a:pt x="227" y="874"/>
                  </a:lnTo>
                  <a:lnTo>
                    <a:pt x="194" y="890"/>
                  </a:lnTo>
                  <a:lnTo>
                    <a:pt x="178" y="890"/>
                  </a:lnTo>
                  <a:lnTo>
                    <a:pt x="178" y="922"/>
                  </a:lnTo>
                  <a:lnTo>
                    <a:pt x="146" y="906"/>
                  </a:lnTo>
                  <a:lnTo>
                    <a:pt x="146" y="890"/>
                  </a:lnTo>
                  <a:lnTo>
                    <a:pt x="113" y="890"/>
                  </a:lnTo>
                  <a:lnTo>
                    <a:pt x="113" y="890"/>
                  </a:lnTo>
                  <a:lnTo>
                    <a:pt x="81" y="890"/>
                  </a:lnTo>
                  <a:lnTo>
                    <a:pt x="81" y="890"/>
                  </a:lnTo>
                  <a:lnTo>
                    <a:pt x="97" y="906"/>
                  </a:lnTo>
                  <a:lnTo>
                    <a:pt x="81" y="922"/>
                  </a:lnTo>
                  <a:lnTo>
                    <a:pt x="81" y="922"/>
                  </a:lnTo>
                  <a:lnTo>
                    <a:pt x="81" y="906"/>
                  </a:lnTo>
                  <a:lnTo>
                    <a:pt x="65" y="906"/>
                  </a:lnTo>
                  <a:lnTo>
                    <a:pt x="49" y="906"/>
                  </a:lnTo>
                  <a:lnTo>
                    <a:pt x="32" y="906"/>
                  </a:lnTo>
                  <a:lnTo>
                    <a:pt x="32" y="906"/>
                  </a:lnTo>
                  <a:lnTo>
                    <a:pt x="32" y="922"/>
                  </a:lnTo>
                  <a:lnTo>
                    <a:pt x="32" y="938"/>
                  </a:lnTo>
                  <a:lnTo>
                    <a:pt x="16" y="922"/>
                  </a:lnTo>
                  <a:lnTo>
                    <a:pt x="16" y="922"/>
                  </a:lnTo>
                  <a:lnTo>
                    <a:pt x="16" y="922"/>
                  </a:lnTo>
                  <a:lnTo>
                    <a:pt x="0" y="906"/>
                  </a:lnTo>
                  <a:lnTo>
                    <a:pt x="16" y="906"/>
                  </a:lnTo>
                  <a:lnTo>
                    <a:pt x="0" y="906"/>
                  </a:lnTo>
                  <a:lnTo>
                    <a:pt x="16" y="890"/>
                  </a:lnTo>
                  <a:lnTo>
                    <a:pt x="16" y="874"/>
                  </a:lnTo>
                  <a:lnTo>
                    <a:pt x="16" y="874"/>
                  </a:lnTo>
                  <a:lnTo>
                    <a:pt x="16" y="857"/>
                  </a:lnTo>
                  <a:lnTo>
                    <a:pt x="16" y="857"/>
                  </a:lnTo>
                  <a:lnTo>
                    <a:pt x="32" y="841"/>
                  </a:lnTo>
                  <a:lnTo>
                    <a:pt x="16" y="825"/>
                  </a:lnTo>
                  <a:lnTo>
                    <a:pt x="16" y="825"/>
                  </a:lnTo>
                  <a:lnTo>
                    <a:pt x="32" y="809"/>
                  </a:lnTo>
                  <a:lnTo>
                    <a:pt x="32" y="825"/>
                  </a:lnTo>
                  <a:lnTo>
                    <a:pt x="32" y="809"/>
                  </a:lnTo>
                  <a:lnTo>
                    <a:pt x="32" y="825"/>
                  </a:lnTo>
                  <a:lnTo>
                    <a:pt x="49" y="809"/>
                  </a:lnTo>
                  <a:lnTo>
                    <a:pt x="49" y="793"/>
                  </a:lnTo>
                  <a:lnTo>
                    <a:pt x="49" y="777"/>
                  </a:lnTo>
                  <a:lnTo>
                    <a:pt x="65" y="777"/>
                  </a:lnTo>
                  <a:lnTo>
                    <a:pt x="65" y="760"/>
                  </a:lnTo>
                  <a:lnTo>
                    <a:pt x="81" y="744"/>
                  </a:lnTo>
                  <a:lnTo>
                    <a:pt x="65" y="744"/>
                  </a:lnTo>
                  <a:lnTo>
                    <a:pt x="97" y="712"/>
                  </a:lnTo>
                  <a:lnTo>
                    <a:pt x="81" y="6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84680" y="2901600"/>
              <a:ext cx="638280" cy="427320"/>
            </a:xfrm>
            <a:custGeom>
              <a:avLst/>
              <a:gdLst/>
              <a:ahLst/>
              <a:rect l="l" t="t" r="r" b="b"/>
              <a:pathLst>
                <a:path w="1036" h="696">
                  <a:moveTo>
                    <a:pt x="113" y="567"/>
                  </a:moveTo>
                  <a:lnTo>
                    <a:pt x="113" y="535"/>
                  </a:lnTo>
                  <a:lnTo>
                    <a:pt x="113" y="535"/>
                  </a:lnTo>
                  <a:lnTo>
                    <a:pt x="113" y="535"/>
                  </a:lnTo>
                  <a:lnTo>
                    <a:pt x="113" y="502"/>
                  </a:lnTo>
                  <a:lnTo>
                    <a:pt x="113" y="502"/>
                  </a:lnTo>
                  <a:lnTo>
                    <a:pt x="113" y="502"/>
                  </a:lnTo>
                  <a:lnTo>
                    <a:pt x="113" y="486"/>
                  </a:lnTo>
                  <a:lnTo>
                    <a:pt x="113" y="470"/>
                  </a:lnTo>
                  <a:lnTo>
                    <a:pt x="97" y="470"/>
                  </a:lnTo>
                  <a:lnTo>
                    <a:pt x="97" y="454"/>
                  </a:lnTo>
                  <a:lnTo>
                    <a:pt x="97" y="454"/>
                  </a:lnTo>
                  <a:lnTo>
                    <a:pt x="81" y="454"/>
                  </a:lnTo>
                  <a:lnTo>
                    <a:pt x="81" y="421"/>
                  </a:lnTo>
                  <a:lnTo>
                    <a:pt x="81" y="421"/>
                  </a:lnTo>
                  <a:lnTo>
                    <a:pt x="81" y="405"/>
                  </a:lnTo>
                  <a:lnTo>
                    <a:pt x="81" y="389"/>
                  </a:lnTo>
                  <a:lnTo>
                    <a:pt x="81" y="356"/>
                  </a:lnTo>
                  <a:lnTo>
                    <a:pt x="64" y="356"/>
                  </a:lnTo>
                  <a:lnTo>
                    <a:pt x="48" y="340"/>
                  </a:lnTo>
                  <a:lnTo>
                    <a:pt x="48" y="324"/>
                  </a:lnTo>
                  <a:lnTo>
                    <a:pt x="48" y="324"/>
                  </a:lnTo>
                  <a:lnTo>
                    <a:pt x="32" y="308"/>
                  </a:lnTo>
                  <a:lnTo>
                    <a:pt x="48" y="308"/>
                  </a:lnTo>
                  <a:lnTo>
                    <a:pt x="48" y="292"/>
                  </a:lnTo>
                  <a:lnTo>
                    <a:pt x="32" y="276"/>
                  </a:lnTo>
                  <a:lnTo>
                    <a:pt x="32" y="259"/>
                  </a:lnTo>
                  <a:lnTo>
                    <a:pt x="32" y="243"/>
                  </a:lnTo>
                  <a:lnTo>
                    <a:pt x="16" y="227"/>
                  </a:lnTo>
                  <a:lnTo>
                    <a:pt x="16" y="211"/>
                  </a:lnTo>
                  <a:lnTo>
                    <a:pt x="0" y="195"/>
                  </a:lnTo>
                  <a:lnTo>
                    <a:pt x="16" y="162"/>
                  </a:lnTo>
                  <a:lnTo>
                    <a:pt x="16" y="146"/>
                  </a:lnTo>
                  <a:lnTo>
                    <a:pt x="16" y="130"/>
                  </a:lnTo>
                  <a:lnTo>
                    <a:pt x="16" y="130"/>
                  </a:lnTo>
                  <a:lnTo>
                    <a:pt x="32" y="114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0" y="81"/>
                  </a:lnTo>
                  <a:lnTo>
                    <a:pt x="16" y="4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2" y="33"/>
                  </a:lnTo>
                  <a:lnTo>
                    <a:pt x="81" y="33"/>
                  </a:lnTo>
                  <a:lnTo>
                    <a:pt x="113" y="33"/>
                  </a:lnTo>
                  <a:lnTo>
                    <a:pt x="178" y="33"/>
                  </a:lnTo>
                  <a:lnTo>
                    <a:pt x="194" y="33"/>
                  </a:lnTo>
                  <a:lnTo>
                    <a:pt x="275" y="17"/>
                  </a:lnTo>
                  <a:lnTo>
                    <a:pt x="275" y="17"/>
                  </a:lnTo>
                  <a:lnTo>
                    <a:pt x="340" y="17"/>
                  </a:lnTo>
                  <a:lnTo>
                    <a:pt x="372" y="17"/>
                  </a:lnTo>
                  <a:lnTo>
                    <a:pt x="421" y="17"/>
                  </a:lnTo>
                  <a:lnTo>
                    <a:pt x="469" y="17"/>
                  </a:lnTo>
                  <a:lnTo>
                    <a:pt x="485" y="17"/>
                  </a:lnTo>
                  <a:lnTo>
                    <a:pt x="566" y="17"/>
                  </a:lnTo>
                  <a:lnTo>
                    <a:pt x="566" y="17"/>
                  </a:lnTo>
                  <a:lnTo>
                    <a:pt x="647" y="17"/>
                  </a:lnTo>
                  <a:lnTo>
                    <a:pt x="663" y="17"/>
                  </a:lnTo>
                  <a:lnTo>
                    <a:pt x="712" y="17"/>
                  </a:lnTo>
                  <a:lnTo>
                    <a:pt x="777" y="17"/>
                  </a:lnTo>
                  <a:lnTo>
                    <a:pt x="793" y="17"/>
                  </a:lnTo>
                  <a:lnTo>
                    <a:pt x="857" y="0"/>
                  </a:lnTo>
                  <a:lnTo>
                    <a:pt x="857" y="17"/>
                  </a:lnTo>
                  <a:lnTo>
                    <a:pt x="857" y="33"/>
                  </a:lnTo>
                  <a:lnTo>
                    <a:pt x="874" y="49"/>
                  </a:lnTo>
                  <a:lnTo>
                    <a:pt x="874" y="49"/>
                  </a:lnTo>
                  <a:lnTo>
                    <a:pt x="857" y="81"/>
                  </a:lnTo>
                  <a:lnTo>
                    <a:pt x="857" y="98"/>
                  </a:lnTo>
                  <a:lnTo>
                    <a:pt x="874" y="114"/>
                  </a:lnTo>
                  <a:lnTo>
                    <a:pt x="890" y="162"/>
                  </a:lnTo>
                  <a:lnTo>
                    <a:pt x="906" y="178"/>
                  </a:lnTo>
                  <a:lnTo>
                    <a:pt x="938" y="195"/>
                  </a:lnTo>
                  <a:lnTo>
                    <a:pt x="955" y="211"/>
                  </a:lnTo>
                  <a:lnTo>
                    <a:pt x="955" y="227"/>
                  </a:lnTo>
                  <a:lnTo>
                    <a:pt x="987" y="243"/>
                  </a:lnTo>
                  <a:lnTo>
                    <a:pt x="987" y="259"/>
                  </a:lnTo>
                  <a:lnTo>
                    <a:pt x="1003" y="276"/>
                  </a:lnTo>
                  <a:lnTo>
                    <a:pt x="1003" y="276"/>
                  </a:lnTo>
                  <a:lnTo>
                    <a:pt x="1036" y="292"/>
                  </a:lnTo>
                  <a:lnTo>
                    <a:pt x="1036" y="324"/>
                  </a:lnTo>
                  <a:lnTo>
                    <a:pt x="1036" y="340"/>
                  </a:lnTo>
                  <a:lnTo>
                    <a:pt x="1036" y="373"/>
                  </a:lnTo>
                  <a:lnTo>
                    <a:pt x="1019" y="373"/>
                  </a:lnTo>
                  <a:lnTo>
                    <a:pt x="1019" y="389"/>
                  </a:lnTo>
                  <a:lnTo>
                    <a:pt x="1019" y="421"/>
                  </a:lnTo>
                  <a:lnTo>
                    <a:pt x="1003" y="437"/>
                  </a:lnTo>
                  <a:lnTo>
                    <a:pt x="971" y="437"/>
                  </a:lnTo>
                  <a:lnTo>
                    <a:pt x="971" y="454"/>
                  </a:lnTo>
                  <a:lnTo>
                    <a:pt x="938" y="454"/>
                  </a:lnTo>
                  <a:lnTo>
                    <a:pt x="906" y="454"/>
                  </a:lnTo>
                  <a:lnTo>
                    <a:pt x="906" y="486"/>
                  </a:lnTo>
                  <a:lnTo>
                    <a:pt x="890" y="502"/>
                  </a:lnTo>
                  <a:lnTo>
                    <a:pt x="922" y="518"/>
                  </a:lnTo>
                  <a:lnTo>
                    <a:pt x="922" y="535"/>
                  </a:lnTo>
                  <a:lnTo>
                    <a:pt x="922" y="567"/>
                  </a:lnTo>
                  <a:lnTo>
                    <a:pt x="906" y="583"/>
                  </a:lnTo>
                  <a:lnTo>
                    <a:pt x="906" y="615"/>
                  </a:lnTo>
                  <a:lnTo>
                    <a:pt x="890" y="632"/>
                  </a:lnTo>
                  <a:lnTo>
                    <a:pt x="857" y="648"/>
                  </a:lnTo>
                  <a:lnTo>
                    <a:pt x="857" y="664"/>
                  </a:lnTo>
                  <a:lnTo>
                    <a:pt x="857" y="680"/>
                  </a:lnTo>
                  <a:lnTo>
                    <a:pt x="841" y="696"/>
                  </a:lnTo>
                  <a:lnTo>
                    <a:pt x="841" y="680"/>
                  </a:lnTo>
                  <a:lnTo>
                    <a:pt x="841" y="680"/>
                  </a:lnTo>
                  <a:lnTo>
                    <a:pt x="825" y="680"/>
                  </a:lnTo>
                  <a:lnTo>
                    <a:pt x="825" y="664"/>
                  </a:lnTo>
                  <a:lnTo>
                    <a:pt x="809" y="648"/>
                  </a:lnTo>
                  <a:lnTo>
                    <a:pt x="809" y="648"/>
                  </a:lnTo>
                  <a:lnTo>
                    <a:pt x="760" y="648"/>
                  </a:lnTo>
                  <a:lnTo>
                    <a:pt x="728" y="648"/>
                  </a:lnTo>
                  <a:lnTo>
                    <a:pt x="696" y="648"/>
                  </a:lnTo>
                  <a:lnTo>
                    <a:pt x="647" y="648"/>
                  </a:lnTo>
                  <a:lnTo>
                    <a:pt x="631" y="648"/>
                  </a:lnTo>
                  <a:lnTo>
                    <a:pt x="582" y="664"/>
                  </a:lnTo>
                  <a:lnTo>
                    <a:pt x="534" y="664"/>
                  </a:lnTo>
                  <a:lnTo>
                    <a:pt x="501" y="664"/>
                  </a:lnTo>
                  <a:lnTo>
                    <a:pt x="469" y="664"/>
                  </a:lnTo>
                  <a:lnTo>
                    <a:pt x="421" y="664"/>
                  </a:lnTo>
                  <a:lnTo>
                    <a:pt x="388" y="664"/>
                  </a:lnTo>
                  <a:lnTo>
                    <a:pt x="340" y="664"/>
                  </a:lnTo>
                  <a:lnTo>
                    <a:pt x="323" y="664"/>
                  </a:lnTo>
                  <a:lnTo>
                    <a:pt x="275" y="664"/>
                  </a:lnTo>
                  <a:lnTo>
                    <a:pt x="226" y="664"/>
                  </a:lnTo>
                  <a:lnTo>
                    <a:pt x="194" y="664"/>
                  </a:lnTo>
                  <a:lnTo>
                    <a:pt x="129" y="664"/>
                  </a:lnTo>
                  <a:lnTo>
                    <a:pt x="129" y="648"/>
                  </a:lnTo>
                  <a:lnTo>
                    <a:pt x="113" y="632"/>
                  </a:lnTo>
                  <a:lnTo>
                    <a:pt x="129" y="615"/>
                  </a:lnTo>
                  <a:lnTo>
                    <a:pt x="129" y="599"/>
                  </a:lnTo>
                  <a:lnTo>
                    <a:pt x="113" y="56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62800" y="3300120"/>
              <a:ext cx="718920" cy="615960"/>
            </a:xfrm>
            <a:custGeom>
              <a:avLst/>
              <a:gdLst/>
              <a:ahLst/>
              <a:rect l="l" t="t" r="r" b="b"/>
              <a:pathLst>
                <a:path w="1165" h="1003">
                  <a:moveTo>
                    <a:pt x="211" y="809"/>
                  </a:moveTo>
                  <a:lnTo>
                    <a:pt x="211" y="793"/>
                  </a:lnTo>
                  <a:lnTo>
                    <a:pt x="211" y="728"/>
                  </a:lnTo>
                  <a:lnTo>
                    <a:pt x="211" y="728"/>
                  </a:lnTo>
                  <a:lnTo>
                    <a:pt x="211" y="663"/>
                  </a:lnTo>
                  <a:lnTo>
                    <a:pt x="211" y="647"/>
                  </a:lnTo>
                  <a:lnTo>
                    <a:pt x="211" y="582"/>
                  </a:lnTo>
                  <a:lnTo>
                    <a:pt x="211" y="566"/>
                  </a:lnTo>
                  <a:lnTo>
                    <a:pt x="211" y="501"/>
                  </a:lnTo>
                  <a:lnTo>
                    <a:pt x="211" y="485"/>
                  </a:lnTo>
                  <a:lnTo>
                    <a:pt x="211" y="421"/>
                  </a:lnTo>
                  <a:lnTo>
                    <a:pt x="194" y="404"/>
                  </a:lnTo>
                  <a:lnTo>
                    <a:pt x="194" y="356"/>
                  </a:lnTo>
                  <a:lnTo>
                    <a:pt x="194" y="340"/>
                  </a:lnTo>
                  <a:lnTo>
                    <a:pt x="194" y="323"/>
                  </a:lnTo>
                  <a:lnTo>
                    <a:pt x="178" y="323"/>
                  </a:lnTo>
                  <a:lnTo>
                    <a:pt x="146" y="291"/>
                  </a:lnTo>
                  <a:lnTo>
                    <a:pt x="146" y="275"/>
                  </a:lnTo>
                  <a:lnTo>
                    <a:pt x="146" y="275"/>
                  </a:lnTo>
                  <a:lnTo>
                    <a:pt x="114" y="243"/>
                  </a:lnTo>
                  <a:lnTo>
                    <a:pt x="130" y="226"/>
                  </a:lnTo>
                  <a:lnTo>
                    <a:pt x="146" y="210"/>
                  </a:lnTo>
                  <a:lnTo>
                    <a:pt x="162" y="194"/>
                  </a:lnTo>
                  <a:lnTo>
                    <a:pt x="146" y="194"/>
                  </a:lnTo>
                  <a:lnTo>
                    <a:pt x="146" y="178"/>
                  </a:lnTo>
                  <a:lnTo>
                    <a:pt x="146" y="162"/>
                  </a:lnTo>
                  <a:lnTo>
                    <a:pt x="114" y="178"/>
                  </a:lnTo>
                  <a:lnTo>
                    <a:pt x="81" y="145"/>
                  </a:lnTo>
                  <a:lnTo>
                    <a:pt x="65" y="129"/>
                  </a:lnTo>
                  <a:lnTo>
                    <a:pt x="65" y="113"/>
                  </a:lnTo>
                  <a:lnTo>
                    <a:pt x="49" y="97"/>
                  </a:lnTo>
                  <a:lnTo>
                    <a:pt x="49" y="81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33" y="65"/>
                  </a:lnTo>
                  <a:lnTo>
                    <a:pt x="16" y="3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65" y="16"/>
                  </a:lnTo>
                  <a:lnTo>
                    <a:pt x="97" y="16"/>
                  </a:lnTo>
                  <a:lnTo>
                    <a:pt x="146" y="16"/>
                  </a:lnTo>
                  <a:lnTo>
                    <a:pt x="194" y="16"/>
                  </a:lnTo>
                  <a:lnTo>
                    <a:pt x="211" y="16"/>
                  </a:lnTo>
                  <a:lnTo>
                    <a:pt x="259" y="16"/>
                  </a:lnTo>
                  <a:lnTo>
                    <a:pt x="292" y="16"/>
                  </a:lnTo>
                  <a:lnTo>
                    <a:pt x="340" y="16"/>
                  </a:lnTo>
                  <a:lnTo>
                    <a:pt x="372" y="16"/>
                  </a:lnTo>
                  <a:lnTo>
                    <a:pt x="405" y="16"/>
                  </a:lnTo>
                  <a:lnTo>
                    <a:pt x="453" y="16"/>
                  </a:lnTo>
                  <a:lnTo>
                    <a:pt x="502" y="0"/>
                  </a:lnTo>
                  <a:lnTo>
                    <a:pt x="518" y="0"/>
                  </a:lnTo>
                  <a:lnTo>
                    <a:pt x="567" y="0"/>
                  </a:lnTo>
                  <a:lnTo>
                    <a:pt x="599" y="0"/>
                  </a:lnTo>
                  <a:lnTo>
                    <a:pt x="631" y="0"/>
                  </a:lnTo>
                  <a:lnTo>
                    <a:pt x="680" y="0"/>
                  </a:lnTo>
                  <a:lnTo>
                    <a:pt x="680" y="0"/>
                  </a:lnTo>
                  <a:lnTo>
                    <a:pt x="696" y="16"/>
                  </a:lnTo>
                  <a:lnTo>
                    <a:pt x="696" y="32"/>
                  </a:lnTo>
                  <a:lnTo>
                    <a:pt x="712" y="32"/>
                  </a:lnTo>
                  <a:lnTo>
                    <a:pt x="712" y="32"/>
                  </a:lnTo>
                  <a:lnTo>
                    <a:pt x="712" y="48"/>
                  </a:lnTo>
                  <a:lnTo>
                    <a:pt x="712" y="65"/>
                  </a:lnTo>
                  <a:lnTo>
                    <a:pt x="712" y="81"/>
                  </a:lnTo>
                  <a:lnTo>
                    <a:pt x="712" y="113"/>
                  </a:lnTo>
                  <a:lnTo>
                    <a:pt x="728" y="145"/>
                  </a:lnTo>
                  <a:lnTo>
                    <a:pt x="728" y="162"/>
                  </a:lnTo>
                  <a:lnTo>
                    <a:pt x="745" y="178"/>
                  </a:lnTo>
                  <a:lnTo>
                    <a:pt x="745" y="194"/>
                  </a:lnTo>
                  <a:lnTo>
                    <a:pt x="761" y="210"/>
                  </a:lnTo>
                  <a:lnTo>
                    <a:pt x="809" y="259"/>
                  </a:lnTo>
                  <a:lnTo>
                    <a:pt x="842" y="275"/>
                  </a:lnTo>
                  <a:lnTo>
                    <a:pt x="858" y="291"/>
                  </a:lnTo>
                  <a:lnTo>
                    <a:pt x="858" y="356"/>
                  </a:lnTo>
                  <a:lnTo>
                    <a:pt x="874" y="372"/>
                  </a:lnTo>
                  <a:lnTo>
                    <a:pt x="890" y="372"/>
                  </a:lnTo>
                  <a:lnTo>
                    <a:pt x="907" y="340"/>
                  </a:lnTo>
                  <a:lnTo>
                    <a:pt x="939" y="356"/>
                  </a:lnTo>
                  <a:lnTo>
                    <a:pt x="955" y="372"/>
                  </a:lnTo>
                  <a:lnTo>
                    <a:pt x="955" y="372"/>
                  </a:lnTo>
                  <a:lnTo>
                    <a:pt x="955" y="388"/>
                  </a:lnTo>
                  <a:lnTo>
                    <a:pt x="955" y="404"/>
                  </a:lnTo>
                  <a:lnTo>
                    <a:pt x="955" y="421"/>
                  </a:lnTo>
                  <a:lnTo>
                    <a:pt x="939" y="437"/>
                  </a:lnTo>
                  <a:lnTo>
                    <a:pt x="939" y="437"/>
                  </a:lnTo>
                  <a:lnTo>
                    <a:pt x="923" y="469"/>
                  </a:lnTo>
                  <a:lnTo>
                    <a:pt x="923" y="501"/>
                  </a:lnTo>
                  <a:lnTo>
                    <a:pt x="939" y="534"/>
                  </a:lnTo>
                  <a:lnTo>
                    <a:pt x="955" y="534"/>
                  </a:lnTo>
                  <a:lnTo>
                    <a:pt x="1004" y="566"/>
                  </a:lnTo>
                  <a:lnTo>
                    <a:pt x="1004" y="566"/>
                  </a:lnTo>
                  <a:lnTo>
                    <a:pt x="1004" y="582"/>
                  </a:lnTo>
                  <a:lnTo>
                    <a:pt x="1020" y="566"/>
                  </a:lnTo>
                  <a:lnTo>
                    <a:pt x="1052" y="599"/>
                  </a:lnTo>
                  <a:lnTo>
                    <a:pt x="1052" y="599"/>
                  </a:lnTo>
                  <a:lnTo>
                    <a:pt x="1085" y="615"/>
                  </a:lnTo>
                  <a:lnTo>
                    <a:pt x="1085" y="647"/>
                  </a:lnTo>
                  <a:lnTo>
                    <a:pt x="1101" y="680"/>
                  </a:lnTo>
                  <a:lnTo>
                    <a:pt x="1101" y="680"/>
                  </a:lnTo>
                  <a:lnTo>
                    <a:pt x="1085" y="696"/>
                  </a:lnTo>
                  <a:lnTo>
                    <a:pt x="1085" y="696"/>
                  </a:lnTo>
                  <a:lnTo>
                    <a:pt x="1085" y="712"/>
                  </a:lnTo>
                  <a:lnTo>
                    <a:pt x="1117" y="744"/>
                  </a:lnTo>
                  <a:lnTo>
                    <a:pt x="1117" y="760"/>
                  </a:lnTo>
                  <a:lnTo>
                    <a:pt x="1117" y="760"/>
                  </a:lnTo>
                  <a:lnTo>
                    <a:pt x="1133" y="760"/>
                  </a:lnTo>
                  <a:lnTo>
                    <a:pt x="1117" y="744"/>
                  </a:lnTo>
                  <a:lnTo>
                    <a:pt x="1133" y="744"/>
                  </a:lnTo>
                  <a:lnTo>
                    <a:pt x="1149" y="760"/>
                  </a:lnTo>
                  <a:lnTo>
                    <a:pt x="1149" y="760"/>
                  </a:lnTo>
                  <a:lnTo>
                    <a:pt x="1165" y="777"/>
                  </a:lnTo>
                  <a:lnTo>
                    <a:pt x="1149" y="793"/>
                  </a:lnTo>
                  <a:lnTo>
                    <a:pt x="1149" y="793"/>
                  </a:lnTo>
                  <a:lnTo>
                    <a:pt x="1165" y="809"/>
                  </a:lnTo>
                  <a:lnTo>
                    <a:pt x="1149" y="825"/>
                  </a:lnTo>
                  <a:lnTo>
                    <a:pt x="1149" y="841"/>
                  </a:lnTo>
                  <a:lnTo>
                    <a:pt x="1149" y="858"/>
                  </a:lnTo>
                  <a:lnTo>
                    <a:pt x="1117" y="841"/>
                  </a:lnTo>
                  <a:lnTo>
                    <a:pt x="1117" y="841"/>
                  </a:lnTo>
                  <a:lnTo>
                    <a:pt x="1117" y="874"/>
                  </a:lnTo>
                  <a:lnTo>
                    <a:pt x="1101" y="890"/>
                  </a:lnTo>
                  <a:lnTo>
                    <a:pt x="1101" y="874"/>
                  </a:lnTo>
                  <a:lnTo>
                    <a:pt x="1101" y="858"/>
                  </a:lnTo>
                  <a:lnTo>
                    <a:pt x="1085" y="858"/>
                  </a:lnTo>
                  <a:lnTo>
                    <a:pt x="1085" y="874"/>
                  </a:lnTo>
                  <a:lnTo>
                    <a:pt x="1101" y="874"/>
                  </a:lnTo>
                  <a:lnTo>
                    <a:pt x="1101" y="906"/>
                  </a:lnTo>
                  <a:lnTo>
                    <a:pt x="1085" y="906"/>
                  </a:lnTo>
                  <a:lnTo>
                    <a:pt x="1101" y="922"/>
                  </a:lnTo>
                  <a:lnTo>
                    <a:pt x="1068" y="938"/>
                  </a:lnTo>
                  <a:lnTo>
                    <a:pt x="1085" y="938"/>
                  </a:lnTo>
                  <a:lnTo>
                    <a:pt x="1085" y="955"/>
                  </a:lnTo>
                  <a:lnTo>
                    <a:pt x="1068" y="971"/>
                  </a:lnTo>
                  <a:lnTo>
                    <a:pt x="1068" y="987"/>
                  </a:lnTo>
                  <a:lnTo>
                    <a:pt x="1020" y="987"/>
                  </a:lnTo>
                  <a:lnTo>
                    <a:pt x="971" y="1003"/>
                  </a:lnTo>
                  <a:lnTo>
                    <a:pt x="955" y="1003"/>
                  </a:lnTo>
                  <a:lnTo>
                    <a:pt x="955" y="971"/>
                  </a:lnTo>
                  <a:lnTo>
                    <a:pt x="987" y="955"/>
                  </a:lnTo>
                  <a:lnTo>
                    <a:pt x="1004" y="938"/>
                  </a:lnTo>
                  <a:lnTo>
                    <a:pt x="1004" y="906"/>
                  </a:lnTo>
                  <a:lnTo>
                    <a:pt x="987" y="906"/>
                  </a:lnTo>
                  <a:lnTo>
                    <a:pt x="987" y="890"/>
                  </a:lnTo>
                  <a:lnTo>
                    <a:pt x="971" y="890"/>
                  </a:lnTo>
                  <a:lnTo>
                    <a:pt x="907" y="890"/>
                  </a:lnTo>
                  <a:lnTo>
                    <a:pt x="874" y="890"/>
                  </a:lnTo>
                  <a:lnTo>
                    <a:pt x="809" y="890"/>
                  </a:lnTo>
                  <a:lnTo>
                    <a:pt x="761" y="890"/>
                  </a:lnTo>
                  <a:lnTo>
                    <a:pt x="761" y="890"/>
                  </a:lnTo>
                  <a:lnTo>
                    <a:pt x="712" y="906"/>
                  </a:lnTo>
                  <a:lnTo>
                    <a:pt x="648" y="906"/>
                  </a:lnTo>
                  <a:lnTo>
                    <a:pt x="631" y="906"/>
                  </a:lnTo>
                  <a:lnTo>
                    <a:pt x="567" y="906"/>
                  </a:lnTo>
                  <a:lnTo>
                    <a:pt x="534" y="906"/>
                  </a:lnTo>
                  <a:lnTo>
                    <a:pt x="518" y="906"/>
                  </a:lnTo>
                  <a:lnTo>
                    <a:pt x="437" y="906"/>
                  </a:lnTo>
                  <a:lnTo>
                    <a:pt x="437" y="906"/>
                  </a:lnTo>
                  <a:lnTo>
                    <a:pt x="389" y="906"/>
                  </a:lnTo>
                  <a:lnTo>
                    <a:pt x="340" y="906"/>
                  </a:lnTo>
                  <a:lnTo>
                    <a:pt x="308" y="906"/>
                  </a:lnTo>
                  <a:lnTo>
                    <a:pt x="211" y="922"/>
                  </a:lnTo>
                  <a:lnTo>
                    <a:pt x="211" y="874"/>
                  </a:lnTo>
                  <a:lnTo>
                    <a:pt x="211" y="858"/>
                  </a:lnTo>
                  <a:lnTo>
                    <a:pt x="211" y="80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41920" y="1995480"/>
              <a:ext cx="1085760" cy="685800"/>
            </a:xfrm>
            <a:custGeom>
              <a:avLst/>
              <a:gdLst/>
              <a:ahLst/>
              <a:rect l="l" t="t" r="r" b="b"/>
              <a:pathLst>
                <a:path w="1764" h="1116">
                  <a:moveTo>
                    <a:pt x="598" y="1100"/>
                  </a:moveTo>
                  <a:lnTo>
                    <a:pt x="598" y="1100"/>
                  </a:lnTo>
                  <a:lnTo>
                    <a:pt x="582" y="1068"/>
                  </a:lnTo>
                  <a:lnTo>
                    <a:pt x="582" y="1068"/>
                  </a:lnTo>
                  <a:lnTo>
                    <a:pt x="566" y="1052"/>
                  </a:lnTo>
                  <a:lnTo>
                    <a:pt x="566" y="1035"/>
                  </a:lnTo>
                  <a:lnTo>
                    <a:pt x="550" y="1035"/>
                  </a:lnTo>
                  <a:lnTo>
                    <a:pt x="550" y="1035"/>
                  </a:lnTo>
                  <a:lnTo>
                    <a:pt x="534" y="1035"/>
                  </a:lnTo>
                  <a:lnTo>
                    <a:pt x="534" y="1052"/>
                  </a:lnTo>
                  <a:lnTo>
                    <a:pt x="534" y="1052"/>
                  </a:lnTo>
                  <a:lnTo>
                    <a:pt x="534" y="1068"/>
                  </a:lnTo>
                  <a:lnTo>
                    <a:pt x="534" y="1068"/>
                  </a:lnTo>
                  <a:lnTo>
                    <a:pt x="517" y="1068"/>
                  </a:lnTo>
                  <a:lnTo>
                    <a:pt x="501" y="1068"/>
                  </a:lnTo>
                  <a:lnTo>
                    <a:pt x="485" y="1068"/>
                  </a:lnTo>
                  <a:lnTo>
                    <a:pt x="469" y="1068"/>
                  </a:lnTo>
                  <a:lnTo>
                    <a:pt x="437" y="1068"/>
                  </a:lnTo>
                  <a:lnTo>
                    <a:pt x="420" y="1052"/>
                  </a:lnTo>
                  <a:lnTo>
                    <a:pt x="404" y="1052"/>
                  </a:lnTo>
                  <a:lnTo>
                    <a:pt x="388" y="1068"/>
                  </a:lnTo>
                  <a:lnTo>
                    <a:pt x="339" y="1052"/>
                  </a:lnTo>
                  <a:lnTo>
                    <a:pt x="323" y="1052"/>
                  </a:lnTo>
                  <a:lnTo>
                    <a:pt x="323" y="1068"/>
                  </a:lnTo>
                  <a:lnTo>
                    <a:pt x="323" y="1084"/>
                  </a:lnTo>
                  <a:lnTo>
                    <a:pt x="291" y="1052"/>
                  </a:lnTo>
                  <a:lnTo>
                    <a:pt x="291" y="1035"/>
                  </a:lnTo>
                  <a:lnTo>
                    <a:pt x="291" y="1019"/>
                  </a:lnTo>
                  <a:lnTo>
                    <a:pt x="291" y="1019"/>
                  </a:lnTo>
                  <a:lnTo>
                    <a:pt x="291" y="987"/>
                  </a:lnTo>
                  <a:lnTo>
                    <a:pt x="275" y="971"/>
                  </a:lnTo>
                  <a:lnTo>
                    <a:pt x="259" y="971"/>
                  </a:lnTo>
                  <a:lnTo>
                    <a:pt x="242" y="955"/>
                  </a:lnTo>
                  <a:lnTo>
                    <a:pt x="242" y="938"/>
                  </a:lnTo>
                  <a:lnTo>
                    <a:pt x="242" y="938"/>
                  </a:lnTo>
                  <a:lnTo>
                    <a:pt x="259" y="906"/>
                  </a:lnTo>
                  <a:lnTo>
                    <a:pt x="242" y="906"/>
                  </a:lnTo>
                  <a:lnTo>
                    <a:pt x="242" y="906"/>
                  </a:lnTo>
                  <a:lnTo>
                    <a:pt x="242" y="890"/>
                  </a:lnTo>
                  <a:lnTo>
                    <a:pt x="226" y="841"/>
                  </a:lnTo>
                  <a:lnTo>
                    <a:pt x="210" y="825"/>
                  </a:lnTo>
                  <a:lnTo>
                    <a:pt x="226" y="809"/>
                  </a:lnTo>
                  <a:lnTo>
                    <a:pt x="210" y="809"/>
                  </a:lnTo>
                  <a:lnTo>
                    <a:pt x="226" y="793"/>
                  </a:lnTo>
                  <a:lnTo>
                    <a:pt x="210" y="777"/>
                  </a:lnTo>
                  <a:lnTo>
                    <a:pt x="210" y="760"/>
                  </a:lnTo>
                  <a:lnTo>
                    <a:pt x="194" y="760"/>
                  </a:lnTo>
                  <a:lnTo>
                    <a:pt x="194" y="777"/>
                  </a:lnTo>
                  <a:lnTo>
                    <a:pt x="178" y="793"/>
                  </a:lnTo>
                  <a:lnTo>
                    <a:pt x="145" y="793"/>
                  </a:lnTo>
                  <a:lnTo>
                    <a:pt x="145" y="793"/>
                  </a:lnTo>
                  <a:lnTo>
                    <a:pt x="129" y="793"/>
                  </a:lnTo>
                  <a:lnTo>
                    <a:pt x="113" y="777"/>
                  </a:lnTo>
                  <a:lnTo>
                    <a:pt x="113" y="777"/>
                  </a:lnTo>
                  <a:lnTo>
                    <a:pt x="113" y="760"/>
                  </a:lnTo>
                  <a:lnTo>
                    <a:pt x="113" y="760"/>
                  </a:lnTo>
                  <a:lnTo>
                    <a:pt x="113" y="760"/>
                  </a:lnTo>
                  <a:lnTo>
                    <a:pt x="129" y="744"/>
                  </a:lnTo>
                  <a:lnTo>
                    <a:pt x="113" y="728"/>
                  </a:lnTo>
                  <a:lnTo>
                    <a:pt x="129" y="712"/>
                  </a:lnTo>
                  <a:lnTo>
                    <a:pt x="145" y="712"/>
                  </a:lnTo>
                  <a:lnTo>
                    <a:pt x="145" y="696"/>
                  </a:lnTo>
                  <a:lnTo>
                    <a:pt x="145" y="679"/>
                  </a:lnTo>
                  <a:lnTo>
                    <a:pt x="129" y="679"/>
                  </a:lnTo>
                  <a:lnTo>
                    <a:pt x="145" y="663"/>
                  </a:lnTo>
                  <a:lnTo>
                    <a:pt x="129" y="647"/>
                  </a:lnTo>
                  <a:lnTo>
                    <a:pt x="145" y="647"/>
                  </a:lnTo>
                  <a:lnTo>
                    <a:pt x="145" y="631"/>
                  </a:lnTo>
                  <a:lnTo>
                    <a:pt x="161" y="615"/>
                  </a:lnTo>
                  <a:lnTo>
                    <a:pt x="161" y="598"/>
                  </a:lnTo>
                  <a:lnTo>
                    <a:pt x="161" y="582"/>
                  </a:lnTo>
                  <a:lnTo>
                    <a:pt x="178" y="566"/>
                  </a:lnTo>
                  <a:lnTo>
                    <a:pt x="178" y="550"/>
                  </a:lnTo>
                  <a:lnTo>
                    <a:pt x="145" y="534"/>
                  </a:lnTo>
                  <a:lnTo>
                    <a:pt x="145" y="518"/>
                  </a:lnTo>
                  <a:lnTo>
                    <a:pt x="129" y="518"/>
                  </a:lnTo>
                  <a:lnTo>
                    <a:pt x="129" y="501"/>
                  </a:lnTo>
                  <a:lnTo>
                    <a:pt x="113" y="501"/>
                  </a:lnTo>
                  <a:lnTo>
                    <a:pt x="97" y="485"/>
                  </a:lnTo>
                  <a:lnTo>
                    <a:pt x="113" y="469"/>
                  </a:lnTo>
                  <a:lnTo>
                    <a:pt x="97" y="469"/>
                  </a:lnTo>
                  <a:lnTo>
                    <a:pt x="97" y="453"/>
                  </a:lnTo>
                  <a:lnTo>
                    <a:pt x="80" y="420"/>
                  </a:lnTo>
                  <a:lnTo>
                    <a:pt x="64" y="404"/>
                  </a:lnTo>
                  <a:lnTo>
                    <a:pt x="64" y="388"/>
                  </a:lnTo>
                  <a:lnTo>
                    <a:pt x="48" y="372"/>
                  </a:lnTo>
                  <a:lnTo>
                    <a:pt x="32" y="356"/>
                  </a:lnTo>
                  <a:lnTo>
                    <a:pt x="16" y="340"/>
                  </a:lnTo>
                  <a:lnTo>
                    <a:pt x="32" y="323"/>
                  </a:lnTo>
                  <a:lnTo>
                    <a:pt x="16" y="307"/>
                  </a:lnTo>
                  <a:lnTo>
                    <a:pt x="32" y="307"/>
                  </a:lnTo>
                  <a:lnTo>
                    <a:pt x="16" y="291"/>
                  </a:lnTo>
                  <a:lnTo>
                    <a:pt x="32" y="275"/>
                  </a:lnTo>
                  <a:lnTo>
                    <a:pt x="16" y="259"/>
                  </a:lnTo>
                  <a:lnTo>
                    <a:pt x="16" y="242"/>
                  </a:lnTo>
                  <a:lnTo>
                    <a:pt x="0" y="210"/>
                  </a:lnTo>
                  <a:lnTo>
                    <a:pt x="0" y="162"/>
                  </a:lnTo>
                  <a:lnTo>
                    <a:pt x="16" y="97"/>
                  </a:lnTo>
                  <a:lnTo>
                    <a:pt x="32" y="0"/>
                  </a:lnTo>
                  <a:lnTo>
                    <a:pt x="226" y="32"/>
                  </a:lnTo>
                  <a:lnTo>
                    <a:pt x="323" y="48"/>
                  </a:lnTo>
                  <a:lnTo>
                    <a:pt x="582" y="97"/>
                  </a:lnTo>
                  <a:lnTo>
                    <a:pt x="712" y="129"/>
                  </a:lnTo>
                  <a:lnTo>
                    <a:pt x="793" y="129"/>
                  </a:lnTo>
                  <a:lnTo>
                    <a:pt x="971" y="162"/>
                  </a:lnTo>
                  <a:lnTo>
                    <a:pt x="1149" y="194"/>
                  </a:lnTo>
                  <a:lnTo>
                    <a:pt x="1310" y="210"/>
                  </a:lnTo>
                  <a:lnTo>
                    <a:pt x="1456" y="226"/>
                  </a:lnTo>
                  <a:lnTo>
                    <a:pt x="1618" y="242"/>
                  </a:lnTo>
                  <a:lnTo>
                    <a:pt x="1764" y="259"/>
                  </a:lnTo>
                  <a:lnTo>
                    <a:pt x="1747" y="323"/>
                  </a:lnTo>
                  <a:lnTo>
                    <a:pt x="1747" y="388"/>
                  </a:lnTo>
                  <a:lnTo>
                    <a:pt x="1747" y="469"/>
                  </a:lnTo>
                  <a:lnTo>
                    <a:pt x="1731" y="598"/>
                  </a:lnTo>
                  <a:lnTo>
                    <a:pt x="1731" y="615"/>
                  </a:lnTo>
                  <a:lnTo>
                    <a:pt x="1715" y="760"/>
                  </a:lnTo>
                  <a:lnTo>
                    <a:pt x="1715" y="777"/>
                  </a:lnTo>
                  <a:lnTo>
                    <a:pt x="1715" y="841"/>
                  </a:lnTo>
                  <a:lnTo>
                    <a:pt x="1699" y="906"/>
                  </a:lnTo>
                  <a:lnTo>
                    <a:pt x="1699" y="922"/>
                  </a:lnTo>
                  <a:lnTo>
                    <a:pt x="1699" y="1068"/>
                  </a:lnTo>
                  <a:lnTo>
                    <a:pt x="1683" y="1116"/>
                  </a:lnTo>
                  <a:lnTo>
                    <a:pt x="1537" y="1100"/>
                  </a:lnTo>
                  <a:lnTo>
                    <a:pt x="1537" y="1100"/>
                  </a:lnTo>
                  <a:lnTo>
                    <a:pt x="1391" y="1084"/>
                  </a:lnTo>
                  <a:lnTo>
                    <a:pt x="1343" y="1084"/>
                  </a:lnTo>
                  <a:lnTo>
                    <a:pt x="1100" y="1052"/>
                  </a:lnTo>
                  <a:lnTo>
                    <a:pt x="1035" y="1052"/>
                  </a:lnTo>
                  <a:lnTo>
                    <a:pt x="987" y="1035"/>
                  </a:lnTo>
                  <a:lnTo>
                    <a:pt x="809" y="1019"/>
                  </a:lnTo>
                  <a:lnTo>
                    <a:pt x="776" y="1003"/>
                  </a:lnTo>
                  <a:lnTo>
                    <a:pt x="615" y="987"/>
                  </a:lnTo>
                  <a:lnTo>
                    <a:pt x="598" y="1052"/>
                  </a:lnTo>
                  <a:lnTo>
                    <a:pt x="598" y="11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3520" y="2363760"/>
              <a:ext cx="169920" cy="368280"/>
            </a:xfrm>
            <a:custGeom>
              <a:avLst/>
              <a:gdLst/>
              <a:ahLst/>
              <a:rect l="l" t="t" r="r" b="b"/>
              <a:pathLst>
                <a:path w="275" h="599">
                  <a:moveTo>
                    <a:pt x="113" y="583"/>
                  </a:moveTo>
                  <a:lnTo>
                    <a:pt x="113" y="583"/>
                  </a:lnTo>
                  <a:lnTo>
                    <a:pt x="65" y="599"/>
                  </a:lnTo>
                  <a:lnTo>
                    <a:pt x="32" y="599"/>
                  </a:lnTo>
                  <a:lnTo>
                    <a:pt x="16" y="583"/>
                  </a:lnTo>
                  <a:lnTo>
                    <a:pt x="16" y="567"/>
                  </a:lnTo>
                  <a:lnTo>
                    <a:pt x="16" y="551"/>
                  </a:lnTo>
                  <a:lnTo>
                    <a:pt x="0" y="518"/>
                  </a:lnTo>
                  <a:lnTo>
                    <a:pt x="0" y="502"/>
                  </a:lnTo>
                  <a:lnTo>
                    <a:pt x="0" y="486"/>
                  </a:lnTo>
                  <a:lnTo>
                    <a:pt x="0" y="437"/>
                  </a:lnTo>
                  <a:lnTo>
                    <a:pt x="0" y="421"/>
                  </a:lnTo>
                  <a:lnTo>
                    <a:pt x="0" y="389"/>
                  </a:lnTo>
                  <a:lnTo>
                    <a:pt x="16" y="373"/>
                  </a:lnTo>
                  <a:lnTo>
                    <a:pt x="16" y="357"/>
                  </a:lnTo>
                  <a:lnTo>
                    <a:pt x="16" y="340"/>
                  </a:lnTo>
                  <a:lnTo>
                    <a:pt x="16" y="324"/>
                  </a:lnTo>
                  <a:lnTo>
                    <a:pt x="16" y="324"/>
                  </a:lnTo>
                  <a:lnTo>
                    <a:pt x="16" y="308"/>
                  </a:lnTo>
                  <a:lnTo>
                    <a:pt x="16" y="292"/>
                  </a:lnTo>
                  <a:lnTo>
                    <a:pt x="0" y="259"/>
                  </a:lnTo>
                  <a:lnTo>
                    <a:pt x="16" y="259"/>
                  </a:lnTo>
                  <a:lnTo>
                    <a:pt x="32" y="243"/>
                  </a:lnTo>
                  <a:lnTo>
                    <a:pt x="48" y="227"/>
                  </a:lnTo>
                  <a:lnTo>
                    <a:pt x="65" y="211"/>
                  </a:lnTo>
                  <a:lnTo>
                    <a:pt x="65" y="195"/>
                  </a:lnTo>
                  <a:lnTo>
                    <a:pt x="65" y="179"/>
                  </a:lnTo>
                  <a:lnTo>
                    <a:pt x="65" y="179"/>
                  </a:lnTo>
                  <a:lnTo>
                    <a:pt x="48" y="146"/>
                  </a:lnTo>
                  <a:lnTo>
                    <a:pt x="48" y="114"/>
                  </a:lnTo>
                  <a:lnTo>
                    <a:pt x="48" y="98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8" y="6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65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162" y="211"/>
                  </a:lnTo>
                  <a:lnTo>
                    <a:pt x="194" y="324"/>
                  </a:lnTo>
                  <a:lnTo>
                    <a:pt x="210" y="373"/>
                  </a:lnTo>
                  <a:lnTo>
                    <a:pt x="226" y="405"/>
                  </a:lnTo>
                  <a:lnTo>
                    <a:pt x="243" y="421"/>
                  </a:lnTo>
                  <a:lnTo>
                    <a:pt x="259" y="437"/>
                  </a:lnTo>
                  <a:lnTo>
                    <a:pt x="259" y="454"/>
                  </a:lnTo>
                  <a:lnTo>
                    <a:pt x="243" y="454"/>
                  </a:lnTo>
                  <a:lnTo>
                    <a:pt x="259" y="470"/>
                  </a:lnTo>
                  <a:lnTo>
                    <a:pt x="243" y="470"/>
                  </a:lnTo>
                  <a:lnTo>
                    <a:pt x="259" y="470"/>
                  </a:lnTo>
                  <a:lnTo>
                    <a:pt x="259" y="470"/>
                  </a:lnTo>
                  <a:lnTo>
                    <a:pt x="275" y="470"/>
                  </a:lnTo>
                  <a:lnTo>
                    <a:pt x="275" y="502"/>
                  </a:lnTo>
                  <a:lnTo>
                    <a:pt x="259" y="502"/>
                  </a:lnTo>
                  <a:lnTo>
                    <a:pt x="243" y="518"/>
                  </a:lnTo>
                  <a:lnTo>
                    <a:pt x="243" y="535"/>
                  </a:lnTo>
                  <a:lnTo>
                    <a:pt x="226" y="535"/>
                  </a:lnTo>
                  <a:lnTo>
                    <a:pt x="226" y="551"/>
                  </a:lnTo>
                  <a:lnTo>
                    <a:pt x="210" y="551"/>
                  </a:lnTo>
                  <a:lnTo>
                    <a:pt x="210" y="551"/>
                  </a:lnTo>
                  <a:lnTo>
                    <a:pt x="210" y="567"/>
                  </a:lnTo>
                  <a:lnTo>
                    <a:pt x="113" y="5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24880" y="2971440"/>
              <a:ext cx="141120" cy="317520"/>
            </a:xfrm>
            <a:custGeom>
              <a:avLst/>
              <a:gdLst/>
              <a:ahLst/>
              <a:rect l="l" t="t" r="r" b="b"/>
              <a:pathLst>
                <a:path w="227" h="518">
                  <a:moveTo>
                    <a:pt x="16" y="372"/>
                  </a:moveTo>
                  <a:lnTo>
                    <a:pt x="16" y="356"/>
                  </a:lnTo>
                  <a:lnTo>
                    <a:pt x="16" y="356"/>
                  </a:lnTo>
                  <a:lnTo>
                    <a:pt x="33" y="340"/>
                  </a:lnTo>
                  <a:lnTo>
                    <a:pt x="49" y="340"/>
                  </a:lnTo>
                  <a:lnTo>
                    <a:pt x="49" y="323"/>
                  </a:lnTo>
                  <a:lnTo>
                    <a:pt x="49" y="307"/>
                  </a:lnTo>
                  <a:lnTo>
                    <a:pt x="65" y="307"/>
                  </a:lnTo>
                  <a:lnTo>
                    <a:pt x="81" y="291"/>
                  </a:lnTo>
                  <a:lnTo>
                    <a:pt x="114" y="259"/>
                  </a:lnTo>
                  <a:lnTo>
                    <a:pt x="65" y="226"/>
                  </a:lnTo>
                  <a:lnTo>
                    <a:pt x="65" y="210"/>
                  </a:lnTo>
                  <a:lnTo>
                    <a:pt x="49" y="210"/>
                  </a:lnTo>
                  <a:lnTo>
                    <a:pt x="33" y="178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0" y="145"/>
                  </a:lnTo>
                  <a:lnTo>
                    <a:pt x="16" y="129"/>
                  </a:lnTo>
                  <a:lnTo>
                    <a:pt x="16" y="113"/>
                  </a:lnTo>
                  <a:lnTo>
                    <a:pt x="16" y="113"/>
                  </a:lnTo>
                  <a:lnTo>
                    <a:pt x="0" y="97"/>
                  </a:lnTo>
                  <a:lnTo>
                    <a:pt x="33" y="64"/>
                  </a:lnTo>
                  <a:lnTo>
                    <a:pt x="16" y="64"/>
                  </a:lnTo>
                  <a:lnTo>
                    <a:pt x="33" y="48"/>
                  </a:lnTo>
                  <a:lnTo>
                    <a:pt x="33" y="16"/>
                  </a:lnTo>
                  <a:lnTo>
                    <a:pt x="65" y="0"/>
                  </a:lnTo>
                  <a:lnTo>
                    <a:pt x="114" y="16"/>
                  </a:lnTo>
                  <a:lnTo>
                    <a:pt x="146" y="32"/>
                  </a:lnTo>
                  <a:lnTo>
                    <a:pt x="146" y="32"/>
                  </a:lnTo>
                  <a:lnTo>
                    <a:pt x="194" y="48"/>
                  </a:lnTo>
                  <a:lnTo>
                    <a:pt x="211" y="64"/>
                  </a:lnTo>
                  <a:lnTo>
                    <a:pt x="211" y="64"/>
                  </a:lnTo>
                  <a:lnTo>
                    <a:pt x="194" y="81"/>
                  </a:lnTo>
                  <a:lnTo>
                    <a:pt x="194" y="113"/>
                  </a:lnTo>
                  <a:lnTo>
                    <a:pt x="178" y="129"/>
                  </a:lnTo>
                  <a:lnTo>
                    <a:pt x="178" y="113"/>
                  </a:lnTo>
                  <a:lnTo>
                    <a:pt x="178" y="113"/>
                  </a:lnTo>
                  <a:lnTo>
                    <a:pt x="178" y="145"/>
                  </a:lnTo>
                  <a:lnTo>
                    <a:pt x="162" y="162"/>
                  </a:lnTo>
                  <a:lnTo>
                    <a:pt x="162" y="162"/>
                  </a:lnTo>
                  <a:lnTo>
                    <a:pt x="178" y="178"/>
                  </a:lnTo>
                  <a:lnTo>
                    <a:pt x="194" y="162"/>
                  </a:lnTo>
                  <a:lnTo>
                    <a:pt x="227" y="194"/>
                  </a:lnTo>
                  <a:lnTo>
                    <a:pt x="227" y="242"/>
                  </a:lnTo>
                  <a:lnTo>
                    <a:pt x="211" y="242"/>
                  </a:lnTo>
                  <a:lnTo>
                    <a:pt x="211" y="242"/>
                  </a:lnTo>
                  <a:lnTo>
                    <a:pt x="227" y="242"/>
                  </a:lnTo>
                  <a:lnTo>
                    <a:pt x="227" y="242"/>
                  </a:lnTo>
                  <a:lnTo>
                    <a:pt x="211" y="259"/>
                  </a:lnTo>
                  <a:lnTo>
                    <a:pt x="227" y="259"/>
                  </a:lnTo>
                  <a:lnTo>
                    <a:pt x="211" y="291"/>
                  </a:lnTo>
                  <a:lnTo>
                    <a:pt x="227" y="323"/>
                  </a:lnTo>
                  <a:lnTo>
                    <a:pt x="211" y="356"/>
                  </a:lnTo>
                  <a:lnTo>
                    <a:pt x="211" y="356"/>
                  </a:lnTo>
                  <a:lnTo>
                    <a:pt x="211" y="372"/>
                  </a:lnTo>
                  <a:lnTo>
                    <a:pt x="194" y="372"/>
                  </a:lnTo>
                  <a:lnTo>
                    <a:pt x="194" y="388"/>
                  </a:lnTo>
                  <a:lnTo>
                    <a:pt x="194" y="404"/>
                  </a:lnTo>
                  <a:lnTo>
                    <a:pt x="194" y="404"/>
                  </a:lnTo>
                  <a:lnTo>
                    <a:pt x="162" y="437"/>
                  </a:lnTo>
                  <a:lnTo>
                    <a:pt x="178" y="437"/>
                  </a:lnTo>
                  <a:lnTo>
                    <a:pt x="178" y="437"/>
                  </a:lnTo>
                  <a:lnTo>
                    <a:pt x="146" y="501"/>
                  </a:lnTo>
                  <a:lnTo>
                    <a:pt x="146" y="501"/>
                  </a:lnTo>
                  <a:lnTo>
                    <a:pt x="146" y="518"/>
                  </a:lnTo>
                  <a:lnTo>
                    <a:pt x="130" y="518"/>
                  </a:lnTo>
                  <a:lnTo>
                    <a:pt x="130" y="485"/>
                  </a:lnTo>
                  <a:lnTo>
                    <a:pt x="130" y="469"/>
                  </a:lnTo>
                  <a:lnTo>
                    <a:pt x="114" y="469"/>
                  </a:lnTo>
                  <a:lnTo>
                    <a:pt x="97" y="469"/>
                  </a:lnTo>
                  <a:lnTo>
                    <a:pt x="33" y="453"/>
                  </a:lnTo>
                  <a:lnTo>
                    <a:pt x="16" y="421"/>
                  </a:lnTo>
                  <a:lnTo>
                    <a:pt x="16" y="404"/>
                  </a:lnTo>
                  <a:lnTo>
                    <a:pt x="0" y="404"/>
                  </a:lnTo>
                  <a:lnTo>
                    <a:pt x="16" y="37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628800"/>
              <a:ext cx="934920" cy="407880"/>
            </a:xfrm>
            <a:custGeom>
              <a:avLst/>
              <a:gdLst/>
              <a:ahLst/>
              <a:rect l="l" t="t" r="r" b="b"/>
              <a:pathLst>
                <a:path w="1522" h="663">
                  <a:moveTo>
                    <a:pt x="1441" y="65"/>
                  </a:moveTo>
                  <a:lnTo>
                    <a:pt x="1489" y="146"/>
                  </a:lnTo>
                  <a:lnTo>
                    <a:pt x="1457" y="97"/>
                  </a:lnTo>
                  <a:lnTo>
                    <a:pt x="1457" y="97"/>
                  </a:lnTo>
                  <a:lnTo>
                    <a:pt x="1441" y="65"/>
                  </a:lnTo>
                  <a:lnTo>
                    <a:pt x="1392" y="0"/>
                  </a:lnTo>
                  <a:lnTo>
                    <a:pt x="1408" y="0"/>
                  </a:lnTo>
                  <a:lnTo>
                    <a:pt x="1441" y="65"/>
                  </a:lnTo>
                  <a:lnTo>
                    <a:pt x="1441" y="65"/>
                  </a:lnTo>
                  <a:close/>
                  <a:moveTo>
                    <a:pt x="1376" y="0"/>
                  </a:moveTo>
                  <a:lnTo>
                    <a:pt x="1376" y="0"/>
                  </a:lnTo>
                  <a:lnTo>
                    <a:pt x="1392" y="0"/>
                  </a:lnTo>
                  <a:lnTo>
                    <a:pt x="1392" y="16"/>
                  </a:lnTo>
                  <a:lnTo>
                    <a:pt x="1392" y="16"/>
                  </a:lnTo>
                  <a:lnTo>
                    <a:pt x="1392" y="16"/>
                  </a:lnTo>
                  <a:lnTo>
                    <a:pt x="1376" y="0"/>
                  </a:lnTo>
                  <a:lnTo>
                    <a:pt x="1376" y="0"/>
                  </a:lnTo>
                  <a:close/>
                  <a:moveTo>
                    <a:pt x="65" y="582"/>
                  </a:moveTo>
                  <a:lnTo>
                    <a:pt x="49" y="582"/>
                  </a:lnTo>
                  <a:lnTo>
                    <a:pt x="33" y="582"/>
                  </a:lnTo>
                  <a:lnTo>
                    <a:pt x="0" y="582"/>
                  </a:lnTo>
                  <a:lnTo>
                    <a:pt x="0" y="534"/>
                  </a:lnTo>
                  <a:lnTo>
                    <a:pt x="0" y="518"/>
                  </a:lnTo>
                  <a:lnTo>
                    <a:pt x="33" y="518"/>
                  </a:lnTo>
                  <a:lnTo>
                    <a:pt x="33" y="518"/>
                  </a:lnTo>
                  <a:lnTo>
                    <a:pt x="33" y="485"/>
                  </a:lnTo>
                  <a:lnTo>
                    <a:pt x="49" y="469"/>
                  </a:lnTo>
                  <a:lnTo>
                    <a:pt x="81" y="453"/>
                  </a:lnTo>
                  <a:lnTo>
                    <a:pt x="97" y="437"/>
                  </a:lnTo>
                  <a:lnTo>
                    <a:pt x="130" y="437"/>
                  </a:lnTo>
                  <a:lnTo>
                    <a:pt x="162" y="404"/>
                  </a:lnTo>
                  <a:lnTo>
                    <a:pt x="162" y="404"/>
                  </a:lnTo>
                  <a:lnTo>
                    <a:pt x="178" y="388"/>
                  </a:lnTo>
                  <a:lnTo>
                    <a:pt x="211" y="372"/>
                  </a:lnTo>
                  <a:lnTo>
                    <a:pt x="227" y="340"/>
                  </a:lnTo>
                  <a:lnTo>
                    <a:pt x="243" y="340"/>
                  </a:lnTo>
                  <a:lnTo>
                    <a:pt x="243" y="324"/>
                  </a:lnTo>
                  <a:lnTo>
                    <a:pt x="259" y="307"/>
                  </a:lnTo>
                  <a:lnTo>
                    <a:pt x="276" y="340"/>
                  </a:lnTo>
                  <a:lnTo>
                    <a:pt x="292" y="324"/>
                  </a:lnTo>
                  <a:lnTo>
                    <a:pt x="292" y="307"/>
                  </a:lnTo>
                  <a:lnTo>
                    <a:pt x="340" y="275"/>
                  </a:lnTo>
                  <a:lnTo>
                    <a:pt x="356" y="291"/>
                  </a:lnTo>
                  <a:lnTo>
                    <a:pt x="373" y="275"/>
                  </a:lnTo>
                  <a:lnTo>
                    <a:pt x="373" y="243"/>
                  </a:lnTo>
                  <a:lnTo>
                    <a:pt x="373" y="243"/>
                  </a:lnTo>
                  <a:lnTo>
                    <a:pt x="389" y="226"/>
                  </a:lnTo>
                  <a:lnTo>
                    <a:pt x="405" y="226"/>
                  </a:lnTo>
                  <a:lnTo>
                    <a:pt x="405" y="210"/>
                  </a:lnTo>
                  <a:lnTo>
                    <a:pt x="405" y="178"/>
                  </a:lnTo>
                  <a:lnTo>
                    <a:pt x="470" y="162"/>
                  </a:lnTo>
                  <a:lnTo>
                    <a:pt x="551" y="162"/>
                  </a:lnTo>
                  <a:lnTo>
                    <a:pt x="551" y="162"/>
                  </a:lnTo>
                  <a:lnTo>
                    <a:pt x="599" y="146"/>
                  </a:lnTo>
                  <a:lnTo>
                    <a:pt x="632" y="146"/>
                  </a:lnTo>
                  <a:lnTo>
                    <a:pt x="696" y="146"/>
                  </a:lnTo>
                  <a:lnTo>
                    <a:pt x="696" y="129"/>
                  </a:lnTo>
                  <a:lnTo>
                    <a:pt x="745" y="129"/>
                  </a:lnTo>
                  <a:lnTo>
                    <a:pt x="777" y="129"/>
                  </a:lnTo>
                  <a:lnTo>
                    <a:pt x="826" y="113"/>
                  </a:lnTo>
                  <a:lnTo>
                    <a:pt x="842" y="113"/>
                  </a:lnTo>
                  <a:lnTo>
                    <a:pt x="907" y="97"/>
                  </a:lnTo>
                  <a:lnTo>
                    <a:pt x="923" y="97"/>
                  </a:lnTo>
                  <a:lnTo>
                    <a:pt x="955" y="97"/>
                  </a:lnTo>
                  <a:lnTo>
                    <a:pt x="988" y="81"/>
                  </a:lnTo>
                  <a:lnTo>
                    <a:pt x="1036" y="81"/>
                  </a:lnTo>
                  <a:lnTo>
                    <a:pt x="1052" y="65"/>
                  </a:lnTo>
                  <a:lnTo>
                    <a:pt x="1085" y="65"/>
                  </a:lnTo>
                  <a:lnTo>
                    <a:pt x="1149" y="48"/>
                  </a:lnTo>
                  <a:lnTo>
                    <a:pt x="1182" y="48"/>
                  </a:lnTo>
                  <a:lnTo>
                    <a:pt x="1230" y="32"/>
                  </a:lnTo>
                  <a:lnTo>
                    <a:pt x="1230" y="32"/>
                  </a:lnTo>
                  <a:lnTo>
                    <a:pt x="1279" y="16"/>
                  </a:lnTo>
                  <a:lnTo>
                    <a:pt x="1295" y="16"/>
                  </a:lnTo>
                  <a:lnTo>
                    <a:pt x="1327" y="16"/>
                  </a:lnTo>
                  <a:lnTo>
                    <a:pt x="136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76" y="16"/>
                  </a:lnTo>
                  <a:lnTo>
                    <a:pt x="1392" y="32"/>
                  </a:lnTo>
                  <a:lnTo>
                    <a:pt x="1392" y="32"/>
                  </a:lnTo>
                  <a:lnTo>
                    <a:pt x="1392" y="32"/>
                  </a:lnTo>
                  <a:lnTo>
                    <a:pt x="1392" y="48"/>
                  </a:lnTo>
                  <a:lnTo>
                    <a:pt x="1392" y="32"/>
                  </a:lnTo>
                  <a:lnTo>
                    <a:pt x="1408" y="48"/>
                  </a:lnTo>
                  <a:lnTo>
                    <a:pt x="1441" y="97"/>
                  </a:lnTo>
                  <a:lnTo>
                    <a:pt x="1441" y="97"/>
                  </a:lnTo>
                  <a:lnTo>
                    <a:pt x="1425" y="97"/>
                  </a:lnTo>
                  <a:lnTo>
                    <a:pt x="1408" y="65"/>
                  </a:lnTo>
                  <a:lnTo>
                    <a:pt x="1408" y="65"/>
                  </a:lnTo>
                  <a:lnTo>
                    <a:pt x="1408" y="65"/>
                  </a:lnTo>
                  <a:lnTo>
                    <a:pt x="1392" y="48"/>
                  </a:lnTo>
                  <a:lnTo>
                    <a:pt x="1408" y="81"/>
                  </a:lnTo>
                  <a:lnTo>
                    <a:pt x="1408" y="81"/>
                  </a:lnTo>
                  <a:lnTo>
                    <a:pt x="1360" y="65"/>
                  </a:lnTo>
                  <a:lnTo>
                    <a:pt x="1360" y="65"/>
                  </a:lnTo>
                  <a:lnTo>
                    <a:pt x="1376" y="97"/>
                  </a:lnTo>
                  <a:lnTo>
                    <a:pt x="1376" y="97"/>
                  </a:lnTo>
                  <a:lnTo>
                    <a:pt x="1360" y="97"/>
                  </a:lnTo>
                  <a:lnTo>
                    <a:pt x="1344" y="81"/>
                  </a:lnTo>
                  <a:lnTo>
                    <a:pt x="1360" y="113"/>
                  </a:lnTo>
                  <a:lnTo>
                    <a:pt x="1327" y="129"/>
                  </a:lnTo>
                  <a:lnTo>
                    <a:pt x="1327" y="129"/>
                  </a:lnTo>
                  <a:lnTo>
                    <a:pt x="1311" y="146"/>
                  </a:lnTo>
                  <a:lnTo>
                    <a:pt x="1311" y="146"/>
                  </a:lnTo>
                  <a:lnTo>
                    <a:pt x="1295" y="129"/>
                  </a:lnTo>
                  <a:lnTo>
                    <a:pt x="1295" y="146"/>
                  </a:lnTo>
                  <a:lnTo>
                    <a:pt x="1279" y="129"/>
                  </a:lnTo>
                  <a:lnTo>
                    <a:pt x="1279" y="113"/>
                  </a:lnTo>
                  <a:lnTo>
                    <a:pt x="1279" y="81"/>
                  </a:lnTo>
                  <a:lnTo>
                    <a:pt x="1263" y="81"/>
                  </a:lnTo>
                  <a:lnTo>
                    <a:pt x="1230" y="65"/>
                  </a:lnTo>
                  <a:lnTo>
                    <a:pt x="1263" y="81"/>
                  </a:lnTo>
                  <a:lnTo>
                    <a:pt x="1279" y="97"/>
                  </a:lnTo>
                  <a:lnTo>
                    <a:pt x="1263" y="97"/>
                  </a:lnTo>
                  <a:lnTo>
                    <a:pt x="1263" y="113"/>
                  </a:lnTo>
                  <a:lnTo>
                    <a:pt x="1295" y="146"/>
                  </a:lnTo>
                  <a:lnTo>
                    <a:pt x="1279" y="162"/>
                  </a:lnTo>
                  <a:lnTo>
                    <a:pt x="1295" y="162"/>
                  </a:lnTo>
                  <a:lnTo>
                    <a:pt x="1344" y="146"/>
                  </a:lnTo>
                  <a:lnTo>
                    <a:pt x="1344" y="146"/>
                  </a:lnTo>
                  <a:lnTo>
                    <a:pt x="1376" y="129"/>
                  </a:lnTo>
                  <a:lnTo>
                    <a:pt x="1392" y="129"/>
                  </a:lnTo>
                  <a:lnTo>
                    <a:pt x="1408" y="146"/>
                  </a:lnTo>
                  <a:lnTo>
                    <a:pt x="1408" y="178"/>
                  </a:lnTo>
                  <a:lnTo>
                    <a:pt x="1408" y="194"/>
                  </a:lnTo>
                  <a:lnTo>
                    <a:pt x="1392" y="194"/>
                  </a:lnTo>
                  <a:lnTo>
                    <a:pt x="1408" y="194"/>
                  </a:lnTo>
                  <a:lnTo>
                    <a:pt x="1425" y="194"/>
                  </a:lnTo>
                  <a:lnTo>
                    <a:pt x="1408" y="146"/>
                  </a:lnTo>
                  <a:lnTo>
                    <a:pt x="1441" y="129"/>
                  </a:lnTo>
                  <a:lnTo>
                    <a:pt x="1457" y="146"/>
                  </a:lnTo>
                  <a:lnTo>
                    <a:pt x="1473" y="178"/>
                  </a:lnTo>
                  <a:lnTo>
                    <a:pt x="1457" y="210"/>
                  </a:lnTo>
                  <a:lnTo>
                    <a:pt x="1441" y="194"/>
                  </a:lnTo>
                  <a:lnTo>
                    <a:pt x="1425" y="243"/>
                  </a:lnTo>
                  <a:lnTo>
                    <a:pt x="1408" y="275"/>
                  </a:lnTo>
                  <a:lnTo>
                    <a:pt x="1344" y="259"/>
                  </a:lnTo>
                  <a:lnTo>
                    <a:pt x="1344" y="259"/>
                  </a:lnTo>
                  <a:lnTo>
                    <a:pt x="1344" y="243"/>
                  </a:lnTo>
                  <a:lnTo>
                    <a:pt x="1344" y="243"/>
                  </a:lnTo>
                  <a:lnTo>
                    <a:pt x="1344" y="226"/>
                  </a:lnTo>
                  <a:lnTo>
                    <a:pt x="1344" y="243"/>
                  </a:lnTo>
                  <a:lnTo>
                    <a:pt x="1311" y="243"/>
                  </a:lnTo>
                  <a:lnTo>
                    <a:pt x="1327" y="259"/>
                  </a:lnTo>
                  <a:lnTo>
                    <a:pt x="1311" y="275"/>
                  </a:lnTo>
                  <a:lnTo>
                    <a:pt x="1230" y="259"/>
                  </a:lnTo>
                  <a:lnTo>
                    <a:pt x="1263" y="275"/>
                  </a:lnTo>
                  <a:lnTo>
                    <a:pt x="1311" y="291"/>
                  </a:lnTo>
                  <a:lnTo>
                    <a:pt x="1327" y="307"/>
                  </a:lnTo>
                  <a:lnTo>
                    <a:pt x="1344" y="291"/>
                  </a:lnTo>
                  <a:lnTo>
                    <a:pt x="1344" y="291"/>
                  </a:lnTo>
                  <a:lnTo>
                    <a:pt x="1360" y="307"/>
                  </a:lnTo>
                  <a:lnTo>
                    <a:pt x="1327" y="324"/>
                  </a:lnTo>
                  <a:lnTo>
                    <a:pt x="1344" y="324"/>
                  </a:lnTo>
                  <a:lnTo>
                    <a:pt x="1344" y="340"/>
                  </a:lnTo>
                  <a:lnTo>
                    <a:pt x="1327" y="356"/>
                  </a:lnTo>
                  <a:lnTo>
                    <a:pt x="1311" y="372"/>
                  </a:lnTo>
                  <a:lnTo>
                    <a:pt x="1295" y="372"/>
                  </a:lnTo>
                  <a:lnTo>
                    <a:pt x="1279" y="356"/>
                  </a:lnTo>
                  <a:lnTo>
                    <a:pt x="1263" y="356"/>
                  </a:lnTo>
                  <a:lnTo>
                    <a:pt x="1263" y="356"/>
                  </a:lnTo>
                  <a:lnTo>
                    <a:pt x="1279" y="356"/>
                  </a:lnTo>
                  <a:lnTo>
                    <a:pt x="1295" y="388"/>
                  </a:lnTo>
                  <a:lnTo>
                    <a:pt x="1344" y="388"/>
                  </a:lnTo>
                  <a:lnTo>
                    <a:pt x="1344" y="372"/>
                  </a:lnTo>
                  <a:lnTo>
                    <a:pt x="1360" y="356"/>
                  </a:lnTo>
                  <a:lnTo>
                    <a:pt x="1376" y="356"/>
                  </a:lnTo>
                  <a:lnTo>
                    <a:pt x="1376" y="372"/>
                  </a:lnTo>
                  <a:lnTo>
                    <a:pt x="1392" y="356"/>
                  </a:lnTo>
                  <a:lnTo>
                    <a:pt x="1392" y="356"/>
                  </a:lnTo>
                  <a:lnTo>
                    <a:pt x="1408" y="356"/>
                  </a:lnTo>
                  <a:lnTo>
                    <a:pt x="1376" y="404"/>
                  </a:lnTo>
                  <a:lnTo>
                    <a:pt x="1360" y="421"/>
                  </a:lnTo>
                  <a:lnTo>
                    <a:pt x="1279" y="437"/>
                  </a:lnTo>
                  <a:lnTo>
                    <a:pt x="1263" y="437"/>
                  </a:lnTo>
                  <a:lnTo>
                    <a:pt x="1263" y="453"/>
                  </a:lnTo>
                  <a:lnTo>
                    <a:pt x="1263" y="453"/>
                  </a:lnTo>
                  <a:lnTo>
                    <a:pt x="1214" y="502"/>
                  </a:lnTo>
                  <a:lnTo>
                    <a:pt x="1198" y="518"/>
                  </a:lnTo>
                  <a:lnTo>
                    <a:pt x="1198" y="518"/>
                  </a:lnTo>
                  <a:lnTo>
                    <a:pt x="1198" y="518"/>
                  </a:lnTo>
                  <a:lnTo>
                    <a:pt x="1182" y="550"/>
                  </a:lnTo>
                  <a:lnTo>
                    <a:pt x="1166" y="582"/>
                  </a:lnTo>
                  <a:lnTo>
                    <a:pt x="1166" y="599"/>
                  </a:lnTo>
                  <a:lnTo>
                    <a:pt x="1149" y="615"/>
                  </a:lnTo>
                  <a:lnTo>
                    <a:pt x="1149" y="582"/>
                  </a:lnTo>
                  <a:lnTo>
                    <a:pt x="1149" y="631"/>
                  </a:lnTo>
                  <a:lnTo>
                    <a:pt x="1149" y="647"/>
                  </a:lnTo>
                  <a:lnTo>
                    <a:pt x="1052" y="663"/>
                  </a:lnTo>
                  <a:lnTo>
                    <a:pt x="1036" y="663"/>
                  </a:lnTo>
                  <a:lnTo>
                    <a:pt x="939" y="599"/>
                  </a:lnTo>
                  <a:lnTo>
                    <a:pt x="874" y="534"/>
                  </a:lnTo>
                  <a:lnTo>
                    <a:pt x="858" y="534"/>
                  </a:lnTo>
                  <a:lnTo>
                    <a:pt x="826" y="502"/>
                  </a:lnTo>
                  <a:lnTo>
                    <a:pt x="777" y="518"/>
                  </a:lnTo>
                  <a:lnTo>
                    <a:pt x="712" y="518"/>
                  </a:lnTo>
                  <a:lnTo>
                    <a:pt x="664" y="534"/>
                  </a:lnTo>
                  <a:lnTo>
                    <a:pt x="615" y="534"/>
                  </a:lnTo>
                  <a:lnTo>
                    <a:pt x="615" y="502"/>
                  </a:lnTo>
                  <a:lnTo>
                    <a:pt x="615" y="502"/>
                  </a:lnTo>
                  <a:lnTo>
                    <a:pt x="599" y="485"/>
                  </a:lnTo>
                  <a:lnTo>
                    <a:pt x="583" y="469"/>
                  </a:lnTo>
                  <a:lnTo>
                    <a:pt x="567" y="485"/>
                  </a:lnTo>
                  <a:lnTo>
                    <a:pt x="567" y="485"/>
                  </a:lnTo>
                  <a:lnTo>
                    <a:pt x="567" y="485"/>
                  </a:lnTo>
                  <a:lnTo>
                    <a:pt x="567" y="469"/>
                  </a:lnTo>
                  <a:lnTo>
                    <a:pt x="518" y="469"/>
                  </a:lnTo>
                  <a:lnTo>
                    <a:pt x="518" y="469"/>
                  </a:lnTo>
                  <a:lnTo>
                    <a:pt x="437" y="485"/>
                  </a:lnTo>
                  <a:lnTo>
                    <a:pt x="421" y="485"/>
                  </a:lnTo>
                  <a:lnTo>
                    <a:pt x="405" y="485"/>
                  </a:lnTo>
                  <a:lnTo>
                    <a:pt x="356" y="485"/>
                  </a:lnTo>
                  <a:lnTo>
                    <a:pt x="340" y="502"/>
                  </a:lnTo>
                  <a:lnTo>
                    <a:pt x="324" y="485"/>
                  </a:lnTo>
                  <a:lnTo>
                    <a:pt x="324" y="502"/>
                  </a:lnTo>
                  <a:lnTo>
                    <a:pt x="308" y="502"/>
                  </a:lnTo>
                  <a:lnTo>
                    <a:pt x="259" y="534"/>
                  </a:lnTo>
                  <a:lnTo>
                    <a:pt x="243" y="534"/>
                  </a:lnTo>
                  <a:lnTo>
                    <a:pt x="227" y="550"/>
                  </a:lnTo>
                  <a:lnTo>
                    <a:pt x="211" y="550"/>
                  </a:lnTo>
                  <a:lnTo>
                    <a:pt x="146" y="566"/>
                  </a:lnTo>
                  <a:lnTo>
                    <a:pt x="130" y="566"/>
                  </a:lnTo>
                  <a:lnTo>
                    <a:pt x="65" y="582"/>
                  </a:lnTo>
                  <a:lnTo>
                    <a:pt x="65" y="582"/>
                  </a:lnTo>
                  <a:close/>
                  <a:moveTo>
                    <a:pt x="1505" y="178"/>
                  </a:moveTo>
                  <a:lnTo>
                    <a:pt x="1505" y="162"/>
                  </a:lnTo>
                  <a:lnTo>
                    <a:pt x="1522" y="178"/>
                  </a:lnTo>
                  <a:lnTo>
                    <a:pt x="1522" y="275"/>
                  </a:lnTo>
                  <a:lnTo>
                    <a:pt x="1489" y="291"/>
                  </a:lnTo>
                  <a:lnTo>
                    <a:pt x="1489" y="275"/>
                  </a:lnTo>
                  <a:lnTo>
                    <a:pt x="1522" y="259"/>
                  </a:lnTo>
                  <a:lnTo>
                    <a:pt x="1522" y="194"/>
                  </a:lnTo>
                  <a:lnTo>
                    <a:pt x="1505" y="178"/>
                  </a:lnTo>
                  <a:lnTo>
                    <a:pt x="1505" y="178"/>
                  </a:lnTo>
                  <a:close/>
                  <a:moveTo>
                    <a:pt x="1441" y="324"/>
                  </a:moveTo>
                  <a:lnTo>
                    <a:pt x="1457" y="307"/>
                  </a:lnTo>
                  <a:lnTo>
                    <a:pt x="1489" y="291"/>
                  </a:lnTo>
                  <a:lnTo>
                    <a:pt x="1441" y="324"/>
                  </a:lnTo>
                  <a:lnTo>
                    <a:pt x="1441" y="324"/>
                  </a:lnTo>
                  <a:close/>
                  <a:moveTo>
                    <a:pt x="1376" y="453"/>
                  </a:moveTo>
                  <a:lnTo>
                    <a:pt x="1376" y="437"/>
                  </a:lnTo>
                  <a:lnTo>
                    <a:pt x="1392" y="404"/>
                  </a:lnTo>
                  <a:lnTo>
                    <a:pt x="1408" y="372"/>
                  </a:lnTo>
                  <a:lnTo>
                    <a:pt x="1376" y="453"/>
                  </a:lnTo>
                  <a:lnTo>
                    <a:pt x="1376" y="45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86280" y="2153880"/>
              <a:ext cx="708120" cy="438480"/>
            </a:xfrm>
            <a:custGeom>
              <a:avLst/>
              <a:gdLst/>
              <a:ahLst/>
              <a:rect l="l" t="t" r="r" b="b"/>
              <a:pathLst>
                <a:path w="1149" h="712">
                  <a:moveTo>
                    <a:pt x="809" y="696"/>
                  </a:moveTo>
                  <a:lnTo>
                    <a:pt x="777" y="696"/>
                  </a:lnTo>
                  <a:lnTo>
                    <a:pt x="663" y="696"/>
                  </a:lnTo>
                  <a:lnTo>
                    <a:pt x="647" y="696"/>
                  </a:lnTo>
                  <a:lnTo>
                    <a:pt x="550" y="696"/>
                  </a:lnTo>
                  <a:lnTo>
                    <a:pt x="324" y="679"/>
                  </a:lnTo>
                  <a:lnTo>
                    <a:pt x="178" y="663"/>
                  </a:lnTo>
                  <a:lnTo>
                    <a:pt x="162" y="663"/>
                  </a:lnTo>
                  <a:lnTo>
                    <a:pt x="0" y="647"/>
                  </a:lnTo>
                  <a:lnTo>
                    <a:pt x="16" y="582"/>
                  </a:lnTo>
                  <a:lnTo>
                    <a:pt x="16" y="518"/>
                  </a:lnTo>
                  <a:lnTo>
                    <a:pt x="16" y="501"/>
                  </a:lnTo>
                  <a:lnTo>
                    <a:pt x="32" y="356"/>
                  </a:lnTo>
                  <a:lnTo>
                    <a:pt x="32" y="339"/>
                  </a:lnTo>
                  <a:lnTo>
                    <a:pt x="48" y="210"/>
                  </a:lnTo>
                  <a:lnTo>
                    <a:pt x="48" y="129"/>
                  </a:lnTo>
                  <a:lnTo>
                    <a:pt x="48" y="64"/>
                  </a:lnTo>
                  <a:lnTo>
                    <a:pt x="65" y="0"/>
                  </a:lnTo>
                  <a:lnTo>
                    <a:pt x="226" y="0"/>
                  </a:lnTo>
                  <a:lnTo>
                    <a:pt x="356" y="16"/>
                  </a:lnTo>
                  <a:lnTo>
                    <a:pt x="437" y="16"/>
                  </a:lnTo>
                  <a:lnTo>
                    <a:pt x="615" y="32"/>
                  </a:lnTo>
                  <a:lnTo>
                    <a:pt x="712" y="32"/>
                  </a:lnTo>
                  <a:lnTo>
                    <a:pt x="793" y="32"/>
                  </a:lnTo>
                  <a:lnTo>
                    <a:pt x="955" y="48"/>
                  </a:lnTo>
                  <a:lnTo>
                    <a:pt x="1052" y="48"/>
                  </a:lnTo>
                  <a:lnTo>
                    <a:pt x="1052" y="81"/>
                  </a:lnTo>
                  <a:lnTo>
                    <a:pt x="1068" y="113"/>
                  </a:lnTo>
                  <a:lnTo>
                    <a:pt x="1068" y="145"/>
                  </a:lnTo>
                  <a:lnTo>
                    <a:pt x="1068" y="145"/>
                  </a:lnTo>
                  <a:lnTo>
                    <a:pt x="1068" y="161"/>
                  </a:lnTo>
                  <a:lnTo>
                    <a:pt x="1068" y="161"/>
                  </a:lnTo>
                  <a:lnTo>
                    <a:pt x="1068" y="178"/>
                  </a:lnTo>
                  <a:lnTo>
                    <a:pt x="1068" y="194"/>
                  </a:lnTo>
                  <a:lnTo>
                    <a:pt x="1068" y="194"/>
                  </a:lnTo>
                  <a:lnTo>
                    <a:pt x="1068" y="210"/>
                  </a:lnTo>
                  <a:lnTo>
                    <a:pt x="1068" y="210"/>
                  </a:lnTo>
                  <a:lnTo>
                    <a:pt x="1068" y="210"/>
                  </a:lnTo>
                  <a:lnTo>
                    <a:pt x="1068" y="210"/>
                  </a:lnTo>
                  <a:lnTo>
                    <a:pt x="1068" y="226"/>
                  </a:lnTo>
                  <a:lnTo>
                    <a:pt x="1084" y="275"/>
                  </a:lnTo>
                  <a:lnTo>
                    <a:pt x="1084" y="291"/>
                  </a:lnTo>
                  <a:lnTo>
                    <a:pt x="1100" y="323"/>
                  </a:lnTo>
                  <a:lnTo>
                    <a:pt x="1100" y="339"/>
                  </a:lnTo>
                  <a:lnTo>
                    <a:pt x="1100" y="372"/>
                  </a:lnTo>
                  <a:lnTo>
                    <a:pt x="1100" y="388"/>
                  </a:lnTo>
                  <a:lnTo>
                    <a:pt x="1100" y="388"/>
                  </a:lnTo>
                  <a:lnTo>
                    <a:pt x="1100" y="420"/>
                  </a:lnTo>
                  <a:lnTo>
                    <a:pt x="1100" y="437"/>
                  </a:lnTo>
                  <a:lnTo>
                    <a:pt x="1100" y="469"/>
                  </a:lnTo>
                  <a:lnTo>
                    <a:pt x="1117" y="485"/>
                  </a:lnTo>
                  <a:lnTo>
                    <a:pt x="1117" y="518"/>
                  </a:lnTo>
                  <a:lnTo>
                    <a:pt x="1117" y="550"/>
                  </a:lnTo>
                  <a:lnTo>
                    <a:pt x="1117" y="550"/>
                  </a:lnTo>
                  <a:lnTo>
                    <a:pt x="1117" y="598"/>
                  </a:lnTo>
                  <a:lnTo>
                    <a:pt x="1133" y="615"/>
                  </a:lnTo>
                  <a:lnTo>
                    <a:pt x="1149" y="679"/>
                  </a:lnTo>
                  <a:lnTo>
                    <a:pt x="1149" y="696"/>
                  </a:lnTo>
                  <a:lnTo>
                    <a:pt x="1149" y="712"/>
                  </a:lnTo>
                  <a:lnTo>
                    <a:pt x="1036" y="712"/>
                  </a:lnTo>
                  <a:lnTo>
                    <a:pt x="922" y="712"/>
                  </a:lnTo>
                  <a:lnTo>
                    <a:pt x="922" y="712"/>
                  </a:lnTo>
                  <a:lnTo>
                    <a:pt x="809" y="6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6000" y="3768480"/>
              <a:ext cx="917280" cy="478080"/>
            </a:xfrm>
            <a:custGeom>
              <a:avLst/>
              <a:gdLst/>
              <a:ahLst/>
              <a:rect l="l" t="t" r="r" b="b"/>
              <a:pathLst>
                <a:path w="1489" h="777">
                  <a:moveTo>
                    <a:pt x="1489" y="502"/>
                  </a:moveTo>
                  <a:lnTo>
                    <a:pt x="1489" y="535"/>
                  </a:lnTo>
                  <a:lnTo>
                    <a:pt x="1489" y="583"/>
                  </a:lnTo>
                  <a:lnTo>
                    <a:pt x="1489" y="664"/>
                  </a:lnTo>
                  <a:lnTo>
                    <a:pt x="1489" y="713"/>
                  </a:lnTo>
                  <a:lnTo>
                    <a:pt x="1489" y="777"/>
                  </a:lnTo>
                  <a:lnTo>
                    <a:pt x="1473" y="777"/>
                  </a:lnTo>
                  <a:lnTo>
                    <a:pt x="1489" y="777"/>
                  </a:lnTo>
                  <a:lnTo>
                    <a:pt x="1473" y="777"/>
                  </a:lnTo>
                  <a:lnTo>
                    <a:pt x="1473" y="777"/>
                  </a:lnTo>
                  <a:lnTo>
                    <a:pt x="1473" y="777"/>
                  </a:lnTo>
                  <a:lnTo>
                    <a:pt x="1473" y="777"/>
                  </a:lnTo>
                  <a:lnTo>
                    <a:pt x="1457" y="777"/>
                  </a:lnTo>
                  <a:lnTo>
                    <a:pt x="1457" y="761"/>
                  </a:lnTo>
                  <a:lnTo>
                    <a:pt x="1440" y="761"/>
                  </a:lnTo>
                  <a:lnTo>
                    <a:pt x="1440" y="761"/>
                  </a:lnTo>
                  <a:lnTo>
                    <a:pt x="1440" y="761"/>
                  </a:lnTo>
                  <a:lnTo>
                    <a:pt x="1440" y="761"/>
                  </a:lnTo>
                  <a:lnTo>
                    <a:pt x="1424" y="761"/>
                  </a:lnTo>
                  <a:lnTo>
                    <a:pt x="1408" y="729"/>
                  </a:lnTo>
                  <a:lnTo>
                    <a:pt x="1392" y="729"/>
                  </a:lnTo>
                  <a:lnTo>
                    <a:pt x="1376" y="713"/>
                  </a:lnTo>
                  <a:lnTo>
                    <a:pt x="1376" y="729"/>
                  </a:lnTo>
                  <a:lnTo>
                    <a:pt x="1376" y="713"/>
                  </a:lnTo>
                  <a:lnTo>
                    <a:pt x="1376" y="713"/>
                  </a:lnTo>
                  <a:lnTo>
                    <a:pt x="1360" y="713"/>
                  </a:lnTo>
                  <a:lnTo>
                    <a:pt x="1343" y="729"/>
                  </a:lnTo>
                  <a:lnTo>
                    <a:pt x="1343" y="713"/>
                  </a:lnTo>
                  <a:lnTo>
                    <a:pt x="1343" y="729"/>
                  </a:lnTo>
                  <a:lnTo>
                    <a:pt x="1311" y="729"/>
                  </a:lnTo>
                  <a:lnTo>
                    <a:pt x="1295" y="729"/>
                  </a:lnTo>
                  <a:lnTo>
                    <a:pt x="1295" y="729"/>
                  </a:lnTo>
                  <a:lnTo>
                    <a:pt x="1279" y="713"/>
                  </a:lnTo>
                  <a:lnTo>
                    <a:pt x="1262" y="729"/>
                  </a:lnTo>
                  <a:lnTo>
                    <a:pt x="1262" y="729"/>
                  </a:lnTo>
                  <a:lnTo>
                    <a:pt x="1246" y="745"/>
                  </a:lnTo>
                  <a:lnTo>
                    <a:pt x="1230" y="729"/>
                  </a:lnTo>
                  <a:lnTo>
                    <a:pt x="1214" y="729"/>
                  </a:lnTo>
                  <a:lnTo>
                    <a:pt x="1181" y="745"/>
                  </a:lnTo>
                  <a:lnTo>
                    <a:pt x="1181" y="745"/>
                  </a:lnTo>
                  <a:lnTo>
                    <a:pt x="1181" y="745"/>
                  </a:lnTo>
                  <a:lnTo>
                    <a:pt x="1181" y="761"/>
                  </a:lnTo>
                  <a:lnTo>
                    <a:pt x="1165" y="745"/>
                  </a:lnTo>
                  <a:lnTo>
                    <a:pt x="1165" y="761"/>
                  </a:lnTo>
                  <a:lnTo>
                    <a:pt x="1149" y="761"/>
                  </a:lnTo>
                  <a:lnTo>
                    <a:pt x="1133" y="745"/>
                  </a:lnTo>
                  <a:lnTo>
                    <a:pt x="1133" y="745"/>
                  </a:lnTo>
                  <a:lnTo>
                    <a:pt x="1117" y="745"/>
                  </a:lnTo>
                  <a:lnTo>
                    <a:pt x="1101" y="729"/>
                  </a:lnTo>
                  <a:lnTo>
                    <a:pt x="1117" y="729"/>
                  </a:lnTo>
                  <a:lnTo>
                    <a:pt x="1101" y="729"/>
                  </a:lnTo>
                  <a:lnTo>
                    <a:pt x="1084" y="729"/>
                  </a:lnTo>
                  <a:lnTo>
                    <a:pt x="1084" y="745"/>
                  </a:lnTo>
                  <a:lnTo>
                    <a:pt x="1068" y="729"/>
                  </a:lnTo>
                  <a:lnTo>
                    <a:pt x="1052" y="729"/>
                  </a:lnTo>
                  <a:lnTo>
                    <a:pt x="1052" y="713"/>
                  </a:lnTo>
                  <a:lnTo>
                    <a:pt x="1052" y="713"/>
                  </a:lnTo>
                  <a:lnTo>
                    <a:pt x="1036" y="713"/>
                  </a:lnTo>
                  <a:lnTo>
                    <a:pt x="1036" y="729"/>
                  </a:lnTo>
                  <a:lnTo>
                    <a:pt x="1020" y="729"/>
                  </a:lnTo>
                  <a:lnTo>
                    <a:pt x="1020" y="745"/>
                  </a:lnTo>
                  <a:lnTo>
                    <a:pt x="1020" y="745"/>
                  </a:lnTo>
                  <a:lnTo>
                    <a:pt x="1020" y="761"/>
                  </a:lnTo>
                  <a:lnTo>
                    <a:pt x="1020" y="761"/>
                  </a:lnTo>
                  <a:lnTo>
                    <a:pt x="1003" y="761"/>
                  </a:lnTo>
                  <a:lnTo>
                    <a:pt x="1003" y="745"/>
                  </a:lnTo>
                  <a:lnTo>
                    <a:pt x="1003" y="729"/>
                  </a:lnTo>
                  <a:lnTo>
                    <a:pt x="1003" y="729"/>
                  </a:lnTo>
                  <a:lnTo>
                    <a:pt x="987" y="729"/>
                  </a:lnTo>
                  <a:lnTo>
                    <a:pt x="987" y="729"/>
                  </a:lnTo>
                  <a:lnTo>
                    <a:pt x="971" y="729"/>
                  </a:lnTo>
                  <a:lnTo>
                    <a:pt x="971" y="745"/>
                  </a:lnTo>
                  <a:lnTo>
                    <a:pt x="955" y="745"/>
                  </a:lnTo>
                  <a:lnTo>
                    <a:pt x="955" y="729"/>
                  </a:lnTo>
                  <a:lnTo>
                    <a:pt x="955" y="729"/>
                  </a:lnTo>
                  <a:lnTo>
                    <a:pt x="939" y="729"/>
                  </a:lnTo>
                  <a:lnTo>
                    <a:pt x="923" y="713"/>
                  </a:lnTo>
                  <a:lnTo>
                    <a:pt x="923" y="713"/>
                  </a:lnTo>
                  <a:lnTo>
                    <a:pt x="906" y="696"/>
                  </a:lnTo>
                  <a:lnTo>
                    <a:pt x="874" y="729"/>
                  </a:lnTo>
                  <a:lnTo>
                    <a:pt x="858" y="713"/>
                  </a:lnTo>
                  <a:lnTo>
                    <a:pt x="858" y="713"/>
                  </a:lnTo>
                  <a:lnTo>
                    <a:pt x="858" y="696"/>
                  </a:lnTo>
                  <a:lnTo>
                    <a:pt x="842" y="696"/>
                  </a:lnTo>
                  <a:lnTo>
                    <a:pt x="842" y="680"/>
                  </a:lnTo>
                  <a:lnTo>
                    <a:pt x="842" y="664"/>
                  </a:lnTo>
                  <a:lnTo>
                    <a:pt x="825" y="664"/>
                  </a:lnTo>
                  <a:lnTo>
                    <a:pt x="825" y="680"/>
                  </a:lnTo>
                  <a:lnTo>
                    <a:pt x="793" y="664"/>
                  </a:lnTo>
                  <a:lnTo>
                    <a:pt x="777" y="680"/>
                  </a:lnTo>
                  <a:lnTo>
                    <a:pt x="761" y="680"/>
                  </a:lnTo>
                  <a:lnTo>
                    <a:pt x="745" y="664"/>
                  </a:lnTo>
                  <a:lnTo>
                    <a:pt x="712" y="664"/>
                  </a:lnTo>
                  <a:lnTo>
                    <a:pt x="680" y="648"/>
                  </a:lnTo>
                  <a:lnTo>
                    <a:pt x="647" y="648"/>
                  </a:lnTo>
                  <a:lnTo>
                    <a:pt x="647" y="615"/>
                  </a:lnTo>
                  <a:lnTo>
                    <a:pt x="615" y="599"/>
                  </a:lnTo>
                  <a:lnTo>
                    <a:pt x="599" y="615"/>
                  </a:lnTo>
                  <a:lnTo>
                    <a:pt x="599" y="599"/>
                  </a:lnTo>
                  <a:lnTo>
                    <a:pt x="583" y="599"/>
                  </a:lnTo>
                  <a:lnTo>
                    <a:pt x="566" y="615"/>
                  </a:lnTo>
                  <a:lnTo>
                    <a:pt x="550" y="599"/>
                  </a:lnTo>
                  <a:lnTo>
                    <a:pt x="534" y="583"/>
                  </a:lnTo>
                  <a:lnTo>
                    <a:pt x="518" y="567"/>
                  </a:lnTo>
                  <a:lnTo>
                    <a:pt x="502" y="567"/>
                  </a:lnTo>
                  <a:lnTo>
                    <a:pt x="502" y="518"/>
                  </a:lnTo>
                  <a:lnTo>
                    <a:pt x="502" y="454"/>
                  </a:lnTo>
                  <a:lnTo>
                    <a:pt x="502" y="421"/>
                  </a:lnTo>
                  <a:lnTo>
                    <a:pt x="502" y="373"/>
                  </a:lnTo>
                  <a:lnTo>
                    <a:pt x="518" y="340"/>
                  </a:lnTo>
                  <a:lnTo>
                    <a:pt x="518" y="276"/>
                  </a:lnTo>
                  <a:lnTo>
                    <a:pt x="518" y="243"/>
                  </a:lnTo>
                  <a:lnTo>
                    <a:pt x="518" y="146"/>
                  </a:lnTo>
                  <a:lnTo>
                    <a:pt x="421" y="130"/>
                  </a:lnTo>
                  <a:lnTo>
                    <a:pt x="356" y="130"/>
                  </a:lnTo>
                  <a:lnTo>
                    <a:pt x="324" y="130"/>
                  </a:lnTo>
                  <a:lnTo>
                    <a:pt x="243" y="130"/>
                  </a:lnTo>
                  <a:lnTo>
                    <a:pt x="162" y="130"/>
                  </a:lnTo>
                  <a:lnTo>
                    <a:pt x="146" y="114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178" y="17"/>
                  </a:lnTo>
                  <a:lnTo>
                    <a:pt x="178" y="17"/>
                  </a:lnTo>
                  <a:lnTo>
                    <a:pt x="259" y="17"/>
                  </a:lnTo>
                  <a:lnTo>
                    <a:pt x="340" y="17"/>
                  </a:lnTo>
                  <a:lnTo>
                    <a:pt x="356" y="17"/>
                  </a:lnTo>
                  <a:lnTo>
                    <a:pt x="421" y="33"/>
                  </a:lnTo>
                  <a:lnTo>
                    <a:pt x="502" y="33"/>
                  </a:lnTo>
                  <a:lnTo>
                    <a:pt x="518" y="33"/>
                  </a:lnTo>
                  <a:lnTo>
                    <a:pt x="599" y="33"/>
                  </a:lnTo>
                  <a:lnTo>
                    <a:pt x="615" y="33"/>
                  </a:lnTo>
                  <a:lnTo>
                    <a:pt x="696" y="33"/>
                  </a:lnTo>
                  <a:lnTo>
                    <a:pt x="777" y="33"/>
                  </a:lnTo>
                  <a:lnTo>
                    <a:pt x="809" y="33"/>
                  </a:lnTo>
                  <a:lnTo>
                    <a:pt x="858" y="33"/>
                  </a:lnTo>
                  <a:lnTo>
                    <a:pt x="906" y="49"/>
                  </a:lnTo>
                  <a:lnTo>
                    <a:pt x="955" y="49"/>
                  </a:lnTo>
                  <a:lnTo>
                    <a:pt x="1020" y="49"/>
                  </a:lnTo>
                  <a:lnTo>
                    <a:pt x="1084" y="49"/>
                  </a:lnTo>
                  <a:lnTo>
                    <a:pt x="1117" y="49"/>
                  </a:lnTo>
                  <a:lnTo>
                    <a:pt x="1214" y="49"/>
                  </a:lnTo>
                  <a:lnTo>
                    <a:pt x="1214" y="49"/>
                  </a:lnTo>
                  <a:lnTo>
                    <a:pt x="1246" y="49"/>
                  </a:lnTo>
                  <a:lnTo>
                    <a:pt x="1295" y="49"/>
                  </a:lnTo>
                  <a:lnTo>
                    <a:pt x="1311" y="49"/>
                  </a:lnTo>
                  <a:lnTo>
                    <a:pt x="1376" y="49"/>
                  </a:lnTo>
                  <a:lnTo>
                    <a:pt x="1376" y="49"/>
                  </a:lnTo>
                  <a:lnTo>
                    <a:pt x="1457" y="49"/>
                  </a:lnTo>
                  <a:lnTo>
                    <a:pt x="1457" y="98"/>
                  </a:lnTo>
                  <a:lnTo>
                    <a:pt x="1457" y="114"/>
                  </a:lnTo>
                  <a:lnTo>
                    <a:pt x="1457" y="162"/>
                  </a:lnTo>
                  <a:lnTo>
                    <a:pt x="1473" y="227"/>
                  </a:lnTo>
                  <a:lnTo>
                    <a:pt x="1473" y="243"/>
                  </a:lnTo>
                  <a:lnTo>
                    <a:pt x="1473" y="308"/>
                  </a:lnTo>
                  <a:lnTo>
                    <a:pt x="1489" y="340"/>
                  </a:lnTo>
                  <a:lnTo>
                    <a:pt x="1489" y="389"/>
                  </a:lnTo>
                  <a:lnTo>
                    <a:pt x="1489" y="50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1752480"/>
              <a:ext cx="1322280" cy="885600"/>
            </a:xfrm>
            <a:custGeom>
              <a:avLst/>
              <a:gdLst/>
              <a:ahLst/>
              <a:rect l="l" t="t" r="r" b="b"/>
              <a:pathLst>
                <a:path w="3059" h="1910">
                  <a:moveTo>
                    <a:pt x="2848" y="1327"/>
                  </a:moveTo>
                  <a:lnTo>
                    <a:pt x="2864" y="1327"/>
                  </a:lnTo>
                  <a:lnTo>
                    <a:pt x="2864" y="1344"/>
                  </a:lnTo>
                  <a:lnTo>
                    <a:pt x="2880" y="1344"/>
                  </a:lnTo>
                  <a:lnTo>
                    <a:pt x="2880" y="1360"/>
                  </a:lnTo>
                  <a:lnTo>
                    <a:pt x="2897" y="1360"/>
                  </a:lnTo>
                  <a:lnTo>
                    <a:pt x="2913" y="1392"/>
                  </a:lnTo>
                  <a:lnTo>
                    <a:pt x="2929" y="1376"/>
                  </a:lnTo>
                  <a:lnTo>
                    <a:pt x="2961" y="1392"/>
                  </a:lnTo>
                  <a:lnTo>
                    <a:pt x="2978" y="1392"/>
                  </a:lnTo>
                  <a:lnTo>
                    <a:pt x="2994" y="1392"/>
                  </a:lnTo>
                  <a:lnTo>
                    <a:pt x="2994" y="1392"/>
                  </a:lnTo>
                  <a:lnTo>
                    <a:pt x="3010" y="1408"/>
                  </a:lnTo>
                  <a:lnTo>
                    <a:pt x="3026" y="1408"/>
                  </a:lnTo>
                  <a:lnTo>
                    <a:pt x="3042" y="1425"/>
                  </a:lnTo>
                  <a:lnTo>
                    <a:pt x="3026" y="1441"/>
                  </a:lnTo>
                  <a:lnTo>
                    <a:pt x="3042" y="1457"/>
                  </a:lnTo>
                  <a:lnTo>
                    <a:pt x="3059" y="1489"/>
                  </a:lnTo>
                  <a:lnTo>
                    <a:pt x="3059" y="1489"/>
                  </a:lnTo>
                  <a:lnTo>
                    <a:pt x="3059" y="1538"/>
                  </a:lnTo>
                  <a:lnTo>
                    <a:pt x="3042" y="1554"/>
                  </a:lnTo>
                  <a:lnTo>
                    <a:pt x="3042" y="1538"/>
                  </a:lnTo>
                  <a:lnTo>
                    <a:pt x="3042" y="1554"/>
                  </a:lnTo>
                  <a:lnTo>
                    <a:pt x="3026" y="1538"/>
                  </a:lnTo>
                  <a:lnTo>
                    <a:pt x="3042" y="1554"/>
                  </a:lnTo>
                  <a:lnTo>
                    <a:pt x="3026" y="1554"/>
                  </a:lnTo>
                  <a:lnTo>
                    <a:pt x="3026" y="1554"/>
                  </a:lnTo>
                  <a:lnTo>
                    <a:pt x="3026" y="1538"/>
                  </a:lnTo>
                  <a:lnTo>
                    <a:pt x="3010" y="1538"/>
                  </a:lnTo>
                  <a:lnTo>
                    <a:pt x="3026" y="1522"/>
                  </a:lnTo>
                  <a:lnTo>
                    <a:pt x="3026" y="1522"/>
                  </a:lnTo>
                  <a:lnTo>
                    <a:pt x="3026" y="1489"/>
                  </a:lnTo>
                  <a:lnTo>
                    <a:pt x="3026" y="1522"/>
                  </a:lnTo>
                  <a:lnTo>
                    <a:pt x="3026" y="1522"/>
                  </a:lnTo>
                  <a:lnTo>
                    <a:pt x="3010" y="1522"/>
                  </a:lnTo>
                  <a:lnTo>
                    <a:pt x="3010" y="1522"/>
                  </a:lnTo>
                  <a:lnTo>
                    <a:pt x="3010" y="1522"/>
                  </a:lnTo>
                  <a:lnTo>
                    <a:pt x="3010" y="1506"/>
                  </a:lnTo>
                  <a:lnTo>
                    <a:pt x="3026" y="1489"/>
                  </a:lnTo>
                  <a:lnTo>
                    <a:pt x="3026" y="1489"/>
                  </a:lnTo>
                  <a:lnTo>
                    <a:pt x="3010" y="1506"/>
                  </a:lnTo>
                  <a:lnTo>
                    <a:pt x="2994" y="1457"/>
                  </a:lnTo>
                  <a:lnTo>
                    <a:pt x="2994" y="1457"/>
                  </a:lnTo>
                  <a:lnTo>
                    <a:pt x="2994" y="1457"/>
                  </a:lnTo>
                  <a:lnTo>
                    <a:pt x="2978" y="1457"/>
                  </a:lnTo>
                  <a:lnTo>
                    <a:pt x="2961" y="1441"/>
                  </a:lnTo>
                  <a:lnTo>
                    <a:pt x="2978" y="1425"/>
                  </a:lnTo>
                  <a:lnTo>
                    <a:pt x="2961" y="1441"/>
                  </a:lnTo>
                  <a:lnTo>
                    <a:pt x="2945" y="1441"/>
                  </a:lnTo>
                  <a:lnTo>
                    <a:pt x="2929" y="1473"/>
                  </a:lnTo>
                  <a:lnTo>
                    <a:pt x="2945" y="1473"/>
                  </a:lnTo>
                  <a:lnTo>
                    <a:pt x="2929" y="1473"/>
                  </a:lnTo>
                  <a:lnTo>
                    <a:pt x="2945" y="1489"/>
                  </a:lnTo>
                  <a:lnTo>
                    <a:pt x="2945" y="1489"/>
                  </a:lnTo>
                  <a:lnTo>
                    <a:pt x="2929" y="1489"/>
                  </a:lnTo>
                  <a:lnTo>
                    <a:pt x="2945" y="1489"/>
                  </a:lnTo>
                  <a:lnTo>
                    <a:pt x="2945" y="1506"/>
                  </a:lnTo>
                  <a:lnTo>
                    <a:pt x="2929" y="1506"/>
                  </a:lnTo>
                  <a:lnTo>
                    <a:pt x="2913" y="1489"/>
                  </a:lnTo>
                  <a:lnTo>
                    <a:pt x="2913" y="1489"/>
                  </a:lnTo>
                  <a:lnTo>
                    <a:pt x="2913" y="1489"/>
                  </a:lnTo>
                  <a:lnTo>
                    <a:pt x="2913" y="1473"/>
                  </a:lnTo>
                  <a:lnTo>
                    <a:pt x="2929" y="1473"/>
                  </a:lnTo>
                  <a:lnTo>
                    <a:pt x="2913" y="1457"/>
                  </a:lnTo>
                  <a:lnTo>
                    <a:pt x="2929" y="1457"/>
                  </a:lnTo>
                  <a:lnTo>
                    <a:pt x="2913" y="1441"/>
                  </a:lnTo>
                  <a:lnTo>
                    <a:pt x="2945" y="1425"/>
                  </a:lnTo>
                  <a:lnTo>
                    <a:pt x="2913" y="1425"/>
                  </a:lnTo>
                  <a:lnTo>
                    <a:pt x="2913" y="1408"/>
                  </a:lnTo>
                  <a:lnTo>
                    <a:pt x="2897" y="1425"/>
                  </a:lnTo>
                  <a:lnTo>
                    <a:pt x="2897" y="1408"/>
                  </a:lnTo>
                  <a:lnTo>
                    <a:pt x="2880" y="1408"/>
                  </a:lnTo>
                  <a:lnTo>
                    <a:pt x="2880" y="1392"/>
                  </a:lnTo>
                  <a:lnTo>
                    <a:pt x="2864" y="1392"/>
                  </a:lnTo>
                  <a:lnTo>
                    <a:pt x="2864" y="1392"/>
                  </a:lnTo>
                  <a:lnTo>
                    <a:pt x="2864" y="1392"/>
                  </a:lnTo>
                  <a:lnTo>
                    <a:pt x="2864" y="1376"/>
                  </a:lnTo>
                  <a:lnTo>
                    <a:pt x="2864" y="1392"/>
                  </a:lnTo>
                  <a:lnTo>
                    <a:pt x="2848" y="1376"/>
                  </a:lnTo>
                  <a:lnTo>
                    <a:pt x="2832" y="1376"/>
                  </a:lnTo>
                  <a:lnTo>
                    <a:pt x="2848" y="1360"/>
                  </a:lnTo>
                  <a:lnTo>
                    <a:pt x="2832" y="1360"/>
                  </a:lnTo>
                  <a:lnTo>
                    <a:pt x="2832" y="1360"/>
                  </a:lnTo>
                  <a:lnTo>
                    <a:pt x="2816" y="1360"/>
                  </a:lnTo>
                  <a:lnTo>
                    <a:pt x="2816" y="1360"/>
                  </a:lnTo>
                  <a:lnTo>
                    <a:pt x="2816" y="1360"/>
                  </a:lnTo>
                  <a:lnTo>
                    <a:pt x="2800" y="1360"/>
                  </a:lnTo>
                  <a:lnTo>
                    <a:pt x="2800" y="1360"/>
                  </a:lnTo>
                  <a:lnTo>
                    <a:pt x="2800" y="1360"/>
                  </a:lnTo>
                  <a:lnTo>
                    <a:pt x="2783" y="1360"/>
                  </a:lnTo>
                  <a:lnTo>
                    <a:pt x="2783" y="1344"/>
                  </a:lnTo>
                  <a:lnTo>
                    <a:pt x="2800" y="1344"/>
                  </a:lnTo>
                  <a:lnTo>
                    <a:pt x="2816" y="1327"/>
                  </a:lnTo>
                  <a:lnTo>
                    <a:pt x="2800" y="1344"/>
                  </a:lnTo>
                  <a:lnTo>
                    <a:pt x="2783" y="1344"/>
                  </a:lnTo>
                  <a:lnTo>
                    <a:pt x="2800" y="1327"/>
                  </a:lnTo>
                  <a:lnTo>
                    <a:pt x="2783" y="1327"/>
                  </a:lnTo>
                  <a:lnTo>
                    <a:pt x="2783" y="1327"/>
                  </a:lnTo>
                  <a:lnTo>
                    <a:pt x="2783" y="1311"/>
                  </a:lnTo>
                  <a:lnTo>
                    <a:pt x="2783" y="1327"/>
                  </a:lnTo>
                  <a:lnTo>
                    <a:pt x="2767" y="1311"/>
                  </a:lnTo>
                  <a:lnTo>
                    <a:pt x="2767" y="1311"/>
                  </a:lnTo>
                  <a:lnTo>
                    <a:pt x="2816" y="1311"/>
                  </a:lnTo>
                  <a:lnTo>
                    <a:pt x="2767" y="1295"/>
                  </a:lnTo>
                  <a:lnTo>
                    <a:pt x="2767" y="1279"/>
                  </a:lnTo>
                  <a:lnTo>
                    <a:pt x="2783" y="1279"/>
                  </a:lnTo>
                  <a:lnTo>
                    <a:pt x="2767" y="1279"/>
                  </a:lnTo>
                  <a:lnTo>
                    <a:pt x="2767" y="1279"/>
                  </a:lnTo>
                  <a:lnTo>
                    <a:pt x="2767" y="1295"/>
                  </a:lnTo>
                  <a:lnTo>
                    <a:pt x="2751" y="1279"/>
                  </a:lnTo>
                  <a:lnTo>
                    <a:pt x="2751" y="1279"/>
                  </a:lnTo>
                  <a:lnTo>
                    <a:pt x="2751" y="1279"/>
                  </a:lnTo>
                  <a:lnTo>
                    <a:pt x="2751" y="1279"/>
                  </a:lnTo>
                  <a:lnTo>
                    <a:pt x="2751" y="1279"/>
                  </a:lnTo>
                  <a:lnTo>
                    <a:pt x="2751" y="1263"/>
                  </a:lnTo>
                  <a:lnTo>
                    <a:pt x="2751" y="1279"/>
                  </a:lnTo>
                  <a:lnTo>
                    <a:pt x="2735" y="1279"/>
                  </a:lnTo>
                  <a:lnTo>
                    <a:pt x="2719" y="1247"/>
                  </a:lnTo>
                  <a:lnTo>
                    <a:pt x="2735" y="1247"/>
                  </a:lnTo>
                  <a:lnTo>
                    <a:pt x="2719" y="1247"/>
                  </a:lnTo>
                  <a:lnTo>
                    <a:pt x="2719" y="1230"/>
                  </a:lnTo>
                  <a:lnTo>
                    <a:pt x="2735" y="1230"/>
                  </a:lnTo>
                  <a:lnTo>
                    <a:pt x="2719" y="1230"/>
                  </a:lnTo>
                  <a:lnTo>
                    <a:pt x="2719" y="1263"/>
                  </a:lnTo>
                  <a:lnTo>
                    <a:pt x="2702" y="1247"/>
                  </a:lnTo>
                  <a:lnTo>
                    <a:pt x="2686" y="1247"/>
                  </a:lnTo>
                  <a:lnTo>
                    <a:pt x="2686" y="1247"/>
                  </a:lnTo>
                  <a:lnTo>
                    <a:pt x="2670" y="1230"/>
                  </a:lnTo>
                  <a:lnTo>
                    <a:pt x="2670" y="1230"/>
                  </a:lnTo>
                  <a:lnTo>
                    <a:pt x="2654" y="1214"/>
                  </a:lnTo>
                  <a:lnTo>
                    <a:pt x="2654" y="1214"/>
                  </a:lnTo>
                  <a:lnTo>
                    <a:pt x="2654" y="1214"/>
                  </a:lnTo>
                  <a:lnTo>
                    <a:pt x="2638" y="1198"/>
                  </a:lnTo>
                  <a:lnTo>
                    <a:pt x="2622" y="1166"/>
                  </a:lnTo>
                  <a:lnTo>
                    <a:pt x="2622" y="1166"/>
                  </a:lnTo>
                  <a:lnTo>
                    <a:pt x="2622" y="1149"/>
                  </a:lnTo>
                  <a:lnTo>
                    <a:pt x="2622" y="1166"/>
                  </a:lnTo>
                  <a:lnTo>
                    <a:pt x="2622" y="1166"/>
                  </a:lnTo>
                  <a:lnTo>
                    <a:pt x="2605" y="1166"/>
                  </a:lnTo>
                  <a:lnTo>
                    <a:pt x="2622" y="1182"/>
                  </a:lnTo>
                  <a:lnTo>
                    <a:pt x="2638" y="1182"/>
                  </a:lnTo>
                  <a:lnTo>
                    <a:pt x="2622" y="1182"/>
                  </a:lnTo>
                  <a:lnTo>
                    <a:pt x="2622" y="1182"/>
                  </a:lnTo>
                  <a:lnTo>
                    <a:pt x="2622" y="1182"/>
                  </a:lnTo>
                  <a:lnTo>
                    <a:pt x="2638" y="1198"/>
                  </a:lnTo>
                  <a:lnTo>
                    <a:pt x="2654" y="1230"/>
                  </a:lnTo>
                  <a:lnTo>
                    <a:pt x="2654" y="1247"/>
                  </a:lnTo>
                  <a:lnTo>
                    <a:pt x="2670" y="1247"/>
                  </a:lnTo>
                  <a:lnTo>
                    <a:pt x="2670" y="1279"/>
                  </a:lnTo>
                  <a:lnTo>
                    <a:pt x="2654" y="1279"/>
                  </a:lnTo>
                  <a:lnTo>
                    <a:pt x="2638" y="1263"/>
                  </a:lnTo>
                  <a:lnTo>
                    <a:pt x="2638" y="1263"/>
                  </a:lnTo>
                  <a:lnTo>
                    <a:pt x="2638" y="1263"/>
                  </a:lnTo>
                  <a:lnTo>
                    <a:pt x="2622" y="1279"/>
                  </a:lnTo>
                  <a:lnTo>
                    <a:pt x="2622" y="1263"/>
                  </a:lnTo>
                  <a:lnTo>
                    <a:pt x="2622" y="1263"/>
                  </a:lnTo>
                  <a:lnTo>
                    <a:pt x="2622" y="1263"/>
                  </a:lnTo>
                  <a:lnTo>
                    <a:pt x="2622" y="1247"/>
                  </a:lnTo>
                  <a:lnTo>
                    <a:pt x="2622" y="1247"/>
                  </a:lnTo>
                  <a:lnTo>
                    <a:pt x="2605" y="1230"/>
                  </a:lnTo>
                  <a:lnTo>
                    <a:pt x="2605" y="1214"/>
                  </a:lnTo>
                  <a:lnTo>
                    <a:pt x="2605" y="1214"/>
                  </a:lnTo>
                  <a:lnTo>
                    <a:pt x="2605" y="1230"/>
                  </a:lnTo>
                  <a:lnTo>
                    <a:pt x="2605" y="1214"/>
                  </a:lnTo>
                  <a:lnTo>
                    <a:pt x="2589" y="1214"/>
                  </a:lnTo>
                  <a:lnTo>
                    <a:pt x="2589" y="1214"/>
                  </a:lnTo>
                  <a:lnTo>
                    <a:pt x="2589" y="1214"/>
                  </a:lnTo>
                  <a:lnTo>
                    <a:pt x="2589" y="1214"/>
                  </a:lnTo>
                  <a:lnTo>
                    <a:pt x="2589" y="1230"/>
                  </a:lnTo>
                  <a:lnTo>
                    <a:pt x="2589" y="1247"/>
                  </a:lnTo>
                  <a:lnTo>
                    <a:pt x="2589" y="1230"/>
                  </a:lnTo>
                  <a:lnTo>
                    <a:pt x="2589" y="1230"/>
                  </a:lnTo>
                  <a:lnTo>
                    <a:pt x="2573" y="1230"/>
                  </a:lnTo>
                  <a:lnTo>
                    <a:pt x="2573" y="1214"/>
                  </a:lnTo>
                  <a:lnTo>
                    <a:pt x="2573" y="1230"/>
                  </a:lnTo>
                  <a:lnTo>
                    <a:pt x="2557" y="1214"/>
                  </a:lnTo>
                  <a:lnTo>
                    <a:pt x="2573" y="1230"/>
                  </a:lnTo>
                  <a:lnTo>
                    <a:pt x="2573" y="1230"/>
                  </a:lnTo>
                  <a:lnTo>
                    <a:pt x="2541" y="1214"/>
                  </a:lnTo>
                  <a:lnTo>
                    <a:pt x="2557" y="1230"/>
                  </a:lnTo>
                  <a:lnTo>
                    <a:pt x="2541" y="1230"/>
                  </a:lnTo>
                  <a:lnTo>
                    <a:pt x="2541" y="1247"/>
                  </a:lnTo>
                  <a:lnTo>
                    <a:pt x="2541" y="1230"/>
                  </a:lnTo>
                  <a:lnTo>
                    <a:pt x="2573" y="1230"/>
                  </a:lnTo>
                  <a:lnTo>
                    <a:pt x="2573" y="1230"/>
                  </a:lnTo>
                  <a:lnTo>
                    <a:pt x="2573" y="1230"/>
                  </a:lnTo>
                  <a:lnTo>
                    <a:pt x="2573" y="1247"/>
                  </a:lnTo>
                  <a:lnTo>
                    <a:pt x="2589" y="1247"/>
                  </a:lnTo>
                  <a:lnTo>
                    <a:pt x="2573" y="1247"/>
                  </a:lnTo>
                  <a:lnTo>
                    <a:pt x="2589" y="1247"/>
                  </a:lnTo>
                  <a:lnTo>
                    <a:pt x="2573" y="1263"/>
                  </a:lnTo>
                  <a:lnTo>
                    <a:pt x="2589" y="1263"/>
                  </a:lnTo>
                  <a:lnTo>
                    <a:pt x="2589" y="1247"/>
                  </a:lnTo>
                  <a:lnTo>
                    <a:pt x="2605" y="1263"/>
                  </a:lnTo>
                  <a:lnTo>
                    <a:pt x="2605" y="1263"/>
                  </a:lnTo>
                  <a:lnTo>
                    <a:pt x="2605" y="1263"/>
                  </a:lnTo>
                  <a:lnTo>
                    <a:pt x="2622" y="1279"/>
                  </a:lnTo>
                  <a:lnTo>
                    <a:pt x="2605" y="1279"/>
                  </a:lnTo>
                  <a:lnTo>
                    <a:pt x="2605" y="1279"/>
                  </a:lnTo>
                  <a:lnTo>
                    <a:pt x="2605" y="1279"/>
                  </a:lnTo>
                  <a:lnTo>
                    <a:pt x="2589" y="1279"/>
                  </a:lnTo>
                  <a:lnTo>
                    <a:pt x="2589" y="1279"/>
                  </a:lnTo>
                  <a:lnTo>
                    <a:pt x="2589" y="1279"/>
                  </a:lnTo>
                  <a:lnTo>
                    <a:pt x="2589" y="1279"/>
                  </a:lnTo>
                  <a:lnTo>
                    <a:pt x="2589" y="1279"/>
                  </a:lnTo>
                  <a:lnTo>
                    <a:pt x="2605" y="1295"/>
                  </a:lnTo>
                  <a:lnTo>
                    <a:pt x="2589" y="1279"/>
                  </a:lnTo>
                  <a:lnTo>
                    <a:pt x="2589" y="1295"/>
                  </a:lnTo>
                  <a:lnTo>
                    <a:pt x="2589" y="1295"/>
                  </a:lnTo>
                  <a:lnTo>
                    <a:pt x="2589" y="1295"/>
                  </a:lnTo>
                  <a:lnTo>
                    <a:pt x="2573" y="1295"/>
                  </a:lnTo>
                  <a:lnTo>
                    <a:pt x="2573" y="1295"/>
                  </a:lnTo>
                  <a:lnTo>
                    <a:pt x="2573" y="1295"/>
                  </a:lnTo>
                  <a:lnTo>
                    <a:pt x="2573" y="1279"/>
                  </a:lnTo>
                  <a:lnTo>
                    <a:pt x="2573" y="1295"/>
                  </a:lnTo>
                  <a:lnTo>
                    <a:pt x="2557" y="1279"/>
                  </a:lnTo>
                  <a:lnTo>
                    <a:pt x="2557" y="1295"/>
                  </a:lnTo>
                  <a:lnTo>
                    <a:pt x="2524" y="1279"/>
                  </a:lnTo>
                  <a:lnTo>
                    <a:pt x="2524" y="1263"/>
                  </a:lnTo>
                  <a:lnTo>
                    <a:pt x="2524" y="1279"/>
                  </a:lnTo>
                  <a:lnTo>
                    <a:pt x="2492" y="1263"/>
                  </a:lnTo>
                  <a:lnTo>
                    <a:pt x="2492" y="1247"/>
                  </a:lnTo>
                  <a:lnTo>
                    <a:pt x="2476" y="1230"/>
                  </a:lnTo>
                  <a:lnTo>
                    <a:pt x="2460" y="1230"/>
                  </a:lnTo>
                  <a:lnTo>
                    <a:pt x="2460" y="1230"/>
                  </a:lnTo>
                  <a:lnTo>
                    <a:pt x="2460" y="1230"/>
                  </a:lnTo>
                  <a:lnTo>
                    <a:pt x="2444" y="1230"/>
                  </a:lnTo>
                  <a:lnTo>
                    <a:pt x="2411" y="1214"/>
                  </a:lnTo>
                  <a:lnTo>
                    <a:pt x="2427" y="1214"/>
                  </a:lnTo>
                  <a:lnTo>
                    <a:pt x="2411" y="1214"/>
                  </a:lnTo>
                  <a:lnTo>
                    <a:pt x="2411" y="1214"/>
                  </a:lnTo>
                  <a:lnTo>
                    <a:pt x="2379" y="1198"/>
                  </a:lnTo>
                  <a:lnTo>
                    <a:pt x="2395" y="1198"/>
                  </a:lnTo>
                  <a:lnTo>
                    <a:pt x="2395" y="1182"/>
                  </a:lnTo>
                  <a:lnTo>
                    <a:pt x="2379" y="1166"/>
                  </a:lnTo>
                  <a:lnTo>
                    <a:pt x="2379" y="1149"/>
                  </a:lnTo>
                  <a:lnTo>
                    <a:pt x="2395" y="1166"/>
                  </a:lnTo>
                  <a:lnTo>
                    <a:pt x="2395" y="1182"/>
                  </a:lnTo>
                  <a:lnTo>
                    <a:pt x="2411" y="1182"/>
                  </a:lnTo>
                  <a:lnTo>
                    <a:pt x="2395" y="1182"/>
                  </a:lnTo>
                  <a:lnTo>
                    <a:pt x="2411" y="1198"/>
                  </a:lnTo>
                  <a:lnTo>
                    <a:pt x="2411" y="1182"/>
                  </a:lnTo>
                  <a:lnTo>
                    <a:pt x="2395" y="1166"/>
                  </a:lnTo>
                  <a:lnTo>
                    <a:pt x="2427" y="1166"/>
                  </a:lnTo>
                  <a:lnTo>
                    <a:pt x="2395" y="1166"/>
                  </a:lnTo>
                  <a:lnTo>
                    <a:pt x="2379" y="1149"/>
                  </a:lnTo>
                  <a:lnTo>
                    <a:pt x="2379" y="1149"/>
                  </a:lnTo>
                  <a:lnTo>
                    <a:pt x="2363" y="1166"/>
                  </a:lnTo>
                  <a:lnTo>
                    <a:pt x="2346" y="1198"/>
                  </a:lnTo>
                  <a:lnTo>
                    <a:pt x="2314" y="1182"/>
                  </a:lnTo>
                  <a:lnTo>
                    <a:pt x="2282" y="1182"/>
                  </a:lnTo>
                  <a:lnTo>
                    <a:pt x="2298" y="1166"/>
                  </a:lnTo>
                  <a:lnTo>
                    <a:pt x="2282" y="1166"/>
                  </a:lnTo>
                  <a:lnTo>
                    <a:pt x="2282" y="1149"/>
                  </a:lnTo>
                  <a:lnTo>
                    <a:pt x="2282" y="1166"/>
                  </a:lnTo>
                  <a:lnTo>
                    <a:pt x="2282" y="1166"/>
                  </a:lnTo>
                  <a:lnTo>
                    <a:pt x="2266" y="1182"/>
                  </a:lnTo>
                  <a:lnTo>
                    <a:pt x="2217" y="1166"/>
                  </a:lnTo>
                  <a:lnTo>
                    <a:pt x="2152" y="1198"/>
                  </a:lnTo>
                  <a:lnTo>
                    <a:pt x="2136" y="1198"/>
                  </a:lnTo>
                  <a:lnTo>
                    <a:pt x="2136" y="1182"/>
                  </a:lnTo>
                  <a:lnTo>
                    <a:pt x="2120" y="1182"/>
                  </a:lnTo>
                  <a:lnTo>
                    <a:pt x="2136" y="1182"/>
                  </a:lnTo>
                  <a:lnTo>
                    <a:pt x="2104" y="1182"/>
                  </a:lnTo>
                  <a:lnTo>
                    <a:pt x="2104" y="1166"/>
                  </a:lnTo>
                  <a:lnTo>
                    <a:pt x="2087" y="1166"/>
                  </a:lnTo>
                  <a:lnTo>
                    <a:pt x="2087" y="1149"/>
                  </a:lnTo>
                  <a:lnTo>
                    <a:pt x="2087" y="1149"/>
                  </a:lnTo>
                  <a:lnTo>
                    <a:pt x="2087" y="1149"/>
                  </a:lnTo>
                  <a:lnTo>
                    <a:pt x="2087" y="1133"/>
                  </a:lnTo>
                  <a:lnTo>
                    <a:pt x="2104" y="1117"/>
                  </a:lnTo>
                  <a:lnTo>
                    <a:pt x="2087" y="1133"/>
                  </a:lnTo>
                  <a:lnTo>
                    <a:pt x="2087" y="1133"/>
                  </a:lnTo>
                  <a:lnTo>
                    <a:pt x="2071" y="1166"/>
                  </a:lnTo>
                  <a:lnTo>
                    <a:pt x="2071" y="1166"/>
                  </a:lnTo>
                  <a:lnTo>
                    <a:pt x="2039" y="1149"/>
                  </a:lnTo>
                  <a:lnTo>
                    <a:pt x="2039" y="1166"/>
                  </a:lnTo>
                  <a:lnTo>
                    <a:pt x="2039" y="1133"/>
                  </a:lnTo>
                  <a:lnTo>
                    <a:pt x="2039" y="1133"/>
                  </a:lnTo>
                  <a:lnTo>
                    <a:pt x="2039" y="1133"/>
                  </a:lnTo>
                  <a:lnTo>
                    <a:pt x="2039" y="1133"/>
                  </a:lnTo>
                  <a:lnTo>
                    <a:pt x="2039" y="1133"/>
                  </a:lnTo>
                  <a:lnTo>
                    <a:pt x="2023" y="1133"/>
                  </a:lnTo>
                  <a:lnTo>
                    <a:pt x="2023" y="1133"/>
                  </a:lnTo>
                  <a:lnTo>
                    <a:pt x="2007" y="1133"/>
                  </a:lnTo>
                  <a:lnTo>
                    <a:pt x="2023" y="1133"/>
                  </a:lnTo>
                  <a:lnTo>
                    <a:pt x="2023" y="1117"/>
                  </a:lnTo>
                  <a:lnTo>
                    <a:pt x="2007" y="1133"/>
                  </a:lnTo>
                  <a:lnTo>
                    <a:pt x="2007" y="1133"/>
                  </a:lnTo>
                  <a:lnTo>
                    <a:pt x="2007" y="1133"/>
                  </a:lnTo>
                  <a:lnTo>
                    <a:pt x="1990" y="1133"/>
                  </a:lnTo>
                  <a:lnTo>
                    <a:pt x="1990" y="1133"/>
                  </a:lnTo>
                  <a:lnTo>
                    <a:pt x="2023" y="1117"/>
                  </a:lnTo>
                  <a:lnTo>
                    <a:pt x="2007" y="1117"/>
                  </a:lnTo>
                  <a:lnTo>
                    <a:pt x="2007" y="1117"/>
                  </a:lnTo>
                  <a:lnTo>
                    <a:pt x="1990" y="1117"/>
                  </a:lnTo>
                  <a:lnTo>
                    <a:pt x="1990" y="1117"/>
                  </a:lnTo>
                  <a:lnTo>
                    <a:pt x="1974" y="1117"/>
                  </a:lnTo>
                  <a:lnTo>
                    <a:pt x="1990" y="1117"/>
                  </a:lnTo>
                  <a:lnTo>
                    <a:pt x="1990" y="1101"/>
                  </a:lnTo>
                  <a:lnTo>
                    <a:pt x="1990" y="1101"/>
                  </a:lnTo>
                  <a:lnTo>
                    <a:pt x="1990" y="1101"/>
                  </a:lnTo>
                  <a:lnTo>
                    <a:pt x="1990" y="1101"/>
                  </a:lnTo>
                  <a:lnTo>
                    <a:pt x="2007" y="1085"/>
                  </a:lnTo>
                  <a:lnTo>
                    <a:pt x="2007" y="1085"/>
                  </a:lnTo>
                  <a:lnTo>
                    <a:pt x="1990" y="1085"/>
                  </a:lnTo>
                  <a:lnTo>
                    <a:pt x="1974" y="1117"/>
                  </a:lnTo>
                  <a:lnTo>
                    <a:pt x="1974" y="1117"/>
                  </a:lnTo>
                  <a:lnTo>
                    <a:pt x="1974" y="1101"/>
                  </a:lnTo>
                  <a:lnTo>
                    <a:pt x="1958" y="1101"/>
                  </a:lnTo>
                  <a:lnTo>
                    <a:pt x="1958" y="1117"/>
                  </a:lnTo>
                  <a:lnTo>
                    <a:pt x="1958" y="1101"/>
                  </a:lnTo>
                  <a:lnTo>
                    <a:pt x="1958" y="1101"/>
                  </a:lnTo>
                  <a:lnTo>
                    <a:pt x="1958" y="1117"/>
                  </a:lnTo>
                  <a:lnTo>
                    <a:pt x="1958" y="1117"/>
                  </a:lnTo>
                  <a:lnTo>
                    <a:pt x="1942" y="1117"/>
                  </a:lnTo>
                  <a:lnTo>
                    <a:pt x="1942" y="1117"/>
                  </a:lnTo>
                  <a:lnTo>
                    <a:pt x="1942" y="1117"/>
                  </a:lnTo>
                  <a:lnTo>
                    <a:pt x="1942" y="1101"/>
                  </a:lnTo>
                  <a:lnTo>
                    <a:pt x="1942" y="1117"/>
                  </a:lnTo>
                  <a:lnTo>
                    <a:pt x="1942" y="1101"/>
                  </a:lnTo>
                  <a:lnTo>
                    <a:pt x="1942" y="1085"/>
                  </a:lnTo>
                  <a:lnTo>
                    <a:pt x="1942" y="1101"/>
                  </a:lnTo>
                  <a:lnTo>
                    <a:pt x="1926" y="1101"/>
                  </a:lnTo>
                  <a:lnTo>
                    <a:pt x="1942" y="1101"/>
                  </a:lnTo>
                  <a:lnTo>
                    <a:pt x="1942" y="1117"/>
                  </a:lnTo>
                  <a:lnTo>
                    <a:pt x="1926" y="1117"/>
                  </a:lnTo>
                  <a:lnTo>
                    <a:pt x="1926" y="1117"/>
                  </a:lnTo>
                  <a:lnTo>
                    <a:pt x="1926" y="1117"/>
                  </a:lnTo>
                  <a:lnTo>
                    <a:pt x="1926" y="1133"/>
                  </a:lnTo>
                  <a:lnTo>
                    <a:pt x="1926" y="1133"/>
                  </a:lnTo>
                  <a:lnTo>
                    <a:pt x="1909" y="1117"/>
                  </a:lnTo>
                  <a:lnTo>
                    <a:pt x="1926" y="1085"/>
                  </a:lnTo>
                  <a:lnTo>
                    <a:pt x="1926" y="1085"/>
                  </a:lnTo>
                  <a:lnTo>
                    <a:pt x="1926" y="1085"/>
                  </a:lnTo>
                  <a:lnTo>
                    <a:pt x="1909" y="1117"/>
                  </a:lnTo>
                  <a:lnTo>
                    <a:pt x="1909" y="1101"/>
                  </a:lnTo>
                  <a:lnTo>
                    <a:pt x="1893" y="1101"/>
                  </a:lnTo>
                  <a:lnTo>
                    <a:pt x="1893" y="1101"/>
                  </a:lnTo>
                  <a:lnTo>
                    <a:pt x="1893" y="1117"/>
                  </a:lnTo>
                  <a:lnTo>
                    <a:pt x="1909" y="1101"/>
                  </a:lnTo>
                  <a:lnTo>
                    <a:pt x="1909" y="1117"/>
                  </a:lnTo>
                  <a:lnTo>
                    <a:pt x="1893" y="1117"/>
                  </a:lnTo>
                  <a:lnTo>
                    <a:pt x="1909" y="1117"/>
                  </a:lnTo>
                  <a:lnTo>
                    <a:pt x="1893" y="1133"/>
                  </a:lnTo>
                  <a:lnTo>
                    <a:pt x="1893" y="1133"/>
                  </a:lnTo>
                  <a:lnTo>
                    <a:pt x="1893" y="1133"/>
                  </a:lnTo>
                  <a:lnTo>
                    <a:pt x="1877" y="1133"/>
                  </a:lnTo>
                  <a:lnTo>
                    <a:pt x="1893" y="1133"/>
                  </a:lnTo>
                  <a:lnTo>
                    <a:pt x="1877" y="1149"/>
                  </a:lnTo>
                  <a:lnTo>
                    <a:pt x="1877" y="1149"/>
                  </a:lnTo>
                  <a:lnTo>
                    <a:pt x="1893" y="1133"/>
                  </a:lnTo>
                  <a:lnTo>
                    <a:pt x="1893" y="1149"/>
                  </a:lnTo>
                  <a:lnTo>
                    <a:pt x="1909" y="1133"/>
                  </a:lnTo>
                  <a:lnTo>
                    <a:pt x="1909" y="1149"/>
                  </a:lnTo>
                  <a:lnTo>
                    <a:pt x="1909" y="1166"/>
                  </a:lnTo>
                  <a:lnTo>
                    <a:pt x="1893" y="1166"/>
                  </a:lnTo>
                  <a:lnTo>
                    <a:pt x="1893" y="1166"/>
                  </a:lnTo>
                  <a:lnTo>
                    <a:pt x="1893" y="1166"/>
                  </a:lnTo>
                  <a:lnTo>
                    <a:pt x="1893" y="1166"/>
                  </a:lnTo>
                  <a:lnTo>
                    <a:pt x="1909" y="1166"/>
                  </a:lnTo>
                  <a:lnTo>
                    <a:pt x="1909" y="1166"/>
                  </a:lnTo>
                  <a:lnTo>
                    <a:pt x="1909" y="1166"/>
                  </a:lnTo>
                  <a:lnTo>
                    <a:pt x="1909" y="1166"/>
                  </a:lnTo>
                  <a:lnTo>
                    <a:pt x="1909" y="1149"/>
                  </a:lnTo>
                  <a:lnTo>
                    <a:pt x="1926" y="1166"/>
                  </a:lnTo>
                  <a:lnTo>
                    <a:pt x="1926" y="1182"/>
                  </a:lnTo>
                  <a:lnTo>
                    <a:pt x="1909" y="1182"/>
                  </a:lnTo>
                  <a:lnTo>
                    <a:pt x="1909" y="1182"/>
                  </a:lnTo>
                  <a:lnTo>
                    <a:pt x="1909" y="1182"/>
                  </a:lnTo>
                  <a:lnTo>
                    <a:pt x="1909" y="1182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893" y="1198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926" y="1198"/>
                  </a:lnTo>
                  <a:lnTo>
                    <a:pt x="1909" y="1214"/>
                  </a:lnTo>
                  <a:lnTo>
                    <a:pt x="1909" y="1198"/>
                  </a:lnTo>
                  <a:lnTo>
                    <a:pt x="1909" y="1214"/>
                  </a:lnTo>
                  <a:lnTo>
                    <a:pt x="1909" y="1230"/>
                  </a:lnTo>
                  <a:lnTo>
                    <a:pt x="1893" y="1214"/>
                  </a:lnTo>
                  <a:lnTo>
                    <a:pt x="1893" y="1230"/>
                  </a:lnTo>
                  <a:lnTo>
                    <a:pt x="1893" y="1230"/>
                  </a:lnTo>
                  <a:lnTo>
                    <a:pt x="1893" y="1230"/>
                  </a:lnTo>
                  <a:lnTo>
                    <a:pt x="1861" y="1230"/>
                  </a:lnTo>
                  <a:lnTo>
                    <a:pt x="1861" y="1230"/>
                  </a:lnTo>
                  <a:lnTo>
                    <a:pt x="1877" y="1214"/>
                  </a:lnTo>
                  <a:lnTo>
                    <a:pt x="1861" y="1214"/>
                  </a:lnTo>
                  <a:lnTo>
                    <a:pt x="1861" y="1247"/>
                  </a:lnTo>
                  <a:lnTo>
                    <a:pt x="1861" y="1230"/>
                  </a:lnTo>
                  <a:lnTo>
                    <a:pt x="1845" y="1214"/>
                  </a:lnTo>
                  <a:lnTo>
                    <a:pt x="1845" y="1230"/>
                  </a:lnTo>
                  <a:lnTo>
                    <a:pt x="1845" y="1247"/>
                  </a:lnTo>
                  <a:lnTo>
                    <a:pt x="1845" y="1263"/>
                  </a:lnTo>
                  <a:lnTo>
                    <a:pt x="1845" y="1263"/>
                  </a:lnTo>
                  <a:lnTo>
                    <a:pt x="1845" y="1230"/>
                  </a:lnTo>
                  <a:lnTo>
                    <a:pt x="1829" y="1230"/>
                  </a:lnTo>
                  <a:lnTo>
                    <a:pt x="1829" y="1247"/>
                  </a:lnTo>
                  <a:lnTo>
                    <a:pt x="1829" y="1247"/>
                  </a:lnTo>
                  <a:lnTo>
                    <a:pt x="1829" y="1247"/>
                  </a:lnTo>
                  <a:lnTo>
                    <a:pt x="1829" y="1263"/>
                  </a:lnTo>
                  <a:lnTo>
                    <a:pt x="1812" y="1247"/>
                  </a:lnTo>
                  <a:lnTo>
                    <a:pt x="1829" y="1263"/>
                  </a:lnTo>
                  <a:lnTo>
                    <a:pt x="1829" y="1263"/>
                  </a:lnTo>
                  <a:lnTo>
                    <a:pt x="1812" y="1263"/>
                  </a:lnTo>
                  <a:lnTo>
                    <a:pt x="1812" y="1263"/>
                  </a:lnTo>
                  <a:lnTo>
                    <a:pt x="1812" y="1279"/>
                  </a:lnTo>
                  <a:lnTo>
                    <a:pt x="1812" y="1279"/>
                  </a:lnTo>
                  <a:lnTo>
                    <a:pt x="1812" y="1279"/>
                  </a:lnTo>
                  <a:lnTo>
                    <a:pt x="1796" y="1295"/>
                  </a:lnTo>
                  <a:lnTo>
                    <a:pt x="1812" y="1263"/>
                  </a:lnTo>
                  <a:lnTo>
                    <a:pt x="1796" y="1295"/>
                  </a:lnTo>
                  <a:lnTo>
                    <a:pt x="1796" y="1279"/>
                  </a:lnTo>
                  <a:lnTo>
                    <a:pt x="1796" y="1279"/>
                  </a:lnTo>
                  <a:lnTo>
                    <a:pt x="1780" y="1279"/>
                  </a:lnTo>
                  <a:lnTo>
                    <a:pt x="1796" y="1279"/>
                  </a:lnTo>
                  <a:lnTo>
                    <a:pt x="1780" y="1295"/>
                  </a:lnTo>
                  <a:lnTo>
                    <a:pt x="1780" y="1295"/>
                  </a:lnTo>
                  <a:lnTo>
                    <a:pt x="1764" y="1311"/>
                  </a:lnTo>
                  <a:lnTo>
                    <a:pt x="1780" y="1311"/>
                  </a:lnTo>
                  <a:lnTo>
                    <a:pt x="1764" y="1311"/>
                  </a:lnTo>
                  <a:lnTo>
                    <a:pt x="1764" y="1311"/>
                  </a:lnTo>
                  <a:lnTo>
                    <a:pt x="1748" y="1311"/>
                  </a:lnTo>
                  <a:lnTo>
                    <a:pt x="1764" y="1311"/>
                  </a:lnTo>
                  <a:lnTo>
                    <a:pt x="1748" y="1311"/>
                  </a:lnTo>
                  <a:lnTo>
                    <a:pt x="1731" y="1327"/>
                  </a:lnTo>
                  <a:lnTo>
                    <a:pt x="1731" y="1311"/>
                  </a:lnTo>
                  <a:lnTo>
                    <a:pt x="1715" y="1311"/>
                  </a:lnTo>
                  <a:lnTo>
                    <a:pt x="1715" y="1311"/>
                  </a:lnTo>
                  <a:lnTo>
                    <a:pt x="1715" y="1311"/>
                  </a:lnTo>
                  <a:lnTo>
                    <a:pt x="1715" y="1295"/>
                  </a:lnTo>
                  <a:lnTo>
                    <a:pt x="1731" y="1295"/>
                  </a:lnTo>
                  <a:lnTo>
                    <a:pt x="1748" y="1295"/>
                  </a:lnTo>
                  <a:lnTo>
                    <a:pt x="1748" y="1279"/>
                  </a:lnTo>
                  <a:lnTo>
                    <a:pt x="1748" y="1279"/>
                  </a:lnTo>
                  <a:lnTo>
                    <a:pt x="1748" y="1279"/>
                  </a:lnTo>
                  <a:lnTo>
                    <a:pt x="1764" y="1263"/>
                  </a:lnTo>
                  <a:lnTo>
                    <a:pt x="1748" y="1263"/>
                  </a:lnTo>
                  <a:lnTo>
                    <a:pt x="1731" y="1279"/>
                  </a:lnTo>
                  <a:lnTo>
                    <a:pt x="1748" y="1279"/>
                  </a:lnTo>
                  <a:lnTo>
                    <a:pt x="1715" y="1263"/>
                  </a:lnTo>
                  <a:lnTo>
                    <a:pt x="1731" y="1230"/>
                  </a:lnTo>
                  <a:lnTo>
                    <a:pt x="1731" y="1214"/>
                  </a:lnTo>
                  <a:lnTo>
                    <a:pt x="1748" y="1198"/>
                  </a:lnTo>
                  <a:lnTo>
                    <a:pt x="1748" y="1198"/>
                  </a:lnTo>
                  <a:lnTo>
                    <a:pt x="1748" y="1166"/>
                  </a:lnTo>
                  <a:lnTo>
                    <a:pt x="1731" y="1149"/>
                  </a:lnTo>
                  <a:lnTo>
                    <a:pt x="1764" y="1149"/>
                  </a:lnTo>
                  <a:lnTo>
                    <a:pt x="1780" y="1117"/>
                  </a:lnTo>
                  <a:lnTo>
                    <a:pt x="1812" y="1133"/>
                  </a:lnTo>
                  <a:lnTo>
                    <a:pt x="1829" y="1117"/>
                  </a:lnTo>
                  <a:lnTo>
                    <a:pt x="1861" y="1133"/>
                  </a:lnTo>
                  <a:lnTo>
                    <a:pt x="1861" y="1117"/>
                  </a:lnTo>
                  <a:lnTo>
                    <a:pt x="1845" y="1117"/>
                  </a:lnTo>
                  <a:lnTo>
                    <a:pt x="1812" y="1101"/>
                  </a:lnTo>
                  <a:lnTo>
                    <a:pt x="1829" y="1069"/>
                  </a:lnTo>
                  <a:lnTo>
                    <a:pt x="1845" y="1069"/>
                  </a:lnTo>
                  <a:lnTo>
                    <a:pt x="1829" y="1069"/>
                  </a:lnTo>
                  <a:lnTo>
                    <a:pt x="1812" y="1085"/>
                  </a:lnTo>
                  <a:lnTo>
                    <a:pt x="1812" y="1101"/>
                  </a:lnTo>
                  <a:lnTo>
                    <a:pt x="1780" y="1101"/>
                  </a:lnTo>
                  <a:lnTo>
                    <a:pt x="1780" y="1085"/>
                  </a:lnTo>
                  <a:lnTo>
                    <a:pt x="1780" y="1085"/>
                  </a:lnTo>
                  <a:lnTo>
                    <a:pt x="1764" y="1101"/>
                  </a:lnTo>
                  <a:lnTo>
                    <a:pt x="1748" y="1117"/>
                  </a:lnTo>
                  <a:lnTo>
                    <a:pt x="1715" y="1133"/>
                  </a:lnTo>
                  <a:lnTo>
                    <a:pt x="1715" y="1149"/>
                  </a:lnTo>
                  <a:lnTo>
                    <a:pt x="1715" y="1149"/>
                  </a:lnTo>
                  <a:lnTo>
                    <a:pt x="1715" y="1149"/>
                  </a:lnTo>
                  <a:lnTo>
                    <a:pt x="1699" y="1166"/>
                  </a:lnTo>
                  <a:lnTo>
                    <a:pt x="1683" y="1182"/>
                  </a:lnTo>
                  <a:lnTo>
                    <a:pt x="1683" y="1182"/>
                  </a:lnTo>
                  <a:lnTo>
                    <a:pt x="1699" y="1198"/>
                  </a:lnTo>
                  <a:lnTo>
                    <a:pt x="1683" y="1198"/>
                  </a:lnTo>
                  <a:lnTo>
                    <a:pt x="1667" y="1214"/>
                  </a:lnTo>
                  <a:lnTo>
                    <a:pt x="1667" y="1214"/>
                  </a:lnTo>
                  <a:lnTo>
                    <a:pt x="1651" y="1198"/>
                  </a:lnTo>
                  <a:lnTo>
                    <a:pt x="1651" y="1198"/>
                  </a:lnTo>
                  <a:lnTo>
                    <a:pt x="1651" y="1198"/>
                  </a:lnTo>
                  <a:lnTo>
                    <a:pt x="1651" y="1214"/>
                  </a:lnTo>
                  <a:lnTo>
                    <a:pt x="1683" y="1230"/>
                  </a:lnTo>
                  <a:lnTo>
                    <a:pt x="1667" y="1247"/>
                  </a:lnTo>
                  <a:lnTo>
                    <a:pt x="1634" y="1247"/>
                  </a:lnTo>
                  <a:lnTo>
                    <a:pt x="1634" y="1247"/>
                  </a:lnTo>
                  <a:lnTo>
                    <a:pt x="1651" y="1247"/>
                  </a:lnTo>
                  <a:lnTo>
                    <a:pt x="1651" y="1263"/>
                  </a:lnTo>
                  <a:lnTo>
                    <a:pt x="1634" y="1279"/>
                  </a:lnTo>
                  <a:lnTo>
                    <a:pt x="1634" y="1279"/>
                  </a:lnTo>
                  <a:lnTo>
                    <a:pt x="1634" y="1263"/>
                  </a:lnTo>
                  <a:lnTo>
                    <a:pt x="1634" y="1263"/>
                  </a:lnTo>
                  <a:lnTo>
                    <a:pt x="1634" y="1279"/>
                  </a:lnTo>
                  <a:lnTo>
                    <a:pt x="1618" y="1279"/>
                  </a:lnTo>
                  <a:lnTo>
                    <a:pt x="1618" y="1263"/>
                  </a:lnTo>
                  <a:lnTo>
                    <a:pt x="1618" y="1279"/>
                  </a:lnTo>
                  <a:lnTo>
                    <a:pt x="1618" y="1279"/>
                  </a:lnTo>
                  <a:lnTo>
                    <a:pt x="1618" y="1279"/>
                  </a:lnTo>
                  <a:lnTo>
                    <a:pt x="1602" y="1279"/>
                  </a:lnTo>
                  <a:lnTo>
                    <a:pt x="1618" y="1295"/>
                  </a:lnTo>
                  <a:lnTo>
                    <a:pt x="1618" y="1295"/>
                  </a:lnTo>
                  <a:lnTo>
                    <a:pt x="1586" y="1311"/>
                  </a:lnTo>
                  <a:lnTo>
                    <a:pt x="1602" y="1311"/>
                  </a:lnTo>
                  <a:lnTo>
                    <a:pt x="1586" y="1311"/>
                  </a:lnTo>
                  <a:lnTo>
                    <a:pt x="1586" y="1327"/>
                  </a:lnTo>
                  <a:lnTo>
                    <a:pt x="1586" y="1327"/>
                  </a:lnTo>
                  <a:lnTo>
                    <a:pt x="1586" y="1327"/>
                  </a:lnTo>
                  <a:lnTo>
                    <a:pt x="1586" y="1344"/>
                  </a:lnTo>
                  <a:lnTo>
                    <a:pt x="1602" y="1344"/>
                  </a:lnTo>
                  <a:lnTo>
                    <a:pt x="1618" y="1344"/>
                  </a:lnTo>
                  <a:lnTo>
                    <a:pt x="1634" y="1344"/>
                  </a:lnTo>
                  <a:lnTo>
                    <a:pt x="1634" y="1360"/>
                  </a:lnTo>
                  <a:lnTo>
                    <a:pt x="1634" y="1360"/>
                  </a:lnTo>
                  <a:lnTo>
                    <a:pt x="1634" y="1360"/>
                  </a:lnTo>
                  <a:lnTo>
                    <a:pt x="1634" y="1360"/>
                  </a:lnTo>
                  <a:lnTo>
                    <a:pt x="1634" y="1376"/>
                  </a:lnTo>
                  <a:lnTo>
                    <a:pt x="1618" y="1392"/>
                  </a:lnTo>
                  <a:lnTo>
                    <a:pt x="1602" y="1392"/>
                  </a:lnTo>
                  <a:lnTo>
                    <a:pt x="1602" y="1392"/>
                  </a:lnTo>
                  <a:lnTo>
                    <a:pt x="1602" y="1392"/>
                  </a:lnTo>
                  <a:lnTo>
                    <a:pt x="1586" y="1408"/>
                  </a:lnTo>
                  <a:lnTo>
                    <a:pt x="1602" y="1408"/>
                  </a:lnTo>
                  <a:lnTo>
                    <a:pt x="1586" y="1425"/>
                  </a:lnTo>
                  <a:lnTo>
                    <a:pt x="1586" y="1425"/>
                  </a:lnTo>
                  <a:lnTo>
                    <a:pt x="1586" y="1425"/>
                  </a:lnTo>
                  <a:lnTo>
                    <a:pt x="1586" y="1425"/>
                  </a:lnTo>
                  <a:lnTo>
                    <a:pt x="1586" y="1441"/>
                  </a:lnTo>
                  <a:lnTo>
                    <a:pt x="1586" y="1441"/>
                  </a:lnTo>
                  <a:lnTo>
                    <a:pt x="1586" y="1441"/>
                  </a:lnTo>
                  <a:lnTo>
                    <a:pt x="1586" y="1441"/>
                  </a:lnTo>
                  <a:lnTo>
                    <a:pt x="1586" y="1441"/>
                  </a:lnTo>
                  <a:lnTo>
                    <a:pt x="1570" y="1441"/>
                  </a:lnTo>
                  <a:lnTo>
                    <a:pt x="1570" y="1441"/>
                  </a:lnTo>
                  <a:lnTo>
                    <a:pt x="1570" y="1441"/>
                  </a:lnTo>
                  <a:lnTo>
                    <a:pt x="1570" y="1441"/>
                  </a:lnTo>
                  <a:lnTo>
                    <a:pt x="1570" y="1457"/>
                  </a:lnTo>
                  <a:lnTo>
                    <a:pt x="1553" y="1441"/>
                  </a:lnTo>
                  <a:lnTo>
                    <a:pt x="1553" y="1457"/>
                  </a:lnTo>
                  <a:lnTo>
                    <a:pt x="1537" y="1457"/>
                  </a:lnTo>
                  <a:lnTo>
                    <a:pt x="1537" y="1457"/>
                  </a:lnTo>
                  <a:lnTo>
                    <a:pt x="1537" y="1473"/>
                  </a:lnTo>
                  <a:lnTo>
                    <a:pt x="1521" y="1473"/>
                  </a:lnTo>
                  <a:lnTo>
                    <a:pt x="1521" y="1489"/>
                  </a:lnTo>
                  <a:lnTo>
                    <a:pt x="1505" y="1473"/>
                  </a:lnTo>
                  <a:lnTo>
                    <a:pt x="1505" y="1489"/>
                  </a:lnTo>
                  <a:lnTo>
                    <a:pt x="1505" y="1489"/>
                  </a:lnTo>
                  <a:lnTo>
                    <a:pt x="1489" y="1489"/>
                  </a:lnTo>
                  <a:lnTo>
                    <a:pt x="1505" y="1506"/>
                  </a:lnTo>
                  <a:lnTo>
                    <a:pt x="1472" y="1506"/>
                  </a:lnTo>
                  <a:lnTo>
                    <a:pt x="1489" y="1506"/>
                  </a:lnTo>
                  <a:lnTo>
                    <a:pt x="1472" y="1506"/>
                  </a:lnTo>
                  <a:lnTo>
                    <a:pt x="1472" y="1522"/>
                  </a:lnTo>
                  <a:lnTo>
                    <a:pt x="1472" y="1506"/>
                  </a:lnTo>
                  <a:lnTo>
                    <a:pt x="1456" y="1522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54"/>
                  </a:lnTo>
                  <a:lnTo>
                    <a:pt x="1456" y="1554"/>
                  </a:lnTo>
                  <a:lnTo>
                    <a:pt x="1440" y="1554"/>
                  </a:lnTo>
                  <a:lnTo>
                    <a:pt x="1440" y="1570"/>
                  </a:lnTo>
                  <a:lnTo>
                    <a:pt x="1440" y="1554"/>
                  </a:lnTo>
                  <a:lnTo>
                    <a:pt x="1424" y="1570"/>
                  </a:lnTo>
                  <a:lnTo>
                    <a:pt x="1424" y="1570"/>
                  </a:lnTo>
                  <a:lnTo>
                    <a:pt x="1424" y="1570"/>
                  </a:lnTo>
                  <a:lnTo>
                    <a:pt x="1408" y="1586"/>
                  </a:lnTo>
                  <a:lnTo>
                    <a:pt x="1408" y="1570"/>
                  </a:lnTo>
                  <a:lnTo>
                    <a:pt x="1408" y="1586"/>
                  </a:lnTo>
                  <a:lnTo>
                    <a:pt x="1408" y="1586"/>
                  </a:lnTo>
                  <a:lnTo>
                    <a:pt x="1392" y="1570"/>
                  </a:lnTo>
                  <a:lnTo>
                    <a:pt x="1392" y="1586"/>
                  </a:lnTo>
                  <a:lnTo>
                    <a:pt x="1392" y="1586"/>
                  </a:lnTo>
                  <a:lnTo>
                    <a:pt x="1392" y="1603"/>
                  </a:lnTo>
                  <a:lnTo>
                    <a:pt x="1392" y="1603"/>
                  </a:lnTo>
                  <a:lnTo>
                    <a:pt x="1375" y="1603"/>
                  </a:lnTo>
                  <a:lnTo>
                    <a:pt x="1375" y="1586"/>
                  </a:lnTo>
                  <a:lnTo>
                    <a:pt x="1359" y="1603"/>
                  </a:lnTo>
                  <a:lnTo>
                    <a:pt x="1359" y="1603"/>
                  </a:lnTo>
                  <a:lnTo>
                    <a:pt x="1375" y="1603"/>
                  </a:lnTo>
                  <a:lnTo>
                    <a:pt x="1359" y="1619"/>
                  </a:lnTo>
                  <a:lnTo>
                    <a:pt x="1343" y="1603"/>
                  </a:lnTo>
                  <a:lnTo>
                    <a:pt x="1343" y="1619"/>
                  </a:lnTo>
                  <a:lnTo>
                    <a:pt x="1327" y="1619"/>
                  </a:lnTo>
                  <a:lnTo>
                    <a:pt x="1311" y="1635"/>
                  </a:lnTo>
                  <a:lnTo>
                    <a:pt x="1327" y="1635"/>
                  </a:lnTo>
                  <a:lnTo>
                    <a:pt x="1327" y="1635"/>
                  </a:lnTo>
                  <a:lnTo>
                    <a:pt x="1327" y="1635"/>
                  </a:lnTo>
                  <a:lnTo>
                    <a:pt x="1343" y="1635"/>
                  </a:lnTo>
                  <a:lnTo>
                    <a:pt x="1327" y="1635"/>
                  </a:lnTo>
                  <a:lnTo>
                    <a:pt x="1343" y="1651"/>
                  </a:lnTo>
                  <a:lnTo>
                    <a:pt x="1343" y="1635"/>
                  </a:lnTo>
                  <a:lnTo>
                    <a:pt x="1327" y="1651"/>
                  </a:lnTo>
                  <a:lnTo>
                    <a:pt x="1327" y="1651"/>
                  </a:lnTo>
                  <a:lnTo>
                    <a:pt x="1327" y="1651"/>
                  </a:lnTo>
                  <a:lnTo>
                    <a:pt x="1327" y="1651"/>
                  </a:lnTo>
                  <a:lnTo>
                    <a:pt x="1327" y="1667"/>
                  </a:lnTo>
                  <a:lnTo>
                    <a:pt x="1327" y="1667"/>
                  </a:lnTo>
                  <a:lnTo>
                    <a:pt x="1327" y="1651"/>
                  </a:lnTo>
                  <a:lnTo>
                    <a:pt x="1327" y="1667"/>
                  </a:lnTo>
                  <a:lnTo>
                    <a:pt x="1327" y="1651"/>
                  </a:lnTo>
                  <a:lnTo>
                    <a:pt x="1327" y="1651"/>
                  </a:lnTo>
                  <a:lnTo>
                    <a:pt x="1311" y="1635"/>
                  </a:lnTo>
                  <a:lnTo>
                    <a:pt x="1327" y="1651"/>
                  </a:lnTo>
                  <a:lnTo>
                    <a:pt x="1311" y="1651"/>
                  </a:lnTo>
                  <a:lnTo>
                    <a:pt x="1311" y="1651"/>
                  </a:lnTo>
                  <a:lnTo>
                    <a:pt x="1311" y="1651"/>
                  </a:lnTo>
                  <a:lnTo>
                    <a:pt x="1311" y="1651"/>
                  </a:lnTo>
                  <a:lnTo>
                    <a:pt x="1311" y="1667"/>
                  </a:lnTo>
                  <a:lnTo>
                    <a:pt x="1311" y="1667"/>
                  </a:lnTo>
                  <a:lnTo>
                    <a:pt x="1311" y="1667"/>
                  </a:lnTo>
                  <a:lnTo>
                    <a:pt x="1294" y="1667"/>
                  </a:lnTo>
                  <a:lnTo>
                    <a:pt x="1278" y="1667"/>
                  </a:lnTo>
                  <a:lnTo>
                    <a:pt x="1262" y="1684"/>
                  </a:lnTo>
                  <a:lnTo>
                    <a:pt x="1262" y="1667"/>
                  </a:lnTo>
                  <a:lnTo>
                    <a:pt x="1262" y="1667"/>
                  </a:lnTo>
                  <a:lnTo>
                    <a:pt x="1262" y="1684"/>
                  </a:lnTo>
                  <a:lnTo>
                    <a:pt x="1262" y="1700"/>
                  </a:lnTo>
                  <a:lnTo>
                    <a:pt x="1246" y="1700"/>
                  </a:lnTo>
                  <a:lnTo>
                    <a:pt x="1246" y="1700"/>
                  </a:lnTo>
                  <a:lnTo>
                    <a:pt x="1246" y="1700"/>
                  </a:lnTo>
                  <a:lnTo>
                    <a:pt x="1246" y="1700"/>
                  </a:lnTo>
                  <a:lnTo>
                    <a:pt x="1246" y="1700"/>
                  </a:lnTo>
                  <a:lnTo>
                    <a:pt x="1246" y="1684"/>
                  </a:lnTo>
                  <a:lnTo>
                    <a:pt x="1262" y="1684"/>
                  </a:lnTo>
                  <a:lnTo>
                    <a:pt x="1246" y="1667"/>
                  </a:lnTo>
                  <a:lnTo>
                    <a:pt x="1246" y="1684"/>
                  </a:lnTo>
                  <a:lnTo>
                    <a:pt x="1230" y="1684"/>
                  </a:lnTo>
                  <a:lnTo>
                    <a:pt x="1230" y="1684"/>
                  </a:lnTo>
                  <a:lnTo>
                    <a:pt x="1214" y="1684"/>
                  </a:lnTo>
                  <a:lnTo>
                    <a:pt x="1214" y="1700"/>
                  </a:lnTo>
                  <a:lnTo>
                    <a:pt x="1197" y="1700"/>
                  </a:lnTo>
                  <a:lnTo>
                    <a:pt x="1214" y="1700"/>
                  </a:lnTo>
                  <a:lnTo>
                    <a:pt x="1197" y="1716"/>
                  </a:lnTo>
                  <a:lnTo>
                    <a:pt x="1197" y="1700"/>
                  </a:lnTo>
                  <a:lnTo>
                    <a:pt x="1181" y="1700"/>
                  </a:lnTo>
                  <a:lnTo>
                    <a:pt x="1181" y="1700"/>
                  </a:lnTo>
                  <a:lnTo>
                    <a:pt x="1181" y="1716"/>
                  </a:lnTo>
                  <a:lnTo>
                    <a:pt x="1181" y="1716"/>
                  </a:lnTo>
                  <a:lnTo>
                    <a:pt x="1181" y="1700"/>
                  </a:lnTo>
                  <a:lnTo>
                    <a:pt x="1149" y="1716"/>
                  </a:lnTo>
                  <a:lnTo>
                    <a:pt x="1133" y="1716"/>
                  </a:lnTo>
                  <a:lnTo>
                    <a:pt x="1133" y="1700"/>
                  </a:lnTo>
                  <a:lnTo>
                    <a:pt x="1149" y="1700"/>
                  </a:lnTo>
                  <a:lnTo>
                    <a:pt x="1165" y="1700"/>
                  </a:lnTo>
                  <a:lnTo>
                    <a:pt x="1133" y="1684"/>
                  </a:lnTo>
                  <a:lnTo>
                    <a:pt x="1116" y="1700"/>
                  </a:lnTo>
                  <a:lnTo>
                    <a:pt x="1116" y="1716"/>
                  </a:lnTo>
                  <a:lnTo>
                    <a:pt x="1100" y="1732"/>
                  </a:lnTo>
                  <a:lnTo>
                    <a:pt x="1100" y="1732"/>
                  </a:lnTo>
                  <a:lnTo>
                    <a:pt x="1100" y="1748"/>
                  </a:lnTo>
                  <a:lnTo>
                    <a:pt x="1100" y="1748"/>
                  </a:lnTo>
                  <a:lnTo>
                    <a:pt x="1084" y="1732"/>
                  </a:lnTo>
                  <a:lnTo>
                    <a:pt x="1100" y="1732"/>
                  </a:lnTo>
                  <a:lnTo>
                    <a:pt x="1084" y="1732"/>
                  </a:lnTo>
                  <a:lnTo>
                    <a:pt x="1084" y="1748"/>
                  </a:lnTo>
                  <a:lnTo>
                    <a:pt x="1068" y="1748"/>
                  </a:lnTo>
                  <a:lnTo>
                    <a:pt x="1068" y="1732"/>
                  </a:lnTo>
                  <a:lnTo>
                    <a:pt x="1084" y="1732"/>
                  </a:lnTo>
                  <a:lnTo>
                    <a:pt x="1068" y="1716"/>
                  </a:lnTo>
                  <a:lnTo>
                    <a:pt x="1068" y="1716"/>
                  </a:lnTo>
                  <a:lnTo>
                    <a:pt x="1068" y="1716"/>
                  </a:lnTo>
                  <a:lnTo>
                    <a:pt x="1052" y="1716"/>
                  </a:lnTo>
                  <a:lnTo>
                    <a:pt x="1068" y="1732"/>
                  </a:lnTo>
                  <a:lnTo>
                    <a:pt x="1052" y="1732"/>
                  </a:lnTo>
                  <a:lnTo>
                    <a:pt x="1068" y="1748"/>
                  </a:lnTo>
                  <a:lnTo>
                    <a:pt x="1052" y="1748"/>
                  </a:lnTo>
                  <a:lnTo>
                    <a:pt x="1052" y="1748"/>
                  </a:lnTo>
                  <a:lnTo>
                    <a:pt x="1036" y="1748"/>
                  </a:lnTo>
                  <a:lnTo>
                    <a:pt x="1036" y="1748"/>
                  </a:lnTo>
                  <a:lnTo>
                    <a:pt x="1036" y="1748"/>
                  </a:lnTo>
                  <a:lnTo>
                    <a:pt x="1019" y="1732"/>
                  </a:lnTo>
                  <a:lnTo>
                    <a:pt x="1019" y="1732"/>
                  </a:lnTo>
                  <a:lnTo>
                    <a:pt x="1019" y="1748"/>
                  </a:lnTo>
                  <a:lnTo>
                    <a:pt x="1036" y="1748"/>
                  </a:lnTo>
                  <a:lnTo>
                    <a:pt x="1019" y="1764"/>
                  </a:lnTo>
                  <a:lnTo>
                    <a:pt x="1003" y="1764"/>
                  </a:lnTo>
                  <a:lnTo>
                    <a:pt x="1019" y="1748"/>
                  </a:lnTo>
                  <a:lnTo>
                    <a:pt x="1019" y="1748"/>
                  </a:lnTo>
                  <a:lnTo>
                    <a:pt x="1019" y="1748"/>
                  </a:lnTo>
                  <a:lnTo>
                    <a:pt x="1019" y="1748"/>
                  </a:lnTo>
                  <a:lnTo>
                    <a:pt x="1019" y="1732"/>
                  </a:lnTo>
                  <a:lnTo>
                    <a:pt x="1036" y="1716"/>
                  </a:lnTo>
                  <a:lnTo>
                    <a:pt x="1036" y="1732"/>
                  </a:lnTo>
                  <a:lnTo>
                    <a:pt x="1052" y="1732"/>
                  </a:lnTo>
                  <a:lnTo>
                    <a:pt x="1052" y="1716"/>
                  </a:lnTo>
                  <a:lnTo>
                    <a:pt x="1052" y="1716"/>
                  </a:lnTo>
                  <a:lnTo>
                    <a:pt x="1068" y="1716"/>
                  </a:lnTo>
                  <a:lnTo>
                    <a:pt x="1068" y="1700"/>
                  </a:lnTo>
                  <a:lnTo>
                    <a:pt x="1068" y="1700"/>
                  </a:lnTo>
                  <a:lnTo>
                    <a:pt x="1116" y="1651"/>
                  </a:lnTo>
                  <a:lnTo>
                    <a:pt x="1165" y="1651"/>
                  </a:lnTo>
                  <a:lnTo>
                    <a:pt x="1149" y="1651"/>
                  </a:lnTo>
                  <a:lnTo>
                    <a:pt x="1165" y="1651"/>
                  </a:lnTo>
                  <a:lnTo>
                    <a:pt x="1181" y="1651"/>
                  </a:lnTo>
                  <a:lnTo>
                    <a:pt x="1181" y="1651"/>
                  </a:lnTo>
                  <a:lnTo>
                    <a:pt x="1165" y="1667"/>
                  </a:lnTo>
                  <a:lnTo>
                    <a:pt x="1181" y="1667"/>
                  </a:lnTo>
                  <a:lnTo>
                    <a:pt x="1181" y="1667"/>
                  </a:lnTo>
                  <a:lnTo>
                    <a:pt x="1181" y="1684"/>
                  </a:lnTo>
                  <a:lnTo>
                    <a:pt x="1197" y="1684"/>
                  </a:lnTo>
                  <a:lnTo>
                    <a:pt x="1181" y="1684"/>
                  </a:lnTo>
                  <a:lnTo>
                    <a:pt x="1181" y="1667"/>
                  </a:lnTo>
                  <a:lnTo>
                    <a:pt x="1197" y="1667"/>
                  </a:lnTo>
                  <a:lnTo>
                    <a:pt x="1197" y="1684"/>
                  </a:lnTo>
                  <a:lnTo>
                    <a:pt x="1214" y="1684"/>
                  </a:lnTo>
                  <a:lnTo>
                    <a:pt x="1214" y="1667"/>
                  </a:lnTo>
                  <a:lnTo>
                    <a:pt x="1214" y="1667"/>
                  </a:lnTo>
                  <a:lnTo>
                    <a:pt x="1197" y="1667"/>
                  </a:lnTo>
                  <a:lnTo>
                    <a:pt x="1214" y="1619"/>
                  </a:lnTo>
                  <a:lnTo>
                    <a:pt x="1246" y="1603"/>
                  </a:lnTo>
                  <a:lnTo>
                    <a:pt x="1294" y="1586"/>
                  </a:lnTo>
                  <a:lnTo>
                    <a:pt x="1278" y="1586"/>
                  </a:lnTo>
                  <a:lnTo>
                    <a:pt x="1278" y="1586"/>
                  </a:lnTo>
                  <a:lnTo>
                    <a:pt x="1311" y="1570"/>
                  </a:lnTo>
                  <a:lnTo>
                    <a:pt x="1294" y="1570"/>
                  </a:lnTo>
                  <a:lnTo>
                    <a:pt x="1311" y="1570"/>
                  </a:lnTo>
                  <a:lnTo>
                    <a:pt x="1311" y="1570"/>
                  </a:lnTo>
                  <a:lnTo>
                    <a:pt x="1327" y="1586"/>
                  </a:lnTo>
                  <a:lnTo>
                    <a:pt x="1327" y="1554"/>
                  </a:lnTo>
                  <a:lnTo>
                    <a:pt x="1327" y="1554"/>
                  </a:lnTo>
                  <a:lnTo>
                    <a:pt x="1343" y="1522"/>
                  </a:lnTo>
                  <a:lnTo>
                    <a:pt x="1359" y="1522"/>
                  </a:lnTo>
                  <a:lnTo>
                    <a:pt x="1375" y="1506"/>
                  </a:lnTo>
                  <a:lnTo>
                    <a:pt x="1392" y="1489"/>
                  </a:lnTo>
                  <a:lnTo>
                    <a:pt x="1392" y="1506"/>
                  </a:lnTo>
                  <a:lnTo>
                    <a:pt x="1408" y="1506"/>
                  </a:lnTo>
                  <a:lnTo>
                    <a:pt x="1408" y="1506"/>
                  </a:lnTo>
                  <a:lnTo>
                    <a:pt x="1392" y="1506"/>
                  </a:lnTo>
                  <a:lnTo>
                    <a:pt x="1392" y="1506"/>
                  </a:lnTo>
                  <a:lnTo>
                    <a:pt x="1392" y="1506"/>
                  </a:lnTo>
                  <a:lnTo>
                    <a:pt x="1392" y="1489"/>
                  </a:lnTo>
                  <a:lnTo>
                    <a:pt x="1375" y="1489"/>
                  </a:lnTo>
                  <a:lnTo>
                    <a:pt x="1392" y="1441"/>
                  </a:lnTo>
                  <a:lnTo>
                    <a:pt x="1408" y="1425"/>
                  </a:lnTo>
                  <a:lnTo>
                    <a:pt x="1424" y="1425"/>
                  </a:lnTo>
                  <a:lnTo>
                    <a:pt x="1408" y="1425"/>
                  </a:lnTo>
                  <a:lnTo>
                    <a:pt x="1408" y="1425"/>
                  </a:lnTo>
                  <a:lnTo>
                    <a:pt x="1392" y="1408"/>
                  </a:lnTo>
                  <a:lnTo>
                    <a:pt x="1392" y="1408"/>
                  </a:lnTo>
                  <a:lnTo>
                    <a:pt x="1408" y="1376"/>
                  </a:lnTo>
                  <a:lnTo>
                    <a:pt x="1440" y="1376"/>
                  </a:lnTo>
                  <a:lnTo>
                    <a:pt x="1424" y="1360"/>
                  </a:lnTo>
                  <a:lnTo>
                    <a:pt x="1440" y="1360"/>
                  </a:lnTo>
                  <a:lnTo>
                    <a:pt x="1440" y="1344"/>
                  </a:lnTo>
                  <a:lnTo>
                    <a:pt x="1440" y="1327"/>
                  </a:lnTo>
                  <a:lnTo>
                    <a:pt x="1440" y="1327"/>
                  </a:lnTo>
                  <a:lnTo>
                    <a:pt x="1440" y="1344"/>
                  </a:lnTo>
                  <a:lnTo>
                    <a:pt x="1424" y="1360"/>
                  </a:lnTo>
                  <a:lnTo>
                    <a:pt x="1359" y="1376"/>
                  </a:lnTo>
                  <a:lnTo>
                    <a:pt x="1359" y="1376"/>
                  </a:lnTo>
                  <a:lnTo>
                    <a:pt x="1359" y="1360"/>
                  </a:lnTo>
                  <a:lnTo>
                    <a:pt x="1343" y="1360"/>
                  </a:lnTo>
                  <a:lnTo>
                    <a:pt x="1343" y="1344"/>
                  </a:lnTo>
                  <a:lnTo>
                    <a:pt x="1359" y="1344"/>
                  </a:lnTo>
                  <a:lnTo>
                    <a:pt x="1343" y="1344"/>
                  </a:lnTo>
                  <a:lnTo>
                    <a:pt x="1359" y="1344"/>
                  </a:lnTo>
                  <a:lnTo>
                    <a:pt x="1375" y="1360"/>
                  </a:lnTo>
                  <a:lnTo>
                    <a:pt x="1375" y="1344"/>
                  </a:lnTo>
                  <a:lnTo>
                    <a:pt x="1375" y="1327"/>
                  </a:lnTo>
                  <a:lnTo>
                    <a:pt x="1359" y="1327"/>
                  </a:lnTo>
                  <a:lnTo>
                    <a:pt x="1343" y="1311"/>
                  </a:lnTo>
                  <a:lnTo>
                    <a:pt x="1343" y="1327"/>
                  </a:lnTo>
                  <a:lnTo>
                    <a:pt x="1327" y="1344"/>
                  </a:lnTo>
                  <a:lnTo>
                    <a:pt x="1327" y="1344"/>
                  </a:lnTo>
                  <a:lnTo>
                    <a:pt x="1327" y="1344"/>
                  </a:lnTo>
                  <a:lnTo>
                    <a:pt x="1327" y="1344"/>
                  </a:lnTo>
                  <a:lnTo>
                    <a:pt x="1327" y="1344"/>
                  </a:lnTo>
                  <a:lnTo>
                    <a:pt x="1327" y="1360"/>
                  </a:lnTo>
                  <a:lnTo>
                    <a:pt x="1327" y="1360"/>
                  </a:lnTo>
                  <a:lnTo>
                    <a:pt x="1327" y="1360"/>
                  </a:lnTo>
                  <a:lnTo>
                    <a:pt x="1327" y="1360"/>
                  </a:lnTo>
                  <a:lnTo>
                    <a:pt x="1327" y="1360"/>
                  </a:lnTo>
                  <a:lnTo>
                    <a:pt x="1327" y="1392"/>
                  </a:lnTo>
                  <a:lnTo>
                    <a:pt x="1327" y="1392"/>
                  </a:lnTo>
                  <a:lnTo>
                    <a:pt x="1311" y="1392"/>
                  </a:lnTo>
                  <a:lnTo>
                    <a:pt x="1294" y="1360"/>
                  </a:lnTo>
                  <a:lnTo>
                    <a:pt x="1278" y="1344"/>
                  </a:lnTo>
                  <a:lnTo>
                    <a:pt x="1278" y="1344"/>
                  </a:lnTo>
                  <a:lnTo>
                    <a:pt x="1278" y="1344"/>
                  </a:lnTo>
                  <a:lnTo>
                    <a:pt x="1278" y="1344"/>
                  </a:lnTo>
                  <a:lnTo>
                    <a:pt x="1262" y="1360"/>
                  </a:lnTo>
                  <a:lnTo>
                    <a:pt x="1262" y="1344"/>
                  </a:lnTo>
                  <a:lnTo>
                    <a:pt x="1246" y="1344"/>
                  </a:lnTo>
                  <a:lnTo>
                    <a:pt x="1246" y="1327"/>
                  </a:lnTo>
                  <a:lnTo>
                    <a:pt x="1246" y="1327"/>
                  </a:lnTo>
                  <a:lnTo>
                    <a:pt x="1246" y="1327"/>
                  </a:lnTo>
                  <a:lnTo>
                    <a:pt x="1214" y="1344"/>
                  </a:lnTo>
                  <a:lnTo>
                    <a:pt x="1214" y="1344"/>
                  </a:lnTo>
                  <a:lnTo>
                    <a:pt x="1181" y="1344"/>
                  </a:lnTo>
                  <a:lnTo>
                    <a:pt x="1197" y="1344"/>
                  </a:lnTo>
                  <a:lnTo>
                    <a:pt x="1181" y="1344"/>
                  </a:lnTo>
                  <a:lnTo>
                    <a:pt x="1181" y="1360"/>
                  </a:lnTo>
                  <a:lnTo>
                    <a:pt x="1181" y="1360"/>
                  </a:lnTo>
                  <a:lnTo>
                    <a:pt x="1165" y="1376"/>
                  </a:lnTo>
                  <a:lnTo>
                    <a:pt x="1165" y="1360"/>
                  </a:lnTo>
                  <a:lnTo>
                    <a:pt x="1165" y="1360"/>
                  </a:lnTo>
                  <a:lnTo>
                    <a:pt x="1165" y="1360"/>
                  </a:lnTo>
                  <a:lnTo>
                    <a:pt x="1133" y="1360"/>
                  </a:lnTo>
                  <a:lnTo>
                    <a:pt x="1149" y="1360"/>
                  </a:lnTo>
                  <a:lnTo>
                    <a:pt x="1165" y="1344"/>
                  </a:lnTo>
                  <a:lnTo>
                    <a:pt x="1165" y="1344"/>
                  </a:lnTo>
                  <a:lnTo>
                    <a:pt x="1165" y="1327"/>
                  </a:lnTo>
                  <a:lnTo>
                    <a:pt x="1165" y="1311"/>
                  </a:lnTo>
                  <a:lnTo>
                    <a:pt x="1181" y="1311"/>
                  </a:lnTo>
                  <a:lnTo>
                    <a:pt x="1165" y="1311"/>
                  </a:lnTo>
                  <a:lnTo>
                    <a:pt x="1165" y="1311"/>
                  </a:lnTo>
                  <a:lnTo>
                    <a:pt x="1149" y="1295"/>
                  </a:lnTo>
                  <a:lnTo>
                    <a:pt x="1149" y="1295"/>
                  </a:lnTo>
                  <a:lnTo>
                    <a:pt x="1149" y="1279"/>
                  </a:lnTo>
                  <a:lnTo>
                    <a:pt x="1149" y="1295"/>
                  </a:lnTo>
                  <a:lnTo>
                    <a:pt x="1165" y="1279"/>
                  </a:lnTo>
                  <a:lnTo>
                    <a:pt x="1181" y="1263"/>
                  </a:lnTo>
                  <a:lnTo>
                    <a:pt x="1149" y="1198"/>
                  </a:lnTo>
                  <a:lnTo>
                    <a:pt x="1149" y="1198"/>
                  </a:lnTo>
                  <a:lnTo>
                    <a:pt x="1149" y="1182"/>
                  </a:lnTo>
                  <a:lnTo>
                    <a:pt x="1165" y="1182"/>
                  </a:lnTo>
                  <a:lnTo>
                    <a:pt x="1149" y="1182"/>
                  </a:lnTo>
                  <a:lnTo>
                    <a:pt x="1149" y="1182"/>
                  </a:lnTo>
                  <a:lnTo>
                    <a:pt x="1149" y="1198"/>
                  </a:lnTo>
                  <a:lnTo>
                    <a:pt x="1149" y="1182"/>
                  </a:lnTo>
                  <a:lnTo>
                    <a:pt x="1149" y="1166"/>
                  </a:lnTo>
                  <a:lnTo>
                    <a:pt x="1165" y="1149"/>
                  </a:lnTo>
                  <a:lnTo>
                    <a:pt x="1165" y="1149"/>
                  </a:lnTo>
                  <a:lnTo>
                    <a:pt x="1181" y="1133"/>
                  </a:lnTo>
                  <a:lnTo>
                    <a:pt x="1165" y="1133"/>
                  </a:lnTo>
                  <a:lnTo>
                    <a:pt x="1165" y="1133"/>
                  </a:lnTo>
                  <a:lnTo>
                    <a:pt x="1165" y="1133"/>
                  </a:lnTo>
                  <a:lnTo>
                    <a:pt x="1165" y="1133"/>
                  </a:lnTo>
                  <a:lnTo>
                    <a:pt x="1149" y="1166"/>
                  </a:lnTo>
                  <a:lnTo>
                    <a:pt x="1149" y="1166"/>
                  </a:lnTo>
                  <a:lnTo>
                    <a:pt x="1133" y="1166"/>
                  </a:lnTo>
                  <a:lnTo>
                    <a:pt x="1133" y="1182"/>
                  </a:lnTo>
                  <a:lnTo>
                    <a:pt x="1133" y="1182"/>
                  </a:lnTo>
                  <a:lnTo>
                    <a:pt x="1149" y="1182"/>
                  </a:lnTo>
                  <a:lnTo>
                    <a:pt x="1133" y="1198"/>
                  </a:lnTo>
                  <a:lnTo>
                    <a:pt x="1116" y="1198"/>
                  </a:lnTo>
                  <a:lnTo>
                    <a:pt x="1116" y="1214"/>
                  </a:lnTo>
                  <a:lnTo>
                    <a:pt x="1084" y="1214"/>
                  </a:lnTo>
                  <a:lnTo>
                    <a:pt x="1052" y="1214"/>
                  </a:lnTo>
                  <a:lnTo>
                    <a:pt x="1052" y="1198"/>
                  </a:lnTo>
                  <a:lnTo>
                    <a:pt x="1052" y="1198"/>
                  </a:lnTo>
                  <a:lnTo>
                    <a:pt x="1036" y="1182"/>
                  </a:lnTo>
                  <a:lnTo>
                    <a:pt x="1019" y="1166"/>
                  </a:lnTo>
                  <a:lnTo>
                    <a:pt x="1036" y="1149"/>
                  </a:lnTo>
                  <a:lnTo>
                    <a:pt x="1019" y="1149"/>
                  </a:lnTo>
                  <a:lnTo>
                    <a:pt x="1003" y="1149"/>
                  </a:lnTo>
                  <a:lnTo>
                    <a:pt x="1003" y="1133"/>
                  </a:lnTo>
                  <a:lnTo>
                    <a:pt x="1003" y="1133"/>
                  </a:lnTo>
                  <a:lnTo>
                    <a:pt x="1019" y="1133"/>
                  </a:lnTo>
                  <a:lnTo>
                    <a:pt x="1003" y="1133"/>
                  </a:lnTo>
                  <a:lnTo>
                    <a:pt x="987" y="1117"/>
                  </a:lnTo>
                  <a:lnTo>
                    <a:pt x="1019" y="1117"/>
                  </a:lnTo>
                  <a:lnTo>
                    <a:pt x="1019" y="1101"/>
                  </a:lnTo>
                  <a:lnTo>
                    <a:pt x="1019" y="1101"/>
                  </a:lnTo>
                  <a:lnTo>
                    <a:pt x="1019" y="1085"/>
                  </a:lnTo>
                  <a:lnTo>
                    <a:pt x="1019" y="1101"/>
                  </a:lnTo>
                  <a:lnTo>
                    <a:pt x="1036" y="1085"/>
                  </a:lnTo>
                  <a:lnTo>
                    <a:pt x="1036" y="1101"/>
                  </a:lnTo>
                  <a:lnTo>
                    <a:pt x="1036" y="1101"/>
                  </a:lnTo>
                  <a:lnTo>
                    <a:pt x="1052" y="1101"/>
                  </a:lnTo>
                  <a:lnTo>
                    <a:pt x="1052" y="1117"/>
                  </a:lnTo>
                  <a:lnTo>
                    <a:pt x="1036" y="1133"/>
                  </a:lnTo>
                  <a:lnTo>
                    <a:pt x="1068" y="1117"/>
                  </a:lnTo>
                  <a:lnTo>
                    <a:pt x="1084" y="1117"/>
                  </a:lnTo>
                  <a:lnTo>
                    <a:pt x="1084" y="1133"/>
                  </a:lnTo>
                  <a:lnTo>
                    <a:pt x="1100" y="1117"/>
                  </a:lnTo>
                  <a:lnTo>
                    <a:pt x="1100" y="1117"/>
                  </a:lnTo>
                  <a:lnTo>
                    <a:pt x="1100" y="1117"/>
                  </a:lnTo>
                  <a:lnTo>
                    <a:pt x="1068" y="1101"/>
                  </a:lnTo>
                  <a:lnTo>
                    <a:pt x="1100" y="1101"/>
                  </a:lnTo>
                  <a:lnTo>
                    <a:pt x="1084" y="1101"/>
                  </a:lnTo>
                  <a:lnTo>
                    <a:pt x="1084" y="1085"/>
                  </a:lnTo>
                  <a:lnTo>
                    <a:pt x="1068" y="1101"/>
                  </a:lnTo>
                  <a:lnTo>
                    <a:pt x="1036" y="1101"/>
                  </a:lnTo>
                  <a:lnTo>
                    <a:pt x="1036" y="1085"/>
                  </a:lnTo>
                  <a:lnTo>
                    <a:pt x="1019" y="1085"/>
                  </a:lnTo>
                  <a:lnTo>
                    <a:pt x="1019" y="1085"/>
                  </a:lnTo>
                  <a:lnTo>
                    <a:pt x="1019" y="1085"/>
                  </a:lnTo>
                  <a:lnTo>
                    <a:pt x="1003" y="1085"/>
                  </a:lnTo>
                  <a:lnTo>
                    <a:pt x="1036" y="1069"/>
                  </a:lnTo>
                  <a:lnTo>
                    <a:pt x="1019" y="1069"/>
                  </a:lnTo>
                  <a:lnTo>
                    <a:pt x="1019" y="1069"/>
                  </a:lnTo>
                  <a:lnTo>
                    <a:pt x="1019" y="1069"/>
                  </a:lnTo>
                  <a:lnTo>
                    <a:pt x="1019" y="1052"/>
                  </a:lnTo>
                  <a:lnTo>
                    <a:pt x="1019" y="1052"/>
                  </a:lnTo>
                  <a:lnTo>
                    <a:pt x="1019" y="1052"/>
                  </a:lnTo>
                  <a:lnTo>
                    <a:pt x="1019" y="1052"/>
                  </a:lnTo>
                  <a:lnTo>
                    <a:pt x="1003" y="1052"/>
                  </a:lnTo>
                  <a:lnTo>
                    <a:pt x="1019" y="1052"/>
                  </a:lnTo>
                  <a:lnTo>
                    <a:pt x="1019" y="1036"/>
                  </a:lnTo>
                  <a:lnTo>
                    <a:pt x="1019" y="1036"/>
                  </a:lnTo>
                  <a:lnTo>
                    <a:pt x="1019" y="1036"/>
                  </a:lnTo>
                  <a:lnTo>
                    <a:pt x="1019" y="1036"/>
                  </a:lnTo>
                  <a:lnTo>
                    <a:pt x="1036" y="1020"/>
                  </a:lnTo>
                  <a:lnTo>
                    <a:pt x="1052" y="1020"/>
                  </a:lnTo>
                  <a:lnTo>
                    <a:pt x="1019" y="1036"/>
                  </a:lnTo>
                  <a:lnTo>
                    <a:pt x="1019" y="1036"/>
                  </a:lnTo>
                  <a:lnTo>
                    <a:pt x="1019" y="1052"/>
                  </a:lnTo>
                  <a:lnTo>
                    <a:pt x="1003" y="1052"/>
                  </a:lnTo>
                  <a:lnTo>
                    <a:pt x="1003" y="1052"/>
                  </a:lnTo>
                  <a:lnTo>
                    <a:pt x="1003" y="1069"/>
                  </a:lnTo>
                  <a:lnTo>
                    <a:pt x="987" y="1052"/>
                  </a:lnTo>
                  <a:lnTo>
                    <a:pt x="987" y="1052"/>
                  </a:lnTo>
                  <a:lnTo>
                    <a:pt x="987" y="1036"/>
                  </a:lnTo>
                  <a:lnTo>
                    <a:pt x="987" y="1036"/>
                  </a:lnTo>
                  <a:lnTo>
                    <a:pt x="987" y="1020"/>
                  </a:lnTo>
                  <a:lnTo>
                    <a:pt x="987" y="1020"/>
                  </a:lnTo>
                  <a:lnTo>
                    <a:pt x="987" y="1020"/>
                  </a:lnTo>
                  <a:lnTo>
                    <a:pt x="987" y="1004"/>
                  </a:lnTo>
                  <a:lnTo>
                    <a:pt x="971" y="1020"/>
                  </a:lnTo>
                  <a:lnTo>
                    <a:pt x="971" y="1004"/>
                  </a:lnTo>
                  <a:lnTo>
                    <a:pt x="971" y="988"/>
                  </a:lnTo>
                  <a:lnTo>
                    <a:pt x="971" y="1004"/>
                  </a:lnTo>
                  <a:lnTo>
                    <a:pt x="987" y="1004"/>
                  </a:lnTo>
                  <a:lnTo>
                    <a:pt x="987" y="988"/>
                  </a:lnTo>
                  <a:lnTo>
                    <a:pt x="987" y="988"/>
                  </a:lnTo>
                  <a:lnTo>
                    <a:pt x="1003" y="988"/>
                  </a:lnTo>
                  <a:lnTo>
                    <a:pt x="1003" y="971"/>
                  </a:lnTo>
                  <a:lnTo>
                    <a:pt x="1003" y="955"/>
                  </a:lnTo>
                  <a:lnTo>
                    <a:pt x="1052" y="907"/>
                  </a:lnTo>
                  <a:lnTo>
                    <a:pt x="1052" y="907"/>
                  </a:lnTo>
                  <a:lnTo>
                    <a:pt x="1052" y="923"/>
                  </a:lnTo>
                  <a:lnTo>
                    <a:pt x="1068" y="923"/>
                  </a:lnTo>
                  <a:lnTo>
                    <a:pt x="1052" y="939"/>
                  </a:lnTo>
                  <a:lnTo>
                    <a:pt x="1068" y="923"/>
                  </a:lnTo>
                  <a:lnTo>
                    <a:pt x="1068" y="923"/>
                  </a:lnTo>
                  <a:lnTo>
                    <a:pt x="1068" y="923"/>
                  </a:lnTo>
                  <a:lnTo>
                    <a:pt x="1052" y="923"/>
                  </a:lnTo>
                  <a:lnTo>
                    <a:pt x="1052" y="907"/>
                  </a:lnTo>
                  <a:lnTo>
                    <a:pt x="1052" y="907"/>
                  </a:lnTo>
                  <a:lnTo>
                    <a:pt x="1084" y="891"/>
                  </a:lnTo>
                  <a:lnTo>
                    <a:pt x="1068" y="907"/>
                  </a:lnTo>
                  <a:lnTo>
                    <a:pt x="1052" y="891"/>
                  </a:lnTo>
                  <a:lnTo>
                    <a:pt x="1068" y="891"/>
                  </a:lnTo>
                  <a:lnTo>
                    <a:pt x="1068" y="874"/>
                  </a:lnTo>
                  <a:lnTo>
                    <a:pt x="1068" y="858"/>
                  </a:lnTo>
                  <a:lnTo>
                    <a:pt x="1084" y="858"/>
                  </a:lnTo>
                  <a:lnTo>
                    <a:pt x="1084" y="858"/>
                  </a:lnTo>
                  <a:lnTo>
                    <a:pt x="1084" y="842"/>
                  </a:lnTo>
                  <a:lnTo>
                    <a:pt x="1100" y="842"/>
                  </a:lnTo>
                  <a:lnTo>
                    <a:pt x="1116" y="842"/>
                  </a:lnTo>
                  <a:lnTo>
                    <a:pt x="1133" y="858"/>
                  </a:lnTo>
                  <a:lnTo>
                    <a:pt x="1116" y="858"/>
                  </a:lnTo>
                  <a:lnTo>
                    <a:pt x="1133" y="858"/>
                  </a:lnTo>
                  <a:lnTo>
                    <a:pt x="1116" y="874"/>
                  </a:lnTo>
                  <a:lnTo>
                    <a:pt x="1133" y="858"/>
                  </a:lnTo>
                  <a:lnTo>
                    <a:pt x="1133" y="874"/>
                  </a:lnTo>
                  <a:lnTo>
                    <a:pt x="1149" y="874"/>
                  </a:lnTo>
                  <a:lnTo>
                    <a:pt x="1181" y="842"/>
                  </a:lnTo>
                  <a:lnTo>
                    <a:pt x="1197" y="826"/>
                  </a:lnTo>
                  <a:lnTo>
                    <a:pt x="1197" y="826"/>
                  </a:lnTo>
                  <a:lnTo>
                    <a:pt x="1214" y="826"/>
                  </a:lnTo>
                  <a:lnTo>
                    <a:pt x="1197" y="842"/>
                  </a:lnTo>
                  <a:lnTo>
                    <a:pt x="1246" y="826"/>
                  </a:lnTo>
                  <a:lnTo>
                    <a:pt x="1278" y="810"/>
                  </a:lnTo>
                  <a:lnTo>
                    <a:pt x="1278" y="793"/>
                  </a:lnTo>
                  <a:lnTo>
                    <a:pt x="1262" y="777"/>
                  </a:lnTo>
                  <a:lnTo>
                    <a:pt x="1262" y="761"/>
                  </a:lnTo>
                  <a:lnTo>
                    <a:pt x="1262" y="729"/>
                  </a:lnTo>
                  <a:lnTo>
                    <a:pt x="1262" y="729"/>
                  </a:lnTo>
                  <a:lnTo>
                    <a:pt x="1246" y="729"/>
                  </a:lnTo>
                  <a:lnTo>
                    <a:pt x="1246" y="712"/>
                  </a:lnTo>
                  <a:lnTo>
                    <a:pt x="1278" y="729"/>
                  </a:lnTo>
                  <a:lnTo>
                    <a:pt x="1262" y="712"/>
                  </a:lnTo>
                  <a:lnTo>
                    <a:pt x="1278" y="712"/>
                  </a:lnTo>
                  <a:lnTo>
                    <a:pt x="1278" y="696"/>
                  </a:lnTo>
                  <a:lnTo>
                    <a:pt x="1262" y="680"/>
                  </a:lnTo>
                  <a:lnTo>
                    <a:pt x="1278" y="680"/>
                  </a:lnTo>
                  <a:lnTo>
                    <a:pt x="1262" y="680"/>
                  </a:lnTo>
                  <a:lnTo>
                    <a:pt x="1262" y="696"/>
                  </a:lnTo>
                  <a:lnTo>
                    <a:pt x="1246" y="696"/>
                  </a:lnTo>
                  <a:lnTo>
                    <a:pt x="1230" y="680"/>
                  </a:lnTo>
                  <a:lnTo>
                    <a:pt x="1246" y="696"/>
                  </a:lnTo>
                  <a:lnTo>
                    <a:pt x="1230" y="696"/>
                  </a:lnTo>
                  <a:lnTo>
                    <a:pt x="1214" y="696"/>
                  </a:lnTo>
                  <a:lnTo>
                    <a:pt x="1197" y="712"/>
                  </a:lnTo>
                  <a:lnTo>
                    <a:pt x="1197" y="729"/>
                  </a:lnTo>
                  <a:lnTo>
                    <a:pt x="1181" y="729"/>
                  </a:lnTo>
                  <a:lnTo>
                    <a:pt x="1181" y="712"/>
                  </a:lnTo>
                  <a:lnTo>
                    <a:pt x="1181" y="712"/>
                  </a:lnTo>
                  <a:lnTo>
                    <a:pt x="1181" y="712"/>
                  </a:lnTo>
                  <a:lnTo>
                    <a:pt x="1165" y="696"/>
                  </a:lnTo>
                  <a:lnTo>
                    <a:pt x="1165" y="696"/>
                  </a:lnTo>
                  <a:lnTo>
                    <a:pt x="1181" y="712"/>
                  </a:lnTo>
                  <a:lnTo>
                    <a:pt x="1165" y="729"/>
                  </a:lnTo>
                  <a:lnTo>
                    <a:pt x="1149" y="696"/>
                  </a:lnTo>
                  <a:lnTo>
                    <a:pt x="1116" y="696"/>
                  </a:lnTo>
                  <a:lnTo>
                    <a:pt x="1100" y="696"/>
                  </a:lnTo>
                  <a:lnTo>
                    <a:pt x="1100" y="696"/>
                  </a:lnTo>
                  <a:lnTo>
                    <a:pt x="1084" y="696"/>
                  </a:lnTo>
                  <a:lnTo>
                    <a:pt x="1084" y="696"/>
                  </a:lnTo>
                  <a:lnTo>
                    <a:pt x="1084" y="712"/>
                  </a:lnTo>
                  <a:lnTo>
                    <a:pt x="1100" y="696"/>
                  </a:lnTo>
                  <a:lnTo>
                    <a:pt x="1084" y="712"/>
                  </a:lnTo>
                  <a:lnTo>
                    <a:pt x="1036" y="680"/>
                  </a:lnTo>
                  <a:lnTo>
                    <a:pt x="1019" y="664"/>
                  </a:lnTo>
                  <a:lnTo>
                    <a:pt x="1036" y="648"/>
                  </a:lnTo>
                  <a:lnTo>
                    <a:pt x="1019" y="632"/>
                  </a:lnTo>
                  <a:lnTo>
                    <a:pt x="1003" y="615"/>
                  </a:lnTo>
                  <a:lnTo>
                    <a:pt x="1003" y="599"/>
                  </a:lnTo>
                  <a:lnTo>
                    <a:pt x="1019" y="599"/>
                  </a:lnTo>
                  <a:lnTo>
                    <a:pt x="1003" y="615"/>
                  </a:lnTo>
                  <a:lnTo>
                    <a:pt x="1019" y="615"/>
                  </a:lnTo>
                  <a:lnTo>
                    <a:pt x="1019" y="615"/>
                  </a:lnTo>
                  <a:lnTo>
                    <a:pt x="1036" y="615"/>
                  </a:lnTo>
                  <a:lnTo>
                    <a:pt x="1036" y="615"/>
                  </a:lnTo>
                  <a:lnTo>
                    <a:pt x="1036" y="599"/>
                  </a:lnTo>
                  <a:lnTo>
                    <a:pt x="1052" y="615"/>
                  </a:lnTo>
                  <a:lnTo>
                    <a:pt x="1019" y="599"/>
                  </a:lnTo>
                  <a:lnTo>
                    <a:pt x="987" y="583"/>
                  </a:lnTo>
                  <a:lnTo>
                    <a:pt x="971" y="551"/>
                  </a:lnTo>
                  <a:lnTo>
                    <a:pt x="971" y="551"/>
                  </a:lnTo>
                  <a:lnTo>
                    <a:pt x="987" y="534"/>
                  </a:lnTo>
                  <a:lnTo>
                    <a:pt x="971" y="551"/>
                  </a:lnTo>
                  <a:lnTo>
                    <a:pt x="971" y="551"/>
                  </a:lnTo>
                  <a:lnTo>
                    <a:pt x="987" y="551"/>
                  </a:lnTo>
                  <a:lnTo>
                    <a:pt x="987" y="551"/>
                  </a:lnTo>
                  <a:lnTo>
                    <a:pt x="987" y="534"/>
                  </a:lnTo>
                  <a:lnTo>
                    <a:pt x="1003" y="534"/>
                  </a:lnTo>
                  <a:lnTo>
                    <a:pt x="1019" y="534"/>
                  </a:lnTo>
                  <a:lnTo>
                    <a:pt x="1036" y="534"/>
                  </a:lnTo>
                  <a:lnTo>
                    <a:pt x="1019" y="518"/>
                  </a:lnTo>
                  <a:lnTo>
                    <a:pt x="1036" y="518"/>
                  </a:lnTo>
                  <a:lnTo>
                    <a:pt x="1036" y="518"/>
                  </a:lnTo>
                  <a:lnTo>
                    <a:pt x="1052" y="502"/>
                  </a:lnTo>
                  <a:lnTo>
                    <a:pt x="1084" y="518"/>
                  </a:lnTo>
                  <a:lnTo>
                    <a:pt x="1084" y="518"/>
                  </a:lnTo>
                  <a:lnTo>
                    <a:pt x="1084" y="502"/>
                  </a:lnTo>
                  <a:lnTo>
                    <a:pt x="1084" y="502"/>
                  </a:lnTo>
                  <a:lnTo>
                    <a:pt x="1116" y="486"/>
                  </a:lnTo>
                  <a:lnTo>
                    <a:pt x="1116" y="502"/>
                  </a:lnTo>
                  <a:lnTo>
                    <a:pt x="1133" y="486"/>
                  </a:lnTo>
                  <a:lnTo>
                    <a:pt x="1149" y="486"/>
                  </a:lnTo>
                  <a:lnTo>
                    <a:pt x="1165" y="486"/>
                  </a:lnTo>
                  <a:lnTo>
                    <a:pt x="1181" y="486"/>
                  </a:lnTo>
                  <a:lnTo>
                    <a:pt x="1165" y="486"/>
                  </a:lnTo>
                  <a:lnTo>
                    <a:pt x="1181" y="486"/>
                  </a:lnTo>
                  <a:lnTo>
                    <a:pt x="1165" y="502"/>
                  </a:lnTo>
                  <a:lnTo>
                    <a:pt x="1165" y="518"/>
                  </a:lnTo>
                  <a:lnTo>
                    <a:pt x="1149" y="518"/>
                  </a:lnTo>
                  <a:lnTo>
                    <a:pt x="1165" y="518"/>
                  </a:lnTo>
                  <a:lnTo>
                    <a:pt x="1165" y="534"/>
                  </a:lnTo>
                  <a:lnTo>
                    <a:pt x="1165" y="534"/>
                  </a:lnTo>
                  <a:lnTo>
                    <a:pt x="1214" y="534"/>
                  </a:lnTo>
                  <a:lnTo>
                    <a:pt x="1214" y="551"/>
                  </a:lnTo>
                  <a:lnTo>
                    <a:pt x="1246" y="551"/>
                  </a:lnTo>
                  <a:lnTo>
                    <a:pt x="1246" y="567"/>
                  </a:lnTo>
                  <a:lnTo>
                    <a:pt x="1246" y="551"/>
                  </a:lnTo>
                  <a:lnTo>
                    <a:pt x="1262" y="551"/>
                  </a:lnTo>
                  <a:lnTo>
                    <a:pt x="1262" y="551"/>
                  </a:lnTo>
                  <a:lnTo>
                    <a:pt x="1262" y="534"/>
                  </a:lnTo>
                  <a:lnTo>
                    <a:pt x="1294" y="534"/>
                  </a:lnTo>
                  <a:lnTo>
                    <a:pt x="1278" y="551"/>
                  </a:lnTo>
                  <a:lnTo>
                    <a:pt x="1278" y="551"/>
                  </a:lnTo>
                  <a:lnTo>
                    <a:pt x="1294" y="551"/>
                  </a:lnTo>
                  <a:lnTo>
                    <a:pt x="1294" y="534"/>
                  </a:lnTo>
                  <a:lnTo>
                    <a:pt x="1278" y="518"/>
                  </a:lnTo>
                  <a:lnTo>
                    <a:pt x="1262" y="518"/>
                  </a:lnTo>
                  <a:lnTo>
                    <a:pt x="1246" y="518"/>
                  </a:lnTo>
                  <a:lnTo>
                    <a:pt x="1246" y="534"/>
                  </a:lnTo>
                  <a:lnTo>
                    <a:pt x="1246" y="534"/>
                  </a:lnTo>
                  <a:lnTo>
                    <a:pt x="1246" y="518"/>
                  </a:lnTo>
                  <a:lnTo>
                    <a:pt x="1262" y="502"/>
                  </a:lnTo>
                  <a:lnTo>
                    <a:pt x="1262" y="502"/>
                  </a:lnTo>
                  <a:lnTo>
                    <a:pt x="1246" y="486"/>
                  </a:lnTo>
                  <a:lnTo>
                    <a:pt x="1230" y="470"/>
                  </a:lnTo>
                  <a:lnTo>
                    <a:pt x="1230" y="454"/>
                  </a:lnTo>
                  <a:lnTo>
                    <a:pt x="1230" y="454"/>
                  </a:lnTo>
                  <a:lnTo>
                    <a:pt x="1246" y="454"/>
                  </a:lnTo>
                  <a:lnTo>
                    <a:pt x="1246" y="470"/>
                  </a:lnTo>
                  <a:lnTo>
                    <a:pt x="1246" y="486"/>
                  </a:lnTo>
                  <a:lnTo>
                    <a:pt x="1262" y="518"/>
                  </a:lnTo>
                  <a:lnTo>
                    <a:pt x="1278" y="502"/>
                  </a:lnTo>
                  <a:lnTo>
                    <a:pt x="1294" y="518"/>
                  </a:lnTo>
                  <a:lnTo>
                    <a:pt x="1327" y="518"/>
                  </a:lnTo>
                  <a:lnTo>
                    <a:pt x="1327" y="502"/>
                  </a:lnTo>
                  <a:lnTo>
                    <a:pt x="1327" y="502"/>
                  </a:lnTo>
                  <a:lnTo>
                    <a:pt x="1327" y="502"/>
                  </a:lnTo>
                  <a:lnTo>
                    <a:pt x="1311" y="502"/>
                  </a:lnTo>
                  <a:lnTo>
                    <a:pt x="1294" y="486"/>
                  </a:lnTo>
                  <a:lnTo>
                    <a:pt x="1294" y="486"/>
                  </a:lnTo>
                  <a:lnTo>
                    <a:pt x="1278" y="502"/>
                  </a:lnTo>
                  <a:lnTo>
                    <a:pt x="1278" y="502"/>
                  </a:lnTo>
                  <a:lnTo>
                    <a:pt x="1262" y="486"/>
                  </a:lnTo>
                  <a:lnTo>
                    <a:pt x="1262" y="454"/>
                  </a:lnTo>
                  <a:lnTo>
                    <a:pt x="1278" y="454"/>
                  </a:lnTo>
                  <a:lnTo>
                    <a:pt x="1262" y="437"/>
                  </a:lnTo>
                  <a:lnTo>
                    <a:pt x="1246" y="454"/>
                  </a:lnTo>
                  <a:lnTo>
                    <a:pt x="1246" y="437"/>
                  </a:lnTo>
                  <a:lnTo>
                    <a:pt x="1246" y="454"/>
                  </a:lnTo>
                  <a:lnTo>
                    <a:pt x="1230" y="454"/>
                  </a:lnTo>
                  <a:lnTo>
                    <a:pt x="1246" y="437"/>
                  </a:lnTo>
                  <a:lnTo>
                    <a:pt x="1246" y="421"/>
                  </a:lnTo>
                  <a:lnTo>
                    <a:pt x="1230" y="437"/>
                  </a:lnTo>
                  <a:lnTo>
                    <a:pt x="1181" y="421"/>
                  </a:lnTo>
                  <a:lnTo>
                    <a:pt x="1181" y="405"/>
                  </a:lnTo>
                  <a:lnTo>
                    <a:pt x="1181" y="373"/>
                  </a:lnTo>
                  <a:lnTo>
                    <a:pt x="1149" y="340"/>
                  </a:lnTo>
                  <a:lnTo>
                    <a:pt x="1133" y="324"/>
                  </a:lnTo>
                  <a:lnTo>
                    <a:pt x="1116" y="308"/>
                  </a:lnTo>
                  <a:lnTo>
                    <a:pt x="1100" y="276"/>
                  </a:lnTo>
                  <a:lnTo>
                    <a:pt x="1084" y="276"/>
                  </a:lnTo>
                  <a:lnTo>
                    <a:pt x="1100" y="276"/>
                  </a:lnTo>
                  <a:lnTo>
                    <a:pt x="1100" y="259"/>
                  </a:lnTo>
                  <a:lnTo>
                    <a:pt x="1116" y="259"/>
                  </a:lnTo>
                  <a:lnTo>
                    <a:pt x="1116" y="243"/>
                  </a:lnTo>
                  <a:lnTo>
                    <a:pt x="1116" y="227"/>
                  </a:lnTo>
                  <a:lnTo>
                    <a:pt x="1197" y="227"/>
                  </a:lnTo>
                  <a:lnTo>
                    <a:pt x="1230" y="211"/>
                  </a:lnTo>
                  <a:lnTo>
                    <a:pt x="1246" y="178"/>
                  </a:lnTo>
                  <a:lnTo>
                    <a:pt x="1230" y="195"/>
                  </a:lnTo>
                  <a:lnTo>
                    <a:pt x="1246" y="178"/>
                  </a:lnTo>
                  <a:lnTo>
                    <a:pt x="1246" y="162"/>
                  </a:lnTo>
                  <a:lnTo>
                    <a:pt x="1246" y="162"/>
                  </a:lnTo>
                  <a:lnTo>
                    <a:pt x="1262" y="162"/>
                  </a:lnTo>
                  <a:lnTo>
                    <a:pt x="1246" y="146"/>
                  </a:lnTo>
                  <a:lnTo>
                    <a:pt x="1262" y="146"/>
                  </a:lnTo>
                  <a:lnTo>
                    <a:pt x="1294" y="97"/>
                  </a:lnTo>
                  <a:lnTo>
                    <a:pt x="1311" y="97"/>
                  </a:lnTo>
                  <a:lnTo>
                    <a:pt x="1311" y="97"/>
                  </a:lnTo>
                  <a:lnTo>
                    <a:pt x="1311" y="97"/>
                  </a:lnTo>
                  <a:lnTo>
                    <a:pt x="1294" y="114"/>
                  </a:lnTo>
                  <a:lnTo>
                    <a:pt x="1311" y="114"/>
                  </a:lnTo>
                  <a:lnTo>
                    <a:pt x="1311" y="97"/>
                  </a:lnTo>
                  <a:lnTo>
                    <a:pt x="1343" y="97"/>
                  </a:lnTo>
                  <a:lnTo>
                    <a:pt x="1343" y="97"/>
                  </a:lnTo>
                  <a:lnTo>
                    <a:pt x="1375" y="65"/>
                  </a:lnTo>
                  <a:lnTo>
                    <a:pt x="1375" y="65"/>
                  </a:lnTo>
                  <a:lnTo>
                    <a:pt x="1375" y="81"/>
                  </a:lnTo>
                  <a:lnTo>
                    <a:pt x="1375" y="81"/>
                  </a:lnTo>
                  <a:lnTo>
                    <a:pt x="1375" y="81"/>
                  </a:lnTo>
                  <a:lnTo>
                    <a:pt x="1375" y="97"/>
                  </a:lnTo>
                  <a:lnTo>
                    <a:pt x="1375" y="97"/>
                  </a:lnTo>
                  <a:lnTo>
                    <a:pt x="1375" y="114"/>
                  </a:lnTo>
                  <a:lnTo>
                    <a:pt x="1375" y="97"/>
                  </a:lnTo>
                  <a:lnTo>
                    <a:pt x="1375" y="81"/>
                  </a:lnTo>
                  <a:lnTo>
                    <a:pt x="1392" y="81"/>
                  </a:lnTo>
                  <a:lnTo>
                    <a:pt x="1408" y="81"/>
                  </a:lnTo>
                  <a:lnTo>
                    <a:pt x="1392" y="81"/>
                  </a:lnTo>
                  <a:lnTo>
                    <a:pt x="1375" y="65"/>
                  </a:lnTo>
                  <a:lnTo>
                    <a:pt x="1375" y="65"/>
                  </a:lnTo>
                  <a:lnTo>
                    <a:pt x="1392" y="49"/>
                  </a:lnTo>
                  <a:lnTo>
                    <a:pt x="1408" y="49"/>
                  </a:lnTo>
                  <a:lnTo>
                    <a:pt x="1408" y="49"/>
                  </a:lnTo>
                  <a:lnTo>
                    <a:pt x="1408" y="49"/>
                  </a:lnTo>
                  <a:lnTo>
                    <a:pt x="1392" y="49"/>
                  </a:lnTo>
                  <a:lnTo>
                    <a:pt x="1408" y="65"/>
                  </a:lnTo>
                  <a:lnTo>
                    <a:pt x="1408" y="49"/>
                  </a:lnTo>
                  <a:lnTo>
                    <a:pt x="1408" y="49"/>
                  </a:lnTo>
                  <a:lnTo>
                    <a:pt x="1408" y="49"/>
                  </a:lnTo>
                  <a:lnTo>
                    <a:pt x="1424" y="49"/>
                  </a:lnTo>
                  <a:lnTo>
                    <a:pt x="1440" y="49"/>
                  </a:lnTo>
                  <a:lnTo>
                    <a:pt x="1440" y="49"/>
                  </a:lnTo>
                  <a:lnTo>
                    <a:pt x="1456" y="49"/>
                  </a:lnTo>
                  <a:lnTo>
                    <a:pt x="1472" y="33"/>
                  </a:lnTo>
                  <a:lnTo>
                    <a:pt x="1505" y="0"/>
                  </a:lnTo>
                  <a:lnTo>
                    <a:pt x="1505" y="0"/>
                  </a:lnTo>
                  <a:lnTo>
                    <a:pt x="1521" y="0"/>
                  </a:lnTo>
                  <a:lnTo>
                    <a:pt x="1505" y="0"/>
                  </a:lnTo>
                  <a:lnTo>
                    <a:pt x="1505" y="0"/>
                  </a:lnTo>
                  <a:lnTo>
                    <a:pt x="1521" y="17"/>
                  </a:lnTo>
                  <a:lnTo>
                    <a:pt x="1521" y="17"/>
                  </a:lnTo>
                  <a:lnTo>
                    <a:pt x="1521" y="17"/>
                  </a:lnTo>
                  <a:lnTo>
                    <a:pt x="1537" y="17"/>
                  </a:lnTo>
                  <a:lnTo>
                    <a:pt x="1537" y="17"/>
                  </a:lnTo>
                  <a:lnTo>
                    <a:pt x="1537" y="17"/>
                  </a:lnTo>
                  <a:lnTo>
                    <a:pt x="1537" y="33"/>
                  </a:lnTo>
                  <a:lnTo>
                    <a:pt x="1521" y="49"/>
                  </a:lnTo>
                  <a:lnTo>
                    <a:pt x="1521" y="49"/>
                  </a:lnTo>
                  <a:lnTo>
                    <a:pt x="1521" y="65"/>
                  </a:lnTo>
                  <a:lnTo>
                    <a:pt x="1537" y="65"/>
                  </a:lnTo>
                  <a:lnTo>
                    <a:pt x="1537" y="49"/>
                  </a:lnTo>
                  <a:lnTo>
                    <a:pt x="1537" y="49"/>
                  </a:lnTo>
                  <a:lnTo>
                    <a:pt x="1537" y="49"/>
                  </a:lnTo>
                  <a:lnTo>
                    <a:pt x="1553" y="33"/>
                  </a:lnTo>
                  <a:lnTo>
                    <a:pt x="1553" y="33"/>
                  </a:lnTo>
                  <a:lnTo>
                    <a:pt x="1553" y="33"/>
                  </a:lnTo>
                  <a:lnTo>
                    <a:pt x="1553" y="33"/>
                  </a:lnTo>
                  <a:lnTo>
                    <a:pt x="1553" y="17"/>
                  </a:lnTo>
                  <a:lnTo>
                    <a:pt x="1570" y="17"/>
                  </a:lnTo>
                  <a:lnTo>
                    <a:pt x="1553" y="33"/>
                  </a:lnTo>
                  <a:lnTo>
                    <a:pt x="1570" y="33"/>
                  </a:lnTo>
                  <a:lnTo>
                    <a:pt x="1570" y="17"/>
                  </a:lnTo>
                  <a:lnTo>
                    <a:pt x="1570" y="33"/>
                  </a:lnTo>
                  <a:lnTo>
                    <a:pt x="1570" y="49"/>
                  </a:lnTo>
                  <a:lnTo>
                    <a:pt x="1570" y="49"/>
                  </a:lnTo>
                  <a:lnTo>
                    <a:pt x="1586" y="65"/>
                  </a:lnTo>
                  <a:lnTo>
                    <a:pt x="1602" y="49"/>
                  </a:lnTo>
                  <a:lnTo>
                    <a:pt x="1634" y="49"/>
                  </a:lnTo>
                  <a:lnTo>
                    <a:pt x="1651" y="49"/>
                  </a:lnTo>
                  <a:lnTo>
                    <a:pt x="1651" y="65"/>
                  </a:lnTo>
                  <a:lnTo>
                    <a:pt x="1651" y="49"/>
                  </a:lnTo>
                  <a:lnTo>
                    <a:pt x="1651" y="49"/>
                  </a:lnTo>
                  <a:lnTo>
                    <a:pt x="1651" y="49"/>
                  </a:lnTo>
                  <a:lnTo>
                    <a:pt x="1667" y="49"/>
                  </a:lnTo>
                  <a:lnTo>
                    <a:pt x="1651" y="65"/>
                  </a:lnTo>
                  <a:lnTo>
                    <a:pt x="1651" y="81"/>
                  </a:lnTo>
                  <a:lnTo>
                    <a:pt x="1667" y="81"/>
                  </a:lnTo>
                  <a:lnTo>
                    <a:pt x="1651" y="81"/>
                  </a:lnTo>
                  <a:lnTo>
                    <a:pt x="1683" y="81"/>
                  </a:lnTo>
                  <a:lnTo>
                    <a:pt x="1683" y="81"/>
                  </a:lnTo>
                  <a:lnTo>
                    <a:pt x="1683" y="97"/>
                  </a:lnTo>
                  <a:lnTo>
                    <a:pt x="1683" y="97"/>
                  </a:lnTo>
                  <a:lnTo>
                    <a:pt x="1699" y="97"/>
                  </a:lnTo>
                  <a:lnTo>
                    <a:pt x="1699" y="97"/>
                  </a:lnTo>
                  <a:lnTo>
                    <a:pt x="1699" y="97"/>
                  </a:lnTo>
                  <a:lnTo>
                    <a:pt x="1715" y="81"/>
                  </a:lnTo>
                  <a:lnTo>
                    <a:pt x="1731" y="81"/>
                  </a:lnTo>
                  <a:lnTo>
                    <a:pt x="1731" y="97"/>
                  </a:lnTo>
                  <a:lnTo>
                    <a:pt x="1748" y="81"/>
                  </a:lnTo>
                  <a:lnTo>
                    <a:pt x="1764" y="81"/>
                  </a:lnTo>
                  <a:lnTo>
                    <a:pt x="1796" y="97"/>
                  </a:lnTo>
                  <a:lnTo>
                    <a:pt x="1812" y="97"/>
                  </a:lnTo>
                  <a:lnTo>
                    <a:pt x="1812" y="97"/>
                  </a:lnTo>
                  <a:lnTo>
                    <a:pt x="1829" y="97"/>
                  </a:lnTo>
                  <a:lnTo>
                    <a:pt x="1845" y="114"/>
                  </a:lnTo>
                  <a:lnTo>
                    <a:pt x="1909" y="114"/>
                  </a:lnTo>
                  <a:lnTo>
                    <a:pt x="1909" y="114"/>
                  </a:lnTo>
                  <a:lnTo>
                    <a:pt x="1942" y="130"/>
                  </a:lnTo>
                  <a:lnTo>
                    <a:pt x="1974" y="114"/>
                  </a:lnTo>
                  <a:lnTo>
                    <a:pt x="1974" y="114"/>
                  </a:lnTo>
                  <a:lnTo>
                    <a:pt x="1974" y="114"/>
                  </a:lnTo>
                  <a:lnTo>
                    <a:pt x="1974" y="114"/>
                  </a:lnTo>
                  <a:lnTo>
                    <a:pt x="1990" y="97"/>
                  </a:lnTo>
                  <a:lnTo>
                    <a:pt x="2007" y="97"/>
                  </a:lnTo>
                  <a:lnTo>
                    <a:pt x="2007" y="114"/>
                  </a:lnTo>
                  <a:lnTo>
                    <a:pt x="2007" y="97"/>
                  </a:lnTo>
                  <a:lnTo>
                    <a:pt x="2039" y="114"/>
                  </a:lnTo>
                  <a:lnTo>
                    <a:pt x="2039" y="114"/>
                  </a:lnTo>
                  <a:lnTo>
                    <a:pt x="2071" y="130"/>
                  </a:lnTo>
                  <a:lnTo>
                    <a:pt x="2087" y="130"/>
                  </a:lnTo>
                  <a:lnTo>
                    <a:pt x="2087" y="130"/>
                  </a:lnTo>
                  <a:lnTo>
                    <a:pt x="2087" y="130"/>
                  </a:lnTo>
                  <a:lnTo>
                    <a:pt x="2087" y="130"/>
                  </a:lnTo>
                  <a:lnTo>
                    <a:pt x="2104" y="130"/>
                  </a:lnTo>
                  <a:lnTo>
                    <a:pt x="2120" y="259"/>
                  </a:lnTo>
                  <a:lnTo>
                    <a:pt x="2185" y="534"/>
                  </a:lnTo>
                  <a:lnTo>
                    <a:pt x="2266" y="955"/>
                  </a:lnTo>
                  <a:lnTo>
                    <a:pt x="2298" y="1133"/>
                  </a:lnTo>
                  <a:lnTo>
                    <a:pt x="2330" y="1133"/>
                  </a:lnTo>
                  <a:lnTo>
                    <a:pt x="2330" y="1133"/>
                  </a:lnTo>
                  <a:lnTo>
                    <a:pt x="2346" y="1133"/>
                  </a:lnTo>
                  <a:lnTo>
                    <a:pt x="2363" y="1117"/>
                  </a:lnTo>
                  <a:lnTo>
                    <a:pt x="2395" y="1101"/>
                  </a:lnTo>
                  <a:lnTo>
                    <a:pt x="2395" y="1133"/>
                  </a:lnTo>
                  <a:lnTo>
                    <a:pt x="2427" y="1149"/>
                  </a:lnTo>
                  <a:lnTo>
                    <a:pt x="2444" y="1166"/>
                  </a:lnTo>
                  <a:lnTo>
                    <a:pt x="2508" y="1214"/>
                  </a:lnTo>
                  <a:lnTo>
                    <a:pt x="2524" y="1247"/>
                  </a:lnTo>
                  <a:lnTo>
                    <a:pt x="2557" y="1198"/>
                  </a:lnTo>
                  <a:lnTo>
                    <a:pt x="2557" y="1198"/>
                  </a:lnTo>
                  <a:lnTo>
                    <a:pt x="2557" y="1182"/>
                  </a:lnTo>
                  <a:lnTo>
                    <a:pt x="2557" y="1182"/>
                  </a:lnTo>
                  <a:lnTo>
                    <a:pt x="2557" y="1166"/>
                  </a:lnTo>
                  <a:lnTo>
                    <a:pt x="2573" y="1149"/>
                  </a:lnTo>
                  <a:lnTo>
                    <a:pt x="2557" y="1149"/>
                  </a:lnTo>
                  <a:lnTo>
                    <a:pt x="2589" y="1133"/>
                  </a:lnTo>
                  <a:lnTo>
                    <a:pt x="2605" y="1117"/>
                  </a:lnTo>
                  <a:lnTo>
                    <a:pt x="2638" y="1133"/>
                  </a:lnTo>
                  <a:lnTo>
                    <a:pt x="2638" y="1149"/>
                  </a:lnTo>
                  <a:lnTo>
                    <a:pt x="2638" y="1149"/>
                  </a:lnTo>
                  <a:lnTo>
                    <a:pt x="2638" y="1149"/>
                  </a:lnTo>
                  <a:lnTo>
                    <a:pt x="2638" y="1149"/>
                  </a:lnTo>
                  <a:lnTo>
                    <a:pt x="2638" y="1166"/>
                  </a:lnTo>
                  <a:lnTo>
                    <a:pt x="2654" y="1166"/>
                  </a:lnTo>
                  <a:lnTo>
                    <a:pt x="2670" y="1166"/>
                  </a:lnTo>
                  <a:lnTo>
                    <a:pt x="2670" y="1166"/>
                  </a:lnTo>
                  <a:lnTo>
                    <a:pt x="2686" y="1182"/>
                  </a:lnTo>
                  <a:lnTo>
                    <a:pt x="2702" y="1198"/>
                  </a:lnTo>
                  <a:lnTo>
                    <a:pt x="2719" y="1198"/>
                  </a:lnTo>
                  <a:lnTo>
                    <a:pt x="2751" y="1230"/>
                  </a:lnTo>
                  <a:lnTo>
                    <a:pt x="2767" y="1247"/>
                  </a:lnTo>
                  <a:lnTo>
                    <a:pt x="2783" y="1247"/>
                  </a:lnTo>
                  <a:lnTo>
                    <a:pt x="2848" y="1327"/>
                  </a:lnTo>
                  <a:lnTo>
                    <a:pt x="2848" y="1327"/>
                  </a:lnTo>
                  <a:close/>
                  <a:moveTo>
                    <a:pt x="777" y="745"/>
                  </a:moveTo>
                  <a:lnTo>
                    <a:pt x="760" y="761"/>
                  </a:lnTo>
                  <a:lnTo>
                    <a:pt x="744" y="745"/>
                  </a:lnTo>
                  <a:lnTo>
                    <a:pt x="744" y="729"/>
                  </a:lnTo>
                  <a:lnTo>
                    <a:pt x="744" y="712"/>
                  </a:lnTo>
                  <a:lnTo>
                    <a:pt x="760" y="712"/>
                  </a:lnTo>
                  <a:lnTo>
                    <a:pt x="760" y="712"/>
                  </a:lnTo>
                  <a:lnTo>
                    <a:pt x="760" y="712"/>
                  </a:lnTo>
                  <a:lnTo>
                    <a:pt x="760" y="729"/>
                  </a:lnTo>
                  <a:lnTo>
                    <a:pt x="760" y="729"/>
                  </a:lnTo>
                  <a:lnTo>
                    <a:pt x="760" y="729"/>
                  </a:lnTo>
                  <a:lnTo>
                    <a:pt x="760" y="729"/>
                  </a:lnTo>
                  <a:lnTo>
                    <a:pt x="777" y="729"/>
                  </a:lnTo>
                  <a:lnTo>
                    <a:pt x="793" y="745"/>
                  </a:lnTo>
                  <a:lnTo>
                    <a:pt x="809" y="729"/>
                  </a:lnTo>
                  <a:lnTo>
                    <a:pt x="825" y="729"/>
                  </a:lnTo>
                  <a:lnTo>
                    <a:pt x="825" y="745"/>
                  </a:lnTo>
                  <a:lnTo>
                    <a:pt x="825" y="761"/>
                  </a:lnTo>
                  <a:lnTo>
                    <a:pt x="825" y="761"/>
                  </a:lnTo>
                  <a:lnTo>
                    <a:pt x="858" y="793"/>
                  </a:lnTo>
                  <a:lnTo>
                    <a:pt x="890" y="793"/>
                  </a:lnTo>
                  <a:lnTo>
                    <a:pt x="874" y="810"/>
                  </a:lnTo>
                  <a:lnTo>
                    <a:pt x="858" y="793"/>
                  </a:lnTo>
                  <a:lnTo>
                    <a:pt x="825" y="826"/>
                  </a:lnTo>
                  <a:lnTo>
                    <a:pt x="825" y="793"/>
                  </a:lnTo>
                  <a:lnTo>
                    <a:pt x="825" y="793"/>
                  </a:lnTo>
                  <a:lnTo>
                    <a:pt x="809" y="777"/>
                  </a:lnTo>
                  <a:lnTo>
                    <a:pt x="793" y="745"/>
                  </a:lnTo>
                  <a:lnTo>
                    <a:pt x="777" y="745"/>
                  </a:lnTo>
                  <a:lnTo>
                    <a:pt x="777" y="745"/>
                  </a:lnTo>
                  <a:close/>
                  <a:moveTo>
                    <a:pt x="631" y="1069"/>
                  </a:moveTo>
                  <a:lnTo>
                    <a:pt x="615" y="1052"/>
                  </a:lnTo>
                  <a:lnTo>
                    <a:pt x="599" y="1036"/>
                  </a:lnTo>
                  <a:lnTo>
                    <a:pt x="599" y="1036"/>
                  </a:lnTo>
                  <a:lnTo>
                    <a:pt x="599" y="1020"/>
                  </a:lnTo>
                  <a:lnTo>
                    <a:pt x="599" y="1036"/>
                  </a:lnTo>
                  <a:lnTo>
                    <a:pt x="615" y="1052"/>
                  </a:lnTo>
                  <a:lnTo>
                    <a:pt x="631" y="1069"/>
                  </a:lnTo>
                  <a:lnTo>
                    <a:pt x="631" y="1069"/>
                  </a:lnTo>
                  <a:lnTo>
                    <a:pt x="631" y="1069"/>
                  </a:lnTo>
                  <a:close/>
                  <a:moveTo>
                    <a:pt x="955" y="1133"/>
                  </a:moveTo>
                  <a:lnTo>
                    <a:pt x="955" y="1133"/>
                  </a:lnTo>
                  <a:lnTo>
                    <a:pt x="971" y="1149"/>
                  </a:lnTo>
                  <a:lnTo>
                    <a:pt x="971" y="1166"/>
                  </a:lnTo>
                  <a:lnTo>
                    <a:pt x="971" y="1166"/>
                  </a:lnTo>
                  <a:lnTo>
                    <a:pt x="971" y="1166"/>
                  </a:lnTo>
                  <a:lnTo>
                    <a:pt x="971" y="1182"/>
                  </a:lnTo>
                  <a:lnTo>
                    <a:pt x="971" y="1198"/>
                  </a:lnTo>
                  <a:lnTo>
                    <a:pt x="938" y="1198"/>
                  </a:lnTo>
                  <a:lnTo>
                    <a:pt x="938" y="1198"/>
                  </a:lnTo>
                  <a:lnTo>
                    <a:pt x="938" y="1198"/>
                  </a:lnTo>
                  <a:lnTo>
                    <a:pt x="890" y="1166"/>
                  </a:lnTo>
                  <a:lnTo>
                    <a:pt x="874" y="1149"/>
                  </a:lnTo>
                  <a:lnTo>
                    <a:pt x="874" y="1133"/>
                  </a:lnTo>
                  <a:lnTo>
                    <a:pt x="906" y="1149"/>
                  </a:lnTo>
                  <a:lnTo>
                    <a:pt x="906" y="1133"/>
                  </a:lnTo>
                  <a:lnTo>
                    <a:pt x="922" y="1133"/>
                  </a:lnTo>
                  <a:lnTo>
                    <a:pt x="938" y="1133"/>
                  </a:lnTo>
                  <a:lnTo>
                    <a:pt x="955" y="1133"/>
                  </a:lnTo>
                  <a:lnTo>
                    <a:pt x="955" y="1133"/>
                  </a:lnTo>
                  <a:close/>
                  <a:moveTo>
                    <a:pt x="2023" y="1166"/>
                  </a:moveTo>
                  <a:lnTo>
                    <a:pt x="2007" y="1182"/>
                  </a:lnTo>
                  <a:lnTo>
                    <a:pt x="1990" y="1182"/>
                  </a:lnTo>
                  <a:lnTo>
                    <a:pt x="2007" y="1166"/>
                  </a:lnTo>
                  <a:lnTo>
                    <a:pt x="1990" y="1166"/>
                  </a:lnTo>
                  <a:lnTo>
                    <a:pt x="1990" y="1166"/>
                  </a:lnTo>
                  <a:lnTo>
                    <a:pt x="2023" y="1166"/>
                  </a:lnTo>
                  <a:lnTo>
                    <a:pt x="2023" y="1166"/>
                  </a:lnTo>
                  <a:close/>
                  <a:moveTo>
                    <a:pt x="1974" y="1182"/>
                  </a:moveTo>
                  <a:lnTo>
                    <a:pt x="1958" y="1198"/>
                  </a:lnTo>
                  <a:lnTo>
                    <a:pt x="1958" y="1214"/>
                  </a:lnTo>
                  <a:lnTo>
                    <a:pt x="1958" y="1214"/>
                  </a:lnTo>
                  <a:lnTo>
                    <a:pt x="1958" y="1230"/>
                  </a:lnTo>
                  <a:lnTo>
                    <a:pt x="1958" y="1230"/>
                  </a:lnTo>
                  <a:lnTo>
                    <a:pt x="1926" y="1247"/>
                  </a:lnTo>
                  <a:lnTo>
                    <a:pt x="1942" y="1230"/>
                  </a:lnTo>
                  <a:lnTo>
                    <a:pt x="1942" y="1230"/>
                  </a:lnTo>
                  <a:lnTo>
                    <a:pt x="1942" y="1214"/>
                  </a:lnTo>
                  <a:lnTo>
                    <a:pt x="1942" y="1214"/>
                  </a:lnTo>
                  <a:lnTo>
                    <a:pt x="1974" y="1182"/>
                  </a:lnTo>
                  <a:lnTo>
                    <a:pt x="1958" y="1182"/>
                  </a:lnTo>
                  <a:lnTo>
                    <a:pt x="1974" y="1182"/>
                  </a:lnTo>
                  <a:lnTo>
                    <a:pt x="1974" y="1182"/>
                  </a:lnTo>
                  <a:lnTo>
                    <a:pt x="1974" y="1182"/>
                  </a:lnTo>
                  <a:lnTo>
                    <a:pt x="1974" y="1182"/>
                  </a:lnTo>
                  <a:close/>
                  <a:moveTo>
                    <a:pt x="2767" y="1360"/>
                  </a:moveTo>
                  <a:lnTo>
                    <a:pt x="2751" y="1344"/>
                  </a:lnTo>
                  <a:lnTo>
                    <a:pt x="2751" y="1360"/>
                  </a:lnTo>
                  <a:lnTo>
                    <a:pt x="2751" y="1392"/>
                  </a:lnTo>
                  <a:lnTo>
                    <a:pt x="2735" y="1392"/>
                  </a:lnTo>
                  <a:lnTo>
                    <a:pt x="2735" y="1376"/>
                  </a:lnTo>
                  <a:lnTo>
                    <a:pt x="2735" y="1376"/>
                  </a:lnTo>
                  <a:lnTo>
                    <a:pt x="2735" y="1376"/>
                  </a:lnTo>
                  <a:lnTo>
                    <a:pt x="2735" y="1376"/>
                  </a:lnTo>
                  <a:lnTo>
                    <a:pt x="2735" y="1360"/>
                  </a:lnTo>
                  <a:lnTo>
                    <a:pt x="2719" y="1360"/>
                  </a:lnTo>
                  <a:lnTo>
                    <a:pt x="2735" y="1360"/>
                  </a:lnTo>
                  <a:lnTo>
                    <a:pt x="2735" y="1344"/>
                  </a:lnTo>
                  <a:lnTo>
                    <a:pt x="2735" y="1360"/>
                  </a:lnTo>
                  <a:lnTo>
                    <a:pt x="2719" y="1344"/>
                  </a:lnTo>
                  <a:lnTo>
                    <a:pt x="2735" y="1327"/>
                  </a:lnTo>
                  <a:lnTo>
                    <a:pt x="2719" y="1344"/>
                  </a:lnTo>
                  <a:lnTo>
                    <a:pt x="2719" y="1327"/>
                  </a:lnTo>
                  <a:lnTo>
                    <a:pt x="2686" y="1295"/>
                  </a:lnTo>
                  <a:lnTo>
                    <a:pt x="2686" y="1279"/>
                  </a:lnTo>
                  <a:lnTo>
                    <a:pt x="2686" y="1279"/>
                  </a:lnTo>
                  <a:lnTo>
                    <a:pt x="2686" y="1279"/>
                  </a:lnTo>
                  <a:lnTo>
                    <a:pt x="2686" y="1263"/>
                  </a:lnTo>
                  <a:lnTo>
                    <a:pt x="2670" y="1263"/>
                  </a:lnTo>
                  <a:lnTo>
                    <a:pt x="2670" y="1263"/>
                  </a:lnTo>
                  <a:lnTo>
                    <a:pt x="2686" y="1263"/>
                  </a:lnTo>
                  <a:lnTo>
                    <a:pt x="2702" y="1279"/>
                  </a:lnTo>
                  <a:lnTo>
                    <a:pt x="2719" y="1263"/>
                  </a:lnTo>
                  <a:lnTo>
                    <a:pt x="2719" y="1279"/>
                  </a:lnTo>
                  <a:lnTo>
                    <a:pt x="2751" y="1295"/>
                  </a:lnTo>
                  <a:lnTo>
                    <a:pt x="2751" y="1311"/>
                  </a:lnTo>
                  <a:lnTo>
                    <a:pt x="2767" y="1327"/>
                  </a:lnTo>
                  <a:lnTo>
                    <a:pt x="2751" y="1311"/>
                  </a:lnTo>
                  <a:lnTo>
                    <a:pt x="2719" y="1279"/>
                  </a:lnTo>
                  <a:lnTo>
                    <a:pt x="2735" y="1279"/>
                  </a:lnTo>
                  <a:lnTo>
                    <a:pt x="2719" y="1279"/>
                  </a:lnTo>
                  <a:lnTo>
                    <a:pt x="2719" y="1279"/>
                  </a:lnTo>
                  <a:lnTo>
                    <a:pt x="2719" y="1279"/>
                  </a:lnTo>
                  <a:lnTo>
                    <a:pt x="2719" y="1295"/>
                  </a:lnTo>
                  <a:lnTo>
                    <a:pt x="2719" y="1295"/>
                  </a:lnTo>
                  <a:lnTo>
                    <a:pt x="2735" y="1311"/>
                  </a:lnTo>
                  <a:lnTo>
                    <a:pt x="2735" y="1295"/>
                  </a:lnTo>
                  <a:lnTo>
                    <a:pt x="2751" y="1311"/>
                  </a:lnTo>
                  <a:lnTo>
                    <a:pt x="2751" y="1327"/>
                  </a:lnTo>
                  <a:lnTo>
                    <a:pt x="2751" y="1327"/>
                  </a:lnTo>
                  <a:lnTo>
                    <a:pt x="2767" y="1327"/>
                  </a:lnTo>
                  <a:lnTo>
                    <a:pt x="2751" y="1327"/>
                  </a:lnTo>
                  <a:lnTo>
                    <a:pt x="2751" y="1344"/>
                  </a:lnTo>
                  <a:lnTo>
                    <a:pt x="2751" y="1344"/>
                  </a:lnTo>
                  <a:lnTo>
                    <a:pt x="2751" y="1344"/>
                  </a:lnTo>
                  <a:lnTo>
                    <a:pt x="2751" y="1344"/>
                  </a:lnTo>
                  <a:lnTo>
                    <a:pt x="2767" y="1344"/>
                  </a:lnTo>
                  <a:lnTo>
                    <a:pt x="2767" y="1344"/>
                  </a:lnTo>
                  <a:lnTo>
                    <a:pt x="2767" y="1360"/>
                  </a:lnTo>
                  <a:lnTo>
                    <a:pt x="2767" y="1360"/>
                  </a:lnTo>
                  <a:close/>
                  <a:moveTo>
                    <a:pt x="2702" y="1263"/>
                  </a:moveTo>
                  <a:lnTo>
                    <a:pt x="2719" y="1263"/>
                  </a:lnTo>
                  <a:lnTo>
                    <a:pt x="2702" y="1263"/>
                  </a:lnTo>
                  <a:lnTo>
                    <a:pt x="2686" y="1263"/>
                  </a:lnTo>
                  <a:lnTo>
                    <a:pt x="2702" y="1263"/>
                  </a:lnTo>
                  <a:lnTo>
                    <a:pt x="2702" y="1263"/>
                  </a:lnTo>
                  <a:close/>
                  <a:moveTo>
                    <a:pt x="2767" y="1489"/>
                  </a:moveTo>
                  <a:lnTo>
                    <a:pt x="2719" y="1457"/>
                  </a:lnTo>
                  <a:lnTo>
                    <a:pt x="2735" y="1441"/>
                  </a:lnTo>
                  <a:lnTo>
                    <a:pt x="2735" y="1441"/>
                  </a:lnTo>
                  <a:lnTo>
                    <a:pt x="2719" y="1441"/>
                  </a:lnTo>
                  <a:lnTo>
                    <a:pt x="2719" y="1441"/>
                  </a:lnTo>
                  <a:lnTo>
                    <a:pt x="2719" y="1441"/>
                  </a:lnTo>
                  <a:lnTo>
                    <a:pt x="2719" y="1441"/>
                  </a:lnTo>
                  <a:lnTo>
                    <a:pt x="2719" y="1425"/>
                  </a:lnTo>
                  <a:lnTo>
                    <a:pt x="2719" y="1441"/>
                  </a:lnTo>
                  <a:lnTo>
                    <a:pt x="2719" y="1425"/>
                  </a:lnTo>
                  <a:lnTo>
                    <a:pt x="2702" y="1425"/>
                  </a:lnTo>
                  <a:lnTo>
                    <a:pt x="2702" y="1425"/>
                  </a:lnTo>
                  <a:lnTo>
                    <a:pt x="2702" y="1425"/>
                  </a:lnTo>
                  <a:lnTo>
                    <a:pt x="2702" y="1408"/>
                  </a:lnTo>
                  <a:lnTo>
                    <a:pt x="2702" y="1408"/>
                  </a:lnTo>
                  <a:lnTo>
                    <a:pt x="2686" y="1408"/>
                  </a:lnTo>
                  <a:lnTo>
                    <a:pt x="2686" y="1392"/>
                  </a:lnTo>
                  <a:lnTo>
                    <a:pt x="2686" y="1392"/>
                  </a:lnTo>
                  <a:lnTo>
                    <a:pt x="2686" y="1392"/>
                  </a:lnTo>
                  <a:lnTo>
                    <a:pt x="2686" y="1376"/>
                  </a:lnTo>
                  <a:lnTo>
                    <a:pt x="2670" y="1392"/>
                  </a:lnTo>
                  <a:lnTo>
                    <a:pt x="2670" y="1376"/>
                  </a:lnTo>
                  <a:lnTo>
                    <a:pt x="2670" y="1376"/>
                  </a:lnTo>
                  <a:lnTo>
                    <a:pt x="2670" y="1376"/>
                  </a:lnTo>
                  <a:lnTo>
                    <a:pt x="2670" y="1360"/>
                  </a:lnTo>
                  <a:lnTo>
                    <a:pt x="2670" y="1360"/>
                  </a:lnTo>
                  <a:lnTo>
                    <a:pt x="2686" y="1360"/>
                  </a:lnTo>
                  <a:lnTo>
                    <a:pt x="2686" y="1360"/>
                  </a:lnTo>
                  <a:lnTo>
                    <a:pt x="2670" y="1360"/>
                  </a:lnTo>
                  <a:lnTo>
                    <a:pt x="2686" y="1360"/>
                  </a:lnTo>
                  <a:lnTo>
                    <a:pt x="2686" y="1360"/>
                  </a:lnTo>
                  <a:lnTo>
                    <a:pt x="2702" y="1360"/>
                  </a:lnTo>
                  <a:lnTo>
                    <a:pt x="2702" y="1360"/>
                  </a:lnTo>
                  <a:lnTo>
                    <a:pt x="2702" y="1360"/>
                  </a:lnTo>
                  <a:lnTo>
                    <a:pt x="2702" y="1376"/>
                  </a:lnTo>
                  <a:lnTo>
                    <a:pt x="2702" y="1376"/>
                  </a:lnTo>
                  <a:lnTo>
                    <a:pt x="2719" y="1376"/>
                  </a:lnTo>
                  <a:lnTo>
                    <a:pt x="2751" y="1425"/>
                  </a:lnTo>
                  <a:lnTo>
                    <a:pt x="2767" y="1489"/>
                  </a:lnTo>
                  <a:lnTo>
                    <a:pt x="2767" y="1489"/>
                  </a:lnTo>
                  <a:close/>
                  <a:moveTo>
                    <a:pt x="2832" y="1376"/>
                  </a:moveTo>
                  <a:lnTo>
                    <a:pt x="2832" y="1376"/>
                  </a:lnTo>
                  <a:lnTo>
                    <a:pt x="2832" y="1392"/>
                  </a:lnTo>
                  <a:lnTo>
                    <a:pt x="2848" y="1408"/>
                  </a:lnTo>
                  <a:lnTo>
                    <a:pt x="2832" y="1408"/>
                  </a:lnTo>
                  <a:lnTo>
                    <a:pt x="2816" y="1392"/>
                  </a:lnTo>
                  <a:lnTo>
                    <a:pt x="2816" y="1408"/>
                  </a:lnTo>
                  <a:lnTo>
                    <a:pt x="2832" y="1408"/>
                  </a:lnTo>
                  <a:lnTo>
                    <a:pt x="2832" y="1408"/>
                  </a:lnTo>
                  <a:lnTo>
                    <a:pt x="2832" y="1408"/>
                  </a:lnTo>
                  <a:lnTo>
                    <a:pt x="2832" y="1408"/>
                  </a:lnTo>
                  <a:lnTo>
                    <a:pt x="2832" y="1425"/>
                  </a:lnTo>
                  <a:lnTo>
                    <a:pt x="2832" y="1425"/>
                  </a:lnTo>
                  <a:lnTo>
                    <a:pt x="2816" y="1425"/>
                  </a:lnTo>
                  <a:lnTo>
                    <a:pt x="2816" y="1425"/>
                  </a:lnTo>
                  <a:lnTo>
                    <a:pt x="2816" y="1441"/>
                  </a:lnTo>
                  <a:lnTo>
                    <a:pt x="2816" y="1441"/>
                  </a:lnTo>
                  <a:lnTo>
                    <a:pt x="2800" y="1425"/>
                  </a:lnTo>
                  <a:lnTo>
                    <a:pt x="2800" y="1425"/>
                  </a:lnTo>
                  <a:lnTo>
                    <a:pt x="2800" y="1425"/>
                  </a:lnTo>
                  <a:lnTo>
                    <a:pt x="2800" y="1408"/>
                  </a:lnTo>
                  <a:lnTo>
                    <a:pt x="2800" y="1392"/>
                  </a:lnTo>
                  <a:lnTo>
                    <a:pt x="2783" y="1408"/>
                  </a:lnTo>
                  <a:lnTo>
                    <a:pt x="2783" y="1392"/>
                  </a:lnTo>
                  <a:lnTo>
                    <a:pt x="2783" y="1392"/>
                  </a:lnTo>
                  <a:lnTo>
                    <a:pt x="2767" y="1392"/>
                  </a:lnTo>
                  <a:lnTo>
                    <a:pt x="2767" y="1376"/>
                  </a:lnTo>
                  <a:lnTo>
                    <a:pt x="2816" y="1376"/>
                  </a:lnTo>
                  <a:lnTo>
                    <a:pt x="2816" y="1376"/>
                  </a:lnTo>
                  <a:lnTo>
                    <a:pt x="2816" y="1376"/>
                  </a:lnTo>
                  <a:lnTo>
                    <a:pt x="2832" y="1376"/>
                  </a:lnTo>
                  <a:lnTo>
                    <a:pt x="2832" y="1376"/>
                  </a:lnTo>
                  <a:close/>
                  <a:moveTo>
                    <a:pt x="2670" y="1376"/>
                  </a:moveTo>
                  <a:lnTo>
                    <a:pt x="2670" y="1392"/>
                  </a:lnTo>
                  <a:lnTo>
                    <a:pt x="2670" y="1392"/>
                  </a:lnTo>
                  <a:lnTo>
                    <a:pt x="2686" y="1392"/>
                  </a:lnTo>
                  <a:lnTo>
                    <a:pt x="2670" y="1408"/>
                  </a:lnTo>
                  <a:lnTo>
                    <a:pt x="2670" y="1425"/>
                  </a:lnTo>
                  <a:lnTo>
                    <a:pt x="2670" y="1408"/>
                  </a:lnTo>
                  <a:lnTo>
                    <a:pt x="2670" y="1392"/>
                  </a:lnTo>
                  <a:lnTo>
                    <a:pt x="2654" y="1392"/>
                  </a:lnTo>
                  <a:lnTo>
                    <a:pt x="2654" y="1376"/>
                  </a:lnTo>
                  <a:lnTo>
                    <a:pt x="2670" y="1376"/>
                  </a:lnTo>
                  <a:lnTo>
                    <a:pt x="2670" y="1376"/>
                  </a:lnTo>
                  <a:close/>
                  <a:moveTo>
                    <a:pt x="2848" y="1392"/>
                  </a:moveTo>
                  <a:lnTo>
                    <a:pt x="2864" y="1408"/>
                  </a:lnTo>
                  <a:lnTo>
                    <a:pt x="2864" y="1408"/>
                  </a:lnTo>
                  <a:lnTo>
                    <a:pt x="2864" y="1408"/>
                  </a:lnTo>
                  <a:lnTo>
                    <a:pt x="2864" y="1408"/>
                  </a:lnTo>
                  <a:lnTo>
                    <a:pt x="2848" y="1425"/>
                  </a:lnTo>
                  <a:lnTo>
                    <a:pt x="2848" y="1408"/>
                  </a:lnTo>
                  <a:lnTo>
                    <a:pt x="2848" y="1408"/>
                  </a:lnTo>
                  <a:lnTo>
                    <a:pt x="2832" y="1392"/>
                  </a:lnTo>
                  <a:lnTo>
                    <a:pt x="2848" y="1392"/>
                  </a:lnTo>
                  <a:lnTo>
                    <a:pt x="2848" y="1392"/>
                  </a:lnTo>
                  <a:close/>
                  <a:moveTo>
                    <a:pt x="2800" y="1489"/>
                  </a:moveTo>
                  <a:lnTo>
                    <a:pt x="2800" y="1473"/>
                  </a:lnTo>
                  <a:lnTo>
                    <a:pt x="2783" y="1457"/>
                  </a:lnTo>
                  <a:lnTo>
                    <a:pt x="2800" y="1473"/>
                  </a:lnTo>
                  <a:lnTo>
                    <a:pt x="2783" y="1473"/>
                  </a:lnTo>
                  <a:lnTo>
                    <a:pt x="2800" y="1473"/>
                  </a:lnTo>
                  <a:lnTo>
                    <a:pt x="2800" y="1489"/>
                  </a:lnTo>
                  <a:lnTo>
                    <a:pt x="2783" y="1489"/>
                  </a:lnTo>
                  <a:lnTo>
                    <a:pt x="2783" y="1473"/>
                  </a:lnTo>
                  <a:lnTo>
                    <a:pt x="2783" y="1473"/>
                  </a:lnTo>
                  <a:lnTo>
                    <a:pt x="2783" y="1457"/>
                  </a:lnTo>
                  <a:lnTo>
                    <a:pt x="2783" y="1473"/>
                  </a:lnTo>
                  <a:lnTo>
                    <a:pt x="2767" y="1457"/>
                  </a:lnTo>
                  <a:lnTo>
                    <a:pt x="2783" y="1441"/>
                  </a:lnTo>
                  <a:lnTo>
                    <a:pt x="2783" y="1457"/>
                  </a:lnTo>
                  <a:lnTo>
                    <a:pt x="2783" y="1457"/>
                  </a:lnTo>
                  <a:lnTo>
                    <a:pt x="2783" y="1457"/>
                  </a:lnTo>
                  <a:lnTo>
                    <a:pt x="2783" y="1441"/>
                  </a:lnTo>
                  <a:lnTo>
                    <a:pt x="2783" y="1441"/>
                  </a:lnTo>
                  <a:lnTo>
                    <a:pt x="2783" y="1441"/>
                  </a:lnTo>
                  <a:lnTo>
                    <a:pt x="2767" y="1441"/>
                  </a:lnTo>
                  <a:lnTo>
                    <a:pt x="2783" y="1425"/>
                  </a:lnTo>
                  <a:lnTo>
                    <a:pt x="2767" y="1425"/>
                  </a:lnTo>
                  <a:lnTo>
                    <a:pt x="2767" y="1425"/>
                  </a:lnTo>
                  <a:lnTo>
                    <a:pt x="2767" y="1425"/>
                  </a:lnTo>
                  <a:lnTo>
                    <a:pt x="2751" y="1425"/>
                  </a:lnTo>
                  <a:lnTo>
                    <a:pt x="2751" y="1408"/>
                  </a:lnTo>
                  <a:lnTo>
                    <a:pt x="2767" y="1408"/>
                  </a:lnTo>
                  <a:lnTo>
                    <a:pt x="2751" y="1408"/>
                  </a:lnTo>
                  <a:lnTo>
                    <a:pt x="2767" y="1408"/>
                  </a:lnTo>
                  <a:lnTo>
                    <a:pt x="2751" y="1392"/>
                  </a:lnTo>
                  <a:lnTo>
                    <a:pt x="2767" y="1392"/>
                  </a:lnTo>
                  <a:lnTo>
                    <a:pt x="2783" y="1408"/>
                  </a:lnTo>
                  <a:lnTo>
                    <a:pt x="2783" y="1408"/>
                  </a:lnTo>
                  <a:lnTo>
                    <a:pt x="2783" y="1425"/>
                  </a:lnTo>
                  <a:lnTo>
                    <a:pt x="2783" y="1408"/>
                  </a:lnTo>
                  <a:lnTo>
                    <a:pt x="2783" y="1408"/>
                  </a:lnTo>
                  <a:lnTo>
                    <a:pt x="2800" y="1408"/>
                  </a:lnTo>
                  <a:lnTo>
                    <a:pt x="2800" y="1408"/>
                  </a:lnTo>
                  <a:lnTo>
                    <a:pt x="2800" y="1425"/>
                  </a:lnTo>
                  <a:lnTo>
                    <a:pt x="2800" y="1425"/>
                  </a:lnTo>
                  <a:lnTo>
                    <a:pt x="2783" y="1425"/>
                  </a:lnTo>
                  <a:lnTo>
                    <a:pt x="2800" y="1425"/>
                  </a:lnTo>
                  <a:lnTo>
                    <a:pt x="2783" y="1441"/>
                  </a:lnTo>
                  <a:lnTo>
                    <a:pt x="2800" y="1441"/>
                  </a:lnTo>
                  <a:lnTo>
                    <a:pt x="2800" y="1441"/>
                  </a:lnTo>
                  <a:lnTo>
                    <a:pt x="2800" y="1457"/>
                  </a:lnTo>
                  <a:lnTo>
                    <a:pt x="2800" y="1457"/>
                  </a:lnTo>
                  <a:lnTo>
                    <a:pt x="2800" y="1457"/>
                  </a:lnTo>
                  <a:lnTo>
                    <a:pt x="2800" y="1473"/>
                  </a:lnTo>
                  <a:lnTo>
                    <a:pt x="2800" y="1473"/>
                  </a:lnTo>
                  <a:lnTo>
                    <a:pt x="2800" y="1489"/>
                  </a:lnTo>
                  <a:lnTo>
                    <a:pt x="2800" y="1489"/>
                  </a:lnTo>
                  <a:close/>
                  <a:moveTo>
                    <a:pt x="1715" y="1408"/>
                  </a:moveTo>
                  <a:lnTo>
                    <a:pt x="1699" y="1425"/>
                  </a:lnTo>
                  <a:lnTo>
                    <a:pt x="1715" y="1408"/>
                  </a:lnTo>
                  <a:lnTo>
                    <a:pt x="1715" y="1425"/>
                  </a:lnTo>
                  <a:lnTo>
                    <a:pt x="1715" y="1441"/>
                  </a:lnTo>
                  <a:lnTo>
                    <a:pt x="1699" y="1441"/>
                  </a:lnTo>
                  <a:lnTo>
                    <a:pt x="1699" y="1425"/>
                  </a:lnTo>
                  <a:lnTo>
                    <a:pt x="1699" y="1425"/>
                  </a:lnTo>
                  <a:lnTo>
                    <a:pt x="1699" y="1425"/>
                  </a:lnTo>
                  <a:lnTo>
                    <a:pt x="1699" y="1425"/>
                  </a:lnTo>
                  <a:lnTo>
                    <a:pt x="1699" y="1441"/>
                  </a:lnTo>
                  <a:lnTo>
                    <a:pt x="1683" y="1441"/>
                  </a:lnTo>
                  <a:lnTo>
                    <a:pt x="1683" y="1425"/>
                  </a:lnTo>
                  <a:lnTo>
                    <a:pt x="1683" y="1441"/>
                  </a:lnTo>
                  <a:lnTo>
                    <a:pt x="1667" y="1441"/>
                  </a:lnTo>
                  <a:lnTo>
                    <a:pt x="1667" y="1457"/>
                  </a:lnTo>
                  <a:lnTo>
                    <a:pt x="1651" y="1441"/>
                  </a:lnTo>
                  <a:lnTo>
                    <a:pt x="1651" y="1425"/>
                  </a:lnTo>
                  <a:lnTo>
                    <a:pt x="1667" y="1441"/>
                  </a:lnTo>
                  <a:lnTo>
                    <a:pt x="1651" y="1425"/>
                  </a:lnTo>
                  <a:lnTo>
                    <a:pt x="1651" y="1425"/>
                  </a:lnTo>
                  <a:lnTo>
                    <a:pt x="1667" y="1425"/>
                  </a:lnTo>
                  <a:lnTo>
                    <a:pt x="1667" y="1408"/>
                  </a:lnTo>
                  <a:lnTo>
                    <a:pt x="1667" y="1408"/>
                  </a:lnTo>
                  <a:lnTo>
                    <a:pt x="1667" y="1408"/>
                  </a:lnTo>
                  <a:lnTo>
                    <a:pt x="1683" y="1408"/>
                  </a:lnTo>
                  <a:lnTo>
                    <a:pt x="1683" y="1408"/>
                  </a:lnTo>
                  <a:lnTo>
                    <a:pt x="1683" y="1408"/>
                  </a:lnTo>
                  <a:lnTo>
                    <a:pt x="1699" y="1425"/>
                  </a:lnTo>
                  <a:lnTo>
                    <a:pt x="1699" y="1408"/>
                  </a:lnTo>
                  <a:lnTo>
                    <a:pt x="1715" y="1408"/>
                  </a:lnTo>
                  <a:lnTo>
                    <a:pt x="1715" y="1408"/>
                  </a:lnTo>
                  <a:close/>
                  <a:moveTo>
                    <a:pt x="2880" y="1408"/>
                  </a:moveTo>
                  <a:lnTo>
                    <a:pt x="2897" y="1425"/>
                  </a:lnTo>
                  <a:lnTo>
                    <a:pt x="2913" y="1425"/>
                  </a:lnTo>
                  <a:lnTo>
                    <a:pt x="2913" y="1425"/>
                  </a:lnTo>
                  <a:lnTo>
                    <a:pt x="2913" y="1441"/>
                  </a:lnTo>
                  <a:lnTo>
                    <a:pt x="2897" y="1441"/>
                  </a:lnTo>
                  <a:lnTo>
                    <a:pt x="2897" y="1425"/>
                  </a:lnTo>
                  <a:lnTo>
                    <a:pt x="2880" y="1408"/>
                  </a:lnTo>
                  <a:lnTo>
                    <a:pt x="2880" y="1408"/>
                  </a:lnTo>
                  <a:close/>
                  <a:moveTo>
                    <a:pt x="2864" y="1425"/>
                  </a:moveTo>
                  <a:lnTo>
                    <a:pt x="2864" y="1425"/>
                  </a:lnTo>
                  <a:lnTo>
                    <a:pt x="2864" y="1441"/>
                  </a:lnTo>
                  <a:lnTo>
                    <a:pt x="2864" y="1441"/>
                  </a:lnTo>
                  <a:lnTo>
                    <a:pt x="2848" y="1441"/>
                  </a:lnTo>
                  <a:lnTo>
                    <a:pt x="2848" y="1425"/>
                  </a:lnTo>
                  <a:lnTo>
                    <a:pt x="2864" y="1425"/>
                  </a:lnTo>
                  <a:lnTo>
                    <a:pt x="2864" y="1425"/>
                  </a:lnTo>
                  <a:close/>
                  <a:moveTo>
                    <a:pt x="2880" y="1425"/>
                  </a:moveTo>
                  <a:lnTo>
                    <a:pt x="2880" y="1441"/>
                  </a:lnTo>
                  <a:lnTo>
                    <a:pt x="2880" y="1441"/>
                  </a:lnTo>
                  <a:lnTo>
                    <a:pt x="2897" y="1441"/>
                  </a:lnTo>
                  <a:lnTo>
                    <a:pt x="2913" y="1441"/>
                  </a:lnTo>
                  <a:lnTo>
                    <a:pt x="2897" y="1441"/>
                  </a:lnTo>
                  <a:lnTo>
                    <a:pt x="2913" y="1457"/>
                  </a:lnTo>
                  <a:lnTo>
                    <a:pt x="2913" y="1457"/>
                  </a:lnTo>
                  <a:lnTo>
                    <a:pt x="2897" y="1473"/>
                  </a:lnTo>
                  <a:lnTo>
                    <a:pt x="2897" y="1473"/>
                  </a:lnTo>
                  <a:lnTo>
                    <a:pt x="2897" y="1457"/>
                  </a:lnTo>
                  <a:lnTo>
                    <a:pt x="2880" y="1457"/>
                  </a:lnTo>
                  <a:lnTo>
                    <a:pt x="2880" y="1457"/>
                  </a:lnTo>
                  <a:lnTo>
                    <a:pt x="2864" y="1441"/>
                  </a:lnTo>
                  <a:lnTo>
                    <a:pt x="2880" y="1441"/>
                  </a:lnTo>
                  <a:lnTo>
                    <a:pt x="2880" y="1425"/>
                  </a:lnTo>
                  <a:lnTo>
                    <a:pt x="2880" y="1425"/>
                  </a:lnTo>
                  <a:lnTo>
                    <a:pt x="2880" y="1425"/>
                  </a:lnTo>
                  <a:close/>
                  <a:moveTo>
                    <a:pt x="2913" y="1522"/>
                  </a:moveTo>
                  <a:lnTo>
                    <a:pt x="2929" y="1522"/>
                  </a:lnTo>
                  <a:lnTo>
                    <a:pt x="2913" y="1522"/>
                  </a:lnTo>
                  <a:lnTo>
                    <a:pt x="2929" y="1522"/>
                  </a:lnTo>
                  <a:lnTo>
                    <a:pt x="2929" y="1522"/>
                  </a:lnTo>
                  <a:lnTo>
                    <a:pt x="2945" y="1538"/>
                  </a:lnTo>
                  <a:lnTo>
                    <a:pt x="2929" y="1538"/>
                  </a:lnTo>
                  <a:lnTo>
                    <a:pt x="2929" y="1538"/>
                  </a:lnTo>
                  <a:lnTo>
                    <a:pt x="2945" y="1538"/>
                  </a:lnTo>
                  <a:lnTo>
                    <a:pt x="2945" y="1522"/>
                  </a:lnTo>
                  <a:lnTo>
                    <a:pt x="2945" y="1538"/>
                  </a:lnTo>
                  <a:lnTo>
                    <a:pt x="2945" y="1538"/>
                  </a:lnTo>
                  <a:lnTo>
                    <a:pt x="2945" y="1554"/>
                  </a:lnTo>
                  <a:lnTo>
                    <a:pt x="2945" y="1554"/>
                  </a:lnTo>
                  <a:lnTo>
                    <a:pt x="2945" y="1554"/>
                  </a:lnTo>
                  <a:lnTo>
                    <a:pt x="2961" y="1554"/>
                  </a:lnTo>
                  <a:lnTo>
                    <a:pt x="2961" y="1554"/>
                  </a:lnTo>
                  <a:lnTo>
                    <a:pt x="2961" y="1570"/>
                  </a:lnTo>
                  <a:lnTo>
                    <a:pt x="2961" y="1570"/>
                  </a:lnTo>
                  <a:lnTo>
                    <a:pt x="2961" y="1570"/>
                  </a:lnTo>
                  <a:lnTo>
                    <a:pt x="2961" y="1586"/>
                  </a:lnTo>
                  <a:lnTo>
                    <a:pt x="2961" y="1586"/>
                  </a:lnTo>
                  <a:lnTo>
                    <a:pt x="2945" y="1586"/>
                  </a:lnTo>
                  <a:lnTo>
                    <a:pt x="2945" y="1586"/>
                  </a:lnTo>
                  <a:lnTo>
                    <a:pt x="2945" y="1586"/>
                  </a:lnTo>
                  <a:lnTo>
                    <a:pt x="2945" y="1570"/>
                  </a:lnTo>
                  <a:lnTo>
                    <a:pt x="2929" y="1570"/>
                  </a:lnTo>
                  <a:lnTo>
                    <a:pt x="2929" y="1554"/>
                  </a:lnTo>
                  <a:lnTo>
                    <a:pt x="2929" y="1570"/>
                  </a:lnTo>
                  <a:lnTo>
                    <a:pt x="2929" y="1570"/>
                  </a:lnTo>
                  <a:lnTo>
                    <a:pt x="2929" y="1570"/>
                  </a:lnTo>
                  <a:lnTo>
                    <a:pt x="2913" y="1570"/>
                  </a:lnTo>
                  <a:lnTo>
                    <a:pt x="2929" y="1570"/>
                  </a:lnTo>
                  <a:lnTo>
                    <a:pt x="2913" y="1570"/>
                  </a:lnTo>
                  <a:lnTo>
                    <a:pt x="2929" y="1554"/>
                  </a:lnTo>
                  <a:lnTo>
                    <a:pt x="2913" y="1554"/>
                  </a:lnTo>
                  <a:lnTo>
                    <a:pt x="2913" y="1554"/>
                  </a:lnTo>
                  <a:lnTo>
                    <a:pt x="2913" y="1554"/>
                  </a:lnTo>
                  <a:lnTo>
                    <a:pt x="2913" y="1538"/>
                  </a:lnTo>
                  <a:lnTo>
                    <a:pt x="2913" y="1554"/>
                  </a:lnTo>
                  <a:lnTo>
                    <a:pt x="2913" y="1554"/>
                  </a:lnTo>
                  <a:lnTo>
                    <a:pt x="2897" y="1554"/>
                  </a:lnTo>
                  <a:lnTo>
                    <a:pt x="2897" y="1538"/>
                  </a:lnTo>
                  <a:lnTo>
                    <a:pt x="2880" y="1554"/>
                  </a:lnTo>
                  <a:lnTo>
                    <a:pt x="2897" y="1538"/>
                  </a:lnTo>
                  <a:lnTo>
                    <a:pt x="2864" y="1554"/>
                  </a:lnTo>
                  <a:lnTo>
                    <a:pt x="2864" y="1538"/>
                  </a:lnTo>
                  <a:lnTo>
                    <a:pt x="2864" y="1538"/>
                  </a:lnTo>
                  <a:lnTo>
                    <a:pt x="2897" y="1538"/>
                  </a:lnTo>
                  <a:lnTo>
                    <a:pt x="2880" y="1538"/>
                  </a:lnTo>
                  <a:lnTo>
                    <a:pt x="2880" y="1538"/>
                  </a:lnTo>
                  <a:lnTo>
                    <a:pt x="2880" y="1522"/>
                  </a:lnTo>
                  <a:lnTo>
                    <a:pt x="2864" y="1522"/>
                  </a:lnTo>
                  <a:lnTo>
                    <a:pt x="2864" y="1522"/>
                  </a:lnTo>
                  <a:lnTo>
                    <a:pt x="2880" y="1506"/>
                  </a:lnTo>
                  <a:lnTo>
                    <a:pt x="2864" y="1522"/>
                  </a:lnTo>
                  <a:lnTo>
                    <a:pt x="2848" y="1522"/>
                  </a:lnTo>
                  <a:lnTo>
                    <a:pt x="2848" y="1506"/>
                  </a:lnTo>
                  <a:lnTo>
                    <a:pt x="2848" y="1506"/>
                  </a:lnTo>
                  <a:lnTo>
                    <a:pt x="2864" y="1489"/>
                  </a:lnTo>
                  <a:lnTo>
                    <a:pt x="2848" y="1489"/>
                  </a:lnTo>
                  <a:lnTo>
                    <a:pt x="2848" y="1457"/>
                  </a:lnTo>
                  <a:lnTo>
                    <a:pt x="2816" y="1457"/>
                  </a:lnTo>
                  <a:lnTo>
                    <a:pt x="2816" y="1457"/>
                  </a:lnTo>
                  <a:lnTo>
                    <a:pt x="2816" y="1457"/>
                  </a:lnTo>
                  <a:lnTo>
                    <a:pt x="2816" y="1441"/>
                  </a:lnTo>
                  <a:lnTo>
                    <a:pt x="2832" y="1441"/>
                  </a:lnTo>
                  <a:lnTo>
                    <a:pt x="2832" y="1457"/>
                  </a:lnTo>
                  <a:lnTo>
                    <a:pt x="2832" y="1441"/>
                  </a:lnTo>
                  <a:lnTo>
                    <a:pt x="2848" y="1441"/>
                  </a:lnTo>
                  <a:lnTo>
                    <a:pt x="2848" y="1457"/>
                  </a:lnTo>
                  <a:lnTo>
                    <a:pt x="2848" y="1457"/>
                  </a:lnTo>
                  <a:lnTo>
                    <a:pt x="2848" y="1473"/>
                  </a:lnTo>
                  <a:lnTo>
                    <a:pt x="2880" y="1473"/>
                  </a:lnTo>
                  <a:lnTo>
                    <a:pt x="2897" y="1489"/>
                  </a:lnTo>
                  <a:lnTo>
                    <a:pt x="2913" y="1506"/>
                  </a:lnTo>
                  <a:lnTo>
                    <a:pt x="2913" y="1489"/>
                  </a:lnTo>
                  <a:lnTo>
                    <a:pt x="2913" y="1506"/>
                  </a:lnTo>
                  <a:lnTo>
                    <a:pt x="2929" y="1506"/>
                  </a:lnTo>
                  <a:lnTo>
                    <a:pt x="2929" y="1506"/>
                  </a:lnTo>
                  <a:lnTo>
                    <a:pt x="2897" y="1506"/>
                  </a:lnTo>
                  <a:lnTo>
                    <a:pt x="2897" y="1506"/>
                  </a:lnTo>
                  <a:lnTo>
                    <a:pt x="2913" y="1506"/>
                  </a:lnTo>
                  <a:lnTo>
                    <a:pt x="2897" y="1522"/>
                  </a:lnTo>
                  <a:lnTo>
                    <a:pt x="2913" y="1522"/>
                  </a:lnTo>
                  <a:lnTo>
                    <a:pt x="2913" y="1522"/>
                  </a:lnTo>
                  <a:close/>
                  <a:moveTo>
                    <a:pt x="2961" y="1522"/>
                  </a:moveTo>
                  <a:lnTo>
                    <a:pt x="2945" y="1506"/>
                  </a:lnTo>
                  <a:lnTo>
                    <a:pt x="2961" y="1489"/>
                  </a:lnTo>
                  <a:lnTo>
                    <a:pt x="2961" y="1489"/>
                  </a:lnTo>
                  <a:lnTo>
                    <a:pt x="2945" y="1489"/>
                  </a:lnTo>
                  <a:lnTo>
                    <a:pt x="2945" y="1473"/>
                  </a:lnTo>
                  <a:lnTo>
                    <a:pt x="2961" y="1473"/>
                  </a:lnTo>
                  <a:lnTo>
                    <a:pt x="2945" y="1473"/>
                  </a:lnTo>
                  <a:lnTo>
                    <a:pt x="2961" y="1457"/>
                  </a:lnTo>
                  <a:lnTo>
                    <a:pt x="2945" y="1457"/>
                  </a:lnTo>
                  <a:lnTo>
                    <a:pt x="2961" y="1457"/>
                  </a:lnTo>
                  <a:lnTo>
                    <a:pt x="2945" y="1457"/>
                  </a:lnTo>
                  <a:lnTo>
                    <a:pt x="2961" y="1441"/>
                  </a:lnTo>
                  <a:lnTo>
                    <a:pt x="2994" y="1473"/>
                  </a:lnTo>
                  <a:lnTo>
                    <a:pt x="2994" y="1489"/>
                  </a:lnTo>
                  <a:lnTo>
                    <a:pt x="2994" y="1489"/>
                  </a:lnTo>
                  <a:lnTo>
                    <a:pt x="2994" y="1506"/>
                  </a:lnTo>
                  <a:lnTo>
                    <a:pt x="2994" y="1522"/>
                  </a:lnTo>
                  <a:lnTo>
                    <a:pt x="2994" y="1522"/>
                  </a:lnTo>
                  <a:lnTo>
                    <a:pt x="2994" y="1506"/>
                  </a:lnTo>
                  <a:lnTo>
                    <a:pt x="2978" y="1506"/>
                  </a:lnTo>
                  <a:lnTo>
                    <a:pt x="2994" y="1506"/>
                  </a:lnTo>
                  <a:lnTo>
                    <a:pt x="2978" y="1522"/>
                  </a:lnTo>
                  <a:lnTo>
                    <a:pt x="2978" y="1489"/>
                  </a:lnTo>
                  <a:lnTo>
                    <a:pt x="2978" y="1473"/>
                  </a:lnTo>
                  <a:lnTo>
                    <a:pt x="2978" y="1506"/>
                  </a:lnTo>
                  <a:lnTo>
                    <a:pt x="2978" y="1506"/>
                  </a:lnTo>
                  <a:lnTo>
                    <a:pt x="2961" y="1489"/>
                  </a:lnTo>
                  <a:lnTo>
                    <a:pt x="2961" y="1489"/>
                  </a:lnTo>
                  <a:lnTo>
                    <a:pt x="2978" y="1506"/>
                  </a:lnTo>
                  <a:lnTo>
                    <a:pt x="2978" y="1522"/>
                  </a:lnTo>
                  <a:lnTo>
                    <a:pt x="2961" y="1522"/>
                  </a:lnTo>
                  <a:lnTo>
                    <a:pt x="2961" y="1522"/>
                  </a:lnTo>
                  <a:close/>
                  <a:moveTo>
                    <a:pt x="1634" y="1554"/>
                  </a:moveTo>
                  <a:lnTo>
                    <a:pt x="1634" y="1554"/>
                  </a:lnTo>
                  <a:lnTo>
                    <a:pt x="1634" y="1538"/>
                  </a:lnTo>
                  <a:lnTo>
                    <a:pt x="1634" y="1554"/>
                  </a:lnTo>
                  <a:lnTo>
                    <a:pt x="1618" y="1554"/>
                  </a:lnTo>
                  <a:lnTo>
                    <a:pt x="1618" y="1554"/>
                  </a:lnTo>
                  <a:lnTo>
                    <a:pt x="1618" y="1570"/>
                  </a:lnTo>
                  <a:lnTo>
                    <a:pt x="1618" y="1570"/>
                  </a:lnTo>
                  <a:lnTo>
                    <a:pt x="1618" y="1570"/>
                  </a:lnTo>
                  <a:lnTo>
                    <a:pt x="1618" y="1570"/>
                  </a:lnTo>
                  <a:lnTo>
                    <a:pt x="1618" y="1570"/>
                  </a:lnTo>
                  <a:lnTo>
                    <a:pt x="1618" y="1586"/>
                  </a:lnTo>
                  <a:lnTo>
                    <a:pt x="1602" y="1586"/>
                  </a:lnTo>
                  <a:lnTo>
                    <a:pt x="1586" y="1586"/>
                  </a:lnTo>
                  <a:lnTo>
                    <a:pt x="1618" y="1570"/>
                  </a:lnTo>
                  <a:lnTo>
                    <a:pt x="1602" y="1570"/>
                  </a:lnTo>
                  <a:lnTo>
                    <a:pt x="1618" y="1554"/>
                  </a:lnTo>
                  <a:lnTo>
                    <a:pt x="1618" y="1554"/>
                  </a:lnTo>
                  <a:lnTo>
                    <a:pt x="1586" y="1570"/>
                  </a:lnTo>
                  <a:lnTo>
                    <a:pt x="1586" y="1554"/>
                  </a:lnTo>
                  <a:lnTo>
                    <a:pt x="1602" y="1554"/>
                  </a:lnTo>
                  <a:lnTo>
                    <a:pt x="1570" y="1554"/>
                  </a:lnTo>
                  <a:lnTo>
                    <a:pt x="1570" y="1554"/>
                  </a:lnTo>
                  <a:lnTo>
                    <a:pt x="1570" y="1554"/>
                  </a:lnTo>
                  <a:lnTo>
                    <a:pt x="1586" y="1554"/>
                  </a:lnTo>
                  <a:lnTo>
                    <a:pt x="1586" y="1554"/>
                  </a:lnTo>
                  <a:lnTo>
                    <a:pt x="1586" y="1570"/>
                  </a:lnTo>
                  <a:lnTo>
                    <a:pt x="1586" y="1570"/>
                  </a:lnTo>
                  <a:lnTo>
                    <a:pt x="1586" y="1586"/>
                  </a:lnTo>
                  <a:lnTo>
                    <a:pt x="1586" y="1570"/>
                  </a:lnTo>
                  <a:lnTo>
                    <a:pt x="1586" y="1586"/>
                  </a:lnTo>
                  <a:lnTo>
                    <a:pt x="1586" y="1570"/>
                  </a:lnTo>
                  <a:lnTo>
                    <a:pt x="1570" y="1570"/>
                  </a:lnTo>
                  <a:lnTo>
                    <a:pt x="1570" y="1554"/>
                  </a:lnTo>
                  <a:lnTo>
                    <a:pt x="1570" y="1538"/>
                  </a:lnTo>
                  <a:lnTo>
                    <a:pt x="1553" y="1538"/>
                  </a:lnTo>
                  <a:lnTo>
                    <a:pt x="1553" y="1538"/>
                  </a:lnTo>
                  <a:lnTo>
                    <a:pt x="1553" y="1522"/>
                  </a:lnTo>
                  <a:lnTo>
                    <a:pt x="1553" y="1522"/>
                  </a:lnTo>
                  <a:lnTo>
                    <a:pt x="1553" y="1522"/>
                  </a:lnTo>
                  <a:lnTo>
                    <a:pt x="1570" y="1506"/>
                  </a:lnTo>
                  <a:lnTo>
                    <a:pt x="1570" y="1506"/>
                  </a:lnTo>
                  <a:lnTo>
                    <a:pt x="1570" y="1506"/>
                  </a:lnTo>
                  <a:lnTo>
                    <a:pt x="1570" y="1506"/>
                  </a:lnTo>
                  <a:lnTo>
                    <a:pt x="1570" y="1506"/>
                  </a:lnTo>
                  <a:lnTo>
                    <a:pt x="1586" y="1489"/>
                  </a:lnTo>
                  <a:lnTo>
                    <a:pt x="1586" y="1489"/>
                  </a:lnTo>
                  <a:lnTo>
                    <a:pt x="1602" y="1489"/>
                  </a:lnTo>
                  <a:lnTo>
                    <a:pt x="1602" y="1506"/>
                  </a:lnTo>
                  <a:lnTo>
                    <a:pt x="1586" y="1506"/>
                  </a:lnTo>
                  <a:lnTo>
                    <a:pt x="1602" y="1506"/>
                  </a:lnTo>
                  <a:lnTo>
                    <a:pt x="1602" y="1522"/>
                  </a:lnTo>
                  <a:lnTo>
                    <a:pt x="1618" y="1538"/>
                  </a:lnTo>
                  <a:lnTo>
                    <a:pt x="1618" y="1522"/>
                  </a:lnTo>
                  <a:lnTo>
                    <a:pt x="1602" y="1506"/>
                  </a:lnTo>
                  <a:lnTo>
                    <a:pt x="1618" y="1506"/>
                  </a:lnTo>
                  <a:lnTo>
                    <a:pt x="1602" y="1489"/>
                  </a:lnTo>
                  <a:lnTo>
                    <a:pt x="1618" y="1489"/>
                  </a:lnTo>
                  <a:lnTo>
                    <a:pt x="1602" y="1489"/>
                  </a:lnTo>
                  <a:lnTo>
                    <a:pt x="1602" y="1473"/>
                  </a:lnTo>
                  <a:lnTo>
                    <a:pt x="1618" y="1473"/>
                  </a:lnTo>
                  <a:lnTo>
                    <a:pt x="1634" y="1489"/>
                  </a:lnTo>
                  <a:lnTo>
                    <a:pt x="1634" y="1489"/>
                  </a:lnTo>
                  <a:lnTo>
                    <a:pt x="1634" y="1489"/>
                  </a:lnTo>
                  <a:lnTo>
                    <a:pt x="1634" y="1473"/>
                  </a:lnTo>
                  <a:lnTo>
                    <a:pt x="1634" y="1489"/>
                  </a:lnTo>
                  <a:lnTo>
                    <a:pt x="1634" y="1473"/>
                  </a:lnTo>
                  <a:lnTo>
                    <a:pt x="1651" y="1473"/>
                  </a:lnTo>
                  <a:lnTo>
                    <a:pt x="1651" y="1489"/>
                  </a:lnTo>
                  <a:lnTo>
                    <a:pt x="1651" y="1473"/>
                  </a:lnTo>
                  <a:lnTo>
                    <a:pt x="1651" y="1473"/>
                  </a:lnTo>
                  <a:lnTo>
                    <a:pt x="1634" y="1457"/>
                  </a:lnTo>
                  <a:lnTo>
                    <a:pt x="1667" y="1457"/>
                  </a:lnTo>
                  <a:lnTo>
                    <a:pt x="1667" y="1473"/>
                  </a:lnTo>
                  <a:lnTo>
                    <a:pt x="1667" y="1489"/>
                  </a:lnTo>
                  <a:lnTo>
                    <a:pt x="1667" y="1473"/>
                  </a:lnTo>
                  <a:lnTo>
                    <a:pt x="1683" y="1473"/>
                  </a:lnTo>
                  <a:lnTo>
                    <a:pt x="1683" y="1457"/>
                  </a:lnTo>
                  <a:lnTo>
                    <a:pt x="1699" y="1473"/>
                  </a:lnTo>
                  <a:lnTo>
                    <a:pt x="1683" y="1489"/>
                  </a:lnTo>
                  <a:lnTo>
                    <a:pt x="1683" y="1489"/>
                  </a:lnTo>
                  <a:lnTo>
                    <a:pt x="1683" y="1489"/>
                  </a:lnTo>
                  <a:lnTo>
                    <a:pt x="1699" y="1489"/>
                  </a:lnTo>
                  <a:lnTo>
                    <a:pt x="1699" y="1489"/>
                  </a:lnTo>
                  <a:lnTo>
                    <a:pt x="1715" y="1489"/>
                  </a:lnTo>
                  <a:lnTo>
                    <a:pt x="1699" y="1522"/>
                  </a:lnTo>
                  <a:lnTo>
                    <a:pt x="1667" y="1506"/>
                  </a:lnTo>
                  <a:lnTo>
                    <a:pt x="1667" y="1506"/>
                  </a:lnTo>
                  <a:lnTo>
                    <a:pt x="1651" y="1522"/>
                  </a:lnTo>
                  <a:lnTo>
                    <a:pt x="1667" y="1506"/>
                  </a:lnTo>
                  <a:lnTo>
                    <a:pt x="1683" y="1522"/>
                  </a:lnTo>
                  <a:lnTo>
                    <a:pt x="1683" y="1522"/>
                  </a:lnTo>
                  <a:lnTo>
                    <a:pt x="1667" y="1538"/>
                  </a:lnTo>
                  <a:lnTo>
                    <a:pt x="1667" y="1522"/>
                  </a:lnTo>
                  <a:lnTo>
                    <a:pt x="1651" y="1522"/>
                  </a:lnTo>
                  <a:lnTo>
                    <a:pt x="1651" y="1538"/>
                  </a:lnTo>
                  <a:lnTo>
                    <a:pt x="1667" y="1538"/>
                  </a:lnTo>
                  <a:lnTo>
                    <a:pt x="1634" y="1538"/>
                  </a:lnTo>
                  <a:lnTo>
                    <a:pt x="1634" y="1554"/>
                  </a:lnTo>
                  <a:lnTo>
                    <a:pt x="1634" y="1554"/>
                  </a:lnTo>
                  <a:close/>
                  <a:moveTo>
                    <a:pt x="2848" y="1457"/>
                  </a:moveTo>
                  <a:lnTo>
                    <a:pt x="2848" y="1473"/>
                  </a:lnTo>
                  <a:lnTo>
                    <a:pt x="2832" y="1473"/>
                  </a:lnTo>
                  <a:lnTo>
                    <a:pt x="2832" y="1489"/>
                  </a:lnTo>
                  <a:lnTo>
                    <a:pt x="2816" y="1489"/>
                  </a:lnTo>
                  <a:lnTo>
                    <a:pt x="2816" y="1473"/>
                  </a:lnTo>
                  <a:lnTo>
                    <a:pt x="2832" y="1473"/>
                  </a:lnTo>
                  <a:lnTo>
                    <a:pt x="2816" y="1473"/>
                  </a:lnTo>
                  <a:lnTo>
                    <a:pt x="2848" y="1457"/>
                  </a:lnTo>
                  <a:lnTo>
                    <a:pt x="2848" y="1457"/>
                  </a:lnTo>
                  <a:close/>
                  <a:moveTo>
                    <a:pt x="2945" y="1506"/>
                  </a:moveTo>
                  <a:lnTo>
                    <a:pt x="2961" y="1522"/>
                  </a:lnTo>
                  <a:lnTo>
                    <a:pt x="2961" y="1522"/>
                  </a:lnTo>
                  <a:lnTo>
                    <a:pt x="2961" y="1538"/>
                  </a:lnTo>
                  <a:lnTo>
                    <a:pt x="2961" y="1538"/>
                  </a:lnTo>
                  <a:lnTo>
                    <a:pt x="2945" y="1522"/>
                  </a:lnTo>
                  <a:lnTo>
                    <a:pt x="2945" y="1506"/>
                  </a:lnTo>
                  <a:lnTo>
                    <a:pt x="2945" y="1506"/>
                  </a:lnTo>
                  <a:close/>
                  <a:moveTo>
                    <a:pt x="2978" y="1522"/>
                  </a:moveTo>
                  <a:lnTo>
                    <a:pt x="2978" y="1522"/>
                  </a:lnTo>
                  <a:lnTo>
                    <a:pt x="2994" y="1538"/>
                  </a:lnTo>
                  <a:lnTo>
                    <a:pt x="2978" y="1538"/>
                  </a:lnTo>
                  <a:lnTo>
                    <a:pt x="2978" y="1538"/>
                  </a:lnTo>
                  <a:lnTo>
                    <a:pt x="2978" y="1538"/>
                  </a:lnTo>
                  <a:lnTo>
                    <a:pt x="2978" y="1554"/>
                  </a:lnTo>
                  <a:lnTo>
                    <a:pt x="2978" y="1538"/>
                  </a:lnTo>
                  <a:lnTo>
                    <a:pt x="2978" y="1538"/>
                  </a:lnTo>
                  <a:lnTo>
                    <a:pt x="2978" y="1522"/>
                  </a:lnTo>
                  <a:lnTo>
                    <a:pt x="2978" y="1522"/>
                  </a:lnTo>
                  <a:lnTo>
                    <a:pt x="2978" y="1522"/>
                  </a:lnTo>
                  <a:close/>
                  <a:moveTo>
                    <a:pt x="2880" y="1554"/>
                  </a:moveTo>
                  <a:lnTo>
                    <a:pt x="2897" y="1570"/>
                  </a:lnTo>
                  <a:lnTo>
                    <a:pt x="2880" y="1570"/>
                  </a:lnTo>
                  <a:lnTo>
                    <a:pt x="2913" y="1586"/>
                  </a:lnTo>
                  <a:lnTo>
                    <a:pt x="2913" y="1603"/>
                  </a:lnTo>
                  <a:lnTo>
                    <a:pt x="2913" y="1603"/>
                  </a:lnTo>
                  <a:lnTo>
                    <a:pt x="2929" y="1603"/>
                  </a:lnTo>
                  <a:lnTo>
                    <a:pt x="2913" y="1603"/>
                  </a:lnTo>
                  <a:lnTo>
                    <a:pt x="2913" y="1603"/>
                  </a:lnTo>
                  <a:lnTo>
                    <a:pt x="2913" y="1586"/>
                  </a:lnTo>
                  <a:lnTo>
                    <a:pt x="2880" y="1586"/>
                  </a:lnTo>
                  <a:lnTo>
                    <a:pt x="2880" y="1570"/>
                  </a:lnTo>
                  <a:lnTo>
                    <a:pt x="2880" y="1570"/>
                  </a:lnTo>
                  <a:lnTo>
                    <a:pt x="2880" y="1570"/>
                  </a:lnTo>
                  <a:lnTo>
                    <a:pt x="2880" y="1554"/>
                  </a:lnTo>
                  <a:lnTo>
                    <a:pt x="2880" y="1554"/>
                  </a:lnTo>
                  <a:close/>
                  <a:moveTo>
                    <a:pt x="955" y="1781"/>
                  </a:moveTo>
                  <a:lnTo>
                    <a:pt x="938" y="1797"/>
                  </a:lnTo>
                  <a:lnTo>
                    <a:pt x="922" y="1797"/>
                  </a:lnTo>
                  <a:lnTo>
                    <a:pt x="906" y="1797"/>
                  </a:lnTo>
                  <a:lnTo>
                    <a:pt x="906" y="1764"/>
                  </a:lnTo>
                  <a:lnTo>
                    <a:pt x="922" y="1764"/>
                  </a:lnTo>
                  <a:lnTo>
                    <a:pt x="938" y="1732"/>
                  </a:lnTo>
                  <a:lnTo>
                    <a:pt x="955" y="1748"/>
                  </a:lnTo>
                  <a:lnTo>
                    <a:pt x="971" y="1732"/>
                  </a:lnTo>
                  <a:lnTo>
                    <a:pt x="987" y="1732"/>
                  </a:lnTo>
                  <a:lnTo>
                    <a:pt x="1003" y="1732"/>
                  </a:lnTo>
                  <a:lnTo>
                    <a:pt x="1003" y="1764"/>
                  </a:lnTo>
                  <a:lnTo>
                    <a:pt x="1019" y="1764"/>
                  </a:lnTo>
                  <a:lnTo>
                    <a:pt x="1036" y="1781"/>
                  </a:lnTo>
                  <a:lnTo>
                    <a:pt x="1003" y="1764"/>
                  </a:lnTo>
                  <a:lnTo>
                    <a:pt x="1003" y="1781"/>
                  </a:lnTo>
                  <a:lnTo>
                    <a:pt x="987" y="1781"/>
                  </a:lnTo>
                  <a:lnTo>
                    <a:pt x="955" y="1781"/>
                  </a:lnTo>
                  <a:lnTo>
                    <a:pt x="955" y="1781"/>
                  </a:lnTo>
                  <a:close/>
                  <a:moveTo>
                    <a:pt x="777" y="1862"/>
                  </a:moveTo>
                  <a:lnTo>
                    <a:pt x="777" y="1862"/>
                  </a:lnTo>
                  <a:lnTo>
                    <a:pt x="777" y="1862"/>
                  </a:lnTo>
                  <a:lnTo>
                    <a:pt x="777" y="1862"/>
                  </a:lnTo>
                  <a:lnTo>
                    <a:pt x="777" y="1878"/>
                  </a:lnTo>
                  <a:lnTo>
                    <a:pt x="760" y="1862"/>
                  </a:lnTo>
                  <a:lnTo>
                    <a:pt x="744" y="1878"/>
                  </a:lnTo>
                  <a:lnTo>
                    <a:pt x="728" y="1878"/>
                  </a:lnTo>
                  <a:lnTo>
                    <a:pt x="712" y="1878"/>
                  </a:lnTo>
                  <a:lnTo>
                    <a:pt x="696" y="1878"/>
                  </a:lnTo>
                  <a:lnTo>
                    <a:pt x="712" y="1862"/>
                  </a:lnTo>
                  <a:lnTo>
                    <a:pt x="728" y="1878"/>
                  </a:lnTo>
                  <a:lnTo>
                    <a:pt x="728" y="1862"/>
                  </a:lnTo>
                  <a:lnTo>
                    <a:pt x="728" y="1862"/>
                  </a:lnTo>
                  <a:lnTo>
                    <a:pt x="744" y="1862"/>
                  </a:lnTo>
                  <a:lnTo>
                    <a:pt x="744" y="1862"/>
                  </a:lnTo>
                  <a:lnTo>
                    <a:pt x="744" y="1862"/>
                  </a:lnTo>
                  <a:lnTo>
                    <a:pt x="760" y="1862"/>
                  </a:lnTo>
                  <a:lnTo>
                    <a:pt x="744" y="1845"/>
                  </a:lnTo>
                  <a:lnTo>
                    <a:pt x="760" y="1845"/>
                  </a:lnTo>
                  <a:lnTo>
                    <a:pt x="760" y="1845"/>
                  </a:lnTo>
                  <a:lnTo>
                    <a:pt x="760" y="1845"/>
                  </a:lnTo>
                  <a:lnTo>
                    <a:pt x="760" y="1845"/>
                  </a:lnTo>
                  <a:lnTo>
                    <a:pt x="777" y="1845"/>
                  </a:lnTo>
                  <a:lnTo>
                    <a:pt x="777" y="1845"/>
                  </a:lnTo>
                  <a:lnTo>
                    <a:pt x="777" y="1845"/>
                  </a:lnTo>
                  <a:lnTo>
                    <a:pt x="760" y="1829"/>
                  </a:lnTo>
                  <a:lnTo>
                    <a:pt x="760" y="1829"/>
                  </a:lnTo>
                  <a:lnTo>
                    <a:pt x="777" y="1813"/>
                  </a:lnTo>
                  <a:lnTo>
                    <a:pt x="793" y="1813"/>
                  </a:lnTo>
                  <a:lnTo>
                    <a:pt x="793" y="1829"/>
                  </a:lnTo>
                  <a:lnTo>
                    <a:pt x="793" y="1829"/>
                  </a:lnTo>
                  <a:lnTo>
                    <a:pt x="793" y="1829"/>
                  </a:lnTo>
                  <a:lnTo>
                    <a:pt x="809" y="1813"/>
                  </a:lnTo>
                  <a:lnTo>
                    <a:pt x="809" y="1829"/>
                  </a:lnTo>
                  <a:lnTo>
                    <a:pt x="809" y="1829"/>
                  </a:lnTo>
                  <a:lnTo>
                    <a:pt x="809" y="1829"/>
                  </a:lnTo>
                  <a:lnTo>
                    <a:pt x="809" y="1829"/>
                  </a:lnTo>
                  <a:lnTo>
                    <a:pt x="793" y="1845"/>
                  </a:lnTo>
                  <a:lnTo>
                    <a:pt x="793" y="1845"/>
                  </a:lnTo>
                  <a:lnTo>
                    <a:pt x="793" y="1845"/>
                  </a:lnTo>
                  <a:lnTo>
                    <a:pt x="793" y="1845"/>
                  </a:lnTo>
                  <a:lnTo>
                    <a:pt x="793" y="1845"/>
                  </a:lnTo>
                  <a:lnTo>
                    <a:pt x="809" y="1845"/>
                  </a:lnTo>
                  <a:lnTo>
                    <a:pt x="809" y="1845"/>
                  </a:lnTo>
                  <a:lnTo>
                    <a:pt x="809" y="1845"/>
                  </a:lnTo>
                  <a:lnTo>
                    <a:pt x="793" y="1862"/>
                  </a:lnTo>
                  <a:lnTo>
                    <a:pt x="777" y="1862"/>
                  </a:lnTo>
                  <a:lnTo>
                    <a:pt x="777" y="1862"/>
                  </a:lnTo>
                  <a:lnTo>
                    <a:pt x="777" y="1862"/>
                  </a:lnTo>
                  <a:lnTo>
                    <a:pt x="777" y="1862"/>
                  </a:lnTo>
                  <a:close/>
                  <a:moveTo>
                    <a:pt x="0" y="1862"/>
                  </a:moveTo>
                  <a:lnTo>
                    <a:pt x="0" y="1845"/>
                  </a:lnTo>
                  <a:lnTo>
                    <a:pt x="0" y="1845"/>
                  </a:lnTo>
                  <a:lnTo>
                    <a:pt x="0" y="1829"/>
                  </a:lnTo>
                  <a:lnTo>
                    <a:pt x="16" y="1829"/>
                  </a:lnTo>
                  <a:lnTo>
                    <a:pt x="16" y="1845"/>
                  </a:lnTo>
                  <a:lnTo>
                    <a:pt x="32" y="1845"/>
                  </a:lnTo>
                  <a:lnTo>
                    <a:pt x="16" y="1845"/>
                  </a:lnTo>
                  <a:lnTo>
                    <a:pt x="0" y="1862"/>
                  </a:lnTo>
                  <a:lnTo>
                    <a:pt x="0" y="1862"/>
                  </a:lnTo>
                  <a:close/>
                  <a:moveTo>
                    <a:pt x="809" y="1845"/>
                  </a:moveTo>
                  <a:lnTo>
                    <a:pt x="809" y="1845"/>
                  </a:lnTo>
                  <a:lnTo>
                    <a:pt x="825" y="1845"/>
                  </a:lnTo>
                  <a:lnTo>
                    <a:pt x="809" y="1845"/>
                  </a:lnTo>
                  <a:lnTo>
                    <a:pt x="809" y="1845"/>
                  </a:lnTo>
                  <a:close/>
                  <a:moveTo>
                    <a:pt x="712" y="1845"/>
                  </a:moveTo>
                  <a:lnTo>
                    <a:pt x="696" y="1862"/>
                  </a:lnTo>
                  <a:lnTo>
                    <a:pt x="663" y="1878"/>
                  </a:lnTo>
                  <a:lnTo>
                    <a:pt x="647" y="1894"/>
                  </a:lnTo>
                  <a:lnTo>
                    <a:pt x="599" y="1910"/>
                  </a:lnTo>
                  <a:lnTo>
                    <a:pt x="631" y="1894"/>
                  </a:lnTo>
                  <a:lnTo>
                    <a:pt x="631" y="1878"/>
                  </a:lnTo>
                  <a:lnTo>
                    <a:pt x="631" y="1878"/>
                  </a:lnTo>
                  <a:lnTo>
                    <a:pt x="647" y="1862"/>
                  </a:lnTo>
                  <a:lnTo>
                    <a:pt x="663" y="1878"/>
                  </a:lnTo>
                  <a:lnTo>
                    <a:pt x="663" y="1862"/>
                  </a:lnTo>
                  <a:lnTo>
                    <a:pt x="663" y="1845"/>
                  </a:lnTo>
                  <a:lnTo>
                    <a:pt x="696" y="1845"/>
                  </a:lnTo>
                  <a:lnTo>
                    <a:pt x="712" y="1845"/>
                  </a:lnTo>
                  <a:lnTo>
                    <a:pt x="712" y="1845"/>
                  </a:lnTo>
                  <a:close/>
                  <a:moveTo>
                    <a:pt x="64" y="1894"/>
                  </a:moveTo>
                  <a:lnTo>
                    <a:pt x="64" y="1878"/>
                  </a:lnTo>
                  <a:lnTo>
                    <a:pt x="81" y="1878"/>
                  </a:lnTo>
                  <a:lnTo>
                    <a:pt x="81" y="1862"/>
                  </a:lnTo>
                  <a:lnTo>
                    <a:pt x="81" y="1878"/>
                  </a:lnTo>
                  <a:lnTo>
                    <a:pt x="81" y="1862"/>
                  </a:lnTo>
                  <a:lnTo>
                    <a:pt x="81" y="1862"/>
                  </a:lnTo>
                  <a:lnTo>
                    <a:pt x="81" y="1845"/>
                  </a:lnTo>
                  <a:lnTo>
                    <a:pt x="97" y="1862"/>
                  </a:lnTo>
                  <a:lnTo>
                    <a:pt x="97" y="1862"/>
                  </a:lnTo>
                  <a:lnTo>
                    <a:pt x="97" y="1862"/>
                  </a:lnTo>
                  <a:lnTo>
                    <a:pt x="113" y="1878"/>
                  </a:lnTo>
                  <a:lnTo>
                    <a:pt x="97" y="1878"/>
                  </a:lnTo>
                  <a:lnTo>
                    <a:pt x="97" y="1878"/>
                  </a:lnTo>
                  <a:lnTo>
                    <a:pt x="81" y="1894"/>
                  </a:lnTo>
                  <a:lnTo>
                    <a:pt x="81" y="1878"/>
                  </a:lnTo>
                  <a:lnTo>
                    <a:pt x="64" y="1894"/>
                  </a:lnTo>
                  <a:lnTo>
                    <a:pt x="64" y="1894"/>
                  </a:lnTo>
                  <a:close/>
                  <a:moveTo>
                    <a:pt x="275" y="1862"/>
                  </a:moveTo>
                  <a:lnTo>
                    <a:pt x="275" y="1878"/>
                  </a:lnTo>
                  <a:lnTo>
                    <a:pt x="275" y="1878"/>
                  </a:lnTo>
                  <a:lnTo>
                    <a:pt x="259" y="1878"/>
                  </a:lnTo>
                  <a:lnTo>
                    <a:pt x="259" y="1894"/>
                  </a:lnTo>
                  <a:lnTo>
                    <a:pt x="243" y="1894"/>
                  </a:lnTo>
                  <a:lnTo>
                    <a:pt x="243" y="1894"/>
                  </a:lnTo>
                  <a:lnTo>
                    <a:pt x="243" y="1894"/>
                  </a:lnTo>
                  <a:lnTo>
                    <a:pt x="243" y="1894"/>
                  </a:lnTo>
                  <a:lnTo>
                    <a:pt x="243" y="1894"/>
                  </a:lnTo>
                  <a:lnTo>
                    <a:pt x="226" y="1894"/>
                  </a:lnTo>
                  <a:lnTo>
                    <a:pt x="226" y="1894"/>
                  </a:lnTo>
                  <a:lnTo>
                    <a:pt x="178" y="1878"/>
                  </a:lnTo>
                  <a:lnTo>
                    <a:pt x="194" y="1878"/>
                  </a:lnTo>
                  <a:lnTo>
                    <a:pt x="210" y="1878"/>
                  </a:lnTo>
                  <a:lnTo>
                    <a:pt x="226" y="1878"/>
                  </a:lnTo>
                  <a:lnTo>
                    <a:pt x="243" y="1878"/>
                  </a:lnTo>
                  <a:lnTo>
                    <a:pt x="243" y="1878"/>
                  </a:lnTo>
                  <a:lnTo>
                    <a:pt x="259" y="1878"/>
                  </a:lnTo>
                  <a:lnTo>
                    <a:pt x="243" y="1862"/>
                  </a:lnTo>
                  <a:lnTo>
                    <a:pt x="275" y="1862"/>
                  </a:lnTo>
                  <a:lnTo>
                    <a:pt x="275" y="1862"/>
                  </a:lnTo>
                  <a:close/>
                  <a:moveTo>
                    <a:pt x="2605" y="1344"/>
                  </a:moveTo>
                  <a:lnTo>
                    <a:pt x="2605" y="1327"/>
                  </a:lnTo>
                  <a:lnTo>
                    <a:pt x="2638" y="1327"/>
                  </a:lnTo>
                  <a:lnTo>
                    <a:pt x="2605" y="1311"/>
                  </a:lnTo>
                  <a:lnTo>
                    <a:pt x="2605" y="1311"/>
                  </a:lnTo>
                  <a:lnTo>
                    <a:pt x="2605" y="1295"/>
                  </a:lnTo>
                  <a:lnTo>
                    <a:pt x="2605" y="1295"/>
                  </a:lnTo>
                  <a:lnTo>
                    <a:pt x="2622" y="1311"/>
                  </a:lnTo>
                  <a:lnTo>
                    <a:pt x="2622" y="1311"/>
                  </a:lnTo>
                  <a:lnTo>
                    <a:pt x="2605" y="1295"/>
                  </a:lnTo>
                  <a:lnTo>
                    <a:pt x="2622" y="1295"/>
                  </a:lnTo>
                  <a:lnTo>
                    <a:pt x="2622" y="1295"/>
                  </a:lnTo>
                  <a:lnTo>
                    <a:pt x="2638" y="1279"/>
                  </a:lnTo>
                  <a:lnTo>
                    <a:pt x="2654" y="1295"/>
                  </a:lnTo>
                  <a:lnTo>
                    <a:pt x="2654" y="1311"/>
                  </a:lnTo>
                  <a:lnTo>
                    <a:pt x="2638" y="1311"/>
                  </a:lnTo>
                  <a:lnTo>
                    <a:pt x="2654" y="1311"/>
                  </a:lnTo>
                  <a:lnTo>
                    <a:pt x="2638" y="1311"/>
                  </a:lnTo>
                  <a:lnTo>
                    <a:pt x="2654" y="1311"/>
                  </a:lnTo>
                  <a:lnTo>
                    <a:pt x="2654" y="1295"/>
                  </a:lnTo>
                  <a:lnTo>
                    <a:pt x="2686" y="1295"/>
                  </a:lnTo>
                  <a:lnTo>
                    <a:pt x="2686" y="1311"/>
                  </a:lnTo>
                  <a:lnTo>
                    <a:pt x="2686" y="1311"/>
                  </a:lnTo>
                  <a:lnTo>
                    <a:pt x="2686" y="1311"/>
                  </a:lnTo>
                  <a:lnTo>
                    <a:pt x="2670" y="1311"/>
                  </a:lnTo>
                  <a:lnTo>
                    <a:pt x="2686" y="1311"/>
                  </a:lnTo>
                  <a:lnTo>
                    <a:pt x="2686" y="1327"/>
                  </a:lnTo>
                  <a:lnTo>
                    <a:pt x="2670" y="1327"/>
                  </a:lnTo>
                  <a:lnTo>
                    <a:pt x="2638" y="1311"/>
                  </a:lnTo>
                  <a:lnTo>
                    <a:pt x="2670" y="1327"/>
                  </a:lnTo>
                  <a:lnTo>
                    <a:pt x="2670" y="1327"/>
                  </a:lnTo>
                  <a:lnTo>
                    <a:pt x="2670" y="1327"/>
                  </a:lnTo>
                  <a:lnTo>
                    <a:pt x="2702" y="1327"/>
                  </a:lnTo>
                  <a:lnTo>
                    <a:pt x="2702" y="1344"/>
                  </a:lnTo>
                  <a:lnTo>
                    <a:pt x="2702" y="1360"/>
                  </a:lnTo>
                  <a:lnTo>
                    <a:pt x="2638" y="1344"/>
                  </a:lnTo>
                  <a:lnTo>
                    <a:pt x="2654" y="1344"/>
                  </a:lnTo>
                  <a:lnTo>
                    <a:pt x="2654" y="1344"/>
                  </a:lnTo>
                  <a:lnTo>
                    <a:pt x="2670" y="1344"/>
                  </a:lnTo>
                  <a:lnTo>
                    <a:pt x="2654" y="1360"/>
                  </a:lnTo>
                  <a:lnTo>
                    <a:pt x="2670" y="1360"/>
                  </a:lnTo>
                  <a:lnTo>
                    <a:pt x="2670" y="1360"/>
                  </a:lnTo>
                  <a:lnTo>
                    <a:pt x="2670" y="1376"/>
                  </a:lnTo>
                  <a:lnTo>
                    <a:pt x="2654" y="1376"/>
                  </a:lnTo>
                  <a:lnTo>
                    <a:pt x="2638" y="1360"/>
                  </a:lnTo>
                  <a:lnTo>
                    <a:pt x="2654" y="1376"/>
                  </a:lnTo>
                  <a:lnTo>
                    <a:pt x="2638" y="1360"/>
                  </a:lnTo>
                  <a:lnTo>
                    <a:pt x="2638" y="1360"/>
                  </a:lnTo>
                  <a:lnTo>
                    <a:pt x="2638" y="1360"/>
                  </a:lnTo>
                  <a:lnTo>
                    <a:pt x="2638" y="1344"/>
                  </a:lnTo>
                  <a:lnTo>
                    <a:pt x="2622" y="1344"/>
                  </a:lnTo>
                  <a:lnTo>
                    <a:pt x="2605" y="1344"/>
                  </a:lnTo>
                  <a:lnTo>
                    <a:pt x="2605" y="13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5120" y="2701800"/>
              <a:ext cx="857160" cy="1465200"/>
            </a:xfrm>
            <a:custGeom>
              <a:avLst/>
              <a:gdLst/>
              <a:ahLst/>
              <a:rect l="l" t="t" r="r" b="b"/>
              <a:pathLst>
                <a:path w="1392" h="2379">
                  <a:moveTo>
                    <a:pt x="292" y="938"/>
                  </a:moveTo>
                  <a:lnTo>
                    <a:pt x="276" y="955"/>
                  </a:lnTo>
                  <a:lnTo>
                    <a:pt x="259" y="938"/>
                  </a:lnTo>
                  <a:lnTo>
                    <a:pt x="243" y="922"/>
                  </a:lnTo>
                  <a:lnTo>
                    <a:pt x="195" y="922"/>
                  </a:lnTo>
                  <a:lnTo>
                    <a:pt x="195" y="906"/>
                  </a:lnTo>
                  <a:lnTo>
                    <a:pt x="195" y="890"/>
                  </a:lnTo>
                  <a:lnTo>
                    <a:pt x="195" y="890"/>
                  </a:lnTo>
                  <a:lnTo>
                    <a:pt x="195" y="906"/>
                  </a:lnTo>
                  <a:lnTo>
                    <a:pt x="195" y="922"/>
                  </a:lnTo>
                  <a:lnTo>
                    <a:pt x="178" y="906"/>
                  </a:lnTo>
                  <a:lnTo>
                    <a:pt x="178" y="906"/>
                  </a:lnTo>
                  <a:lnTo>
                    <a:pt x="162" y="906"/>
                  </a:lnTo>
                  <a:lnTo>
                    <a:pt x="162" y="890"/>
                  </a:lnTo>
                  <a:lnTo>
                    <a:pt x="162" y="906"/>
                  </a:lnTo>
                  <a:lnTo>
                    <a:pt x="146" y="922"/>
                  </a:lnTo>
                  <a:lnTo>
                    <a:pt x="162" y="938"/>
                  </a:lnTo>
                  <a:lnTo>
                    <a:pt x="146" y="938"/>
                  </a:lnTo>
                  <a:lnTo>
                    <a:pt x="146" y="971"/>
                  </a:lnTo>
                  <a:lnTo>
                    <a:pt x="146" y="971"/>
                  </a:lnTo>
                  <a:lnTo>
                    <a:pt x="114" y="938"/>
                  </a:lnTo>
                  <a:lnTo>
                    <a:pt x="114" y="938"/>
                  </a:lnTo>
                  <a:lnTo>
                    <a:pt x="98" y="906"/>
                  </a:lnTo>
                  <a:lnTo>
                    <a:pt x="81" y="906"/>
                  </a:lnTo>
                  <a:lnTo>
                    <a:pt x="81" y="906"/>
                  </a:lnTo>
                  <a:lnTo>
                    <a:pt x="65" y="906"/>
                  </a:lnTo>
                  <a:lnTo>
                    <a:pt x="98" y="874"/>
                  </a:lnTo>
                  <a:lnTo>
                    <a:pt x="98" y="841"/>
                  </a:lnTo>
                  <a:lnTo>
                    <a:pt x="81" y="841"/>
                  </a:lnTo>
                  <a:lnTo>
                    <a:pt x="81" y="809"/>
                  </a:lnTo>
                  <a:lnTo>
                    <a:pt x="49" y="777"/>
                  </a:lnTo>
                  <a:lnTo>
                    <a:pt x="33" y="728"/>
                  </a:lnTo>
                  <a:lnTo>
                    <a:pt x="17" y="679"/>
                  </a:lnTo>
                  <a:lnTo>
                    <a:pt x="17" y="647"/>
                  </a:lnTo>
                  <a:lnTo>
                    <a:pt x="17" y="582"/>
                  </a:lnTo>
                  <a:lnTo>
                    <a:pt x="49" y="550"/>
                  </a:lnTo>
                  <a:lnTo>
                    <a:pt x="49" y="518"/>
                  </a:lnTo>
                  <a:lnTo>
                    <a:pt x="49" y="485"/>
                  </a:lnTo>
                  <a:lnTo>
                    <a:pt x="33" y="437"/>
                  </a:lnTo>
                  <a:lnTo>
                    <a:pt x="33" y="404"/>
                  </a:lnTo>
                  <a:lnTo>
                    <a:pt x="0" y="372"/>
                  </a:lnTo>
                  <a:lnTo>
                    <a:pt x="0" y="356"/>
                  </a:lnTo>
                  <a:lnTo>
                    <a:pt x="0" y="323"/>
                  </a:lnTo>
                  <a:lnTo>
                    <a:pt x="81" y="226"/>
                  </a:lnTo>
                  <a:lnTo>
                    <a:pt x="81" y="194"/>
                  </a:lnTo>
                  <a:lnTo>
                    <a:pt x="114" y="162"/>
                  </a:lnTo>
                  <a:lnTo>
                    <a:pt x="114" y="129"/>
                  </a:lnTo>
                  <a:lnTo>
                    <a:pt x="130" y="64"/>
                  </a:lnTo>
                  <a:lnTo>
                    <a:pt x="114" y="48"/>
                  </a:lnTo>
                  <a:lnTo>
                    <a:pt x="114" y="32"/>
                  </a:lnTo>
                  <a:lnTo>
                    <a:pt x="130" y="0"/>
                  </a:lnTo>
                  <a:lnTo>
                    <a:pt x="195" y="32"/>
                  </a:lnTo>
                  <a:lnTo>
                    <a:pt x="243" y="32"/>
                  </a:lnTo>
                  <a:lnTo>
                    <a:pt x="276" y="48"/>
                  </a:lnTo>
                  <a:lnTo>
                    <a:pt x="421" y="97"/>
                  </a:lnTo>
                  <a:lnTo>
                    <a:pt x="551" y="129"/>
                  </a:lnTo>
                  <a:lnTo>
                    <a:pt x="648" y="162"/>
                  </a:lnTo>
                  <a:lnTo>
                    <a:pt x="777" y="194"/>
                  </a:lnTo>
                  <a:lnTo>
                    <a:pt x="745" y="372"/>
                  </a:lnTo>
                  <a:lnTo>
                    <a:pt x="664" y="679"/>
                  </a:lnTo>
                  <a:lnTo>
                    <a:pt x="648" y="728"/>
                  </a:lnTo>
                  <a:lnTo>
                    <a:pt x="632" y="760"/>
                  </a:lnTo>
                  <a:lnTo>
                    <a:pt x="632" y="793"/>
                  </a:lnTo>
                  <a:lnTo>
                    <a:pt x="632" y="809"/>
                  </a:lnTo>
                  <a:lnTo>
                    <a:pt x="615" y="809"/>
                  </a:lnTo>
                  <a:lnTo>
                    <a:pt x="615" y="825"/>
                  </a:lnTo>
                  <a:lnTo>
                    <a:pt x="632" y="858"/>
                  </a:lnTo>
                  <a:lnTo>
                    <a:pt x="664" y="906"/>
                  </a:lnTo>
                  <a:lnTo>
                    <a:pt x="713" y="955"/>
                  </a:lnTo>
                  <a:lnTo>
                    <a:pt x="729" y="987"/>
                  </a:lnTo>
                  <a:lnTo>
                    <a:pt x="826" y="1133"/>
                  </a:lnTo>
                  <a:lnTo>
                    <a:pt x="891" y="1246"/>
                  </a:lnTo>
                  <a:lnTo>
                    <a:pt x="988" y="1375"/>
                  </a:lnTo>
                  <a:lnTo>
                    <a:pt x="1149" y="1634"/>
                  </a:lnTo>
                  <a:lnTo>
                    <a:pt x="1198" y="1683"/>
                  </a:lnTo>
                  <a:lnTo>
                    <a:pt x="1328" y="1893"/>
                  </a:lnTo>
                  <a:lnTo>
                    <a:pt x="1328" y="1926"/>
                  </a:lnTo>
                  <a:lnTo>
                    <a:pt x="1344" y="1958"/>
                  </a:lnTo>
                  <a:lnTo>
                    <a:pt x="1344" y="1990"/>
                  </a:lnTo>
                  <a:lnTo>
                    <a:pt x="1360" y="2007"/>
                  </a:lnTo>
                  <a:lnTo>
                    <a:pt x="1344" y="2023"/>
                  </a:lnTo>
                  <a:lnTo>
                    <a:pt x="1376" y="2055"/>
                  </a:lnTo>
                  <a:lnTo>
                    <a:pt x="1392" y="2071"/>
                  </a:lnTo>
                  <a:lnTo>
                    <a:pt x="1328" y="2104"/>
                  </a:lnTo>
                  <a:lnTo>
                    <a:pt x="1328" y="2104"/>
                  </a:lnTo>
                  <a:lnTo>
                    <a:pt x="1295" y="2120"/>
                  </a:lnTo>
                  <a:lnTo>
                    <a:pt x="1311" y="2120"/>
                  </a:lnTo>
                  <a:lnTo>
                    <a:pt x="1295" y="2152"/>
                  </a:lnTo>
                  <a:lnTo>
                    <a:pt x="1295" y="2168"/>
                  </a:lnTo>
                  <a:lnTo>
                    <a:pt x="1295" y="2185"/>
                  </a:lnTo>
                  <a:lnTo>
                    <a:pt x="1279" y="2201"/>
                  </a:lnTo>
                  <a:lnTo>
                    <a:pt x="1263" y="2233"/>
                  </a:lnTo>
                  <a:lnTo>
                    <a:pt x="1247" y="2233"/>
                  </a:lnTo>
                  <a:lnTo>
                    <a:pt x="1247" y="2249"/>
                  </a:lnTo>
                  <a:lnTo>
                    <a:pt x="1230" y="2249"/>
                  </a:lnTo>
                  <a:lnTo>
                    <a:pt x="1247" y="2266"/>
                  </a:lnTo>
                  <a:lnTo>
                    <a:pt x="1230" y="2298"/>
                  </a:lnTo>
                  <a:lnTo>
                    <a:pt x="1247" y="2314"/>
                  </a:lnTo>
                  <a:lnTo>
                    <a:pt x="1263" y="2314"/>
                  </a:lnTo>
                  <a:lnTo>
                    <a:pt x="1279" y="2330"/>
                  </a:lnTo>
                  <a:lnTo>
                    <a:pt x="1263" y="2363"/>
                  </a:lnTo>
                  <a:lnTo>
                    <a:pt x="1247" y="2379"/>
                  </a:lnTo>
                  <a:lnTo>
                    <a:pt x="1214" y="2379"/>
                  </a:lnTo>
                  <a:lnTo>
                    <a:pt x="955" y="2346"/>
                  </a:lnTo>
                  <a:lnTo>
                    <a:pt x="777" y="2330"/>
                  </a:lnTo>
                  <a:lnTo>
                    <a:pt x="777" y="2282"/>
                  </a:lnTo>
                  <a:lnTo>
                    <a:pt x="777" y="2314"/>
                  </a:lnTo>
                  <a:lnTo>
                    <a:pt x="777" y="2298"/>
                  </a:lnTo>
                  <a:lnTo>
                    <a:pt x="777" y="2282"/>
                  </a:lnTo>
                  <a:lnTo>
                    <a:pt x="761" y="2298"/>
                  </a:lnTo>
                  <a:lnTo>
                    <a:pt x="761" y="2249"/>
                  </a:lnTo>
                  <a:lnTo>
                    <a:pt x="777" y="2249"/>
                  </a:lnTo>
                  <a:lnTo>
                    <a:pt x="761" y="2201"/>
                  </a:lnTo>
                  <a:lnTo>
                    <a:pt x="761" y="2168"/>
                  </a:lnTo>
                  <a:lnTo>
                    <a:pt x="729" y="2120"/>
                  </a:lnTo>
                  <a:lnTo>
                    <a:pt x="664" y="2023"/>
                  </a:lnTo>
                  <a:lnTo>
                    <a:pt x="632" y="2023"/>
                  </a:lnTo>
                  <a:lnTo>
                    <a:pt x="632" y="2023"/>
                  </a:lnTo>
                  <a:lnTo>
                    <a:pt x="615" y="2023"/>
                  </a:lnTo>
                  <a:lnTo>
                    <a:pt x="599" y="2007"/>
                  </a:lnTo>
                  <a:lnTo>
                    <a:pt x="615" y="2007"/>
                  </a:lnTo>
                  <a:lnTo>
                    <a:pt x="615" y="1990"/>
                  </a:lnTo>
                  <a:lnTo>
                    <a:pt x="599" y="1942"/>
                  </a:lnTo>
                  <a:lnTo>
                    <a:pt x="551" y="1942"/>
                  </a:lnTo>
                  <a:lnTo>
                    <a:pt x="535" y="1926"/>
                  </a:lnTo>
                  <a:lnTo>
                    <a:pt x="486" y="1893"/>
                  </a:lnTo>
                  <a:lnTo>
                    <a:pt x="486" y="1877"/>
                  </a:lnTo>
                  <a:lnTo>
                    <a:pt x="454" y="1829"/>
                  </a:lnTo>
                  <a:lnTo>
                    <a:pt x="437" y="1829"/>
                  </a:lnTo>
                  <a:lnTo>
                    <a:pt x="389" y="1812"/>
                  </a:lnTo>
                  <a:lnTo>
                    <a:pt x="373" y="1796"/>
                  </a:lnTo>
                  <a:lnTo>
                    <a:pt x="340" y="1780"/>
                  </a:lnTo>
                  <a:lnTo>
                    <a:pt x="292" y="1780"/>
                  </a:lnTo>
                  <a:lnTo>
                    <a:pt x="292" y="1764"/>
                  </a:lnTo>
                  <a:lnTo>
                    <a:pt x="259" y="1748"/>
                  </a:lnTo>
                  <a:lnTo>
                    <a:pt x="276" y="1715"/>
                  </a:lnTo>
                  <a:lnTo>
                    <a:pt x="276" y="1699"/>
                  </a:lnTo>
                  <a:lnTo>
                    <a:pt x="292" y="1683"/>
                  </a:lnTo>
                  <a:lnTo>
                    <a:pt x="276" y="1667"/>
                  </a:lnTo>
                  <a:lnTo>
                    <a:pt x="292" y="1651"/>
                  </a:lnTo>
                  <a:lnTo>
                    <a:pt x="292" y="1634"/>
                  </a:lnTo>
                  <a:lnTo>
                    <a:pt x="292" y="1618"/>
                  </a:lnTo>
                  <a:lnTo>
                    <a:pt x="259" y="1602"/>
                  </a:lnTo>
                  <a:lnTo>
                    <a:pt x="259" y="1586"/>
                  </a:lnTo>
                  <a:lnTo>
                    <a:pt x="276" y="1570"/>
                  </a:lnTo>
                  <a:lnTo>
                    <a:pt x="276" y="1553"/>
                  </a:lnTo>
                  <a:lnTo>
                    <a:pt x="259" y="1537"/>
                  </a:lnTo>
                  <a:lnTo>
                    <a:pt x="243" y="1489"/>
                  </a:lnTo>
                  <a:lnTo>
                    <a:pt x="227" y="1489"/>
                  </a:lnTo>
                  <a:lnTo>
                    <a:pt x="211" y="1456"/>
                  </a:lnTo>
                  <a:lnTo>
                    <a:pt x="195" y="1424"/>
                  </a:lnTo>
                  <a:lnTo>
                    <a:pt x="178" y="1359"/>
                  </a:lnTo>
                  <a:lnTo>
                    <a:pt x="146" y="1311"/>
                  </a:lnTo>
                  <a:lnTo>
                    <a:pt x="162" y="1262"/>
                  </a:lnTo>
                  <a:lnTo>
                    <a:pt x="162" y="1246"/>
                  </a:lnTo>
                  <a:lnTo>
                    <a:pt x="178" y="1246"/>
                  </a:lnTo>
                  <a:lnTo>
                    <a:pt x="178" y="1246"/>
                  </a:lnTo>
                  <a:lnTo>
                    <a:pt x="211" y="1214"/>
                  </a:lnTo>
                  <a:lnTo>
                    <a:pt x="195" y="1214"/>
                  </a:lnTo>
                  <a:lnTo>
                    <a:pt x="195" y="1181"/>
                  </a:lnTo>
                  <a:lnTo>
                    <a:pt x="162" y="1165"/>
                  </a:lnTo>
                  <a:lnTo>
                    <a:pt x="146" y="1149"/>
                  </a:lnTo>
                  <a:lnTo>
                    <a:pt x="130" y="1133"/>
                  </a:lnTo>
                  <a:lnTo>
                    <a:pt x="114" y="1100"/>
                  </a:lnTo>
                  <a:lnTo>
                    <a:pt x="130" y="1068"/>
                  </a:lnTo>
                  <a:lnTo>
                    <a:pt x="130" y="1036"/>
                  </a:lnTo>
                  <a:lnTo>
                    <a:pt x="130" y="1036"/>
                  </a:lnTo>
                  <a:lnTo>
                    <a:pt x="130" y="987"/>
                  </a:lnTo>
                  <a:lnTo>
                    <a:pt x="146" y="971"/>
                  </a:lnTo>
                  <a:lnTo>
                    <a:pt x="162" y="971"/>
                  </a:lnTo>
                  <a:lnTo>
                    <a:pt x="162" y="987"/>
                  </a:lnTo>
                  <a:lnTo>
                    <a:pt x="162" y="1003"/>
                  </a:lnTo>
                  <a:lnTo>
                    <a:pt x="146" y="1019"/>
                  </a:lnTo>
                  <a:lnTo>
                    <a:pt x="195" y="1068"/>
                  </a:lnTo>
                  <a:lnTo>
                    <a:pt x="211" y="1068"/>
                  </a:lnTo>
                  <a:lnTo>
                    <a:pt x="195" y="1052"/>
                  </a:lnTo>
                  <a:lnTo>
                    <a:pt x="178" y="1003"/>
                  </a:lnTo>
                  <a:lnTo>
                    <a:pt x="162" y="987"/>
                  </a:lnTo>
                  <a:lnTo>
                    <a:pt x="178" y="955"/>
                  </a:lnTo>
                  <a:lnTo>
                    <a:pt x="162" y="955"/>
                  </a:lnTo>
                  <a:lnTo>
                    <a:pt x="178" y="938"/>
                  </a:lnTo>
                  <a:lnTo>
                    <a:pt x="195" y="938"/>
                  </a:lnTo>
                  <a:lnTo>
                    <a:pt x="243" y="938"/>
                  </a:lnTo>
                  <a:lnTo>
                    <a:pt x="292" y="955"/>
                  </a:lnTo>
                  <a:lnTo>
                    <a:pt x="292" y="955"/>
                  </a:lnTo>
                  <a:lnTo>
                    <a:pt x="308" y="955"/>
                  </a:lnTo>
                  <a:lnTo>
                    <a:pt x="308" y="955"/>
                  </a:lnTo>
                  <a:lnTo>
                    <a:pt x="308" y="955"/>
                  </a:lnTo>
                  <a:lnTo>
                    <a:pt x="308" y="955"/>
                  </a:lnTo>
                  <a:lnTo>
                    <a:pt x="308" y="938"/>
                  </a:lnTo>
                  <a:lnTo>
                    <a:pt x="292" y="955"/>
                  </a:lnTo>
                  <a:lnTo>
                    <a:pt x="292" y="938"/>
                  </a:lnTo>
                  <a:lnTo>
                    <a:pt x="292" y="938"/>
                  </a:lnTo>
                  <a:close/>
                  <a:moveTo>
                    <a:pt x="308" y="1893"/>
                  </a:moveTo>
                  <a:lnTo>
                    <a:pt x="308" y="1877"/>
                  </a:lnTo>
                  <a:lnTo>
                    <a:pt x="340" y="1877"/>
                  </a:lnTo>
                  <a:lnTo>
                    <a:pt x="340" y="1909"/>
                  </a:lnTo>
                  <a:lnTo>
                    <a:pt x="324" y="1909"/>
                  </a:lnTo>
                  <a:lnTo>
                    <a:pt x="308" y="1893"/>
                  </a:lnTo>
                  <a:lnTo>
                    <a:pt x="308" y="1893"/>
                  </a:lnTo>
                  <a:close/>
                  <a:moveTo>
                    <a:pt x="373" y="1877"/>
                  </a:moveTo>
                  <a:lnTo>
                    <a:pt x="405" y="1909"/>
                  </a:lnTo>
                  <a:lnTo>
                    <a:pt x="421" y="1893"/>
                  </a:lnTo>
                  <a:lnTo>
                    <a:pt x="437" y="1909"/>
                  </a:lnTo>
                  <a:lnTo>
                    <a:pt x="421" y="1909"/>
                  </a:lnTo>
                  <a:lnTo>
                    <a:pt x="389" y="1909"/>
                  </a:lnTo>
                  <a:lnTo>
                    <a:pt x="373" y="1909"/>
                  </a:lnTo>
                  <a:lnTo>
                    <a:pt x="356" y="1893"/>
                  </a:lnTo>
                  <a:lnTo>
                    <a:pt x="373" y="1893"/>
                  </a:lnTo>
                  <a:lnTo>
                    <a:pt x="356" y="1877"/>
                  </a:lnTo>
                  <a:lnTo>
                    <a:pt x="373" y="1877"/>
                  </a:lnTo>
                  <a:lnTo>
                    <a:pt x="373" y="1877"/>
                  </a:lnTo>
                  <a:close/>
                  <a:moveTo>
                    <a:pt x="567" y="2071"/>
                  </a:moveTo>
                  <a:lnTo>
                    <a:pt x="599" y="2087"/>
                  </a:lnTo>
                  <a:lnTo>
                    <a:pt x="615" y="2104"/>
                  </a:lnTo>
                  <a:lnTo>
                    <a:pt x="599" y="2120"/>
                  </a:lnTo>
                  <a:lnTo>
                    <a:pt x="583" y="2104"/>
                  </a:lnTo>
                  <a:lnTo>
                    <a:pt x="583" y="2087"/>
                  </a:lnTo>
                  <a:lnTo>
                    <a:pt x="567" y="2071"/>
                  </a:lnTo>
                  <a:lnTo>
                    <a:pt x="567" y="2071"/>
                  </a:lnTo>
                  <a:lnTo>
                    <a:pt x="567" y="2071"/>
                  </a:lnTo>
                  <a:close/>
                  <a:moveTo>
                    <a:pt x="567" y="2217"/>
                  </a:moveTo>
                  <a:lnTo>
                    <a:pt x="567" y="2217"/>
                  </a:lnTo>
                  <a:lnTo>
                    <a:pt x="535" y="2168"/>
                  </a:lnTo>
                  <a:lnTo>
                    <a:pt x="551" y="2152"/>
                  </a:lnTo>
                  <a:lnTo>
                    <a:pt x="567" y="2217"/>
                  </a:lnTo>
                  <a:lnTo>
                    <a:pt x="567" y="22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27920" y="3916080"/>
              <a:ext cx="538200" cy="409680"/>
            </a:xfrm>
            <a:custGeom>
              <a:avLst/>
              <a:gdLst/>
              <a:ahLst/>
              <a:rect l="l" t="t" r="r" b="b"/>
              <a:pathLst>
                <a:path w="874" h="664">
                  <a:moveTo>
                    <a:pt x="324" y="437"/>
                  </a:moveTo>
                  <a:lnTo>
                    <a:pt x="308" y="437"/>
                  </a:lnTo>
                  <a:lnTo>
                    <a:pt x="308" y="421"/>
                  </a:lnTo>
                  <a:lnTo>
                    <a:pt x="308" y="421"/>
                  </a:lnTo>
                  <a:lnTo>
                    <a:pt x="308" y="421"/>
                  </a:lnTo>
                  <a:lnTo>
                    <a:pt x="308" y="421"/>
                  </a:lnTo>
                  <a:lnTo>
                    <a:pt x="292" y="405"/>
                  </a:lnTo>
                  <a:lnTo>
                    <a:pt x="292" y="389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59" y="372"/>
                  </a:lnTo>
                  <a:lnTo>
                    <a:pt x="243" y="356"/>
                  </a:lnTo>
                  <a:lnTo>
                    <a:pt x="227" y="340"/>
                  </a:lnTo>
                  <a:lnTo>
                    <a:pt x="211" y="324"/>
                  </a:lnTo>
                  <a:lnTo>
                    <a:pt x="162" y="292"/>
                  </a:lnTo>
                  <a:lnTo>
                    <a:pt x="146" y="292"/>
                  </a:lnTo>
                  <a:lnTo>
                    <a:pt x="114" y="243"/>
                  </a:lnTo>
                  <a:lnTo>
                    <a:pt x="114" y="227"/>
                  </a:lnTo>
                  <a:lnTo>
                    <a:pt x="98" y="194"/>
                  </a:lnTo>
                  <a:lnTo>
                    <a:pt x="65" y="194"/>
                  </a:lnTo>
                  <a:lnTo>
                    <a:pt x="49" y="194"/>
                  </a:lnTo>
                  <a:lnTo>
                    <a:pt x="49" y="194"/>
                  </a:lnTo>
                  <a:lnTo>
                    <a:pt x="33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17" y="113"/>
                  </a:lnTo>
                  <a:lnTo>
                    <a:pt x="33" y="97"/>
                  </a:lnTo>
                  <a:lnTo>
                    <a:pt x="33" y="81"/>
                  </a:lnTo>
                  <a:lnTo>
                    <a:pt x="49" y="81"/>
                  </a:lnTo>
                  <a:lnTo>
                    <a:pt x="65" y="65"/>
                  </a:lnTo>
                  <a:lnTo>
                    <a:pt x="81" y="65"/>
                  </a:lnTo>
                  <a:lnTo>
                    <a:pt x="130" y="33"/>
                  </a:lnTo>
                  <a:lnTo>
                    <a:pt x="146" y="33"/>
                  </a:lnTo>
                  <a:lnTo>
                    <a:pt x="146" y="16"/>
                  </a:lnTo>
                  <a:lnTo>
                    <a:pt x="162" y="33"/>
                  </a:lnTo>
                  <a:lnTo>
                    <a:pt x="178" y="16"/>
                  </a:lnTo>
                  <a:lnTo>
                    <a:pt x="227" y="16"/>
                  </a:lnTo>
                  <a:lnTo>
                    <a:pt x="243" y="16"/>
                  </a:lnTo>
                  <a:lnTo>
                    <a:pt x="259" y="16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89" y="0"/>
                  </a:lnTo>
                  <a:lnTo>
                    <a:pt x="389" y="16"/>
                  </a:lnTo>
                  <a:lnTo>
                    <a:pt x="389" y="16"/>
                  </a:lnTo>
                  <a:lnTo>
                    <a:pt x="389" y="16"/>
                  </a:lnTo>
                  <a:lnTo>
                    <a:pt x="405" y="0"/>
                  </a:lnTo>
                  <a:lnTo>
                    <a:pt x="421" y="16"/>
                  </a:lnTo>
                  <a:lnTo>
                    <a:pt x="437" y="33"/>
                  </a:lnTo>
                  <a:lnTo>
                    <a:pt x="437" y="33"/>
                  </a:lnTo>
                  <a:lnTo>
                    <a:pt x="437" y="65"/>
                  </a:lnTo>
                  <a:lnTo>
                    <a:pt x="486" y="65"/>
                  </a:lnTo>
                  <a:lnTo>
                    <a:pt x="534" y="49"/>
                  </a:lnTo>
                  <a:lnTo>
                    <a:pt x="599" y="49"/>
                  </a:lnTo>
                  <a:lnTo>
                    <a:pt x="648" y="33"/>
                  </a:lnTo>
                  <a:lnTo>
                    <a:pt x="680" y="65"/>
                  </a:lnTo>
                  <a:lnTo>
                    <a:pt x="696" y="65"/>
                  </a:lnTo>
                  <a:lnTo>
                    <a:pt x="761" y="130"/>
                  </a:lnTo>
                  <a:lnTo>
                    <a:pt x="858" y="194"/>
                  </a:lnTo>
                  <a:lnTo>
                    <a:pt x="874" y="194"/>
                  </a:lnTo>
                  <a:lnTo>
                    <a:pt x="858" y="211"/>
                  </a:lnTo>
                  <a:lnTo>
                    <a:pt x="874" y="211"/>
                  </a:lnTo>
                  <a:lnTo>
                    <a:pt x="826" y="243"/>
                  </a:lnTo>
                  <a:lnTo>
                    <a:pt x="810" y="275"/>
                  </a:lnTo>
                  <a:lnTo>
                    <a:pt x="793" y="308"/>
                  </a:lnTo>
                  <a:lnTo>
                    <a:pt x="793" y="340"/>
                  </a:lnTo>
                  <a:lnTo>
                    <a:pt x="793" y="340"/>
                  </a:lnTo>
                  <a:lnTo>
                    <a:pt x="777" y="340"/>
                  </a:lnTo>
                  <a:lnTo>
                    <a:pt x="793" y="372"/>
                  </a:lnTo>
                  <a:lnTo>
                    <a:pt x="777" y="372"/>
                  </a:lnTo>
                  <a:lnTo>
                    <a:pt x="761" y="372"/>
                  </a:lnTo>
                  <a:lnTo>
                    <a:pt x="777" y="389"/>
                  </a:lnTo>
                  <a:lnTo>
                    <a:pt x="777" y="389"/>
                  </a:lnTo>
                  <a:lnTo>
                    <a:pt x="761" y="405"/>
                  </a:lnTo>
                  <a:lnTo>
                    <a:pt x="729" y="421"/>
                  </a:lnTo>
                  <a:lnTo>
                    <a:pt x="713" y="421"/>
                  </a:lnTo>
                  <a:lnTo>
                    <a:pt x="729" y="437"/>
                  </a:lnTo>
                  <a:lnTo>
                    <a:pt x="729" y="437"/>
                  </a:lnTo>
                  <a:lnTo>
                    <a:pt x="696" y="470"/>
                  </a:lnTo>
                  <a:lnTo>
                    <a:pt x="680" y="470"/>
                  </a:lnTo>
                  <a:lnTo>
                    <a:pt x="696" y="437"/>
                  </a:lnTo>
                  <a:lnTo>
                    <a:pt x="680" y="453"/>
                  </a:lnTo>
                  <a:lnTo>
                    <a:pt x="664" y="453"/>
                  </a:lnTo>
                  <a:lnTo>
                    <a:pt x="664" y="453"/>
                  </a:lnTo>
                  <a:lnTo>
                    <a:pt x="664" y="470"/>
                  </a:lnTo>
                  <a:lnTo>
                    <a:pt x="680" y="486"/>
                  </a:lnTo>
                  <a:lnTo>
                    <a:pt x="680" y="502"/>
                  </a:lnTo>
                  <a:lnTo>
                    <a:pt x="664" y="518"/>
                  </a:lnTo>
                  <a:lnTo>
                    <a:pt x="632" y="534"/>
                  </a:lnTo>
                  <a:lnTo>
                    <a:pt x="615" y="550"/>
                  </a:lnTo>
                  <a:lnTo>
                    <a:pt x="599" y="550"/>
                  </a:lnTo>
                  <a:lnTo>
                    <a:pt x="599" y="518"/>
                  </a:lnTo>
                  <a:lnTo>
                    <a:pt x="583" y="518"/>
                  </a:lnTo>
                  <a:lnTo>
                    <a:pt x="599" y="550"/>
                  </a:lnTo>
                  <a:lnTo>
                    <a:pt x="583" y="550"/>
                  </a:lnTo>
                  <a:lnTo>
                    <a:pt x="567" y="550"/>
                  </a:lnTo>
                  <a:lnTo>
                    <a:pt x="567" y="550"/>
                  </a:lnTo>
                  <a:lnTo>
                    <a:pt x="551" y="550"/>
                  </a:lnTo>
                  <a:lnTo>
                    <a:pt x="551" y="567"/>
                  </a:lnTo>
                  <a:lnTo>
                    <a:pt x="583" y="567"/>
                  </a:lnTo>
                  <a:lnTo>
                    <a:pt x="599" y="583"/>
                  </a:lnTo>
                  <a:lnTo>
                    <a:pt x="599" y="599"/>
                  </a:lnTo>
                  <a:lnTo>
                    <a:pt x="567" y="615"/>
                  </a:lnTo>
                  <a:lnTo>
                    <a:pt x="551" y="615"/>
                  </a:lnTo>
                  <a:lnTo>
                    <a:pt x="534" y="599"/>
                  </a:lnTo>
                  <a:lnTo>
                    <a:pt x="518" y="567"/>
                  </a:lnTo>
                  <a:lnTo>
                    <a:pt x="534" y="567"/>
                  </a:lnTo>
                  <a:lnTo>
                    <a:pt x="518" y="567"/>
                  </a:lnTo>
                  <a:lnTo>
                    <a:pt x="518" y="567"/>
                  </a:lnTo>
                  <a:lnTo>
                    <a:pt x="518" y="583"/>
                  </a:lnTo>
                  <a:lnTo>
                    <a:pt x="534" y="615"/>
                  </a:lnTo>
                  <a:lnTo>
                    <a:pt x="518" y="664"/>
                  </a:lnTo>
                  <a:lnTo>
                    <a:pt x="486" y="664"/>
                  </a:lnTo>
                  <a:lnTo>
                    <a:pt x="470" y="631"/>
                  </a:lnTo>
                  <a:lnTo>
                    <a:pt x="470" y="615"/>
                  </a:lnTo>
                  <a:lnTo>
                    <a:pt x="437" y="567"/>
                  </a:lnTo>
                  <a:lnTo>
                    <a:pt x="421" y="567"/>
                  </a:lnTo>
                  <a:lnTo>
                    <a:pt x="405" y="550"/>
                  </a:lnTo>
                  <a:lnTo>
                    <a:pt x="405" y="534"/>
                  </a:lnTo>
                  <a:lnTo>
                    <a:pt x="405" y="518"/>
                  </a:lnTo>
                  <a:lnTo>
                    <a:pt x="389" y="502"/>
                  </a:lnTo>
                  <a:lnTo>
                    <a:pt x="389" y="502"/>
                  </a:lnTo>
                  <a:lnTo>
                    <a:pt x="389" y="486"/>
                  </a:lnTo>
                  <a:lnTo>
                    <a:pt x="389" y="470"/>
                  </a:lnTo>
                  <a:lnTo>
                    <a:pt x="373" y="470"/>
                  </a:lnTo>
                  <a:lnTo>
                    <a:pt x="356" y="470"/>
                  </a:lnTo>
                  <a:lnTo>
                    <a:pt x="340" y="453"/>
                  </a:lnTo>
                  <a:lnTo>
                    <a:pt x="324" y="437"/>
                  </a:lnTo>
                  <a:lnTo>
                    <a:pt x="324" y="437"/>
                  </a:lnTo>
                  <a:close/>
                  <a:moveTo>
                    <a:pt x="534" y="615"/>
                  </a:moveTo>
                  <a:lnTo>
                    <a:pt x="551" y="615"/>
                  </a:lnTo>
                  <a:lnTo>
                    <a:pt x="551" y="615"/>
                  </a:lnTo>
                  <a:lnTo>
                    <a:pt x="534" y="648"/>
                  </a:lnTo>
                  <a:lnTo>
                    <a:pt x="534" y="615"/>
                  </a:lnTo>
                  <a:lnTo>
                    <a:pt x="534" y="6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7840" y="2552400"/>
              <a:ext cx="745920" cy="497160"/>
            </a:xfrm>
            <a:custGeom>
              <a:avLst/>
              <a:gdLst/>
              <a:ahLst/>
              <a:rect l="l" t="t" r="r" b="b"/>
              <a:pathLst>
                <a:path w="1214" h="809">
                  <a:moveTo>
                    <a:pt x="308" y="680"/>
                  </a:moveTo>
                  <a:lnTo>
                    <a:pt x="195" y="664"/>
                  </a:lnTo>
                  <a:lnTo>
                    <a:pt x="162" y="664"/>
                  </a:lnTo>
                  <a:lnTo>
                    <a:pt x="81" y="647"/>
                  </a:lnTo>
                  <a:lnTo>
                    <a:pt x="0" y="647"/>
                  </a:lnTo>
                  <a:lnTo>
                    <a:pt x="17" y="534"/>
                  </a:lnTo>
                  <a:lnTo>
                    <a:pt x="17" y="534"/>
                  </a:lnTo>
                  <a:lnTo>
                    <a:pt x="17" y="453"/>
                  </a:lnTo>
                  <a:lnTo>
                    <a:pt x="17" y="405"/>
                  </a:lnTo>
                  <a:lnTo>
                    <a:pt x="17" y="388"/>
                  </a:lnTo>
                  <a:lnTo>
                    <a:pt x="33" y="307"/>
                  </a:lnTo>
                  <a:lnTo>
                    <a:pt x="33" y="210"/>
                  </a:lnTo>
                  <a:lnTo>
                    <a:pt x="49" y="162"/>
                  </a:lnTo>
                  <a:lnTo>
                    <a:pt x="49" y="16"/>
                  </a:lnTo>
                  <a:lnTo>
                    <a:pt x="49" y="0"/>
                  </a:lnTo>
                  <a:lnTo>
                    <a:pt x="211" y="16"/>
                  </a:lnTo>
                  <a:lnTo>
                    <a:pt x="227" y="16"/>
                  </a:lnTo>
                  <a:lnTo>
                    <a:pt x="373" y="32"/>
                  </a:lnTo>
                  <a:lnTo>
                    <a:pt x="599" y="49"/>
                  </a:lnTo>
                  <a:lnTo>
                    <a:pt x="696" y="49"/>
                  </a:lnTo>
                  <a:lnTo>
                    <a:pt x="712" y="49"/>
                  </a:lnTo>
                  <a:lnTo>
                    <a:pt x="826" y="49"/>
                  </a:lnTo>
                  <a:lnTo>
                    <a:pt x="858" y="49"/>
                  </a:lnTo>
                  <a:lnTo>
                    <a:pt x="971" y="65"/>
                  </a:lnTo>
                  <a:lnTo>
                    <a:pt x="971" y="65"/>
                  </a:lnTo>
                  <a:lnTo>
                    <a:pt x="1085" y="65"/>
                  </a:lnTo>
                  <a:lnTo>
                    <a:pt x="1198" y="65"/>
                  </a:lnTo>
                  <a:lnTo>
                    <a:pt x="1182" y="81"/>
                  </a:lnTo>
                  <a:lnTo>
                    <a:pt x="1182" y="97"/>
                  </a:lnTo>
                  <a:lnTo>
                    <a:pt x="1149" y="113"/>
                  </a:lnTo>
                  <a:lnTo>
                    <a:pt x="1149" y="129"/>
                  </a:lnTo>
                  <a:lnTo>
                    <a:pt x="1166" y="178"/>
                  </a:lnTo>
                  <a:lnTo>
                    <a:pt x="1198" y="178"/>
                  </a:lnTo>
                  <a:lnTo>
                    <a:pt x="1214" y="194"/>
                  </a:lnTo>
                  <a:lnTo>
                    <a:pt x="1214" y="210"/>
                  </a:lnTo>
                  <a:lnTo>
                    <a:pt x="1214" y="275"/>
                  </a:lnTo>
                  <a:lnTo>
                    <a:pt x="1214" y="307"/>
                  </a:lnTo>
                  <a:lnTo>
                    <a:pt x="1214" y="340"/>
                  </a:lnTo>
                  <a:lnTo>
                    <a:pt x="1214" y="372"/>
                  </a:lnTo>
                  <a:lnTo>
                    <a:pt x="1214" y="437"/>
                  </a:lnTo>
                  <a:lnTo>
                    <a:pt x="1214" y="518"/>
                  </a:lnTo>
                  <a:lnTo>
                    <a:pt x="1214" y="599"/>
                  </a:lnTo>
                  <a:lnTo>
                    <a:pt x="1182" y="599"/>
                  </a:lnTo>
                  <a:lnTo>
                    <a:pt x="1182" y="599"/>
                  </a:lnTo>
                  <a:lnTo>
                    <a:pt x="1198" y="615"/>
                  </a:lnTo>
                  <a:lnTo>
                    <a:pt x="1182" y="647"/>
                  </a:lnTo>
                  <a:lnTo>
                    <a:pt x="1198" y="647"/>
                  </a:lnTo>
                  <a:lnTo>
                    <a:pt x="1198" y="647"/>
                  </a:lnTo>
                  <a:lnTo>
                    <a:pt x="1214" y="680"/>
                  </a:lnTo>
                  <a:lnTo>
                    <a:pt x="1198" y="696"/>
                  </a:lnTo>
                  <a:lnTo>
                    <a:pt x="1198" y="696"/>
                  </a:lnTo>
                  <a:lnTo>
                    <a:pt x="1198" y="712"/>
                  </a:lnTo>
                  <a:lnTo>
                    <a:pt x="1198" y="728"/>
                  </a:lnTo>
                  <a:lnTo>
                    <a:pt x="1182" y="761"/>
                  </a:lnTo>
                  <a:lnTo>
                    <a:pt x="1198" y="777"/>
                  </a:lnTo>
                  <a:lnTo>
                    <a:pt x="1198" y="793"/>
                  </a:lnTo>
                  <a:lnTo>
                    <a:pt x="1214" y="809"/>
                  </a:lnTo>
                  <a:lnTo>
                    <a:pt x="1182" y="809"/>
                  </a:lnTo>
                  <a:lnTo>
                    <a:pt x="1166" y="793"/>
                  </a:lnTo>
                  <a:lnTo>
                    <a:pt x="1166" y="777"/>
                  </a:lnTo>
                  <a:lnTo>
                    <a:pt x="1149" y="777"/>
                  </a:lnTo>
                  <a:lnTo>
                    <a:pt x="1149" y="761"/>
                  </a:lnTo>
                  <a:lnTo>
                    <a:pt x="1117" y="761"/>
                  </a:lnTo>
                  <a:lnTo>
                    <a:pt x="1117" y="761"/>
                  </a:lnTo>
                  <a:lnTo>
                    <a:pt x="1117" y="761"/>
                  </a:lnTo>
                  <a:lnTo>
                    <a:pt x="1101" y="744"/>
                  </a:lnTo>
                  <a:lnTo>
                    <a:pt x="1085" y="728"/>
                  </a:lnTo>
                  <a:lnTo>
                    <a:pt x="1036" y="728"/>
                  </a:lnTo>
                  <a:lnTo>
                    <a:pt x="1020" y="728"/>
                  </a:lnTo>
                  <a:lnTo>
                    <a:pt x="1004" y="728"/>
                  </a:lnTo>
                  <a:lnTo>
                    <a:pt x="971" y="728"/>
                  </a:lnTo>
                  <a:lnTo>
                    <a:pt x="971" y="744"/>
                  </a:lnTo>
                  <a:lnTo>
                    <a:pt x="955" y="744"/>
                  </a:lnTo>
                  <a:lnTo>
                    <a:pt x="939" y="728"/>
                  </a:lnTo>
                  <a:lnTo>
                    <a:pt x="907" y="728"/>
                  </a:lnTo>
                  <a:lnTo>
                    <a:pt x="890" y="712"/>
                  </a:lnTo>
                  <a:lnTo>
                    <a:pt x="890" y="696"/>
                  </a:lnTo>
                  <a:lnTo>
                    <a:pt x="761" y="696"/>
                  </a:lnTo>
                  <a:lnTo>
                    <a:pt x="712" y="696"/>
                  </a:lnTo>
                  <a:lnTo>
                    <a:pt x="615" y="696"/>
                  </a:lnTo>
                  <a:lnTo>
                    <a:pt x="453" y="680"/>
                  </a:lnTo>
                  <a:lnTo>
                    <a:pt x="308" y="68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62560" y="3728880"/>
              <a:ext cx="905040" cy="318960"/>
            </a:xfrm>
            <a:custGeom>
              <a:avLst/>
              <a:gdLst/>
              <a:ahLst/>
              <a:rect l="l" t="t" r="r" b="b"/>
              <a:pathLst>
                <a:path w="1473" h="518">
                  <a:moveTo>
                    <a:pt x="1068" y="372"/>
                  </a:moveTo>
                  <a:lnTo>
                    <a:pt x="1068" y="420"/>
                  </a:lnTo>
                  <a:lnTo>
                    <a:pt x="1020" y="437"/>
                  </a:lnTo>
                  <a:lnTo>
                    <a:pt x="987" y="437"/>
                  </a:lnTo>
                  <a:lnTo>
                    <a:pt x="987" y="437"/>
                  </a:lnTo>
                  <a:lnTo>
                    <a:pt x="955" y="437"/>
                  </a:lnTo>
                  <a:lnTo>
                    <a:pt x="955" y="437"/>
                  </a:lnTo>
                  <a:lnTo>
                    <a:pt x="890" y="437"/>
                  </a:lnTo>
                  <a:lnTo>
                    <a:pt x="874" y="437"/>
                  </a:lnTo>
                  <a:lnTo>
                    <a:pt x="858" y="453"/>
                  </a:lnTo>
                  <a:lnTo>
                    <a:pt x="842" y="453"/>
                  </a:lnTo>
                  <a:lnTo>
                    <a:pt x="793" y="453"/>
                  </a:lnTo>
                  <a:lnTo>
                    <a:pt x="712" y="453"/>
                  </a:lnTo>
                  <a:lnTo>
                    <a:pt x="712" y="453"/>
                  </a:lnTo>
                  <a:lnTo>
                    <a:pt x="631" y="469"/>
                  </a:lnTo>
                  <a:lnTo>
                    <a:pt x="615" y="469"/>
                  </a:lnTo>
                  <a:lnTo>
                    <a:pt x="551" y="469"/>
                  </a:lnTo>
                  <a:lnTo>
                    <a:pt x="551" y="469"/>
                  </a:lnTo>
                  <a:lnTo>
                    <a:pt x="486" y="485"/>
                  </a:lnTo>
                  <a:lnTo>
                    <a:pt x="421" y="485"/>
                  </a:lnTo>
                  <a:lnTo>
                    <a:pt x="389" y="485"/>
                  </a:lnTo>
                  <a:lnTo>
                    <a:pt x="356" y="485"/>
                  </a:lnTo>
                  <a:lnTo>
                    <a:pt x="340" y="485"/>
                  </a:lnTo>
                  <a:lnTo>
                    <a:pt x="275" y="501"/>
                  </a:lnTo>
                  <a:lnTo>
                    <a:pt x="275" y="501"/>
                  </a:lnTo>
                  <a:lnTo>
                    <a:pt x="243" y="501"/>
                  </a:lnTo>
                  <a:lnTo>
                    <a:pt x="211" y="501"/>
                  </a:lnTo>
                  <a:lnTo>
                    <a:pt x="178" y="501"/>
                  </a:lnTo>
                  <a:lnTo>
                    <a:pt x="130" y="518"/>
                  </a:lnTo>
                  <a:lnTo>
                    <a:pt x="114" y="518"/>
                  </a:lnTo>
                  <a:lnTo>
                    <a:pt x="0" y="518"/>
                  </a:lnTo>
                  <a:lnTo>
                    <a:pt x="16" y="501"/>
                  </a:lnTo>
                  <a:lnTo>
                    <a:pt x="33" y="501"/>
                  </a:lnTo>
                  <a:lnTo>
                    <a:pt x="33" y="485"/>
                  </a:lnTo>
                  <a:lnTo>
                    <a:pt x="49" y="485"/>
                  </a:lnTo>
                  <a:lnTo>
                    <a:pt x="49" y="453"/>
                  </a:lnTo>
                  <a:lnTo>
                    <a:pt x="33" y="453"/>
                  </a:lnTo>
                  <a:lnTo>
                    <a:pt x="33" y="453"/>
                  </a:lnTo>
                  <a:lnTo>
                    <a:pt x="49" y="420"/>
                  </a:lnTo>
                  <a:lnTo>
                    <a:pt x="33" y="437"/>
                  </a:lnTo>
                  <a:lnTo>
                    <a:pt x="33" y="420"/>
                  </a:lnTo>
                  <a:lnTo>
                    <a:pt x="33" y="420"/>
                  </a:lnTo>
                  <a:lnTo>
                    <a:pt x="33" y="404"/>
                  </a:lnTo>
                  <a:lnTo>
                    <a:pt x="49" y="420"/>
                  </a:lnTo>
                  <a:lnTo>
                    <a:pt x="49" y="420"/>
                  </a:lnTo>
                  <a:lnTo>
                    <a:pt x="49" y="404"/>
                  </a:lnTo>
                  <a:lnTo>
                    <a:pt x="49" y="388"/>
                  </a:lnTo>
                  <a:lnTo>
                    <a:pt x="49" y="388"/>
                  </a:lnTo>
                  <a:lnTo>
                    <a:pt x="65" y="404"/>
                  </a:lnTo>
                  <a:lnTo>
                    <a:pt x="65" y="388"/>
                  </a:lnTo>
                  <a:lnTo>
                    <a:pt x="65" y="388"/>
                  </a:lnTo>
                  <a:lnTo>
                    <a:pt x="81" y="372"/>
                  </a:lnTo>
                  <a:lnTo>
                    <a:pt x="81" y="372"/>
                  </a:lnTo>
                  <a:lnTo>
                    <a:pt x="65" y="372"/>
                  </a:lnTo>
                  <a:lnTo>
                    <a:pt x="65" y="356"/>
                  </a:lnTo>
                  <a:lnTo>
                    <a:pt x="81" y="340"/>
                  </a:lnTo>
                  <a:lnTo>
                    <a:pt x="81" y="340"/>
                  </a:lnTo>
                  <a:lnTo>
                    <a:pt x="97" y="323"/>
                  </a:lnTo>
                  <a:lnTo>
                    <a:pt x="97" y="323"/>
                  </a:lnTo>
                  <a:lnTo>
                    <a:pt x="97" y="307"/>
                  </a:lnTo>
                  <a:lnTo>
                    <a:pt x="114" y="323"/>
                  </a:lnTo>
                  <a:lnTo>
                    <a:pt x="114" y="307"/>
                  </a:lnTo>
                  <a:lnTo>
                    <a:pt x="97" y="291"/>
                  </a:lnTo>
                  <a:lnTo>
                    <a:pt x="97" y="275"/>
                  </a:lnTo>
                  <a:lnTo>
                    <a:pt x="114" y="259"/>
                  </a:lnTo>
                  <a:lnTo>
                    <a:pt x="114" y="242"/>
                  </a:lnTo>
                  <a:lnTo>
                    <a:pt x="97" y="242"/>
                  </a:lnTo>
                  <a:lnTo>
                    <a:pt x="130" y="226"/>
                  </a:lnTo>
                  <a:lnTo>
                    <a:pt x="114" y="210"/>
                  </a:lnTo>
                  <a:lnTo>
                    <a:pt x="130" y="210"/>
                  </a:lnTo>
                  <a:lnTo>
                    <a:pt x="130" y="178"/>
                  </a:lnTo>
                  <a:lnTo>
                    <a:pt x="130" y="178"/>
                  </a:lnTo>
                  <a:lnTo>
                    <a:pt x="130" y="194"/>
                  </a:lnTo>
                  <a:lnTo>
                    <a:pt x="146" y="178"/>
                  </a:lnTo>
                  <a:lnTo>
                    <a:pt x="162" y="178"/>
                  </a:lnTo>
                  <a:lnTo>
                    <a:pt x="243" y="178"/>
                  </a:lnTo>
                  <a:lnTo>
                    <a:pt x="243" y="178"/>
                  </a:lnTo>
                  <a:lnTo>
                    <a:pt x="243" y="178"/>
                  </a:lnTo>
                  <a:lnTo>
                    <a:pt x="292" y="162"/>
                  </a:lnTo>
                  <a:lnTo>
                    <a:pt x="308" y="162"/>
                  </a:lnTo>
                  <a:lnTo>
                    <a:pt x="372" y="162"/>
                  </a:lnTo>
                  <a:lnTo>
                    <a:pt x="372" y="129"/>
                  </a:lnTo>
                  <a:lnTo>
                    <a:pt x="437" y="129"/>
                  </a:lnTo>
                  <a:lnTo>
                    <a:pt x="453" y="129"/>
                  </a:lnTo>
                  <a:lnTo>
                    <a:pt x="502" y="113"/>
                  </a:lnTo>
                  <a:lnTo>
                    <a:pt x="534" y="113"/>
                  </a:lnTo>
                  <a:lnTo>
                    <a:pt x="551" y="113"/>
                  </a:lnTo>
                  <a:lnTo>
                    <a:pt x="599" y="113"/>
                  </a:lnTo>
                  <a:lnTo>
                    <a:pt x="648" y="97"/>
                  </a:lnTo>
                  <a:lnTo>
                    <a:pt x="664" y="97"/>
                  </a:lnTo>
                  <a:lnTo>
                    <a:pt x="696" y="97"/>
                  </a:lnTo>
                  <a:lnTo>
                    <a:pt x="729" y="97"/>
                  </a:lnTo>
                  <a:lnTo>
                    <a:pt x="761" y="97"/>
                  </a:lnTo>
                  <a:lnTo>
                    <a:pt x="826" y="97"/>
                  </a:lnTo>
                  <a:lnTo>
                    <a:pt x="858" y="81"/>
                  </a:lnTo>
                  <a:lnTo>
                    <a:pt x="858" y="81"/>
                  </a:lnTo>
                  <a:lnTo>
                    <a:pt x="907" y="81"/>
                  </a:lnTo>
                  <a:lnTo>
                    <a:pt x="939" y="81"/>
                  </a:lnTo>
                  <a:lnTo>
                    <a:pt x="939" y="81"/>
                  </a:lnTo>
                  <a:lnTo>
                    <a:pt x="1036" y="64"/>
                  </a:lnTo>
                  <a:lnTo>
                    <a:pt x="1036" y="64"/>
                  </a:lnTo>
                  <a:lnTo>
                    <a:pt x="1068" y="64"/>
                  </a:lnTo>
                  <a:lnTo>
                    <a:pt x="1085" y="64"/>
                  </a:lnTo>
                  <a:lnTo>
                    <a:pt x="1133" y="64"/>
                  </a:lnTo>
                  <a:lnTo>
                    <a:pt x="1165" y="48"/>
                  </a:lnTo>
                  <a:lnTo>
                    <a:pt x="1246" y="48"/>
                  </a:lnTo>
                  <a:lnTo>
                    <a:pt x="1279" y="48"/>
                  </a:lnTo>
                  <a:lnTo>
                    <a:pt x="1311" y="32"/>
                  </a:lnTo>
                  <a:lnTo>
                    <a:pt x="1376" y="32"/>
                  </a:lnTo>
                  <a:lnTo>
                    <a:pt x="1392" y="32"/>
                  </a:lnTo>
                  <a:lnTo>
                    <a:pt x="1392" y="16"/>
                  </a:lnTo>
                  <a:lnTo>
                    <a:pt x="1457" y="16"/>
                  </a:lnTo>
                  <a:lnTo>
                    <a:pt x="1473" y="0"/>
                  </a:lnTo>
                  <a:lnTo>
                    <a:pt x="1473" y="16"/>
                  </a:lnTo>
                  <a:lnTo>
                    <a:pt x="1473" y="48"/>
                  </a:lnTo>
                  <a:lnTo>
                    <a:pt x="1473" y="64"/>
                  </a:lnTo>
                  <a:lnTo>
                    <a:pt x="1457" y="64"/>
                  </a:lnTo>
                  <a:lnTo>
                    <a:pt x="1441" y="81"/>
                  </a:lnTo>
                  <a:lnTo>
                    <a:pt x="1441" y="81"/>
                  </a:lnTo>
                  <a:lnTo>
                    <a:pt x="1441" y="113"/>
                  </a:lnTo>
                  <a:lnTo>
                    <a:pt x="1424" y="129"/>
                  </a:lnTo>
                  <a:lnTo>
                    <a:pt x="1408" y="113"/>
                  </a:lnTo>
                  <a:lnTo>
                    <a:pt x="1360" y="145"/>
                  </a:lnTo>
                  <a:lnTo>
                    <a:pt x="1360" y="162"/>
                  </a:lnTo>
                  <a:lnTo>
                    <a:pt x="1344" y="178"/>
                  </a:lnTo>
                  <a:lnTo>
                    <a:pt x="1327" y="145"/>
                  </a:lnTo>
                  <a:lnTo>
                    <a:pt x="1311" y="162"/>
                  </a:lnTo>
                  <a:lnTo>
                    <a:pt x="1311" y="178"/>
                  </a:lnTo>
                  <a:lnTo>
                    <a:pt x="1295" y="178"/>
                  </a:lnTo>
                  <a:lnTo>
                    <a:pt x="1279" y="210"/>
                  </a:lnTo>
                  <a:lnTo>
                    <a:pt x="1246" y="226"/>
                  </a:lnTo>
                  <a:lnTo>
                    <a:pt x="1230" y="242"/>
                  </a:lnTo>
                  <a:lnTo>
                    <a:pt x="1230" y="242"/>
                  </a:lnTo>
                  <a:lnTo>
                    <a:pt x="1198" y="275"/>
                  </a:lnTo>
                  <a:lnTo>
                    <a:pt x="1165" y="275"/>
                  </a:lnTo>
                  <a:lnTo>
                    <a:pt x="1149" y="291"/>
                  </a:lnTo>
                  <a:lnTo>
                    <a:pt x="1117" y="307"/>
                  </a:lnTo>
                  <a:lnTo>
                    <a:pt x="1101" y="323"/>
                  </a:lnTo>
                  <a:lnTo>
                    <a:pt x="1101" y="356"/>
                  </a:lnTo>
                  <a:lnTo>
                    <a:pt x="1101" y="356"/>
                  </a:lnTo>
                  <a:lnTo>
                    <a:pt x="1068" y="356"/>
                  </a:lnTo>
                  <a:lnTo>
                    <a:pt x="1068" y="37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75640" y="2412720"/>
              <a:ext cx="179280" cy="338400"/>
            </a:xfrm>
            <a:custGeom>
              <a:avLst/>
              <a:gdLst/>
              <a:ahLst/>
              <a:rect l="l" t="t" r="r" b="b"/>
              <a:pathLst>
                <a:path w="292" h="551">
                  <a:moveTo>
                    <a:pt x="178" y="534"/>
                  </a:moveTo>
                  <a:lnTo>
                    <a:pt x="162" y="551"/>
                  </a:lnTo>
                  <a:lnTo>
                    <a:pt x="130" y="551"/>
                  </a:lnTo>
                  <a:lnTo>
                    <a:pt x="130" y="534"/>
                  </a:lnTo>
                  <a:lnTo>
                    <a:pt x="113" y="518"/>
                  </a:lnTo>
                  <a:lnTo>
                    <a:pt x="97" y="437"/>
                  </a:lnTo>
                  <a:lnTo>
                    <a:pt x="97" y="389"/>
                  </a:lnTo>
                  <a:lnTo>
                    <a:pt x="81" y="373"/>
                  </a:lnTo>
                  <a:lnTo>
                    <a:pt x="65" y="373"/>
                  </a:lnTo>
                  <a:lnTo>
                    <a:pt x="65" y="389"/>
                  </a:lnTo>
                  <a:lnTo>
                    <a:pt x="65" y="373"/>
                  </a:lnTo>
                  <a:lnTo>
                    <a:pt x="65" y="373"/>
                  </a:lnTo>
                  <a:lnTo>
                    <a:pt x="65" y="340"/>
                  </a:lnTo>
                  <a:lnTo>
                    <a:pt x="65" y="324"/>
                  </a:lnTo>
                  <a:lnTo>
                    <a:pt x="49" y="308"/>
                  </a:lnTo>
                  <a:lnTo>
                    <a:pt x="33" y="276"/>
                  </a:lnTo>
                  <a:lnTo>
                    <a:pt x="33" y="243"/>
                  </a:lnTo>
                  <a:lnTo>
                    <a:pt x="49" y="227"/>
                  </a:lnTo>
                  <a:lnTo>
                    <a:pt x="33" y="211"/>
                  </a:lnTo>
                  <a:lnTo>
                    <a:pt x="33" y="195"/>
                  </a:lnTo>
                  <a:lnTo>
                    <a:pt x="33" y="178"/>
                  </a:lnTo>
                  <a:lnTo>
                    <a:pt x="33" y="178"/>
                  </a:lnTo>
                  <a:lnTo>
                    <a:pt x="16" y="162"/>
                  </a:lnTo>
                  <a:lnTo>
                    <a:pt x="16" y="130"/>
                  </a:lnTo>
                  <a:lnTo>
                    <a:pt x="16" y="114"/>
                  </a:lnTo>
                  <a:lnTo>
                    <a:pt x="0" y="114"/>
                  </a:lnTo>
                  <a:lnTo>
                    <a:pt x="0" y="98"/>
                  </a:lnTo>
                  <a:lnTo>
                    <a:pt x="0" y="81"/>
                  </a:lnTo>
                  <a:lnTo>
                    <a:pt x="33" y="65"/>
                  </a:lnTo>
                  <a:lnTo>
                    <a:pt x="113" y="49"/>
                  </a:lnTo>
                  <a:lnTo>
                    <a:pt x="211" y="17"/>
                  </a:lnTo>
                  <a:lnTo>
                    <a:pt x="275" y="0"/>
                  </a:lnTo>
                  <a:lnTo>
                    <a:pt x="275" y="17"/>
                  </a:lnTo>
                  <a:lnTo>
                    <a:pt x="275" y="33"/>
                  </a:lnTo>
                  <a:lnTo>
                    <a:pt x="275" y="65"/>
                  </a:lnTo>
                  <a:lnTo>
                    <a:pt x="292" y="98"/>
                  </a:lnTo>
                  <a:lnTo>
                    <a:pt x="292" y="98"/>
                  </a:lnTo>
                  <a:lnTo>
                    <a:pt x="292" y="114"/>
                  </a:lnTo>
                  <a:lnTo>
                    <a:pt x="292" y="130"/>
                  </a:lnTo>
                  <a:lnTo>
                    <a:pt x="275" y="146"/>
                  </a:lnTo>
                  <a:lnTo>
                    <a:pt x="259" y="162"/>
                  </a:lnTo>
                  <a:lnTo>
                    <a:pt x="243" y="178"/>
                  </a:lnTo>
                  <a:lnTo>
                    <a:pt x="227" y="178"/>
                  </a:lnTo>
                  <a:lnTo>
                    <a:pt x="243" y="211"/>
                  </a:lnTo>
                  <a:lnTo>
                    <a:pt x="243" y="227"/>
                  </a:lnTo>
                  <a:lnTo>
                    <a:pt x="243" y="243"/>
                  </a:lnTo>
                  <a:lnTo>
                    <a:pt x="243" y="243"/>
                  </a:lnTo>
                  <a:lnTo>
                    <a:pt x="243" y="259"/>
                  </a:lnTo>
                  <a:lnTo>
                    <a:pt x="243" y="276"/>
                  </a:lnTo>
                  <a:lnTo>
                    <a:pt x="243" y="292"/>
                  </a:lnTo>
                  <a:lnTo>
                    <a:pt x="227" y="308"/>
                  </a:lnTo>
                  <a:lnTo>
                    <a:pt x="227" y="340"/>
                  </a:lnTo>
                  <a:lnTo>
                    <a:pt x="227" y="356"/>
                  </a:lnTo>
                  <a:lnTo>
                    <a:pt x="227" y="405"/>
                  </a:lnTo>
                  <a:lnTo>
                    <a:pt x="227" y="421"/>
                  </a:lnTo>
                  <a:lnTo>
                    <a:pt x="227" y="437"/>
                  </a:lnTo>
                  <a:lnTo>
                    <a:pt x="243" y="470"/>
                  </a:lnTo>
                  <a:lnTo>
                    <a:pt x="243" y="486"/>
                  </a:lnTo>
                  <a:lnTo>
                    <a:pt x="243" y="502"/>
                  </a:lnTo>
                  <a:lnTo>
                    <a:pt x="259" y="518"/>
                  </a:lnTo>
                  <a:lnTo>
                    <a:pt x="178" y="53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58080" y="3288960"/>
              <a:ext cx="847800" cy="479520"/>
            </a:xfrm>
            <a:custGeom>
              <a:avLst/>
              <a:gdLst/>
              <a:ahLst/>
              <a:rect l="l" t="t" r="r" b="b"/>
              <a:pathLst>
                <a:path w="1376" h="776">
                  <a:moveTo>
                    <a:pt x="259" y="744"/>
                  </a:moveTo>
                  <a:lnTo>
                    <a:pt x="243" y="744"/>
                  </a:lnTo>
                  <a:lnTo>
                    <a:pt x="178" y="744"/>
                  </a:lnTo>
                  <a:lnTo>
                    <a:pt x="146" y="760"/>
                  </a:lnTo>
                  <a:lnTo>
                    <a:pt x="113" y="760"/>
                  </a:lnTo>
                  <a:lnTo>
                    <a:pt x="32" y="760"/>
                  </a:lnTo>
                  <a:lnTo>
                    <a:pt x="0" y="776"/>
                  </a:lnTo>
                  <a:lnTo>
                    <a:pt x="32" y="744"/>
                  </a:lnTo>
                  <a:lnTo>
                    <a:pt x="81" y="728"/>
                  </a:lnTo>
                  <a:lnTo>
                    <a:pt x="97" y="696"/>
                  </a:lnTo>
                  <a:lnTo>
                    <a:pt x="130" y="679"/>
                  </a:lnTo>
                  <a:lnTo>
                    <a:pt x="130" y="663"/>
                  </a:lnTo>
                  <a:lnTo>
                    <a:pt x="146" y="647"/>
                  </a:lnTo>
                  <a:lnTo>
                    <a:pt x="146" y="631"/>
                  </a:lnTo>
                  <a:lnTo>
                    <a:pt x="178" y="615"/>
                  </a:lnTo>
                  <a:lnTo>
                    <a:pt x="178" y="615"/>
                  </a:lnTo>
                  <a:lnTo>
                    <a:pt x="211" y="582"/>
                  </a:lnTo>
                  <a:lnTo>
                    <a:pt x="259" y="534"/>
                  </a:lnTo>
                  <a:lnTo>
                    <a:pt x="275" y="534"/>
                  </a:lnTo>
                  <a:lnTo>
                    <a:pt x="259" y="534"/>
                  </a:lnTo>
                  <a:lnTo>
                    <a:pt x="275" y="550"/>
                  </a:lnTo>
                  <a:lnTo>
                    <a:pt x="275" y="566"/>
                  </a:lnTo>
                  <a:lnTo>
                    <a:pt x="291" y="582"/>
                  </a:lnTo>
                  <a:lnTo>
                    <a:pt x="308" y="582"/>
                  </a:lnTo>
                  <a:lnTo>
                    <a:pt x="324" y="582"/>
                  </a:lnTo>
                  <a:lnTo>
                    <a:pt x="340" y="582"/>
                  </a:lnTo>
                  <a:lnTo>
                    <a:pt x="372" y="566"/>
                  </a:lnTo>
                  <a:lnTo>
                    <a:pt x="372" y="550"/>
                  </a:lnTo>
                  <a:lnTo>
                    <a:pt x="405" y="566"/>
                  </a:lnTo>
                  <a:lnTo>
                    <a:pt x="437" y="550"/>
                  </a:lnTo>
                  <a:lnTo>
                    <a:pt x="453" y="534"/>
                  </a:lnTo>
                  <a:lnTo>
                    <a:pt x="453" y="534"/>
                  </a:lnTo>
                  <a:lnTo>
                    <a:pt x="453" y="517"/>
                  </a:lnTo>
                  <a:lnTo>
                    <a:pt x="469" y="534"/>
                  </a:lnTo>
                  <a:lnTo>
                    <a:pt x="518" y="501"/>
                  </a:lnTo>
                  <a:lnTo>
                    <a:pt x="518" y="517"/>
                  </a:lnTo>
                  <a:lnTo>
                    <a:pt x="550" y="485"/>
                  </a:lnTo>
                  <a:lnTo>
                    <a:pt x="550" y="485"/>
                  </a:lnTo>
                  <a:lnTo>
                    <a:pt x="534" y="485"/>
                  </a:lnTo>
                  <a:lnTo>
                    <a:pt x="550" y="469"/>
                  </a:lnTo>
                  <a:lnTo>
                    <a:pt x="550" y="453"/>
                  </a:lnTo>
                  <a:lnTo>
                    <a:pt x="550" y="453"/>
                  </a:lnTo>
                  <a:lnTo>
                    <a:pt x="534" y="453"/>
                  </a:lnTo>
                  <a:lnTo>
                    <a:pt x="550" y="404"/>
                  </a:lnTo>
                  <a:lnTo>
                    <a:pt x="567" y="388"/>
                  </a:lnTo>
                  <a:lnTo>
                    <a:pt x="583" y="356"/>
                  </a:lnTo>
                  <a:lnTo>
                    <a:pt x="583" y="323"/>
                  </a:lnTo>
                  <a:lnTo>
                    <a:pt x="599" y="307"/>
                  </a:lnTo>
                  <a:lnTo>
                    <a:pt x="599" y="291"/>
                  </a:lnTo>
                  <a:lnTo>
                    <a:pt x="615" y="291"/>
                  </a:lnTo>
                  <a:lnTo>
                    <a:pt x="615" y="275"/>
                  </a:lnTo>
                  <a:lnTo>
                    <a:pt x="615" y="259"/>
                  </a:lnTo>
                  <a:lnTo>
                    <a:pt x="615" y="226"/>
                  </a:lnTo>
                  <a:lnTo>
                    <a:pt x="631" y="242"/>
                  </a:lnTo>
                  <a:lnTo>
                    <a:pt x="647" y="259"/>
                  </a:lnTo>
                  <a:lnTo>
                    <a:pt x="680" y="259"/>
                  </a:lnTo>
                  <a:lnTo>
                    <a:pt x="696" y="242"/>
                  </a:lnTo>
                  <a:lnTo>
                    <a:pt x="696" y="210"/>
                  </a:lnTo>
                  <a:lnTo>
                    <a:pt x="712" y="210"/>
                  </a:lnTo>
                  <a:lnTo>
                    <a:pt x="712" y="178"/>
                  </a:lnTo>
                  <a:lnTo>
                    <a:pt x="712" y="161"/>
                  </a:lnTo>
                  <a:lnTo>
                    <a:pt x="745" y="178"/>
                  </a:lnTo>
                  <a:lnTo>
                    <a:pt x="745" y="145"/>
                  </a:lnTo>
                  <a:lnTo>
                    <a:pt x="761" y="129"/>
                  </a:lnTo>
                  <a:lnTo>
                    <a:pt x="761" y="145"/>
                  </a:lnTo>
                  <a:lnTo>
                    <a:pt x="761" y="129"/>
                  </a:lnTo>
                  <a:lnTo>
                    <a:pt x="777" y="113"/>
                  </a:lnTo>
                  <a:lnTo>
                    <a:pt x="777" y="113"/>
                  </a:lnTo>
                  <a:lnTo>
                    <a:pt x="777" y="97"/>
                  </a:lnTo>
                  <a:lnTo>
                    <a:pt x="793" y="97"/>
                  </a:lnTo>
                  <a:lnTo>
                    <a:pt x="793" y="64"/>
                  </a:lnTo>
                  <a:lnTo>
                    <a:pt x="793" y="48"/>
                  </a:lnTo>
                  <a:lnTo>
                    <a:pt x="809" y="32"/>
                  </a:lnTo>
                  <a:lnTo>
                    <a:pt x="793" y="32"/>
                  </a:lnTo>
                  <a:lnTo>
                    <a:pt x="793" y="0"/>
                  </a:lnTo>
                  <a:lnTo>
                    <a:pt x="826" y="16"/>
                  </a:lnTo>
                  <a:lnTo>
                    <a:pt x="858" y="32"/>
                  </a:lnTo>
                  <a:lnTo>
                    <a:pt x="890" y="64"/>
                  </a:lnTo>
                  <a:lnTo>
                    <a:pt x="906" y="16"/>
                  </a:lnTo>
                  <a:lnTo>
                    <a:pt x="906" y="16"/>
                  </a:lnTo>
                  <a:lnTo>
                    <a:pt x="939" y="16"/>
                  </a:lnTo>
                  <a:lnTo>
                    <a:pt x="955" y="32"/>
                  </a:lnTo>
                  <a:lnTo>
                    <a:pt x="955" y="48"/>
                  </a:lnTo>
                  <a:lnTo>
                    <a:pt x="955" y="48"/>
                  </a:lnTo>
                  <a:lnTo>
                    <a:pt x="971" y="64"/>
                  </a:lnTo>
                  <a:lnTo>
                    <a:pt x="987" y="64"/>
                  </a:lnTo>
                  <a:lnTo>
                    <a:pt x="1004" y="64"/>
                  </a:lnTo>
                  <a:lnTo>
                    <a:pt x="1004" y="81"/>
                  </a:lnTo>
                  <a:lnTo>
                    <a:pt x="1020" y="81"/>
                  </a:lnTo>
                  <a:lnTo>
                    <a:pt x="1020" y="81"/>
                  </a:lnTo>
                  <a:lnTo>
                    <a:pt x="1036" y="81"/>
                  </a:lnTo>
                  <a:lnTo>
                    <a:pt x="1036" y="97"/>
                  </a:lnTo>
                  <a:lnTo>
                    <a:pt x="1036" y="113"/>
                  </a:lnTo>
                  <a:lnTo>
                    <a:pt x="1052" y="129"/>
                  </a:lnTo>
                  <a:lnTo>
                    <a:pt x="1036" y="129"/>
                  </a:lnTo>
                  <a:lnTo>
                    <a:pt x="1036" y="145"/>
                  </a:lnTo>
                  <a:lnTo>
                    <a:pt x="1020" y="145"/>
                  </a:lnTo>
                  <a:lnTo>
                    <a:pt x="1020" y="145"/>
                  </a:lnTo>
                  <a:lnTo>
                    <a:pt x="1020" y="145"/>
                  </a:lnTo>
                  <a:lnTo>
                    <a:pt x="1004" y="178"/>
                  </a:lnTo>
                  <a:lnTo>
                    <a:pt x="1004" y="194"/>
                  </a:lnTo>
                  <a:lnTo>
                    <a:pt x="1020" y="210"/>
                  </a:lnTo>
                  <a:lnTo>
                    <a:pt x="1020" y="210"/>
                  </a:lnTo>
                  <a:lnTo>
                    <a:pt x="1036" y="210"/>
                  </a:lnTo>
                  <a:lnTo>
                    <a:pt x="1052" y="194"/>
                  </a:lnTo>
                  <a:lnTo>
                    <a:pt x="1068" y="210"/>
                  </a:lnTo>
                  <a:lnTo>
                    <a:pt x="1084" y="226"/>
                  </a:lnTo>
                  <a:lnTo>
                    <a:pt x="1149" y="242"/>
                  </a:lnTo>
                  <a:lnTo>
                    <a:pt x="1149" y="242"/>
                  </a:lnTo>
                  <a:lnTo>
                    <a:pt x="1149" y="259"/>
                  </a:lnTo>
                  <a:lnTo>
                    <a:pt x="1149" y="259"/>
                  </a:lnTo>
                  <a:lnTo>
                    <a:pt x="1165" y="259"/>
                  </a:lnTo>
                  <a:lnTo>
                    <a:pt x="1198" y="259"/>
                  </a:lnTo>
                  <a:lnTo>
                    <a:pt x="1214" y="275"/>
                  </a:lnTo>
                  <a:lnTo>
                    <a:pt x="1214" y="291"/>
                  </a:lnTo>
                  <a:lnTo>
                    <a:pt x="1198" y="291"/>
                  </a:lnTo>
                  <a:lnTo>
                    <a:pt x="1214" y="307"/>
                  </a:lnTo>
                  <a:lnTo>
                    <a:pt x="1198" y="323"/>
                  </a:lnTo>
                  <a:lnTo>
                    <a:pt x="1214" y="323"/>
                  </a:lnTo>
                  <a:lnTo>
                    <a:pt x="1214" y="339"/>
                  </a:lnTo>
                  <a:lnTo>
                    <a:pt x="1182" y="339"/>
                  </a:lnTo>
                  <a:lnTo>
                    <a:pt x="1165" y="307"/>
                  </a:lnTo>
                  <a:lnTo>
                    <a:pt x="1149" y="307"/>
                  </a:lnTo>
                  <a:lnTo>
                    <a:pt x="1133" y="291"/>
                  </a:lnTo>
                  <a:lnTo>
                    <a:pt x="1117" y="291"/>
                  </a:lnTo>
                  <a:lnTo>
                    <a:pt x="1133" y="307"/>
                  </a:lnTo>
                  <a:lnTo>
                    <a:pt x="1149" y="323"/>
                  </a:lnTo>
                  <a:lnTo>
                    <a:pt x="1165" y="339"/>
                  </a:lnTo>
                  <a:lnTo>
                    <a:pt x="1214" y="356"/>
                  </a:lnTo>
                  <a:lnTo>
                    <a:pt x="1214" y="356"/>
                  </a:lnTo>
                  <a:lnTo>
                    <a:pt x="1182" y="356"/>
                  </a:lnTo>
                  <a:lnTo>
                    <a:pt x="1198" y="356"/>
                  </a:lnTo>
                  <a:lnTo>
                    <a:pt x="1214" y="356"/>
                  </a:lnTo>
                  <a:lnTo>
                    <a:pt x="1230" y="388"/>
                  </a:lnTo>
                  <a:lnTo>
                    <a:pt x="1230" y="404"/>
                  </a:lnTo>
                  <a:lnTo>
                    <a:pt x="1230" y="404"/>
                  </a:lnTo>
                  <a:lnTo>
                    <a:pt x="1214" y="388"/>
                  </a:lnTo>
                  <a:lnTo>
                    <a:pt x="1198" y="372"/>
                  </a:lnTo>
                  <a:lnTo>
                    <a:pt x="1198" y="388"/>
                  </a:lnTo>
                  <a:lnTo>
                    <a:pt x="1214" y="388"/>
                  </a:lnTo>
                  <a:lnTo>
                    <a:pt x="1214" y="388"/>
                  </a:lnTo>
                  <a:lnTo>
                    <a:pt x="1198" y="388"/>
                  </a:lnTo>
                  <a:lnTo>
                    <a:pt x="1214" y="404"/>
                  </a:lnTo>
                  <a:lnTo>
                    <a:pt x="1214" y="420"/>
                  </a:lnTo>
                  <a:lnTo>
                    <a:pt x="1165" y="388"/>
                  </a:lnTo>
                  <a:lnTo>
                    <a:pt x="1165" y="388"/>
                  </a:lnTo>
                  <a:lnTo>
                    <a:pt x="1165" y="404"/>
                  </a:lnTo>
                  <a:lnTo>
                    <a:pt x="1182" y="420"/>
                  </a:lnTo>
                  <a:lnTo>
                    <a:pt x="1214" y="420"/>
                  </a:lnTo>
                  <a:lnTo>
                    <a:pt x="1214" y="437"/>
                  </a:lnTo>
                  <a:lnTo>
                    <a:pt x="1214" y="437"/>
                  </a:lnTo>
                  <a:lnTo>
                    <a:pt x="1230" y="437"/>
                  </a:lnTo>
                  <a:lnTo>
                    <a:pt x="1230" y="437"/>
                  </a:lnTo>
                  <a:lnTo>
                    <a:pt x="1246" y="437"/>
                  </a:lnTo>
                  <a:lnTo>
                    <a:pt x="1230" y="453"/>
                  </a:lnTo>
                  <a:lnTo>
                    <a:pt x="1246" y="453"/>
                  </a:lnTo>
                  <a:lnTo>
                    <a:pt x="1246" y="469"/>
                  </a:lnTo>
                  <a:lnTo>
                    <a:pt x="1230" y="469"/>
                  </a:lnTo>
                  <a:lnTo>
                    <a:pt x="1230" y="485"/>
                  </a:lnTo>
                  <a:lnTo>
                    <a:pt x="1198" y="469"/>
                  </a:lnTo>
                  <a:lnTo>
                    <a:pt x="1198" y="453"/>
                  </a:lnTo>
                  <a:lnTo>
                    <a:pt x="1198" y="453"/>
                  </a:lnTo>
                  <a:lnTo>
                    <a:pt x="1198" y="453"/>
                  </a:lnTo>
                  <a:lnTo>
                    <a:pt x="1182" y="453"/>
                  </a:lnTo>
                  <a:lnTo>
                    <a:pt x="1182" y="437"/>
                  </a:lnTo>
                  <a:lnTo>
                    <a:pt x="1182" y="437"/>
                  </a:lnTo>
                  <a:lnTo>
                    <a:pt x="1165" y="437"/>
                  </a:lnTo>
                  <a:lnTo>
                    <a:pt x="1165" y="437"/>
                  </a:lnTo>
                  <a:lnTo>
                    <a:pt x="1149" y="437"/>
                  </a:lnTo>
                  <a:lnTo>
                    <a:pt x="1133" y="437"/>
                  </a:lnTo>
                  <a:lnTo>
                    <a:pt x="1133" y="420"/>
                  </a:lnTo>
                  <a:lnTo>
                    <a:pt x="1133" y="437"/>
                  </a:lnTo>
                  <a:lnTo>
                    <a:pt x="1133" y="437"/>
                  </a:lnTo>
                  <a:lnTo>
                    <a:pt x="1133" y="453"/>
                  </a:lnTo>
                  <a:lnTo>
                    <a:pt x="1149" y="437"/>
                  </a:lnTo>
                  <a:lnTo>
                    <a:pt x="1165" y="453"/>
                  </a:lnTo>
                  <a:lnTo>
                    <a:pt x="1165" y="437"/>
                  </a:lnTo>
                  <a:lnTo>
                    <a:pt x="1182" y="453"/>
                  </a:lnTo>
                  <a:lnTo>
                    <a:pt x="1182" y="469"/>
                  </a:lnTo>
                  <a:lnTo>
                    <a:pt x="1198" y="469"/>
                  </a:lnTo>
                  <a:lnTo>
                    <a:pt x="1198" y="485"/>
                  </a:lnTo>
                  <a:lnTo>
                    <a:pt x="1198" y="469"/>
                  </a:lnTo>
                  <a:lnTo>
                    <a:pt x="1214" y="485"/>
                  </a:lnTo>
                  <a:lnTo>
                    <a:pt x="1214" y="501"/>
                  </a:lnTo>
                  <a:lnTo>
                    <a:pt x="1214" y="485"/>
                  </a:lnTo>
                  <a:lnTo>
                    <a:pt x="1214" y="501"/>
                  </a:lnTo>
                  <a:lnTo>
                    <a:pt x="1214" y="517"/>
                  </a:lnTo>
                  <a:lnTo>
                    <a:pt x="1214" y="517"/>
                  </a:lnTo>
                  <a:lnTo>
                    <a:pt x="1214" y="501"/>
                  </a:lnTo>
                  <a:lnTo>
                    <a:pt x="1230" y="501"/>
                  </a:lnTo>
                  <a:lnTo>
                    <a:pt x="1246" y="485"/>
                  </a:lnTo>
                  <a:lnTo>
                    <a:pt x="1246" y="501"/>
                  </a:lnTo>
                  <a:lnTo>
                    <a:pt x="1230" y="501"/>
                  </a:lnTo>
                  <a:lnTo>
                    <a:pt x="1230" y="517"/>
                  </a:lnTo>
                  <a:lnTo>
                    <a:pt x="1246" y="501"/>
                  </a:lnTo>
                  <a:lnTo>
                    <a:pt x="1246" y="485"/>
                  </a:lnTo>
                  <a:lnTo>
                    <a:pt x="1246" y="469"/>
                  </a:lnTo>
                  <a:lnTo>
                    <a:pt x="1262" y="485"/>
                  </a:lnTo>
                  <a:lnTo>
                    <a:pt x="1262" y="485"/>
                  </a:lnTo>
                  <a:lnTo>
                    <a:pt x="1279" y="469"/>
                  </a:lnTo>
                  <a:lnTo>
                    <a:pt x="1295" y="469"/>
                  </a:lnTo>
                  <a:lnTo>
                    <a:pt x="1343" y="550"/>
                  </a:lnTo>
                  <a:lnTo>
                    <a:pt x="1327" y="550"/>
                  </a:lnTo>
                  <a:lnTo>
                    <a:pt x="1327" y="534"/>
                  </a:lnTo>
                  <a:lnTo>
                    <a:pt x="1311" y="517"/>
                  </a:lnTo>
                  <a:lnTo>
                    <a:pt x="1311" y="550"/>
                  </a:lnTo>
                  <a:lnTo>
                    <a:pt x="1311" y="550"/>
                  </a:lnTo>
                  <a:lnTo>
                    <a:pt x="1311" y="550"/>
                  </a:lnTo>
                  <a:lnTo>
                    <a:pt x="1311" y="550"/>
                  </a:lnTo>
                  <a:lnTo>
                    <a:pt x="1295" y="550"/>
                  </a:lnTo>
                  <a:lnTo>
                    <a:pt x="1262" y="566"/>
                  </a:lnTo>
                  <a:lnTo>
                    <a:pt x="1230" y="566"/>
                  </a:lnTo>
                  <a:lnTo>
                    <a:pt x="1214" y="566"/>
                  </a:lnTo>
                  <a:lnTo>
                    <a:pt x="1165" y="582"/>
                  </a:lnTo>
                  <a:lnTo>
                    <a:pt x="1165" y="582"/>
                  </a:lnTo>
                  <a:lnTo>
                    <a:pt x="1117" y="598"/>
                  </a:lnTo>
                  <a:lnTo>
                    <a:pt x="1084" y="598"/>
                  </a:lnTo>
                  <a:lnTo>
                    <a:pt x="1020" y="615"/>
                  </a:lnTo>
                  <a:lnTo>
                    <a:pt x="987" y="615"/>
                  </a:lnTo>
                  <a:lnTo>
                    <a:pt x="971" y="631"/>
                  </a:lnTo>
                  <a:lnTo>
                    <a:pt x="923" y="631"/>
                  </a:lnTo>
                  <a:lnTo>
                    <a:pt x="890" y="647"/>
                  </a:lnTo>
                  <a:lnTo>
                    <a:pt x="858" y="647"/>
                  </a:lnTo>
                  <a:lnTo>
                    <a:pt x="842" y="647"/>
                  </a:lnTo>
                  <a:lnTo>
                    <a:pt x="777" y="663"/>
                  </a:lnTo>
                  <a:lnTo>
                    <a:pt x="761" y="663"/>
                  </a:lnTo>
                  <a:lnTo>
                    <a:pt x="712" y="679"/>
                  </a:lnTo>
                  <a:lnTo>
                    <a:pt x="680" y="679"/>
                  </a:lnTo>
                  <a:lnTo>
                    <a:pt x="631" y="679"/>
                  </a:lnTo>
                  <a:lnTo>
                    <a:pt x="631" y="696"/>
                  </a:lnTo>
                  <a:lnTo>
                    <a:pt x="567" y="696"/>
                  </a:lnTo>
                  <a:lnTo>
                    <a:pt x="534" y="696"/>
                  </a:lnTo>
                  <a:lnTo>
                    <a:pt x="486" y="712"/>
                  </a:lnTo>
                  <a:lnTo>
                    <a:pt x="486" y="712"/>
                  </a:lnTo>
                  <a:lnTo>
                    <a:pt x="405" y="712"/>
                  </a:lnTo>
                  <a:lnTo>
                    <a:pt x="340" y="728"/>
                  </a:lnTo>
                  <a:lnTo>
                    <a:pt x="340" y="712"/>
                  </a:lnTo>
                  <a:lnTo>
                    <a:pt x="324" y="728"/>
                  </a:lnTo>
                  <a:lnTo>
                    <a:pt x="259" y="728"/>
                  </a:lnTo>
                  <a:lnTo>
                    <a:pt x="259" y="744"/>
                  </a:lnTo>
                  <a:lnTo>
                    <a:pt x="259" y="744"/>
                  </a:lnTo>
                  <a:close/>
                  <a:moveTo>
                    <a:pt x="1376" y="210"/>
                  </a:moveTo>
                  <a:lnTo>
                    <a:pt x="1376" y="210"/>
                  </a:lnTo>
                  <a:lnTo>
                    <a:pt x="1360" y="242"/>
                  </a:lnTo>
                  <a:lnTo>
                    <a:pt x="1360" y="242"/>
                  </a:lnTo>
                  <a:lnTo>
                    <a:pt x="1376" y="210"/>
                  </a:lnTo>
                  <a:lnTo>
                    <a:pt x="1376" y="210"/>
                  </a:lnTo>
                  <a:close/>
                  <a:moveTo>
                    <a:pt x="1311" y="356"/>
                  </a:moveTo>
                  <a:lnTo>
                    <a:pt x="1311" y="356"/>
                  </a:lnTo>
                  <a:lnTo>
                    <a:pt x="1311" y="356"/>
                  </a:lnTo>
                  <a:lnTo>
                    <a:pt x="1311" y="356"/>
                  </a:lnTo>
                  <a:lnTo>
                    <a:pt x="1295" y="372"/>
                  </a:lnTo>
                  <a:lnTo>
                    <a:pt x="1295" y="420"/>
                  </a:lnTo>
                  <a:lnTo>
                    <a:pt x="1295" y="437"/>
                  </a:lnTo>
                  <a:lnTo>
                    <a:pt x="1279" y="388"/>
                  </a:lnTo>
                  <a:lnTo>
                    <a:pt x="1279" y="356"/>
                  </a:lnTo>
                  <a:lnTo>
                    <a:pt x="1279" y="356"/>
                  </a:lnTo>
                  <a:lnTo>
                    <a:pt x="1279" y="339"/>
                  </a:lnTo>
                  <a:lnTo>
                    <a:pt x="1279" y="339"/>
                  </a:lnTo>
                  <a:lnTo>
                    <a:pt x="1295" y="339"/>
                  </a:lnTo>
                  <a:lnTo>
                    <a:pt x="1279" y="339"/>
                  </a:lnTo>
                  <a:lnTo>
                    <a:pt x="1279" y="323"/>
                  </a:lnTo>
                  <a:lnTo>
                    <a:pt x="1295" y="323"/>
                  </a:lnTo>
                  <a:lnTo>
                    <a:pt x="1279" y="323"/>
                  </a:lnTo>
                  <a:lnTo>
                    <a:pt x="1295" y="291"/>
                  </a:lnTo>
                  <a:lnTo>
                    <a:pt x="1295" y="275"/>
                  </a:lnTo>
                  <a:lnTo>
                    <a:pt x="1311" y="275"/>
                  </a:lnTo>
                  <a:lnTo>
                    <a:pt x="1311" y="259"/>
                  </a:lnTo>
                  <a:lnTo>
                    <a:pt x="1295" y="242"/>
                  </a:lnTo>
                  <a:lnTo>
                    <a:pt x="1311" y="242"/>
                  </a:lnTo>
                  <a:lnTo>
                    <a:pt x="1311" y="242"/>
                  </a:lnTo>
                  <a:lnTo>
                    <a:pt x="1311" y="226"/>
                  </a:lnTo>
                  <a:lnTo>
                    <a:pt x="1360" y="210"/>
                  </a:lnTo>
                  <a:lnTo>
                    <a:pt x="1327" y="291"/>
                  </a:lnTo>
                  <a:lnTo>
                    <a:pt x="1327" y="291"/>
                  </a:lnTo>
                  <a:lnTo>
                    <a:pt x="1327" y="323"/>
                  </a:lnTo>
                  <a:lnTo>
                    <a:pt x="1327" y="323"/>
                  </a:lnTo>
                  <a:lnTo>
                    <a:pt x="1311" y="323"/>
                  </a:lnTo>
                  <a:lnTo>
                    <a:pt x="1311" y="339"/>
                  </a:lnTo>
                  <a:lnTo>
                    <a:pt x="1327" y="339"/>
                  </a:lnTo>
                  <a:lnTo>
                    <a:pt x="1311" y="356"/>
                  </a:lnTo>
                  <a:lnTo>
                    <a:pt x="1311" y="3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4000" y="2035080"/>
              <a:ext cx="388800" cy="606240"/>
            </a:xfrm>
            <a:custGeom>
              <a:avLst/>
              <a:gdLst/>
              <a:ahLst/>
              <a:rect l="l" t="t" r="r" b="b"/>
              <a:pathLst>
                <a:path w="631" h="988">
                  <a:moveTo>
                    <a:pt x="340" y="745"/>
                  </a:moveTo>
                  <a:lnTo>
                    <a:pt x="324" y="745"/>
                  </a:lnTo>
                  <a:lnTo>
                    <a:pt x="324" y="777"/>
                  </a:lnTo>
                  <a:lnTo>
                    <a:pt x="307" y="777"/>
                  </a:lnTo>
                  <a:lnTo>
                    <a:pt x="291" y="793"/>
                  </a:lnTo>
                  <a:lnTo>
                    <a:pt x="291" y="761"/>
                  </a:lnTo>
                  <a:lnTo>
                    <a:pt x="291" y="745"/>
                  </a:lnTo>
                  <a:lnTo>
                    <a:pt x="275" y="777"/>
                  </a:lnTo>
                  <a:lnTo>
                    <a:pt x="275" y="777"/>
                  </a:lnTo>
                  <a:lnTo>
                    <a:pt x="291" y="810"/>
                  </a:lnTo>
                  <a:lnTo>
                    <a:pt x="291" y="810"/>
                  </a:lnTo>
                  <a:lnTo>
                    <a:pt x="275" y="810"/>
                  </a:lnTo>
                  <a:lnTo>
                    <a:pt x="259" y="761"/>
                  </a:lnTo>
                  <a:lnTo>
                    <a:pt x="275" y="745"/>
                  </a:lnTo>
                  <a:lnTo>
                    <a:pt x="259" y="745"/>
                  </a:lnTo>
                  <a:lnTo>
                    <a:pt x="259" y="761"/>
                  </a:lnTo>
                  <a:lnTo>
                    <a:pt x="275" y="810"/>
                  </a:lnTo>
                  <a:lnTo>
                    <a:pt x="275" y="826"/>
                  </a:lnTo>
                  <a:lnTo>
                    <a:pt x="275" y="826"/>
                  </a:lnTo>
                  <a:lnTo>
                    <a:pt x="275" y="793"/>
                  </a:lnTo>
                  <a:lnTo>
                    <a:pt x="259" y="793"/>
                  </a:lnTo>
                  <a:lnTo>
                    <a:pt x="259" y="810"/>
                  </a:lnTo>
                  <a:lnTo>
                    <a:pt x="259" y="826"/>
                  </a:lnTo>
                  <a:lnTo>
                    <a:pt x="243" y="810"/>
                  </a:lnTo>
                  <a:lnTo>
                    <a:pt x="243" y="810"/>
                  </a:lnTo>
                  <a:lnTo>
                    <a:pt x="243" y="810"/>
                  </a:lnTo>
                  <a:lnTo>
                    <a:pt x="226" y="826"/>
                  </a:lnTo>
                  <a:lnTo>
                    <a:pt x="226" y="842"/>
                  </a:lnTo>
                  <a:lnTo>
                    <a:pt x="226" y="874"/>
                  </a:lnTo>
                  <a:lnTo>
                    <a:pt x="210" y="891"/>
                  </a:lnTo>
                  <a:lnTo>
                    <a:pt x="210" y="907"/>
                  </a:lnTo>
                  <a:lnTo>
                    <a:pt x="210" y="923"/>
                  </a:lnTo>
                  <a:lnTo>
                    <a:pt x="194" y="939"/>
                  </a:lnTo>
                  <a:lnTo>
                    <a:pt x="194" y="988"/>
                  </a:lnTo>
                  <a:lnTo>
                    <a:pt x="162" y="988"/>
                  </a:lnTo>
                  <a:lnTo>
                    <a:pt x="162" y="971"/>
                  </a:lnTo>
                  <a:lnTo>
                    <a:pt x="146" y="955"/>
                  </a:lnTo>
                  <a:lnTo>
                    <a:pt x="129" y="939"/>
                  </a:lnTo>
                  <a:lnTo>
                    <a:pt x="113" y="907"/>
                  </a:lnTo>
                  <a:lnTo>
                    <a:pt x="97" y="858"/>
                  </a:lnTo>
                  <a:lnTo>
                    <a:pt x="65" y="745"/>
                  </a:lnTo>
                  <a:lnTo>
                    <a:pt x="0" y="534"/>
                  </a:lnTo>
                  <a:lnTo>
                    <a:pt x="16" y="534"/>
                  </a:lnTo>
                  <a:lnTo>
                    <a:pt x="32" y="551"/>
                  </a:lnTo>
                  <a:lnTo>
                    <a:pt x="32" y="534"/>
                  </a:lnTo>
                  <a:lnTo>
                    <a:pt x="32" y="518"/>
                  </a:lnTo>
                  <a:lnTo>
                    <a:pt x="32" y="518"/>
                  </a:lnTo>
                  <a:lnTo>
                    <a:pt x="32" y="502"/>
                  </a:lnTo>
                  <a:lnTo>
                    <a:pt x="65" y="502"/>
                  </a:lnTo>
                  <a:lnTo>
                    <a:pt x="48" y="486"/>
                  </a:lnTo>
                  <a:lnTo>
                    <a:pt x="65" y="437"/>
                  </a:lnTo>
                  <a:lnTo>
                    <a:pt x="81" y="421"/>
                  </a:lnTo>
                  <a:lnTo>
                    <a:pt x="65" y="405"/>
                  </a:lnTo>
                  <a:lnTo>
                    <a:pt x="81" y="389"/>
                  </a:lnTo>
                  <a:lnTo>
                    <a:pt x="81" y="373"/>
                  </a:lnTo>
                  <a:lnTo>
                    <a:pt x="81" y="373"/>
                  </a:lnTo>
                  <a:lnTo>
                    <a:pt x="81" y="356"/>
                  </a:lnTo>
                  <a:lnTo>
                    <a:pt x="65" y="356"/>
                  </a:lnTo>
                  <a:lnTo>
                    <a:pt x="81" y="324"/>
                  </a:lnTo>
                  <a:lnTo>
                    <a:pt x="65" y="324"/>
                  </a:lnTo>
                  <a:lnTo>
                    <a:pt x="65" y="292"/>
                  </a:lnTo>
                  <a:lnTo>
                    <a:pt x="81" y="259"/>
                  </a:lnTo>
                  <a:lnTo>
                    <a:pt x="81" y="227"/>
                  </a:lnTo>
                  <a:lnTo>
                    <a:pt x="81" y="211"/>
                  </a:lnTo>
                  <a:lnTo>
                    <a:pt x="146" y="17"/>
                  </a:lnTo>
                  <a:lnTo>
                    <a:pt x="178" y="17"/>
                  </a:lnTo>
                  <a:lnTo>
                    <a:pt x="178" y="49"/>
                  </a:lnTo>
                  <a:lnTo>
                    <a:pt x="210" y="65"/>
                  </a:lnTo>
                  <a:lnTo>
                    <a:pt x="259" y="17"/>
                  </a:lnTo>
                  <a:lnTo>
                    <a:pt x="275" y="17"/>
                  </a:lnTo>
                  <a:lnTo>
                    <a:pt x="275" y="0"/>
                  </a:lnTo>
                  <a:lnTo>
                    <a:pt x="291" y="0"/>
                  </a:lnTo>
                  <a:lnTo>
                    <a:pt x="372" y="33"/>
                  </a:lnTo>
                  <a:lnTo>
                    <a:pt x="453" y="259"/>
                  </a:lnTo>
                  <a:lnTo>
                    <a:pt x="453" y="276"/>
                  </a:lnTo>
                  <a:lnTo>
                    <a:pt x="453" y="276"/>
                  </a:lnTo>
                  <a:lnTo>
                    <a:pt x="453" y="292"/>
                  </a:lnTo>
                  <a:lnTo>
                    <a:pt x="453" y="292"/>
                  </a:lnTo>
                  <a:lnTo>
                    <a:pt x="453" y="324"/>
                  </a:lnTo>
                  <a:lnTo>
                    <a:pt x="469" y="324"/>
                  </a:lnTo>
                  <a:lnTo>
                    <a:pt x="469" y="324"/>
                  </a:lnTo>
                  <a:lnTo>
                    <a:pt x="485" y="324"/>
                  </a:lnTo>
                  <a:lnTo>
                    <a:pt x="518" y="324"/>
                  </a:lnTo>
                  <a:lnTo>
                    <a:pt x="534" y="340"/>
                  </a:lnTo>
                  <a:lnTo>
                    <a:pt x="518" y="356"/>
                  </a:lnTo>
                  <a:lnTo>
                    <a:pt x="534" y="373"/>
                  </a:lnTo>
                  <a:lnTo>
                    <a:pt x="534" y="389"/>
                  </a:lnTo>
                  <a:lnTo>
                    <a:pt x="550" y="405"/>
                  </a:lnTo>
                  <a:lnTo>
                    <a:pt x="566" y="421"/>
                  </a:lnTo>
                  <a:lnTo>
                    <a:pt x="566" y="405"/>
                  </a:lnTo>
                  <a:lnTo>
                    <a:pt x="583" y="405"/>
                  </a:lnTo>
                  <a:lnTo>
                    <a:pt x="599" y="405"/>
                  </a:lnTo>
                  <a:lnTo>
                    <a:pt x="615" y="437"/>
                  </a:lnTo>
                  <a:lnTo>
                    <a:pt x="599" y="454"/>
                  </a:lnTo>
                  <a:lnTo>
                    <a:pt x="631" y="470"/>
                  </a:lnTo>
                  <a:lnTo>
                    <a:pt x="631" y="470"/>
                  </a:lnTo>
                  <a:lnTo>
                    <a:pt x="615" y="502"/>
                  </a:lnTo>
                  <a:lnTo>
                    <a:pt x="599" y="518"/>
                  </a:lnTo>
                  <a:lnTo>
                    <a:pt x="583" y="502"/>
                  </a:lnTo>
                  <a:lnTo>
                    <a:pt x="566" y="534"/>
                  </a:lnTo>
                  <a:lnTo>
                    <a:pt x="566" y="551"/>
                  </a:lnTo>
                  <a:lnTo>
                    <a:pt x="534" y="551"/>
                  </a:lnTo>
                  <a:lnTo>
                    <a:pt x="518" y="567"/>
                  </a:lnTo>
                  <a:lnTo>
                    <a:pt x="518" y="583"/>
                  </a:lnTo>
                  <a:lnTo>
                    <a:pt x="518" y="583"/>
                  </a:lnTo>
                  <a:lnTo>
                    <a:pt x="518" y="583"/>
                  </a:lnTo>
                  <a:lnTo>
                    <a:pt x="502" y="583"/>
                  </a:lnTo>
                  <a:lnTo>
                    <a:pt x="518" y="599"/>
                  </a:lnTo>
                  <a:lnTo>
                    <a:pt x="502" y="599"/>
                  </a:lnTo>
                  <a:lnTo>
                    <a:pt x="485" y="583"/>
                  </a:lnTo>
                  <a:lnTo>
                    <a:pt x="469" y="583"/>
                  </a:lnTo>
                  <a:lnTo>
                    <a:pt x="453" y="615"/>
                  </a:lnTo>
                  <a:lnTo>
                    <a:pt x="437" y="599"/>
                  </a:lnTo>
                  <a:lnTo>
                    <a:pt x="437" y="632"/>
                  </a:lnTo>
                  <a:lnTo>
                    <a:pt x="437" y="648"/>
                  </a:lnTo>
                  <a:lnTo>
                    <a:pt x="437" y="648"/>
                  </a:lnTo>
                  <a:lnTo>
                    <a:pt x="404" y="648"/>
                  </a:lnTo>
                  <a:lnTo>
                    <a:pt x="388" y="648"/>
                  </a:lnTo>
                  <a:lnTo>
                    <a:pt x="388" y="632"/>
                  </a:lnTo>
                  <a:lnTo>
                    <a:pt x="388" y="615"/>
                  </a:lnTo>
                  <a:lnTo>
                    <a:pt x="388" y="599"/>
                  </a:lnTo>
                  <a:lnTo>
                    <a:pt x="372" y="599"/>
                  </a:lnTo>
                  <a:lnTo>
                    <a:pt x="372" y="583"/>
                  </a:lnTo>
                  <a:lnTo>
                    <a:pt x="372" y="599"/>
                  </a:lnTo>
                  <a:lnTo>
                    <a:pt x="388" y="599"/>
                  </a:lnTo>
                  <a:lnTo>
                    <a:pt x="388" y="615"/>
                  </a:lnTo>
                  <a:lnTo>
                    <a:pt x="372" y="632"/>
                  </a:lnTo>
                  <a:lnTo>
                    <a:pt x="372" y="664"/>
                  </a:lnTo>
                  <a:lnTo>
                    <a:pt x="372" y="680"/>
                  </a:lnTo>
                  <a:lnTo>
                    <a:pt x="372" y="713"/>
                  </a:lnTo>
                  <a:lnTo>
                    <a:pt x="356" y="745"/>
                  </a:lnTo>
                  <a:lnTo>
                    <a:pt x="340" y="745"/>
                  </a:lnTo>
                  <a:lnTo>
                    <a:pt x="340" y="745"/>
                  </a:lnTo>
                  <a:lnTo>
                    <a:pt x="340" y="745"/>
                  </a:lnTo>
                  <a:close/>
                  <a:moveTo>
                    <a:pt x="453" y="615"/>
                  </a:moveTo>
                  <a:lnTo>
                    <a:pt x="453" y="615"/>
                  </a:lnTo>
                  <a:lnTo>
                    <a:pt x="453" y="615"/>
                  </a:lnTo>
                  <a:lnTo>
                    <a:pt x="469" y="599"/>
                  </a:lnTo>
                  <a:lnTo>
                    <a:pt x="485" y="615"/>
                  </a:lnTo>
                  <a:lnTo>
                    <a:pt x="469" y="632"/>
                  </a:lnTo>
                  <a:lnTo>
                    <a:pt x="469" y="648"/>
                  </a:lnTo>
                  <a:lnTo>
                    <a:pt x="453" y="648"/>
                  </a:lnTo>
                  <a:lnTo>
                    <a:pt x="453" y="615"/>
                  </a:lnTo>
                  <a:lnTo>
                    <a:pt x="453" y="6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94560" y="3848040"/>
              <a:ext cx="537840" cy="477720"/>
            </a:xfrm>
            <a:custGeom>
              <a:avLst/>
              <a:gdLst/>
              <a:ahLst/>
              <a:rect l="l" t="t" r="r" b="b"/>
              <a:pathLst>
                <a:path w="874" h="777">
                  <a:moveTo>
                    <a:pt x="32" y="534"/>
                  </a:moveTo>
                  <a:lnTo>
                    <a:pt x="32" y="453"/>
                  </a:lnTo>
                  <a:lnTo>
                    <a:pt x="32" y="405"/>
                  </a:lnTo>
                  <a:lnTo>
                    <a:pt x="32" y="372"/>
                  </a:lnTo>
                  <a:lnTo>
                    <a:pt x="32" y="259"/>
                  </a:lnTo>
                  <a:lnTo>
                    <a:pt x="32" y="210"/>
                  </a:lnTo>
                  <a:lnTo>
                    <a:pt x="16" y="178"/>
                  </a:lnTo>
                  <a:lnTo>
                    <a:pt x="16" y="113"/>
                  </a:lnTo>
                  <a:lnTo>
                    <a:pt x="16" y="97"/>
                  </a:lnTo>
                  <a:lnTo>
                    <a:pt x="0" y="32"/>
                  </a:lnTo>
                  <a:lnTo>
                    <a:pt x="97" y="16"/>
                  </a:lnTo>
                  <a:lnTo>
                    <a:pt x="129" y="16"/>
                  </a:lnTo>
                  <a:lnTo>
                    <a:pt x="178" y="16"/>
                  </a:lnTo>
                  <a:lnTo>
                    <a:pt x="226" y="16"/>
                  </a:lnTo>
                  <a:lnTo>
                    <a:pt x="226" y="16"/>
                  </a:lnTo>
                  <a:lnTo>
                    <a:pt x="307" y="16"/>
                  </a:lnTo>
                  <a:lnTo>
                    <a:pt x="323" y="16"/>
                  </a:lnTo>
                  <a:lnTo>
                    <a:pt x="356" y="16"/>
                  </a:lnTo>
                  <a:lnTo>
                    <a:pt x="420" y="16"/>
                  </a:lnTo>
                  <a:lnTo>
                    <a:pt x="437" y="16"/>
                  </a:lnTo>
                  <a:lnTo>
                    <a:pt x="501" y="16"/>
                  </a:lnTo>
                  <a:lnTo>
                    <a:pt x="550" y="0"/>
                  </a:lnTo>
                  <a:lnTo>
                    <a:pt x="550" y="0"/>
                  </a:lnTo>
                  <a:lnTo>
                    <a:pt x="598" y="0"/>
                  </a:lnTo>
                  <a:lnTo>
                    <a:pt x="663" y="0"/>
                  </a:lnTo>
                  <a:lnTo>
                    <a:pt x="696" y="0"/>
                  </a:lnTo>
                  <a:lnTo>
                    <a:pt x="760" y="0"/>
                  </a:lnTo>
                  <a:lnTo>
                    <a:pt x="776" y="0"/>
                  </a:lnTo>
                  <a:lnTo>
                    <a:pt x="776" y="16"/>
                  </a:lnTo>
                  <a:lnTo>
                    <a:pt x="793" y="16"/>
                  </a:lnTo>
                  <a:lnTo>
                    <a:pt x="793" y="48"/>
                  </a:lnTo>
                  <a:lnTo>
                    <a:pt x="776" y="65"/>
                  </a:lnTo>
                  <a:lnTo>
                    <a:pt x="744" y="81"/>
                  </a:lnTo>
                  <a:lnTo>
                    <a:pt x="744" y="113"/>
                  </a:lnTo>
                  <a:lnTo>
                    <a:pt x="760" y="113"/>
                  </a:lnTo>
                  <a:lnTo>
                    <a:pt x="809" y="97"/>
                  </a:lnTo>
                  <a:lnTo>
                    <a:pt x="857" y="97"/>
                  </a:lnTo>
                  <a:lnTo>
                    <a:pt x="874" y="113"/>
                  </a:lnTo>
                  <a:lnTo>
                    <a:pt x="874" y="129"/>
                  </a:lnTo>
                  <a:lnTo>
                    <a:pt x="857" y="113"/>
                  </a:lnTo>
                  <a:lnTo>
                    <a:pt x="857" y="129"/>
                  </a:lnTo>
                  <a:lnTo>
                    <a:pt x="857" y="129"/>
                  </a:lnTo>
                  <a:lnTo>
                    <a:pt x="841" y="146"/>
                  </a:lnTo>
                  <a:lnTo>
                    <a:pt x="841" y="146"/>
                  </a:lnTo>
                  <a:lnTo>
                    <a:pt x="825" y="162"/>
                  </a:lnTo>
                  <a:lnTo>
                    <a:pt x="825" y="178"/>
                  </a:lnTo>
                  <a:lnTo>
                    <a:pt x="841" y="178"/>
                  </a:lnTo>
                  <a:lnTo>
                    <a:pt x="841" y="178"/>
                  </a:lnTo>
                  <a:lnTo>
                    <a:pt x="825" y="194"/>
                  </a:lnTo>
                  <a:lnTo>
                    <a:pt x="825" y="194"/>
                  </a:lnTo>
                  <a:lnTo>
                    <a:pt x="825" y="210"/>
                  </a:lnTo>
                  <a:lnTo>
                    <a:pt x="809" y="194"/>
                  </a:lnTo>
                  <a:lnTo>
                    <a:pt x="809" y="194"/>
                  </a:lnTo>
                  <a:lnTo>
                    <a:pt x="809" y="210"/>
                  </a:lnTo>
                  <a:lnTo>
                    <a:pt x="809" y="226"/>
                  </a:lnTo>
                  <a:lnTo>
                    <a:pt x="809" y="226"/>
                  </a:lnTo>
                  <a:lnTo>
                    <a:pt x="793" y="210"/>
                  </a:lnTo>
                  <a:lnTo>
                    <a:pt x="793" y="226"/>
                  </a:lnTo>
                  <a:lnTo>
                    <a:pt x="793" y="226"/>
                  </a:lnTo>
                  <a:lnTo>
                    <a:pt x="793" y="243"/>
                  </a:lnTo>
                  <a:lnTo>
                    <a:pt x="809" y="226"/>
                  </a:lnTo>
                  <a:lnTo>
                    <a:pt x="793" y="259"/>
                  </a:lnTo>
                  <a:lnTo>
                    <a:pt x="793" y="259"/>
                  </a:lnTo>
                  <a:lnTo>
                    <a:pt x="809" y="259"/>
                  </a:lnTo>
                  <a:lnTo>
                    <a:pt x="809" y="291"/>
                  </a:lnTo>
                  <a:lnTo>
                    <a:pt x="793" y="291"/>
                  </a:lnTo>
                  <a:lnTo>
                    <a:pt x="793" y="307"/>
                  </a:lnTo>
                  <a:lnTo>
                    <a:pt x="776" y="307"/>
                  </a:lnTo>
                  <a:lnTo>
                    <a:pt x="760" y="324"/>
                  </a:lnTo>
                  <a:lnTo>
                    <a:pt x="776" y="340"/>
                  </a:lnTo>
                  <a:lnTo>
                    <a:pt x="776" y="356"/>
                  </a:lnTo>
                  <a:lnTo>
                    <a:pt x="744" y="356"/>
                  </a:lnTo>
                  <a:lnTo>
                    <a:pt x="744" y="356"/>
                  </a:lnTo>
                  <a:lnTo>
                    <a:pt x="744" y="356"/>
                  </a:lnTo>
                  <a:lnTo>
                    <a:pt x="744" y="356"/>
                  </a:lnTo>
                  <a:lnTo>
                    <a:pt x="744" y="388"/>
                  </a:lnTo>
                  <a:lnTo>
                    <a:pt x="728" y="388"/>
                  </a:lnTo>
                  <a:lnTo>
                    <a:pt x="728" y="372"/>
                  </a:lnTo>
                  <a:lnTo>
                    <a:pt x="728" y="372"/>
                  </a:lnTo>
                  <a:lnTo>
                    <a:pt x="728" y="388"/>
                  </a:lnTo>
                  <a:lnTo>
                    <a:pt x="744" y="388"/>
                  </a:lnTo>
                  <a:lnTo>
                    <a:pt x="744" y="405"/>
                  </a:lnTo>
                  <a:lnTo>
                    <a:pt x="728" y="405"/>
                  </a:lnTo>
                  <a:lnTo>
                    <a:pt x="728" y="388"/>
                  </a:lnTo>
                  <a:lnTo>
                    <a:pt x="728" y="405"/>
                  </a:lnTo>
                  <a:lnTo>
                    <a:pt x="728" y="421"/>
                  </a:lnTo>
                  <a:lnTo>
                    <a:pt x="728" y="421"/>
                  </a:lnTo>
                  <a:lnTo>
                    <a:pt x="728" y="453"/>
                  </a:lnTo>
                  <a:lnTo>
                    <a:pt x="712" y="469"/>
                  </a:lnTo>
                  <a:lnTo>
                    <a:pt x="712" y="469"/>
                  </a:lnTo>
                  <a:lnTo>
                    <a:pt x="712" y="469"/>
                  </a:lnTo>
                  <a:lnTo>
                    <a:pt x="712" y="469"/>
                  </a:lnTo>
                  <a:lnTo>
                    <a:pt x="696" y="469"/>
                  </a:lnTo>
                  <a:lnTo>
                    <a:pt x="696" y="485"/>
                  </a:lnTo>
                  <a:lnTo>
                    <a:pt x="679" y="485"/>
                  </a:lnTo>
                  <a:lnTo>
                    <a:pt x="679" y="502"/>
                  </a:lnTo>
                  <a:lnTo>
                    <a:pt x="679" y="502"/>
                  </a:lnTo>
                  <a:lnTo>
                    <a:pt x="663" y="485"/>
                  </a:lnTo>
                  <a:lnTo>
                    <a:pt x="663" y="502"/>
                  </a:lnTo>
                  <a:lnTo>
                    <a:pt x="696" y="518"/>
                  </a:lnTo>
                  <a:lnTo>
                    <a:pt x="679" y="518"/>
                  </a:lnTo>
                  <a:lnTo>
                    <a:pt x="663" y="502"/>
                  </a:lnTo>
                  <a:lnTo>
                    <a:pt x="663" y="518"/>
                  </a:lnTo>
                  <a:lnTo>
                    <a:pt x="679" y="518"/>
                  </a:lnTo>
                  <a:lnTo>
                    <a:pt x="679" y="534"/>
                  </a:lnTo>
                  <a:lnTo>
                    <a:pt x="663" y="550"/>
                  </a:lnTo>
                  <a:lnTo>
                    <a:pt x="663" y="550"/>
                  </a:lnTo>
                  <a:lnTo>
                    <a:pt x="647" y="550"/>
                  </a:lnTo>
                  <a:lnTo>
                    <a:pt x="647" y="566"/>
                  </a:lnTo>
                  <a:lnTo>
                    <a:pt x="647" y="583"/>
                  </a:lnTo>
                  <a:lnTo>
                    <a:pt x="663" y="599"/>
                  </a:lnTo>
                  <a:lnTo>
                    <a:pt x="663" y="599"/>
                  </a:lnTo>
                  <a:lnTo>
                    <a:pt x="631" y="599"/>
                  </a:lnTo>
                  <a:lnTo>
                    <a:pt x="631" y="615"/>
                  </a:lnTo>
                  <a:lnTo>
                    <a:pt x="647" y="615"/>
                  </a:lnTo>
                  <a:lnTo>
                    <a:pt x="647" y="615"/>
                  </a:lnTo>
                  <a:lnTo>
                    <a:pt x="647" y="631"/>
                  </a:lnTo>
                  <a:lnTo>
                    <a:pt x="631" y="615"/>
                  </a:lnTo>
                  <a:lnTo>
                    <a:pt x="615" y="615"/>
                  </a:lnTo>
                  <a:lnTo>
                    <a:pt x="631" y="631"/>
                  </a:lnTo>
                  <a:lnTo>
                    <a:pt x="631" y="647"/>
                  </a:lnTo>
                  <a:lnTo>
                    <a:pt x="615" y="647"/>
                  </a:lnTo>
                  <a:lnTo>
                    <a:pt x="615" y="647"/>
                  </a:lnTo>
                  <a:lnTo>
                    <a:pt x="631" y="647"/>
                  </a:lnTo>
                  <a:lnTo>
                    <a:pt x="631" y="663"/>
                  </a:lnTo>
                  <a:lnTo>
                    <a:pt x="615" y="680"/>
                  </a:lnTo>
                  <a:lnTo>
                    <a:pt x="631" y="663"/>
                  </a:lnTo>
                  <a:lnTo>
                    <a:pt x="631" y="663"/>
                  </a:lnTo>
                  <a:lnTo>
                    <a:pt x="647" y="663"/>
                  </a:lnTo>
                  <a:lnTo>
                    <a:pt x="631" y="680"/>
                  </a:lnTo>
                  <a:lnTo>
                    <a:pt x="631" y="680"/>
                  </a:lnTo>
                  <a:lnTo>
                    <a:pt x="631" y="680"/>
                  </a:lnTo>
                  <a:lnTo>
                    <a:pt x="647" y="663"/>
                  </a:lnTo>
                  <a:lnTo>
                    <a:pt x="631" y="696"/>
                  </a:lnTo>
                  <a:lnTo>
                    <a:pt x="647" y="712"/>
                  </a:lnTo>
                  <a:lnTo>
                    <a:pt x="647" y="712"/>
                  </a:lnTo>
                  <a:lnTo>
                    <a:pt x="663" y="712"/>
                  </a:lnTo>
                  <a:lnTo>
                    <a:pt x="647" y="712"/>
                  </a:lnTo>
                  <a:lnTo>
                    <a:pt x="647" y="744"/>
                  </a:lnTo>
                  <a:lnTo>
                    <a:pt x="631" y="744"/>
                  </a:lnTo>
                  <a:lnTo>
                    <a:pt x="647" y="761"/>
                  </a:lnTo>
                  <a:lnTo>
                    <a:pt x="631" y="761"/>
                  </a:lnTo>
                  <a:lnTo>
                    <a:pt x="631" y="761"/>
                  </a:lnTo>
                  <a:lnTo>
                    <a:pt x="615" y="761"/>
                  </a:lnTo>
                  <a:lnTo>
                    <a:pt x="582" y="761"/>
                  </a:lnTo>
                  <a:lnTo>
                    <a:pt x="582" y="777"/>
                  </a:lnTo>
                  <a:lnTo>
                    <a:pt x="469" y="777"/>
                  </a:lnTo>
                  <a:lnTo>
                    <a:pt x="356" y="777"/>
                  </a:lnTo>
                  <a:lnTo>
                    <a:pt x="307" y="777"/>
                  </a:lnTo>
                  <a:lnTo>
                    <a:pt x="259" y="777"/>
                  </a:lnTo>
                  <a:lnTo>
                    <a:pt x="210" y="777"/>
                  </a:lnTo>
                  <a:lnTo>
                    <a:pt x="210" y="777"/>
                  </a:lnTo>
                  <a:lnTo>
                    <a:pt x="161" y="777"/>
                  </a:lnTo>
                  <a:lnTo>
                    <a:pt x="113" y="777"/>
                  </a:lnTo>
                  <a:lnTo>
                    <a:pt x="113" y="728"/>
                  </a:lnTo>
                  <a:lnTo>
                    <a:pt x="113" y="663"/>
                  </a:lnTo>
                  <a:lnTo>
                    <a:pt x="97" y="663"/>
                  </a:lnTo>
                  <a:lnTo>
                    <a:pt x="97" y="663"/>
                  </a:lnTo>
                  <a:lnTo>
                    <a:pt x="97" y="663"/>
                  </a:lnTo>
                  <a:lnTo>
                    <a:pt x="81" y="663"/>
                  </a:lnTo>
                  <a:lnTo>
                    <a:pt x="81" y="663"/>
                  </a:lnTo>
                  <a:lnTo>
                    <a:pt x="48" y="663"/>
                  </a:lnTo>
                  <a:lnTo>
                    <a:pt x="48" y="663"/>
                  </a:lnTo>
                  <a:lnTo>
                    <a:pt x="48" y="663"/>
                  </a:lnTo>
                  <a:lnTo>
                    <a:pt x="48" y="663"/>
                  </a:lnTo>
                  <a:lnTo>
                    <a:pt x="32" y="663"/>
                  </a:lnTo>
                  <a:lnTo>
                    <a:pt x="32" y="647"/>
                  </a:lnTo>
                  <a:lnTo>
                    <a:pt x="32" y="647"/>
                  </a:lnTo>
                  <a:lnTo>
                    <a:pt x="32" y="583"/>
                  </a:lnTo>
                  <a:lnTo>
                    <a:pt x="32" y="53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43760" y="4027320"/>
              <a:ext cx="377640" cy="657360"/>
            </a:xfrm>
            <a:custGeom>
              <a:avLst/>
              <a:gdLst/>
              <a:ahLst/>
              <a:rect l="l" t="t" r="r" b="b"/>
              <a:pathLst>
                <a:path w="615" h="1068">
                  <a:moveTo>
                    <a:pt x="599" y="793"/>
                  </a:moveTo>
                  <a:lnTo>
                    <a:pt x="599" y="858"/>
                  </a:lnTo>
                  <a:lnTo>
                    <a:pt x="599" y="874"/>
                  </a:lnTo>
                  <a:lnTo>
                    <a:pt x="615" y="939"/>
                  </a:lnTo>
                  <a:lnTo>
                    <a:pt x="615" y="1020"/>
                  </a:lnTo>
                  <a:lnTo>
                    <a:pt x="615" y="1020"/>
                  </a:lnTo>
                  <a:lnTo>
                    <a:pt x="615" y="1036"/>
                  </a:lnTo>
                  <a:lnTo>
                    <a:pt x="583" y="1020"/>
                  </a:lnTo>
                  <a:lnTo>
                    <a:pt x="566" y="1020"/>
                  </a:lnTo>
                  <a:lnTo>
                    <a:pt x="534" y="1004"/>
                  </a:lnTo>
                  <a:lnTo>
                    <a:pt x="518" y="1020"/>
                  </a:lnTo>
                  <a:lnTo>
                    <a:pt x="534" y="1020"/>
                  </a:lnTo>
                  <a:lnTo>
                    <a:pt x="453" y="1036"/>
                  </a:lnTo>
                  <a:lnTo>
                    <a:pt x="453" y="1036"/>
                  </a:lnTo>
                  <a:lnTo>
                    <a:pt x="437" y="1036"/>
                  </a:lnTo>
                  <a:lnTo>
                    <a:pt x="437" y="1036"/>
                  </a:lnTo>
                  <a:lnTo>
                    <a:pt x="453" y="1036"/>
                  </a:lnTo>
                  <a:lnTo>
                    <a:pt x="437" y="1052"/>
                  </a:lnTo>
                  <a:lnTo>
                    <a:pt x="421" y="1068"/>
                  </a:lnTo>
                  <a:lnTo>
                    <a:pt x="405" y="1068"/>
                  </a:lnTo>
                  <a:lnTo>
                    <a:pt x="388" y="1052"/>
                  </a:lnTo>
                  <a:lnTo>
                    <a:pt x="388" y="1036"/>
                  </a:lnTo>
                  <a:lnTo>
                    <a:pt x="372" y="1036"/>
                  </a:lnTo>
                  <a:lnTo>
                    <a:pt x="372" y="1020"/>
                  </a:lnTo>
                  <a:lnTo>
                    <a:pt x="356" y="1004"/>
                  </a:lnTo>
                  <a:lnTo>
                    <a:pt x="356" y="971"/>
                  </a:lnTo>
                  <a:lnTo>
                    <a:pt x="340" y="971"/>
                  </a:lnTo>
                  <a:lnTo>
                    <a:pt x="340" y="939"/>
                  </a:lnTo>
                  <a:lnTo>
                    <a:pt x="356" y="939"/>
                  </a:lnTo>
                  <a:lnTo>
                    <a:pt x="356" y="923"/>
                  </a:lnTo>
                  <a:lnTo>
                    <a:pt x="356" y="907"/>
                  </a:lnTo>
                  <a:lnTo>
                    <a:pt x="356" y="890"/>
                  </a:lnTo>
                  <a:lnTo>
                    <a:pt x="340" y="907"/>
                  </a:lnTo>
                  <a:lnTo>
                    <a:pt x="259" y="907"/>
                  </a:lnTo>
                  <a:lnTo>
                    <a:pt x="243" y="907"/>
                  </a:lnTo>
                  <a:lnTo>
                    <a:pt x="210" y="907"/>
                  </a:lnTo>
                  <a:lnTo>
                    <a:pt x="210" y="907"/>
                  </a:lnTo>
                  <a:lnTo>
                    <a:pt x="162" y="907"/>
                  </a:lnTo>
                  <a:lnTo>
                    <a:pt x="113" y="907"/>
                  </a:lnTo>
                  <a:lnTo>
                    <a:pt x="97" y="907"/>
                  </a:lnTo>
                  <a:lnTo>
                    <a:pt x="0" y="923"/>
                  </a:lnTo>
                  <a:lnTo>
                    <a:pt x="16" y="907"/>
                  </a:lnTo>
                  <a:lnTo>
                    <a:pt x="0" y="890"/>
                  </a:lnTo>
                  <a:lnTo>
                    <a:pt x="16" y="874"/>
                  </a:lnTo>
                  <a:lnTo>
                    <a:pt x="0" y="858"/>
                  </a:lnTo>
                  <a:lnTo>
                    <a:pt x="32" y="858"/>
                  </a:lnTo>
                  <a:lnTo>
                    <a:pt x="16" y="826"/>
                  </a:lnTo>
                  <a:lnTo>
                    <a:pt x="16" y="826"/>
                  </a:lnTo>
                  <a:lnTo>
                    <a:pt x="16" y="826"/>
                  </a:lnTo>
                  <a:lnTo>
                    <a:pt x="32" y="842"/>
                  </a:lnTo>
                  <a:lnTo>
                    <a:pt x="32" y="809"/>
                  </a:lnTo>
                  <a:lnTo>
                    <a:pt x="49" y="793"/>
                  </a:lnTo>
                  <a:lnTo>
                    <a:pt x="32" y="793"/>
                  </a:lnTo>
                  <a:lnTo>
                    <a:pt x="16" y="777"/>
                  </a:lnTo>
                  <a:lnTo>
                    <a:pt x="49" y="777"/>
                  </a:lnTo>
                  <a:lnTo>
                    <a:pt x="49" y="745"/>
                  </a:lnTo>
                  <a:lnTo>
                    <a:pt x="49" y="745"/>
                  </a:lnTo>
                  <a:lnTo>
                    <a:pt x="65" y="745"/>
                  </a:lnTo>
                  <a:lnTo>
                    <a:pt x="49" y="745"/>
                  </a:lnTo>
                  <a:lnTo>
                    <a:pt x="65" y="729"/>
                  </a:lnTo>
                  <a:lnTo>
                    <a:pt x="65" y="745"/>
                  </a:lnTo>
                  <a:lnTo>
                    <a:pt x="65" y="729"/>
                  </a:lnTo>
                  <a:lnTo>
                    <a:pt x="81" y="696"/>
                  </a:lnTo>
                  <a:lnTo>
                    <a:pt x="97" y="696"/>
                  </a:lnTo>
                  <a:lnTo>
                    <a:pt x="81" y="680"/>
                  </a:lnTo>
                  <a:lnTo>
                    <a:pt x="97" y="680"/>
                  </a:lnTo>
                  <a:lnTo>
                    <a:pt x="97" y="680"/>
                  </a:lnTo>
                  <a:lnTo>
                    <a:pt x="113" y="664"/>
                  </a:lnTo>
                  <a:lnTo>
                    <a:pt x="97" y="648"/>
                  </a:lnTo>
                  <a:lnTo>
                    <a:pt x="97" y="664"/>
                  </a:lnTo>
                  <a:lnTo>
                    <a:pt x="81" y="664"/>
                  </a:lnTo>
                  <a:lnTo>
                    <a:pt x="81" y="648"/>
                  </a:lnTo>
                  <a:lnTo>
                    <a:pt x="81" y="648"/>
                  </a:lnTo>
                  <a:lnTo>
                    <a:pt x="97" y="648"/>
                  </a:lnTo>
                  <a:lnTo>
                    <a:pt x="113" y="648"/>
                  </a:lnTo>
                  <a:lnTo>
                    <a:pt x="113" y="631"/>
                  </a:lnTo>
                  <a:lnTo>
                    <a:pt x="130" y="631"/>
                  </a:lnTo>
                  <a:lnTo>
                    <a:pt x="130" y="615"/>
                  </a:lnTo>
                  <a:lnTo>
                    <a:pt x="130" y="615"/>
                  </a:lnTo>
                  <a:lnTo>
                    <a:pt x="113" y="615"/>
                  </a:lnTo>
                  <a:lnTo>
                    <a:pt x="113" y="615"/>
                  </a:lnTo>
                  <a:lnTo>
                    <a:pt x="113" y="599"/>
                  </a:lnTo>
                  <a:lnTo>
                    <a:pt x="97" y="599"/>
                  </a:lnTo>
                  <a:lnTo>
                    <a:pt x="81" y="583"/>
                  </a:lnTo>
                  <a:lnTo>
                    <a:pt x="97" y="583"/>
                  </a:lnTo>
                  <a:lnTo>
                    <a:pt x="97" y="583"/>
                  </a:lnTo>
                  <a:lnTo>
                    <a:pt x="113" y="583"/>
                  </a:lnTo>
                  <a:lnTo>
                    <a:pt x="97" y="567"/>
                  </a:lnTo>
                  <a:lnTo>
                    <a:pt x="97" y="567"/>
                  </a:lnTo>
                  <a:lnTo>
                    <a:pt x="97" y="550"/>
                  </a:lnTo>
                  <a:lnTo>
                    <a:pt x="81" y="567"/>
                  </a:lnTo>
                  <a:lnTo>
                    <a:pt x="81" y="550"/>
                  </a:lnTo>
                  <a:lnTo>
                    <a:pt x="97" y="534"/>
                  </a:lnTo>
                  <a:lnTo>
                    <a:pt x="81" y="534"/>
                  </a:lnTo>
                  <a:lnTo>
                    <a:pt x="81" y="518"/>
                  </a:lnTo>
                  <a:lnTo>
                    <a:pt x="81" y="502"/>
                  </a:lnTo>
                  <a:lnTo>
                    <a:pt x="81" y="486"/>
                  </a:lnTo>
                  <a:lnTo>
                    <a:pt x="81" y="486"/>
                  </a:lnTo>
                  <a:lnTo>
                    <a:pt x="81" y="502"/>
                  </a:lnTo>
                  <a:lnTo>
                    <a:pt x="65" y="502"/>
                  </a:lnTo>
                  <a:lnTo>
                    <a:pt x="65" y="470"/>
                  </a:lnTo>
                  <a:lnTo>
                    <a:pt x="65" y="470"/>
                  </a:lnTo>
                  <a:lnTo>
                    <a:pt x="81" y="470"/>
                  </a:lnTo>
                  <a:lnTo>
                    <a:pt x="65" y="453"/>
                  </a:lnTo>
                  <a:lnTo>
                    <a:pt x="81" y="453"/>
                  </a:lnTo>
                  <a:lnTo>
                    <a:pt x="81" y="421"/>
                  </a:lnTo>
                  <a:lnTo>
                    <a:pt x="97" y="421"/>
                  </a:lnTo>
                  <a:lnTo>
                    <a:pt x="81" y="421"/>
                  </a:lnTo>
                  <a:lnTo>
                    <a:pt x="81" y="421"/>
                  </a:lnTo>
                  <a:lnTo>
                    <a:pt x="65" y="405"/>
                  </a:lnTo>
                  <a:lnTo>
                    <a:pt x="81" y="372"/>
                  </a:lnTo>
                  <a:lnTo>
                    <a:pt x="65" y="389"/>
                  </a:lnTo>
                  <a:lnTo>
                    <a:pt x="65" y="389"/>
                  </a:lnTo>
                  <a:lnTo>
                    <a:pt x="65" y="389"/>
                  </a:lnTo>
                  <a:lnTo>
                    <a:pt x="81" y="372"/>
                  </a:lnTo>
                  <a:lnTo>
                    <a:pt x="65" y="372"/>
                  </a:lnTo>
                  <a:lnTo>
                    <a:pt x="65" y="372"/>
                  </a:lnTo>
                  <a:lnTo>
                    <a:pt x="49" y="389"/>
                  </a:lnTo>
                  <a:lnTo>
                    <a:pt x="65" y="372"/>
                  </a:lnTo>
                  <a:lnTo>
                    <a:pt x="65" y="356"/>
                  </a:lnTo>
                  <a:lnTo>
                    <a:pt x="49" y="356"/>
                  </a:lnTo>
                  <a:lnTo>
                    <a:pt x="49" y="356"/>
                  </a:lnTo>
                  <a:lnTo>
                    <a:pt x="65" y="356"/>
                  </a:lnTo>
                  <a:lnTo>
                    <a:pt x="65" y="340"/>
                  </a:lnTo>
                  <a:lnTo>
                    <a:pt x="49" y="324"/>
                  </a:lnTo>
                  <a:lnTo>
                    <a:pt x="65" y="324"/>
                  </a:lnTo>
                  <a:lnTo>
                    <a:pt x="81" y="340"/>
                  </a:lnTo>
                  <a:lnTo>
                    <a:pt x="81" y="324"/>
                  </a:lnTo>
                  <a:lnTo>
                    <a:pt x="81" y="324"/>
                  </a:lnTo>
                  <a:lnTo>
                    <a:pt x="65" y="324"/>
                  </a:lnTo>
                  <a:lnTo>
                    <a:pt x="65" y="308"/>
                  </a:lnTo>
                  <a:lnTo>
                    <a:pt x="97" y="308"/>
                  </a:lnTo>
                  <a:lnTo>
                    <a:pt x="97" y="308"/>
                  </a:lnTo>
                  <a:lnTo>
                    <a:pt x="81" y="292"/>
                  </a:lnTo>
                  <a:lnTo>
                    <a:pt x="81" y="275"/>
                  </a:lnTo>
                  <a:lnTo>
                    <a:pt x="81" y="259"/>
                  </a:lnTo>
                  <a:lnTo>
                    <a:pt x="97" y="259"/>
                  </a:lnTo>
                  <a:lnTo>
                    <a:pt x="97" y="259"/>
                  </a:lnTo>
                  <a:lnTo>
                    <a:pt x="113" y="243"/>
                  </a:lnTo>
                  <a:lnTo>
                    <a:pt x="113" y="227"/>
                  </a:lnTo>
                  <a:lnTo>
                    <a:pt x="97" y="227"/>
                  </a:lnTo>
                  <a:lnTo>
                    <a:pt x="97" y="211"/>
                  </a:lnTo>
                  <a:lnTo>
                    <a:pt x="113" y="227"/>
                  </a:lnTo>
                  <a:lnTo>
                    <a:pt x="130" y="227"/>
                  </a:lnTo>
                  <a:lnTo>
                    <a:pt x="97" y="211"/>
                  </a:lnTo>
                  <a:lnTo>
                    <a:pt x="97" y="194"/>
                  </a:lnTo>
                  <a:lnTo>
                    <a:pt x="113" y="211"/>
                  </a:lnTo>
                  <a:lnTo>
                    <a:pt x="113" y="211"/>
                  </a:lnTo>
                  <a:lnTo>
                    <a:pt x="113" y="194"/>
                  </a:lnTo>
                  <a:lnTo>
                    <a:pt x="130" y="194"/>
                  </a:lnTo>
                  <a:lnTo>
                    <a:pt x="130" y="178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62" y="162"/>
                  </a:lnTo>
                  <a:lnTo>
                    <a:pt x="162" y="130"/>
                  </a:lnTo>
                  <a:lnTo>
                    <a:pt x="162" y="130"/>
                  </a:lnTo>
                  <a:lnTo>
                    <a:pt x="162" y="114"/>
                  </a:lnTo>
                  <a:lnTo>
                    <a:pt x="162" y="97"/>
                  </a:lnTo>
                  <a:lnTo>
                    <a:pt x="162" y="114"/>
                  </a:lnTo>
                  <a:lnTo>
                    <a:pt x="178" y="114"/>
                  </a:lnTo>
                  <a:lnTo>
                    <a:pt x="178" y="97"/>
                  </a:lnTo>
                  <a:lnTo>
                    <a:pt x="162" y="97"/>
                  </a:lnTo>
                  <a:lnTo>
                    <a:pt x="162" y="81"/>
                  </a:lnTo>
                  <a:lnTo>
                    <a:pt x="162" y="81"/>
                  </a:lnTo>
                  <a:lnTo>
                    <a:pt x="162" y="97"/>
                  </a:lnTo>
                  <a:lnTo>
                    <a:pt x="178" y="97"/>
                  </a:lnTo>
                  <a:lnTo>
                    <a:pt x="178" y="65"/>
                  </a:lnTo>
                  <a:lnTo>
                    <a:pt x="178" y="65"/>
                  </a:lnTo>
                  <a:lnTo>
                    <a:pt x="178" y="65"/>
                  </a:lnTo>
                  <a:lnTo>
                    <a:pt x="178" y="65"/>
                  </a:lnTo>
                  <a:lnTo>
                    <a:pt x="210" y="65"/>
                  </a:lnTo>
                  <a:lnTo>
                    <a:pt x="210" y="49"/>
                  </a:lnTo>
                  <a:lnTo>
                    <a:pt x="194" y="33"/>
                  </a:lnTo>
                  <a:lnTo>
                    <a:pt x="308" y="33"/>
                  </a:lnTo>
                  <a:lnTo>
                    <a:pt x="324" y="33"/>
                  </a:lnTo>
                  <a:lnTo>
                    <a:pt x="372" y="16"/>
                  </a:lnTo>
                  <a:lnTo>
                    <a:pt x="405" y="16"/>
                  </a:lnTo>
                  <a:lnTo>
                    <a:pt x="437" y="16"/>
                  </a:lnTo>
                  <a:lnTo>
                    <a:pt x="469" y="16"/>
                  </a:lnTo>
                  <a:lnTo>
                    <a:pt x="469" y="16"/>
                  </a:lnTo>
                  <a:lnTo>
                    <a:pt x="534" y="0"/>
                  </a:lnTo>
                  <a:lnTo>
                    <a:pt x="550" y="0"/>
                  </a:lnTo>
                  <a:lnTo>
                    <a:pt x="583" y="0"/>
                  </a:lnTo>
                  <a:lnTo>
                    <a:pt x="599" y="33"/>
                  </a:lnTo>
                  <a:lnTo>
                    <a:pt x="599" y="97"/>
                  </a:lnTo>
                  <a:lnTo>
                    <a:pt x="599" y="130"/>
                  </a:lnTo>
                  <a:lnTo>
                    <a:pt x="599" y="146"/>
                  </a:lnTo>
                  <a:lnTo>
                    <a:pt x="583" y="211"/>
                  </a:lnTo>
                  <a:lnTo>
                    <a:pt x="583" y="211"/>
                  </a:lnTo>
                  <a:lnTo>
                    <a:pt x="583" y="275"/>
                  </a:lnTo>
                  <a:lnTo>
                    <a:pt x="583" y="324"/>
                  </a:lnTo>
                  <a:lnTo>
                    <a:pt x="583" y="389"/>
                  </a:lnTo>
                  <a:lnTo>
                    <a:pt x="583" y="453"/>
                  </a:lnTo>
                  <a:lnTo>
                    <a:pt x="583" y="453"/>
                  </a:lnTo>
                  <a:lnTo>
                    <a:pt x="583" y="534"/>
                  </a:lnTo>
                  <a:lnTo>
                    <a:pt x="583" y="599"/>
                  </a:lnTo>
                  <a:lnTo>
                    <a:pt x="583" y="615"/>
                  </a:lnTo>
                  <a:lnTo>
                    <a:pt x="583" y="696"/>
                  </a:lnTo>
                  <a:lnTo>
                    <a:pt x="583" y="729"/>
                  </a:lnTo>
                  <a:lnTo>
                    <a:pt x="599" y="7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0880" y="4008240"/>
              <a:ext cx="407880" cy="655560"/>
            </a:xfrm>
            <a:custGeom>
              <a:avLst/>
              <a:gdLst/>
              <a:ahLst/>
              <a:rect l="l" t="t" r="r" b="b"/>
              <a:pathLst>
                <a:path w="663" h="1068">
                  <a:moveTo>
                    <a:pt x="615" y="680"/>
                  </a:moveTo>
                  <a:lnTo>
                    <a:pt x="615" y="680"/>
                  </a:lnTo>
                  <a:lnTo>
                    <a:pt x="631" y="744"/>
                  </a:lnTo>
                  <a:lnTo>
                    <a:pt x="631" y="777"/>
                  </a:lnTo>
                  <a:lnTo>
                    <a:pt x="631" y="809"/>
                  </a:lnTo>
                  <a:lnTo>
                    <a:pt x="647" y="841"/>
                  </a:lnTo>
                  <a:lnTo>
                    <a:pt x="663" y="858"/>
                  </a:lnTo>
                  <a:lnTo>
                    <a:pt x="566" y="858"/>
                  </a:lnTo>
                  <a:lnTo>
                    <a:pt x="566" y="858"/>
                  </a:lnTo>
                  <a:lnTo>
                    <a:pt x="469" y="874"/>
                  </a:lnTo>
                  <a:lnTo>
                    <a:pt x="437" y="874"/>
                  </a:lnTo>
                  <a:lnTo>
                    <a:pt x="404" y="874"/>
                  </a:lnTo>
                  <a:lnTo>
                    <a:pt x="340" y="890"/>
                  </a:lnTo>
                  <a:lnTo>
                    <a:pt x="323" y="890"/>
                  </a:lnTo>
                  <a:lnTo>
                    <a:pt x="259" y="890"/>
                  </a:lnTo>
                  <a:lnTo>
                    <a:pt x="178" y="906"/>
                  </a:lnTo>
                  <a:lnTo>
                    <a:pt x="178" y="939"/>
                  </a:lnTo>
                  <a:lnTo>
                    <a:pt x="226" y="971"/>
                  </a:lnTo>
                  <a:lnTo>
                    <a:pt x="226" y="987"/>
                  </a:lnTo>
                  <a:lnTo>
                    <a:pt x="210" y="1003"/>
                  </a:lnTo>
                  <a:lnTo>
                    <a:pt x="226" y="1003"/>
                  </a:lnTo>
                  <a:lnTo>
                    <a:pt x="226" y="1019"/>
                  </a:lnTo>
                  <a:lnTo>
                    <a:pt x="210" y="1036"/>
                  </a:lnTo>
                  <a:lnTo>
                    <a:pt x="194" y="1052"/>
                  </a:lnTo>
                  <a:lnTo>
                    <a:pt x="194" y="1052"/>
                  </a:lnTo>
                  <a:lnTo>
                    <a:pt x="145" y="1068"/>
                  </a:lnTo>
                  <a:lnTo>
                    <a:pt x="113" y="1068"/>
                  </a:lnTo>
                  <a:lnTo>
                    <a:pt x="162" y="1068"/>
                  </a:lnTo>
                  <a:lnTo>
                    <a:pt x="162" y="1052"/>
                  </a:lnTo>
                  <a:lnTo>
                    <a:pt x="129" y="1036"/>
                  </a:lnTo>
                  <a:lnTo>
                    <a:pt x="129" y="987"/>
                  </a:lnTo>
                  <a:lnTo>
                    <a:pt x="97" y="955"/>
                  </a:lnTo>
                  <a:lnTo>
                    <a:pt x="81" y="1052"/>
                  </a:lnTo>
                  <a:lnTo>
                    <a:pt x="48" y="1036"/>
                  </a:lnTo>
                  <a:lnTo>
                    <a:pt x="32" y="1052"/>
                  </a:lnTo>
                  <a:lnTo>
                    <a:pt x="32" y="971"/>
                  </a:lnTo>
                  <a:lnTo>
                    <a:pt x="16" y="906"/>
                  </a:lnTo>
                  <a:lnTo>
                    <a:pt x="16" y="890"/>
                  </a:lnTo>
                  <a:lnTo>
                    <a:pt x="16" y="825"/>
                  </a:lnTo>
                  <a:lnTo>
                    <a:pt x="0" y="761"/>
                  </a:lnTo>
                  <a:lnTo>
                    <a:pt x="0" y="728"/>
                  </a:lnTo>
                  <a:lnTo>
                    <a:pt x="0" y="647"/>
                  </a:lnTo>
                  <a:lnTo>
                    <a:pt x="0" y="631"/>
                  </a:lnTo>
                  <a:lnTo>
                    <a:pt x="0" y="566"/>
                  </a:lnTo>
                  <a:lnTo>
                    <a:pt x="0" y="485"/>
                  </a:lnTo>
                  <a:lnTo>
                    <a:pt x="0" y="485"/>
                  </a:lnTo>
                  <a:lnTo>
                    <a:pt x="0" y="421"/>
                  </a:lnTo>
                  <a:lnTo>
                    <a:pt x="0" y="356"/>
                  </a:lnTo>
                  <a:lnTo>
                    <a:pt x="0" y="307"/>
                  </a:lnTo>
                  <a:lnTo>
                    <a:pt x="0" y="243"/>
                  </a:lnTo>
                  <a:lnTo>
                    <a:pt x="0" y="243"/>
                  </a:lnTo>
                  <a:lnTo>
                    <a:pt x="16" y="178"/>
                  </a:lnTo>
                  <a:lnTo>
                    <a:pt x="16" y="162"/>
                  </a:lnTo>
                  <a:lnTo>
                    <a:pt x="16" y="129"/>
                  </a:lnTo>
                  <a:lnTo>
                    <a:pt x="16" y="65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97" y="32"/>
                  </a:lnTo>
                  <a:lnTo>
                    <a:pt x="162" y="16"/>
                  </a:lnTo>
                  <a:lnTo>
                    <a:pt x="162" y="16"/>
                  </a:lnTo>
                  <a:lnTo>
                    <a:pt x="226" y="16"/>
                  </a:lnTo>
                  <a:lnTo>
                    <a:pt x="242" y="16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404" y="0"/>
                  </a:lnTo>
                  <a:lnTo>
                    <a:pt x="453" y="0"/>
                  </a:lnTo>
                  <a:lnTo>
                    <a:pt x="453" y="16"/>
                  </a:lnTo>
                  <a:lnTo>
                    <a:pt x="469" y="81"/>
                  </a:lnTo>
                  <a:lnTo>
                    <a:pt x="469" y="81"/>
                  </a:lnTo>
                  <a:lnTo>
                    <a:pt x="485" y="97"/>
                  </a:lnTo>
                  <a:lnTo>
                    <a:pt x="485" y="146"/>
                  </a:lnTo>
                  <a:lnTo>
                    <a:pt x="501" y="194"/>
                  </a:lnTo>
                  <a:lnTo>
                    <a:pt x="518" y="210"/>
                  </a:lnTo>
                  <a:lnTo>
                    <a:pt x="518" y="226"/>
                  </a:lnTo>
                  <a:lnTo>
                    <a:pt x="534" y="275"/>
                  </a:lnTo>
                  <a:lnTo>
                    <a:pt x="534" y="324"/>
                  </a:lnTo>
                  <a:lnTo>
                    <a:pt x="550" y="324"/>
                  </a:lnTo>
                  <a:lnTo>
                    <a:pt x="566" y="388"/>
                  </a:lnTo>
                  <a:lnTo>
                    <a:pt x="566" y="388"/>
                  </a:lnTo>
                  <a:lnTo>
                    <a:pt x="582" y="453"/>
                  </a:lnTo>
                  <a:lnTo>
                    <a:pt x="598" y="469"/>
                  </a:lnTo>
                  <a:lnTo>
                    <a:pt x="598" y="502"/>
                  </a:lnTo>
                  <a:lnTo>
                    <a:pt x="615" y="518"/>
                  </a:lnTo>
                  <a:lnTo>
                    <a:pt x="631" y="550"/>
                  </a:lnTo>
                  <a:lnTo>
                    <a:pt x="631" y="566"/>
                  </a:lnTo>
                  <a:lnTo>
                    <a:pt x="647" y="566"/>
                  </a:lnTo>
                  <a:lnTo>
                    <a:pt x="647" y="582"/>
                  </a:lnTo>
                  <a:lnTo>
                    <a:pt x="631" y="599"/>
                  </a:lnTo>
                  <a:lnTo>
                    <a:pt x="615" y="615"/>
                  </a:lnTo>
                  <a:lnTo>
                    <a:pt x="615" y="647"/>
                  </a:lnTo>
                  <a:lnTo>
                    <a:pt x="615" y="663"/>
                  </a:lnTo>
                  <a:lnTo>
                    <a:pt x="615" y="68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0320" y="4505040"/>
              <a:ext cx="955800" cy="746280"/>
            </a:xfrm>
            <a:custGeom>
              <a:avLst/>
              <a:gdLst/>
              <a:ahLst/>
              <a:rect l="l" t="t" r="r" b="b"/>
              <a:pathLst>
                <a:path w="1553" h="1214">
                  <a:moveTo>
                    <a:pt x="874" y="356"/>
                  </a:moveTo>
                  <a:lnTo>
                    <a:pt x="874" y="356"/>
                  </a:lnTo>
                  <a:lnTo>
                    <a:pt x="857" y="340"/>
                  </a:lnTo>
                  <a:lnTo>
                    <a:pt x="825" y="324"/>
                  </a:lnTo>
                  <a:lnTo>
                    <a:pt x="809" y="291"/>
                  </a:lnTo>
                  <a:lnTo>
                    <a:pt x="777" y="275"/>
                  </a:lnTo>
                  <a:lnTo>
                    <a:pt x="760" y="243"/>
                  </a:lnTo>
                  <a:lnTo>
                    <a:pt x="696" y="210"/>
                  </a:lnTo>
                  <a:lnTo>
                    <a:pt x="679" y="210"/>
                  </a:lnTo>
                  <a:lnTo>
                    <a:pt x="663" y="227"/>
                  </a:lnTo>
                  <a:lnTo>
                    <a:pt x="647" y="210"/>
                  </a:lnTo>
                  <a:lnTo>
                    <a:pt x="631" y="227"/>
                  </a:lnTo>
                  <a:lnTo>
                    <a:pt x="631" y="243"/>
                  </a:lnTo>
                  <a:lnTo>
                    <a:pt x="615" y="243"/>
                  </a:lnTo>
                  <a:lnTo>
                    <a:pt x="615" y="259"/>
                  </a:lnTo>
                  <a:lnTo>
                    <a:pt x="631" y="259"/>
                  </a:lnTo>
                  <a:lnTo>
                    <a:pt x="631" y="259"/>
                  </a:lnTo>
                  <a:lnTo>
                    <a:pt x="615" y="259"/>
                  </a:lnTo>
                  <a:lnTo>
                    <a:pt x="534" y="308"/>
                  </a:lnTo>
                  <a:lnTo>
                    <a:pt x="518" y="308"/>
                  </a:lnTo>
                  <a:lnTo>
                    <a:pt x="518" y="324"/>
                  </a:lnTo>
                  <a:lnTo>
                    <a:pt x="469" y="324"/>
                  </a:lnTo>
                  <a:lnTo>
                    <a:pt x="437" y="340"/>
                  </a:lnTo>
                  <a:lnTo>
                    <a:pt x="437" y="308"/>
                  </a:lnTo>
                  <a:lnTo>
                    <a:pt x="437" y="291"/>
                  </a:lnTo>
                  <a:lnTo>
                    <a:pt x="437" y="291"/>
                  </a:lnTo>
                  <a:lnTo>
                    <a:pt x="437" y="308"/>
                  </a:lnTo>
                  <a:lnTo>
                    <a:pt x="453" y="340"/>
                  </a:lnTo>
                  <a:lnTo>
                    <a:pt x="453" y="324"/>
                  </a:lnTo>
                  <a:lnTo>
                    <a:pt x="453" y="308"/>
                  </a:lnTo>
                  <a:lnTo>
                    <a:pt x="437" y="275"/>
                  </a:lnTo>
                  <a:lnTo>
                    <a:pt x="388" y="259"/>
                  </a:lnTo>
                  <a:lnTo>
                    <a:pt x="388" y="243"/>
                  </a:lnTo>
                  <a:lnTo>
                    <a:pt x="420" y="259"/>
                  </a:lnTo>
                  <a:lnTo>
                    <a:pt x="420" y="259"/>
                  </a:lnTo>
                  <a:lnTo>
                    <a:pt x="420" y="259"/>
                  </a:lnTo>
                  <a:lnTo>
                    <a:pt x="437" y="259"/>
                  </a:lnTo>
                  <a:lnTo>
                    <a:pt x="437" y="259"/>
                  </a:lnTo>
                  <a:lnTo>
                    <a:pt x="420" y="259"/>
                  </a:lnTo>
                  <a:lnTo>
                    <a:pt x="404" y="243"/>
                  </a:lnTo>
                  <a:lnTo>
                    <a:pt x="372" y="227"/>
                  </a:lnTo>
                  <a:lnTo>
                    <a:pt x="372" y="210"/>
                  </a:lnTo>
                  <a:lnTo>
                    <a:pt x="388" y="210"/>
                  </a:lnTo>
                  <a:lnTo>
                    <a:pt x="388" y="210"/>
                  </a:lnTo>
                  <a:lnTo>
                    <a:pt x="356" y="210"/>
                  </a:lnTo>
                  <a:lnTo>
                    <a:pt x="356" y="210"/>
                  </a:lnTo>
                  <a:lnTo>
                    <a:pt x="340" y="210"/>
                  </a:lnTo>
                  <a:lnTo>
                    <a:pt x="340" y="227"/>
                  </a:lnTo>
                  <a:lnTo>
                    <a:pt x="356" y="227"/>
                  </a:lnTo>
                  <a:lnTo>
                    <a:pt x="372" y="243"/>
                  </a:lnTo>
                  <a:lnTo>
                    <a:pt x="307" y="227"/>
                  </a:lnTo>
                  <a:lnTo>
                    <a:pt x="242" y="210"/>
                  </a:lnTo>
                  <a:lnTo>
                    <a:pt x="210" y="194"/>
                  </a:lnTo>
                  <a:lnTo>
                    <a:pt x="242" y="194"/>
                  </a:lnTo>
                  <a:lnTo>
                    <a:pt x="259" y="194"/>
                  </a:lnTo>
                  <a:lnTo>
                    <a:pt x="259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59" y="178"/>
                  </a:lnTo>
                  <a:lnTo>
                    <a:pt x="226" y="194"/>
                  </a:lnTo>
                  <a:lnTo>
                    <a:pt x="226" y="178"/>
                  </a:lnTo>
                  <a:lnTo>
                    <a:pt x="194" y="194"/>
                  </a:lnTo>
                  <a:lnTo>
                    <a:pt x="162" y="210"/>
                  </a:lnTo>
                  <a:lnTo>
                    <a:pt x="81" y="227"/>
                  </a:lnTo>
                  <a:lnTo>
                    <a:pt x="129" y="194"/>
                  </a:lnTo>
                  <a:lnTo>
                    <a:pt x="113" y="194"/>
                  </a:lnTo>
                  <a:lnTo>
                    <a:pt x="113" y="162"/>
                  </a:lnTo>
                  <a:lnTo>
                    <a:pt x="113" y="178"/>
                  </a:lnTo>
                  <a:lnTo>
                    <a:pt x="113" y="194"/>
                  </a:lnTo>
                  <a:lnTo>
                    <a:pt x="97" y="178"/>
                  </a:lnTo>
                  <a:lnTo>
                    <a:pt x="81" y="178"/>
                  </a:lnTo>
                  <a:lnTo>
                    <a:pt x="97" y="194"/>
                  </a:lnTo>
                  <a:lnTo>
                    <a:pt x="64" y="227"/>
                  </a:lnTo>
                  <a:lnTo>
                    <a:pt x="48" y="243"/>
                  </a:lnTo>
                  <a:lnTo>
                    <a:pt x="48" y="210"/>
                  </a:lnTo>
                  <a:lnTo>
                    <a:pt x="48" y="210"/>
                  </a:lnTo>
                  <a:lnTo>
                    <a:pt x="48" y="210"/>
                  </a:lnTo>
                  <a:lnTo>
                    <a:pt x="48" y="194"/>
                  </a:lnTo>
                  <a:lnTo>
                    <a:pt x="32" y="194"/>
                  </a:lnTo>
                  <a:lnTo>
                    <a:pt x="48" y="178"/>
                  </a:lnTo>
                  <a:lnTo>
                    <a:pt x="48" y="162"/>
                  </a:lnTo>
                  <a:lnTo>
                    <a:pt x="0" y="130"/>
                  </a:lnTo>
                  <a:lnTo>
                    <a:pt x="0" y="97"/>
                  </a:lnTo>
                  <a:lnTo>
                    <a:pt x="81" y="81"/>
                  </a:lnTo>
                  <a:lnTo>
                    <a:pt x="145" y="81"/>
                  </a:lnTo>
                  <a:lnTo>
                    <a:pt x="162" y="81"/>
                  </a:lnTo>
                  <a:lnTo>
                    <a:pt x="226" y="65"/>
                  </a:lnTo>
                  <a:lnTo>
                    <a:pt x="259" y="65"/>
                  </a:lnTo>
                  <a:lnTo>
                    <a:pt x="291" y="65"/>
                  </a:lnTo>
                  <a:lnTo>
                    <a:pt x="388" y="49"/>
                  </a:lnTo>
                  <a:lnTo>
                    <a:pt x="388" y="49"/>
                  </a:lnTo>
                  <a:lnTo>
                    <a:pt x="485" y="49"/>
                  </a:lnTo>
                  <a:lnTo>
                    <a:pt x="501" y="65"/>
                  </a:lnTo>
                  <a:lnTo>
                    <a:pt x="501" y="81"/>
                  </a:lnTo>
                  <a:lnTo>
                    <a:pt x="518" y="97"/>
                  </a:lnTo>
                  <a:lnTo>
                    <a:pt x="518" y="97"/>
                  </a:lnTo>
                  <a:lnTo>
                    <a:pt x="598" y="97"/>
                  </a:lnTo>
                  <a:lnTo>
                    <a:pt x="615" y="97"/>
                  </a:lnTo>
                  <a:lnTo>
                    <a:pt x="663" y="97"/>
                  </a:lnTo>
                  <a:lnTo>
                    <a:pt x="679" y="97"/>
                  </a:lnTo>
                  <a:lnTo>
                    <a:pt x="728" y="81"/>
                  </a:lnTo>
                  <a:lnTo>
                    <a:pt x="744" y="81"/>
                  </a:lnTo>
                  <a:lnTo>
                    <a:pt x="809" y="81"/>
                  </a:lnTo>
                  <a:lnTo>
                    <a:pt x="809" y="81"/>
                  </a:lnTo>
                  <a:lnTo>
                    <a:pt x="841" y="81"/>
                  </a:lnTo>
                  <a:lnTo>
                    <a:pt x="922" y="81"/>
                  </a:lnTo>
                  <a:lnTo>
                    <a:pt x="938" y="65"/>
                  </a:lnTo>
                  <a:lnTo>
                    <a:pt x="955" y="65"/>
                  </a:lnTo>
                  <a:lnTo>
                    <a:pt x="971" y="65"/>
                  </a:lnTo>
                  <a:lnTo>
                    <a:pt x="1003" y="65"/>
                  </a:lnTo>
                  <a:lnTo>
                    <a:pt x="1003" y="81"/>
                  </a:lnTo>
                  <a:lnTo>
                    <a:pt x="1019" y="81"/>
                  </a:lnTo>
                  <a:lnTo>
                    <a:pt x="1019" y="113"/>
                  </a:lnTo>
                  <a:lnTo>
                    <a:pt x="1052" y="113"/>
                  </a:lnTo>
                  <a:lnTo>
                    <a:pt x="1052" y="65"/>
                  </a:lnTo>
                  <a:lnTo>
                    <a:pt x="1035" y="49"/>
                  </a:lnTo>
                  <a:lnTo>
                    <a:pt x="1035" y="16"/>
                  </a:lnTo>
                  <a:lnTo>
                    <a:pt x="1035" y="16"/>
                  </a:lnTo>
                  <a:lnTo>
                    <a:pt x="1052" y="16"/>
                  </a:lnTo>
                  <a:lnTo>
                    <a:pt x="1052" y="0"/>
                  </a:lnTo>
                  <a:lnTo>
                    <a:pt x="1052" y="0"/>
                  </a:lnTo>
                  <a:lnTo>
                    <a:pt x="1084" y="16"/>
                  </a:lnTo>
                  <a:lnTo>
                    <a:pt x="1133" y="16"/>
                  </a:lnTo>
                  <a:lnTo>
                    <a:pt x="1133" y="49"/>
                  </a:lnTo>
                  <a:lnTo>
                    <a:pt x="1133" y="49"/>
                  </a:lnTo>
                  <a:lnTo>
                    <a:pt x="1149" y="65"/>
                  </a:lnTo>
                  <a:lnTo>
                    <a:pt x="1149" y="81"/>
                  </a:lnTo>
                  <a:lnTo>
                    <a:pt x="1165" y="97"/>
                  </a:lnTo>
                  <a:lnTo>
                    <a:pt x="1165" y="113"/>
                  </a:lnTo>
                  <a:lnTo>
                    <a:pt x="1197" y="178"/>
                  </a:lnTo>
                  <a:lnTo>
                    <a:pt x="1197" y="194"/>
                  </a:lnTo>
                  <a:lnTo>
                    <a:pt x="1213" y="210"/>
                  </a:lnTo>
                  <a:lnTo>
                    <a:pt x="1213" y="227"/>
                  </a:lnTo>
                  <a:lnTo>
                    <a:pt x="1246" y="275"/>
                  </a:lnTo>
                  <a:lnTo>
                    <a:pt x="1262" y="291"/>
                  </a:lnTo>
                  <a:lnTo>
                    <a:pt x="1343" y="405"/>
                  </a:lnTo>
                  <a:lnTo>
                    <a:pt x="1343" y="421"/>
                  </a:lnTo>
                  <a:lnTo>
                    <a:pt x="1327" y="405"/>
                  </a:lnTo>
                  <a:lnTo>
                    <a:pt x="1327" y="405"/>
                  </a:lnTo>
                  <a:lnTo>
                    <a:pt x="1359" y="486"/>
                  </a:lnTo>
                  <a:lnTo>
                    <a:pt x="1424" y="599"/>
                  </a:lnTo>
                  <a:lnTo>
                    <a:pt x="1424" y="599"/>
                  </a:lnTo>
                  <a:lnTo>
                    <a:pt x="1424" y="599"/>
                  </a:lnTo>
                  <a:lnTo>
                    <a:pt x="1440" y="631"/>
                  </a:lnTo>
                  <a:lnTo>
                    <a:pt x="1456" y="664"/>
                  </a:lnTo>
                  <a:lnTo>
                    <a:pt x="1489" y="712"/>
                  </a:lnTo>
                  <a:lnTo>
                    <a:pt x="1505" y="728"/>
                  </a:lnTo>
                  <a:lnTo>
                    <a:pt x="1489" y="728"/>
                  </a:lnTo>
                  <a:lnTo>
                    <a:pt x="1472" y="728"/>
                  </a:lnTo>
                  <a:lnTo>
                    <a:pt x="1489" y="728"/>
                  </a:lnTo>
                  <a:lnTo>
                    <a:pt x="1505" y="728"/>
                  </a:lnTo>
                  <a:lnTo>
                    <a:pt x="1521" y="745"/>
                  </a:lnTo>
                  <a:lnTo>
                    <a:pt x="1537" y="777"/>
                  </a:lnTo>
                  <a:lnTo>
                    <a:pt x="1521" y="777"/>
                  </a:lnTo>
                  <a:lnTo>
                    <a:pt x="1553" y="809"/>
                  </a:lnTo>
                  <a:lnTo>
                    <a:pt x="1553" y="906"/>
                  </a:lnTo>
                  <a:lnTo>
                    <a:pt x="1553" y="987"/>
                  </a:lnTo>
                  <a:lnTo>
                    <a:pt x="1553" y="1036"/>
                  </a:lnTo>
                  <a:lnTo>
                    <a:pt x="1537" y="1068"/>
                  </a:lnTo>
                  <a:lnTo>
                    <a:pt x="1537" y="1101"/>
                  </a:lnTo>
                  <a:lnTo>
                    <a:pt x="1553" y="1117"/>
                  </a:lnTo>
                  <a:lnTo>
                    <a:pt x="1537" y="1149"/>
                  </a:lnTo>
                  <a:lnTo>
                    <a:pt x="1537" y="1165"/>
                  </a:lnTo>
                  <a:lnTo>
                    <a:pt x="1505" y="1165"/>
                  </a:lnTo>
                  <a:lnTo>
                    <a:pt x="1472" y="1182"/>
                  </a:lnTo>
                  <a:lnTo>
                    <a:pt x="1440" y="1182"/>
                  </a:lnTo>
                  <a:lnTo>
                    <a:pt x="1424" y="1198"/>
                  </a:lnTo>
                  <a:lnTo>
                    <a:pt x="1392" y="1198"/>
                  </a:lnTo>
                  <a:lnTo>
                    <a:pt x="1392" y="1198"/>
                  </a:lnTo>
                  <a:lnTo>
                    <a:pt x="1375" y="1165"/>
                  </a:lnTo>
                  <a:lnTo>
                    <a:pt x="1392" y="1165"/>
                  </a:lnTo>
                  <a:lnTo>
                    <a:pt x="1408" y="1182"/>
                  </a:lnTo>
                  <a:lnTo>
                    <a:pt x="1424" y="1182"/>
                  </a:lnTo>
                  <a:lnTo>
                    <a:pt x="1424" y="1165"/>
                  </a:lnTo>
                  <a:lnTo>
                    <a:pt x="1424" y="1149"/>
                  </a:lnTo>
                  <a:lnTo>
                    <a:pt x="1375" y="1149"/>
                  </a:lnTo>
                  <a:lnTo>
                    <a:pt x="1343" y="1084"/>
                  </a:lnTo>
                  <a:lnTo>
                    <a:pt x="1359" y="1084"/>
                  </a:lnTo>
                  <a:lnTo>
                    <a:pt x="1343" y="1052"/>
                  </a:lnTo>
                  <a:lnTo>
                    <a:pt x="1294" y="1052"/>
                  </a:lnTo>
                  <a:lnTo>
                    <a:pt x="1246" y="1052"/>
                  </a:lnTo>
                  <a:lnTo>
                    <a:pt x="1246" y="1036"/>
                  </a:lnTo>
                  <a:lnTo>
                    <a:pt x="1230" y="1003"/>
                  </a:lnTo>
                  <a:lnTo>
                    <a:pt x="1213" y="971"/>
                  </a:lnTo>
                  <a:lnTo>
                    <a:pt x="1213" y="971"/>
                  </a:lnTo>
                  <a:lnTo>
                    <a:pt x="1213" y="939"/>
                  </a:lnTo>
                  <a:lnTo>
                    <a:pt x="1197" y="939"/>
                  </a:lnTo>
                  <a:lnTo>
                    <a:pt x="1181" y="923"/>
                  </a:lnTo>
                  <a:lnTo>
                    <a:pt x="1197" y="923"/>
                  </a:lnTo>
                  <a:lnTo>
                    <a:pt x="1197" y="906"/>
                  </a:lnTo>
                  <a:lnTo>
                    <a:pt x="1213" y="890"/>
                  </a:lnTo>
                  <a:lnTo>
                    <a:pt x="1197" y="890"/>
                  </a:lnTo>
                  <a:lnTo>
                    <a:pt x="1181" y="923"/>
                  </a:lnTo>
                  <a:lnTo>
                    <a:pt x="1165" y="923"/>
                  </a:lnTo>
                  <a:lnTo>
                    <a:pt x="1149" y="890"/>
                  </a:lnTo>
                  <a:lnTo>
                    <a:pt x="1149" y="874"/>
                  </a:lnTo>
                  <a:lnTo>
                    <a:pt x="1149" y="858"/>
                  </a:lnTo>
                  <a:lnTo>
                    <a:pt x="1149" y="842"/>
                  </a:lnTo>
                  <a:lnTo>
                    <a:pt x="1165" y="842"/>
                  </a:lnTo>
                  <a:lnTo>
                    <a:pt x="1165" y="825"/>
                  </a:lnTo>
                  <a:lnTo>
                    <a:pt x="1165" y="825"/>
                  </a:lnTo>
                  <a:lnTo>
                    <a:pt x="1165" y="825"/>
                  </a:lnTo>
                  <a:lnTo>
                    <a:pt x="1133" y="842"/>
                  </a:lnTo>
                  <a:lnTo>
                    <a:pt x="1116" y="825"/>
                  </a:lnTo>
                  <a:lnTo>
                    <a:pt x="1100" y="825"/>
                  </a:lnTo>
                  <a:lnTo>
                    <a:pt x="1116" y="842"/>
                  </a:lnTo>
                  <a:lnTo>
                    <a:pt x="1133" y="858"/>
                  </a:lnTo>
                  <a:lnTo>
                    <a:pt x="1133" y="874"/>
                  </a:lnTo>
                  <a:lnTo>
                    <a:pt x="1116" y="874"/>
                  </a:lnTo>
                  <a:lnTo>
                    <a:pt x="1100" y="842"/>
                  </a:lnTo>
                  <a:lnTo>
                    <a:pt x="1084" y="842"/>
                  </a:lnTo>
                  <a:lnTo>
                    <a:pt x="1084" y="842"/>
                  </a:lnTo>
                  <a:lnTo>
                    <a:pt x="1100" y="858"/>
                  </a:lnTo>
                  <a:lnTo>
                    <a:pt x="1084" y="842"/>
                  </a:lnTo>
                  <a:lnTo>
                    <a:pt x="1052" y="793"/>
                  </a:lnTo>
                  <a:lnTo>
                    <a:pt x="1052" y="793"/>
                  </a:lnTo>
                  <a:lnTo>
                    <a:pt x="1052" y="793"/>
                  </a:lnTo>
                  <a:lnTo>
                    <a:pt x="1035" y="777"/>
                  </a:lnTo>
                  <a:lnTo>
                    <a:pt x="1052" y="777"/>
                  </a:lnTo>
                  <a:lnTo>
                    <a:pt x="1035" y="761"/>
                  </a:lnTo>
                  <a:lnTo>
                    <a:pt x="1019" y="745"/>
                  </a:lnTo>
                  <a:lnTo>
                    <a:pt x="1019" y="745"/>
                  </a:lnTo>
                  <a:lnTo>
                    <a:pt x="1019" y="745"/>
                  </a:lnTo>
                  <a:lnTo>
                    <a:pt x="1019" y="728"/>
                  </a:lnTo>
                  <a:lnTo>
                    <a:pt x="1052" y="745"/>
                  </a:lnTo>
                  <a:lnTo>
                    <a:pt x="1052" y="728"/>
                  </a:lnTo>
                  <a:lnTo>
                    <a:pt x="1068" y="728"/>
                  </a:lnTo>
                  <a:lnTo>
                    <a:pt x="1035" y="728"/>
                  </a:lnTo>
                  <a:lnTo>
                    <a:pt x="1019" y="728"/>
                  </a:lnTo>
                  <a:lnTo>
                    <a:pt x="1035" y="728"/>
                  </a:lnTo>
                  <a:lnTo>
                    <a:pt x="1035" y="712"/>
                  </a:lnTo>
                  <a:lnTo>
                    <a:pt x="1019" y="728"/>
                  </a:lnTo>
                  <a:lnTo>
                    <a:pt x="1035" y="712"/>
                  </a:lnTo>
                  <a:lnTo>
                    <a:pt x="1035" y="712"/>
                  </a:lnTo>
                  <a:lnTo>
                    <a:pt x="1052" y="664"/>
                  </a:lnTo>
                  <a:lnTo>
                    <a:pt x="1052" y="647"/>
                  </a:lnTo>
                  <a:lnTo>
                    <a:pt x="1052" y="631"/>
                  </a:lnTo>
                  <a:lnTo>
                    <a:pt x="1035" y="664"/>
                  </a:lnTo>
                  <a:lnTo>
                    <a:pt x="1035" y="664"/>
                  </a:lnTo>
                  <a:lnTo>
                    <a:pt x="1035" y="647"/>
                  </a:lnTo>
                  <a:lnTo>
                    <a:pt x="1003" y="631"/>
                  </a:lnTo>
                  <a:lnTo>
                    <a:pt x="1003" y="631"/>
                  </a:lnTo>
                  <a:lnTo>
                    <a:pt x="1003" y="615"/>
                  </a:lnTo>
                  <a:lnTo>
                    <a:pt x="1003" y="631"/>
                  </a:lnTo>
                  <a:lnTo>
                    <a:pt x="1003" y="631"/>
                  </a:lnTo>
                  <a:lnTo>
                    <a:pt x="1003" y="631"/>
                  </a:lnTo>
                  <a:lnTo>
                    <a:pt x="987" y="647"/>
                  </a:lnTo>
                  <a:lnTo>
                    <a:pt x="1019" y="647"/>
                  </a:lnTo>
                  <a:lnTo>
                    <a:pt x="1019" y="664"/>
                  </a:lnTo>
                  <a:lnTo>
                    <a:pt x="1019" y="696"/>
                  </a:lnTo>
                  <a:lnTo>
                    <a:pt x="1003" y="696"/>
                  </a:lnTo>
                  <a:lnTo>
                    <a:pt x="987" y="664"/>
                  </a:lnTo>
                  <a:lnTo>
                    <a:pt x="1003" y="696"/>
                  </a:lnTo>
                  <a:lnTo>
                    <a:pt x="1003" y="696"/>
                  </a:lnTo>
                  <a:lnTo>
                    <a:pt x="971" y="664"/>
                  </a:lnTo>
                  <a:lnTo>
                    <a:pt x="971" y="599"/>
                  </a:lnTo>
                  <a:lnTo>
                    <a:pt x="987" y="534"/>
                  </a:lnTo>
                  <a:lnTo>
                    <a:pt x="987" y="486"/>
                  </a:lnTo>
                  <a:lnTo>
                    <a:pt x="971" y="453"/>
                  </a:lnTo>
                  <a:lnTo>
                    <a:pt x="987" y="453"/>
                  </a:lnTo>
                  <a:lnTo>
                    <a:pt x="987" y="437"/>
                  </a:lnTo>
                  <a:lnTo>
                    <a:pt x="955" y="421"/>
                  </a:lnTo>
                  <a:lnTo>
                    <a:pt x="938" y="388"/>
                  </a:lnTo>
                  <a:lnTo>
                    <a:pt x="890" y="388"/>
                  </a:lnTo>
                  <a:lnTo>
                    <a:pt x="890" y="372"/>
                  </a:lnTo>
                  <a:lnTo>
                    <a:pt x="874" y="372"/>
                  </a:lnTo>
                  <a:lnTo>
                    <a:pt x="874" y="356"/>
                  </a:lnTo>
                  <a:lnTo>
                    <a:pt x="874" y="356"/>
                  </a:lnTo>
                  <a:close/>
                  <a:moveTo>
                    <a:pt x="145" y="210"/>
                  </a:moveTo>
                  <a:lnTo>
                    <a:pt x="64" y="227"/>
                  </a:lnTo>
                  <a:lnTo>
                    <a:pt x="145" y="210"/>
                  </a:lnTo>
                  <a:lnTo>
                    <a:pt x="162" y="210"/>
                  </a:lnTo>
                  <a:lnTo>
                    <a:pt x="162" y="210"/>
                  </a:lnTo>
                  <a:lnTo>
                    <a:pt x="145" y="210"/>
                  </a:lnTo>
                  <a:lnTo>
                    <a:pt x="145" y="210"/>
                  </a:lnTo>
                  <a:close/>
                  <a:moveTo>
                    <a:pt x="1343" y="405"/>
                  </a:moveTo>
                  <a:lnTo>
                    <a:pt x="1327" y="388"/>
                  </a:lnTo>
                  <a:lnTo>
                    <a:pt x="1294" y="356"/>
                  </a:lnTo>
                  <a:lnTo>
                    <a:pt x="1327" y="388"/>
                  </a:lnTo>
                  <a:lnTo>
                    <a:pt x="1343" y="405"/>
                  </a:lnTo>
                  <a:lnTo>
                    <a:pt x="1343" y="405"/>
                  </a:lnTo>
                  <a:close/>
                  <a:moveTo>
                    <a:pt x="1343" y="405"/>
                  </a:moveTo>
                  <a:lnTo>
                    <a:pt x="1375" y="437"/>
                  </a:lnTo>
                  <a:lnTo>
                    <a:pt x="1392" y="469"/>
                  </a:lnTo>
                  <a:lnTo>
                    <a:pt x="1392" y="486"/>
                  </a:lnTo>
                  <a:lnTo>
                    <a:pt x="1375" y="486"/>
                  </a:lnTo>
                  <a:lnTo>
                    <a:pt x="1375" y="453"/>
                  </a:lnTo>
                  <a:lnTo>
                    <a:pt x="1375" y="437"/>
                  </a:lnTo>
                  <a:lnTo>
                    <a:pt x="1359" y="437"/>
                  </a:lnTo>
                  <a:lnTo>
                    <a:pt x="1359" y="453"/>
                  </a:lnTo>
                  <a:lnTo>
                    <a:pt x="1343" y="437"/>
                  </a:lnTo>
                  <a:lnTo>
                    <a:pt x="1343" y="437"/>
                  </a:lnTo>
                  <a:lnTo>
                    <a:pt x="1343" y="421"/>
                  </a:lnTo>
                  <a:lnTo>
                    <a:pt x="1343" y="421"/>
                  </a:lnTo>
                  <a:lnTo>
                    <a:pt x="1359" y="437"/>
                  </a:lnTo>
                  <a:lnTo>
                    <a:pt x="1343" y="405"/>
                  </a:lnTo>
                  <a:lnTo>
                    <a:pt x="1343" y="405"/>
                  </a:lnTo>
                  <a:close/>
                  <a:moveTo>
                    <a:pt x="1359" y="453"/>
                  </a:moveTo>
                  <a:lnTo>
                    <a:pt x="1359" y="437"/>
                  </a:lnTo>
                  <a:lnTo>
                    <a:pt x="1375" y="453"/>
                  </a:lnTo>
                  <a:lnTo>
                    <a:pt x="1375" y="486"/>
                  </a:lnTo>
                  <a:lnTo>
                    <a:pt x="1375" y="502"/>
                  </a:lnTo>
                  <a:lnTo>
                    <a:pt x="1392" y="534"/>
                  </a:lnTo>
                  <a:lnTo>
                    <a:pt x="1359" y="486"/>
                  </a:lnTo>
                  <a:lnTo>
                    <a:pt x="1359" y="453"/>
                  </a:lnTo>
                  <a:lnTo>
                    <a:pt x="1359" y="453"/>
                  </a:lnTo>
                  <a:close/>
                  <a:moveTo>
                    <a:pt x="1149" y="923"/>
                  </a:moveTo>
                  <a:lnTo>
                    <a:pt x="1165" y="939"/>
                  </a:lnTo>
                  <a:lnTo>
                    <a:pt x="1165" y="939"/>
                  </a:lnTo>
                  <a:lnTo>
                    <a:pt x="1149" y="906"/>
                  </a:lnTo>
                  <a:lnTo>
                    <a:pt x="1133" y="906"/>
                  </a:lnTo>
                  <a:lnTo>
                    <a:pt x="1149" y="890"/>
                  </a:lnTo>
                  <a:lnTo>
                    <a:pt x="1149" y="923"/>
                  </a:lnTo>
                  <a:lnTo>
                    <a:pt x="1149" y="923"/>
                  </a:lnTo>
                  <a:close/>
                  <a:moveTo>
                    <a:pt x="1553" y="1117"/>
                  </a:moveTo>
                  <a:lnTo>
                    <a:pt x="1537" y="1165"/>
                  </a:lnTo>
                  <a:lnTo>
                    <a:pt x="1505" y="1214"/>
                  </a:lnTo>
                  <a:lnTo>
                    <a:pt x="1537" y="1149"/>
                  </a:lnTo>
                  <a:lnTo>
                    <a:pt x="1553" y="1149"/>
                  </a:lnTo>
                  <a:lnTo>
                    <a:pt x="1537" y="1133"/>
                  </a:lnTo>
                  <a:lnTo>
                    <a:pt x="1553" y="1117"/>
                  </a:lnTo>
                  <a:lnTo>
                    <a:pt x="1553" y="11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78800" y="3966840"/>
              <a:ext cx="568080" cy="608040"/>
            </a:xfrm>
            <a:custGeom>
              <a:avLst/>
              <a:gdLst/>
              <a:ahLst/>
              <a:rect l="l" t="t" r="r" b="b"/>
              <a:pathLst>
                <a:path w="922" h="987">
                  <a:moveTo>
                    <a:pt x="162" y="745"/>
                  </a:moveTo>
                  <a:lnTo>
                    <a:pt x="162" y="745"/>
                  </a:lnTo>
                  <a:lnTo>
                    <a:pt x="162" y="728"/>
                  </a:lnTo>
                  <a:lnTo>
                    <a:pt x="162" y="712"/>
                  </a:lnTo>
                  <a:lnTo>
                    <a:pt x="162" y="680"/>
                  </a:lnTo>
                  <a:lnTo>
                    <a:pt x="178" y="664"/>
                  </a:lnTo>
                  <a:lnTo>
                    <a:pt x="194" y="647"/>
                  </a:lnTo>
                  <a:lnTo>
                    <a:pt x="194" y="631"/>
                  </a:lnTo>
                  <a:lnTo>
                    <a:pt x="178" y="631"/>
                  </a:lnTo>
                  <a:lnTo>
                    <a:pt x="178" y="615"/>
                  </a:lnTo>
                  <a:lnTo>
                    <a:pt x="162" y="583"/>
                  </a:lnTo>
                  <a:lnTo>
                    <a:pt x="145" y="567"/>
                  </a:lnTo>
                  <a:lnTo>
                    <a:pt x="145" y="534"/>
                  </a:lnTo>
                  <a:lnTo>
                    <a:pt x="129" y="518"/>
                  </a:lnTo>
                  <a:lnTo>
                    <a:pt x="113" y="453"/>
                  </a:lnTo>
                  <a:lnTo>
                    <a:pt x="113" y="453"/>
                  </a:lnTo>
                  <a:lnTo>
                    <a:pt x="97" y="389"/>
                  </a:lnTo>
                  <a:lnTo>
                    <a:pt x="81" y="389"/>
                  </a:lnTo>
                  <a:lnTo>
                    <a:pt x="81" y="340"/>
                  </a:lnTo>
                  <a:lnTo>
                    <a:pt x="65" y="291"/>
                  </a:lnTo>
                  <a:lnTo>
                    <a:pt x="65" y="275"/>
                  </a:lnTo>
                  <a:lnTo>
                    <a:pt x="48" y="259"/>
                  </a:lnTo>
                  <a:lnTo>
                    <a:pt x="32" y="211"/>
                  </a:lnTo>
                  <a:lnTo>
                    <a:pt x="32" y="162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0" y="81"/>
                  </a:lnTo>
                  <a:lnTo>
                    <a:pt x="0" y="65"/>
                  </a:lnTo>
                  <a:lnTo>
                    <a:pt x="16" y="65"/>
                  </a:lnTo>
                  <a:lnTo>
                    <a:pt x="32" y="49"/>
                  </a:lnTo>
                  <a:lnTo>
                    <a:pt x="48" y="49"/>
                  </a:lnTo>
                  <a:lnTo>
                    <a:pt x="113" y="49"/>
                  </a:lnTo>
                  <a:lnTo>
                    <a:pt x="113" y="49"/>
                  </a:lnTo>
                  <a:lnTo>
                    <a:pt x="145" y="49"/>
                  </a:lnTo>
                  <a:lnTo>
                    <a:pt x="145" y="49"/>
                  </a:lnTo>
                  <a:lnTo>
                    <a:pt x="178" y="49"/>
                  </a:lnTo>
                  <a:lnTo>
                    <a:pt x="226" y="32"/>
                  </a:lnTo>
                  <a:lnTo>
                    <a:pt x="259" y="32"/>
                  </a:lnTo>
                  <a:lnTo>
                    <a:pt x="275" y="32"/>
                  </a:lnTo>
                  <a:lnTo>
                    <a:pt x="291" y="32"/>
                  </a:lnTo>
                  <a:lnTo>
                    <a:pt x="356" y="16"/>
                  </a:lnTo>
                  <a:lnTo>
                    <a:pt x="372" y="16"/>
                  </a:lnTo>
                  <a:lnTo>
                    <a:pt x="437" y="0"/>
                  </a:lnTo>
                  <a:lnTo>
                    <a:pt x="437" y="16"/>
                  </a:lnTo>
                  <a:lnTo>
                    <a:pt x="421" y="32"/>
                  </a:lnTo>
                  <a:lnTo>
                    <a:pt x="404" y="81"/>
                  </a:lnTo>
                  <a:lnTo>
                    <a:pt x="404" y="81"/>
                  </a:lnTo>
                  <a:lnTo>
                    <a:pt x="437" y="97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69" y="113"/>
                  </a:lnTo>
                  <a:lnTo>
                    <a:pt x="502" y="113"/>
                  </a:lnTo>
                  <a:lnTo>
                    <a:pt x="518" y="146"/>
                  </a:lnTo>
                  <a:lnTo>
                    <a:pt x="518" y="162"/>
                  </a:lnTo>
                  <a:lnTo>
                    <a:pt x="550" y="211"/>
                  </a:lnTo>
                  <a:lnTo>
                    <a:pt x="566" y="211"/>
                  </a:lnTo>
                  <a:lnTo>
                    <a:pt x="615" y="243"/>
                  </a:lnTo>
                  <a:lnTo>
                    <a:pt x="631" y="259"/>
                  </a:lnTo>
                  <a:lnTo>
                    <a:pt x="647" y="275"/>
                  </a:lnTo>
                  <a:lnTo>
                    <a:pt x="663" y="291"/>
                  </a:lnTo>
                  <a:lnTo>
                    <a:pt x="663" y="291"/>
                  </a:lnTo>
                  <a:lnTo>
                    <a:pt x="680" y="291"/>
                  </a:lnTo>
                  <a:lnTo>
                    <a:pt x="696" y="308"/>
                  </a:lnTo>
                  <a:lnTo>
                    <a:pt x="696" y="324"/>
                  </a:lnTo>
                  <a:lnTo>
                    <a:pt x="712" y="340"/>
                  </a:lnTo>
                  <a:lnTo>
                    <a:pt x="712" y="340"/>
                  </a:lnTo>
                  <a:lnTo>
                    <a:pt x="712" y="340"/>
                  </a:lnTo>
                  <a:lnTo>
                    <a:pt x="712" y="340"/>
                  </a:lnTo>
                  <a:lnTo>
                    <a:pt x="712" y="356"/>
                  </a:lnTo>
                  <a:lnTo>
                    <a:pt x="728" y="356"/>
                  </a:lnTo>
                  <a:lnTo>
                    <a:pt x="744" y="372"/>
                  </a:lnTo>
                  <a:lnTo>
                    <a:pt x="760" y="389"/>
                  </a:lnTo>
                  <a:lnTo>
                    <a:pt x="777" y="389"/>
                  </a:lnTo>
                  <a:lnTo>
                    <a:pt x="793" y="389"/>
                  </a:lnTo>
                  <a:lnTo>
                    <a:pt x="793" y="405"/>
                  </a:lnTo>
                  <a:lnTo>
                    <a:pt x="793" y="421"/>
                  </a:lnTo>
                  <a:lnTo>
                    <a:pt x="793" y="421"/>
                  </a:lnTo>
                  <a:lnTo>
                    <a:pt x="809" y="437"/>
                  </a:lnTo>
                  <a:lnTo>
                    <a:pt x="809" y="453"/>
                  </a:lnTo>
                  <a:lnTo>
                    <a:pt x="809" y="469"/>
                  </a:lnTo>
                  <a:lnTo>
                    <a:pt x="825" y="486"/>
                  </a:lnTo>
                  <a:lnTo>
                    <a:pt x="841" y="486"/>
                  </a:lnTo>
                  <a:lnTo>
                    <a:pt x="874" y="534"/>
                  </a:lnTo>
                  <a:lnTo>
                    <a:pt x="874" y="550"/>
                  </a:lnTo>
                  <a:lnTo>
                    <a:pt x="890" y="583"/>
                  </a:lnTo>
                  <a:lnTo>
                    <a:pt x="922" y="599"/>
                  </a:lnTo>
                  <a:lnTo>
                    <a:pt x="922" y="615"/>
                  </a:lnTo>
                  <a:lnTo>
                    <a:pt x="922" y="615"/>
                  </a:lnTo>
                  <a:lnTo>
                    <a:pt x="890" y="631"/>
                  </a:lnTo>
                  <a:lnTo>
                    <a:pt x="874" y="631"/>
                  </a:lnTo>
                  <a:lnTo>
                    <a:pt x="874" y="631"/>
                  </a:lnTo>
                  <a:lnTo>
                    <a:pt x="874" y="615"/>
                  </a:lnTo>
                  <a:lnTo>
                    <a:pt x="874" y="631"/>
                  </a:lnTo>
                  <a:lnTo>
                    <a:pt x="858" y="615"/>
                  </a:lnTo>
                  <a:lnTo>
                    <a:pt x="874" y="631"/>
                  </a:lnTo>
                  <a:lnTo>
                    <a:pt x="874" y="615"/>
                  </a:lnTo>
                  <a:lnTo>
                    <a:pt x="874" y="631"/>
                  </a:lnTo>
                  <a:lnTo>
                    <a:pt x="874" y="631"/>
                  </a:lnTo>
                  <a:lnTo>
                    <a:pt x="890" y="631"/>
                  </a:lnTo>
                  <a:lnTo>
                    <a:pt x="906" y="631"/>
                  </a:lnTo>
                  <a:lnTo>
                    <a:pt x="906" y="647"/>
                  </a:lnTo>
                  <a:lnTo>
                    <a:pt x="890" y="664"/>
                  </a:lnTo>
                  <a:lnTo>
                    <a:pt x="890" y="647"/>
                  </a:lnTo>
                  <a:lnTo>
                    <a:pt x="874" y="647"/>
                  </a:lnTo>
                  <a:lnTo>
                    <a:pt x="890" y="664"/>
                  </a:lnTo>
                  <a:lnTo>
                    <a:pt x="858" y="647"/>
                  </a:lnTo>
                  <a:lnTo>
                    <a:pt x="890" y="680"/>
                  </a:lnTo>
                  <a:lnTo>
                    <a:pt x="890" y="696"/>
                  </a:lnTo>
                  <a:lnTo>
                    <a:pt x="874" y="680"/>
                  </a:lnTo>
                  <a:lnTo>
                    <a:pt x="874" y="696"/>
                  </a:lnTo>
                  <a:lnTo>
                    <a:pt x="890" y="712"/>
                  </a:lnTo>
                  <a:lnTo>
                    <a:pt x="890" y="712"/>
                  </a:lnTo>
                  <a:lnTo>
                    <a:pt x="874" y="745"/>
                  </a:lnTo>
                  <a:lnTo>
                    <a:pt x="858" y="745"/>
                  </a:lnTo>
                  <a:lnTo>
                    <a:pt x="858" y="761"/>
                  </a:lnTo>
                  <a:lnTo>
                    <a:pt x="858" y="761"/>
                  </a:lnTo>
                  <a:lnTo>
                    <a:pt x="858" y="761"/>
                  </a:lnTo>
                  <a:lnTo>
                    <a:pt x="874" y="761"/>
                  </a:lnTo>
                  <a:lnTo>
                    <a:pt x="874" y="777"/>
                  </a:lnTo>
                  <a:lnTo>
                    <a:pt x="874" y="793"/>
                  </a:lnTo>
                  <a:lnTo>
                    <a:pt x="841" y="793"/>
                  </a:lnTo>
                  <a:lnTo>
                    <a:pt x="841" y="809"/>
                  </a:lnTo>
                  <a:lnTo>
                    <a:pt x="858" y="826"/>
                  </a:lnTo>
                  <a:lnTo>
                    <a:pt x="841" y="809"/>
                  </a:lnTo>
                  <a:lnTo>
                    <a:pt x="858" y="826"/>
                  </a:lnTo>
                  <a:lnTo>
                    <a:pt x="841" y="842"/>
                  </a:lnTo>
                  <a:lnTo>
                    <a:pt x="858" y="842"/>
                  </a:lnTo>
                  <a:lnTo>
                    <a:pt x="858" y="858"/>
                  </a:lnTo>
                  <a:lnTo>
                    <a:pt x="858" y="874"/>
                  </a:lnTo>
                  <a:lnTo>
                    <a:pt x="858" y="890"/>
                  </a:lnTo>
                  <a:lnTo>
                    <a:pt x="809" y="890"/>
                  </a:lnTo>
                  <a:lnTo>
                    <a:pt x="777" y="874"/>
                  </a:lnTo>
                  <a:lnTo>
                    <a:pt x="777" y="874"/>
                  </a:lnTo>
                  <a:lnTo>
                    <a:pt x="777" y="890"/>
                  </a:lnTo>
                  <a:lnTo>
                    <a:pt x="760" y="890"/>
                  </a:lnTo>
                  <a:lnTo>
                    <a:pt x="760" y="890"/>
                  </a:lnTo>
                  <a:lnTo>
                    <a:pt x="760" y="923"/>
                  </a:lnTo>
                  <a:lnTo>
                    <a:pt x="777" y="939"/>
                  </a:lnTo>
                  <a:lnTo>
                    <a:pt x="777" y="987"/>
                  </a:lnTo>
                  <a:lnTo>
                    <a:pt x="744" y="987"/>
                  </a:lnTo>
                  <a:lnTo>
                    <a:pt x="744" y="955"/>
                  </a:lnTo>
                  <a:lnTo>
                    <a:pt x="728" y="955"/>
                  </a:lnTo>
                  <a:lnTo>
                    <a:pt x="728" y="939"/>
                  </a:lnTo>
                  <a:lnTo>
                    <a:pt x="696" y="939"/>
                  </a:lnTo>
                  <a:lnTo>
                    <a:pt x="680" y="939"/>
                  </a:lnTo>
                  <a:lnTo>
                    <a:pt x="663" y="939"/>
                  </a:lnTo>
                  <a:lnTo>
                    <a:pt x="647" y="955"/>
                  </a:lnTo>
                  <a:lnTo>
                    <a:pt x="566" y="955"/>
                  </a:lnTo>
                  <a:lnTo>
                    <a:pt x="534" y="955"/>
                  </a:lnTo>
                  <a:lnTo>
                    <a:pt x="534" y="955"/>
                  </a:lnTo>
                  <a:lnTo>
                    <a:pt x="469" y="955"/>
                  </a:lnTo>
                  <a:lnTo>
                    <a:pt x="453" y="955"/>
                  </a:lnTo>
                  <a:lnTo>
                    <a:pt x="404" y="971"/>
                  </a:lnTo>
                  <a:lnTo>
                    <a:pt x="388" y="971"/>
                  </a:lnTo>
                  <a:lnTo>
                    <a:pt x="340" y="971"/>
                  </a:lnTo>
                  <a:lnTo>
                    <a:pt x="323" y="971"/>
                  </a:lnTo>
                  <a:lnTo>
                    <a:pt x="243" y="971"/>
                  </a:lnTo>
                  <a:lnTo>
                    <a:pt x="243" y="971"/>
                  </a:lnTo>
                  <a:lnTo>
                    <a:pt x="226" y="955"/>
                  </a:lnTo>
                  <a:lnTo>
                    <a:pt x="226" y="939"/>
                  </a:lnTo>
                  <a:lnTo>
                    <a:pt x="210" y="923"/>
                  </a:lnTo>
                  <a:lnTo>
                    <a:pt x="194" y="906"/>
                  </a:lnTo>
                  <a:lnTo>
                    <a:pt x="178" y="874"/>
                  </a:lnTo>
                  <a:lnTo>
                    <a:pt x="178" y="842"/>
                  </a:lnTo>
                  <a:lnTo>
                    <a:pt x="178" y="809"/>
                  </a:lnTo>
                  <a:lnTo>
                    <a:pt x="162" y="745"/>
                  </a:lnTo>
                  <a:lnTo>
                    <a:pt x="162" y="745"/>
                  </a:lnTo>
                  <a:close/>
                  <a:moveTo>
                    <a:pt x="858" y="842"/>
                  </a:moveTo>
                  <a:lnTo>
                    <a:pt x="874" y="826"/>
                  </a:lnTo>
                  <a:lnTo>
                    <a:pt x="874" y="842"/>
                  </a:lnTo>
                  <a:lnTo>
                    <a:pt x="874" y="890"/>
                  </a:lnTo>
                  <a:lnTo>
                    <a:pt x="858" y="890"/>
                  </a:lnTo>
                  <a:lnTo>
                    <a:pt x="858" y="858"/>
                  </a:lnTo>
                  <a:lnTo>
                    <a:pt x="858" y="858"/>
                  </a:lnTo>
                  <a:lnTo>
                    <a:pt x="858" y="842"/>
                  </a:lnTo>
                  <a:lnTo>
                    <a:pt x="858" y="8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4400" y="4316400"/>
              <a:ext cx="596880" cy="536400"/>
            </a:xfrm>
            <a:custGeom>
              <a:avLst/>
              <a:gdLst/>
              <a:ahLst/>
              <a:rect l="l" t="t" r="r" b="b"/>
              <a:pathLst>
                <a:path w="971" h="874">
                  <a:moveTo>
                    <a:pt x="858" y="598"/>
                  </a:moveTo>
                  <a:lnTo>
                    <a:pt x="825" y="615"/>
                  </a:lnTo>
                  <a:lnTo>
                    <a:pt x="825" y="598"/>
                  </a:lnTo>
                  <a:lnTo>
                    <a:pt x="777" y="582"/>
                  </a:lnTo>
                  <a:lnTo>
                    <a:pt x="761" y="566"/>
                  </a:lnTo>
                  <a:lnTo>
                    <a:pt x="728" y="566"/>
                  </a:lnTo>
                  <a:lnTo>
                    <a:pt x="712" y="582"/>
                  </a:lnTo>
                  <a:lnTo>
                    <a:pt x="696" y="615"/>
                  </a:lnTo>
                  <a:lnTo>
                    <a:pt x="696" y="631"/>
                  </a:lnTo>
                  <a:lnTo>
                    <a:pt x="728" y="647"/>
                  </a:lnTo>
                  <a:lnTo>
                    <a:pt x="761" y="647"/>
                  </a:lnTo>
                  <a:lnTo>
                    <a:pt x="777" y="631"/>
                  </a:lnTo>
                  <a:lnTo>
                    <a:pt x="793" y="615"/>
                  </a:lnTo>
                  <a:lnTo>
                    <a:pt x="809" y="631"/>
                  </a:lnTo>
                  <a:lnTo>
                    <a:pt x="825" y="615"/>
                  </a:lnTo>
                  <a:lnTo>
                    <a:pt x="825" y="615"/>
                  </a:lnTo>
                  <a:lnTo>
                    <a:pt x="841" y="615"/>
                  </a:lnTo>
                  <a:lnTo>
                    <a:pt x="841" y="615"/>
                  </a:lnTo>
                  <a:lnTo>
                    <a:pt x="825" y="631"/>
                  </a:lnTo>
                  <a:lnTo>
                    <a:pt x="809" y="647"/>
                  </a:lnTo>
                  <a:lnTo>
                    <a:pt x="809" y="663"/>
                  </a:lnTo>
                  <a:lnTo>
                    <a:pt x="825" y="647"/>
                  </a:lnTo>
                  <a:lnTo>
                    <a:pt x="825" y="663"/>
                  </a:lnTo>
                  <a:lnTo>
                    <a:pt x="858" y="679"/>
                  </a:lnTo>
                  <a:lnTo>
                    <a:pt x="858" y="663"/>
                  </a:lnTo>
                  <a:lnTo>
                    <a:pt x="858" y="647"/>
                  </a:lnTo>
                  <a:lnTo>
                    <a:pt x="890" y="631"/>
                  </a:lnTo>
                  <a:lnTo>
                    <a:pt x="874" y="647"/>
                  </a:lnTo>
                  <a:lnTo>
                    <a:pt x="890" y="647"/>
                  </a:lnTo>
                  <a:lnTo>
                    <a:pt x="890" y="663"/>
                  </a:lnTo>
                  <a:lnTo>
                    <a:pt x="890" y="679"/>
                  </a:lnTo>
                  <a:lnTo>
                    <a:pt x="890" y="679"/>
                  </a:lnTo>
                  <a:lnTo>
                    <a:pt x="906" y="679"/>
                  </a:lnTo>
                  <a:lnTo>
                    <a:pt x="890" y="695"/>
                  </a:lnTo>
                  <a:lnTo>
                    <a:pt x="874" y="679"/>
                  </a:lnTo>
                  <a:lnTo>
                    <a:pt x="874" y="695"/>
                  </a:lnTo>
                  <a:lnTo>
                    <a:pt x="841" y="695"/>
                  </a:lnTo>
                  <a:lnTo>
                    <a:pt x="858" y="712"/>
                  </a:lnTo>
                  <a:lnTo>
                    <a:pt x="858" y="712"/>
                  </a:lnTo>
                  <a:lnTo>
                    <a:pt x="874" y="728"/>
                  </a:lnTo>
                  <a:lnTo>
                    <a:pt x="841" y="712"/>
                  </a:lnTo>
                  <a:lnTo>
                    <a:pt x="841" y="712"/>
                  </a:lnTo>
                  <a:lnTo>
                    <a:pt x="858" y="728"/>
                  </a:lnTo>
                  <a:lnTo>
                    <a:pt x="841" y="728"/>
                  </a:lnTo>
                  <a:lnTo>
                    <a:pt x="825" y="728"/>
                  </a:lnTo>
                  <a:lnTo>
                    <a:pt x="841" y="728"/>
                  </a:lnTo>
                  <a:lnTo>
                    <a:pt x="825" y="728"/>
                  </a:lnTo>
                  <a:lnTo>
                    <a:pt x="874" y="760"/>
                  </a:lnTo>
                  <a:lnTo>
                    <a:pt x="874" y="776"/>
                  </a:lnTo>
                  <a:lnTo>
                    <a:pt x="906" y="776"/>
                  </a:lnTo>
                  <a:lnTo>
                    <a:pt x="906" y="776"/>
                  </a:lnTo>
                  <a:lnTo>
                    <a:pt x="922" y="776"/>
                  </a:lnTo>
                  <a:lnTo>
                    <a:pt x="922" y="793"/>
                  </a:lnTo>
                  <a:lnTo>
                    <a:pt x="939" y="776"/>
                  </a:lnTo>
                  <a:lnTo>
                    <a:pt x="955" y="793"/>
                  </a:lnTo>
                  <a:lnTo>
                    <a:pt x="955" y="809"/>
                  </a:lnTo>
                  <a:lnTo>
                    <a:pt x="971" y="809"/>
                  </a:lnTo>
                  <a:lnTo>
                    <a:pt x="955" y="825"/>
                  </a:lnTo>
                  <a:lnTo>
                    <a:pt x="971" y="825"/>
                  </a:lnTo>
                  <a:lnTo>
                    <a:pt x="971" y="841"/>
                  </a:lnTo>
                  <a:lnTo>
                    <a:pt x="955" y="825"/>
                  </a:lnTo>
                  <a:lnTo>
                    <a:pt x="955" y="841"/>
                  </a:lnTo>
                  <a:lnTo>
                    <a:pt x="955" y="841"/>
                  </a:lnTo>
                  <a:lnTo>
                    <a:pt x="955" y="857"/>
                  </a:lnTo>
                  <a:lnTo>
                    <a:pt x="939" y="825"/>
                  </a:lnTo>
                  <a:lnTo>
                    <a:pt x="939" y="841"/>
                  </a:lnTo>
                  <a:lnTo>
                    <a:pt x="906" y="874"/>
                  </a:lnTo>
                  <a:lnTo>
                    <a:pt x="922" y="825"/>
                  </a:lnTo>
                  <a:lnTo>
                    <a:pt x="922" y="825"/>
                  </a:lnTo>
                  <a:lnTo>
                    <a:pt x="922" y="841"/>
                  </a:lnTo>
                  <a:lnTo>
                    <a:pt x="906" y="841"/>
                  </a:lnTo>
                  <a:lnTo>
                    <a:pt x="906" y="825"/>
                  </a:lnTo>
                  <a:lnTo>
                    <a:pt x="890" y="809"/>
                  </a:lnTo>
                  <a:lnTo>
                    <a:pt x="890" y="809"/>
                  </a:lnTo>
                  <a:lnTo>
                    <a:pt x="890" y="809"/>
                  </a:lnTo>
                  <a:lnTo>
                    <a:pt x="858" y="809"/>
                  </a:lnTo>
                  <a:lnTo>
                    <a:pt x="858" y="793"/>
                  </a:lnTo>
                  <a:lnTo>
                    <a:pt x="825" y="793"/>
                  </a:lnTo>
                  <a:lnTo>
                    <a:pt x="825" y="776"/>
                  </a:lnTo>
                  <a:lnTo>
                    <a:pt x="825" y="776"/>
                  </a:lnTo>
                  <a:lnTo>
                    <a:pt x="825" y="760"/>
                  </a:lnTo>
                  <a:lnTo>
                    <a:pt x="793" y="760"/>
                  </a:lnTo>
                  <a:lnTo>
                    <a:pt x="793" y="760"/>
                  </a:lnTo>
                  <a:lnTo>
                    <a:pt x="777" y="760"/>
                  </a:lnTo>
                  <a:lnTo>
                    <a:pt x="761" y="744"/>
                  </a:lnTo>
                  <a:lnTo>
                    <a:pt x="761" y="760"/>
                  </a:lnTo>
                  <a:lnTo>
                    <a:pt x="761" y="744"/>
                  </a:lnTo>
                  <a:lnTo>
                    <a:pt x="744" y="744"/>
                  </a:lnTo>
                  <a:lnTo>
                    <a:pt x="744" y="760"/>
                  </a:lnTo>
                  <a:lnTo>
                    <a:pt x="777" y="776"/>
                  </a:lnTo>
                  <a:lnTo>
                    <a:pt x="777" y="776"/>
                  </a:lnTo>
                  <a:lnTo>
                    <a:pt x="777" y="793"/>
                  </a:lnTo>
                  <a:lnTo>
                    <a:pt x="777" y="793"/>
                  </a:lnTo>
                  <a:lnTo>
                    <a:pt x="777" y="793"/>
                  </a:lnTo>
                  <a:lnTo>
                    <a:pt x="761" y="793"/>
                  </a:lnTo>
                  <a:lnTo>
                    <a:pt x="777" y="825"/>
                  </a:lnTo>
                  <a:lnTo>
                    <a:pt x="777" y="825"/>
                  </a:lnTo>
                  <a:lnTo>
                    <a:pt x="777" y="825"/>
                  </a:lnTo>
                  <a:lnTo>
                    <a:pt x="744" y="841"/>
                  </a:lnTo>
                  <a:lnTo>
                    <a:pt x="744" y="825"/>
                  </a:lnTo>
                  <a:lnTo>
                    <a:pt x="744" y="809"/>
                  </a:lnTo>
                  <a:lnTo>
                    <a:pt x="728" y="809"/>
                  </a:lnTo>
                  <a:lnTo>
                    <a:pt x="728" y="809"/>
                  </a:lnTo>
                  <a:lnTo>
                    <a:pt x="728" y="809"/>
                  </a:lnTo>
                  <a:lnTo>
                    <a:pt x="712" y="809"/>
                  </a:lnTo>
                  <a:lnTo>
                    <a:pt x="712" y="793"/>
                  </a:lnTo>
                  <a:lnTo>
                    <a:pt x="696" y="793"/>
                  </a:lnTo>
                  <a:lnTo>
                    <a:pt x="696" y="809"/>
                  </a:lnTo>
                  <a:lnTo>
                    <a:pt x="663" y="809"/>
                  </a:lnTo>
                  <a:lnTo>
                    <a:pt x="680" y="809"/>
                  </a:lnTo>
                  <a:lnTo>
                    <a:pt x="663" y="825"/>
                  </a:lnTo>
                  <a:lnTo>
                    <a:pt x="663" y="825"/>
                  </a:lnTo>
                  <a:lnTo>
                    <a:pt x="663" y="841"/>
                  </a:lnTo>
                  <a:lnTo>
                    <a:pt x="663" y="841"/>
                  </a:lnTo>
                  <a:lnTo>
                    <a:pt x="663" y="841"/>
                  </a:lnTo>
                  <a:lnTo>
                    <a:pt x="647" y="841"/>
                  </a:lnTo>
                  <a:lnTo>
                    <a:pt x="647" y="841"/>
                  </a:lnTo>
                  <a:lnTo>
                    <a:pt x="631" y="841"/>
                  </a:lnTo>
                  <a:lnTo>
                    <a:pt x="615" y="841"/>
                  </a:lnTo>
                  <a:lnTo>
                    <a:pt x="615" y="841"/>
                  </a:lnTo>
                  <a:lnTo>
                    <a:pt x="631" y="825"/>
                  </a:lnTo>
                  <a:lnTo>
                    <a:pt x="631" y="825"/>
                  </a:lnTo>
                  <a:lnTo>
                    <a:pt x="615" y="825"/>
                  </a:lnTo>
                  <a:lnTo>
                    <a:pt x="615" y="809"/>
                  </a:lnTo>
                  <a:lnTo>
                    <a:pt x="583" y="793"/>
                  </a:lnTo>
                  <a:lnTo>
                    <a:pt x="583" y="809"/>
                  </a:lnTo>
                  <a:lnTo>
                    <a:pt x="550" y="793"/>
                  </a:lnTo>
                  <a:lnTo>
                    <a:pt x="550" y="776"/>
                  </a:lnTo>
                  <a:lnTo>
                    <a:pt x="518" y="760"/>
                  </a:lnTo>
                  <a:lnTo>
                    <a:pt x="485" y="760"/>
                  </a:lnTo>
                  <a:lnTo>
                    <a:pt x="485" y="744"/>
                  </a:lnTo>
                  <a:lnTo>
                    <a:pt x="469" y="744"/>
                  </a:lnTo>
                  <a:lnTo>
                    <a:pt x="469" y="712"/>
                  </a:lnTo>
                  <a:lnTo>
                    <a:pt x="421" y="728"/>
                  </a:lnTo>
                  <a:lnTo>
                    <a:pt x="421" y="712"/>
                  </a:lnTo>
                  <a:lnTo>
                    <a:pt x="437" y="712"/>
                  </a:lnTo>
                  <a:lnTo>
                    <a:pt x="437" y="712"/>
                  </a:lnTo>
                  <a:lnTo>
                    <a:pt x="437" y="695"/>
                  </a:lnTo>
                  <a:lnTo>
                    <a:pt x="404" y="695"/>
                  </a:lnTo>
                  <a:lnTo>
                    <a:pt x="404" y="712"/>
                  </a:lnTo>
                  <a:lnTo>
                    <a:pt x="372" y="728"/>
                  </a:lnTo>
                  <a:lnTo>
                    <a:pt x="372" y="712"/>
                  </a:lnTo>
                  <a:lnTo>
                    <a:pt x="372" y="728"/>
                  </a:lnTo>
                  <a:lnTo>
                    <a:pt x="388" y="760"/>
                  </a:lnTo>
                  <a:lnTo>
                    <a:pt x="356" y="776"/>
                  </a:lnTo>
                  <a:lnTo>
                    <a:pt x="291" y="760"/>
                  </a:lnTo>
                  <a:lnTo>
                    <a:pt x="162" y="728"/>
                  </a:lnTo>
                  <a:lnTo>
                    <a:pt x="81" y="728"/>
                  </a:lnTo>
                  <a:lnTo>
                    <a:pt x="65" y="744"/>
                  </a:lnTo>
                  <a:lnTo>
                    <a:pt x="48" y="728"/>
                  </a:lnTo>
                  <a:lnTo>
                    <a:pt x="65" y="712"/>
                  </a:lnTo>
                  <a:lnTo>
                    <a:pt x="65" y="679"/>
                  </a:lnTo>
                  <a:lnTo>
                    <a:pt x="81" y="663"/>
                  </a:lnTo>
                  <a:lnTo>
                    <a:pt x="81" y="647"/>
                  </a:lnTo>
                  <a:lnTo>
                    <a:pt x="81" y="631"/>
                  </a:lnTo>
                  <a:lnTo>
                    <a:pt x="81" y="615"/>
                  </a:lnTo>
                  <a:lnTo>
                    <a:pt x="65" y="598"/>
                  </a:lnTo>
                  <a:lnTo>
                    <a:pt x="65" y="598"/>
                  </a:lnTo>
                  <a:lnTo>
                    <a:pt x="81" y="582"/>
                  </a:lnTo>
                  <a:lnTo>
                    <a:pt x="65" y="566"/>
                  </a:lnTo>
                  <a:lnTo>
                    <a:pt x="65" y="550"/>
                  </a:lnTo>
                  <a:lnTo>
                    <a:pt x="81" y="550"/>
                  </a:lnTo>
                  <a:lnTo>
                    <a:pt x="81" y="534"/>
                  </a:lnTo>
                  <a:lnTo>
                    <a:pt x="97" y="534"/>
                  </a:lnTo>
                  <a:lnTo>
                    <a:pt x="97" y="517"/>
                  </a:lnTo>
                  <a:lnTo>
                    <a:pt x="97" y="501"/>
                  </a:lnTo>
                  <a:lnTo>
                    <a:pt x="97" y="485"/>
                  </a:lnTo>
                  <a:lnTo>
                    <a:pt x="113" y="469"/>
                  </a:lnTo>
                  <a:lnTo>
                    <a:pt x="97" y="469"/>
                  </a:lnTo>
                  <a:lnTo>
                    <a:pt x="97" y="453"/>
                  </a:lnTo>
                  <a:lnTo>
                    <a:pt x="113" y="453"/>
                  </a:lnTo>
                  <a:lnTo>
                    <a:pt x="97" y="437"/>
                  </a:lnTo>
                  <a:lnTo>
                    <a:pt x="113" y="437"/>
                  </a:lnTo>
                  <a:lnTo>
                    <a:pt x="97" y="420"/>
                  </a:lnTo>
                  <a:lnTo>
                    <a:pt x="97" y="420"/>
                  </a:lnTo>
                  <a:lnTo>
                    <a:pt x="81" y="404"/>
                  </a:lnTo>
                  <a:lnTo>
                    <a:pt x="81" y="388"/>
                  </a:lnTo>
                  <a:lnTo>
                    <a:pt x="81" y="388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48" y="339"/>
                  </a:lnTo>
                  <a:lnTo>
                    <a:pt x="48" y="339"/>
                  </a:lnTo>
                  <a:lnTo>
                    <a:pt x="48" y="307"/>
                  </a:lnTo>
                  <a:lnTo>
                    <a:pt x="32" y="275"/>
                  </a:lnTo>
                  <a:lnTo>
                    <a:pt x="16" y="242"/>
                  </a:lnTo>
                  <a:lnTo>
                    <a:pt x="0" y="242"/>
                  </a:lnTo>
                  <a:lnTo>
                    <a:pt x="0" y="194"/>
                  </a:lnTo>
                  <a:lnTo>
                    <a:pt x="0" y="161"/>
                  </a:lnTo>
                  <a:lnTo>
                    <a:pt x="0" y="97"/>
                  </a:lnTo>
                  <a:lnTo>
                    <a:pt x="0" y="48"/>
                  </a:lnTo>
                  <a:lnTo>
                    <a:pt x="0" y="16"/>
                  </a:lnTo>
                  <a:lnTo>
                    <a:pt x="48" y="16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146" y="16"/>
                  </a:lnTo>
                  <a:lnTo>
                    <a:pt x="194" y="16"/>
                  </a:lnTo>
                  <a:lnTo>
                    <a:pt x="243" y="16"/>
                  </a:lnTo>
                  <a:lnTo>
                    <a:pt x="356" y="16"/>
                  </a:lnTo>
                  <a:lnTo>
                    <a:pt x="469" y="16"/>
                  </a:lnTo>
                  <a:lnTo>
                    <a:pt x="469" y="0"/>
                  </a:lnTo>
                  <a:lnTo>
                    <a:pt x="502" y="0"/>
                  </a:lnTo>
                  <a:lnTo>
                    <a:pt x="518" y="0"/>
                  </a:lnTo>
                  <a:lnTo>
                    <a:pt x="518" y="32"/>
                  </a:lnTo>
                  <a:lnTo>
                    <a:pt x="534" y="32"/>
                  </a:lnTo>
                  <a:lnTo>
                    <a:pt x="534" y="16"/>
                  </a:lnTo>
                  <a:lnTo>
                    <a:pt x="534" y="16"/>
                  </a:lnTo>
                  <a:lnTo>
                    <a:pt x="534" y="32"/>
                  </a:lnTo>
                  <a:lnTo>
                    <a:pt x="534" y="48"/>
                  </a:lnTo>
                  <a:lnTo>
                    <a:pt x="534" y="64"/>
                  </a:lnTo>
                  <a:lnTo>
                    <a:pt x="550" y="64"/>
                  </a:lnTo>
                  <a:lnTo>
                    <a:pt x="534" y="80"/>
                  </a:lnTo>
                  <a:lnTo>
                    <a:pt x="534" y="97"/>
                  </a:lnTo>
                  <a:lnTo>
                    <a:pt x="550" y="80"/>
                  </a:lnTo>
                  <a:lnTo>
                    <a:pt x="550" y="97"/>
                  </a:lnTo>
                  <a:lnTo>
                    <a:pt x="550" y="97"/>
                  </a:lnTo>
                  <a:lnTo>
                    <a:pt x="566" y="113"/>
                  </a:lnTo>
                  <a:lnTo>
                    <a:pt x="550" y="113"/>
                  </a:lnTo>
                  <a:lnTo>
                    <a:pt x="550" y="113"/>
                  </a:lnTo>
                  <a:lnTo>
                    <a:pt x="534" y="113"/>
                  </a:lnTo>
                  <a:lnTo>
                    <a:pt x="550" y="129"/>
                  </a:lnTo>
                  <a:lnTo>
                    <a:pt x="566" y="129"/>
                  </a:lnTo>
                  <a:lnTo>
                    <a:pt x="566" y="145"/>
                  </a:lnTo>
                  <a:lnTo>
                    <a:pt x="566" y="145"/>
                  </a:lnTo>
                  <a:lnTo>
                    <a:pt x="583" y="145"/>
                  </a:lnTo>
                  <a:lnTo>
                    <a:pt x="583" y="145"/>
                  </a:lnTo>
                  <a:lnTo>
                    <a:pt x="583" y="161"/>
                  </a:lnTo>
                  <a:lnTo>
                    <a:pt x="566" y="161"/>
                  </a:lnTo>
                  <a:lnTo>
                    <a:pt x="566" y="178"/>
                  </a:lnTo>
                  <a:lnTo>
                    <a:pt x="550" y="178"/>
                  </a:lnTo>
                  <a:lnTo>
                    <a:pt x="534" y="178"/>
                  </a:lnTo>
                  <a:lnTo>
                    <a:pt x="534" y="178"/>
                  </a:lnTo>
                  <a:lnTo>
                    <a:pt x="534" y="194"/>
                  </a:lnTo>
                  <a:lnTo>
                    <a:pt x="550" y="194"/>
                  </a:lnTo>
                  <a:lnTo>
                    <a:pt x="550" y="178"/>
                  </a:lnTo>
                  <a:lnTo>
                    <a:pt x="566" y="194"/>
                  </a:lnTo>
                  <a:lnTo>
                    <a:pt x="550" y="210"/>
                  </a:lnTo>
                  <a:lnTo>
                    <a:pt x="550" y="210"/>
                  </a:lnTo>
                  <a:lnTo>
                    <a:pt x="534" y="210"/>
                  </a:lnTo>
                  <a:lnTo>
                    <a:pt x="550" y="226"/>
                  </a:lnTo>
                  <a:lnTo>
                    <a:pt x="534" y="226"/>
                  </a:lnTo>
                  <a:lnTo>
                    <a:pt x="518" y="259"/>
                  </a:lnTo>
                  <a:lnTo>
                    <a:pt x="518" y="275"/>
                  </a:lnTo>
                  <a:lnTo>
                    <a:pt x="518" y="259"/>
                  </a:lnTo>
                  <a:lnTo>
                    <a:pt x="502" y="275"/>
                  </a:lnTo>
                  <a:lnTo>
                    <a:pt x="518" y="275"/>
                  </a:lnTo>
                  <a:lnTo>
                    <a:pt x="502" y="275"/>
                  </a:lnTo>
                  <a:lnTo>
                    <a:pt x="502" y="275"/>
                  </a:lnTo>
                  <a:lnTo>
                    <a:pt x="502" y="307"/>
                  </a:lnTo>
                  <a:lnTo>
                    <a:pt x="469" y="307"/>
                  </a:lnTo>
                  <a:lnTo>
                    <a:pt x="485" y="323"/>
                  </a:lnTo>
                  <a:lnTo>
                    <a:pt x="502" y="323"/>
                  </a:lnTo>
                  <a:lnTo>
                    <a:pt x="485" y="339"/>
                  </a:lnTo>
                  <a:lnTo>
                    <a:pt x="485" y="372"/>
                  </a:lnTo>
                  <a:lnTo>
                    <a:pt x="469" y="356"/>
                  </a:lnTo>
                  <a:lnTo>
                    <a:pt x="469" y="356"/>
                  </a:lnTo>
                  <a:lnTo>
                    <a:pt x="469" y="356"/>
                  </a:lnTo>
                  <a:lnTo>
                    <a:pt x="485" y="388"/>
                  </a:lnTo>
                  <a:lnTo>
                    <a:pt x="453" y="388"/>
                  </a:lnTo>
                  <a:lnTo>
                    <a:pt x="469" y="404"/>
                  </a:lnTo>
                  <a:lnTo>
                    <a:pt x="453" y="420"/>
                  </a:lnTo>
                  <a:lnTo>
                    <a:pt x="469" y="437"/>
                  </a:lnTo>
                  <a:lnTo>
                    <a:pt x="453" y="453"/>
                  </a:lnTo>
                  <a:lnTo>
                    <a:pt x="550" y="437"/>
                  </a:lnTo>
                  <a:lnTo>
                    <a:pt x="566" y="437"/>
                  </a:lnTo>
                  <a:lnTo>
                    <a:pt x="615" y="437"/>
                  </a:lnTo>
                  <a:lnTo>
                    <a:pt x="663" y="437"/>
                  </a:lnTo>
                  <a:lnTo>
                    <a:pt x="663" y="437"/>
                  </a:lnTo>
                  <a:lnTo>
                    <a:pt x="696" y="437"/>
                  </a:lnTo>
                  <a:lnTo>
                    <a:pt x="712" y="437"/>
                  </a:lnTo>
                  <a:lnTo>
                    <a:pt x="793" y="437"/>
                  </a:lnTo>
                  <a:lnTo>
                    <a:pt x="809" y="420"/>
                  </a:lnTo>
                  <a:lnTo>
                    <a:pt x="809" y="437"/>
                  </a:lnTo>
                  <a:lnTo>
                    <a:pt x="809" y="453"/>
                  </a:lnTo>
                  <a:lnTo>
                    <a:pt x="809" y="469"/>
                  </a:lnTo>
                  <a:lnTo>
                    <a:pt x="793" y="469"/>
                  </a:lnTo>
                  <a:lnTo>
                    <a:pt x="793" y="501"/>
                  </a:lnTo>
                  <a:lnTo>
                    <a:pt x="809" y="501"/>
                  </a:lnTo>
                  <a:lnTo>
                    <a:pt x="809" y="534"/>
                  </a:lnTo>
                  <a:lnTo>
                    <a:pt x="825" y="550"/>
                  </a:lnTo>
                  <a:lnTo>
                    <a:pt x="825" y="566"/>
                  </a:lnTo>
                  <a:lnTo>
                    <a:pt x="841" y="566"/>
                  </a:lnTo>
                  <a:lnTo>
                    <a:pt x="841" y="582"/>
                  </a:lnTo>
                  <a:lnTo>
                    <a:pt x="858" y="598"/>
                  </a:lnTo>
                  <a:lnTo>
                    <a:pt x="858" y="598"/>
                  </a:lnTo>
                  <a:close/>
                  <a:moveTo>
                    <a:pt x="404" y="760"/>
                  </a:moveTo>
                  <a:lnTo>
                    <a:pt x="421" y="744"/>
                  </a:lnTo>
                  <a:lnTo>
                    <a:pt x="453" y="760"/>
                  </a:lnTo>
                  <a:lnTo>
                    <a:pt x="453" y="760"/>
                  </a:lnTo>
                  <a:lnTo>
                    <a:pt x="453" y="776"/>
                  </a:lnTo>
                  <a:lnTo>
                    <a:pt x="453" y="776"/>
                  </a:lnTo>
                  <a:lnTo>
                    <a:pt x="437" y="776"/>
                  </a:lnTo>
                  <a:lnTo>
                    <a:pt x="404" y="760"/>
                  </a:lnTo>
                  <a:lnTo>
                    <a:pt x="404" y="760"/>
                  </a:lnTo>
                  <a:close/>
                  <a:moveTo>
                    <a:pt x="534" y="809"/>
                  </a:moveTo>
                  <a:lnTo>
                    <a:pt x="534" y="809"/>
                  </a:lnTo>
                  <a:lnTo>
                    <a:pt x="550" y="793"/>
                  </a:lnTo>
                  <a:lnTo>
                    <a:pt x="566" y="809"/>
                  </a:lnTo>
                  <a:lnTo>
                    <a:pt x="566" y="809"/>
                  </a:lnTo>
                  <a:lnTo>
                    <a:pt x="566" y="825"/>
                  </a:lnTo>
                  <a:lnTo>
                    <a:pt x="566" y="809"/>
                  </a:lnTo>
                  <a:lnTo>
                    <a:pt x="566" y="825"/>
                  </a:lnTo>
                  <a:lnTo>
                    <a:pt x="566" y="825"/>
                  </a:lnTo>
                  <a:lnTo>
                    <a:pt x="566" y="825"/>
                  </a:lnTo>
                  <a:lnTo>
                    <a:pt x="566" y="825"/>
                  </a:lnTo>
                  <a:lnTo>
                    <a:pt x="566" y="825"/>
                  </a:lnTo>
                  <a:lnTo>
                    <a:pt x="550" y="825"/>
                  </a:lnTo>
                  <a:lnTo>
                    <a:pt x="534" y="809"/>
                  </a:lnTo>
                  <a:lnTo>
                    <a:pt x="534" y="809"/>
                  </a:lnTo>
                  <a:close/>
                  <a:moveTo>
                    <a:pt x="615" y="825"/>
                  </a:moveTo>
                  <a:lnTo>
                    <a:pt x="599" y="825"/>
                  </a:lnTo>
                  <a:lnTo>
                    <a:pt x="599" y="825"/>
                  </a:lnTo>
                  <a:lnTo>
                    <a:pt x="599" y="825"/>
                  </a:lnTo>
                  <a:lnTo>
                    <a:pt x="599" y="825"/>
                  </a:lnTo>
                  <a:lnTo>
                    <a:pt x="615" y="825"/>
                  </a:lnTo>
                  <a:lnTo>
                    <a:pt x="599" y="841"/>
                  </a:lnTo>
                  <a:lnTo>
                    <a:pt x="599" y="841"/>
                  </a:lnTo>
                  <a:lnTo>
                    <a:pt x="599" y="825"/>
                  </a:lnTo>
                  <a:lnTo>
                    <a:pt x="583" y="825"/>
                  </a:lnTo>
                  <a:lnTo>
                    <a:pt x="599" y="825"/>
                  </a:lnTo>
                  <a:lnTo>
                    <a:pt x="583" y="825"/>
                  </a:lnTo>
                  <a:lnTo>
                    <a:pt x="583" y="841"/>
                  </a:lnTo>
                  <a:lnTo>
                    <a:pt x="566" y="825"/>
                  </a:lnTo>
                  <a:lnTo>
                    <a:pt x="566" y="809"/>
                  </a:lnTo>
                  <a:lnTo>
                    <a:pt x="599" y="809"/>
                  </a:lnTo>
                  <a:lnTo>
                    <a:pt x="599" y="809"/>
                  </a:lnTo>
                  <a:lnTo>
                    <a:pt x="615" y="825"/>
                  </a:lnTo>
                  <a:lnTo>
                    <a:pt x="615" y="8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74960" y="2172960"/>
              <a:ext cx="857160" cy="719280"/>
            </a:xfrm>
            <a:custGeom>
              <a:avLst/>
              <a:gdLst/>
              <a:ahLst/>
              <a:rect l="l" t="t" r="r" b="b"/>
              <a:pathLst>
                <a:path w="1392" h="1165">
                  <a:moveTo>
                    <a:pt x="437" y="987"/>
                  </a:moveTo>
                  <a:lnTo>
                    <a:pt x="307" y="955"/>
                  </a:lnTo>
                  <a:lnTo>
                    <a:pt x="162" y="906"/>
                  </a:lnTo>
                  <a:lnTo>
                    <a:pt x="129" y="890"/>
                  </a:lnTo>
                  <a:lnTo>
                    <a:pt x="81" y="890"/>
                  </a:lnTo>
                  <a:lnTo>
                    <a:pt x="16" y="858"/>
                  </a:lnTo>
                  <a:lnTo>
                    <a:pt x="0" y="842"/>
                  </a:lnTo>
                  <a:lnTo>
                    <a:pt x="0" y="809"/>
                  </a:lnTo>
                  <a:lnTo>
                    <a:pt x="16" y="761"/>
                  </a:lnTo>
                  <a:lnTo>
                    <a:pt x="16" y="744"/>
                  </a:lnTo>
                  <a:lnTo>
                    <a:pt x="32" y="728"/>
                  </a:lnTo>
                  <a:lnTo>
                    <a:pt x="16" y="680"/>
                  </a:lnTo>
                  <a:lnTo>
                    <a:pt x="32" y="647"/>
                  </a:lnTo>
                  <a:lnTo>
                    <a:pt x="64" y="599"/>
                  </a:lnTo>
                  <a:lnTo>
                    <a:pt x="64" y="583"/>
                  </a:lnTo>
                  <a:lnTo>
                    <a:pt x="97" y="550"/>
                  </a:lnTo>
                  <a:lnTo>
                    <a:pt x="113" y="534"/>
                  </a:lnTo>
                  <a:lnTo>
                    <a:pt x="145" y="486"/>
                  </a:lnTo>
                  <a:lnTo>
                    <a:pt x="178" y="388"/>
                  </a:lnTo>
                  <a:lnTo>
                    <a:pt x="210" y="307"/>
                  </a:lnTo>
                  <a:lnTo>
                    <a:pt x="210" y="275"/>
                  </a:lnTo>
                  <a:lnTo>
                    <a:pt x="242" y="243"/>
                  </a:lnTo>
                  <a:lnTo>
                    <a:pt x="259" y="194"/>
                  </a:lnTo>
                  <a:lnTo>
                    <a:pt x="275" y="146"/>
                  </a:lnTo>
                  <a:lnTo>
                    <a:pt x="275" y="146"/>
                  </a:lnTo>
                  <a:lnTo>
                    <a:pt x="291" y="146"/>
                  </a:lnTo>
                  <a:lnTo>
                    <a:pt x="291" y="146"/>
                  </a:lnTo>
                  <a:lnTo>
                    <a:pt x="275" y="129"/>
                  </a:lnTo>
                  <a:lnTo>
                    <a:pt x="291" y="97"/>
                  </a:lnTo>
                  <a:lnTo>
                    <a:pt x="291" y="81"/>
                  </a:lnTo>
                  <a:lnTo>
                    <a:pt x="307" y="65"/>
                  </a:lnTo>
                  <a:lnTo>
                    <a:pt x="291" y="49"/>
                  </a:lnTo>
                  <a:lnTo>
                    <a:pt x="307" y="32"/>
                  </a:lnTo>
                  <a:lnTo>
                    <a:pt x="323" y="0"/>
                  </a:lnTo>
                  <a:lnTo>
                    <a:pt x="340" y="16"/>
                  </a:lnTo>
                  <a:lnTo>
                    <a:pt x="340" y="16"/>
                  </a:lnTo>
                  <a:lnTo>
                    <a:pt x="340" y="0"/>
                  </a:lnTo>
                  <a:lnTo>
                    <a:pt x="356" y="0"/>
                  </a:lnTo>
                  <a:lnTo>
                    <a:pt x="356" y="16"/>
                  </a:lnTo>
                  <a:lnTo>
                    <a:pt x="356" y="16"/>
                  </a:lnTo>
                  <a:lnTo>
                    <a:pt x="388" y="16"/>
                  </a:lnTo>
                  <a:lnTo>
                    <a:pt x="404" y="32"/>
                  </a:lnTo>
                  <a:lnTo>
                    <a:pt x="421" y="32"/>
                  </a:lnTo>
                  <a:lnTo>
                    <a:pt x="421" y="32"/>
                  </a:lnTo>
                  <a:lnTo>
                    <a:pt x="437" y="32"/>
                  </a:lnTo>
                  <a:lnTo>
                    <a:pt x="469" y="65"/>
                  </a:lnTo>
                  <a:lnTo>
                    <a:pt x="469" y="97"/>
                  </a:lnTo>
                  <a:lnTo>
                    <a:pt x="469" y="129"/>
                  </a:lnTo>
                  <a:lnTo>
                    <a:pt x="469" y="146"/>
                  </a:lnTo>
                  <a:lnTo>
                    <a:pt x="469" y="162"/>
                  </a:lnTo>
                  <a:lnTo>
                    <a:pt x="469" y="178"/>
                  </a:lnTo>
                  <a:lnTo>
                    <a:pt x="534" y="210"/>
                  </a:lnTo>
                  <a:lnTo>
                    <a:pt x="582" y="194"/>
                  </a:lnTo>
                  <a:lnTo>
                    <a:pt x="599" y="194"/>
                  </a:lnTo>
                  <a:lnTo>
                    <a:pt x="647" y="194"/>
                  </a:lnTo>
                  <a:lnTo>
                    <a:pt x="663" y="210"/>
                  </a:lnTo>
                  <a:lnTo>
                    <a:pt x="696" y="227"/>
                  </a:lnTo>
                  <a:lnTo>
                    <a:pt x="696" y="243"/>
                  </a:lnTo>
                  <a:lnTo>
                    <a:pt x="712" y="243"/>
                  </a:lnTo>
                  <a:lnTo>
                    <a:pt x="728" y="243"/>
                  </a:lnTo>
                  <a:lnTo>
                    <a:pt x="777" y="227"/>
                  </a:lnTo>
                  <a:lnTo>
                    <a:pt x="793" y="243"/>
                  </a:lnTo>
                  <a:lnTo>
                    <a:pt x="809" y="243"/>
                  </a:lnTo>
                  <a:lnTo>
                    <a:pt x="841" y="259"/>
                  </a:lnTo>
                  <a:lnTo>
                    <a:pt x="874" y="243"/>
                  </a:lnTo>
                  <a:lnTo>
                    <a:pt x="906" y="243"/>
                  </a:lnTo>
                  <a:lnTo>
                    <a:pt x="922" y="243"/>
                  </a:lnTo>
                  <a:lnTo>
                    <a:pt x="938" y="243"/>
                  </a:lnTo>
                  <a:lnTo>
                    <a:pt x="971" y="243"/>
                  </a:lnTo>
                  <a:lnTo>
                    <a:pt x="1003" y="243"/>
                  </a:lnTo>
                  <a:lnTo>
                    <a:pt x="1035" y="243"/>
                  </a:lnTo>
                  <a:lnTo>
                    <a:pt x="1181" y="275"/>
                  </a:lnTo>
                  <a:lnTo>
                    <a:pt x="1181" y="275"/>
                  </a:lnTo>
                  <a:lnTo>
                    <a:pt x="1246" y="291"/>
                  </a:lnTo>
                  <a:lnTo>
                    <a:pt x="1262" y="291"/>
                  </a:lnTo>
                  <a:lnTo>
                    <a:pt x="1343" y="307"/>
                  </a:lnTo>
                  <a:lnTo>
                    <a:pt x="1359" y="356"/>
                  </a:lnTo>
                  <a:lnTo>
                    <a:pt x="1392" y="372"/>
                  </a:lnTo>
                  <a:lnTo>
                    <a:pt x="1392" y="405"/>
                  </a:lnTo>
                  <a:lnTo>
                    <a:pt x="1343" y="469"/>
                  </a:lnTo>
                  <a:lnTo>
                    <a:pt x="1343" y="469"/>
                  </a:lnTo>
                  <a:lnTo>
                    <a:pt x="1327" y="518"/>
                  </a:lnTo>
                  <a:lnTo>
                    <a:pt x="1311" y="518"/>
                  </a:lnTo>
                  <a:lnTo>
                    <a:pt x="1311" y="550"/>
                  </a:lnTo>
                  <a:lnTo>
                    <a:pt x="1294" y="566"/>
                  </a:lnTo>
                  <a:lnTo>
                    <a:pt x="1278" y="566"/>
                  </a:lnTo>
                  <a:lnTo>
                    <a:pt x="1262" y="566"/>
                  </a:lnTo>
                  <a:lnTo>
                    <a:pt x="1246" y="615"/>
                  </a:lnTo>
                  <a:lnTo>
                    <a:pt x="1230" y="631"/>
                  </a:lnTo>
                  <a:lnTo>
                    <a:pt x="1214" y="664"/>
                  </a:lnTo>
                  <a:lnTo>
                    <a:pt x="1230" y="680"/>
                  </a:lnTo>
                  <a:lnTo>
                    <a:pt x="1246" y="680"/>
                  </a:lnTo>
                  <a:lnTo>
                    <a:pt x="1246" y="696"/>
                  </a:lnTo>
                  <a:lnTo>
                    <a:pt x="1262" y="696"/>
                  </a:lnTo>
                  <a:lnTo>
                    <a:pt x="1262" y="712"/>
                  </a:lnTo>
                  <a:lnTo>
                    <a:pt x="1246" y="712"/>
                  </a:lnTo>
                  <a:lnTo>
                    <a:pt x="1246" y="728"/>
                  </a:lnTo>
                  <a:lnTo>
                    <a:pt x="1230" y="761"/>
                  </a:lnTo>
                  <a:lnTo>
                    <a:pt x="1214" y="777"/>
                  </a:lnTo>
                  <a:lnTo>
                    <a:pt x="1214" y="809"/>
                  </a:lnTo>
                  <a:lnTo>
                    <a:pt x="1133" y="1165"/>
                  </a:lnTo>
                  <a:lnTo>
                    <a:pt x="955" y="1117"/>
                  </a:lnTo>
                  <a:lnTo>
                    <a:pt x="777" y="1084"/>
                  </a:lnTo>
                  <a:lnTo>
                    <a:pt x="777" y="1084"/>
                  </a:lnTo>
                  <a:lnTo>
                    <a:pt x="663" y="1052"/>
                  </a:lnTo>
                  <a:lnTo>
                    <a:pt x="534" y="1020"/>
                  </a:lnTo>
                  <a:lnTo>
                    <a:pt x="437" y="9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0240" y="3838320"/>
              <a:ext cx="1492200" cy="1454400"/>
            </a:xfrm>
            <a:custGeom>
              <a:avLst/>
              <a:gdLst/>
              <a:ahLst/>
              <a:rect l="l" t="t" r="r" b="b"/>
              <a:pathLst>
                <a:path w="2427" h="2363">
                  <a:moveTo>
                    <a:pt x="97" y="1068"/>
                  </a:moveTo>
                  <a:lnTo>
                    <a:pt x="64" y="1036"/>
                  </a:lnTo>
                  <a:lnTo>
                    <a:pt x="48" y="987"/>
                  </a:lnTo>
                  <a:lnTo>
                    <a:pt x="16" y="971"/>
                  </a:lnTo>
                  <a:lnTo>
                    <a:pt x="0" y="955"/>
                  </a:lnTo>
                  <a:lnTo>
                    <a:pt x="0" y="922"/>
                  </a:lnTo>
                  <a:lnTo>
                    <a:pt x="48" y="922"/>
                  </a:lnTo>
                  <a:lnTo>
                    <a:pt x="113" y="922"/>
                  </a:lnTo>
                  <a:lnTo>
                    <a:pt x="323" y="955"/>
                  </a:lnTo>
                  <a:lnTo>
                    <a:pt x="323" y="955"/>
                  </a:lnTo>
                  <a:lnTo>
                    <a:pt x="485" y="955"/>
                  </a:lnTo>
                  <a:lnTo>
                    <a:pt x="485" y="971"/>
                  </a:lnTo>
                  <a:lnTo>
                    <a:pt x="534" y="971"/>
                  </a:lnTo>
                  <a:lnTo>
                    <a:pt x="615" y="971"/>
                  </a:lnTo>
                  <a:lnTo>
                    <a:pt x="663" y="971"/>
                  </a:lnTo>
                  <a:lnTo>
                    <a:pt x="663" y="955"/>
                  </a:lnTo>
                  <a:lnTo>
                    <a:pt x="663" y="857"/>
                  </a:lnTo>
                  <a:lnTo>
                    <a:pt x="679" y="777"/>
                  </a:lnTo>
                  <a:lnTo>
                    <a:pt x="679" y="679"/>
                  </a:lnTo>
                  <a:lnTo>
                    <a:pt x="679" y="631"/>
                  </a:lnTo>
                  <a:lnTo>
                    <a:pt x="696" y="582"/>
                  </a:lnTo>
                  <a:lnTo>
                    <a:pt x="696" y="469"/>
                  </a:lnTo>
                  <a:lnTo>
                    <a:pt x="712" y="372"/>
                  </a:lnTo>
                  <a:lnTo>
                    <a:pt x="712" y="323"/>
                  </a:lnTo>
                  <a:lnTo>
                    <a:pt x="712" y="291"/>
                  </a:lnTo>
                  <a:lnTo>
                    <a:pt x="728" y="194"/>
                  </a:lnTo>
                  <a:lnTo>
                    <a:pt x="728" y="162"/>
                  </a:lnTo>
                  <a:lnTo>
                    <a:pt x="728" y="97"/>
                  </a:lnTo>
                  <a:lnTo>
                    <a:pt x="744" y="0"/>
                  </a:lnTo>
                  <a:lnTo>
                    <a:pt x="744" y="0"/>
                  </a:lnTo>
                  <a:lnTo>
                    <a:pt x="890" y="0"/>
                  </a:lnTo>
                  <a:lnTo>
                    <a:pt x="906" y="16"/>
                  </a:lnTo>
                  <a:lnTo>
                    <a:pt x="987" y="16"/>
                  </a:lnTo>
                  <a:lnTo>
                    <a:pt x="1068" y="16"/>
                  </a:lnTo>
                  <a:lnTo>
                    <a:pt x="1100" y="16"/>
                  </a:lnTo>
                  <a:lnTo>
                    <a:pt x="1165" y="16"/>
                  </a:lnTo>
                  <a:lnTo>
                    <a:pt x="1262" y="32"/>
                  </a:lnTo>
                  <a:lnTo>
                    <a:pt x="1262" y="129"/>
                  </a:lnTo>
                  <a:lnTo>
                    <a:pt x="1262" y="162"/>
                  </a:lnTo>
                  <a:lnTo>
                    <a:pt x="1262" y="226"/>
                  </a:lnTo>
                  <a:lnTo>
                    <a:pt x="1246" y="259"/>
                  </a:lnTo>
                  <a:lnTo>
                    <a:pt x="1246" y="307"/>
                  </a:lnTo>
                  <a:lnTo>
                    <a:pt x="1246" y="340"/>
                  </a:lnTo>
                  <a:lnTo>
                    <a:pt x="1246" y="404"/>
                  </a:lnTo>
                  <a:lnTo>
                    <a:pt x="1246" y="453"/>
                  </a:lnTo>
                  <a:lnTo>
                    <a:pt x="1262" y="453"/>
                  </a:lnTo>
                  <a:lnTo>
                    <a:pt x="1278" y="469"/>
                  </a:lnTo>
                  <a:lnTo>
                    <a:pt x="1294" y="485"/>
                  </a:lnTo>
                  <a:lnTo>
                    <a:pt x="1310" y="501"/>
                  </a:lnTo>
                  <a:lnTo>
                    <a:pt x="1327" y="485"/>
                  </a:lnTo>
                  <a:lnTo>
                    <a:pt x="1343" y="485"/>
                  </a:lnTo>
                  <a:lnTo>
                    <a:pt x="1343" y="501"/>
                  </a:lnTo>
                  <a:lnTo>
                    <a:pt x="1359" y="485"/>
                  </a:lnTo>
                  <a:lnTo>
                    <a:pt x="1391" y="501"/>
                  </a:lnTo>
                  <a:lnTo>
                    <a:pt x="1391" y="534"/>
                  </a:lnTo>
                  <a:lnTo>
                    <a:pt x="1424" y="534"/>
                  </a:lnTo>
                  <a:lnTo>
                    <a:pt x="1456" y="550"/>
                  </a:lnTo>
                  <a:lnTo>
                    <a:pt x="1489" y="550"/>
                  </a:lnTo>
                  <a:lnTo>
                    <a:pt x="1505" y="566"/>
                  </a:lnTo>
                  <a:lnTo>
                    <a:pt x="1521" y="566"/>
                  </a:lnTo>
                  <a:lnTo>
                    <a:pt x="1537" y="550"/>
                  </a:lnTo>
                  <a:lnTo>
                    <a:pt x="1569" y="566"/>
                  </a:lnTo>
                  <a:lnTo>
                    <a:pt x="1569" y="550"/>
                  </a:lnTo>
                  <a:lnTo>
                    <a:pt x="1586" y="550"/>
                  </a:lnTo>
                  <a:lnTo>
                    <a:pt x="1586" y="566"/>
                  </a:lnTo>
                  <a:lnTo>
                    <a:pt x="1586" y="582"/>
                  </a:lnTo>
                  <a:lnTo>
                    <a:pt x="1602" y="582"/>
                  </a:lnTo>
                  <a:lnTo>
                    <a:pt x="1602" y="599"/>
                  </a:lnTo>
                  <a:lnTo>
                    <a:pt x="1602" y="599"/>
                  </a:lnTo>
                  <a:lnTo>
                    <a:pt x="1618" y="615"/>
                  </a:lnTo>
                  <a:lnTo>
                    <a:pt x="1650" y="582"/>
                  </a:lnTo>
                  <a:lnTo>
                    <a:pt x="1667" y="599"/>
                  </a:lnTo>
                  <a:lnTo>
                    <a:pt x="1667" y="599"/>
                  </a:lnTo>
                  <a:lnTo>
                    <a:pt x="1683" y="615"/>
                  </a:lnTo>
                  <a:lnTo>
                    <a:pt x="1699" y="615"/>
                  </a:lnTo>
                  <a:lnTo>
                    <a:pt x="1699" y="615"/>
                  </a:lnTo>
                  <a:lnTo>
                    <a:pt x="1699" y="631"/>
                  </a:lnTo>
                  <a:lnTo>
                    <a:pt x="1715" y="631"/>
                  </a:lnTo>
                  <a:lnTo>
                    <a:pt x="1715" y="615"/>
                  </a:lnTo>
                  <a:lnTo>
                    <a:pt x="1731" y="615"/>
                  </a:lnTo>
                  <a:lnTo>
                    <a:pt x="1731" y="615"/>
                  </a:lnTo>
                  <a:lnTo>
                    <a:pt x="1747" y="615"/>
                  </a:lnTo>
                  <a:lnTo>
                    <a:pt x="1747" y="615"/>
                  </a:lnTo>
                  <a:lnTo>
                    <a:pt x="1747" y="631"/>
                  </a:lnTo>
                  <a:lnTo>
                    <a:pt x="1747" y="647"/>
                  </a:lnTo>
                  <a:lnTo>
                    <a:pt x="1764" y="647"/>
                  </a:lnTo>
                  <a:lnTo>
                    <a:pt x="1764" y="647"/>
                  </a:lnTo>
                  <a:lnTo>
                    <a:pt x="1764" y="631"/>
                  </a:lnTo>
                  <a:lnTo>
                    <a:pt x="1764" y="631"/>
                  </a:lnTo>
                  <a:lnTo>
                    <a:pt x="1764" y="615"/>
                  </a:lnTo>
                  <a:lnTo>
                    <a:pt x="1780" y="615"/>
                  </a:lnTo>
                  <a:lnTo>
                    <a:pt x="1780" y="599"/>
                  </a:lnTo>
                  <a:lnTo>
                    <a:pt x="1796" y="599"/>
                  </a:lnTo>
                  <a:lnTo>
                    <a:pt x="1796" y="599"/>
                  </a:lnTo>
                  <a:lnTo>
                    <a:pt x="1796" y="615"/>
                  </a:lnTo>
                  <a:lnTo>
                    <a:pt x="1812" y="615"/>
                  </a:lnTo>
                  <a:lnTo>
                    <a:pt x="1828" y="631"/>
                  </a:lnTo>
                  <a:lnTo>
                    <a:pt x="1828" y="615"/>
                  </a:lnTo>
                  <a:lnTo>
                    <a:pt x="1845" y="615"/>
                  </a:lnTo>
                  <a:lnTo>
                    <a:pt x="1861" y="615"/>
                  </a:lnTo>
                  <a:lnTo>
                    <a:pt x="1845" y="615"/>
                  </a:lnTo>
                  <a:lnTo>
                    <a:pt x="1861" y="631"/>
                  </a:lnTo>
                  <a:lnTo>
                    <a:pt x="1877" y="631"/>
                  </a:lnTo>
                  <a:lnTo>
                    <a:pt x="1877" y="631"/>
                  </a:lnTo>
                  <a:lnTo>
                    <a:pt x="1893" y="647"/>
                  </a:lnTo>
                  <a:lnTo>
                    <a:pt x="1909" y="647"/>
                  </a:lnTo>
                  <a:lnTo>
                    <a:pt x="1909" y="631"/>
                  </a:lnTo>
                  <a:lnTo>
                    <a:pt x="1925" y="647"/>
                  </a:lnTo>
                  <a:lnTo>
                    <a:pt x="1925" y="631"/>
                  </a:lnTo>
                  <a:lnTo>
                    <a:pt x="1925" y="631"/>
                  </a:lnTo>
                  <a:lnTo>
                    <a:pt x="1925" y="631"/>
                  </a:lnTo>
                  <a:lnTo>
                    <a:pt x="1958" y="615"/>
                  </a:lnTo>
                  <a:lnTo>
                    <a:pt x="1974" y="615"/>
                  </a:lnTo>
                  <a:lnTo>
                    <a:pt x="1990" y="631"/>
                  </a:lnTo>
                  <a:lnTo>
                    <a:pt x="2006" y="615"/>
                  </a:lnTo>
                  <a:lnTo>
                    <a:pt x="2006" y="615"/>
                  </a:lnTo>
                  <a:lnTo>
                    <a:pt x="2023" y="599"/>
                  </a:lnTo>
                  <a:lnTo>
                    <a:pt x="2039" y="615"/>
                  </a:lnTo>
                  <a:lnTo>
                    <a:pt x="2039" y="615"/>
                  </a:lnTo>
                  <a:lnTo>
                    <a:pt x="2055" y="615"/>
                  </a:lnTo>
                  <a:lnTo>
                    <a:pt x="2087" y="615"/>
                  </a:lnTo>
                  <a:lnTo>
                    <a:pt x="2087" y="599"/>
                  </a:lnTo>
                  <a:lnTo>
                    <a:pt x="2087" y="615"/>
                  </a:lnTo>
                  <a:lnTo>
                    <a:pt x="2104" y="599"/>
                  </a:lnTo>
                  <a:lnTo>
                    <a:pt x="2120" y="599"/>
                  </a:lnTo>
                  <a:lnTo>
                    <a:pt x="2120" y="599"/>
                  </a:lnTo>
                  <a:lnTo>
                    <a:pt x="2120" y="615"/>
                  </a:lnTo>
                  <a:lnTo>
                    <a:pt x="2120" y="599"/>
                  </a:lnTo>
                  <a:lnTo>
                    <a:pt x="2136" y="615"/>
                  </a:lnTo>
                  <a:lnTo>
                    <a:pt x="2152" y="615"/>
                  </a:lnTo>
                  <a:lnTo>
                    <a:pt x="2168" y="647"/>
                  </a:lnTo>
                  <a:lnTo>
                    <a:pt x="2184" y="647"/>
                  </a:lnTo>
                  <a:lnTo>
                    <a:pt x="2184" y="647"/>
                  </a:lnTo>
                  <a:lnTo>
                    <a:pt x="2184" y="647"/>
                  </a:lnTo>
                  <a:lnTo>
                    <a:pt x="2184" y="647"/>
                  </a:lnTo>
                  <a:lnTo>
                    <a:pt x="2201" y="647"/>
                  </a:lnTo>
                  <a:lnTo>
                    <a:pt x="2201" y="663"/>
                  </a:lnTo>
                  <a:lnTo>
                    <a:pt x="2217" y="663"/>
                  </a:lnTo>
                  <a:lnTo>
                    <a:pt x="2217" y="663"/>
                  </a:lnTo>
                  <a:lnTo>
                    <a:pt x="2217" y="663"/>
                  </a:lnTo>
                  <a:lnTo>
                    <a:pt x="2217" y="663"/>
                  </a:lnTo>
                  <a:lnTo>
                    <a:pt x="2233" y="663"/>
                  </a:lnTo>
                  <a:lnTo>
                    <a:pt x="2217" y="663"/>
                  </a:lnTo>
                  <a:lnTo>
                    <a:pt x="2233" y="663"/>
                  </a:lnTo>
                  <a:lnTo>
                    <a:pt x="2233" y="663"/>
                  </a:lnTo>
                  <a:lnTo>
                    <a:pt x="2233" y="679"/>
                  </a:lnTo>
                  <a:lnTo>
                    <a:pt x="2249" y="679"/>
                  </a:lnTo>
                  <a:lnTo>
                    <a:pt x="2249" y="679"/>
                  </a:lnTo>
                  <a:lnTo>
                    <a:pt x="2249" y="679"/>
                  </a:lnTo>
                  <a:lnTo>
                    <a:pt x="2249" y="679"/>
                  </a:lnTo>
                  <a:lnTo>
                    <a:pt x="2282" y="679"/>
                  </a:lnTo>
                  <a:lnTo>
                    <a:pt x="2282" y="679"/>
                  </a:lnTo>
                  <a:lnTo>
                    <a:pt x="2298" y="679"/>
                  </a:lnTo>
                  <a:lnTo>
                    <a:pt x="2298" y="679"/>
                  </a:lnTo>
                  <a:lnTo>
                    <a:pt x="2298" y="679"/>
                  </a:lnTo>
                  <a:lnTo>
                    <a:pt x="2314" y="679"/>
                  </a:lnTo>
                  <a:lnTo>
                    <a:pt x="2314" y="744"/>
                  </a:lnTo>
                  <a:lnTo>
                    <a:pt x="2314" y="793"/>
                  </a:lnTo>
                  <a:lnTo>
                    <a:pt x="2314" y="825"/>
                  </a:lnTo>
                  <a:lnTo>
                    <a:pt x="2314" y="874"/>
                  </a:lnTo>
                  <a:lnTo>
                    <a:pt x="2314" y="938"/>
                  </a:lnTo>
                  <a:lnTo>
                    <a:pt x="2314" y="971"/>
                  </a:lnTo>
                  <a:lnTo>
                    <a:pt x="2314" y="1019"/>
                  </a:lnTo>
                  <a:lnTo>
                    <a:pt x="2330" y="1019"/>
                  </a:lnTo>
                  <a:lnTo>
                    <a:pt x="2346" y="1052"/>
                  </a:lnTo>
                  <a:lnTo>
                    <a:pt x="2362" y="1084"/>
                  </a:lnTo>
                  <a:lnTo>
                    <a:pt x="2362" y="1116"/>
                  </a:lnTo>
                  <a:lnTo>
                    <a:pt x="2362" y="1116"/>
                  </a:lnTo>
                  <a:lnTo>
                    <a:pt x="2379" y="1133"/>
                  </a:lnTo>
                  <a:lnTo>
                    <a:pt x="2379" y="1133"/>
                  </a:lnTo>
                  <a:lnTo>
                    <a:pt x="2395" y="1165"/>
                  </a:lnTo>
                  <a:lnTo>
                    <a:pt x="2395" y="1165"/>
                  </a:lnTo>
                  <a:lnTo>
                    <a:pt x="2395" y="1181"/>
                  </a:lnTo>
                  <a:lnTo>
                    <a:pt x="2411" y="1197"/>
                  </a:lnTo>
                  <a:lnTo>
                    <a:pt x="2411" y="1197"/>
                  </a:lnTo>
                  <a:lnTo>
                    <a:pt x="2427" y="1214"/>
                  </a:lnTo>
                  <a:lnTo>
                    <a:pt x="2411" y="1214"/>
                  </a:lnTo>
                  <a:lnTo>
                    <a:pt x="2427" y="1230"/>
                  </a:lnTo>
                  <a:lnTo>
                    <a:pt x="2411" y="1230"/>
                  </a:lnTo>
                  <a:lnTo>
                    <a:pt x="2411" y="1246"/>
                  </a:lnTo>
                  <a:lnTo>
                    <a:pt x="2427" y="1246"/>
                  </a:lnTo>
                  <a:lnTo>
                    <a:pt x="2411" y="1262"/>
                  </a:lnTo>
                  <a:lnTo>
                    <a:pt x="2411" y="1278"/>
                  </a:lnTo>
                  <a:lnTo>
                    <a:pt x="2411" y="1294"/>
                  </a:lnTo>
                  <a:lnTo>
                    <a:pt x="2411" y="1311"/>
                  </a:lnTo>
                  <a:lnTo>
                    <a:pt x="2395" y="1311"/>
                  </a:lnTo>
                  <a:lnTo>
                    <a:pt x="2395" y="1327"/>
                  </a:lnTo>
                  <a:lnTo>
                    <a:pt x="2379" y="1327"/>
                  </a:lnTo>
                  <a:lnTo>
                    <a:pt x="2379" y="1343"/>
                  </a:lnTo>
                  <a:lnTo>
                    <a:pt x="2395" y="1359"/>
                  </a:lnTo>
                  <a:lnTo>
                    <a:pt x="2379" y="1375"/>
                  </a:lnTo>
                  <a:lnTo>
                    <a:pt x="2379" y="1375"/>
                  </a:lnTo>
                  <a:lnTo>
                    <a:pt x="2395" y="1392"/>
                  </a:lnTo>
                  <a:lnTo>
                    <a:pt x="2395" y="1408"/>
                  </a:lnTo>
                  <a:lnTo>
                    <a:pt x="2395" y="1424"/>
                  </a:lnTo>
                  <a:lnTo>
                    <a:pt x="2395" y="1440"/>
                  </a:lnTo>
                  <a:lnTo>
                    <a:pt x="2379" y="1456"/>
                  </a:lnTo>
                  <a:lnTo>
                    <a:pt x="2362" y="1456"/>
                  </a:lnTo>
                  <a:lnTo>
                    <a:pt x="2362" y="1472"/>
                  </a:lnTo>
                  <a:lnTo>
                    <a:pt x="2346" y="1505"/>
                  </a:lnTo>
                  <a:lnTo>
                    <a:pt x="2362" y="1521"/>
                  </a:lnTo>
                  <a:lnTo>
                    <a:pt x="2330" y="1537"/>
                  </a:lnTo>
                  <a:lnTo>
                    <a:pt x="2265" y="1553"/>
                  </a:lnTo>
                  <a:lnTo>
                    <a:pt x="2265" y="1553"/>
                  </a:lnTo>
                  <a:lnTo>
                    <a:pt x="2217" y="1586"/>
                  </a:lnTo>
                  <a:lnTo>
                    <a:pt x="2201" y="1602"/>
                  </a:lnTo>
                  <a:lnTo>
                    <a:pt x="2184" y="1602"/>
                  </a:lnTo>
                  <a:lnTo>
                    <a:pt x="2217" y="1570"/>
                  </a:lnTo>
                  <a:lnTo>
                    <a:pt x="2233" y="1570"/>
                  </a:lnTo>
                  <a:lnTo>
                    <a:pt x="2249" y="1570"/>
                  </a:lnTo>
                  <a:lnTo>
                    <a:pt x="2249" y="1553"/>
                  </a:lnTo>
                  <a:lnTo>
                    <a:pt x="2233" y="1553"/>
                  </a:lnTo>
                  <a:lnTo>
                    <a:pt x="2233" y="1553"/>
                  </a:lnTo>
                  <a:lnTo>
                    <a:pt x="2184" y="1553"/>
                  </a:lnTo>
                  <a:lnTo>
                    <a:pt x="2201" y="1537"/>
                  </a:lnTo>
                  <a:lnTo>
                    <a:pt x="2201" y="1521"/>
                  </a:lnTo>
                  <a:lnTo>
                    <a:pt x="2201" y="1505"/>
                  </a:lnTo>
                  <a:lnTo>
                    <a:pt x="2184" y="1521"/>
                  </a:lnTo>
                  <a:lnTo>
                    <a:pt x="2168" y="1537"/>
                  </a:lnTo>
                  <a:lnTo>
                    <a:pt x="2168" y="1537"/>
                  </a:lnTo>
                  <a:lnTo>
                    <a:pt x="2136" y="1505"/>
                  </a:lnTo>
                  <a:lnTo>
                    <a:pt x="2136" y="1521"/>
                  </a:lnTo>
                  <a:lnTo>
                    <a:pt x="2152" y="1537"/>
                  </a:lnTo>
                  <a:lnTo>
                    <a:pt x="2152" y="1553"/>
                  </a:lnTo>
                  <a:lnTo>
                    <a:pt x="2168" y="1570"/>
                  </a:lnTo>
                  <a:lnTo>
                    <a:pt x="2152" y="1586"/>
                  </a:lnTo>
                  <a:lnTo>
                    <a:pt x="2152" y="1570"/>
                  </a:lnTo>
                  <a:lnTo>
                    <a:pt x="2152" y="1586"/>
                  </a:lnTo>
                  <a:lnTo>
                    <a:pt x="2168" y="1586"/>
                  </a:lnTo>
                  <a:lnTo>
                    <a:pt x="2168" y="1586"/>
                  </a:lnTo>
                  <a:lnTo>
                    <a:pt x="2168" y="1586"/>
                  </a:lnTo>
                  <a:lnTo>
                    <a:pt x="2184" y="1602"/>
                  </a:lnTo>
                  <a:lnTo>
                    <a:pt x="2168" y="1586"/>
                  </a:lnTo>
                  <a:lnTo>
                    <a:pt x="2168" y="1618"/>
                  </a:lnTo>
                  <a:lnTo>
                    <a:pt x="2152" y="1602"/>
                  </a:lnTo>
                  <a:lnTo>
                    <a:pt x="2136" y="1634"/>
                  </a:lnTo>
                  <a:lnTo>
                    <a:pt x="2120" y="1634"/>
                  </a:lnTo>
                  <a:lnTo>
                    <a:pt x="2120" y="1651"/>
                  </a:lnTo>
                  <a:lnTo>
                    <a:pt x="2120" y="1651"/>
                  </a:lnTo>
                  <a:lnTo>
                    <a:pt x="2104" y="1683"/>
                  </a:lnTo>
                  <a:lnTo>
                    <a:pt x="2055" y="1715"/>
                  </a:lnTo>
                  <a:lnTo>
                    <a:pt x="2023" y="1731"/>
                  </a:lnTo>
                  <a:lnTo>
                    <a:pt x="2023" y="1731"/>
                  </a:lnTo>
                  <a:lnTo>
                    <a:pt x="2006" y="1731"/>
                  </a:lnTo>
                  <a:lnTo>
                    <a:pt x="1974" y="1748"/>
                  </a:lnTo>
                  <a:lnTo>
                    <a:pt x="1974" y="1764"/>
                  </a:lnTo>
                  <a:lnTo>
                    <a:pt x="2023" y="1748"/>
                  </a:lnTo>
                  <a:lnTo>
                    <a:pt x="1925" y="1796"/>
                  </a:lnTo>
                  <a:lnTo>
                    <a:pt x="1958" y="1764"/>
                  </a:lnTo>
                  <a:lnTo>
                    <a:pt x="1958" y="1748"/>
                  </a:lnTo>
                  <a:lnTo>
                    <a:pt x="1909" y="1780"/>
                  </a:lnTo>
                  <a:lnTo>
                    <a:pt x="1909" y="1764"/>
                  </a:lnTo>
                  <a:lnTo>
                    <a:pt x="1925" y="1764"/>
                  </a:lnTo>
                  <a:lnTo>
                    <a:pt x="1909" y="1764"/>
                  </a:lnTo>
                  <a:lnTo>
                    <a:pt x="1925" y="1731"/>
                  </a:lnTo>
                  <a:lnTo>
                    <a:pt x="1925" y="1748"/>
                  </a:lnTo>
                  <a:lnTo>
                    <a:pt x="1909" y="1748"/>
                  </a:lnTo>
                  <a:lnTo>
                    <a:pt x="1909" y="1748"/>
                  </a:lnTo>
                  <a:lnTo>
                    <a:pt x="1893" y="1764"/>
                  </a:lnTo>
                  <a:lnTo>
                    <a:pt x="1893" y="1764"/>
                  </a:lnTo>
                  <a:lnTo>
                    <a:pt x="1877" y="1748"/>
                  </a:lnTo>
                  <a:lnTo>
                    <a:pt x="1877" y="1731"/>
                  </a:lnTo>
                  <a:lnTo>
                    <a:pt x="1877" y="1748"/>
                  </a:lnTo>
                  <a:lnTo>
                    <a:pt x="1877" y="1731"/>
                  </a:lnTo>
                  <a:lnTo>
                    <a:pt x="1877" y="1748"/>
                  </a:lnTo>
                  <a:lnTo>
                    <a:pt x="1877" y="1748"/>
                  </a:lnTo>
                  <a:lnTo>
                    <a:pt x="1877" y="1764"/>
                  </a:lnTo>
                  <a:lnTo>
                    <a:pt x="1893" y="1764"/>
                  </a:lnTo>
                  <a:lnTo>
                    <a:pt x="1861" y="1780"/>
                  </a:lnTo>
                  <a:lnTo>
                    <a:pt x="1877" y="1764"/>
                  </a:lnTo>
                  <a:lnTo>
                    <a:pt x="1877" y="1748"/>
                  </a:lnTo>
                  <a:lnTo>
                    <a:pt x="1861" y="1764"/>
                  </a:lnTo>
                  <a:lnTo>
                    <a:pt x="1861" y="1764"/>
                  </a:lnTo>
                  <a:lnTo>
                    <a:pt x="1861" y="1748"/>
                  </a:lnTo>
                  <a:lnTo>
                    <a:pt x="1845" y="1764"/>
                  </a:lnTo>
                  <a:lnTo>
                    <a:pt x="1845" y="1748"/>
                  </a:lnTo>
                  <a:lnTo>
                    <a:pt x="1845" y="1715"/>
                  </a:lnTo>
                  <a:lnTo>
                    <a:pt x="1845" y="1748"/>
                  </a:lnTo>
                  <a:lnTo>
                    <a:pt x="1845" y="1748"/>
                  </a:lnTo>
                  <a:lnTo>
                    <a:pt x="1828" y="1748"/>
                  </a:lnTo>
                  <a:lnTo>
                    <a:pt x="1828" y="1748"/>
                  </a:lnTo>
                  <a:lnTo>
                    <a:pt x="1845" y="1764"/>
                  </a:lnTo>
                  <a:lnTo>
                    <a:pt x="1845" y="1780"/>
                  </a:lnTo>
                  <a:lnTo>
                    <a:pt x="1845" y="1764"/>
                  </a:lnTo>
                  <a:lnTo>
                    <a:pt x="1861" y="1780"/>
                  </a:lnTo>
                  <a:lnTo>
                    <a:pt x="1845" y="1796"/>
                  </a:lnTo>
                  <a:lnTo>
                    <a:pt x="1861" y="1796"/>
                  </a:lnTo>
                  <a:lnTo>
                    <a:pt x="1861" y="1780"/>
                  </a:lnTo>
                  <a:lnTo>
                    <a:pt x="1877" y="1796"/>
                  </a:lnTo>
                  <a:lnTo>
                    <a:pt x="1828" y="1829"/>
                  </a:lnTo>
                  <a:lnTo>
                    <a:pt x="1828" y="1829"/>
                  </a:lnTo>
                  <a:lnTo>
                    <a:pt x="1828" y="1812"/>
                  </a:lnTo>
                  <a:lnTo>
                    <a:pt x="1812" y="1812"/>
                  </a:lnTo>
                  <a:lnTo>
                    <a:pt x="1812" y="1796"/>
                  </a:lnTo>
                  <a:lnTo>
                    <a:pt x="1796" y="1796"/>
                  </a:lnTo>
                  <a:lnTo>
                    <a:pt x="1812" y="1796"/>
                  </a:lnTo>
                  <a:lnTo>
                    <a:pt x="1812" y="1812"/>
                  </a:lnTo>
                  <a:lnTo>
                    <a:pt x="1812" y="1812"/>
                  </a:lnTo>
                  <a:lnTo>
                    <a:pt x="1796" y="1812"/>
                  </a:lnTo>
                  <a:lnTo>
                    <a:pt x="1812" y="1812"/>
                  </a:lnTo>
                  <a:lnTo>
                    <a:pt x="1812" y="1829"/>
                  </a:lnTo>
                  <a:lnTo>
                    <a:pt x="1812" y="1845"/>
                  </a:lnTo>
                  <a:lnTo>
                    <a:pt x="1812" y="1845"/>
                  </a:lnTo>
                  <a:lnTo>
                    <a:pt x="1796" y="1845"/>
                  </a:lnTo>
                  <a:lnTo>
                    <a:pt x="1780" y="1877"/>
                  </a:lnTo>
                  <a:lnTo>
                    <a:pt x="1780" y="1845"/>
                  </a:lnTo>
                  <a:lnTo>
                    <a:pt x="1764" y="1845"/>
                  </a:lnTo>
                  <a:lnTo>
                    <a:pt x="1780" y="1861"/>
                  </a:lnTo>
                  <a:lnTo>
                    <a:pt x="1764" y="1877"/>
                  </a:lnTo>
                  <a:lnTo>
                    <a:pt x="1764" y="1861"/>
                  </a:lnTo>
                  <a:lnTo>
                    <a:pt x="1764" y="1845"/>
                  </a:lnTo>
                  <a:lnTo>
                    <a:pt x="1747" y="1861"/>
                  </a:lnTo>
                  <a:lnTo>
                    <a:pt x="1731" y="1861"/>
                  </a:lnTo>
                  <a:lnTo>
                    <a:pt x="1731" y="1861"/>
                  </a:lnTo>
                  <a:lnTo>
                    <a:pt x="1731" y="1877"/>
                  </a:lnTo>
                  <a:lnTo>
                    <a:pt x="1715" y="1877"/>
                  </a:lnTo>
                  <a:lnTo>
                    <a:pt x="1715" y="1877"/>
                  </a:lnTo>
                  <a:lnTo>
                    <a:pt x="1715" y="1893"/>
                  </a:lnTo>
                  <a:lnTo>
                    <a:pt x="1715" y="1893"/>
                  </a:lnTo>
                  <a:lnTo>
                    <a:pt x="1747" y="1877"/>
                  </a:lnTo>
                  <a:lnTo>
                    <a:pt x="1764" y="1877"/>
                  </a:lnTo>
                  <a:lnTo>
                    <a:pt x="1764" y="1893"/>
                  </a:lnTo>
                  <a:lnTo>
                    <a:pt x="1747" y="1909"/>
                  </a:lnTo>
                  <a:lnTo>
                    <a:pt x="1731" y="1942"/>
                  </a:lnTo>
                  <a:lnTo>
                    <a:pt x="1715" y="1926"/>
                  </a:lnTo>
                  <a:lnTo>
                    <a:pt x="1715" y="1926"/>
                  </a:lnTo>
                  <a:lnTo>
                    <a:pt x="1715" y="1926"/>
                  </a:lnTo>
                  <a:lnTo>
                    <a:pt x="1699" y="1926"/>
                  </a:lnTo>
                  <a:lnTo>
                    <a:pt x="1699" y="1926"/>
                  </a:lnTo>
                  <a:lnTo>
                    <a:pt x="1667" y="1926"/>
                  </a:lnTo>
                  <a:lnTo>
                    <a:pt x="1667" y="1926"/>
                  </a:lnTo>
                  <a:lnTo>
                    <a:pt x="1667" y="1926"/>
                  </a:lnTo>
                  <a:lnTo>
                    <a:pt x="1667" y="1926"/>
                  </a:lnTo>
                  <a:lnTo>
                    <a:pt x="1667" y="1926"/>
                  </a:lnTo>
                  <a:lnTo>
                    <a:pt x="1683" y="1926"/>
                  </a:lnTo>
                  <a:lnTo>
                    <a:pt x="1683" y="1942"/>
                  </a:lnTo>
                  <a:lnTo>
                    <a:pt x="1699" y="1958"/>
                  </a:lnTo>
                  <a:lnTo>
                    <a:pt x="1699" y="1958"/>
                  </a:lnTo>
                  <a:lnTo>
                    <a:pt x="1699" y="1958"/>
                  </a:lnTo>
                  <a:lnTo>
                    <a:pt x="1699" y="1974"/>
                  </a:lnTo>
                  <a:lnTo>
                    <a:pt x="1683" y="1974"/>
                  </a:lnTo>
                  <a:lnTo>
                    <a:pt x="1699" y="1974"/>
                  </a:lnTo>
                  <a:lnTo>
                    <a:pt x="1699" y="1958"/>
                  </a:lnTo>
                  <a:lnTo>
                    <a:pt x="1715" y="1958"/>
                  </a:lnTo>
                  <a:lnTo>
                    <a:pt x="1699" y="1990"/>
                  </a:lnTo>
                  <a:lnTo>
                    <a:pt x="1683" y="2039"/>
                  </a:lnTo>
                  <a:lnTo>
                    <a:pt x="1667" y="2039"/>
                  </a:lnTo>
                  <a:lnTo>
                    <a:pt x="1667" y="2023"/>
                  </a:lnTo>
                  <a:lnTo>
                    <a:pt x="1667" y="2039"/>
                  </a:lnTo>
                  <a:lnTo>
                    <a:pt x="1650" y="2039"/>
                  </a:lnTo>
                  <a:lnTo>
                    <a:pt x="1618" y="2023"/>
                  </a:lnTo>
                  <a:lnTo>
                    <a:pt x="1634" y="2039"/>
                  </a:lnTo>
                  <a:lnTo>
                    <a:pt x="1618" y="2055"/>
                  </a:lnTo>
                  <a:lnTo>
                    <a:pt x="1650" y="2055"/>
                  </a:lnTo>
                  <a:lnTo>
                    <a:pt x="1683" y="2055"/>
                  </a:lnTo>
                  <a:lnTo>
                    <a:pt x="1667" y="2087"/>
                  </a:lnTo>
                  <a:lnTo>
                    <a:pt x="1667" y="2104"/>
                  </a:lnTo>
                  <a:lnTo>
                    <a:pt x="1650" y="2120"/>
                  </a:lnTo>
                  <a:lnTo>
                    <a:pt x="1650" y="2136"/>
                  </a:lnTo>
                  <a:lnTo>
                    <a:pt x="1667" y="2152"/>
                  </a:lnTo>
                  <a:lnTo>
                    <a:pt x="1667" y="2201"/>
                  </a:lnTo>
                  <a:lnTo>
                    <a:pt x="1683" y="2217"/>
                  </a:lnTo>
                  <a:lnTo>
                    <a:pt x="1667" y="2217"/>
                  </a:lnTo>
                  <a:lnTo>
                    <a:pt x="1683" y="2249"/>
                  </a:lnTo>
                  <a:lnTo>
                    <a:pt x="1683" y="2249"/>
                  </a:lnTo>
                  <a:lnTo>
                    <a:pt x="1699" y="2282"/>
                  </a:lnTo>
                  <a:lnTo>
                    <a:pt x="1715" y="2314"/>
                  </a:lnTo>
                  <a:lnTo>
                    <a:pt x="1699" y="2330"/>
                  </a:lnTo>
                  <a:lnTo>
                    <a:pt x="1715" y="2330"/>
                  </a:lnTo>
                  <a:lnTo>
                    <a:pt x="1731" y="2330"/>
                  </a:lnTo>
                  <a:lnTo>
                    <a:pt x="1699" y="2330"/>
                  </a:lnTo>
                  <a:lnTo>
                    <a:pt x="1699" y="2346"/>
                  </a:lnTo>
                  <a:lnTo>
                    <a:pt x="1683" y="2346"/>
                  </a:lnTo>
                  <a:lnTo>
                    <a:pt x="1683" y="2363"/>
                  </a:lnTo>
                  <a:lnTo>
                    <a:pt x="1667" y="2363"/>
                  </a:lnTo>
                  <a:lnTo>
                    <a:pt x="1650" y="2346"/>
                  </a:lnTo>
                  <a:lnTo>
                    <a:pt x="1650" y="2330"/>
                  </a:lnTo>
                  <a:lnTo>
                    <a:pt x="1634" y="2330"/>
                  </a:lnTo>
                  <a:lnTo>
                    <a:pt x="1634" y="2314"/>
                  </a:lnTo>
                  <a:lnTo>
                    <a:pt x="1586" y="2314"/>
                  </a:lnTo>
                  <a:lnTo>
                    <a:pt x="1553" y="2314"/>
                  </a:lnTo>
                  <a:lnTo>
                    <a:pt x="1553" y="2314"/>
                  </a:lnTo>
                  <a:lnTo>
                    <a:pt x="1553" y="2314"/>
                  </a:lnTo>
                  <a:lnTo>
                    <a:pt x="1521" y="2314"/>
                  </a:lnTo>
                  <a:lnTo>
                    <a:pt x="1505" y="2298"/>
                  </a:lnTo>
                  <a:lnTo>
                    <a:pt x="1505" y="2298"/>
                  </a:lnTo>
                  <a:lnTo>
                    <a:pt x="1505" y="2298"/>
                  </a:lnTo>
                  <a:lnTo>
                    <a:pt x="1505" y="2298"/>
                  </a:lnTo>
                  <a:lnTo>
                    <a:pt x="1489" y="2282"/>
                  </a:lnTo>
                  <a:lnTo>
                    <a:pt x="1489" y="2282"/>
                  </a:lnTo>
                  <a:lnTo>
                    <a:pt x="1472" y="2282"/>
                  </a:lnTo>
                  <a:lnTo>
                    <a:pt x="1472" y="2282"/>
                  </a:lnTo>
                  <a:lnTo>
                    <a:pt x="1440" y="2266"/>
                  </a:lnTo>
                  <a:lnTo>
                    <a:pt x="1424" y="2266"/>
                  </a:lnTo>
                  <a:lnTo>
                    <a:pt x="1408" y="2233"/>
                  </a:lnTo>
                  <a:lnTo>
                    <a:pt x="1391" y="2249"/>
                  </a:lnTo>
                  <a:lnTo>
                    <a:pt x="1375" y="2233"/>
                  </a:lnTo>
                  <a:lnTo>
                    <a:pt x="1343" y="2233"/>
                  </a:lnTo>
                  <a:lnTo>
                    <a:pt x="1343" y="2217"/>
                  </a:lnTo>
                  <a:lnTo>
                    <a:pt x="1343" y="2201"/>
                  </a:lnTo>
                  <a:lnTo>
                    <a:pt x="1343" y="2201"/>
                  </a:lnTo>
                  <a:lnTo>
                    <a:pt x="1310" y="2136"/>
                  </a:lnTo>
                  <a:lnTo>
                    <a:pt x="1294" y="2120"/>
                  </a:lnTo>
                  <a:lnTo>
                    <a:pt x="1294" y="2104"/>
                  </a:lnTo>
                  <a:lnTo>
                    <a:pt x="1278" y="2087"/>
                  </a:lnTo>
                  <a:lnTo>
                    <a:pt x="1294" y="2055"/>
                  </a:lnTo>
                  <a:lnTo>
                    <a:pt x="1278" y="2039"/>
                  </a:lnTo>
                  <a:lnTo>
                    <a:pt x="1262" y="2023"/>
                  </a:lnTo>
                  <a:lnTo>
                    <a:pt x="1278" y="1990"/>
                  </a:lnTo>
                  <a:lnTo>
                    <a:pt x="1278" y="1990"/>
                  </a:lnTo>
                  <a:lnTo>
                    <a:pt x="1262" y="1974"/>
                  </a:lnTo>
                  <a:lnTo>
                    <a:pt x="1230" y="1958"/>
                  </a:lnTo>
                  <a:lnTo>
                    <a:pt x="1213" y="1926"/>
                  </a:lnTo>
                  <a:lnTo>
                    <a:pt x="1213" y="1926"/>
                  </a:lnTo>
                  <a:lnTo>
                    <a:pt x="1197" y="1877"/>
                  </a:lnTo>
                  <a:lnTo>
                    <a:pt x="1181" y="1877"/>
                  </a:lnTo>
                  <a:lnTo>
                    <a:pt x="1165" y="1845"/>
                  </a:lnTo>
                  <a:lnTo>
                    <a:pt x="1149" y="1829"/>
                  </a:lnTo>
                  <a:lnTo>
                    <a:pt x="1149" y="1829"/>
                  </a:lnTo>
                  <a:lnTo>
                    <a:pt x="1132" y="1812"/>
                  </a:lnTo>
                  <a:lnTo>
                    <a:pt x="1132" y="1812"/>
                  </a:lnTo>
                  <a:lnTo>
                    <a:pt x="1116" y="1796"/>
                  </a:lnTo>
                  <a:lnTo>
                    <a:pt x="1116" y="1780"/>
                  </a:lnTo>
                  <a:lnTo>
                    <a:pt x="1116" y="1764"/>
                  </a:lnTo>
                  <a:lnTo>
                    <a:pt x="1116" y="1764"/>
                  </a:lnTo>
                  <a:lnTo>
                    <a:pt x="1116" y="1748"/>
                  </a:lnTo>
                  <a:lnTo>
                    <a:pt x="1100" y="1731"/>
                  </a:lnTo>
                  <a:lnTo>
                    <a:pt x="1084" y="1683"/>
                  </a:lnTo>
                  <a:lnTo>
                    <a:pt x="1068" y="1667"/>
                  </a:lnTo>
                  <a:lnTo>
                    <a:pt x="1068" y="1634"/>
                  </a:lnTo>
                  <a:lnTo>
                    <a:pt x="1052" y="1618"/>
                  </a:lnTo>
                  <a:lnTo>
                    <a:pt x="1052" y="1602"/>
                  </a:lnTo>
                  <a:lnTo>
                    <a:pt x="1003" y="1570"/>
                  </a:lnTo>
                  <a:lnTo>
                    <a:pt x="1003" y="1553"/>
                  </a:lnTo>
                  <a:lnTo>
                    <a:pt x="954" y="1537"/>
                  </a:lnTo>
                  <a:lnTo>
                    <a:pt x="954" y="1521"/>
                  </a:lnTo>
                  <a:lnTo>
                    <a:pt x="954" y="1521"/>
                  </a:lnTo>
                  <a:lnTo>
                    <a:pt x="954" y="1505"/>
                  </a:lnTo>
                  <a:lnTo>
                    <a:pt x="938" y="1505"/>
                  </a:lnTo>
                  <a:lnTo>
                    <a:pt x="938" y="1489"/>
                  </a:lnTo>
                  <a:lnTo>
                    <a:pt x="938" y="1489"/>
                  </a:lnTo>
                  <a:lnTo>
                    <a:pt x="922" y="1489"/>
                  </a:lnTo>
                  <a:lnTo>
                    <a:pt x="922" y="1472"/>
                  </a:lnTo>
                  <a:lnTo>
                    <a:pt x="906" y="1489"/>
                  </a:lnTo>
                  <a:lnTo>
                    <a:pt x="906" y="1472"/>
                  </a:lnTo>
                  <a:lnTo>
                    <a:pt x="906" y="1489"/>
                  </a:lnTo>
                  <a:lnTo>
                    <a:pt x="890" y="1489"/>
                  </a:lnTo>
                  <a:lnTo>
                    <a:pt x="874" y="1472"/>
                  </a:lnTo>
                  <a:lnTo>
                    <a:pt x="857" y="1472"/>
                  </a:lnTo>
                  <a:lnTo>
                    <a:pt x="857" y="1472"/>
                  </a:lnTo>
                  <a:lnTo>
                    <a:pt x="841" y="1472"/>
                  </a:lnTo>
                  <a:lnTo>
                    <a:pt x="825" y="1472"/>
                  </a:lnTo>
                  <a:lnTo>
                    <a:pt x="809" y="1472"/>
                  </a:lnTo>
                  <a:lnTo>
                    <a:pt x="760" y="1456"/>
                  </a:lnTo>
                  <a:lnTo>
                    <a:pt x="760" y="1456"/>
                  </a:lnTo>
                  <a:lnTo>
                    <a:pt x="744" y="1472"/>
                  </a:lnTo>
                  <a:lnTo>
                    <a:pt x="728" y="1472"/>
                  </a:lnTo>
                  <a:lnTo>
                    <a:pt x="712" y="1472"/>
                  </a:lnTo>
                  <a:lnTo>
                    <a:pt x="712" y="1472"/>
                  </a:lnTo>
                  <a:lnTo>
                    <a:pt x="696" y="1472"/>
                  </a:lnTo>
                  <a:lnTo>
                    <a:pt x="696" y="1472"/>
                  </a:lnTo>
                  <a:lnTo>
                    <a:pt x="663" y="1521"/>
                  </a:lnTo>
                  <a:lnTo>
                    <a:pt x="663" y="1537"/>
                  </a:lnTo>
                  <a:lnTo>
                    <a:pt x="647" y="1553"/>
                  </a:lnTo>
                  <a:lnTo>
                    <a:pt x="647" y="1570"/>
                  </a:lnTo>
                  <a:lnTo>
                    <a:pt x="647" y="1586"/>
                  </a:lnTo>
                  <a:lnTo>
                    <a:pt x="631" y="1586"/>
                  </a:lnTo>
                  <a:lnTo>
                    <a:pt x="598" y="1634"/>
                  </a:lnTo>
                  <a:lnTo>
                    <a:pt x="566" y="1618"/>
                  </a:lnTo>
                  <a:lnTo>
                    <a:pt x="566" y="1634"/>
                  </a:lnTo>
                  <a:lnTo>
                    <a:pt x="550" y="1618"/>
                  </a:lnTo>
                  <a:lnTo>
                    <a:pt x="550" y="1618"/>
                  </a:lnTo>
                  <a:lnTo>
                    <a:pt x="534" y="1602"/>
                  </a:lnTo>
                  <a:lnTo>
                    <a:pt x="517" y="1586"/>
                  </a:lnTo>
                  <a:lnTo>
                    <a:pt x="485" y="1586"/>
                  </a:lnTo>
                  <a:lnTo>
                    <a:pt x="485" y="1570"/>
                  </a:lnTo>
                  <a:lnTo>
                    <a:pt x="469" y="1570"/>
                  </a:lnTo>
                  <a:lnTo>
                    <a:pt x="485" y="1553"/>
                  </a:lnTo>
                  <a:lnTo>
                    <a:pt x="469" y="1553"/>
                  </a:lnTo>
                  <a:lnTo>
                    <a:pt x="420" y="1537"/>
                  </a:lnTo>
                  <a:lnTo>
                    <a:pt x="404" y="1521"/>
                  </a:lnTo>
                  <a:lnTo>
                    <a:pt x="404" y="1505"/>
                  </a:lnTo>
                  <a:lnTo>
                    <a:pt x="372" y="1489"/>
                  </a:lnTo>
                  <a:lnTo>
                    <a:pt x="339" y="1456"/>
                  </a:lnTo>
                  <a:lnTo>
                    <a:pt x="339" y="1424"/>
                  </a:lnTo>
                  <a:lnTo>
                    <a:pt x="323" y="1408"/>
                  </a:lnTo>
                  <a:lnTo>
                    <a:pt x="323" y="1375"/>
                  </a:lnTo>
                  <a:lnTo>
                    <a:pt x="323" y="1359"/>
                  </a:lnTo>
                  <a:lnTo>
                    <a:pt x="323" y="1343"/>
                  </a:lnTo>
                  <a:lnTo>
                    <a:pt x="307" y="1311"/>
                  </a:lnTo>
                  <a:lnTo>
                    <a:pt x="307" y="1311"/>
                  </a:lnTo>
                  <a:lnTo>
                    <a:pt x="291" y="1294"/>
                  </a:lnTo>
                  <a:lnTo>
                    <a:pt x="291" y="1262"/>
                  </a:lnTo>
                  <a:lnTo>
                    <a:pt x="275" y="1246"/>
                  </a:lnTo>
                  <a:lnTo>
                    <a:pt x="275" y="1230"/>
                  </a:lnTo>
                  <a:lnTo>
                    <a:pt x="259" y="1230"/>
                  </a:lnTo>
                  <a:lnTo>
                    <a:pt x="242" y="1197"/>
                  </a:lnTo>
                  <a:lnTo>
                    <a:pt x="226" y="1197"/>
                  </a:lnTo>
                  <a:lnTo>
                    <a:pt x="226" y="1197"/>
                  </a:lnTo>
                  <a:lnTo>
                    <a:pt x="226" y="1197"/>
                  </a:lnTo>
                  <a:lnTo>
                    <a:pt x="210" y="1197"/>
                  </a:lnTo>
                  <a:lnTo>
                    <a:pt x="210" y="1181"/>
                  </a:lnTo>
                  <a:lnTo>
                    <a:pt x="178" y="1149"/>
                  </a:lnTo>
                  <a:lnTo>
                    <a:pt x="178" y="1133"/>
                  </a:lnTo>
                  <a:lnTo>
                    <a:pt x="145" y="1116"/>
                  </a:lnTo>
                  <a:lnTo>
                    <a:pt x="97" y="1068"/>
                  </a:lnTo>
                  <a:lnTo>
                    <a:pt x="97" y="1068"/>
                  </a:lnTo>
                  <a:close/>
                  <a:moveTo>
                    <a:pt x="2168" y="1618"/>
                  </a:moveTo>
                  <a:lnTo>
                    <a:pt x="2201" y="1602"/>
                  </a:lnTo>
                  <a:lnTo>
                    <a:pt x="2201" y="1602"/>
                  </a:lnTo>
                  <a:lnTo>
                    <a:pt x="2136" y="1651"/>
                  </a:lnTo>
                  <a:lnTo>
                    <a:pt x="2168" y="1618"/>
                  </a:lnTo>
                  <a:lnTo>
                    <a:pt x="2168" y="1618"/>
                  </a:lnTo>
                  <a:close/>
                  <a:moveTo>
                    <a:pt x="1877" y="1829"/>
                  </a:moveTo>
                  <a:lnTo>
                    <a:pt x="1796" y="1877"/>
                  </a:lnTo>
                  <a:lnTo>
                    <a:pt x="1796" y="1861"/>
                  </a:lnTo>
                  <a:lnTo>
                    <a:pt x="1812" y="1861"/>
                  </a:lnTo>
                  <a:lnTo>
                    <a:pt x="1861" y="1829"/>
                  </a:lnTo>
                  <a:lnTo>
                    <a:pt x="1877" y="1829"/>
                  </a:lnTo>
                  <a:lnTo>
                    <a:pt x="1877" y="1812"/>
                  </a:lnTo>
                  <a:lnTo>
                    <a:pt x="1877" y="1829"/>
                  </a:lnTo>
                  <a:lnTo>
                    <a:pt x="1877" y="1829"/>
                  </a:lnTo>
                  <a:close/>
                  <a:moveTo>
                    <a:pt x="1780" y="1893"/>
                  </a:moveTo>
                  <a:lnTo>
                    <a:pt x="1796" y="1861"/>
                  </a:lnTo>
                  <a:lnTo>
                    <a:pt x="1796" y="1877"/>
                  </a:lnTo>
                  <a:lnTo>
                    <a:pt x="1796" y="1877"/>
                  </a:lnTo>
                  <a:lnTo>
                    <a:pt x="1747" y="1926"/>
                  </a:lnTo>
                  <a:lnTo>
                    <a:pt x="1764" y="1909"/>
                  </a:lnTo>
                  <a:lnTo>
                    <a:pt x="1780" y="1893"/>
                  </a:lnTo>
                  <a:lnTo>
                    <a:pt x="1764" y="1893"/>
                  </a:lnTo>
                  <a:lnTo>
                    <a:pt x="1780" y="1893"/>
                  </a:lnTo>
                  <a:lnTo>
                    <a:pt x="1780" y="1893"/>
                  </a:lnTo>
                  <a:close/>
                  <a:moveTo>
                    <a:pt x="1699" y="2055"/>
                  </a:moveTo>
                  <a:lnTo>
                    <a:pt x="1683" y="2071"/>
                  </a:lnTo>
                  <a:lnTo>
                    <a:pt x="1683" y="2055"/>
                  </a:lnTo>
                  <a:lnTo>
                    <a:pt x="1699" y="2023"/>
                  </a:lnTo>
                  <a:lnTo>
                    <a:pt x="1715" y="1990"/>
                  </a:lnTo>
                  <a:lnTo>
                    <a:pt x="1715" y="1974"/>
                  </a:lnTo>
                  <a:lnTo>
                    <a:pt x="1731" y="1974"/>
                  </a:lnTo>
                  <a:lnTo>
                    <a:pt x="1731" y="1958"/>
                  </a:lnTo>
                  <a:lnTo>
                    <a:pt x="1747" y="1942"/>
                  </a:lnTo>
                  <a:lnTo>
                    <a:pt x="1747" y="1942"/>
                  </a:lnTo>
                  <a:lnTo>
                    <a:pt x="1747" y="1926"/>
                  </a:lnTo>
                  <a:lnTo>
                    <a:pt x="1715" y="1990"/>
                  </a:lnTo>
                  <a:lnTo>
                    <a:pt x="1699" y="2055"/>
                  </a:lnTo>
                  <a:lnTo>
                    <a:pt x="1699" y="2055"/>
                  </a:lnTo>
                  <a:close/>
                  <a:moveTo>
                    <a:pt x="1699" y="2201"/>
                  </a:moveTo>
                  <a:lnTo>
                    <a:pt x="1715" y="2233"/>
                  </a:lnTo>
                  <a:lnTo>
                    <a:pt x="1715" y="2233"/>
                  </a:lnTo>
                  <a:lnTo>
                    <a:pt x="1699" y="2201"/>
                  </a:lnTo>
                  <a:lnTo>
                    <a:pt x="1699" y="2168"/>
                  </a:lnTo>
                  <a:lnTo>
                    <a:pt x="1683" y="2120"/>
                  </a:lnTo>
                  <a:lnTo>
                    <a:pt x="1683" y="2071"/>
                  </a:lnTo>
                  <a:lnTo>
                    <a:pt x="1683" y="2120"/>
                  </a:lnTo>
                  <a:lnTo>
                    <a:pt x="1699" y="2201"/>
                  </a:lnTo>
                  <a:lnTo>
                    <a:pt x="1699" y="220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360" y="2603160"/>
              <a:ext cx="736560" cy="615960"/>
            </a:xfrm>
            <a:custGeom>
              <a:avLst/>
              <a:gdLst/>
              <a:ahLst/>
              <a:rect l="l" t="t" r="r" b="b"/>
              <a:pathLst>
                <a:path w="1198" h="1003">
                  <a:moveTo>
                    <a:pt x="1149" y="777"/>
                  </a:moveTo>
                  <a:lnTo>
                    <a:pt x="1149" y="858"/>
                  </a:lnTo>
                  <a:lnTo>
                    <a:pt x="1133" y="874"/>
                  </a:lnTo>
                  <a:lnTo>
                    <a:pt x="1133" y="922"/>
                  </a:lnTo>
                  <a:lnTo>
                    <a:pt x="1133" y="1003"/>
                  </a:lnTo>
                  <a:lnTo>
                    <a:pt x="987" y="987"/>
                  </a:lnTo>
                  <a:lnTo>
                    <a:pt x="923" y="987"/>
                  </a:lnTo>
                  <a:lnTo>
                    <a:pt x="777" y="971"/>
                  </a:lnTo>
                  <a:lnTo>
                    <a:pt x="761" y="971"/>
                  </a:lnTo>
                  <a:lnTo>
                    <a:pt x="664" y="955"/>
                  </a:lnTo>
                  <a:lnTo>
                    <a:pt x="599" y="955"/>
                  </a:lnTo>
                  <a:lnTo>
                    <a:pt x="502" y="939"/>
                  </a:lnTo>
                  <a:lnTo>
                    <a:pt x="324" y="906"/>
                  </a:lnTo>
                  <a:lnTo>
                    <a:pt x="162" y="890"/>
                  </a:lnTo>
                  <a:lnTo>
                    <a:pt x="146" y="890"/>
                  </a:lnTo>
                  <a:lnTo>
                    <a:pt x="0" y="858"/>
                  </a:lnTo>
                  <a:lnTo>
                    <a:pt x="0" y="809"/>
                  </a:lnTo>
                  <a:lnTo>
                    <a:pt x="16" y="744"/>
                  </a:lnTo>
                  <a:lnTo>
                    <a:pt x="32" y="647"/>
                  </a:lnTo>
                  <a:lnTo>
                    <a:pt x="49" y="534"/>
                  </a:lnTo>
                  <a:lnTo>
                    <a:pt x="65" y="421"/>
                  </a:lnTo>
                  <a:lnTo>
                    <a:pt x="65" y="372"/>
                  </a:lnTo>
                  <a:lnTo>
                    <a:pt x="81" y="324"/>
                  </a:lnTo>
                  <a:lnTo>
                    <a:pt x="97" y="226"/>
                  </a:lnTo>
                  <a:lnTo>
                    <a:pt x="113" y="113"/>
                  </a:lnTo>
                  <a:lnTo>
                    <a:pt x="113" y="65"/>
                  </a:lnTo>
                  <a:lnTo>
                    <a:pt x="130" y="0"/>
                  </a:lnTo>
                  <a:lnTo>
                    <a:pt x="291" y="16"/>
                  </a:lnTo>
                  <a:lnTo>
                    <a:pt x="324" y="32"/>
                  </a:lnTo>
                  <a:lnTo>
                    <a:pt x="502" y="48"/>
                  </a:lnTo>
                  <a:lnTo>
                    <a:pt x="550" y="65"/>
                  </a:lnTo>
                  <a:lnTo>
                    <a:pt x="615" y="65"/>
                  </a:lnTo>
                  <a:lnTo>
                    <a:pt x="858" y="97"/>
                  </a:lnTo>
                  <a:lnTo>
                    <a:pt x="906" y="97"/>
                  </a:lnTo>
                  <a:lnTo>
                    <a:pt x="1052" y="113"/>
                  </a:lnTo>
                  <a:lnTo>
                    <a:pt x="1052" y="113"/>
                  </a:lnTo>
                  <a:lnTo>
                    <a:pt x="1198" y="129"/>
                  </a:lnTo>
                  <a:lnTo>
                    <a:pt x="1198" y="226"/>
                  </a:lnTo>
                  <a:lnTo>
                    <a:pt x="1182" y="307"/>
                  </a:lnTo>
                  <a:lnTo>
                    <a:pt x="1182" y="324"/>
                  </a:lnTo>
                  <a:lnTo>
                    <a:pt x="1182" y="372"/>
                  </a:lnTo>
                  <a:lnTo>
                    <a:pt x="1182" y="453"/>
                  </a:lnTo>
                  <a:lnTo>
                    <a:pt x="1182" y="453"/>
                  </a:lnTo>
                  <a:lnTo>
                    <a:pt x="1165" y="566"/>
                  </a:lnTo>
                  <a:lnTo>
                    <a:pt x="1165" y="647"/>
                  </a:lnTo>
                  <a:lnTo>
                    <a:pt x="1149" y="7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219320" y="1143000"/>
            <a:ext cx="1752480" cy="3009960"/>
            <a:chOff x="1219320" y="1143000"/>
            <a:chExt cx="1752480" cy="3009960"/>
          </a:xfrm>
        </p:grpSpPr>
        <p:grpSp>
          <p:nvGrpSpPr>
            <p:cNvPr id="171" name=""/>
            <p:cNvGrpSpPr/>
            <p:nvPr/>
          </p:nvGrpSpPr>
          <p:grpSpPr>
            <a:xfrm>
              <a:off x="1905120" y="1828800"/>
              <a:ext cx="976320" cy="2324160"/>
              <a:chOff x="1905120" y="1828800"/>
              <a:chExt cx="976320" cy="2324160"/>
            </a:xfrm>
          </p:grpSpPr>
          <p:sp>
            <p:nvSpPr>
              <p:cNvPr id="172" name=""/>
              <p:cNvSpPr/>
              <p:nvPr/>
            </p:nvSpPr>
            <p:spPr>
              <a:xfrm>
                <a:off x="2163960" y="1828800"/>
                <a:ext cx="717480" cy="517320"/>
              </a:xfrm>
              <a:custGeom>
                <a:avLst/>
                <a:gdLst/>
                <a:ahLst/>
                <a:rect l="l" t="t" r="r" b="b"/>
                <a:pathLst>
                  <a:path w="1165" h="841">
                    <a:moveTo>
                      <a:pt x="1165" y="210"/>
                    </a:moveTo>
                    <a:lnTo>
                      <a:pt x="1149" y="243"/>
                    </a:lnTo>
                    <a:lnTo>
                      <a:pt x="1117" y="405"/>
                    </a:lnTo>
                    <a:lnTo>
                      <a:pt x="1117" y="421"/>
                    </a:lnTo>
                    <a:lnTo>
                      <a:pt x="1085" y="550"/>
                    </a:lnTo>
                    <a:lnTo>
                      <a:pt x="1085" y="583"/>
                    </a:lnTo>
                    <a:lnTo>
                      <a:pt x="1068" y="599"/>
                    </a:lnTo>
                    <a:lnTo>
                      <a:pt x="1036" y="728"/>
                    </a:lnTo>
                    <a:lnTo>
                      <a:pt x="1036" y="744"/>
                    </a:lnTo>
                    <a:lnTo>
                      <a:pt x="1036" y="761"/>
                    </a:lnTo>
                    <a:lnTo>
                      <a:pt x="1036" y="777"/>
                    </a:lnTo>
                    <a:lnTo>
                      <a:pt x="1036" y="809"/>
                    </a:lnTo>
                    <a:lnTo>
                      <a:pt x="1036" y="825"/>
                    </a:lnTo>
                    <a:lnTo>
                      <a:pt x="1036" y="841"/>
                    </a:lnTo>
                    <a:lnTo>
                      <a:pt x="955" y="825"/>
                    </a:lnTo>
                    <a:lnTo>
                      <a:pt x="939" y="825"/>
                    </a:lnTo>
                    <a:lnTo>
                      <a:pt x="874" y="809"/>
                    </a:lnTo>
                    <a:lnTo>
                      <a:pt x="874" y="809"/>
                    </a:lnTo>
                    <a:lnTo>
                      <a:pt x="728" y="777"/>
                    </a:lnTo>
                    <a:lnTo>
                      <a:pt x="696" y="777"/>
                    </a:lnTo>
                    <a:lnTo>
                      <a:pt x="664" y="777"/>
                    </a:lnTo>
                    <a:lnTo>
                      <a:pt x="631" y="777"/>
                    </a:lnTo>
                    <a:lnTo>
                      <a:pt x="615" y="777"/>
                    </a:lnTo>
                    <a:lnTo>
                      <a:pt x="599" y="777"/>
                    </a:lnTo>
                    <a:lnTo>
                      <a:pt x="567" y="777"/>
                    </a:lnTo>
                    <a:lnTo>
                      <a:pt x="534" y="793"/>
                    </a:lnTo>
                    <a:lnTo>
                      <a:pt x="502" y="777"/>
                    </a:lnTo>
                    <a:lnTo>
                      <a:pt x="486" y="777"/>
                    </a:lnTo>
                    <a:lnTo>
                      <a:pt x="470" y="761"/>
                    </a:lnTo>
                    <a:lnTo>
                      <a:pt x="421" y="777"/>
                    </a:lnTo>
                    <a:lnTo>
                      <a:pt x="405" y="777"/>
                    </a:lnTo>
                    <a:lnTo>
                      <a:pt x="389" y="777"/>
                    </a:lnTo>
                    <a:lnTo>
                      <a:pt x="389" y="761"/>
                    </a:lnTo>
                    <a:lnTo>
                      <a:pt x="356" y="744"/>
                    </a:lnTo>
                    <a:lnTo>
                      <a:pt x="340" y="728"/>
                    </a:lnTo>
                    <a:lnTo>
                      <a:pt x="292" y="728"/>
                    </a:lnTo>
                    <a:lnTo>
                      <a:pt x="275" y="728"/>
                    </a:lnTo>
                    <a:lnTo>
                      <a:pt x="227" y="744"/>
                    </a:lnTo>
                    <a:lnTo>
                      <a:pt x="162" y="712"/>
                    </a:lnTo>
                    <a:lnTo>
                      <a:pt x="162" y="696"/>
                    </a:lnTo>
                    <a:lnTo>
                      <a:pt x="162" y="680"/>
                    </a:lnTo>
                    <a:lnTo>
                      <a:pt x="162" y="663"/>
                    </a:lnTo>
                    <a:lnTo>
                      <a:pt x="162" y="631"/>
                    </a:lnTo>
                    <a:lnTo>
                      <a:pt x="162" y="599"/>
                    </a:lnTo>
                    <a:lnTo>
                      <a:pt x="130" y="566"/>
                    </a:lnTo>
                    <a:lnTo>
                      <a:pt x="114" y="566"/>
                    </a:lnTo>
                    <a:lnTo>
                      <a:pt x="114" y="566"/>
                    </a:lnTo>
                    <a:lnTo>
                      <a:pt x="97" y="534"/>
                    </a:lnTo>
                    <a:lnTo>
                      <a:pt x="65" y="534"/>
                    </a:lnTo>
                    <a:lnTo>
                      <a:pt x="49" y="518"/>
                    </a:lnTo>
                    <a:lnTo>
                      <a:pt x="33" y="534"/>
                    </a:lnTo>
                    <a:lnTo>
                      <a:pt x="16" y="502"/>
                    </a:lnTo>
                    <a:lnTo>
                      <a:pt x="0" y="518"/>
                    </a:lnTo>
                    <a:lnTo>
                      <a:pt x="33" y="437"/>
                    </a:lnTo>
                    <a:lnTo>
                      <a:pt x="33" y="453"/>
                    </a:lnTo>
                    <a:lnTo>
                      <a:pt x="16" y="485"/>
                    </a:lnTo>
                    <a:lnTo>
                      <a:pt x="49" y="502"/>
                    </a:lnTo>
                    <a:lnTo>
                      <a:pt x="33" y="469"/>
                    </a:lnTo>
                    <a:lnTo>
                      <a:pt x="49" y="469"/>
                    </a:lnTo>
                    <a:lnTo>
                      <a:pt x="33" y="453"/>
                    </a:lnTo>
                    <a:lnTo>
                      <a:pt x="49" y="437"/>
                    </a:lnTo>
                    <a:lnTo>
                      <a:pt x="65" y="437"/>
                    </a:lnTo>
                    <a:lnTo>
                      <a:pt x="65" y="421"/>
                    </a:lnTo>
                    <a:lnTo>
                      <a:pt x="33" y="421"/>
                    </a:lnTo>
                    <a:lnTo>
                      <a:pt x="33" y="421"/>
                    </a:lnTo>
                    <a:lnTo>
                      <a:pt x="33" y="405"/>
                    </a:lnTo>
                    <a:lnTo>
                      <a:pt x="33" y="372"/>
                    </a:lnTo>
                    <a:lnTo>
                      <a:pt x="33" y="372"/>
                    </a:lnTo>
                    <a:lnTo>
                      <a:pt x="33" y="388"/>
                    </a:lnTo>
                    <a:lnTo>
                      <a:pt x="49" y="405"/>
                    </a:lnTo>
                    <a:lnTo>
                      <a:pt x="49" y="388"/>
                    </a:lnTo>
                    <a:lnTo>
                      <a:pt x="81" y="372"/>
                    </a:lnTo>
                    <a:lnTo>
                      <a:pt x="65" y="372"/>
                    </a:lnTo>
                    <a:lnTo>
                      <a:pt x="49" y="356"/>
                    </a:lnTo>
                    <a:lnTo>
                      <a:pt x="49" y="356"/>
                    </a:lnTo>
                    <a:lnTo>
                      <a:pt x="33" y="372"/>
                    </a:lnTo>
                    <a:lnTo>
                      <a:pt x="49" y="324"/>
                    </a:lnTo>
                    <a:lnTo>
                      <a:pt x="49" y="291"/>
                    </a:lnTo>
                    <a:lnTo>
                      <a:pt x="33" y="275"/>
                    </a:lnTo>
                    <a:lnTo>
                      <a:pt x="49" y="243"/>
                    </a:lnTo>
                    <a:lnTo>
                      <a:pt x="49" y="210"/>
                    </a:lnTo>
                    <a:lnTo>
                      <a:pt x="49" y="178"/>
                    </a:lnTo>
                    <a:lnTo>
                      <a:pt x="33" y="162"/>
                    </a:lnTo>
                    <a:lnTo>
                      <a:pt x="33" y="97"/>
                    </a:lnTo>
                    <a:lnTo>
                      <a:pt x="33" y="81"/>
                    </a:lnTo>
                    <a:lnTo>
                      <a:pt x="49" y="48"/>
                    </a:lnTo>
                    <a:lnTo>
                      <a:pt x="65" y="65"/>
                    </a:lnTo>
                    <a:lnTo>
                      <a:pt x="130" y="129"/>
                    </a:lnTo>
                    <a:lnTo>
                      <a:pt x="211" y="162"/>
                    </a:lnTo>
                    <a:lnTo>
                      <a:pt x="259" y="162"/>
                    </a:lnTo>
                    <a:lnTo>
                      <a:pt x="275" y="178"/>
                    </a:lnTo>
                    <a:lnTo>
                      <a:pt x="275" y="194"/>
                    </a:lnTo>
                    <a:lnTo>
                      <a:pt x="292" y="178"/>
                    </a:lnTo>
                    <a:lnTo>
                      <a:pt x="308" y="178"/>
                    </a:lnTo>
                    <a:lnTo>
                      <a:pt x="292" y="194"/>
                    </a:lnTo>
                    <a:lnTo>
                      <a:pt x="308" y="226"/>
                    </a:lnTo>
                    <a:lnTo>
                      <a:pt x="308" y="243"/>
                    </a:lnTo>
                    <a:lnTo>
                      <a:pt x="292" y="243"/>
                    </a:lnTo>
                    <a:lnTo>
                      <a:pt x="275" y="243"/>
                    </a:lnTo>
                    <a:lnTo>
                      <a:pt x="275" y="243"/>
                    </a:lnTo>
                    <a:lnTo>
                      <a:pt x="275" y="243"/>
                    </a:lnTo>
                    <a:lnTo>
                      <a:pt x="259" y="275"/>
                    </a:lnTo>
                    <a:lnTo>
                      <a:pt x="243" y="275"/>
                    </a:lnTo>
                    <a:lnTo>
                      <a:pt x="211" y="307"/>
                    </a:lnTo>
                    <a:lnTo>
                      <a:pt x="194" y="324"/>
                    </a:lnTo>
                    <a:lnTo>
                      <a:pt x="227" y="340"/>
                    </a:lnTo>
                    <a:lnTo>
                      <a:pt x="259" y="324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27" y="291"/>
                    </a:lnTo>
                    <a:lnTo>
                      <a:pt x="259" y="275"/>
                    </a:lnTo>
                    <a:lnTo>
                      <a:pt x="275" y="275"/>
                    </a:lnTo>
                    <a:lnTo>
                      <a:pt x="292" y="259"/>
                    </a:lnTo>
                    <a:lnTo>
                      <a:pt x="308" y="243"/>
                    </a:lnTo>
                    <a:lnTo>
                      <a:pt x="308" y="226"/>
                    </a:lnTo>
                    <a:lnTo>
                      <a:pt x="324" y="243"/>
                    </a:lnTo>
                    <a:lnTo>
                      <a:pt x="324" y="275"/>
                    </a:lnTo>
                    <a:lnTo>
                      <a:pt x="292" y="275"/>
                    </a:lnTo>
                    <a:lnTo>
                      <a:pt x="292" y="307"/>
                    </a:lnTo>
                    <a:lnTo>
                      <a:pt x="308" y="307"/>
                    </a:lnTo>
                    <a:lnTo>
                      <a:pt x="292" y="324"/>
                    </a:lnTo>
                    <a:lnTo>
                      <a:pt x="308" y="324"/>
                    </a:lnTo>
                    <a:lnTo>
                      <a:pt x="292" y="340"/>
                    </a:lnTo>
                    <a:lnTo>
                      <a:pt x="292" y="340"/>
                    </a:lnTo>
                    <a:lnTo>
                      <a:pt x="275" y="356"/>
                    </a:lnTo>
                    <a:lnTo>
                      <a:pt x="275" y="372"/>
                    </a:lnTo>
                    <a:lnTo>
                      <a:pt x="275" y="372"/>
                    </a:lnTo>
                    <a:lnTo>
                      <a:pt x="275" y="356"/>
                    </a:lnTo>
                    <a:lnTo>
                      <a:pt x="275" y="372"/>
                    </a:lnTo>
                    <a:lnTo>
                      <a:pt x="259" y="356"/>
                    </a:lnTo>
                    <a:lnTo>
                      <a:pt x="275" y="340"/>
                    </a:lnTo>
                    <a:lnTo>
                      <a:pt x="275" y="340"/>
                    </a:lnTo>
                    <a:lnTo>
                      <a:pt x="259" y="340"/>
                    </a:lnTo>
                    <a:lnTo>
                      <a:pt x="259" y="356"/>
                    </a:lnTo>
                    <a:lnTo>
                      <a:pt x="259" y="372"/>
                    </a:lnTo>
                    <a:lnTo>
                      <a:pt x="243" y="388"/>
                    </a:lnTo>
                    <a:lnTo>
                      <a:pt x="243" y="372"/>
                    </a:lnTo>
                    <a:lnTo>
                      <a:pt x="259" y="340"/>
                    </a:lnTo>
                    <a:lnTo>
                      <a:pt x="259" y="340"/>
                    </a:lnTo>
                    <a:lnTo>
                      <a:pt x="243" y="356"/>
                    </a:lnTo>
                    <a:lnTo>
                      <a:pt x="194" y="356"/>
                    </a:lnTo>
                    <a:lnTo>
                      <a:pt x="194" y="388"/>
                    </a:lnTo>
                    <a:lnTo>
                      <a:pt x="211" y="388"/>
                    </a:lnTo>
                    <a:lnTo>
                      <a:pt x="211" y="405"/>
                    </a:lnTo>
                    <a:lnTo>
                      <a:pt x="243" y="388"/>
                    </a:lnTo>
                    <a:lnTo>
                      <a:pt x="243" y="405"/>
                    </a:lnTo>
                    <a:lnTo>
                      <a:pt x="243" y="405"/>
                    </a:lnTo>
                    <a:lnTo>
                      <a:pt x="275" y="388"/>
                    </a:lnTo>
                    <a:lnTo>
                      <a:pt x="292" y="372"/>
                    </a:lnTo>
                    <a:lnTo>
                      <a:pt x="292" y="356"/>
                    </a:lnTo>
                    <a:lnTo>
                      <a:pt x="308" y="372"/>
                    </a:lnTo>
                    <a:lnTo>
                      <a:pt x="308" y="372"/>
                    </a:lnTo>
                    <a:lnTo>
                      <a:pt x="308" y="372"/>
                    </a:lnTo>
                    <a:lnTo>
                      <a:pt x="308" y="372"/>
                    </a:lnTo>
                    <a:lnTo>
                      <a:pt x="324" y="356"/>
                    </a:lnTo>
                    <a:lnTo>
                      <a:pt x="324" y="356"/>
                    </a:lnTo>
                    <a:lnTo>
                      <a:pt x="324" y="324"/>
                    </a:lnTo>
                    <a:lnTo>
                      <a:pt x="324" y="307"/>
                    </a:lnTo>
                    <a:lnTo>
                      <a:pt x="324" y="291"/>
                    </a:lnTo>
                    <a:lnTo>
                      <a:pt x="340" y="275"/>
                    </a:lnTo>
                    <a:lnTo>
                      <a:pt x="356" y="243"/>
                    </a:lnTo>
                    <a:lnTo>
                      <a:pt x="372" y="243"/>
                    </a:lnTo>
                    <a:lnTo>
                      <a:pt x="372" y="226"/>
                    </a:lnTo>
                    <a:lnTo>
                      <a:pt x="356" y="194"/>
                    </a:lnTo>
                    <a:lnTo>
                      <a:pt x="356" y="178"/>
                    </a:lnTo>
                    <a:lnTo>
                      <a:pt x="356" y="178"/>
                    </a:lnTo>
                    <a:lnTo>
                      <a:pt x="340" y="194"/>
                    </a:lnTo>
                    <a:lnTo>
                      <a:pt x="356" y="210"/>
                    </a:lnTo>
                    <a:lnTo>
                      <a:pt x="340" y="194"/>
                    </a:lnTo>
                    <a:lnTo>
                      <a:pt x="340" y="178"/>
                    </a:lnTo>
                    <a:lnTo>
                      <a:pt x="340" y="162"/>
                    </a:lnTo>
                    <a:lnTo>
                      <a:pt x="356" y="178"/>
                    </a:lnTo>
                    <a:lnTo>
                      <a:pt x="372" y="162"/>
                    </a:lnTo>
                    <a:lnTo>
                      <a:pt x="356" y="129"/>
                    </a:lnTo>
                    <a:lnTo>
                      <a:pt x="340" y="129"/>
                    </a:lnTo>
                    <a:lnTo>
                      <a:pt x="340" y="113"/>
                    </a:lnTo>
                    <a:lnTo>
                      <a:pt x="356" y="113"/>
                    </a:lnTo>
                    <a:lnTo>
                      <a:pt x="356" y="129"/>
                    </a:lnTo>
                    <a:lnTo>
                      <a:pt x="372" y="129"/>
                    </a:lnTo>
                    <a:lnTo>
                      <a:pt x="372" y="97"/>
                    </a:lnTo>
                    <a:lnTo>
                      <a:pt x="372" y="97"/>
                    </a:lnTo>
                    <a:lnTo>
                      <a:pt x="372" y="81"/>
                    </a:lnTo>
                    <a:lnTo>
                      <a:pt x="372" y="65"/>
                    </a:lnTo>
                    <a:lnTo>
                      <a:pt x="372" y="65"/>
                    </a:lnTo>
                    <a:lnTo>
                      <a:pt x="356" y="48"/>
                    </a:lnTo>
                    <a:lnTo>
                      <a:pt x="356" y="16"/>
                    </a:lnTo>
                    <a:lnTo>
                      <a:pt x="340" y="16"/>
                    </a:lnTo>
                    <a:lnTo>
                      <a:pt x="356" y="16"/>
                    </a:lnTo>
                    <a:lnTo>
                      <a:pt x="356" y="0"/>
                    </a:lnTo>
                    <a:lnTo>
                      <a:pt x="615" y="81"/>
                    </a:lnTo>
                    <a:lnTo>
                      <a:pt x="907" y="146"/>
                    </a:lnTo>
                    <a:lnTo>
                      <a:pt x="1004" y="178"/>
                    </a:lnTo>
                    <a:lnTo>
                      <a:pt x="1101" y="194"/>
                    </a:lnTo>
                    <a:lnTo>
                      <a:pt x="1165" y="210"/>
                    </a:lnTo>
                    <a:lnTo>
                      <a:pt x="1165" y="210"/>
                    </a:lnTo>
                    <a:close/>
                    <a:moveTo>
                      <a:pt x="292" y="113"/>
                    </a:moveTo>
                    <a:lnTo>
                      <a:pt x="275" y="81"/>
                    </a:lnTo>
                    <a:lnTo>
                      <a:pt x="275" y="65"/>
                    </a:lnTo>
                    <a:lnTo>
                      <a:pt x="292" y="97"/>
                    </a:lnTo>
                    <a:lnTo>
                      <a:pt x="292" y="97"/>
                    </a:lnTo>
                    <a:lnTo>
                      <a:pt x="292" y="113"/>
                    </a:lnTo>
                    <a:lnTo>
                      <a:pt x="292" y="113"/>
                    </a:lnTo>
                    <a:close/>
                    <a:moveTo>
                      <a:pt x="324" y="146"/>
                    </a:moveTo>
                    <a:lnTo>
                      <a:pt x="340" y="129"/>
                    </a:lnTo>
                    <a:lnTo>
                      <a:pt x="340" y="129"/>
                    </a:lnTo>
                    <a:lnTo>
                      <a:pt x="356" y="146"/>
                    </a:lnTo>
                    <a:lnTo>
                      <a:pt x="340" y="162"/>
                    </a:lnTo>
                    <a:lnTo>
                      <a:pt x="340" y="146"/>
                    </a:lnTo>
                    <a:lnTo>
                      <a:pt x="308" y="162"/>
                    </a:lnTo>
                    <a:lnTo>
                      <a:pt x="324" y="178"/>
                    </a:lnTo>
                    <a:lnTo>
                      <a:pt x="324" y="194"/>
                    </a:lnTo>
                    <a:lnTo>
                      <a:pt x="340" y="194"/>
                    </a:lnTo>
                    <a:lnTo>
                      <a:pt x="356" y="210"/>
                    </a:lnTo>
                    <a:lnTo>
                      <a:pt x="356" y="226"/>
                    </a:lnTo>
                    <a:lnTo>
                      <a:pt x="340" y="243"/>
                    </a:lnTo>
                    <a:lnTo>
                      <a:pt x="340" y="243"/>
                    </a:lnTo>
                    <a:lnTo>
                      <a:pt x="340" y="226"/>
                    </a:lnTo>
                    <a:lnTo>
                      <a:pt x="324" y="226"/>
                    </a:lnTo>
                    <a:lnTo>
                      <a:pt x="324" y="210"/>
                    </a:lnTo>
                    <a:lnTo>
                      <a:pt x="324" y="178"/>
                    </a:lnTo>
                    <a:lnTo>
                      <a:pt x="308" y="162"/>
                    </a:lnTo>
                    <a:lnTo>
                      <a:pt x="324" y="146"/>
                    </a:lnTo>
                    <a:lnTo>
                      <a:pt x="324" y="146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05120" y="2685960"/>
                <a:ext cx="857160" cy="1467000"/>
              </a:xfrm>
              <a:custGeom>
                <a:avLst/>
                <a:gdLst/>
                <a:ahLst/>
                <a:rect l="l" t="t" r="r" b="b"/>
                <a:pathLst>
                  <a:path w="1392" h="2379">
                    <a:moveTo>
                      <a:pt x="292" y="938"/>
                    </a:moveTo>
                    <a:lnTo>
                      <a:pt x="276" y="955"/>
                    </a:lnTo>
                    <a:lnTo>
                      <a:pt x="259" y="938"/>
                    </a:lnTo>
                    <a:lnTo>
                      <a:pt x="243" y="922"/>
                    </a:lnTo>
                    <a:lnTo>
                      <a:pt x="195" y="922"/>
                    </a:lnTo>
                    <a:lnTo>
                      <a:pt x="195" y="906"/>
                    </a:lnTo>
                    <a:lnTo>
                      <a:pt x="195" y="890"/>
                    </a:lnTo>
                    <a:lnTo>
                      <a:pt x="195" y="890"/>
                    </a:lnTo>
                    <a:lnTo>
                      <a:pt x="195" y="906"/>
                    </a:lnTo>
                    <a:lnTo>
                      <a:pt x="195" y="922"/>
                    </a:lnTo>
                    <a:lnTo>
                      <a:pt x="178" y="906"/>
                    </a:lnTo>
                    <a:lnTo>
                      <a:pt x="178" y="906"/>
                    </a:lnTo>
                    <a:lnTo>
                      <a:pt x="162" y="906"/>
                    </a:lnTo>
                    <a:lnTo>
                      <a:pt x="162" y="890"/>
                    </a:lnTo>
                    <a:lnTo>
                      <a:pt x="162" y="906"/>
                    </a:lnTo>
                    <a:lnTo>
                      <a:pt x="146" y="922"/>
                    </a:lnTo>
                    <a:lnTo>
                      <a:pt x="162" y="938"/>
                    </a:lnTo>
                    <a:lnTo>
                      <a:pt x="146" y="938"/>
                    </a:lnTo>
                    <a:lnTo>
                      <a:pt x="146" y="971"/>
                    </a:lnTo>
                    <a:lnTo>
                      <a:pt x="146" y="971"/>
                    </a:lnTo>
                    <a:lnTo>
                      <a:pt x="114" y="938"/>
                    </a:lnTo>
                    <a:lnTo>
                      <a:pt x="114" y="938"/>
                    </a:lnTo>
                    <a:lnTo>
                      <a:pt x="98" y="906"/>
                    </a:lnTo>
                    <a:lnTo>
                      <a:pt x="81" y="906"/>
                    </a:lnTo>
                    <a:lnTo>
                      <a:pt x="81" y="906"/>
                    </a:lnTo>
                    <a:lnTo>
                      <a:pt x="65" y="906"/>
                    </a:lnTo>
                    <a:lnTo>
                      <a:pt x="98" y="874"/>
                    </a:lnTo>
                    <a:lnTo>
                      <a:pt x="98" y="841"/>
                    </a:lnTo>
                    <a:lnTo>
                      <a:pt x="81" y="841"/>
                    </a:lnTo>
                    <a:lnTo>
                      <a:pt x="81" y="809"/>
                    </a:lnTo>
                    <a:lnTo>
                      <a:pt x="49" y="777"/>
                    </a:lnTo>
                    <a:lnTo>
                      <a:pt x="33" y="728"/>
                    </a:lnTo>
                    <a:lnTo>
                      <a:pt x="17" y="679"/>
                    </a:lnTo>
                    <a:lnTo>
                      <a:pt x="17" y="647"/>
                    </a:lnTo>
                    <a:lnTo>
                      <a:pt x="17" y="582"/>
                    </a:lnTo>
                    <a:lnTo>
                      <a:pt x="49" y="550"/>
                    </a:lnTo>
                    <a:lnTo>
                      <a:pt x="49" y="518"/>
                    </a:lnTo>
                    <a:lnTo>
                      <a:pt x="49" y="485"/>
                    </a:lnTo>
                    <a:lnTo>
                      <a:pt x="33" y="437"/>
                    </a:lnTo>
                    <a:lnTo>
                      <a:pt x="33" y="404"/>
                    </a:lnTo>
                    <a:lnTo>
                      <a:pt x="0" y="372"/>
                    </a:lnTo>
                    <a:lnTo>
                      <a:pt x="0" y="356"/>
                    </a:lnTo>
                    <a:lnTo>
                      <a:pt x="0" y="323"/>
                    </a:lnTo>
                    <a:lnTo>
                      <a:pt x="81" y="226"/>
                    </a:lnTo>
                    <a:lnTo>
                      <a:pt x="81" y="194"/>
                    </a:lnTo>
                    <a:lnTo>
                      <a:pt x="114" y="162"/>
                    </a:lnTo>
                    <a:lnTo>
                      <a:pt x="114" y="129"/>
                    </a:lnTo>
                    <a:lnTo>
                      <a:pt x="130" y="64"/>
                    </a:lnTo>
                    <a:lnTo>
                      <a:pt x="114" y="48"/>
                    </a:lnTo>
                    <a:lnTo>
                      <a:pt x="114" y="32"/>
                    </a:lnTo>
                    <a:lnTo>
                      <a:pt x="130" y="0"/>
                    </a:lnTo>
                    <a:lnTo>
                      <a:pt x="195" y="32"/>
                    </a:lnTo>
                    <a:lnTo>
                      <a:pt x="243" y="32"/>
                    </a:lnTo>
                    <a:lnTo>
                      <a:pt x="276" y="48"/>
                    </a:lnTo>
                    <a:lnTo>
                      <a:pt x="421" y="97"/>
                    </a:lnTo>
                    <a:lnTo>
                      <a:pt x="551" y="129"/>
                    </a:lnTo>
                    <a:lnTo>
                      <a:pt x="648" y="162"/>
                    </a:lnTo>
                    <a:lnTo>
                      <a:pt x="777" y="194"/>
                    </a:lnTo>
                    <a:lnTo>
                      <a:pt x="745" y="372"/>
                    </a:lnTo>
                    <a:lnTo>
                      <a:pt x="664" y="679"/>
                    </a:lnTo>
                    <a:lnTo>
                      <a:pt x="648" y="728"/>
                    </a:lnTo>
                    <a:lnTo>
                      <a:pt x="632" y="760"/>
                    </a:lnTo>
                    <a:lnTo>
                      <a:pt x="632" y="793"/>
                    </a:lnTo>
                    <a:lnTo>
                      <a:pt x="632" y="809"/>
                    </a:lnTo>
                    <a:lnTo>
                      <a:pt x="615" y="809"/>
                    </a:lnTo>
                    <a:lnTo>
                      <a:pt x="615" y="825"/>
                    </a:lnTo>
                    <a:lnTo>
                      <a:pt x="632" y="858"/>
                    </a:lnTo>
                    <a:lnTo>
                      <a:pt x="664" y="906"/>
                    </a:lnTo>
                    <a:lnTo>
                      <a:pt x="713" y="955"/>
                    </a:lnTo>
                    <a:lnTo>
                      <a:pt x="729" y="987"/>
                    </a:lnTo>
                    <a:lnTo>
                      <a:pt x="826" y="1133"/>
                    </a:lnTo>
                    <a:lnTo>
                      <a:pt x="891" y="1246"/>
                    </a:lnTo>
                    <a:lnTo>
                      <a:pt x="988" y="1375"/>
                    </a:lnTo>
                    <a:lnTo>
                      <a:pt x="1149" y="1634"/>
                    </a:lnTo>
                    <a:lnTo>
                      <a:pt x="1198" y="1683"/>
                    </a:lnTo>
                    <a:lnTo>
                      <a:pt x="1328" y="1893"/>
                    </a:lnTo>
                    <a:lnTo>
                      <a:pt x="1328" y="1926"/>
                    </a:lnTo>
                    <a:lnTo>
                      <a:pt x="1344" y="1958"/>
                    </a:lnTo>
                    <a:lnTo>
                      <a:pt x="1344" y="1990"/>
                    </a:lnTo>
                    <a:lnTo>
                      <a:pt x="1360" y="2007"/>
                    </a:lnTo>
                    <a:lnTo>
                      <a:pt x="1344" y="2023"/>
                    </a:lnTo>
                    <a:lnTo>
                      <a:pt x="1376" y="2055"/>
                    </a:lnTo>
                    <a:lnTo>
                      <a:pt x="1392" y="2071"/>
                    </a:lnTo>
                    <a:lnTo>
                      <a:pt x="1328" y="2104"/>
                    </a:lnTo>
                    <a:lnTo>
                      <a:pt x="1328" y="2104"/>
                    </a:lnTo>
                    <a:lnTo>
                      <a:pt x="1295" y="2120"/>
                    </a:lnTo>
                    <a:lnTo>
                      <a:pt x="1311" y="2120"/>
                    </a:lnTo>
                    <a:lnTo>
                      <a:pt x="1295" y="2152"/>
                    </a:lnTo>
                    <a:lnTo>
                      <a:pt x="1295" y="2168"/>
                    </a:lnTo>
                    <a:lnTo>
                      <a:pt x="1295" y="2185"/>
                    </a:lnTo>
                    <a:lnTo>
                      <a:pt x="1279" y="2201"/>
                    </a:lnTo>
                    <a:lnTo>
                      <a:pt x="1263" y="2233"/>
                    </a:lnTo>
                    <a:lnTo>
                      <a:pt x="1247" y="2233"/>
                    </a:lnTo>
                    <a:lnTo>
                      <a:pt x="1247" y="2249"/>
                    </a:lnTo>
                    <a:lnTo>
                      <a:pt x="1230" y="2249"/>
                    </a:lnTo>
                    <a:lnTo>
                      <a:pt x="1247" y="2266"/>
                    </a:lnTo>
                    <a:lnTo>
                      <a:pt x="1230" y="2298"/>
                    </a:lnTo>
                    <a:lnTo>
                      <a:pt x="1247" y="2314"/>
                    </a:lnTo>
                    <a:lnTo>
                      <a:pt x="1263" y="2314"/>
                    </a:lnTo>
                    <a:lnTo>
                      <a:pt x="1279" y="2330"/>
                    </a:lnTo>
                    <a:lnTo>
                      <a:pt x="1263" y="2363"/>
                    </a:lnTo>
                    <a:lnTo>
                      <a:pt x="1247" y="2379"/>
                    </a:lnTo>
                    <a:lnTo>
                      <a:pt x="1214" y="2379"/>
                    </a:lnTo>
                    <a:lnTo>
                      <a:pt x="955" y="2346"/>
                    </a:lnTo>
                    <a:lnTo>
                      <a:pt x="777" y="2330"/>
                    </a:lnTo>
                    <a:lnTo>
                      <a:pt x="777" y="2282"/>
                    </a:lnTo>
                    <a:lnTo>
                      <a:pt x="777" y="2314"/>
                    </a:lnTo>
                    <a:lnTo>
                      <a:pt x="777" y="2298"/>
                    </a:lnTo>
                    <a:lnTo>
                      <a:pt x="777" y="2282"/>
                    </a:lnTo>
                    <a:lnTo>
                      <a:pt x="761" y="2298"/>
                    </a:lnTo>
                    <a:lnTo>
                      <a:pt x="761" y="2249"/>
                    </a:lnTo>
                    <a:lnTo>
                      <a:pt x="777" y="2249"/>
                    </a:lnTo>
                    <a:lnTo>
                      <a:pt x="761" y="2201"/>
                    </a:lnTo>
                    <a:lnTo>
                      <a:pt x="761" y="2168"/>
                    </a:lnTo>
                    <a:lnTo>
                      <a:pt x="729" y="2120"/>
                    </a:lnTo>
                    <a:lnTo>
                      <a:pt x="664" y="2023"/>
                    </a:lnTo>
                    <a:lnTo>
                      <a:pt x="632" y="2023"/>
                    </a:lnTo>
                    <a:lnTo>
                      <a:pt x="632" y="2023"/>
                    </a:lnTo>
                    <a:lnTo>
                      <a:pt x="615" y="2023"/>
                    </a:lnTo>
                    <a:lnTo>
                      <a:pt x="599" y="2007"/>
                    </a:lnTo>
                    <a:lnTo>
                      <a:pt x="615" y="2007"/>
                    </a:lnTo>
                    <a:lnTo>
                      <a:pt x="615" y="1990"/>
                    </a:lnTo>
                    <a:lnTo>
                      <a:pt x="599" y="1942"/>
                    </a:lnTo>
                    <a:lnTo>
                      <a:pt x="551" y="1942"/>
                    </a:lnTo>
                    <a:lnTo>
                      <a:pt x="535" y="1926"/>
                    </a:lnTo>
                    <a:lnTo>
                      <a:pt x="486" y="1893"/>
                    </a:lnTo>
                    <a:lnTo>
                      <a:pt x="486" y="1877"/>
                    </a:lnTo>
                    <a:lnTo>
                      <a:pt x="454" y="1829"/>
                    </a:lnTo>
                    <a:lnTo>
                      <a:pt x="437" y="1829"/>
                    </a:lnTo>
                    <a:lnTo>
                      <a:pt x="389" y="1812"/>
                    </a:lnTo>
                    <a:lnTo>
                      <a:pt x="373" y="1796"/>
                    </a:lnTo>
                    <a:lnTo>
                      <a:pt x="340" y="1780"/>
                    </a:lnTo>
                    <a:lnTo>
                      <a:pt x="292" y="1780"/>
                    </a:lnTo>
                    <a:lnTo>
                      <a:pt x="292" y="1764"/>
                    </a:lnTo>
                    <a:lnTo>
                      <a:pt x="259" y="1748"/>
                    </a:lnTo>
                    <a:lnTo>
                      <a:pt x="276" y="1715"/>
                    </a:lnTo>
                    <a:lnTo>
                      <a:pt x="276" y="1699"/>
                    </a:lnTo>
                    <a:lnTo>
                      <a:pt x="292" y="1683"/>
                    </a:lnTo>
                    <a:lnTo>
                      <a:pt x="276" y="1667"/>
                    </a:lnTo>
                    <a:lnTo>
                      <a:pt x="292" y="1651"/>
                    </a:lnTo>
                    <a:lnTo>
                      <a:pt x="292" y="1634"/>
                    </a:lnTo>
                    <a:lnTo>
                      <a:pt x="292" y="1618"/>
                    </a:lnTo>
                    <a:lnTo>
                      <a:pt x="259" y="1602"/>
                    </a:lnTo>
                    <a:lnTo>
                      <a:pt x="259" y="1586"/>
                    </a:lnTo>
                    <a:lnTo>
                      <a:pt x="276" y="1570"/>
                    </a:lnTo>
                    <a:lnTo>
                      <a:pt x="276" y="1553"/>
                    </a:lnTo>
                    <a:lnTo>
                      <a:pt x="259" y="1537"/>
                    </a:lnTo>
                    <a:lnTo>
                      <a:pt x="243" y="1489"/>
                    </a:lnTo>
                    <a:lnTo>
                      <a:pt x="227" y="1489"/>
                    </a:lnTo>
                    <a:lnTo>
                      <a:pt x="211" y="1456"/>
                    </a:lnTo>
                    <a:lnTo>
                      <a:pt x="195" y="1424"/>
                    </a:lnTo>
                    <a:lnTo>
                      <a:pt x="178" y="1359"/>
                    </a:lnTo>
                    <a:lnTo>
                      <a:pt x="146" y="1311"/>
                    </a:lnTo>
                    <a:lnTo>
                      <a:pt x="162" y="1262"/>
                    </a:lnTo>
                    <a:lnTo>
                      <a:pt x="162" y="1246"/>
                    </a:lnTo>
                    <a:lnTo>
                      <a:pt x="178" y="1246"/>
                    </a:lnTo>
                    <a:lnTo>
                      <a:pt x="178" y="1246"/>
                    </a:lnTo>
                    <a:lnTo>
                      <a:pt x="211" y="1214"/>
                    </a:lnTo>
                    <a:lnTo>
                      <a:pt x="195" y="1214"/>
                    </a:lnTo>
                    <a:lnTo>
                      <a:pt x="195" y="1181"/>
                    </a:lnTo>
                    <a:lnTo>
                      <a:pt x="162" y="1165"/>
                    </a:lnTo>
                    <a:lnTo>
                      <a:pt x="146" y="1149"/>
                    </a:lnTo>
                    <a:lnTo>
                      <a:pt x="130" y="1133"/>
                    </a:lnTo>
                    <a:lnTo>
                      <a:pt x="114" y="1100"/>
                    </a:lnTo>
                    <a:lnTo>
                      <a:pt x="130" y="1068"/>
                    </a:lnTo>
                    <a:lnTo>
                      <a:pt x="130" y="1036"/>
                    </a:lnTo>
                    <a:lnTo>
                      <a:pt x="130" y="1036"/>
                    </a:lnTo>
                    <a:lnTo>
                      <a:pt x="130" y="987"/>
                    </a:lnTo>
                    <a:lnTo>
                      <a:pt x="146" y="971"/>
                    </a:lnTo>
                    <a:lnTo>
                      <a:pt x="162" y="971"/>
                    </a:lnTo>
                    <a:lnTo>
                      <a:pt x="162" y="987"/>
                    </a:lnTo>
                    <a:lnTo>
                      <a:pt x="162" y="1003"/>
                    </a:lnTo>
                    <a:lnTo>
                      <a:pt x="146" y="1019"/>
                    </a:lnTo>
                    <a:lnTo>
                      <a:pt x="195" y="1068"/>
                    </a:lnTo>
                    <a:lnTo>
                      <a:pt x="211" y="1068"/>
                    </a:lnTo>
                    <a:lnTo>
                      <a:pt x="195" y="1052"/>
                    </a:lnTo>
                    <a:lnTo>
                      <a:pt x="178" y="1003"/>
                    </a:lnTo>
                    <a:lnTo>
                      <a:pt x="162" y="987"/>
                    </a:lnTo>
                    <a:lnTo>
                      <a:pt x="178" y="955"/>
                    </a:lnTo>
                    <a:lnTo>
                      <a:pt x="162" y="955"/>
                    </a:lnTo>
                    <a:lnTo>
                      <a:pt x="178" y="938"/>
                    </a:lnTo>
                    <a:lnTo>
                      <a:pt x="195" y="938"/>
                    </a:lnTo>
                    <a:lnTo>
                      <a:pt x="243" y="938"/>
                    </a:lnTo>
                    <a:lnTo>
                      <a:pt x="292" y="955"/>
                    </a:lnTo>
                    <a:lnTo>
                      <a:pt x="292" y="955"/>
                    </a:lnTo>
                    <a:lnTo>
                      <a:pt x="308" y="955"/>
                    </a:lnTo>
                    <a:lnTo>
                      <a:pt x="308" y="955"/>
                    </a:lnTo>
                    <a:lnTo>
                      <a:pt x="308" y="955"/>
                    </a:lnTo>
                    <a:lnTo>
                      <a:pt x="308" y="955"/>
                    </a:lnTo>
                    <a:lnTo>
                      <a:pt x="308" y="938"/>
                    </a:lnTo>
                    <a:lnTo>
                      <a:pt x="292" y="955"/>
                    </a:lnTo>
                    <a:lnTo>
                      <a:pt x="292" y="938"/>
                    </a:lnTo>
                    <a:lnTo>
                      <a:pt x="292" y="938"/>
                    </a:lnTo>
                    <a:close/>
                    <a:moveTo>
                      <a:pt x="308" y="1893"/>
                    </a:moveTo>
                    <a:lnTo>
                      <a:pt x="308" y="1877"/>
                    </a:lnTo>
                    <a:lnTo>
                      <a:pt x="340" y="1877"/>
                    </a:lnTo>
                    <a:lnTo>
                      <a:pt x="340" y="1909"/>
                    </a:lnTo>
                    <a:lnTo>
                      <a:pt x="324" y="1909"/>
                    </a:lnTo>
                    <a:lnTo>
                      <a:pt x="308" y="1893"/>
                    </a:lnTo>
                    <a:lnTo>
                      <a:pt x="308" y="1893"/>
                    </a:lnTo>
                    <a:close/>
                    <a:moveTo>
                      <a:pt x="373" y="1877"/>
                    </a:moveTo>
                    <a:lnTo>
                      <a:pt x="405" y="1909"/>
                    </a:lnTo>
                    <a:lnTo>
                      <a:pt x="421" y="1893"/>
                    </a:lnTo>
                    <a:lnTo>
                      <a:pt x="437" y="1909"/>
                    </a:lnTo>
                    <a:lnTo>
                      <a:pt x="421" y="1909"/>
                    </a:lnTo>
                    <a:lnTo>
                      <a:pt x="389" y="1909"/>
                    </a:lnTo>
                    <a:lnTo>
                      <a:pt x="373" y="1909"/>
                    </a:lnTo>
                    <a:lnTo>
                      <a:pt x="356" y="1893"/>
                    </a:lnTo>
                    <a:lnTo>
                      <a:pt x="373" y="1893"/>
                    </a:lnTo>
                    <a:lnTo>
                      <a:pt x="356" y="1877"/>
                    </a:lnTo>
                    <a:lnTo>
                      <a:pt x="373" y="1877"/>
                    </a:lnTo>
                    <a:lnTo>
                      <a:pt x="373" y="1877"/>
                    </a:lnTo>
                    <a:close/>
                    <a:moveTo>
                      <a:pt x="567" y="2071"/>
                    </a:moveTo>
                    <a:lnTo>
                      <a:pt x="599" y="2087"/>
                    </a:lnTo>
                    <a:lnTo>
                      <a:pt x="615" y="2104"/>
                    </a:lnTo>
                    <a:lnTo>
                      <a:pt x="599" y="2120"/>
                    </a:lnTo>
                    <a:lnTo>
                      <a:pt x="583" y="2104"/>
                    </a:lnTo>
                    <a:lnTo>
                      <a:pt x="583" y="2087"/>
                    </a:lnTo>
                    <a:lnTo>
                      <a:pt x="567" y="2071"/>
                    </a:lnTo>
                    <a:lnTo>
                      <a:pt x="567" y="2071"/>
                    </a:lnTo>
                    <a:lnTo>
                      <a:pt x="567" y="2071"/>
                    </a:lnTo>
                    <a:close/>
                    <a:moveTo>
                      <a:pt x="567" y="2217"/>
                    </a:moveTo>
                    <a:lnTo>
                      <a:pt x="567" y="2217"/>
                    </a:lnTo>
                    <a:lnTo>
                      <a:pt x="535" y="2168"/>
                    </a:lnTo>
                    <a:lnTo>
                      <a:pt x="551" y="2152"/>
                    </a:lnTo>
                    <a:lnTo>
                      <a:pt x="567" y="2217"/>
                    </a:lnTo>
                    <a:lnTo>
                      <a:pt x="567" y="2217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74960" y="2157480"/>
                <a:ext cx="857160" cy="718920"/>
              </a:xfrm>
              <a:custGeom>
                <a:avLst/>
                <a:gdLst/>
                <a:ahLst/>
                <a:rect l="l" t="t" r="r" b="b"/>
                <a:pathLst>
                  <a:path w="1392" h="1165">
                    <a:moveTo>
                      <a:pt x="437" y="987"/>
                    </a:moveTo>
                    <a:lnTo>
                      <a:pt x="307" y="955"/>
                    </a:lnTo>
                    <a:lnTo>
                      <a:pt x="162" y="906"/>
                    </a:lnTo>
                    <a:lnTo>
                      <a:pt x="129" y="890"/>
                    </a:lnTo>
                    <a:lnTo>
                      <a:pt x="81" y="890"/>
                    </a:lnTo>
                    <a:lnTo>
                      <a:pt x="16" y="858"/>
                    </a:lnTo>
                    <a:lnTo>
                      <a:pt x="0" y="842"/>
                    </a:lnTo>
                    <a:lnTo>
                      <a:pt x="0" y="809"/>
                    </a:lnTo>
                    <a:lnTo>
                      <a:pt x="16" y="761"/>
                    </a:lnTo>
                    <a:lnTo>
                      <a:pt x="16" y="744"/>
                    </a:lnTo>
                    <a:lnTo>
                      <a:pt x="32" y="728"/>
                    </a:lnTo>
                    <a:lnTo>
                      <a:pt x="16" y="680"/>
                    </a:lnTo>
                    <a:lnTo>
                      <a:pt x="32" y="647"/>
                    </a:lnTo>
                    <a:lnTo>
                      <a:pt x="64" y="599"/>
                    </a:lnTo>
                    <a:lnTo>
                      <a:pt x="64" y="583"/>
                    </a:lnTo>
                    <a:lnTo>
                      <a:pt x="97" y="550"/>
                    </a:lnTo>
                    <a:lnTo>
                      <a:pt x="113" y="534"/>
                    </a:lnTo>
                    <a:lnTo>
                      <a:pt x="145" y="486"/>
                    </a:lnTo>
                    <a:lnTo>
                      <a:pt x="178" y="388"/>
                    </a:lnTo>
                    <a:lnTo>
                      <a:pt x="210" y="307"/>
                    </a:lnTo>
                    <a:lnTo>
                      <a:pt x="210" y="275"/>
                    </a:lnTo>
                    <a:lnTo>
                      <a:pt x="242" y="243"/>
                    </a:lnTo>
                    <a:lnTo>
                      <a:pt x="259" y="194"/>
                    </a:lnTo>
                    <a:lnTo>
                      <a:pt x="275" y="146"/>
                    </a:lnTo>
                    <a:lnTo>
                      <a:pt x="275" y="146"/>
                    </a:lnTo>
                    <a:lnTo>
                      <a:pt x="291" y="146"/>
                    </a:lnTo>
                    <a:lnTo>
                      <a:pt x="291" y="146"/>
                    </a:lnTo>
                    <a:lnTo>
                      <a:pt x="275" y="129"/>
                    </a:lnTo>
                    <a:lnTo>
                      <a:pt x="291" y="97"/>
                    </a:lnTo>
                    <a:lnTo>
                      <a:pt x="291" y="81"/>
                    </a:lnTo>
                    <a:lnTo>
                      <a:pt x="307" y="65"/>
                    </a:lnTo>
                    <a:lnTo>
                      <a:pt x="291" y="49"/>
                    </a:lnTo>
                    <a:lnTo>
                      <a:pt x="307" y="32"/>
                    </a:lnTo>
                    <a:lnTo>
                      <a:pt x="323" y="0"/>
                    </a:lnTo>
                    <a:lnTo>
                      <a:pt x="340" y="16"/>
                    </a:lnTo>
                    <a:lnTo>
                      <a:pt x="340" y="16"/>
                    </a:lnTo>
                    <a:lnTo>
                      <a:pt x="340" y="0"/>
                    </a:lnTo>
                    <a:lnTo>
                      <a:pt x="356" y="0"/>
                    </a:lnTo>
                    <a:lnTo>
                      <a:pt x="356" y="16"/>
                    </a:lnTo>
                    <a:lnTo>
                      <a:pt x="356" y="16"/>
                    </a:lnTo>
                    <a:lnTo>
                      <a:pt x="388" y="16"/>
                    </a:lnTo>
                    <a:lnTo>
                      <a:pt x="404" y="32"/>
                    </a:lnTo>
                    <a:lnTo>
                      <a:pt x="421" y="32"/>
                    </a:lnTo>
                    <a:lnTo>
                      <a:pt x="421" y="32"/>
                    </a:lnTo>
                    <a:lnTo>
                      <a:pt x="437" y="32"/>
                    </a:lnTo>
                    <a:lnTo>
                      <a:pt x="469" y="65"/>
                    </a:lnTo>
                    <a:lnTo>
                      <a:pt x="469" y="97"/>
                    </a:lnTo>
                    <a:lnTo>
                      <a:pt x="469" y="129"/>
                    </a:lnTo>
                    <a:lnTo>
                      <a:pt x="469" y="146"/>
                    </a:lnTo>
                    <a:lnTo>
                      <a:pt x="469" y="162"/>
                    </a:lnTo>
                    <a:lnTo>
                      <a:pt x="469" y="178"/>
                    </a:lnTo>
                    <a:lnTo>
                      <a:pt x="534" y="210"/>
                    </a:lnTo>
                    <a:lnTo>
                      <a:pt x="582" y="194"/>
                    </a:lnTo>
                    <a:lnTo>
                      <a:pt x="599" y="194"/>
                    </a:lnTo>
                    <a:lnTo>
                      <a:pt x="647" y="194"/>
                    </a:lnTo>
                    <a:lnTo>
                      <a:pt x="663" y="210"/>
                    </a:lnTo>
                    <a:lnTo>
                      <a:pt x="696" y="227"/>
                    </a:lnTo>
                    <a:lnTo>
                      <a:pt x="696" y="243"/>
                    </a:lnTo>
                    <a:lnTo>
                      <a:pt x="712" y="243"/>
                    </a:lnTo>
                    <a:lnTo>
                      <a:pt x="728" y="243"/>
                    </a:lnTo>
                    <a:lnTo>
                      <a:pt x="777" y="227"/>
                    </a:lnTo>
                    <a:lnTo>
                      <a:pt x="793" y="243"/>
                    </a:lnTo>
                    <a:lnTo>
                      <a:pt x="809" y="243"/>
                    </a:lnTo>
                    <a:lnTo>
                      <a:pt x="841" y="259"/>
                    </a:lnTo>
                    <a:lnTo>
                      <a:pt x="874" y="243"/>
                    </a:lnTo>
                    <a:lnTo>
                      <a:pt x="906" y="243"/>
                    </a:lnTo>
                    <a:lnTo>
                      <a:pt x="922" y="243"/>
                    </a:lnTo>
                    <a:lnTo>
                      <a:pt x="938" y="243"/>
                    </a:lnTo>
                    <a:lnTo>
                      <a:pt x="971" y="243"/>
                    </a:lnTo>
                    <a:lnTo>
                      <a:pt x="1003" y="243"/>
                    </a:lnTo>
                    <a:lnTo>
                      <a:pt x="1035" y="243"/>
                    </a:lnTo>
                    <a:lnTo>
                      <a:pt x="1181" y="275"/>
                    </a:lnTo>
                    <a:lnTo>
                      <a:pt x="1181" y="275"/>
                    </a:lnTo>
                    <a:lnTo>
                      <a:pt x="1246" y="291"/>
                    </a:lnTo>
                    <a:lnTo>
                      <a:pt x="1262" y="291"/>
                    </a:lnTo>
                    <a:lnTo>
                      <a:pt x="1343" y="307"/>
                    </a:lnTo>
                    <a:lnTo>
                      <a:pt x="1359" y="356"/>
                    </a:lnTo>
                    <a:lnTo>
                      <a:pt x="1392" y="372"/>
                    </a:lnTo>
                    <a:lnTo>
                      <a:pt x="1392" y="405"/>
                    </a:lnTo>
                    <a:lnTo>
                      <a:pt x="1343" y="469"/>
                    </a:lnTo>
                    <a:lnTo>
                      <a:pt x="1343" y="469"/>
                    </a:lnTo>
                    <a:lnTo>
                      <a:pt x="1327" y="518"/>
                    </a:lnTo>
                    <a:lnTo>
                      <a:pt x="1311" y="518"/>
                    </a:lnTo>
                    <a:lnTo>
                      <a:pt x="1311" y="550"/>
                    </a:lnTo>
                    <a:lnTo>
                      <a:pt x="1294" y="566"/>
                    </a:lnTo>
                    <a:lnTo>
                      <a:pt x="1278" y="566"/>
                    </a:lnTo>
                    <a:lnTo>
                      <a:pt x="1262" y="566"/>
                    </a:lnTo>
                    <a:lnTo>
                      <a:pt x="1246" y="615"/>
                    </a:lnTo>
                    <a:lnTo>
                      <a:pt x="1230" y="631"/>
                    </a:lnTo>
                    <a:lnTo>
                      <a:pt x="1214" y="664"/>
                    </a:lnTo>
                    <a:lnTo>
                      <a:pt x="1230" y="680"/>
                    </a:lnTo>
                    <a:lnTo>
                      <a:pt x="1246" y="680"/>
                    </a:lnTo>
                    <a:lnTo>
                      <a:pt x="1246" y="696"/>
                    </a:lnTo>
                    <a:lnTo>
                      <a:pt x="1262" y="696"/>
                    </a:lnTo>
                    <a:lnTo>
                      <a:pt x="1262" y="712"/>
                    </a:lnTo>
                    <a:lnTo>
                      <a:pt x="1246" y="712"/>
                    </a:lnTo>
                    <a:lnTo>
                      <a:pt x="1246" y="728"/>
                    </a:lnTo>
                    <a:lnTo>
                      <a:pt x="1230" y="761"/>
                    </a:lnTo>
                    <a:lnTo>
                      <a:pt x="1214" y="777"/>
                    </a:lnTo>
                    <a:lnTo>
                      <a:pt x="1214" y="809"/>
                    </a:lnTo>
                    <a:lnTo>
                      <a:pt x="1133" y="1165"/>
                    </a:lnTo>
                    <a:lnTo>
                      <a:pt x="955" y="1117"/>
                    </a:lnTo>
                    <a:lnTo>
                      <a:pt x="777" y="1084"/>
                    </a:lnTo>
                    <a:lnTo>
                      <a:pt x="777" y="1084"/>
                    </a:lnTo>
                    <a:lnTo>
                      <a:pt x="663" y="1052"/>
                    </a:lnTo>
                    <a:lnTo>
                      <a:pt x="534" y="1020"/>
                    </a:lnTo>
                    <a:lnTo>
                      <a:pt x="437" y="987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219320" y="1143000"/>
              <a:ext cx="1752480" cy="580680"/>
              <a:chOff x="1219320" y="1143000"/>
              <a:chExt cx="1752480" cy="580680"/>
            </a:xfrm>
          </p:grpSpPr>
          <p:sp>
            <p:nvSpPr>
              <p:cNvPr id="176" name=""/>
              <p:cNvSpPr/>
              <p:nvPr/>
            </p:nvSpPr>
            <p:spPr>
              <a:xfrm>
                <a:off x="1219320" y="1219320"/>
                <a:ext cx="152280" cy="152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47920" y="1143000"/>
                <a:ext cx="1523880" cy="580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Pacific Region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(70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1447920" y="2819520"/>
            <a:ext cx="2692080" cy="2485440"/>
            <a:chOff x="1447920" y="2819520"/>
            <a:chExt cx="2692080" cy="2485440"/>
          </a:xfrm>
        </p:grpSpPr>
        <p:grpSp>
          <p:nvGrpSpPr>
            <p:cNvPr id="179" name=""/>
            <p:cNvGrpSpPr/>
            <p:nvPr/>
          </p:nvGrpSpPr>
          <p:grpSpPr>
            <a:xfrm>
              <a:off x="2286000" y="2819520"/>
              <a:ext cx="1854000" cy="1636200"/>
              <a:chOff x="2286000" y="2819520"/>
              <a:chExt cx="1854000" cy="1636200"/>
            </a:xfrm>
          </p:grpSpPr>
          <p:sp>
            <p:nvSpPr>
              <p:cNvPr id="180" name=""/>
              <p:cNvSpPr/>
              <p:nvPr/>
            </p:nvSpPr>
            <p:spPr>
              <a:xfrm>
                <a:off x="3363840" y="3159000"/>
                <a:ext cx="776160" cy="618840"/>
              </a:xfrm>
              <a:custGeom>
                <a:avLst/>
                <a:gdLst/>
                <a:ahLst/>
                <a:rect l="l" t="t" r="r" b="b"/>
                <a:pathLst>
                  <a:path w="1263" h="1004">
                    <a:moveTo>
                      <a:pt x="1214" y="842"/>
                    </a:moveTo>
                    <a:lnTo>
                      <a:pt x="1214" y="858"/>
                    </a:lnTo>
                    <a:lnTo>
                      <a:pt x="1214" y="907"/>
                    </a:lnTo>
                    <a:lnTo>
                      <a:pt x="1214" y="1004"/>
                    </a:lnTo>
                    <a:lnTo>
                      <a:pt x="1036" y="987"/>
                    </a:lnTo>
                    <a:lnTo>
                      <a:pt x="1036" y="987"/>
                    </a:lnTo>
                    <a:lnTo>
                      <a:pt x="874" y="971"/>
                    </a:lnTo>
                    <a:lnTo>
                      <a:pt x="664" y="955"/>
                    </a:lnTo>
                    <a:lnTo>
                      <a:pt x="664" y="955"/>
                    </a:lnTo>
                    <a:lnTo>
                      <a:pt x="567" y="939"/>
                    </a:lnTo>
                    <a:lnTo>
                      <a:pt x="534" y="939"/>
                    </a:lnTo>
                    <a:lnTo>
                      <a:pt x="437" y="939"/>
                    </a:lnTo>
                    <a:lnTo>
                      <a:pt x="275" y="907"/>
                    </a:lnTo>
                    <a:lnTo>
                      <a:pt x="275" y="907"/>
                    </a:lnTo>
                    <a:lnTo>
                      <a:pt x="114" y="890"/>
                    </a:lnTo>
                    <a:lnTo>
                      <a:pt x="0" y="874"/>
                    </a:lnTo>
                    <a:lnTo>
                      <a:pt x="16" y="745"/>
                    </a:lnTo>
                    <a:lnTo>
                      <a:pt x="33" y="680"/>
                    </a:lnTo>
                    <a:lnTo>
                      <a:pt x="33" y="631"/>
                    </a:lnTo>
                    <a:lnTo>
                      <a:pt x="49" y="550"/>
                    </a:lnTo>
                    <a:lnTo>
                      <a:pt x="65" y="356"/>
                    </a:lnTo>
                    <a:lnTo>
                      <a:pt x="81" y="324"/>
                    </a:lnTo>
                    <a:lnTo>
                      <a:pt x="81" y="292"/>
                    </a:lnTo>
                    <a:lnTo>
                      <a:pt x="97" y="178"/>
                    </a:lnTo>
                    <a:lnTo>
                      <a:pt x="114" y="81"/>
                    </a:lnTo>
                    <a:lnTo>
                      <a:pt x="130" y="0"/>
                    </a:lnTo>
                    <a:lnTo>
                      <a:pt x="308" y="33"/>
                    </a:lnTo>
                    <a:lnTo>
                      <a:pt x="405" y="49"/>
                    </a:lnTo>
                    <a:lnTo>
                      <a:pt x="470" y="49"/>
                    </a:lnTo>
                    <a:lnTo>
                      <a:pt x="567" y="65"/>
                    </a:lnTo>
                    <a:lnTo>
                      <a:pt x="583" y="65"/>
                    </a:lnTo>
                    <a:lnTo>
                      <a:pt x="729" y="81"/>
                    </a:lnTo>
                    <a:lnTo>
                      <a:pt x="793" y="81"/>
                    </a:lnTo>
                    <a:lnTo>
                      <a:pt x="939" y="97"/>
                    </a:lnTo>
                    <a:lnTo>
                      <a:pt x="1020" y="97"/>
                    </a:lnTo>
                    <a:lnTo>
                      <a:pt x="1036" y="114"/>
                    </a:lnTo>
                    <a:lnTo>
                      <a:pt x="1166" y="114"/>
                    </a:lnTo>
                    <a:lnTo>
                      <a:pt x="1166" y="114"/>
                    </a:lnTo>
                    <a:lnTo>
                      <a:pt x="1263" y="114"/>
                    </a:lnTo>
                    <a:lnTo>
                      <a:pt x="1263" y="178"/>
                    </a:lnTo>
                    <a:lnTo>
                      <a:pt x="1263" y="194"/>
                    </a:lnTo>
                    <a:lnTo>
                      <a:pt x="1246" y="243"/>
                    </a:lnTo>
                    <a:lnTo>
                      <a:pt x="1246" y="259"/>
                    </a:lnTo>
                    <a:lnTo>
                      <a:pt x="1246" y="340"/>
                    </a:lnTo>
                    <a:lnTo>
                      <a:pt x="1246" y="437"/>
                    </a:lnTo>
                    <a:lnTo>
                      <a:pt x="1246" y="437"/>
                    </a:lnTo>
                    <a:lnTo>
                      <a:pt x="1230" y="534"/>
                    </a:lnTo>
                    <a:lnTo>
                      <a:pt x="1230" y="550"/>
                    </a:lnTo>
                    <a:lnTo>
                      <a:pt x="1230" y="631"/>
                    </a:lnTo>
                    <a:lnTo>
                      <a:pt x="1230" y="648"/>
                    </a:lnTo>
                    <a:lnTo>
                      <a:pt x="1230" y="728"/>
                    </a:lnTo>
                    <a:lnTo>
                      <a:pt x="1230" y="728"/>
                    </a:lnTo>
                    <a:lnTo>
                      <a:pt x="1214" y="84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86000" y="2819520"/>
                <a:ext cx="679320" cy="1047600"/>
              </a:xfrm>
              <a:custGeom>
                <a:avLst/>
                <a:gdLst/>
                <a:ahLst/>
                <a:rect l="l" t="t" r="r" b="b"/>
                <a:pathLst>
                  <a:path w="1101" h="1699">
                    <a:moveTo>
                      <a:pt x="211" y="939"/>
                    </a:moveTo>
                    <a:lnTo>
                      <a:pt x="114" y="793"/>
                    </a:lnTo>
                    <a:lnTo>
                      <a:pt x="98" y="761"/>
                    </a:lnTo>
                    <a:lnTo>
                      <a:pt x="49" y="712"/>
                    </a:lnTo>
                    <a:lnTo>
                      <a:pt x="17" y="664"/>
                    </a:lnTo>
                    <a:lnTo>
                      <a:pt x="0" y="631"/>
                    </a:lnTo>
                    <a:lnTo>
                      <a:pt x="0" y="615"/>
                    </a:lnTo>
                    <a:lnTo>
                      <a:pt x="17" y="615"/>
                    </a:lnTo>
                    <a:lnTo>
                      <a:pt x="17" y="599"/>
                    </a:lnTo>
                    <a:lnTo>
                      <a:pt x="17" y="566"/>
                    </a:lnTo>
                    <a:lnTo>
                      <a:pt x="33" y="534"/>
                    </a:lnTo>
                    <a:lnTo>
                      <a:pt x="49" y="485"/>
                    </a:lnTo>
                    <a:lnTo>
                      <a:pt x="130" y="178"/>
                    </a:lnTo>
                    <a:lnTo>
                      <a:pt x="162" y="0"/>
                    </a:lnTo>
                    <a:lnTo>
                      <a:pt x="276" y="32"/>
                    </a:lnTo>
                    <a:lnTo>
                      <a:pt x="276" y="32"/>
                    </a:lnTo>
                    <a:lnTo>
                      <a:pt x="454" y="65"/>
                    </a:lnTo>
                    <a:lnTo>
                      <a:pt x="632" y="113"/>
                    </a:lnTo>
                    <a:lnTo>
                      <a:pt x="648" y="113"/>
                    </a:lnTo>
                    <a:lnTo>
                      <a:pt x="955" y="178"/>
                    </a:lnTo>
                    <a:lnTo>
                      <a:pt x="1069" y="194"/>
                    </a:lnTo>
                    <a:lnTo>
                      <a:pt x="1101" y="210"/>
                    </a:lnTo>
                    <a:lnTo>
                      <a:pt x="1069" y="421"/>
                    </a:lnTo>
                    <a:lnTo>
                      <a:pt x="1036" y="615"/>
                    </a:lnTo>
                    <a:lnTo>
                      <a:pt x="1020" y="664"/>
                    </a:lnTo>
                    <a:lnTo>
                      <a:pt x="1004" y="744"/>
                    </a:lnTo>
                    <a:lnTo>
                      <a:pt x="971" y="922"/>
                    </a:lnTo>
                    <a:lnTo>
                      <a:pt x="955" y="955"/>
                    </a:lnTo>
                    <a:lnTo>
                      <a:pt x="939" y="1036"/>
                    </a:lnTo>
                    <a:lnTo>
                      <a:pt x="923" y="1149"/>
                    </a:lnTo>
                    <a:lnTo>
                      <a:pt x="891" y="1295"/>
                    </a:lnTo>
                    <a:lnTo>
                      <a:pt x="891" y="1327"/>
                    </a:lnTo>
                    <a:lnTo>
                      <a:pt x="874" y="1457"/>
                    </a:lnTo>
                    <a:lnTo>
                      <a:pt x="842" y="1489"/>
                    </a:lnTo>
                    <a:lnTo>
                      <a:pt x="826" y="1489"/>
                    </a:lnTo>
                    <a:lnTo>
                      <a:pt x="810" y="1457"/>
                    </a:lnTo>
                    <a:lnTo>
                      <a:pt x="793" y="1457"/>
                    </a:lnTo>
                    <a:lnTo>
                      <a:pt x="777" y="1457"/>
                    </a:lnTo>
                    <a:lnTo>
                      <a:pt x="761" y="1457"/>
                    </a:lnTo>
                    <a:lnTo>
                      <a:pt x="745" y="1457"/>
                    </a:lnTo>
                    <a:lnTo>
                      <a:pt x="745" y="1489"/>
                    </a:lnTo>
                    <a:lnTo>
                      <a:pt x="745" y="1505"/>
                    </a:lnTo>
                    <a:lnTo>
                      <a:pt x="745" y="1505"/>
                    </a:lnTo>
                    <a:lnTo>
                      <a:pt x="729" y="1537"/>
                    </a:lnTo>
                    <a:lnTo>
                      <a:pt x="745" y="1570"/>
                    </a:lnTo>
                    <a:lnTo>
                      <a:pt x="729" y="1586"/>
                    </a:lnTo>
                    <a:lnTo>
                      <a:pt x="729" y="1618"/>
                    </a:lnTo>
                    <a:lnTo>
                      <a:pt x="729" y="1651"/>
                    </a:lnTo>
                    <a:lnTo>
                      <a:pt x="729" y="1667"/>
                    </a:lnTo>
                    <a:lnTo>
                      <a:pt x="713" y="1667"/>
                    </a:lnTo>
                    <a:lnTo>
                      <a:pt x="729" y="1683"/>
                    </a:lnTo>
                    <a:lnTo>
                      <a:pt x="713" y="1683"/>
                    </a:lnTo>
                    <a:lnTo>
                      <a:pt x="713" y="1699"/>
                    </a:lnTo>
                    <a:lnTo>
                      <a:pt x="583" y="1489"/>
                    </a:lnTo>
                    <a:lnTo>
                      <a:pt x="534" y="1440"/>
                    </a:lnTo>
                    <a:lnTo>
                      <a:pt x="373" y="1181"/>
                    </a:lnTo>
                    <a:lnTo>
                      <a:pt x="276" y="1052"/>
                    </a:lnTo>
                    <a:lnTo>
                      <a:pt x="211" y="93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35200" y="3619440"/>
                <a:ext cx="728640" cy="836280"/>
              </a:xfrm>
              <a:custGeom>
                <a:avLst/>
                <a:gdLst/>
                <a:ahLst/>
                <a:rect l="l" t="t" r="r" b="b"/>
                <a:pathLst>
                  <a:path w="1181" h="1359">
                    <a:moveTo>
                      <a:pt x="32" y="890"/>
                    </a:moveTo>
                    <a:lnTo>
                      <a:pt x="65" y="890"/>
                    </a:lnTo>
                    <a:lnTo>
                      <a:pt x="81" y="874"/>
                    </a:lnTo>
                    <a:lnTo>
                      <a:pt x="97" y="841"/>
                    </a:lnTo>
                    <a:lnTo>
                      <a:pt x="81" y="825"/>
                    </a:lnTo>
                    <a:lnTo>
                      <a:pt x="65" y="825"/>
                    </a:lnTo>
                    <a:lnTo>
                      <a:pt x="48" y="809"/>
                    </a:lnTo>
                    <a:lnTo>
                      <a:pt x="65" y="777"/>
                    </a:lnTo>
                    <a:lnTo>
                      <a:pt x="48" y="760"/>
                    </a:lnTo>
                    <a:lnTo>
                      <a:pt x="65" y="760"/>
                    </a:lnTo>
                    <a:lnTo>
                      <a:pt x="65" y="744"/>
                    </a:lnTo>
                    <a:lnTo>
                      <a:pt x="81" y="744"/>
                    </a:lnTo>
                    <a:lnTo>
                      <a:pt x="97" y="712"/>
                    </a:lnTo>
                    <a:lnTo>
                      <a:pt x="113" y="696"/>
                    </a:lnTo>
                    <a:lnTo>
                      <a:pt x="113" y="679"/>
                    </a:lnTo>
                    <a:lnTo>
                      <a:pt x="113" y="663"/>
                    </a:lnTo>
                    <a:lnTo>
                      <a:pt x="129" y="631"/>
                    </a:lnTo>
                    <a:lnTo>
                      <a:pt x="113" y="631"/>
                    </a:lnTo>
                    <a:lnTo>
                      <a:pt x="146" y="615"/>
                    </a:lnTo>
                    <a:lnTo>
                      <a:pt x="146" y="615"/>
                    </a:lnTo>
                    <a:lnTo>
                      <a:pt x="210" y="582"/>
                    </a:lnTo>
                    <a:lnTo>
                      <a:pt x="194" y="566"/>
                    </a:lnTo>
                    <a:lnTo>
                      <a:pt x="162" y="534"/>
                    </a:lnTo>
                    <a:lnTo>
                      <a:pt x="178" y="518"/>
                    </a:lnTo>
                    <a:lnTo>
                      <a:pt x="162" y="501"/>
                    </a:lnTo>
                    <a:lnTo>
                      <a:pt x="162" y="469"/>
                    </a:lnTo>
                    <a:lnTo>
                      <a:pt x="146" y="437"/>
                    </a:lnTo>
                    <a:lnTo>
                      <a:pt x="146" y="404"/>
                    </a:lnTo>
                    <a:lnTo>
                      <a:pt x="146" y="388"/>
                    </a:lnTo>
                    <a:lnTo>
                      <a:pt x="162" y="388"/>
                    </a:lnTo>
                    <a:lnTo>
                      <a:pt x="146" y="372"/>
                    </a:lnTo>
                    <a:lnTo>
                      <a:pt x="162" y="372"/>
                    </a:lnTo>
                    <a:lnTo>
                      <a:pt x="162" y="356"/>
                    </a:lnTo>
                    <a:lnTo>
                      <a:pt x="162" y="323"/>
                    </a:lnTo>
                    <a:lnTo>
                      <a:pt x="162" y="291"/>
                    </a:lnTo>
                    <a:lnTo>
                      <a:pt x="178" y="275"/>
                    </a:lnTo>
                    <a:lnTo>
                      <a:pt x="162" y="242"/>
                    </a:lnTo>
                    <a:lnTo>
                      <a:pt x="178" y="210"/>
                    </a:lnTo>
                    <a:lnTo>
                      <a:pt x="178" y="210"/>
                    </a:lnTo>
                    <a:lnTo>
                      <a:pt x="178" y="194"/>
                    </a:lnTo>
                    <a:lnTo>
                      <a:pt x="178" y="162"/>
                    </a:lnTo>
                    <a:lnTo>
                      <a:pt x="194" y="162"/>
                    </a:lnTo>
                    <a:lnTo>
                      <a:pt x="210" y="162"/>
                    </a:lnTo>
                    <a:lnTo>
                      <a:pt x="226" y="162"/>
                    </a:lnTo>
                    <a:lnTo>
                      <a:pt x="243" y="162"/>
                    </a:lnTo>
                    <a:lnTo>
                      <a:pt x="259" y="194"/>
                    </a:lnTo>
                    <a:lnTo>
                      <a:pt x="275" y="194"/>
                    </a:lnTo>
                    <a:lnTo>
                      <a:pt x="307" y="162"/>
                    </a:lnTo>
                    <a:lnTo>
                      <a:pt x="324" y="32"/>
                    </a:lnTo>
                    <a:lnTo>
                      <a:pt x="324" y="0"/>
                    </a:lnTo>
                    <a:lnTo>
                      <a:pt x="518" y="32"/>
                    </a:lnTo>
                    <a:lnTo>
                      <a:pt x="582" y="32"/>
                    </a:lnTo>
                    <a:lnTo>
                      <a:pt x="793" y="64"/>
                    </a:lnTo>
                    <a:lnTo>
                      <a:pt x="890" y="81"/>
                    </a:lnTo>
                    <a:lnTo>
                      <a:pt x="1019" y="113"/>
                    </a:lnTo>
                    <a:lnTo>
                      <a:pt x="1181" y="129"/>
                    </a:lnTo>
                    <a:lnTo>
                      <a:pt x="1149" y="356"/>
                    </a:lnTo>
                    <a:lnTo>
                      <a:pt x="1117" y="582"/>
                    </a:lnTo>
                    <a:lnTo>
                      <a:pt x="1117" y="663"/>
                    </a:lnTo>
                    <a:lnTo>
                      <a:pt x="1084" y="825"/>
                    </a:lnTo>
                    <a:lnTo>
                      <a:pt x="1068" y="955"/>
                    </a:lnTo>
                    <a:lnTo>
                      <a:pt x="1052" y="1052"/>
                    </a:lnTo>
                    <a:lnTo>
                      <a:pt x="1052" y="1116"/>
                    </a:lnTo>
                    <a:lnTo>
                      <a:pt x="1019" y="1359"/>
                    </a:lnTo>
                    <a:lnTo>
                      <a:pt x="761" y="1327"/>
                    </a:lnTo>
                    <a:lnTo>
                      <a:pt x="647" y="1311"/>
                    </a:lnTo>
                    <a:lnTo>
                      <a:pt x="582" y="1278"/>
                    </a:lnTo>
                    <a:lnTo>
                      <a:pt x="259" y="1084"/>
                    </a:lnTo>
                    <a:lnTo>
                      <a:pt x="0" y="938"/>
                    </a:lnTo>
                    <a:lnTo>
                      <a:pt x="16" y="906"/>
                    </a:lnTo>
                    <a:lnTo>
                      <a:pt x="32" y="89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447920" y="4724280"/>
              <a:ext cx="2438280" cy="580680"/>
              <a:chOff x="1447920" y="4724280"/>
              <a:chExt cx="2438280" cy="580680"/>
            </a:xfrm>
          </p:grpSpPr>
          <p:sp>
            <p:nvSpPr>
              <p:cNvPr id="184" name=""/>
              <p:cNvSpPr/>
              <p:nvPr/>
            </p:nvSpPr>
            <p:spPr>
              <a:xfrm>
                <a:off x="1447920" y="4800240"/>
                <a:ext cx="15228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76520" y="4724280"/>
                <a:ext cx="2209680" cy="580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Intermountain Region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(15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3352680" y="1371600"/>
            <a:ext cx="2730600" cy="1739880"/>
            <a:chOff x="3352680" y="1371600"/>
            <a:chExt cx="2730600" cy="1739880"/>
          </a:xfrm>
        </p:grpSpPr>
        <p:sp>
          <p:nvSpPr>
            <p:cNvPr id="187" name=""/>
            <p:cNvSpPr/>
            <p:nvPr/>
          </p:nvSpPr>
          <p:spPr>
            <a:xfrm>
              <a:off x="4648320" y="2133720"/>
              <a:ext cx="698400" cy="787320"/>
            </a:xfrm>
            <a:custGeom>
              <a:avLst/>
              <a:gdLst/>
              <a:ahLst/>
              <a:rect l="l" t="t" r="r" b="b"/>
              <a:pathLst>
                <a:path w="1133" h="1279">
                  <a:moveTo>
                    <a:pt x="566" y="1263"/>
                  </a:moveTo>
                  <a:lnTo>
                    <a:pt x="550" y="1263"/>
                  </a:lnTo>
                  <a:lnTo>
                    <a:pt x="502" y="1263"/>
                  </a:lnTo>
                  <a:lnTo>
                    <a:pt x="453" y="1263"/>
                  </a:lnTo>
                  <a:lnTo>
                    <a:pt x="421" y="1263"/>
                  </a:lnTo>
                  <a:lnTo>
                    <a:pt x="356" y="1263"/>
                  </a:lnTo>
                  <a:lnTo>
                    <a:pt x="356" y="1263"/>
                  </a:lnTo>
                  <a:lnTo>
                    <a:pt x="275" y="1279"/>
                  </a:lnTo>
                  <a:lnTo>
                    <a:pt x="259" y="1279"/>
                  </a:lnTo>
                  <a:lnTo>
                    <a:pt x="194" y="1279"/>
                  </a:lnTo>
                  <a:lnTo>
                    <a:pt x="162" y="1279"/>
                  </a:lnTo>
                  <a:lnTo>
                    <a:pt x="113" y="1279"/>
                  </a:lnTo>
                  <a:lnTo>
                    <a:pt x="113" y="1198"/>
                  </a:lnTo>
                  <a:lnTo>
                    <a:pt x="113" y="1117"/>
                  </a:lnTo>
                  <a:lnTo>
                    <a:pt x="113" y="1052"/>
                  </a:lnTo>
                  <a:lnTo>
                    <a:pt x="113" y="1020"/>
                  </a:lnTo>
                  <a:lnTo>
                    <a:pt x="113" y="987"/>
                  </a:lnTo>
                  <a:lnTo>
                    <a:pt x="113" y="955"/>
                  </a:lnTo>
                  <a:lnTo>
                    <a:pt x="113" y="890"/>
                  </a:lnTo>
                  <a:lnTo>
                    <a:pt x="113" y="874"/>
                  </a:lnTo>
                  <a:lnTo>
                    <a:pt x="97" y="858"/>
                  </a:lnTo>
                  <a:lnTo>
                    <a:pt x="65" y="858"/>
                  </a:lnTo>
                  <a:lnTo>
                    <a:pt x="48" y="809"/>
                  </a:lnTo>
                  <a:lnTo>
                    <a:pt x="48" y="793"/>
                  </a:lnTo>
                  <a:lnTo>
                    <a:pt x="81" y="777"/>
                  </a:lnTo>
                  <a:lnTo>
                    <a:pt x="81" y="761"/>
                  </a:lnTo>
                  <a:lnTo>
                    <a:pt x="97" y="745"/>
                  </a:lnTo>
                  <a:lnTo>
                    <a:pt x="97" y="729"/>
                  </a:lnTo>
                  <a:lnTo>
                    <a:pt x="97" y="712"/>
                  </a:lnTo>
                  <a:lnTo>
                    <a:pt x="81" y="648"/>
                  </a:lnTo>
                  <a:lnTo>
                    <a:pt x="65" y="631"/>
                  </a:lnTo>
                  <a:lnTo>
                    <a:pt x="65" y="583"/>
                  </a:lnTo>
                  <a:lnTo>
                    <a:pt x="65" y="583"/>
                  </a:lnTo>
                  <a:lnTo>
                    <a:pt x="65" y="551"/>
                  </a:lnTo>
                  <a:lnTo>
                    <a:pt x="65" y="518"/>
                  </a:lnTo>
                  <a:lnTo>
                    <a:pt x="48" y="502"/>
                  </a:lnTo>
                  <a:lnTo>
                    <a:pt x="48" y="470"/>
                  </a:lnTo>
                  <a:lnTo>
                    <a:pt x="48" y="453"/>
                  </a:lnTo>
                  <a:lnTo>
                    <a:pt x="48" y="421"/>
                  </a:lnTo>
                  <a:lnTo>
                    <a:pt x="48" y="421"/>
                  </a:lnTo>
                  <a:lnTo>
                    <a:pt x="48" y="405"/>
                  </a:lnTo>
                  <a:lnTo>
                    <a:pt x="48" y="372"/>
                  </a:lnTo>
                  <a:lnTo>
                    <a:pt x="48" y="356"/>
                  </a:lnTo>
                  <a:lnTo>
                    <a:pt x="32" y="324"/>
                  </a:lnTo>
                  <a:lnTo>
                    <a:pt x="32" y="308"/>
                  </a:lnTo>
                  <a:lnTo>
                    <a:pt x="16" y="259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27"/>
                  </a:lnTo>
                  <a:lnTo>
                    <a:pt x="16" y="227"/>
                  </a:lnTo>
                  <a:lnTo>
                    <a:pt x="16" y="211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16" y="146"/>
                  </a:lnTo>
                  <a:lnTo>
                    <a:pt x="0" y="114"/>
                  </a:lnTo>
                  <a:lnTo>
                    <a:pt x="0" y="81"/>
                  </a:lnTo>
                  <a:lnTo>
                    <a:pt x="113" y="81"/>
                  </a:lnTo>
                  <a:lnTo>
                    <a:pt x="291" y="81"/>
                  </a:lnTo>
                  <a:lnTo>
                    <a:pt x="307" y="81"/>
                  </a:lnTo>
                  <a:lnTo>
                    <a:pt x="307" y="0"/>
                  </a:lnTo>
                  <a:lnTo>
                    <a:pt x="340" y="0"/>
                  </a:lnTo>
                  <a:lnTo>
                    <a:pt x="372" y="97"/>
                  </a:lnTo>
                  <a:lnTo>
                    <a:pt x="372" y="130"/>
                  </a:lnTo>
                  <a:lnTo>
                    <a:pt x="388" y="130"/>
                  </a:lnTo>
                  <a:lnTo>
                    <a:pt x="404" y="130"/>
                  </a:lnTo>
                  <a:lnTo>
                    <a:pt x="421" y="130"/>
                  </a:lnTo>
                  <a:lnTo>
                    <a:pt x="437" y="146"/>
                  </a:lnTo>
                  <a:lnTo>
                    <a:pt x="502" y="146"/>
                  </a:lnTo>
                  <a:lnTo>
                    <a:pt x="502" y="178"/>
                  </a:lnTo>
                  <a:lnTo>
                    <a:pt x="502" y="178"/>
                  </a:lnTo>
                  <a:lnTo>
                    <a:pt x="550" y="178"/>
                  </a:lnTo>
                  <a:lnTo>
                    <a:pt x="550" y="162"/>
                  </a:lnTo>
                  <a:lnTo>
                    <a:pt x="550" y="162"/>
                  </a:lnTo>
                  <a:lnTo>
                    <a:pt x="566" y="146"/>
                  </a:lnTo>
                  <a:lnTo>
                    <a:pt x="599" y="146"/>
                  </a:lnTo>
                  <a:lnTo>
                    <a:pt x="631" y="146"/>
                  </a:lnTo>
                  <a:lnTo>
                    <a:pt x="663" y="162"/>
                  </a:lnTo>
                  <a:lnTo>
                    <a:pt x="663" y="162"/>
                  </a:lnTo>
                  <a:lnTo>
                    <a:pt x="680" y="178"/>
                  </a:lnTo>
                  <a:lnTo>
                    <a:pt x="663" y="178"/>
                  </a:lnTo>
                  <a:lnTo>
                    <a:pt x="663" y="178"/>
                  </a:lnTo>
                  <a:lnTo>
                    <a:pt x="696" y="194"/>
                  </a:lnTo>
                  <a:lnTo>
                    <a:pt x="696" y="194"/>
                  </a:lnTo>
                  <a:lnTo>
                    <a:pt x="696" y="211"/>
                  </a:lnTo>
                  <a:lnTo>
                    <a:pt x="712" y="227"/>
                  </a:lnTo>
                  <a:lnTo>
                    <a:pt x="728" y="227"/>
                  </a:lnTo>
                  <a:lnTo>
                    <a:pt x="728" y="211"/>
                  </a:lnTo>
                  <a:lnTo>
                    <a:pt x="728" y="211"/>
                  </a:lnTo>
                  <a:lnTo>
                    <a:pt x="744" y="194"/>
                  </a:lnTo>
                  <a:lnTo>
                    <a:pt x="760" y="211"/>
                  </a:lnTo>
                  <a:lnTo>
                    <a:pt x="777" y="227"/>
                  </a:lnTo>
                  <a:lnTo>
                    <a:pt x="793" y="227"/>
                  </a:lnTo>
                  <a:lnTo>
                    <a:pt x="809" y="243"/>
                  </a:lnTo>
                  <a:lnTo>
                    <a:pt x="809" y="259"/>
                  </a:lnTo>
                  <a:lnTo>
                    <a:pt x="825" y="259"/>
                  </a:lnTo>
                  <a:lnTo>
                    <a:pt x="825" y="259"/>
                  </a:lnTo>
                  <a:lnTo>
                    <a:pt x="874" y="259"/>
                  </a:lnTo>
                  <a:lnTo>
                    <a:pt x="906" y="227"/>
                  </a:lnTo>
                  <a:lnTo>
                    <a:pt x="938" y="211"/>
                  </a:lnTo>
                  <a:lnTo>
                    <a:pt x="955" y="259"/>
                  </a:lnTo>
                  <a:lnTo>
                    <a:pt x="971" y="243"/>
                  </a:lnTo>
                  <a:lnTo>
                    <a:pt x="987" y="243"/>
                  </a:lnTo>
                  <a:lnTo>
                    <a:pt x="1036" y="243"/>
                  </a:lnTo>
                  <a:lnTo>
                    <a:pt x="1052" y="243"/>
                  </a:lnTo>
                  <a:lnTo>
                    <a:pt x="1068" y="259"/>
                  </a:lnTo>
                  <a:lnTo>
                    <a:pt x="1084" y="259"/>
                  </a:lnTo>
                  <a:lnTo>
                    <a:pt x="1100" y="259"/>
                  </a:lnTo>
                  <a:lnTo>
                    <a:pt x="1133" y="259"/>
                  </a:lnTo>
                  <a:lnTo>
                    <a:pt x="1117" y="259"/>
                  </a:lnTo>
                  <a:lnTo>
                    <a:pt x="1117" y="275"/>
                  </a:lnTo>
                  <a:lnTo>
                    <a:pt x="1068" y="308"/>
                  </a:lnTo>
                  <a:lnTo>
                    <a:pt x="987" y="324"/>
                  </a:lnTo>
                  <a:lnTo>
                    <a:pt x="922" y="389"/>
                  </a:lnTo>
                  <a:lnTo>
                    <a:pt x="858" y="470"/>
                  </a:lnTo>
                  <a:lnTo>
                    <a:pt x="809" y="518"/>
                  </a:lnTo>
                  <a:lnTo>
                    <a:pt x="760" y="534"/>
                  </a:lnTo>
                  <a:lnTo>
                    <a:pt x="744" y="567"/>
                  </a:lnTo>
                  <a:lnTo>
                    <a:pt x="728" y="567"/>
                  </a:lnTo>
                  <a:lnTo>
                    <a:pt x="744" y="567"/>
                  </a:lnTo>
                  <a:lnTo>
                    <a:pt x="744" y="631"/>
                  </a:lnTo>
                  <a:lnTo>
                    <a:pt x="744" y="680"/>
                  </a:lnTo>
                  <a:lnTo>
                    <a:pt x="744" y="696"/>
                  </a:lnTo>
                  <a:lnTo>
                    <a:pt x="728" y="712"/>
                  </a:lnTo>
                  <a:lnTo>
                    <a:pt x="728" y="712"/>
                  </a:lnTo>
                  <a:lnTo>
                    <a:pt x="712" y="712"/>
                  </a:lnTo>
                  <a:lnTo>
                    <a:pt x="712" y="712"/>
                  </a:lnTo>
                  <a:lnTo>
                    <a:pt x="680" y="729"/>
                  </a:lnTo>
                  <a:lnTo>
                    <a:pt x="663" y="777"/>
                  </a:lnTo>
                  <a:lnTo>
                    <a:pt x="647" y="793"/>
                  </a:lnTo>
                  <a:lnTo>
                    <a:pt x="663" y="809"/>
                  </a:lnTo>
                  <a:lnTo>
                    <a:pt x="680" y="809"/>
                  </a:lnTo>
                  <a:lnTo>
                    <a:pt x="696" y="842"/>
                  </a:lnTo>
                  <a:lnTo>
                    <a:pt x="696" y="842"/>
                  </a:lnTo>
                  <a:lnTo>
                    <a:pt x="680" y="874"/>
                  </a:lnTo>
                  <a:lnTo>
                    <a:pt x="680" y="890"/>
                  </a:lnTo>
                  <a:lnTo>
                    <a:pt x="680" y="907"/>
                  </a:lnTo>
                  <a:lnTo>
                    <a:pt x="680" y="923"/>
                  </a:lnTo>
                  <a:lnTo>
                    <a:pt x="680" y="923"/>
                  </a:lnTo>
                  <a:lnTo>
                    <a:pt x="680" y="971"/>
                  </a:lnTo>
                  <a:lnTo>
                    <a:pt x="680" y="987"/>
                  </a:lnTo>
                  <a:lnTo>
                    <a:pt x="680" y="1004"/>
                  </a:lnTo>
                  <a:lnTo>
                    <a:pt x="712" y="1020"/>
                  </a:lnTo>
                  <a:lnTo>
                    <a:pt x="744" y="1036"/>
                  </a:lnTo>
                  <a:lnTo>
                    <a:pt x="760" y="1052"/>
                  </a:lnTo>
                  <a:lnTo>
                    <a:pt x="793" y="1052"/>
                  </a:lnTo>
                  <a:lnTo>
                    <a:pt x="809" y="1068"/>
                  </a:lnTo>
                  <a:lnTo>
                    <a:pt x="825" y="1101"/>
                  </a:lnTo>
                  <a:lnTo>
                    <a:pt x="874" y="1133"/>
                  </a:lnTo>
                  <a:lnTo>
                    <a:pt x="890" y="1149"/>
                  </a:lnTo>
                  <a:lnTo>
                    <a:pt x="922" y="1182"/>
                  </a:lnTo>
                  <a:lnTo>
                    <a:pt x="922" y="1182"/>
                  </a:lnTo>
                  <a:lnTo>
                    <a:pt x="922" y="1198"/>
                  </a:lnTo>
                  <a:lnTo>
                    <a:pt x="938" y="1246"/>
                  </a:lnTo>
                  <a:lnTo>
                    <a:pt x="874" y="1263"/>
                  </a:lnTo>
                  <a:lnTo>
                    <a:pt x="858" y="1263"/>
                  </a:lnTo>
                  <a:lnTo>
                    <a:pt x="793" y="1263"/>
                  </a:lnTo>
                  <a:lnTo>
                    <a:pt x="744" y="1263"/>
                  </a:lnTo>
                  <a:lnTo>
                    <a:pt x="728" y="1263"/>
                  </a:lnTo>
                  <a:lnTo>
                    <a:pt x="647" y="1263"/>
                  </a:lnTo>
                  <a:lnTo>
                    <a:pt x="647" y="1263"/>
                  </a:lnTo>
                  <a:lnTo>
                    <a:pt x="566" y="1263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6880" y="2262240"/>
              <a:ext cx="806400" cy="849240"/>
            </a:xfrm>
            <a:custGeom>
              <a:avLst/>
              <a:gdLst/>
              <a:ahLst/>
              <a:rect l="l" t="t" r="r" b="b"/>
              <a:pathLst>
                <a:path w="1311" h="1375">
                  <a:moveTo>
                    <a:pt x="259" y="0"/>
                  </a:moveTo>
                  <a:lnTo>
                    <a:pt x="243" y="32"/>
                  </a:lnTo>
                  <a:lnTo>
                    <a:pt x="211" y="48"/>
                  </a:lnTo>
                  <a:lnTo>
                    <a:pt x="195" y="81"/>
                  </a:lnTo>
                  <a:lnTo>
                    <a:pt x="178" y="81"/>
                  </a:lnTo>
                  <a:lnTo>
                    <a:pt x="162" y="81"/>
                  </a:lnTo>
                  <a:lnTo>
                    <a:pt x="162" y="64"/>
                  </a:lnTo>
                  <a:lnTo>
                    <a:pt x="162" y="64"/>
                  </a:lnTo>
                  <a:lnTo>
                    <a:pt x="259" y="0"/>
                  </a:lnTo>
                  <a:lnTo>
                    <a:pt x="259" y="0"/>
                  </a:lnTo>
                  <a:close/>
                  <a:moveTo>
                    <a:pt x="276" y="194"/>
                  </a:moveTo>
                  <a:lnTo>
                    <a:pt x="292" y="178"/>
                  </a:lnTo>
                  <a:lnTo>
                    <a:pt x="324" y="145"/>
                  </a:lnTo>
                  <a:lnTo>
                    <a:pt x="373" y="145"/>
                  </a:lnTo>
                  <a:lnTo>
                    <a:pt x="389" y="145"/>
                  </a:lnTo>
                  <a:lnTo>
                    <a:pt x="389" y="161"/>
                  </a:lnTo>
                  <a:lnTo>
                    <a:pt x="356" y="161"/>
                  </a:lnTo>
                  <a:lnTo>
                    <a:pt x="324" y="21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59" y="226"/>
                  </a:lnTo>
                  <a:lnTo>
                    <a:pt x="259" y="194"/>
                  </a:lnTo>
                  <a:lnTo>
                    <a:pt x="276" y="194"/>
                  </a:lnTo>
                  <a:lnTo>
                    <a:pt x="276" y="194"/>
                  </a:lnTo>
                  <a:close/>
                  <a:moveTo>
                    <a:pt x="292" y="275"/>
                  </a:moveTo>
                  <a:lnTo>
                    <a:pt x="292" y="291"/>
                  </a:lnTo>
                  <a:lnTo>
                    <a:pt x="292" y="291"/>
                  </a:lnTo>
                  <a:lnTo>
                    <a:pt x="324" y="259"/>
                  </a:lnTo>
                  <a:lnTo>
                    <a:pt x="324" y="275"/>
                  </a:lnTo>
                  <a:lnTo>
                    <a:pt x="356" y="259"/>
                  </a:lnTo>
                  <a:lnTo>
                    <a:pt x="373" y="259"/>
                  </a:lnTo>
                  <a:lnTo>
                    <a:pt x="405" y="275"/>
                  </a:lnTo>
                  <a:lnTo>
                    <a:pt x="454" y="340"/>
                  </a:lnTo>
                  <a:lnTo>
                    <a:pt x="502" y="340"/>
                  </a:lnTo>
                  <a:lnTo>
                    <a:pt x="518" y="340"/>
                  </a:lnTo>
                  <a:lnTo>
                    <a:pt x="534" y="356"/>
                  </a:lnTo>
                  <a:lnTo>
                    <a:pt x="551" y="340"/>
                  </a:lnTo>
                  <a:lnTo>
                    <a:pt x="567" y="356"/>
                  </a:lnTo>
                  <a:lnTo>
                    <a:pt x="599" y="323"/>
                  </a:lnTo>
                  <a:lnTo>
                    <a:pt x="648" y="291"/>
                  </a:lnTo>
                  <a:lnTo>
                    <a:pt x="648" y="291"/>
                  </a:lnTo>
                  <a:lnTo>
                    <a:pt x="680" y="275"/>
                  </a:lnTo>
                  <a:lnTo>
                    <a:pt x="729" y="275"/>
                  </a:lnTo>
                  <a:lnTo>
                    <a:pt x="777" y="259"/>
                  </a:lnTo>
                  <a:lnTo>
                    <a:pt x="810" y="259"/>
                  </a:lnTo>
                  <a:lnTo>
                    <a:pt x="810" y="275"/>
                  </a:lnTo>
                  <a:lnTo>
                    <a:pt x="810" y="307"/>
                  </a:lnTo>
                  <a:lnTo>
                    <a:pt x="810" y="307"/>
                  </a:lnTo>
                  <a:lnTo>
                    <a:pt x="810" y="323"/>
                  </a:lnTo>
                  <a:lnTo>
                    <a:pt x="826" y="307"/>
                  </a:lnTo>
                  <a:lnTo>
                    <a:pt x="842" y="323"/>
                  </a:lnTo>
                  <a:lnTo>
                    <a:pt x="874" y="307"/>
                  </a:lnTo>
                  <a:lnTo>
                    <a:pt x="891" y="323"/>
                  </a:lnTo>
                  <a:lnTo>
                    <a:pt x="907" y="307"/>
                  </a:lnTo>
                  <a:lnTo>
                    <a:pt x="923" y="307"/>
                  </a:lnTo>
                  <a:lnTo>
                    <a:pt x="939" y="356"/>
                  </a:lnTo>
                  <a:lnTo>
                    <a:pt x="939" y="356"/>
                  </a:lnTo>
                  <a:lnTo>
                    <a:pt x="939" y="372"/>
                  </a:lnTo>
                  <a:lnTo>
                    <a:pt x="955" y="372"/>
                  </a:lnTo>
                  <a:lnTo>
                    <a:pt x="971" y="372"/>
                  </a:lnTo>
                  <a:lnTo>
                    <a:pt x="971" y="388"/>
                  </a:lnTo>
                  <a:lnTo>
                    <a:pt x="988" y="388"/>
                  </a:lnTo>
                  <a:lnTo>
                    <a:pt x="988" y="404"/>
                  </a:lnTo>
                  <a:lnTo>
                    <a:pt x="988" y="404"/>
                  </a:lnTo>
                  <a:lnTo>
                    <a:pt x="955" y="404"/>
                  </a:lnTo>
                  <a:lnTo>
                    <a:pt x="923" y="404"/>
                  </a:lnTo>
                  <a:lnTo>
                    <a:pt x="907" y="420"/>
                  </a:lnTo>
                  <a:lnTo>
                    <a:pt x="891" y="404"/>
                  </a:lnTo>
                  <a:lnTo>
                    <a:pt x="874" y="404"/>
                  </a:lnTo>
                  <a:lnTo>
                    <a:pt x="874" y="437"/>
                  </a:lnTo>
                  <a:lnTo>
                    <a:pt x="858" y="437"/>
                  </a:lnTo>
                  <a:lnTo>
                    <a:pt x="826" y="420"/>
                  </a:lnTo>
                  <a:lnTo>
                    <a:pt x="777" y="404"/>
                  </a:lnTo>
                  <a:lnTo>
                    <a:pt x="745" y="404"/>
                  </a:lnTo>
                  <a:lnTo>
                    <a:pt x="729" y="437"/>
                  </a:lnTo>
                  <a:lnTo>
                    <a:pt x="696" y="437"/>
                  </a:lnTo>
                  <a:lnTo>
                    <a:pt x="696" y="437"/>
                  </a:lnTo>
                  <a:lnTo>
                    <a:pt x="696" y="453"/>
                  </a:lnTo>
                  <a:lnTo>
                    <a:pt x="664" y="437"/>
                  </a:lnTo>
                  <a:lnTo>
                    <a:pt x="632" y="453"/>
                  </a:lnTo>
                  <a:lnTo>
                    <a:pt x="632" y="453"/>
                  </a:lnTo>
                  <a:lnTo>
                    <a:pt x="632" y="469"/>
                  </a:lnTo>
                  <a:lnTo>
                    <a:pt x="615" y="501"/>
                  </a:lnTo>
                  <a:lnTo>
                    <a:pt x="599" y="501"/>
                  </a:lnTo>
                  <a:lnTo>
                    <a:pt x="599" y="501"/>
                  </a:lnTo>
                  <a:lnTo>
                    <a:pt x="599" y="501"/>
                  </a:lnTo>
                  <a:lnTo>
                    <a:pt x="583" y="534"/>
                  </a:lnTo>
                  <a:lnTo>
                    <a:pt x="583" y="518"/>
                  </a:lnTo>
                  <a:lnTo>
                    <a:pt x="583" y="518"/>
                  </a:lnTo>
                  <a:lnTo>
                    <a:pt x="599" y="485"/>
                  </a:lnTo>
                  <a:lnTo>
                    <a:pt x="567" y="485"/>
                  </a:lnTo>
                  <a:lnTo>
                    <a:pt x="551" y="518"/>
                  </a:lnTo>
                  <a:lnTo>
                    <a:pt x="518" y="518"/>
                  </a:lnTo>
                  <a:lnTo>
                    <a:pt x="502" y="550"/>
                  </a:lnTo>
                  <a:lnTo>
                    <a:pt x="486" y="582"/>
                  </a:lnTo>
                  <a:lnTo>
                    <a:pt x="454" y="647"/>
                  </a:lnTo>
                  <a:lnTo>
                    <a:pt x="454" y="647"/>
                  </a:lnTo>
                  <a:lnTo>
                    <a:pt x="437" y="647"/>
                  </a:lnTo>
                  <a:lnTo>
                    <a:pt x="437" y="631"/>
                  </a:lnTo>
                  <a:lnTo>
                    <a:pt x="437" y="598"/>
                  </a:lnTo>
                  <a:lnTo>
                    <a:pt x="437" y="598"/>
                  </a:lnTo>
                  <a:lnTo>
                    <a:pt x="421" y="598"/>
                  </a:lnTo>
                  <a:lnTo>
                    <a:pt x="405" y="598"/>
                  </a:lnTo>
                  <a:lnTo>
                    <a:pt x="405" y="598"/>
                  </a:lnTo>
                  <a:lnTo>
                    <a:pt x="405" y="582"/>
                  </a:lnTo>
                  <a:lnTo>
                    <a:pt x="421" y="566"/>
                  </a:lnTo>
                  <a:lnTo>
                    <a:pt x="405" y="550"/>
                  </a:lnTo>
                  <a:lnTo>
                    <a:pt x="421" y="550"/>
                  </a:lnTo>
                  <a:lnTo>
                    <a:pt x="421" y="550"/>
                  </a:lnTo>
                  <a:lnTo>
                    <a:pt x="405" y="534"/>
                  </a:lnTo>
                  <a:lnTo>
                    <a:pt x="421" y="534"/>
                  </a:lnTo>
                  <a:lnTo>
                    <a:pt x="405" y="518"/>
                  </a:lnTo>
                  <a:lnTo>
                    <a:pt x="373" y="501"/>
                  </a:lnTo>
                  <a:lnTo>
                    <a:pt x="373" y="518"/>
                  </a:lnTo>
                  <a:lnTo>
                    <a:pt x="356" y="501"/>
                  </a:lnTo>
                  <a:lnTo>
                    <a:pt x="373" y="485"/>
                  </a:lnTo>
                  <a:lnTo>
                    <a:pt x="356" y="485"/>
                  </a:lnTo>
                  <a:lnTo>
                    <a:pt x="324" y="469"/>
                  </a:lnTo>
                  <a:lnTo>
                    <a:pt x="292" y="469"/>
                  </a:lnTo>
                  <a:lnTo>
                    <a:pt x="276" y="469"/>
                  </a:lnTo>
                  <a:lnTo>
                    <a:pt x="276" y="469"/>
                  </a:lnTo>
                  <a:lnTo>
                    <a:pt x="259" y="469"/>
                  </a:lnTo>
                  <a:lnTo>
                    <a:pt x="227" y="453"/>
                  </a:lnTo>
                  <a:lnTo>
                    <a:pt x="227" y="453"/>
                  </a:lnTo>
                  <a:lnTo>
                    <a:pt x="81" y="420"/>
                  </a:lnTo>
                  <a:lnTo>
                    <a:pt x="49" y="420"/>
                  </a:lnTo>
                  <a:lnTo>
                    <a:pt x="33" y="372"/>
                  </a:lnTo>
                  <a:lnTo>
                    <a:pt x="17" y="372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65" y="340"/>
                  </a:lnTo>
                  <a:lnTo>
                    <a:pt x="81" y="323"/>
                  </a:lnTo>
                  <a:lnTo>
                    <a:pt x="98" y="307"/>
                  </a:lnTo>
                  <a:lnTo>
                    <a:pt x="146" y="291"/>
                  </a:lnTo>
                  <a:lnTo>
                    <a:pt x="178" y="275"/>
                  </a:lnTo>
                  <a:lnTo>
                    <a:pt x="195" y="259"/>
                  </a:lnTo>
                  <a:lnTo>
                    <a:pt x="211" y="259"/>
                  </a:lnTo>
                  <a:lnTo>
                    <a:pt x="211" y="259"/>
                  </a:lnTo>
                  <a:lnTo>
                    <a:pt x="227" y="242"/>
                  </a:lnTo>
                  <a:lnTo>
                    <a:pt x="259" y="210"/>
                  </a:lnTo>
                  <a:lnTo>
                    <a:pt x="259" y="226"/>
                  </a:lnTo>
                  <a:lnTo>
                    <a:pt x="276" y="226"/>
                  </a:lnTo>
                  <a:lnTo>
                    <a:pt x="276" y="242"/>
                  </a:lnTo>
                  <a:lnTo>
                    <a:pt x="292" y="259"/>
                  </a:lnTo>
                  <a:lnTo>
                    <a:pt x="292" y="275"/>
                  </a:lnTo>
                  <a:lnTo>
                    <a:pt x="292" y="275"/>
                  </a:lnTo>
                  <a:close/>
                  <a:moveTo>
                    <a:pt x="1004" y="388"/>
                  </a:moveTo>
                  <a:lnTo>
                    <a:pt x="1004" y="404"/>
                  </a:lnTo>
                  <a:lnTo>
                    <a:pt x="1020" y="388"/>
                  </a:lnTo>
                  <a:lnTo>
                    <a:pt x="1020" y="388"/>
                  </a:lnTo>
                  <a:lnTo>
                    <a:pt x="1020" y="372"/>
                  </a:lnTo>
                  <a:lnTo>
                    <a:pt x="1020" y="372"/>
                  </a:lnTo>
                  <a:lnTo>
                    <a:pt x="1036" y="372"/>
                  </a:lnTo>
                  <a:lnTo>
                    <a:pt x="1036" y="372"/>
                  </a:lnTo>
                  <a:lnTo>
                    <a:pt x="1052" y="388"/>
                  </a:lnTo>
                  <a:lnTo>
                    <a:pt x="1052" y="388"/>
                  </a:lnTo>
                  <a:lnTo>
                    <a:pt x="1052" y="404"/>
                  </a:lnTo>
                  <a:lnTo>
                    <a:pt x="1052" y="404"/>
                  </a:lnTo>
                  <a:lnTo>
                    <a:pt x="1036" y="404"/>
                  </a:lnTo>
                  <a:lnTo>
                    <a:pt x="1004" y="404"/>
                  </a:lnTo>
                  <a:lnTo>
                    <a:pt x="1004" y="404"/>
                  </a:lnTo>
                  <a:lnTo>
                    <a:pt x="1004" y="404"/>
                  </a:lnTo>
                  <a:lnTo>
                    <a:pt x="1004" y="388"/>
                  </a:lnTo>
                  <a:lnTo>
                    <a:pt x="1004" y="388"/>
                  </a:lnTo>
                  <a:close/>
                  <a:moveTo>
                    <a:pt x="1101" y="793"/>
                  </a:moveTo>
                  <a:lnTo>
                    <a:pt x="1101" y="809"/>
                  </a:lnTo>
                  <a:lnTo>
                    <a:pt x="1085" y="825"/>
                  </a:lnTo>
                  <a:lnTo>
                    <a:pt x="1052" y="841"/>
                  </a:lnTo>
                  <a:lnTo>
                    <a:pt x="1052" y="841"/>
                  </a:lnTo>
                  <a:lnTo>
                    <a:pt x="1052" y="890"/>
                  </a:lnTo>
                  <a:lnTo>
                    <a:pt x="1085" y="906"/>
                  </a:lnTo>
                  <a:lnTo>
                    <a:pt x="1101" y="906"/>
                  </a:lnTo>
                  <a:lnTo>
                    <a:pt x="1117" y="890"/>
                  </a:lnTo>
                  <a:lnTo>
                    <a:pt x="1117" y="890"/>
                  </a:lnTo>
                  <a:lnTo>
                    <a:pt x="1117" y="874"/>
                  </a:lnTo>
                  <a:lnTo>
                    <a:pt x="1133" y="857"/>
                  </a:lnTo>
                  <a:lnTo>
                    <a:pt x="1133" y="825"/>
                  </a:lnTo>
                  <a:lnTo>
                    <a:pt x="1198" y="793"/>
                  </a:lnTo>
                  <a:lnTo>
                    <a:pt x="1214" y="793"/>
                  </a:lnTo>
                  <a:lnTo>
                    <a:pt x="1230" y="809"/>
                  </a:lnTo>
                  <a:lnTo>
                    <a:pt x="1263" y="857"/>
                  </a:lnTo>
                  <a:lnTo>
                    <a:pt x="1263" y="874"/>
                  </a:lnTo>
                  <a:lnTo>
                    <a:pt x="1295" y="987"/>
                  </a:lnTo>
                  <a:lnTo>
                    <a:pt x="1311" y="1019"/>
                  </a:lnTo>
                  <a:lnTo>
                    <a:pt x="1311" y="1035"/>
                  </a:lnTo>
                  <a:lnTo>
                    <a:pt x="1311" y="1068"/>
                  </a:lnTo>
                  <a:lnTo>
                    <a:pt x="1311" y="1100"/>
                  </a:lnTo>
                  <a:lnTo>
                    <a:pt x="1279" y="1100"/>
                  </a:lnTo>
                  <a:lnTo>
                    <a:pt x="1295" y="1100"/>
                  </a:lnTo>
                  <a:lnTo>
                    <a:pt x="1279" y="1084"/>
                  </a:lnTo>
                  <a:lnTo>
                    <a:pt x="1263" y="1100"/>
                  </a:lnTo>
                  <a:lnTo>
                    <a:pt x="1263" y="1116"/>
                  </a:lnTo>
                  <a:lnTo>
                    <a:pt x="1247" y="1133"/>
                  </a:lnTo>
                  <a:lnTo>
                    <a:pt x="1263" y="1149"/>
                  </a:lnTo>
                  <a:lnTo>
                    <a:pt x="1247" y="1165"/>
                  </a:lnTo>
                  <a:lnTo>
                    <a:pt x="1230" y="1181"/>
                  </a:lnTo>
                  <a:lnTo>
                    <a:pt x="1214" y="1230"/>
                  </a:lnTo>
                  <a:lnTo>
                    <a:pt x="1214" y="1246"/>
                  </a:lnTo>
                  <a:lnTo>
                    <a:pt x="1182" y="1311"/>
                  </a:lnTo>
                  <a:lnTo>
                    <a:pt x="1133" y="1327"/>
                  </a:lnTo>
                  <a:lnTo>
                    <a:pt x="1117" y="1327"/>
                  </a:lnTo>
                  <a:lnTo>
                    <a:pt x="1036" y="1343"/>
                  </a:lnTo>
                  <a:lnTo>
                    <a:pt x="1036" y="1343"/>
                  </a:lnTo>
                  <a:lnTo>
                    <a:pt x="971" y="1343"/>
                  </a:lnTo>
                  <a:lnTo>
                    <a:pt x="971" y="1327"/>
                  </a:lnTo>
                  <a:lnTo>
                    <a:pt x="971" y="1343"/>
                  </a:lnTo>
                  <a:lnTo>
                    <a:pt x="907" y="1343"/>
                  </a:lnTo>
                  <a:lnTo>
                    <a:pt x="891" y="1343"/>
                  </a:lnTo>
                  <a:lnTo>
                    <a:pt x="826" y="1343"/>
                  </a:lnTo>
                  <a:lnTo>
                    <a:pt x="810" y="1359"/>
                  </a:lnTo>
                  <a:lnTo>
                    <a:pt x="761" y="1359"/>
                  </a:lnTo>
                  <a:lnTo>
                    <a:pt x="745" y="1359"/>
                  </a:lnTo>
                  <a:lnTo>
                    <a:pt x="696" y="1359"/>
                  </a:lnTo>
                  <a:lnTo>
                    <a:pt x="648" y="1375"/>
                  </a:lnTo>
                  <a:lnTo>
                    <a:pt x="680" y="1327"/>
                  </a:lnTo>
                  <a:lnTo>
                    <a:pt x="680" y="1278"/>
                  </a:lnTo>
                  <a:lnTo>
                    <a:pt x="696" y="1262"/>
                  </a:lnTo>
                  <a:lnTo>
                    <a:pt x="713" y="1213"/>
                  </a:lnTo>
                  <a:lnTo>
                    <a:pt x="713" y="1133"/>
                  </a:lnTo>
                  <a:lnTo>
                    <a:pt x="696" y="1068"/>
                  </a:lnTo>
                  <a:lnTo>
                    <a:pt x="664" y="987"/>
                  </a:lnTo>
                  <a:lnTo>
                    <a:pt x="648" y="955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48" y="890"/>
                  </a:lnTo>
                  <a:lnTo>
                    <a:pt x="664" y="890"/>
                  </a:lnTo>
                  <a:lnTo>
                    <a:pt x="648" y="857"/>
                  </a:lnTo>
                  <a:lnTo>
                    <a:pt x="664" y="841"/>
                  </a:lnTo>
                  <a:lnTo>
                    <a:pt x="680" y="793"/>
                  </a:lnTo>
                  <a:lnTo>
                    <a:pt x="680" y="760"/>
                  </a:lnTo>
                  <a:lnTo>
                    <a:pt x="664" y="728"/>
                  </a:lnTo>
                  <a:lnTo>
                    <a:pt x="696" y="712"/>
                  </a:lnTo>
                  <a:lnTo>
                    <a:pt x="696" y="696"/>
                  </a:lnTo>
                  <a:lnTo>
                    <a:pt x="696" y="679"/>
                  </a:lnTo>
                  <a:lnTo>
                    <a:pt x="696" y="679"/>
                  </a:lnTo>
                  <a:lnTo>
                    <a:pt x="729" y="647"/>
                  </a:lnTo>
                  <a:lnTo>
                    <a:pt x="761" y="598"/>
                  </a:lnTo>
                  <a:lnTo>
                    <a:pt x="761" y="598"/>
                  </a:lnTo>
                  <a:lnTo>
                    <a:pt x="761" y="647"/>
                  </a:lnTo>
                  <a:lnTo>
                    <a:pt x="761" y="696"/>
                  </a:lnTo>
                  <a:lnTo>
                    <a:pt x="777" y="696"/>
                  </a:lnTo>
                  <a:lnTo>
                    <a:pt x="793" y="679"/>
                  </a:lnTo>
                  <a:lnTo>
                    <a:pt x="793" y="631"/>
                  </a:lnTo>
                  <a:lnTo>
                    <a:pt x="793" y="598"/>
                  </a:lnTo>
                  <a:lnTo>
                    <a:pt x="793" y="582"/>
                  </a:lnTo>
                  <a:lnTo>
                    <a:pt x="793" y="566"/>
                  </a:lnTo>
                  <a:lnTo>
                    <a:pt x="826" y="550"/>
                  </a:lnTo>
                  <a:lnTo>
                    <a:pt x="842" y="550"/>
                  </a:lnTo>
                  <a:lnTo>
                    <a:pt x="858" y="550"/>
                  </a:lnTo>
                  <a:lnTo>
                    <a:pt x="826" y="534"/>
                  </a:lnTo>
                  <a:lnTo>
                    <a:pt x="826" y="518"/>
                  </a:lnTo>
                  <a:lnTo>
                    <a:pt x="826" y="501"/>
                  </a:lnTo>
                  <a:lnTo>
                    <a:pt x="842" y="485"/>
                  </a:lnTo>
                  <a:lnTo>
                    <a:pt x="842" y="469"/>
                  </a:lnTo>
                  <a:lnTo>
                    <a:pt x="874" y="453"/>
                  </a:lnTo>
                  <a:lnTo>
                    <a:pt x="923" y="485"/>
                  </a:lnTo>
                  <a:lnTo>
                    <a:pt x="939" y="485"/>
                  </a:lnTo>
                  <a:lnTo>
                    <a:pt x="955" y="485"/>
                  </a:lnTo>
                  <a:lnTo>
                    <a:pt x="971" y="501"/>
                  </a:lnTo>
                  <a:lnTo>
                    <a:pt x="971" y="518"/>
                  </a:lnTo>
                  <a:lnTo>
                    <a:pt x="1004" y="501"/>
                  </a:lnTo>
                  <a:lnTo>
                    <a:pt x="1036" y="518"/>
                  </a:lnTo>
                  <a:lnTo>
                    <a:pt x="1036" y="518"/>
                  </a:lnTo>
                  <a:lnTo>
                    <a:pt x="1052" y="534"/>
                  </a:lnTo>
                  <a:lnTo>
                    <a:pt x="1069" y="534"/>
                  </a:lnTo>
                  <a:lnTo>
                    <a:pt x="1069" y="534"/>
                  </a:lnTo>
                  <a:lnTo>
                    <a:pt x="1085" y="550"/>
                  </a:lnTo>
                  <a:lnTo>
                    <a:pt x="1085" y="550"/>
                  </a:lnTo>
                  <a:lnTo>
                    <a:pt x="1101" y="550"/>
                  </a:lnTo>
                  <a:lnTo>
                    <a:pt x="1117" y="582"/>
                  </a:lnTo>
                  <a:lnTo>
                    <a:pt x="1085" y="598"/>
                  </a:lnTo>
                  <a:lnTo>
                    <a:pt x="1101" y="598"/>
                  </a:lnTo>
                  <a:lnTo>
                    <a:pt x="1085" y="598"/>
                  </a:lnTo>
                  <a:lnTo>
                    <a:pt x="1101" y="615"/>
                  </a:lnTo>
                  <a:lnTo>
                    <a:pt x="1117" y="631"/>
                  </a:lnTo>
                  <a:lnTo>
                    <a:pt x="1133" y="663"/>
                  </a:lnTo>
                  <a:lnTo>
                    <a:pt x="1133" y="712"/>
                  </a:lnTo>
                  <a:lnTo>
                    <a:pt x="1117" y="744"/>
                  </a:lnTo>
                  <a:lnTo>
                    <a:pt x="1101" y="760"/>
                  </a:lnTo>
                  <a:lnTo>
                    <a:pt x="1101" y="793"/>
                  </a:lnTo>
                  <a:lnTo>
                    <a:pt x="1101" y="793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1676520"/>
              <a:ext cx="157320" cy="152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1371600"/>
              <a:ext cx="2201760" cy="580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orth Central Regio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34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72200" y="1447920"/>
            <a:ext cx="2133720" cy="1981080"/>
            <a:chOff x="6172200" y="1447920"/>
            <a:chExt cx="2133720" cy="1981080"/>
          </a:xfrm>
        </p:grpSpPr>
        <p:grpSp>
          <p:nvGrpSpPr>
            <p:cNvPr id="192" name=""/>
            <p:cNvGrpSpPr/>
            <p:nvPr/>
          </p:nvGrpSpPr>
          <p:grpSpPr>
            <a:xfrm>
              <a:off x="6267600" y="2352600"/>
              <a:ext cx="1047240" cy="1076400"/>
              <a:chOff x="6267600" y="2352600"/>
              <a:chExt cx="1047240" cy="1076400"/>
            </a:xfrm>
          </p:grpSpPr>
          <p:sp>
            <p:nvSpPr>
              <p:cNvPr id="193" name=""/>
              <p:cNvSpPr/>
              <p:nvPr/>
            </p:nvSpPr>
            <p:spPr>
              <a:xfrm>
                <a:off x="6267600" y="2892240"/>
                <a:ext cx="618840" cy="398520"/>
              </a:xfrm>
              <a:custGeom>
                <a:avLst/>
                <a:gdLst/>
                <a:ahLst/>
                <a:rect l="l" t="t" r="r" b="b"/>
                <a:pathLst>
                  <a:path w="1004" h="648">
                    <a:moveTo>
                      <a:pt x="728" y="518"/>
                    </a:moveTo>
                    <a:lnTo>
                      <a:pt x="680" y="535"/>
                    </a:lnTo>
                    <a:lnTo>
                      <a:pt x="648" y="535"/>
                    </a:lnTo>
                    <a:lnTo>
                      <a:pt x="615" y="551"/>
                    </a:lnTo>
                    <a:lnTo>
                      <a:pt x="583" y="551"/>
                    </a:lnTo>
                    <a:lnTo>
                      <a:pt x="567" y="551"/>
                    </a:lnTo>
                    <a:lnTo>
                      <a:pt x="470" y="567"/>
                    </a:lnTo>
                    <a:lnTo>
                      <a:pt x="437" y="583"/>
                    </a:lnTo>
                    <a:lnTo>
                      <a:pt x="421" y="583"/>
                    </a:lnTo>
                    <a:lnTo>
                      <a:pt x="356" y="599"/>
                    </a:lnTo>
                    <a:lnTo>
                      <a:pt x="340" y="599"/>
                    </a:lnTo>
                    <a:lnTo>
                      <a:pt x="259" y="615"/>
                    </a:lnTo>
                    <a:lnTo>
                      <a:pt x="243" y="615"/>
                    </a:lnTo>
                    <a:lnTo>
                      <a:pt x="194" y="632"/>
                    </a:lnTo>
                    <a:lnTo>
                      <a:pt x="178" y="632"/>
                    </a:lnTo>
                    <a:lnTo>
                      <a:pt x="97" y="648"/>
                    </a:lnTo>
                    <a:lnTo>
                      <a:pt x="81" y="648"/>
                    </a:lnTo>
                    <a:lnTo>
                      <a:pt x="65" y="599"/>
                    </a:lnTo>
                    <a:lnTo>
                      <a:pt x="65" y="583"/>
                    </a:lnTo>
                    <a:lnTo>
                      <a:pt x="65" y="551"/>
                    </a:lnTo>
                    <a:lnTo>
                      <a:pt x="49" y="502"/>
                    </a:lnTo>
                    <a:lnTo>
                      <a:pt x="49" y="486"/>
                    </a:lnTo>
                    <a:lnTo>
                      <a:pt x="49" y="454"/>
                    </a:lnTo>
                    <a:lnTo>
                      <a:pt x="33" y="405"/>
                    </a:lnTo>
                    <a:lnTo>
                      <a:pt x="33" y="389"/>
                    </a:lnTo>
                    <a:lnTo>
                      <a:pt x="33" y="340"/>
                    </a:lnTo>
                    <a:lnTo>
                      <a:pt x="16" y="259"/>
                    </a:lnTo>
                    <a:lnTo>
                      <a:pt x="16" y="259"/>
                    </a:lnTo>
                    <a:lnTo>
                      <a:pt x="0" y="178"/>
                    </a:lnTo>
                    <a:lnTo>
                      <a:pt x="0" y="146"/>
                    </a:lnTo>
                    <a:lnTo>
                      <a:pt x="97" y="65"/>
                    </a:lnTo>
                    <a:lnTo>
                      <a:pt x="113" y="130"/>
                    </a:lnTo>
                    <a:lnTo>
                      <a:pt x="146" y="130"/>
                    </a:lnTo>
                    <a:lnTo>
                      <a:pt x="227" y="114"/>
                    </a:lnTo>
                    <a:lnTo>
                      <a:pt x="243" y="114"/>
                    </a:lnTo>
                    <a:lnTo>
                      <a:pt x="340" y="81"/>
                    </a:lnTo>
                    <a:lnTo>
                      <a:pt x="356" y="81"/>
                    </a:lnTo>
                    <a:lnTo>
                      <a:pt x="437" y="65"/>
                    </a:lnTo>
                    <a:lnTo>
                      <a:pt x="453" y="65"/>
                    </a:lnTo>
                    <a:lnTo>
                      <a:pt x="550" y="49"/>
                    </a:lnTo>
                    <a:lnTo>
                      <a:pt x="567" y="49"/>
                    </a:lnTo>
                    <a:lnTo>
                      <a:pt x="615" y="33"/>
                    </a:lnTo>
                    <a:lnTo>
                      <a:pt x="680" y="17"/>
                    </a:lnTo>
                    <a:lnTo>
                      <a:pt x="696" y="17"/>
                    </a:lnTo>
                    <a:lnTo>
                      <a:pt x="793" y="0"/>
                    </a:lnTo>
                    <a:lnTo>
                      <a:pt x="809" y="0"/>
                    </a:lnTo>
                    <a:lnTo>
                      <a:pt x="826" y="0"/>
                    </a:lnTo>
                    <a:lnTo>
                      <a:pt x="842" y="17"/>
                    </a:lnTo>
                    <a:lnTo>
                      <a:pt x="858" y="17"/>
                    </a:lnTo>
                    <a:lnTo>
                      <a:pt x="874" y="33"/>
                    </a:lnTo>
                    <a:lnTo>
                      <a:pt x="874" y="65"/>
                    </a:lnTo>
                    <a:lnTo>
                      <a:pt x="890" y="98"/>
                    </a:lnTo>
                    <a:lnTo>
                      <a:pt x="939" y="98"/>
                    </a:lnTo>
                    <a:lnTo>
                      <a:pt x="955" y="114"/>
                    </a:lnTo>
                    <a:lnTo>
                      <a:pt x="923" y="130"/>
                    </a:lnTo>
                    <a:lnTo>
                      <a:pt x="923" y="162"/>
                    </a:lnTo>
                    <a:lnTo>
                      <a:pt x="906" y="178"/>
                    </a:lnTo>
                    <a:lnTo>
                      <a:pt x="923" y="178"/>
                    </a:lnTo>
                    <a:lnTo>
                      <a:pt x="890" y="211"/>
                    </a:lnTo>
                    <a:lnTo>
                      <a:pt x="906" y="227"/>
                    </a:lnTo>
                    <a:lnTo>
                      <a:pt x="906" y="227"/>
                    </a:lnTo>
                    <a:lnTo>
                      <a:pt x="906" y="243"/>
                    </a:lnTo>
                    <a:lnTo>
                      <a:pt x="890" y="259"/>
                    </a:lnTo>
                    <a:lnTo>
                      <a:pt x="906" y="292"/>
                    </a:lnTo>
                    <a:lnTo>
                      <a:pt x="906" y="292"/>
                    </a:lnTo>
                    <a:lnTo>
                      <a:pt x="906" y="292"/>
                    </a:lnTo>
                    <a:lnTo>
                      <a:pt x="923" y="292"/>
                    </a:lnTo>
                    <a:lnTo>
                      <a:pt x="939" y="324"/>
                    </a:lnTo>
                    <a:lnTo>
                      <a:pt x="955" y="324"/>
                    </a:lnTo>
                    <a:lnTo>
                      <a:pt x="955" y="340"/>
                    </a:lnTo>
                    <a:lnTo>
                      <a:pt x="1004" y="373"/>
                    </a:lnTo>
                    <a:lnTo>
                      <a:pt x="971" y="405"/>
                    </a:lnTo>
                    <a:lnTo>
                      <a:pt x="955" y="421"/>
                    </a:lnTo>
                    <a:lnTo>
                      <a:pt x="939" y="421"/>
                    </a:lnTo>
                    <a:lnTo>
                      <a:pt x="939" y="437"/>
                    </a:lnTo>
                    <a:lnTo>
                      <a:pt x="939" y="454"/>
                    </a:lnTo>
                    <a:lnTo>
                      <a:pt x="923" y="454"/>
                    </a:lnTo>
                    <a:lnTo>
                      <a:pt x="906" y="470"/>
                    </a:lnTo>
                    <a:lnTo>
                      <a:pt x="874" y="470"/>
                    </a:lnTo>
                    <a:lnTo>
                      <a:pt x="858" y="470"/>
                    </a:lnTo>
                    <a:lnTo>
                      <a:pt x="842" y="502"/>
                    </a:lnTo>
                    <a:lnTo>
                      <a:pt x="793" y="502"/>
                    </a:lnTo>
                    <a:lnTo>
                      <a:pt x="777" y="518"/>
                    </a:lnTo>
                    <a:lnTo>
                      <a:pt x="728" y="5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86360" y="3181320"/>
                <a:ext cx="120240" cy="179280"/>
              </a:xfrm>
              <a:custGeom>
                <a:avLst/>
                <a:gdLst/>
                <a:ahLst/>
                <a:rect l="l" t="t" r="r" b="b"/>
                <a:pathLst>
                  <a:path w="194" h="291">
                    <a:moveTo>
                      <a:pt x="64" y="259"/>
                    </a:moveTo>
                    <a:lnTo>
                      <a:pt x="64" y="210"/>
                    </a:lnTo>
                    <a:lnTo>
                      <a:pt x="48" y="145"/>
                    </a:lnTo>
                    <a:lnTo>
                      <a:pt x="32" y="129"/>
                    </a:lnTo>
                    <a:lnTo>
                      <a:pt x="32" y="113"/>
                    </a:lnTo>
                    <a:lnTo>
                      <a:pt x="32" y="97"/>
                    </a:lnTo>
                    <a:lnTo>
                      <a:pt x="0" y="32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81"/>
                    </a:lnTo>
                    <a:lnTo>
                      <a:pt x="64" y="97"/>
                    </a:lnTo>
                    <a:lnTo>
                      <a:pt x="97" y="113"/>
                    </a:lnTo>
                    <a:lnTo>
                      <a:pt x="97" y="145"/>
                    </a:lnTo>
                    <a:lnTo>
                      <a:pt x="113" y="162"/>
                    </a:lnTo>
                    <a:lnTo>
                      <a:pt x="129" y="178"/>
                    </a:lnTo>
                    <a:lnTo>
                      <a:pt x="145" y="210"/>
                    </a:lnTo>
                    <a:lnTo>
                      <a:pt x="162" y="194"/>
                    </a:lnTo>
                    <a:lnTo>
                      <a:pt x="194" y="275"/>
                    </a:lnTo>
                    <a:lnTo>
                      <a:pt x="178" y="275"/>
                    </a:lnTo>
                    <a:lnTo>
                      <a:pt x="178" y="275"/>
                    </a:lnTo>
                    <a:lnTo>
                      <a:pt x="145" y="291"/>
                    </a:lnTo>
                    <a:lnTo>
                      <a:pt x="81" y="291"/>
                    </a:lnTo>
                    <a:lnTo>
                      <a:pt x="81" y="275"/>
                    </a:lnTo>
                    <a:lnTo>
                      <a:pt x="64" y="25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18080" y="3200400"/>
                <a:ext cx="488520" cy="228600"/>
              </a:xfrm>
              <a:custGeom>
                <a:avLst/>
                <a:gdLst/>
                <a:ahLst/>
                <a:rect l="l" t="t" r="r" b="b"/>
                <a:pathLst>
                  <a:path w="793" h="372">
                    <a:moveTo>
                      <a:pt x="566" y="194"/>
                    </a:moveTo>
                    <a:lnTo>
                      <a:pt x="550" y="178"/>
                    </a:lnTo>
                    <a:lnTo>
                      <a:pt x="550" y="178"/>
                    </a:lnTo>
                    <a:lnTo>
                      <a:pt x="550" y="178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211"/>
                    </a:lnTo>
                    <a:lnTo>
                      <a:pt x="550" y="178"/>
                    </a:lnTo>
                    <a:lnTo>
                      <a:pt x="550" y="162"/>
                    </a:lnTo>
                    <a:lnTo>
                      <a:pt x="566" y="178"/>
                    </a:lnTo>
                    <a:lnTo>
                      <a:pt x="566" y="178"/>
                    </a:lnTo>
                    <a:lnTo>
                      <a:pt x="566" y="178"/>
                    </a:lnTo>
                    <a:lnTo>
                      <a:pt x="566" y="194"/>
                    </a:lnTo>
                    <a:lnTo>
                      <a:pt x="566" y="194"/>
                    </a:lnTo>
                    <a:close/>
                    <a:moveTo>
                      <a:pt x="777" y="243"/>
                    </a:moveTo>
                    <a:lnTo>
                      <a:pt x="793" y="243"/>
                    </a:lnTo>
                    <a:lnTo>
                      <a:pt x="793" y="275"/>
                    </a:lnTo>
                    <a:lnTo>
                      <a:pt x="777" y="243"/>
                    </a:lnTo>
                    <a:lnTo>
                      <a:pt x="777" y="243"/>
                    </a:lnTo>
                    <a:close/>
                    <a:moveTo>
                      <a:pt x="777" y="340"/>
                    </a:moveTo>
                    <a:lnTo>
                      <a:pt x="793" y="275"/>
                    </a:lnTo>
                    <a:lnTo>
                      <a:pt x="777" y="340"/>
                    </a:lnTo>
                    <a:lnTo>
                      <a:pt x="777" y="340"/>
                    </a:lnTo>
                    <a:lnTo>
                      <a:pt x="777" y="340"/>
                    </a:lnTo>
                    <a:close/>
                    <a:moveTo>
                      <a:pt x="761" y="324"/>
                    </a:move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close/>
                    <a:moveTo>
                      <a:pt x="761" y="324"/>
                    </a:move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lnTo>
                      <a:pt x="744" y="340"/>
                    </a:lnTo>
                    <a:lnTo>
                      <a:pt x="761" y="340"/>
                    </a:lnTo>
                    <a:lnTo>
                      <a:pt x="712" y="356"/>
                    </a:lnTo>
                    <a:lnTo>
                      <a:pt x="712" y="372"/>
                    </a:lnTo>
                    <a:lnTo>
                      <a:pt x="680" y="372"/>
                    </a:lnTo>
                    <a:lnTo>
                      <a:pt x="680" y="340"/>
                    </a:lnTo>
                    <a:lnTo>
                      <a:pt x="663" y="324"/>
                    </a:lnTo>
                    <a:lnTo>
                      <a:pt x="663" y="324"/>
                    </a:lnTo>
                    <a:lnTo>
                      <a:pt x="663" y="324"/>
                    </a:lnTo>
                    <a:lnTo>
                      <a:pt x="680" y="308"/>
                    </a:lnTo>
                    <a:lnTo>
                      <a:pt x="663" y="308"/>
                    </a:lnTo>
                    <a:lnTo>
                      <a:pt x="663" y="291"/>
                    </a:lnTo>
                    <a:lnTo>
                      <a:pt x="647" y="291"/>
                    </a:lnTo>
                    <a:lnTo>
                      <a:pt x="647" y="308"/>
                    </a:lnTo>
                    <a:lnTo>
                      <a:pt x="631" y="308"/>
                    </a:lnTo>
                    <a:lnTo>
                      <a:pt x="631" y="308"/>
                    </a:lnTo>
                    <a:lnTo>
                      <a:pt x="631" y="324"/>
                    </a:lnTo>
                    <a:lnTo>
                      <a:pt x="583" y="291"/>
                    </a:lnTo>
                    <a:lnTo>
                      <a:pt x="583" y="275"/>
                    </a:lnTo>
                    <a:lnTo>
                      <a:pt x="599" y="259"/>
                    </a:lnTo>
                    <a:lnTo>
                      <a:pt x="583" y="259"/>
                    </a:lnTo>
                    <a:lnTo>
                      <a:pt x="615" y="259"/>
                    </a:lnTo>
                    <a:lnTo>
                      <a:pt x="615" y="243"/>
                    </a:lnTo>
                    <a:lnTo>
                      <a:pt x="615" y="243"/>
                    </a:lnTo>
                    <a:lnTo>
                      <a:pt x="615" y="243"/>
                    </a:lnTo>
                    <a:lnTo>
                      <a:pt x="599" y="227"/>
                    </a:lnTo>
                    <a:lnTo>
                      <a:pt x="583" y="227"/>
                    </a:lnTo>
                    <a:lnTo>
                      <a:pt x="583" y="211"/>
                    </a:lnTo>
                    <a:lnTo>
                      <a:pt x="566" y="211"/>
                    </a:lnTo>
                    <a:lnTo>
                      <a:pt x="566" y="243"/>
                    </a:lnTo>
                    <a:lnTo>
                      <a:pt x="566" y="243"/>
                    </a:lnTo>
                    <a:lnTo>
                      <a:pt x="566" y="211"/>
                    </a:lnTo>
                    <a:lnTo>
                      <a:pt x="583" y="211"/>
                    </a:lnTo>
                    <a:lnTo>
                      <a:pt x="583" y="211"/>
                    </a:lnTo>
                    <a:lnTo>
                      <a:pt x="599" y="194"/>
                    </a:lnTo>
                    <a:lnTo>
                      <a:pt x="599" y="178"/>
                    </a:lnTo>
                    <a:lnTo>
                      <a:pt x="599" y="178"/>
                    </a:lnTo>
                    <a:lnTo>
                      <a:pt x="599" y="178"/>
                    </a:lnTo>
                    <a:lnTo>
                      <a:pt x="583" y="178"/>
                    </a:lnTo>
                    <a:lnTo>
                      <a:pt x="566" y="178"/>
                    </a:lnTo>
                    <a:lnTo>
                      <a:pt x="583" y="130"/>
                    </a:lnTo>
                    <a:lnTo>
                      <a:pt x="566" y="146"/>
                    </a:lnTo>
                    <a:lnTo>
                      <a:pt x="566" y="146"/>
                    </a:lnTo>
                    <a:lnTo>
                      <a:pt x="566" y="130"/>
                    </a:lnTo>
                    <a:lnTo>
                      <a:pt x="566" y="97"/>
                    </a:lnTo>
                    <a:lnTo>
                      <a:pt x="583" y="81"/>
                    </a:lnTo>
                    <a:lnTo>
                      <a:pt x="615" y="65"/>
                    </a:lnTo>
                    <a:lnTo>
                      <a:pt x="583" y="65"/>
                    </a:lnTo>
                    <a:lnTo>
                      <a:pt x="599" y="49"/>
                    </a:lnTo>
                    <a:lnTo>
                      <a:pt x="583" y="49"/>
                    </a:lnTo>
                    <a:lnTo>
                      <a:pt x="566" y="33"/>
                    </a:lnTo>
                    <a:lnTo>
                      <a:pt x="566" y="49"/>
                    </a:lnTo>
                    <a:lnTo>
                      <a:pt x="566" y="81"/>
                    </a:lnTo>
                    <a:lnTo>
                      <a:pt x="550" y="81"/>
                    </a:lnTo>
                    <a:lnTo>
                      <a:pt x="534" y="81"/>
                    </a:lnTo>
                    <a:lnTo>
                      <a:pt x="534" y="130"/>
                    </a:lnTo>
                    <a:lnTo>
                      <a:pt x="502" y="130"/>
                    </a:lnTo>
                    <a:lnTo>
                      <a:pt x="502" y="130"/>
                    </a:lnTo>
                    <a:lnTo>
                      <a:pt x="502" y="130"/>
                    </a:lnTo>
                    <a:lnTo>
                      <a:pt x="502" y="130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30"/>
                    </a:lnTo>
                    <a:lnTo>
                      <a:pt x="534" y="146"/>
                    </a:lnTo>
                    <a:lnTo>
                      <a:pt x="534" y="194"/>
                    </a:lnTo>
                    <a:lnTo>
                      <a:pt x="518" y="227"/>
                    </a:lnTo>
                    <a:lnTo>
                      <a:pt x="534" y="243"/>
                    </a:lnTo>
                    <a:lnTo>
                      <a:pt x="550" y="275"/>
                    </a:lnTo>
                    <a:lnTo>
                      <a:pt x="566" y="308"/>
                    </a:lnTo>
                    <a:lnTo>
                      <a:pt x="566" y="308"/>
                    </a:lnTo>
                    <a:lnTo>
                      <a:pt x="566" y="324"/>
                    </a:lnTo>
                    <a:lnTo>
                      <a:pt x="550" y="324"/>
                    </a:lnTo>
                    <a:lnTo>
                      <a:pt x="550" y="308"/>
                    </a:lnTo>
                    <a:lnTo>
                      <a:pt x="518" y="291"/>
                    </a:lnTo>
                    <a:lnTo>
                      <a:pt x="583" y="340"/>
                    </a:lnTo>
                    <a:lnTo>
                      <a:pt x="599" y="372"/>
                    </a:lnTo>
                    <a:lnTo>
                      <a:pt x="550" y="340"/>
                    </a:lnTo>
                    <a:lnTo>
                      <a:pt x="518" y="356"/>
                    </a:lnTo>
                    <a:lnTo>
                      <a:pt x="485" y="324"/>
                    </a:lnTo>
                    <a:lnTo>
                      <a:pt x="485" y="340"/>
                    </a:lnTo>
                    <a:lnTo>
                      <a:pt x="469" y="340"/>
                    </a:lnTo>
                    <a:lnTo>
                      <a:pt x="469" y="324"/>
                    </a:lnTo>
                    <a:lnTo>
                      <a:pt x="437" y="324"/>
                    </a:lnTo>
                    <a:lnTo>
                      <a:pt x="421" y="324"/>
                    </a:lnTo>
                    <a:lnTo>
                      <a:pt x="421" y="308"/>
                    </a:lnTo>
                    <a:lnTo>
                      <a:pt x="437" y="275"/>
                    </a:lnTo>
                    <a:lnTo>
                      <a:pt x="437" y="259"/>
                    </a:lnTo>
                    <a:lnTo>
                      <a:pt x="453" y="259"/>
                    </a:lnTo>
                    <a:lnTo>
                      <a:pt x="437" y="243"/>
                    </a:lnTo>
                    <a:lnTo>
                      <a:pt x="453" y="211"/>
                    </a:lnTo>
                    <a:lnTo>
                      <a:pt x="437" y="194"/>
                    </a:lnTo>
                    <a:lnTo>
                      <a:pt x="437" y="194"/>
                    </a:lnTo>
                    <a:lnTo>
                      <a:pt x="421" y="211"/>
                    </a:lnTo>
                    <a:lnTo>
                      <a:pt x="421" y="211"/>
                    </a:lnTo>
                    <a:lnTo>
                      <a:pt x="405" y="211"/>
                    </a:lnTo>
                    <a:lnTo>
                      <a:pt x="405" y="194"/>
                    </a:lnTo>
                    <a:lnTo>
                      <a:pt x="388" y="194"/>
                    </a:lnTo>
                    <a:lnTo>
                      <a:pt x="372" y="194"/>
                    </a:lnTo>
                    <a:lnTo>
                      <a:pt x="356" y="178"/>
                    </a:lnTo>
                    <a:lnTo>
                      <a:pt x="356" y="178"/>
                    </a:lnTo>
                    <a:lnTo>
                      <a:pt x="356" y="162"/>
                    </a:lnTo>
                    <a:lnTo>
                      <a:pt x="340" y="146"/>
                    </a:lnTo>
                    <a:lnTo>
                      <a:pt x="307" y="146"/>
                    </a:lnTo>
                    <a:lnTo>
                      <a:pt x="307" y="146"/>
                    </a:lnTo>
                    <a:lnTo>
                      <a:pt x="307" y="146"/>
                    </a:lnTo>
                    <a:lnTo>
                      <a:pt x="307" y="130"/>
                    </a:lnTo>
                    <a:lnTo>
                      <a:pt x="291" y="130"/>
                    </a:lnTo>
                    <a:lnTo>
                      <a:pt x="291" y="113"/>
                    </a:lnTo>
                    <a:lnTo>
                      <a:pt x="291" y="113"/>
                    </a:lnTo>
                    <a:lnTo>
                      <a:pt x="275" y="113"/>
                    </a:lnTo>
                    <a:lnTo>
                      <a:pt x="275" y="97"/>
                    </a:lnTo>
                    <a:lnTo>
                      <a:pt x="275" y="113"/>
                    </a:lnTo>
                    <a:lnTo>
                      <a:pt x="275" y="97"/>
                    </a:lnTo>
                    <a:lnTo>
                      <a:pt x="275" y="97"/>
                    </a:lnTo>
                    <a:lnTo>
                      <a:pt x="275" y="97"/>
                    </a:lnTo>
                    <a:lnTo>
                      <a:pt x="259" y="97"/>
                    </a:lnTo>
                    <a:lnTo>
                      <a:pt x="259" y="97"/>
                    </a:lnTo>
                    <a:lnTo>
                      <a:pt x="243" y="97"/>
                    </a:lnTo>
                    <a:lnTo>
                      <a:pt x="210" y="81"/>
                    </a:lnTo>
                    <a:lnTo>
                      <a:pt x="210" y="97"/>
                    </a:lnTo>
                    <a:lnTo>
                      <a:pt x="194" y="97"/>
                    </a:lnTo>
                    <a:lnTo>
                      <a:pt x="178" y="97"/>
                    </a:lnTo>
                    <a:lnTo>
                      <a:pt x="178" y="113"/>
                    </a:lnTo>
                    <a:lnTo>
                      <a:pt x="178" y="113"/>
                    </a:lnTo>
                    <a:lnTo>
                      <a:pt x="178" y="113"/>
                    </a:lnTo>
                    <a:lnTo>
                      <a:pt x="178" y="130"/>
                    </a:lnTo>
                    <a:lnTo>
                      <a:pt x="146" y="130"/>
                    </a:lnTo>
                    <a:lnTo>
                      <a:pt x="129" y="130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13" y="130"/>
                    </a:lnTo>
                    <a:lnTo>
                      <a:pt x="113" y="130"/>
                    </a:lnTo>
                    <a:lnTo>
                      <a:pt x="97" y="162"/>
                    </a:lnTo>
                    <a:lnTo>
                      <a:pt x="81" y="146"/>
                    </a:lnTo>
                    <a:lnTo>
                      <a:pt x="48" y="194"/>
                    </a:lnTo>
                    <a:lnTo>
                      <a:pt x="16" y="227"/>
                    </a:lnTo>
                    <a:lnTo>
                      <a:pt x="0" y="113"/>
                    </a:lnTo>
                    <a:lnTo>
                      <a:pt x="16" y="113"/>
                    </a:lnTo>
                    <a:lnTo>
                      <a:pt x="97" y="97"/>
                    </a:lnTo>
                    <a:lnTo>
                      <a:pt x="113" y="97"/>
                    </a:lnTo>
                    <a:lnTo>
                      <a:pt x="178" y="81"/>
                    </a:lnTo>
                    <a:lnTo>
                      <a:pt x="194" y="81"/>
                    </a:lnTo>
                    <a:lnTo>
                      <a:pt x="227" y="65"/>
                    </a:lnTo>
                    <a:lnTo>
                      <a:pt x="324" y="49"/>
                    </a:lnTo>
                    <a:lnTo>
                      <a:pt x="340" y="49"/>
                    </a:lnTo>
                    <a:lnTo>
                      <a:pt x="372" y="49"/>
                    </a:lnTo>
                    <a:lnTo>
                      <a:pt x="405" y="33"/>
                    </a:lnTo>
                    <a:lnTo>
                      <a:pt x="437" y="33"/>
                    </a:lnTo>
                    <a:lnTo>
                      <a:pt x="485" y="16"/>
                    </a:lnTo>
                    <a:lnTo>
                      <a:pt x="534" y="16"/>
                    </a:lnTo>
                    <a:lnTo>
                      <a:pt x="550" y="0"/>
                    </a:lnTo>
                    <a:lnTo>
                      <a:pt x="599" y="0"/>
                    </a:lnTo>
                    <a:lnTo>
                      <a:pt x="631" y="65"/>
                    </a:lnTo>
                    <a:lnTo>
                      <a:pt x="631" y="81"/>
                    </a:lnTo>
                    <a:lnTo>
                      <a:pt x="631" y="97"/>
                    </a:lnTo>
                    <a:lnTo>
                      <a:pt x="647" y="113"/>
                    </a:lnTo>
                    <a:lnTo>
                      <a:pt x="663" y="178"/>
                    </a:lnTo>
                    <a:lnTo>
                      <a:pt x="663" y="227"/>
                    </a:lnTo>
                    <a:lnTo>
                      <a:pt x="680" y="243"/>
                    </a:lnTo>
                    <a:lnTo>
                      <a:pt x="680" y="259"/>
                    </a:lnTo>
                    <a:lnTo>
                      <a:pt x="744" y="259"/>
                    </a:lnTo>
                    <a:lnTo>
                      <a:pt x="777" y="243"/>
                    </a:lnTo>
                    <a:lnTo>
                      <a:pt x="777" y="259"/>
                    </a:lnTo>
                    <a:lnTo>
                      <a:pt x="777" y="291"/>
                    </a:lnTo>
                    <a:lnTo>
                      <a:pt x="761" y="308"/>
                    </a:lnTo>
                    <a:lnTo>
                      <a:pt x="761" y="324"/>
                    </a:lnTo>
                    <a:lnTo>
                      <a:pt x="761" y="324"/>
                    </a:lnTo>
                    <a:close/>
                    <a:moveTo>
                      <a:pt x="761" y="324"/>
                    </a:move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46920" y="2662200"/>
                <a:ext cx="367920" cy="209520"/>
              </a:xfrm>
              <a:custGeom>
                <a:avLst/>
                <a:gdLst/>
                <a:ahLst/>
                <a:rect l="l" t="t" r="r" b="b"/>
                <a:pathLst>
                  <a:path w="598" h="340">
                    <a:moveTo>
                      <a:pt x="0" y="292"/>
                    </a:moveTo>
                    <a:lnTo>
                      <a:pt x="0" y="275"/>
                    </a:lnTo>
                    <a:lnTo>
                      <a:pt x="0" y="178"/>
                    </a:lnTo>
                    <a:lnTo>
                      <a:pt x="0" y="130"/>
                    </a:lnTo>
                    <a:lnTo>
                      <a:pt x="32" y="130"/>
                    </a:lnTo>
                    <a:lnTo>
                      <a:pt x="48" y="113"/>
                    </a:lnTo>
                    <a:lnTo>
                      <a:pt x="129" y="97"/>
                    </a:lnTo>
                    <a:lnTo>
                      <a:pt x="162" y="97"/>
                    </a:lnTo>
                    <a:lnTo>
                      <a:pt x="210" y="81"/>
                    </a:lnTo>
                    <a:lnTo>
                      <a:pt x="210" y="81"/>
                    </a:lnTo>
                    <a:lnTo>
                      <a:pt x="307" y="65"/>
                    </a:lnTo>
                    <a:lnTo>
                      <a:pt x="307" y="49"/>
                    </a:lnTo>
                    <a:lnTo>
                      <a:pt x="307" y="49"/>
                    </a:lnTo>
                    <a:lnTo>
                      <a:pt x="323" y="49"/>
                    </a:lnTo>
                    <a:lnTo>
                      <a:pt x="323" y="33"/>
                    </a:lnTo>
                    <a:lnTo>
                      <a:pt x="340" y="33"/>
                    </a:lnTo>
                    <a:lnTo>
                      <a:pt x="340" y="16"/>
                    </a:lnTo>
                    <a:lnTo>
                      <a:pt x="356" y="0"/>
                    </a:lnTo>
                    <a:lnTo>
                      <a:pt x="372" y="0"/>
                    </a:lnTo>
                    <a:lnTo>
                      <a:pt x="388" y="49"/>
                    </a:lnTo>
                    <a:lnTo>
                      <a:pt x="420" y="49"/>
                    </a:lnTo>
                    <a:lnTo>
                      <a:pt x="420" y="65"/>
                    </a:lnTo>
                    <a:lnTo>
                      <a:pt x="388" y="81"/>
                    </a:lnTo>
                    <a:lnTo>
                      <a:pt x="388" y="97"/>
                    </a:lnTo>
                    <a:lnTo>
                      <a:pt x="372" y="113"/>
                    </a:lnTo>
                    <a:lnTo>
                      <a:pt x="372" y="146"/>
                    </a:lnTo>
                    <a:lnTo>
                      <a:pt x="388" y="146"/>
                    </a:lnTo>
                    <a:lnTo>
                      <a:pt x="388" y="146"/>
                    </a:lnTo>
                    <a:lnTo>
                      <a:pt x="404" y="130"/>
                    </a:lnTo>
                    <a:lnTo>
                      <a:pt x="420" y="130"/>
                    </a:lnTo>
                    <a:lnTo>
                      <a:pt x="437" y="146"/>
                    </a:lnTo>
                    <a:lnTo>
                      <a:pt x="453" y="194"/>
                    </a:lnTo>
                    <a:lnTo>
                      <a:pt x="469" y="194"/>
                    </a:lnTo>
                    <a:lnTo>
                      <a:pt x="469" y="227"/>
                    </a:lnTo>
                    <a:lnTo>
                      <a:pt x="501" y="227"/>
                    </a:lnTo>
                    <a:lnTo>
                      <a:pt x="518" y="227"/>
                    </a:lnTo>
                    <a:lnTo>
                      <a:pt x="518" y="227"/>
                    </a:lnTo>
                    <a:lnTo>
                      <a:pt x="534" y="227"/>
                    </a:lnTo>
                    <a:lnTo>
                      <a:pt x="566" y="211"/>
                    </a:lnTo>
                    <a:lnTo>
                      <a:pt x="550" y="194"/>
                    </a:lnTo>
                    <a:lnTo>
                      <a:pt x="534" y="162"/>
                    </a:lnTo>
                    <a:lnTo>
                      <a:pt x="501" y="162"/>
                    </a:lnTo>
                    <a:lnTo>
                      <a:pt x="518" y="146"/>
                    </a:lnTo>
                    <a:lnTo>
                      <a:pt x="534" y="146"/>
                    </a:lnTo>
                    <a:lnTo>
                      <a:pt x="566" y="178"/>
                    </a:lnTo>
                    <a:lnTo>
                      <a:pt x="582" y="194"/>
                    </a:lnTo>
                    <a:lnTo>
                      <a:pt x="582" y="227"/>
                    </a:lnTo>
                    <a:lnTo>
                      <a:pt x="518" y="259"/>
                    </a:lnTo>
                    <a:lnTo>
                      <a:pt x="501" y="259"/>
                    </a:lnTo>
                    <a:lnTo>
                      <a:pt x="469" y="275"/>
                    </a:lnTo>
                    <a:lnTo>
                      <a:pt x="469" y="275"/>
                    </a:lnTo>
                    <a:lnTo>
                      <a:pt x="469" y="243"/>
                    </a:lnTo>
                    <a:lnTo>
                      <a:pt x="437" y="275"/>
                    </a:lnTo>
                    <a:lnTo>
                      <a:pt x="437" y="275"/>
                    </a:lnTo>
                    <a:lnTo>
                      <a:pt x="420" y="308"/>
                    </a:lnTo>
                    <a:lnTo>
                      <a:pt x="404" y="308"/>
                    </a:lnTo>
                    <a:lnTo>
                      <a:pt x="388" y="275"/>
                    </a:lnTo>
                    <a:lnTo>
                      <a:pt x="388" y="275"/>
                    </a:lnTo>
                    <a:lnTo>
                      <a:pt x="372" y="275"/>
                    </a:lnTo>
                    <a:lnTo>
                      <a:pt x="356" y="259"/>
                    </a:lnTo>
                    <a:lnTo>
                      <a:pt x="356" y="259"/>
                    </a:lnTo>
                    <a:lnTo>
                      <a:pt x="340" y="227"/>
                    </a:lnTo>
                    <a:lnTo>
                      <a:pt x="340" y="243"/>
                    </a:lnTo>
                    <a:lnTo>
                      <a:pt x="340" y="227"/>
                    </a:lnTo>
                    <a:lnTo>
                      <a:pt x="340" y="211"/>
                    </a:lnTo>
                    <a:lnTo>
                      <a:pt x="323" y="211"/>
                    </a:lnTo>
                    <a:lnTo>
                      <a:pt x="275" y="227"/>
                    </a:lnTo>
                    <a:lnTo>
                      <a:pt x="226" y="243"/>
                    </a:lnTo>
                    <a:lnTo>
                      <a:pt x="210" y="243"/>
                    </a:lnTo>
                    <a:lnTo>
                      <a:pt x="162" y="259"/>
                    </a:lnTo>
                    <a:lnTo>
                      <a:pt x="113" y="259"/>
                    </a:lnTo>
                    <a:lnTo>
                      <a:pt x="113" y="275"/>
                    </a:lnTo>
                    <a:lnTo>
                      <a:pt x="113" y="275"/>
                    </a:lnTo>
                    <a:lnTo>
                      <a:pt x="113" y="259"/>
                    </a:lnTo>
                    <a:lnTo>
                      <a:pt x="81" y="275"/>
                    </a:lnTo>
                    <a:lnTo>
                      <a:pt x="64" y="275"/>
                    </a:lnTo>
                    <a:lnTo>
                      <a:pt x="0" y="292"/>
                    </a:lnTo>
                    <a:lnTo>
                      <a:pt x="0" y="292"/>
                    </a:lnTo>
                    <a:close/>
                    <a:moveTo>
                      <a:pt x="582" y="308"/>
                    </a:moveTo>
                    <a:lnTo>
                      <a:pt x="582" y="292"/>
                    </a:lnTo>
                    <a:lnTo>
                      <a:pt x="582" y="292"/>
                    </a:lnTo>
                    <a:lnTo>
                      <a:pt x="582" y="308"/>
                    </a:lnTo>
                    <a:lnTo>
                      <a:pt x="582" y="292"/>
                    </a:lnTo>
                    <a:lnTo>
                      <a:pt x="582" y="292"/>
                    </a:lnTo>
                    <a:lnTo>
                      <a:pt x="598" y="308"/>
                    </a:lnTo>
                    <a:lnTo>
                      <a:pt x="598" y="308"/>
                    </a:lnTo>
                    <a:lnTo>
                      <a:pt x="582" y="324"/>
                    </a:lnTo>
                    <a:lnTo>
                      <a:pt x="566" y="324"/>
                    </a:lnTo>
                    <a:lnTo>
                      <a:pt x="566" y="308"/>
                    </a:lnTo>
                    <a:lnTo>
                      <a:pt x="582" y="308"/>
                    </a:lnTo>
                    <a:lnTo>
                      <a:pt x="582" y="308"/>
                    </a:lnTo>
                    <a:lnTo>
                      <a:pt x="582" y="308"/>
                    </a:lnTo>
                    <a:close/>
                    <a:moveTo>
                      <a:pt x="485" y="308"/>
                    </a:moveTo>
                    <a:lnTo>
                      <a:pt x="485" y="292"/>
                    </a:lnTo>
                    <a:lnTo>
                      <a:pt x="501" y="308"/>
                    </a:lnTo>
                    <a:lnTo>
                      <a:pt x="501" y="308"/>
                    </a:lnTo>
                    <a:lnTo>
                      <a:pt x="501" y="308"/>
                    </a:lnTo>
                    <a:lnTo>
                      <a:pt x="518" y="324"/>
                    </a:lnTo>
                    <a:lnTo>
                      <a:pt x="469" y="324"/>
                    </a:lnTo>
                    <a:lnTo>
                      <a:pt x="469" y="340"/>
                    </a:lnTo>
                    <a:lnTo>
                      <a:pt x="453" y="324"/>
                    </a:lnTo>
                    <a:lnTo>
                      <a:pt x="469" y="324"/>
                    </a:lnTo>
                    <a:lnTo>
                      <a:pt x="469" y="340"/>
                    </a:lnTo>
                    <a:lnTo>
                      <a:pt x="469" y="324"/>
                    </a:lnTo>
                    <a:lnTo>
                      <a:pt x="469" y="308"/>
                    </a:lnTo>
                    <a:lnTo>
                      <a:pt x="485" y="292"/>
                    </a:lnTo>
                    <a:lnTo>
                      <a:pt x="485" y="308"/>
                    </a:lnTo>
                    <a:lnTo>
                      <a:pt x="485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16480" y="2792520"/>
                <a:ext cx="79200" cy="9972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65" y="48"/>
                    </a:moveTo>
                    <a:lnTo>
                      <a:pt x="81" y="64"/>
                    </a:lnTo>
                    <a:lnTo>
                      <a:pt x="65" y="81"/>
                    </a:lnTo>
                    <a:lnTo>
                      <a:pt x="81" y="113"/>
                    </a:lnTo>
                    <a:lnTo>
                      <a:pt x="81" y="129"/>
                    </a:lnTo>
                    <a:lnTo>
                      <a:pt x="48" y="161"/>
                    </a:lnTo>
                    <a:lnTo>
                      <a:pt x="16" y="161"/>
                    </a:lnTo>
                    <a:lnTo>
                      <a:pt x="32" y="161"/>
                    </a:lnTo>
                    <a:lnTo>
                      <a:pt x="16" y="145"/>
                    </a:lnTo>
                    <a:lnTo>
                      <a:pt x="32" y="145"/>
                    </a:lnTo>
                    <a:lnTo>
                      <a:pt x="16" y="113"/>
                    </a:lnTo>
                    <a:lnTo>
                      <a:pt x="16" y="97"/>
                    </a:lnTo>
                    <a:lnTo>
                      <a:pt x="16" y="81"/>
                    </a:lnTo>
                    <a:lnTo>
                      <a:pt x="0" y="16"/>
                    </a:lnTo>
                    <a:lnTo>
                      <a:pt x="48" y="0"/>
                    </a:lnTo>
                    <a:lnTo>
                      <a:pt x="65" y="0"/>
                    </a:lnTo>
                    <a:lnTo>
                      <a:pt x="65" y="16"/>
                    </a:lnTo>
                    <a:lnTo>
                      <a:pt x="65" y="32"/>
                    </a:lnTo>
                    <a:lnTo>
                      <a:pt x="65" y="16"/>
                    </a:lnTo>
                    <a:lnTo>
                      <a:pt x="81" y="48"/>
                    </a:lnTo>
                    <a:lnTo>
                      <a:pt x="81" y="48"/>
                    </a:lnTo>
                    <a:lnTo>
                      <a:pt x="97" y="64"/>
                    </a:lnTo>
                    <a:lnTo>
                      <a:pt x="97" y="64"/>
                    </a:lnTo>
                    <a:lnTo>
                      <a:pt x="81" y="64"/>
                    </a:lnTo>
                    <a:lnTo>
                      <a:pt x="65" y="48"/>
                    </a:lnTo>
                    <a:lnTo>
                      <a:pt x="65" y="48"/>
                    </a:lnTo>
                    <a:close/>
                    <a:moveTo>
                      <a:pt x="113" y="64"/>
                    </a:moveTo>
                    <a:lnTo>
                      <a:pt x="113" y="64"/>
                    </a:lnTo>
                    <a:lnTo>
                      <a:pt x="129" y="97"/>
                    </a:lnTo>
                    <a:lnTo>
                      <a:pt x="113" y="113"/>
                    </a:lnTo>
                    <a:lnTo>
                      <a:pt x="113" y="64"/>
                    </a:lnTo>
                    <a:lnTo>
                      <a:pt x="113" y="64"/>
                    </a:lnTo>
                    <a:close/>
                    <a:moveTo>
                      <a:pt x="97" y="81"/>
                    </a:moveTo>
                    <a:lnTo>
                      <a:pt x="97" y="81"/>
                    </a:lnTo>
                    <a:lnTo>
                      <a:pt x="113" y="113"/>
                    </a:lnTo>
                    <a:lnTo>
                      <a:pt x="97" y="113"/>
                    </a:lnTo>
                    <a:lnTo>
                      <a:pt x="97" y="113"/>
                    </a:lnTo>
                    <a:lnTo>
                      <a:pt x="97" y="81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46920" y="2801880"/>
                <a:ext cx="188280" cy="179280"/>
              </a:xfrm>
              <a:custGeom>
                <a:avLst/>
                <a:gdLst/>
                <a:ahLst/>
                <a:rect l="l" t="t" r="r" b="b"/>
                <a:pathLst>
                  <a:path w="307" h="291">
                    <a:moveTo>
                      <a:pt x="16" y="145"/>
                    </a:moveTo>
                    <a:lnTo>
                      <a:pt x="0" y="65"/>
                    </a:lnTo>
                    <a:lnTo>
                      <a:pt x="64" y="48"/>
                    </a:lnTo>
                    <a:lnTo>
                      <a:pt x="81" y="48"/>
                    </a:lnTo>
                    <a:lnTo>
                      <a:pt x="113" y="32"/>
                    </a:lnTo>
                    <a:lnTo>
                      <a:pt x="113" y="48"/>
                    </a:lnTo>
                    <a:lnTo>
                      <a:pt x="113" y="48"/>
                    </a:lnTo>
                    <a:lnTo>
                      <a:pt x="113" y="32"/>
                    </a:lnTo>
                    <a:lnTo>
                      <a:pt x="162" y="32"/>
                    </a:lnTo>
                    <a:lnTo>
                      <a:pt x="210" y="16"/>
                    </a:lnTo>
                    <a:lnTo>
                      <a:pt x="226" y="16"/>
                    </a:lnTo>
                    <a:lnTo>
                      <a:pt x="275" y="0"/>
                    </a:lnTo>
                    <a:lnTo>
                      <a:pt x="291" y="65"/>
                    </a:lnTo>
                    <a:lnTo>
                      <a:pt x="291" y="81"/>
                    </a:lnTo>
                    <a:lnTo>
                      <a:pt x="291" y="97"/>
                    </a:lnTo>
                    <a:lnTo>
                      <a:pt x="307" y="129"/>
                    </a:lnTo>
                    <a:lnTo>
                      <a:pt x="291" y="129"/>
                    </a:lnTo>
                    <a:lnTo>
                      <a:pt x="307" y="145"/>
                    </a:lnTo>
                    <a:lnTo>
                      <a:pt x="291" y="145"/>
                    </a:lnTo>
                    <a:lnTo>
                      <a:pt x="226" y="178"/>
                    </a:lnTo>
                    <a:lnTo>
                      <a:pt x="226" y="178"/>
                    </a:lnTo>
                    <a:lnTo>
                      <a:pt x="210" y="162"/>
                    </a:lnTo>
                    <a:lnTo>
                      <a:pt x="210" y="178"/>
                    </a:lnTo>
                    <a:lnTo>
                      <a:pt x="194" y="194"/>
                    </a:lnTo>
                    <a:lnTo>
                      <a:pt x="129" y="210"/>
                    </a:lnTo>
                    <a:lnTo>
                      <a:pt x="113" y="243"/>
                    </a:lnTo>
                    <a:lnTo>
                      <a:pt x="32" y="291"/>
                    </a:lnTo>
                    <a:lnTo>
                      <a:pt x="16" y="275"/>
                    </a:lnTo>
                    <a:lnTo>
                      <a:pt x="48" y="243"/>
                    </a:lnTo>
                    <a:lnTo>
                      <a:pt x="32" y="226"/>
                    </a:lnTo>
                    <a:lnTo>
                      <a:pt x="32" y="210"/>
                    </a:lnTo>
                    <a:lnTo>
                      <a:pt x="16" y="178"/>
                    </a:lnTo>
                    <a:lnTo>
                      <a:pt x="1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05600" y="2352600"/>
                <a:ext cx="169560" cy="370080"/>
              </a:xfrm>
              <a:custGeom>
                <a:avLst/>
                <a:gdLst/>
                <a:ahLst/>
                <a:rect l="l" t="t" r="r" b="b"/>
                <a:pathLst>
                  <a:path w="275" h="599">
                    <a:moveTo>
                      <a:pt x="113" y="583"/>
                    </a:moveTo>
                    <a:lnTo>
                      <a:pt x="113" y="583"/>
                    </a:lnTo>
                    <a:lnTo>
                      <a:pt x="65" y="599"/>
                    </a:lnTo>
                    <a:lnTo>
                      <a:pt x="32" y="599"/>
                    </a:lnTo>
                    <a:lnTo>
                      <a:pt x="16" y="583"/>
                    </a:lnTo>
                    <a:lnTo>
                      <a:pt x="16" y="567"/>
                    </a:lnTo>
                    <a:lnTo>
                      <a:pt x="16" y="551"/>
                    </a:lnTo>
                    <a:lnTo>
                      <a:pt x="0" y="518"/>
                    </a:lnTo>
                    <a:lnTo>
                      <a:pt x="0" y="502"/>
                    </a:lnTo>
                    <a:lnTo>
                      <a:pt x="0" y="486"/>
                    </a:lnTo>
                    <a:lnTo>
                      <a:pt x="0" y="437"/>
                    </a:lnTo>
                    <a:lnTo>
                      <a:pt x="0" y="421"/>
                    </a:lnTo>
                    <a:lnTo>
                      <a:pt x="0" y="389"/>
                    </a:lnTo>
                    <a:lnTo>
                      <a:pt x="16" y="373"/>
                    </a:lnTo>
                    <a:lnTo>
                      <a:pt x="16" y="357"/>
                    </a:lnTo>
                    <a:lnTo>
                      <a:pt x="16" y="340"/>
                    </a:lnTo>
                    <a:lnTo>
                      <a:pt x="16" y="324"/>
                    </a:lnTo>
                    <a:lnTo>
                      <a:pt x="16" y="324"/>
                    </a:lnTo>
                    <a:lnTo>
                      <a:pt x="16" y="308"/>
                    </a:lnTo>
                    <a:lnTo>
                      <a:pt x="16" y="292"/>
                    </a:lnTo>
                    <a:lnTo>
                      <a:pt x="0" y="259"/>
                    </a:lnTo>
                    <a:lnTo>
                      <a:pt x="16" y="259"/>
                    </a:lnTo>
                    <a:lnTo>
                      <a:pt x="32" y="243"/>
                    </a:lnTo>
                    <a:lnTo>
                      <a:pt x="48" y="227"/>
                    </a:lnTo>
                    <a:lnTo>
                      <a:pt x="65" y="211"/>
                    </a:lnTo>
                    <a:lnTo>
                      <a:pt x="65" y="195"/>
                    </a:lnTo>
                    <a:lnTo>
                      <a:pt x="65" y="179"/>
                    </a:lnTo>
                    <a:lnTo>
                      <a:pt x="65" y="179"/>
                    </a:lnTo>
                    <a:lnTo>
                      <a:pt x="48" y="146"/>
                    </a:lnTo>
                    <a:lnTo>
                      <a:pt x="48" y="114"/>
                    </a:lnTo>
                    <a:lnTo>
                      <a:pt x="48" y="98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65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65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162" y="211"/>
                    </a:lnTo>
                    <a:lnTo>
                      <a:pt x="194" y="324"/>
                    </a:lnTo>
                    <a:lnTo>
                      <a:pt x="210" y="373"/>
                    </a:lnTo>
                    <a:lnTo>
                      <a:pt x="226" y="405"/>
                    </a:lnTo>
                    <a:lnTo>
                      <a:pt x="243" y="421"/>
                    </a:lnTo>
                    <a:lnTo>
                      <a:pt x="259" y="437"/>
                    </a:lnTo>
                    <a:lnTo>
                      <a:pt x="259" y="454"/>
                    </a:lnTo>
                    <a:lnTo>
                      <a:pt x="243" y="454"/>
                    </a:lnTo>
                    <a:lnTo>
                      <a:pt x="259" y="470"/>
                    </a:lnTo>
                    <a:lnTo>
                      <a:pt x="243" y="470"/>
                    </a:lnTo>
                    <a:lnTo>
                      <a:pt x="259" y="470"/>
                    </a:lnTo>
                    <a:lnTo>
                      <a:pt x="259" y="470"/>
                    </a:lnTo>
                    <a:lnTo>
                      <a:pt x="275" y="470"/>
                    </a:lnTo>
                    <a:lnTo>
                      <a:pt x="275" y="502"/>
                    </a:lnTo>
                    <a:lnTo>
                      <a:pt x="259" y="502"/>
                    </a:lnTo>
                    <a:lnTo>
                      <a:pt x="243" y="518"/>
                    </a:lnTo>
                    <a:lnTo>
                      <a:pt x="243" y="535"/>
                    </a:lnTo>
                    <a:lnTo>
                      <a:pt x="226" y="535"/>
                    </a:lnTo>
                    <a:lnTo>
                      <a:pt x="226" y="551"/>
                    </a:lnTo>
                    <a:lnTo>
                      <a:pt x="210" y="551"/>
                    </a:lnTo>
                    <a:lnTo>
                      <a:pt x="210" y="551"/>
                    </a:lnTo>
                    <a:lnTo>
                      <a:pt x="210" y="567"/>
                    </a:lnTo>
                    <a:lnTo>
                      <a:pt x="113" y="5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16600" y="2962080"/>
                <a:ext cx="139320" cy="319320"/>
              </a:xfrm>
              <a:custGeom>
                <a:avLst/>
                <a:gdLst/>
                <a:ahLst/>
                <a:rect l="l" t="t" r="r" b="b"/>
                <a:pathLst>
                  <a:path w="227" h="518">
                    <a:moveTo>
                      <a:pt x="16" y="372"/>
                    </a:moveTo>
                    <a:lnTo>
                      <a:pt x="16" y="356"/>
                    </a:lnTo>
                    <a:lnTo>
                      <a:pt x="16" y="356"/>
                    </a:lnTo>
                    <a:lnTo>
                      <a:pt x="33" y="340"/>
                    </a:lnTo>
                    <a:lnTo>
                      <a:pt x="49" y="340"/>
                    </a:lnTo>
                    <a:lnTo>
                      <a:pt x="49" y="323"/>
                    </a:lnTo>
                    <a:lnTo>
                      <a:pt x="49" y="307"/>
                    </a:lnTo>
                    <a:lnTo>
                      <a:pt x="65" y="307"/>
                    </a:lnTo>
                    <a:lnTo>
                      <a:pt x="81" y="291"/>
                    </a:lnTo>
                    <a:lnTo>
                      <a:pt x="114" y="259"/>
                    </a:lnTo>
                    <a:lnTo>
                      <a:pt x="65" y="226"/>
                    </a:lnTo>
                    <a:lnTo>
                      <a:pt x="65" y="210"/>
                    </a:lnTo>
                    <a:lnTo>
                      <a:pt x="49" y="210"/>
                    </a:lnTo>
                    <a:lnTo>
                      <a:pt x="33" y="178"/>
                    </a:lnTo>
                    <a:lnTo>
                      <a:pt x="16" y="178"/>
                    </a:lnTo>
                    <a:lnTo>
                      <a:pt x="16" y="178"/>
                    </a:lnTo>
                    <a:lnTo>
                      <a:pt x="16" y="178"/>
                    </a:lnTo>
                    <a:lnTo>
                      <a:pt x="0" y="145"/>
                    </a:lnTo>
                    <a:lnTo>
                      <a:pt x="16" y="129"/>
                    </a:lnTo>
                    <a:lnTo>
                      <a:pt x="16" y="113"/>
                    </a:lnTo>
                    <a:lnTo>
                      <a:pt x="16" y="113"/>
                    </a:lnTo>
                    <a:lnTo>
                      <a:pt x="0" y="97"/>
                    </a:lnTo>
                    <a:lnTo>
                      <a:pt x="33" y="64"/>
                    </a:lnTo>
                    <a:lnTo>
                      <a:pt x="16" y="64"/>
                    </a:lnTo>
                    <a:lnTo>
                      <a:pt x="33" y="48"/>
                    </a:lnTo>
                    <a:lnTo>
                      <a:pt x="33" y="16"/>
                    </a:lnTo>
                    <a:lnTo>
                      <a:pt x="65" y="0"/>
                    </a:lnTo>
                    <a:lnTo>
                      <a:pt x="114" y="16"/>
                    </a:lnTo>
                    <a:lnTo>
                      <a:pt x="146" y="32"/>
                    </a:lnTo>
                    <a:lnTo>
                      <a:pt x="146" y="32"/>
                    </a:lnTo>
                    <a:lnTo>
                      <a:pt x="194" y="48"/>
                    </a:lnTo>
                    <a:lnTo>
                      <a:pt x="211" y="64"/>
                    </a:lnTo>
                    <a:lnTo>
                      <a:pt x="211" y="64"/>
                    </a:lnTo>
                    <a:lnTo>
                      <a:pt x="194" y="81"/>
                    </a:lnTo>
                    <a:lnTo>
                      <a:pt x="194" y="113"/>
                    </a:lnTo>
                    <a:lnTo>
                      <a:pt x="178" y="129"/>
                    </a:lnTo>
                    <a:lnTo>
                      <a:pt x="178" y="113"/>
                    </a:lnTo>
                    <a:lnTo>
                      <a:pt x="178" y="113"/>
                    </a:lnTo>
                    <a:lnTo>
                      <a:pt x="178" y="14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78" y="178"/>
                    </a:lnTo>
                    <a:lnTo>
                      <a:pt x="194" y="162"/>
                    </a:lnTo>
                    <a:lnTo>
                      <a:pt x="227" y="194"/>
                    </a:lnTo>
                    <a:lnTo>
                      <a:pt x="227" y="242"/>
                    </a:lnTo>
                    <a:lnTo>
                      <a:pt x="211" y="242"/>
                    </a:lnTo>
                    <a:lnTo>
                      <a:pt x="211" y="242"/>
                    </a:lnTo>
                    <a:lnTo>
                      <a:pt x="227" y="242"/>
                    </a:lnTo>
                    <a:lnTo>
                      <a:pt x="227" y="242"/>
                    </a:lnTo>
                    <a:lnTo>
                      <a:pt x="211" y="259"/>
                    </a:lnTo>
                    <a:lnTo>
                      <a:pt x="227" y="259"/>
                    </a:lnTo>
                    <a:lnTo>
                      <a:pt x="211" y="291"/>
                    </a:lnTo>
                    <a:lnTo>
                      <a:pt x="227" y="323"/>
                    </a:lnTo>
                    <a:lnTo>
                      <a:pt x="211" y="356"/>
                    </a:lnTo>
                    <a:lnTo>
                      <a:pt x="211" y="356"/>
                    </a:lnTo>
                    <a:lnTo>
                      <a:pt x="211" y="372"/>
                    </a:lnTo>
                    <a:lnTo>
                      <a:pt x="194" y="372"/>
                    </a:lnTo>
                    <a:lnTo>
                      <a:pt x="194" y="388"/>
                    </a:lnTo>
                    <a:lnTo>
                      <a:pt x="194" y="404"/>
                    </a:lnTo>
                    <a:lnTo>
                      <a:pt x="194" y="404"/>
                    </a:lnTo>
                    <a:lnTo>
                      <a:pt x="162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46" y="501"/>
                    </a:lnTo>
                    <a:lnTo>
                      <a:pt x="146" y="501"/>
                    </a:lnTo>
                    <a:lnTo>
                      <a:pt x="146" y="518"/>
                    </a:lnTo>
                    <a:lnTo>
                      <a:pt x="130" y="518"/>
                    </a:lnTo>
                    <a:lnTo>
                      <a:pt x="130" y="485"/>
                    </a:lnTo>
                    <a:lnTo>
                      <a:pt x="130" y="469"/>
                    </a:lnTo>
                    <a:lnTo>
                      <a:pt x="114" y="469"/>
                    </a:lnTo>
                    <a:lnTo>
                      <a:pt x="97" y="469"/>
                    </a:lnTo>
                    <a:lnTo>
                      <a:pt x="33" y="453"/>
                    </a:lnTo>
                    <a:lnTo>
                      <a:pt x="16" y="421"/>
                    </a:lnTo>
                    <a:lnTo>
                      <a:pt x="16" y="404"/>
                    </a:lnTo>
                    <a:lnTo>
                      <a:pt x="0" y="404"/>
                    </a:lnTo>
                    <a:lnTo>
                      <a:pt x="16" y="37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67360" y="2403360"/>
                <a:ext cx="178920" cy="338040"/>
              </a:xfrm>
              <a:custGeom>
                <a:avLst/>
                <a:gdLst/>
                <a:ahLst/>
                <a:rect l="l" t="t" r="r" b="b"/>
                <a:pathLst>
                  <a:path w="292" h="551">
                    <a:moveTo>
                      <a:pt x="178" y="534"/>
                    </a:moveTo>
                    <a:lnTo>
                      <a:pt x="162" y="551"/>
                    </a:lnTo>
                    <a:lnTo>
                      <a:pt x="130" y="551"/>
                    </a:lnTo>
                    <a:lnTo>
                      <a:pt x="130" y="534"/>
                    </a:lnTo>
                    <a:lnTo>
                      <a:pt x="113" y="518"/>
                    </a:lnTo>
                    <a:lnTo>
                      <a:pt x="97" y="437"/>
                    </a:lnTo>
                    <a:lnTo>
                      <a:pt x="97" y="389"/>
                    </a:lnTo>
                    <a:lnTo>
                      <a:pt x="81" y="373"/>
                    </a:lnTo>
                    <a:lnTo>
                      <a:pt x="65" y="373"/>
                    </a:lnTo>
                    <a:lnTo>
                      <a:pt x="65" y="389"/>
                    </a:lnTo>
                    <a:lnTo>
                      <a:pt x="65" y="373"/>
                    </a:lnTo>
                    <a:lnTo>
                      <a:pt x="65" y="373"/>
                    </a:lnTo>
                    <a:lnTo>
                      <a:pt x="65" y="340"/>
                    </a:lnTo>
                    <a:lnTo>
                      <a:pt x="65" y="324"/>
                    </a:lnTo>
                    <a:lnTo>
                      <a:pt x="49" y="308"/>
                    </a:lnTo>
                    <a:lnTo>
                      <a:pt x="33" y="276"/>
                    </a:lnTo>
                    <a:lnTo>
                      <a:pt x="33" y="243"/>
                    </a:lnTo>
                    <a:lnTo>
                      <a:pt x="49" y="227"/>
                    </a:lnTo>
                    <a:lnTo>
                      <a:pt x="33" y="211"/>
                    </a:lnTo>
                    <a:lnTo>
                      <a:pt x="33" y="195"/>
                    </a:lnTo>
                    <a:lnTo>
                      <a:pt x="33" y="178"/>
                    </a:lnTo>
                    <a:lnTo>
                      <a:pt x="33" y="178"/>
                    </a:lnTo>
                    <a:lnTo>
                      <a:pt x="16" y="162"/>
                    </a:lnTo>
                    <a:lnTo>
                      <a:pt x="16" y="130"/>
                    </a:lnTo>
                    <a:lnTo>
                      <a:pt x="16" y="114"/>
                    </a:lnTo>
                    <a:lnTo>
                      <a:pt x="0" y="114"/>
                    </a:lnTo>
                    <a:lnTo>
                      <a:pt x="0" y="98"/>
                    </a:lnTo>
                    <a:lnTo>
                      <a:pt x="0" y="81"/>
                    </a:lnTo>
                    <a:lnTo>
                      <a:pt x="33" y="65"/>
                    </a:lnTo>
                    <a:lnTo>
                      <a:pt x="113" y="49"/>
                    </a:lnTo>
                    <a:lnTo>
                      <a:pt x="211" y="17"/>
                    </a:lnTo>
                    <a:lnTo>
                      <a:pt x="275" y="0"/>
                    </a:lnTo>
                    <a:lnTo>
                      <a:pt x="275" y="17"/>
                    </a:lnTo>
                    <a:lnTo>
                      <a:pt x="275" y="33"/>
                    </a:lnTo>
                    <a:lnTo>
                      <a:pt x="275" y="65"/>
                    </a:lnTo>
                    <a:lnTo>
                      <a:pt x="292" y="98"/>
                    </a:lnTo>
                    <a:lnTo>
                      <a:pt x="292" y="98"/>
                    </a:lnTo>
                    <a:lnTo>
                      <a:pt x="292" y="114"/>
                    </a:lnTo>
                    <a:lnTo>
                      <a:pt x="292" y="130"/>
                    </a:lnTo>
                    <a:lnTo>
                      <a:pt x="275" y="146"/>
                    </a:lnTo>
                    <a:lnTo>
                      <a:pt x="259" y="162"/>
                    </a:lnTo>
                    <a:lnTo>
                      <a:pt x="243" y="178"/>
                    </a:lnTo>
                    <a:lnTo>
                      <a:pt x="227" y="178"/>
                    </a:lnTo>
                    <a:lnTo>
                      <a:pt x="243" y="211"/>
                    </a:lnTo>
                    <a:lnTo>
                      <a:pt x="243" y="227"/>
                    </a:lnTo>
                    <a:lnTo>
                      <a:pt x="243" y="243"/>
                    </a:lnTo>
                    <a:lnTo>
                      <a:pt x="243" y="243"/>
                    </a:lnTo>
                    <a:lnTo>
                      <a:pt x="243" y="259"/>
                    </a:lnTo>
                    <a:lnTo>
                      <a:pt x="243" y="276"/>
                    </a:lnTo>
                    <a:lnTo>
                      <a:pt x="243" y="292"/>
                    </a:lnTo>
                    <a:lnTo>
                      <a:pt x="227" y="308"/>
                    </a:lnTo>
                    <a:lnTo>
                      <a:pt x="227" y="340"/>
                    </a:lnTo>
                    <a:lnTo>
                      <a:pt x="227" y="356"/>
                    </a:lnTo>
                    <a:lnTo>
                      <a:pt x="227" y="405"/>
                    </a:lnTo>
                    <a:lnTo>
                      <a:pt x="227" y="421"/>
                    </a:lnTo>
                    <a:lnTo>
                      <a:pt x="227" y="437"/>
                    </a:lnTo>
                    <a:lnTo>
                      <a:pt x="243" y="470"/>
                    </a:lnTo>
                    <a:lnTo>
                      <a:pt x="243" y="486"/>
                    </a:lnTo>
                    <a:lnTo>
                      <a:pt x="243" y="502"/>
                    </a:lnTo>
                    <a:lnTo>
                      <a:pt x="259" y="518"/>
                    </a:lnTo>
                    <a:lnTo>
                      <a:pt x="178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172200" y="1447920"/>
              <a:ext cx="2133720" cy="580680"/>
              <a:chOff x="6172200" y="1447920"/>
              <a:chExt cx="2133720" cy="580680"/>
            </a:xfrm>
          </p:grpSpPr>
          <p:sp>
            <p:nvSpPr>
              <p:cNvPr id="203" name=""/>
              <p:cNvSpPr/>
              <p:nvPr/>
            </p:nvSpPr>
            <p:spPr>
              <a:xfrm>
                <a:off x="6172200" y="152424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00800" y="1447920"/>
                <a:ext cx="190512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North East Region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(99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5715000" y="3276720"/>
            <a:ext cx="3048120" cy="1963080"/>
            <a:chOff x="5715000" y="3276720"/>
            <a:chExt cx="3048120" cy="1963080"/>
          </a:xfrm>
        </p:grpSpPr>
        <p:grpSp>
          <p:nvGrpSpPr>
            <p:cNvPr id="206" name=""/>
            <p:cNvGrpSpPr/>
            <p:nvPr/>
          </p:nvGrpSpPr>
          <p:grpSpPr>
            <a:xfrm>
              <a:off x="5715000" y="3276720"/>
              <a:ext cx="1244160" cy="1963080"/>
              <a:chOff x="5715000" y="3276720"/>
              <a:chExt cx="1244160" cy="1963080"/>
            </a:xfrm>
          </p:grpSpPr>
          <p:sp>
            <p:nvSpPr>
              <p:cNvPr id="207" name=""/>
              <p:cNvSpPr/>
              <p:nvPr/>
            </p:nvSpPr>
            <p:spPr>
              <a:xfrm>
                <a:off x="6022800" y="3615840"/>
                <a:ext cx="936360" cy="407880"/>
              </a:xfrm>
              <a:custGeom>
                <a:avLst/>
                <a:gdLst/>
                <a:ahLst/>
                <a:rect l="l" t="t" r="r" b="b"/>
                <a:pathLst>
                  <a:path w="1522" h="663">
                    <a:moveTo>
                      <a:pt x="1441" y="65"/>
                    </a:moveTo>
                    <a:lnTo>
                      <a:pt x="1489" y="146"/>
                    </a:lnTo>
                    <a:lnTo>
                      <a:pt x="1457" y="97"/>
                    </a:lnTo>
                    <a:lnTo>
                      <a:pt x="1457" y="97"/>
                    </a:lnTo>
                    <a:lnTo>
                      <a:pt x="1441" y="65"/>
                    </a:lnTo>
                    <a:lnTo>
                      <a:pt x="1392" y="0"/>
                    </a:lnTo>
                    <a:lnTo>
                      <a:pt x="1408" y="0"/>
                    </a:lnTo>
                    <a:lnTo>
                      <a:pt x="1441" y="65"/>
                    </a:lnTo>
                    <a:lnTo>
                      <a:pt x="1441" y="65"/>
                    </a:lnTo>
                    <a:close/>
                    <a:moveTo>
                      <a:pt x="1376" y="0"/>
                    </a:moveTo>
                    <a:lnTo>
                      <a:pt x="1376" y="0"/>
                    </a:lnTo>
                    <a:lnTo>
                      <a:pt x="1392" y="0"/>
                    </a:lnTo>
                    <a:lnTo>
                      <a:pt x="1392" y="16"/>
                    </a:lnTo>
                    <a:lnTo>
                      <a:pt x="1392" y="16"/>
                    </a:lnTo>
                    <a:lnTo>
                      <a:pt x="1392" y="16"/>
                    </a:lnTo>
                    <a:lnTo>
                      <a:pt x="1376" y="0"/>
                    </a:lnTo>
                    <a:lnTo>
                      <a:pt x="1376" y="0"/>
                    </a:lnTo>
                    <a:close/>
                    <a:moveTo>
                      <a:pt x="65" y="582"/>
                    </a:moveTo>
                    <a:lnTo>
                      <a:pt x="49" y="582"/>
                    </a:lnTo>
                    <a:lnTo>
                      <a:pt x="33" y="582"/>
                    </a:lnTo>
                    <a:lnTo>
                      <a:pt x="0" y="582"/>
                    </a:lnTo>
                    <a:lnTo>
                      <a:pt x="0" y="534"/>
                    </a:lnTo>
                    <a:lnTo>
                      <a:pt x="0" y="518"/>
                    </a:lnTo>
                    <a:lnTo>
                      <a:pt x="33" y="518"/>
                    </a:lnTo>
                    <a:lnTo>
                      <a:pt x="33" y="518"/>
                    </a:lnTo>
                    <a:lnTo>
                      <a:pt x="33" y="485"/>
                    </a:lnTo>
                    <a:lnTo>
                      <a:pt x="49" y="469"/>
                    </a:lnTo>
                    <a:lnTo>
                      <a:pt x="81" y="453"/>
                    </a:lnTo>
                    <a:lnTo>
                      <a:pt x="97" y="437"/>
                    </a:lnTo>
                    <a:lnTo>
                      <a:pt x="130" y="437"/>
                    </a:lnTo>
                    <a:lnTo>
                      <a:pt x="162" y="404"/>
                    </a:lnTo>
                    <a:lnTo>
                      <a:pt x="162" y="404"/>
                    </a:lnTo>
                    <a:lnTo>
                      <a:pt x="178" y="388"/>
                    </a:lnTo>
                    <a:lnTo>
                      <a:pt x="211" y="372"/>
                    </a:lnTo>
                    <a:lnTo>
                      <a:pt x="227" y="340"/>
                    </a:lnTo>
                    <a:lnTo>
                      <a:pt x="243" y="340"/>
                    </a:lnTo>
                    <a:lnTo>
                      <a:pt x="243" y="324"/>
                    </a:lnTo>
                    <a:lnTo>
                      <a:pt x="259" y="307"/>
                    </a:lnTo>
                    <a:lnTo>
                      <a:pt x="276" y="340"/>
                    </a:lnTo>
                    <a:lnTo>
                      <a:pt x="292" y="324"/>
                    </a:lnTo>
                    <a:lnTo>
                      <a:pt x="292" y="307"/>
                    </a:lnTo>
                    <a:lnTo>
                      <a:pt x="340" y="275"/>
                    </a:lnTo>
                    <a:lnTo>
                      <a:pt x="356" y="291"/>
                    </a:lnTo>
                    <a:lnTo>
                      <a:pt x="373" y="275"/>
                    </a:lnTo>
                    <a:lnTo>
                      <a:pt x="373" y="243"/>
                    </a:lnTo>
                    <a:lnTo>
                      <a:pt x="373" y="243"/>
                    </a:lnTo>
                    <a:lnTo>
                      <a:pt x="389" y="226"/>
                    </a:lnTo>
                    <a:lnTo>
                      <a:pt x="405" y="226"/>
                    </a:lnTo>
                    <a:lnTo>
                      <a:pt x="405" y="210"/>
                    </a:lnTo>
                    <a:lnTo>
                      <a:pt x="405" y="178"/>
                    </a:lnTo>
                    <a:lnTo>
                      <a:pt x="470" y="162"/>
                    </a:lnTo>
                    <a:lnTo>
                      <a:pt x="551" y="162"/>
                    </a:lnTo>
                    <a:lnTo>
                      <a:pt x="551" y="162"/>
                    </a:lnTo>
                    <a:lnTo>
                      <a:pt x="599" y="146"/>
                    </a:lnTo>
                    <a:lnTo>
                      <a:pt x="632" y="146"/>
                    </a:lnTo>
                    <a:lnTo>
                      <a:pt x="696" y="146"/>
                    </a:lnTo>
                    <a:lnTo>
                      <a:pt x="696" y="129"/>
                    </a:lnTo>
                    <a:lnTo>
                      <a:pt x="745" y="129"/>
                    </a:lnTo>
                    <a:lnTo>
                      <a:pt x="777" y="129"/>
                    </a:lnTo>
                    <a:lnTo>
                      <a:pt x="826" y="113"/>
                    </a:lnTo>
                    <a:lnTo>
                      <a:pt x="842" y="113"/>
                    </a:lnTo>
                    <a:lnTo>
                      <a:pt x="907" y="97"/>
                    </a:lnTo>
                    <a:lnTo>
                      <a:pt x="923" y="97"/>
                    </a:lnTo>
                    <a:lnTo>
                      <a:pt x="955" y="97"/>
                    </a:lnTo>
                    <a:lnTo>
                      <a:pt x="988" y="81"/>
                    </a:lnTo>
                    <a:lnTo>
                      <a:pt x="1036" y="81"/>
                    </a:lnTo>
                    <a:lnTo>
                      <a:pt x="1052" y="65"/>
                    </a:lnTo>
                    <a:lnTo>
                      <a:pt x="1085" y="65"/>
                    </a:lnTo>
                    <a:lnTo>
                      <a:pt x="1149" y="48"/>
                    </a:lnTo>
                    <a:lnTo>
                      <a:pt x="1182" y="48"/>
                    </a:lnTo>
                    <a:lnTo>
                      <a:pt x="1230" y="32"/>
                    </a:lnTo>
                    <a:lnTo>
                      <a:pt x="1230" y="32"/>
                    </a:lnTo>
                    <a:lnTo>
                      <a:pt x="1279" y="16"/>
                    </a:lnTo>
                    <a:lnTo>
                      <a:pt x="1295" y="16"/>
                    </a:lnTo>
                    <a:lnTo>
                      <a:pt x="1327" y="16"/>
                    </a:lnTo>
                    <a:lnTo>
                      <a:pt x="136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76" y="16"/>
                    </a:lnTo>
                    <a:lnTo>
                      <a:pt x="1392" y="32"/>
                    </a:lnTo>
                    <a:lnTo>
                      <a:pt x="1392" y="32"/>
                    </a:lnTo>
                    <a:lnTo>
                      <a:pt x="1392" y="32"/>
                    </a:lnTo>
                    <a:lnTo>
                      <a:pt x="1392" y="48"/>
                    </a:lnTo>
                    <a:lnTo>
                      <a:pt x="1392" y="32"/>
                    </a:lnTo>
                    <a:lnTo>
                      <a:pt x="1408" y="48"/>
                    </a:lnTo>
                    <a:lnTo>
                      <a:pt x="1441" y="97"/>
                    </a:lnTo>
                    <a:lnTo>
                      <a:pt x="1441" y="97"/>
                    </a:lnTo>
                    <a:lnTo>
                      <a:pt x="1425" y="97"/>
                    </a:lnTo>
                    <a:lnTo>
                      <a:pt x="1408" y="65"/>
                    </a:lnTo>
                    <a:lnTo>
                      <a:pt x="1408" y="65"/>
                    </a:lnTo>
                    <a:lnTo>
                      <a:pt x="1408" y="65"/>
                    </a:lnTo>
                    <a:lnTo>
                      <a:pt x="1392" y="48"/>
                    </a:lnTo>
                    <a:lnTo>
                      <a:pt x="1408" y="81"/>
                    </a:lnTo>
                    <a:lnTo>
                      <a:pt x="1408" y="81"/>
                    </a:lnTo>
                    <a:lnTo>
                      <a:pt x="1360" y="65"/>
                    </a:lnTo>
                    <a:lnTo>
                      <a:pt x="1360" y="65"/>
                    </a:lnTo>
                    <a:lnTo>
                      <a:pt x="1376" y="97"/>
                    </a:lnTo>
                    <a:lnTo>
                      <a:pt x="1376" y="97"/>
                    </a:lnTo>
                    <a:lnTo>
                      <a:pt x="1360" y="97"/>
                    </a:lnTo>
                    <a:lnTo>
                      <a:pt x="1344" y="81"/>
                    </a:lnTo>
                    <a:lnTo>
                      <a:pt x="1360" y="113"/>
                    </a:lnTo>
                    <a:lnTo>
                      <a:pt x="1327" y="129"/>
                    </a:lnTo>
                    <a:lnTo>
                      <a:pt x="1327" y="129"/>
                    </a:lnTo>
                    <a:lnTo>
                      <a:pt x="1311" y="146"/>
                    </a:lnTo>
                    <a:lnTo>
                      <a:pt x="1311" y="146"/>
                    </a:lnTo>
                    <a:lnTo>
                      <a:pt x="1295" y="129"/>
                    </a:lnTo>
                    <a:lnTo>
                      <a:pt x="1295" y="146"/>
                    </a:lnTo>
                    <a:lnTo>
                      <a:pt x="1279" y="129"/>
                    </a:lnTo>
                    <a:lnTo>
                      <a:pt x="1279" y="113"/>
                    </a:lnTo>
                    <a:lnTo>
                      <a:pt x="1279" y="81"/>
                    </a:lnTo>
                    <a:lnTo>
                      <a:pt x="1263" y="81"/>
                    </a:lnTo>
                    <a:lnTo>
                      <a:pt x="1230" y="65"/>
                    </a:lnTo>
                    <a:lnTo>
                      <a:pt x="1263" y="81"/>
                    </a:lnTo>
                    <a:lnTo>
                      <a:pt x="1279" y="97"/>
                    </a:lnTo>
                    <a:lnTo>
                      <a:pt x="1263" y="97"/>
                    </a:lnTo>
                    <a:lnTo>
                      <a:pt x="1263" y="113"/>
                    </a:lnTo>
                    <a:lnTo>
                      <a:pt x="1295" y="146"/>
                    </a:lnTo>
                    <a:lnTo>
                      <a:pt x="1279" y="162"/>
                    </a:lnTo>
                    <a:lnTo>
                      <a:pt x="1295" y="162"/>
                    </a:lnTo>
                    <a:lnTo>
                      <a:pt x="1344" y="146"/>
                    </a:lnTo>
                    <a:lnTo>
                      <a:pt x="1344" y="146"/>
                    </a:lnTo>
                    <a:lnTo>
                      <a:pt x="1376" y="129"/>
                    </a:lnTo>
                    <a:lnTo>
                      <a:pt x="1392" y="129"/>
                    </a:lnTo>
                    <a:lnTo>
                      <a:pt x="1408" y="146"/>
                    </a:lnTo>
                    <a:lnTo>
                      <a:pt x="1408" y="178"/>
                    </a:lnTo>
                    <a:lnTo>
                      <a:pt x="1408" y="194"/>
                    </a:lnTo>
                    <a:lnTo>
                      <a:pt x="1392" y="194"/>
                    </a:lnTo>
                    <a:lnTo>
                      <a:pt x="1408" y="194"/>
                    </a:lnTo>
                    <a:lnTo>
                      <a:pt x="1425" y="194"/>
                    </a:lnTo>
                    <a:lnTo>
                      <a:pt x="1408" y="146"/>
                    </a:lnTo>
                    <a:lnTo>
                      <a:pt x="1441" y="129"/>
                    </a:lnTo>
                    <a:lnTo>
                      <a:pt x="1457" y="146"/>
                    </a:lnTo>
                    <a:lnTo>
                      <a:pt x="1473" y="178"/>
                    </a:lnTo>
                    <a:lnTo>
                      <a:pt x="1457" y="210"/>
                    </a:lnTo>
                    <a:lnTo>
                      <a:pt x="1441" y="194"/>
                    </a:lnTo>
                    <a:lnTo>
                      <a:pt x="1425" y="243"/>
                    </a:lnTo>
                    <a:lnTo>
                      <a:pt x="1408" y="275"/>
                    </a:lnTo>
                    <a:lnTo>
                      <a:pt x="1344" y="259"/>
                    </a:lnTo>
                    <a:lnTo>
                      <a:pt x="1344" y="259"/>
                    </a:lnTo>
                    <a:lnTo>
                      <a:pt x="1344" y="243"/>
                    </a:lnTo>
                    <a:lnTo>
                      <a:pt x="1344" y="243"/>
                    </a:lnTo>
                    <a:lnTo>
                      <a:pt x="1344" y="226"/>
                    </a:lnTo>
                    <a:lnTo>
                      <a:pt x="1344" y="243"/>
                    </a:lnTo>
                    <a:lnTo>
                      <a:pt x="1311" y="243"/>
                    </a:lnTo>
                    <a:lnTo>
                      <a:pt x="1327" y="259"/>
                    </a:lnTo>
                    <a:lnTo>
                      <a:pt x="1311" y="275"/>
                    </a:lnTo>
                    <a:lnTo>
                      <a:pt x="1230" y="259"/>
                    </a:lnTo>
                    <a:lnTo>
                      <a:pt x="1263" y="275"/>
                    </a:lnTo>
                    <a:lnTo>
                      <a:pt x="1311" y="291"/>
                    </a:lnTo>
                    <a:lnTo>
                      <a:pt x="1327" y="307"/>
                    </a:lnTo>
                    <a:lnTo>
                      <a:pt x="1344" y="291"/>
                    </a:lnTo>
                    <a:lnTo>
                      <a:pt x="1344" y="291"/>
                    </a:lnTo>
                    <a:lnTo>
                      <a:pt x="1360" y="307"/>
                    </a:lnTo>
                    <a:lnTo>
                      <a:pt x="1327" y="324"/>
                    </a:lnTo>
                    <a:lnTo>
                      <a:pt x="1344" y="324"/>
                    </a:lnTo>
                    <a:lnTo>
                      <a:pt x="1344" y="340"/>
                    </a:lnTo>
                    <a:lnTo>
                      <a:pt x="1327" y="356"/>
                    </a:lnTo>
                    <a:lnTo>
                      <a:pt x="1311" y="372"/>
                    </a:lnTo>
                    <a:lnTo>
                      <a:pt x="1295" y="372"/>
                    </a:lnTo>
                    <a:lnTo>
                      <a:pt x="1279" y="356"/>
                    </a:lnTo>
                    <a:lnTo>
                      <a:pt x="1263" y="356"/>
                    </a:lnTo>
                    <a:lnTo>
                      <a:pt x="1263" y="356"/>
                    </a:lnTo>
                    <a:lnTo>
                      <a:pt x="1279" y="356"/>
                    </a:lnTo>
                    <a:lnTo>
                      <a:pt x="1295" y="388"/>
                    </a:lnTo>
                    <a:lnTo>
                      <a:pt x="1344" y="388"/>
                    </a:lnTo>
                    <a:lnTo>
                      <a:pt x="1344" y="372"/>
                    </a:lnTo>
                    <a:lnTo>
                      <a:pt x="1360" y="356"/>
                    </a:lnTo>
                    <a:lnTo>
                      <a:pt x="1376" y="356"/>
                    </a:lnTo>
                    <a:lnTo>
                      <a:pt x="1376" y="372"/>
                    </a:lnTo>
                    <a:lnTo>
                      <a:pt x="1392" y="356"/>
                    </a:lnTo>
                    <a:lnTo>
                      <a:pt x="1392" y="356"/>
                    </a:lnTo>
                    <a:lnTo>
                      <a:pt x="1408" y="356"/>
                    </a:lnTo>
                    <a:lnTo>
                      <a:pt x="1376" y="404"/>
                    </a:lnTo>
                    <a:lnTo>
                      <a:pt x="1360" y="421"/>
                    </a:lnTo>
                    <a:lnTo>
                      <a:pt x="1279" y="437"/>
                    </a:lnTo>
                    <a:lnTo>
                      <a:pt x="1263" y="437"/>
                    </a:lnTo>
                    <a:lnTo>
                      <a:pt x="1263" y="453"/>
                    </a:lnTo>
                    <a:lnTo>
                      <a:pt x="1263" y="453"/>
                    </a:lnTo>
                    <a:lnTo>
                      <a:pt x="1214" y="502"/>
                    </a:lnTo>
                    <a:lnTo>
                      <a:pt x="1198" y="518"/>
                    </a:lnTo>
                    <a:lnTo>
                      <a:pt x="1198" y="518"/>
                    </a:lnTo>
                    <a:lnTo>
                      <a:pt x="1198" y="518"/>
                    </a:lnTo>
                    <a:lnTo>
                      <a:pt x="1182" y="550"/>
                    </a:lnTo>
                    <a:lnTo>
                      <a:pt x="1166" y="582"/>
                    </a:lnTo>
                    <a:lnTo>
                      <a:pt x="1166" y="599"/>
                    </a:lnTo>
                    <a:lnTo>
                      <a:pt x="1149" y="615"/>
                    </a:lnTo>
                    <a:lnTo>
                      <a:pt x="1149" y="582"/>
                    </a:lnTo>
                    <a:lnTo>
                      <a:pt x="1149" y="631"/>
                    </a:lnTo>
                    <a:lnTo>
                      <a:pt x="1149" y="647"/>
                    </a:lnTo>
                    <a:lnTo>
                      <a:pt x="1052" y="663"/>
                    </a:lnTo>
                    <a:lnTo>
                      <a:pt x="1036" y="663"/>
                    </a:lnTo>
                    <a:lnTo>
                      <a:pt x="939" y="599"/>
                    </a:lnTo>
                    <a:lnTo>
                      <a:pt x="874" y="534"/>
                    </a:lnTo>
                    <a:lnTo>
                      <a:pt x="858" y="534"/>
                    </a:lnTo>
                    <a:lnTo>
                      <a:pt x="826" y="502"/>
                    </a:lnTo>
                    <a:lnTo>
                      <a:pt x="777" y="518"/>
                    </a:lnTo>
                    <a:lnTo>
                      <a:pt x="712" y="518"/>
                    </a:lnTo>
                    <a:lnTo>
                      <a:pt x="664" y="534"/>
                    </a:lnTo>
                    <a:lnTo>
                      <a:pt x="615" y="534"/>
                    </a:lnTo>
                    <a:lnTo>
                      <a:pt x="615" y="502"/>
                    </a:lnTo>
                    <a:lnTo>
                      <a:pt x="615" y="502"/>
                    </a:lnTo>
                    <a:lnTo>
                      <a:pt x="599" y="485"/>
                    </a:lnTo>
                    <a:lnTo>
                      <a:pt x="583" y="469"/>
                    </a:lnTo>
                    <a:lnTo>
                      <a:pt x="567" y="485"/>
                    </a:lnTo>
                    <a:lnTo>
                      <a:pt x="567" y="485"/>
                    </a:lnTo>
                    <a:lnTo>
                      <a:pt x="567" y="485"/>
                    </a:lnTo>
                    <a:lnTo>
                      <a:pt x="567" y="469"/>
                    </a:lnTo>
                    <a:lnTo>
                      <a:pt x="518" y="469"/>
                    </a:lnTo>
                    <a:lnTo>
                      <a:pt x="518" y="469"/>
                    </a:lnTo>
                    <a:lnTo>
                      <a:pt x="437" y="485"/>
                    </a:lnTo>
                    <a:lnTo>
                      <a:pt x="421" y="485"/>
                    </a:lnTo>
                    <a:lnTo>
                      <a:pt x="405" y="485"/>
                    </a:lnTo>
                    <a:lnTo>
                      <a:pt x="356" y="485"/>
                    </a:lnTo>
                    <a:lnTo>
                      <a:pt x="340" y="502"/>
                    </a:lnTo>
                    <a:lnTo>
                      <a:pt x="324" y="485"/>
                    </a:lnTo>
                    <a:lnTo>
                      <a:pt x="324" y="502"/>
                    </a:lnTo>
                    <a:lnTo>
                      <a:pt x="308" y="502"/>
                    </a:lnTo>
                    <a:lnTo>
                      <a:pt x="259" y="534"/>
                    </a:lnTo>
                    <a:lnTo>
                      <a:pt x="243" y="534"/>
                    </a:lnTo>
                    <a:lnTo>
                      <a:pt x="227" y="550"/>
                    </a:lnTo>
                    <a:lnTo>
                      <a:pt x="211" y="550"/>
                    </a:lnTo>
                    <a:lnTo>
                      <a:pt x="146" y="566"/>
                    </a:lnTo>
                    <a:lnTo>
                      <a:pt x="130" y="566"/>
                    </a:lnTo>
                    <a:lnTo>
                      <a:pt x="65" y="582"/>
                    </a:lnTo>
                    <a:lnTo>
                      <a:pt x="65" y="582"/>
                    </a:lnTo>
                    <a:close/>
                    <a:moveTo>
                      <a:pt x="1505" y="178"/>
                    </a:moveTo>
                    <a:lnTo>
                      <a:pt x="1505" y="162"/>
                    </a:lnTo>
                    <a:lnTo>
                      <a:pt x="1522" y="178"/>
                    </a:lnTo>
                    <a:lnTo>
                      <a:pt x="1522" y="275"/>
                    </a:lnTo>
                    <a:lnTo>
                      <a:pt x="1489" y="291"/>
                    </a:lnTo>
                    <a:lnTo>
                      <a:pt x="1489" y="275"/>
                    </a:lnTo>
                    <a:lnTo>
                      <a:pt x="1522" y="259"/>
                    </a:lnTo>
                    <a:lnTo>
                      <a:pt x="1522" y="194"/>
                    </a:lnTo>
                    <a:lnTo>
                      <a:pt x="1505" y="178"/>
                    </a:lnTo>
                    <a:lnTo>
                      <a:pt x="1505" y="178"/>
                    </a:lnTo>
                    <a:close/>
                    <a:moveTo>
                      <a:pt x="1441" y="324"/>
                    </a:moveTo>
                    <a:lnTo>
                      <a:pt x="1457" y="307"/>
                    </a:lnTo>
                    <a:lnTo>
                      <a:pt x="1489" y="291"/>
                    </a:lnTo>
                    <a:lnTo>
                      <a:pt x="1441" y="324"/>
                    </a:lnTo>
                    <a:lnTo>
                      <a:pt x="1441" y="324"/>
                    </a:lnTo>
                    <a:close/>
                    <a:moveTo>
                      <a:pt x="1376" y="453"/>
                    </a:moveTo>
                    <a:lnTo>
                      <a:pt x="1376" y="437"/>
                    </a:lnTo>
                    <a:lnTo>
                      <a:pt x="1392" y="404"/>
                    </a:lnTo>
                    <a:lnTo>
                      <a:pt x="1408" y="372"/>
                    </a:lnTo>
                    <a:lnTo>
                      <a:pt x="1376" y="453"/>
                    </a:lnTo>
                    <a:lnTo>
                      <a:pt x="1376" y="453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32240" y="3903480"/>
                <a:ext cx="536400" cy="410760"/>
              </a:xfrm>
              <a:custGeom>
                <a:avLst/>
                <a:gdLst/>
                <a:ahLst/>
                <a:rect l="l" t="t" r="r" b="b"/>
                <a:pathLst>
                  <a:path w="874" h="664">
                    <a:moveTo>
                      <a:pt x="324" y="437"/>
                    </a:moveTo>
                    <a:lnTo>
                      <a:pt x="308" y="437"/>
                    </a:lnTo>
                    <a:lnTo>
                      <a:pt x="308" y="421"/>
                    </a:lnTo>
                    <a:lnTo>
                      <a:pt x="308" y="421"/>
                    </a:lnTo>
                    <a:lnTo>
                      <a:pt x="308" y="421"/>
                    </a:lnTo>
                    <a:lnTo>
                      <a:pt x="308" y="421"/>
                    </a:lnTo>
                    <a:lnTo>
                      <a:pt x="292" y="405"/>
                    </a:lnTo>
                    <a:lnTo>
                      <a:pt x="292" y="389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59" y="372"/>
                    </a:lnTo>
                    <a:lnTo>
                      <a:pt x="243" y="356"/>
                    </a:lnTo>
                    <a:lnTo>
                      <a:pt x="227" y="340"/>
                    </a:lnTo>
                    <a:lnTo>
                      <a:pt x="211" y="324"/>
                    </a:lnTo>
                    <a:lnTo>
                      <a:pt x="162" y="292"/>
                    </a:lnTo>
                    <a:lnTo>
                      <a:pt x="146" y="292"/>
                    </a:lnTo>
                    <a:lnTo>
                      <a:pt x="114" y="243"/>
                    </a:lnTo>
                    <a:lnTo>
                      <a:pt x="114" y="227"/>
                    </a:lnTo>
                    <a:lnTo>
                      <a:pt x="98" y="194"/>
                    </a:lnTo>
                    <a:lnTo>
                      <a:pt x="65" y="194"/>
                    </a:lnTo>
                    <a:lnTo>
                      <a:pt x="49" y="194"/>
                    </a:lnTo>
                    <a:lnTo>
                      <a:pt x="49" y="194"/>
                    </a:lnTo>
                    <a:lnTo>
                      <a:pt x="33" y="178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17" y="113"/>
                    </a:lnTo>
                    <a:lnTo>
                      <a:pt x="33" y="97"/>
                    </a:lnTo>
                    <a:lnTo>
                      <a:pt x="33" y="81"/>
                    </a:lnTo>
                    <a:lnTo>
                      <a:pt x="49" y="81"/>
                    </a:lnTo>
                    <a:lnTo>
                      <a:pt x="65" y="65"/>
                    </a:lnTo>
                    <a:lnTo>
                      <a:pt x="81" y="65"/>
                    </a:lnTo>
                    <a:lnTo>
                      <a:pt x="130" y="33"/>
                    </a:lnTo>
                    <a:lnTo>
                      <a:pt x="146" y="33"/>
                    </a:lnTo>
                    <a:lnTo>
                      <a:pt x="146" y="16"/>
                    </a:lnTo>
                    <a:lnTo>
                      <a:pt x="162" y="33"/>
                    </a:lnTo>
                    <a:lnTo>
                      <a:pt x="178" y="16"/>
                    </a:lnTo>
                    <a:lnTo>
                      <a:pt x="227" y="16"/>
                    </a:lnTo>
                    <a:lnTo>
                      <a:pt x="243" y="16"/>
                    </a:lnTo>
                    <a:lnTo>
                      <a:pt x="259" y="16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89" y="0"/>
                    </a:lnTo>
                    <a:lnTo>
                      <a:pt x="389" y="16"/>
                    </a:lnTo>
                    <a:lnTo>
                      <a:pt x="389" y="16"/>
                    </a:lnTo>
                    <a:lnTo>
                      <a:pt x="389" y="16"/>
                    </a:lnTo>
                    <a:lnTo>
                      <a:pt x="405" y="0"/>
                    </a:lnTo>
                    <a:lnTo>
                      <a:pt x="421" y="16"/>
                    </a:lnTo>
                    <a:lnTo>
                      <a:pt x="437" y="33"/>
                    </a:lnTo>
                    <a:lnTo>
                      <a:pt x="437" y="33"/>
                    </a:lnTo>
                    <a:lnTo>
                      <a:pt x="437" y="65"/>
                    </a:lnTo>
                    <a:lnTo>
                      <a:pt x="486" y="65"/>
                    </a:lnTo>
                    <a:lnTo>
                      <a:pt x="534" y="49"/>
                    </a:lnTo>
                    <a:lnTo>
                      <a:pt x="599" y="49"/>
                    </a:lnTo>
                    <a:lnTo>
                      <a:pt x="648" y="33"/>
                    </a:lnTo>
                    <a:lnTo>
                      <a:pt x="680" y="65"/>
                    </a:lnTo>
                    <a:lnTo>
                      <a:pt x="696" y="65"/>
                    </a:lnTo>
                    <a:lnTo>
                      <a:pt x="761" y="130"/>
                    </a:lnTo>
                    <a:lnTo>
                      <a:pt x="858" y="194"/>
                    </a:lnTo>
                    <a:lnTo>
                      <a:pt x="874" y="194"/>
                    </a:lnTo>
                    <a:lnTo>
                      <a:pt x="858" y="211"/>
                    </a:lnTo>
                    <a:lnTo>
                      <a:pt x="874" y="211"/>
                    </a:lnTo>
                    <a:lnTo>
                      <a:pt x="826" y="243"/>
                    </a:lnTo>
                    <a:lnTo>
                      <a:pt x="810" y="275"/>
                    </a:lnTo>
                    <a:lnTo>
                      <a:pt x="793" y="308"/>
                    </a:lnTo>
                    <a:lnTo>
                      <a:pt x="793" y="340"/>
                    </a:lnTo>
                    <a:lnTo>
                      <a:pt x="793" y="340"/>
                    </a:lnTo>
                    <a:lnTo>
                      <a:pt x="777" y="340"/>
                    </a:lnTo>
                    <a:lnTo>
                      <a:pt x="793" y="372"/>
                    </a:lnTo>
                    <a:lnTo>
                      <a:pt x="777" y="372"/>
                    </a:lnTo>
                    <a:lnTo>
                      <a:pt x="761" y="372"/>
                    </a:lnTo>
                    <a:lnTo>
                      <a:pt x="777" y="389"/>
                    </a:lnTo>
                    <a:lnTo>
                      <a:pt x="777" y="389"/>
                    </a:lnTo>
                    <a:lnTo>
                      <a:pt x="761" y="405"/>
                    </a:lnTo>
                    <a:lnTo>
                      <a:pt x="729" y="421"/>
                    </a:lnTo>
                    <a:lnTo>
                      <a:pt x="713" y="421"/>
                    </a:lnTo>
                    <a:lnTo>
                      <a:pt x="729" y="437"/>
                    </a:lnTo>
                    <a:lnTo>
                      <a:pt x="729" y="437"/>
                    </a:lnTo>
                    <a:lnTo>
                      <a:pt x="696" y="470"/>
                    </a:lnTo>
                    <a:lnTo>
                      <a:pt x="680" y="470"/>
                    </a:lnTo>
                    <a:lnTo>
                      <a:pt x="696" y="437"/>
                    </a:lnTo>
                    <a:lnTo>
                      <a:pt x="680" y="453"/>
                    </a:lnTo>
                    <a:lnTo>
                      <a:pt x="664" y="453"/>
                    </a:lnTo>
                    <a:lnTo>
                      <a:pt x="664" y="453"/>
                    </a:lnTo>
                    <a:lnTo>
                      <a:pt x="664" y="470"/>
                    </a:lnTo>
                    <a:lnTo>
                      <a:pt x="680" y="486"/>
                    </a:lnTo>
                    <a:lnTo>
                      <a:pt x="680" y="502"/>
                    </a:lnTo>
                    <a:lnTo>
                      <a:pt x="664" y="518"/>
                    </a:lnTo>
                    <a:lnTo>
                      <a:pt x="632" y="534"/>
                    </a:lnTo>
                    <a:lnTo>
                      <a:pt x="615" y="550"/>
                    </a:lnTo>
                    <a:lnTo>
                      <a:pt x="599" y="550"/>
                    </a:lnTo>
                    <a:lnTo>
                      <a:pt x="599" y="518"/>
                    </a:lnTo>
                    <a:lnTo>
                      <a:pt x="583" y="518"/>
                    </a:lnTo>
                    <a:lnTo>
                      <a:pt x="599" y="550"/>
                    </a:lnTo>
                    <a:lnTo>
                      <a:pt x="583" y="550"/>
                    </a:lnTo>
                    <a:lnTo>
                      <a:pt x="567" y="550"/>
                    </a:lnTo>
                    <a:lnTo>
                      <a:pt x="567" y="550"/>
                    </a:lnTo>
                    <a:lnTo>
                      <a:pt x="551" y="550"/>
                    </a:lnTo>
                    <a:lnTo>
                      <a:pt x="551" y="567"/>
                    </a:lnTo>
                    <a:lnTo>
                      <a:pt x="583" y="567"/>
                    </a:lnTo>
                    <a:lnTo>
                      <a:pt x="599" y="583"/>
                    </a:lnTo>
                    <a:lnTo>
                      <a:pt x="599" y="599"/>
                    </a:lnTo>
                    <a:lnTo>
                      <a:pt x="567" y="615"/>
                    </a:lnTo>
                    <a:lnTo>
                      <a:pt x="551" y="615"/>
                    </a:lnTo>
                    <a:lnTo>
                      <a:pt x="534" y="599"/>
                    </a:lnTo>
                    <a:lnTo>
                      <a:pt x="518" y="567"/>
                    </a:lnTo>
                    <a:lnTo>
                      <a:pt x="534" y="567"/>
                    </a:lnTo>
                    <a:lnTo>
                      <a:pt x="518" y="567"/>
                    </a:lnTo>
                    <a:lnTo>
                      <a:pt x="518" y="567"/>
                    </a:lnTo>
                    <a:lnTo>
                      <a:pt x="518" y="583"/>
                    </a:lnTo>
                    <a:lnTo>
                      <a:pt x="534" y="615"/>
                    </a:lnTo>
                    <a:lnTo>
                      <a:pt x="518" y="664"/>
                    </a:lnTo>
                    <a:lnTo>
                      <a:pt x="486" y="664"/>
                    </a:lnTo>
                    <a:lnTo>
                      <a:pt x="470" y="631"/>
                    </a:lnTo>
                    <a:lnTo>
                      <a:pt x="470" y="615"/>
                    </a:lnTo>
                    <a:lnTo>
                      <a:pt x="437" y="567"/>
                    </a:lnTo>
                    <a:lnTo>
                      <a:pt x="421" y="567"/>
                    </a:lnTo>
                    <a:lnTo>
                      <a:pt x="405" y="550"/>
                    </a:lnTo>
                    <a:lnTo>
                      <a:pt x="405" y="534"/>
                    </a:lnTo>
                    <a:lnTo>
                      <a:pt x="405" y="518"/>
                    </a:lnTo>
                    <a:lnTo>
                      <a:pt x="389" y="502"/>
                    </a:lnTo>
                    <a:lnTo>
                      <a:pt x="389" y="502"/>
                    </a:lnTo>
                    <a:lnTo>
                      <a:pt x="389" y="486"/>
                    </a:lnTo>
                    <a:lnTo>
                      <a:pt x="389" y="470"/>
                    </a:lnTo>
                    <a:lnTo>
                      <a:pt x="373" y="470"/>
                    </a:lnTo>
                    <a:lnTo>
                      <a:pt x="356" y="470"/>
                    </a:lnTo>
                    <a:lnTo>
                      <a:pt x="340" y="453"/>
                    </a:lnTo>
                    <a:lnTo>
                      <a:pt x="324" y="437"/>
                    </a:lnTo>
                    <a:lnTo>
                      <a:pt x="324" y="437"/>
                    </a:lnTo>
                    <a:close/>
                    <a:moveTo>
                      <a:pt x="534" y="615"/>
                    </a:moveTo>
                    <a:lnTo>
                      <a:pt x="551" y="615"/>
                    </a:lnTo>
                    <a:lnTo>
                      <a:pt x="551" y="615"/>
                    </a:lnTo>
                    <a:lnTo>
                      <a:pt x="534" y="648"/>
                    </a:lnTo>
                    <a:lnTo>
                      <a:pt x="534" y="615"/>
                    </a:lnTo>
                    <a:lnTo>
                      <a:pt x="534" y="615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2400" y="3276720"/>
                <a:ext cx="845640" cy="477360"/>
              </a:xfrm>
              <a:custGeom>
                <a:avLst/>
                <a:gdLst/>
                <a:ahLst/>
                <a:rect l="l" t="t" r="r" b="b"/>
                <a:pathLst>
                  <a:path w="1376" h="776">
                    <a:moveTo>
                      <a:pt x="259" y="744"/>
                    </a:moveTo>
                    <a:lnTo>
                      <a:pt x="243" y="744"/>
                    </a:lnTo>
                    <a:lnTo>
                      <a:pt x="178" y="744"/>
                    </a:lnTo>
                    <a:lnTo>
                      <a:pt x="146" y="760"/>
                    </a:lnTo>
                    <a:lnTo>
                      <a:pt x="113" y="760"/>
                    </a:lnTo>
                    <a:lnTo>
                      <a:pt x="32" y="760"/>
                    </a:lnTo>
                    <a:lnTo>
                      <a:pt x="0" y="776"/>
                    </a:lnTo>
                    <a:lnTo>
                      <a:pt x="32" y="744"/>
                    </a:lnTo>
                    <a:lnTo>
                      <a:pt x="81" y="728"/>
                    </a:lnTo>
                    <a:lnTo>
                      <a:pt x="97" y="696"/>
                    </a:lnTo>
                    <a:lnTo>
                      <a:pt x="130" y="679"/>
                    </a:lnTo>
                    <a:lnTo>
                      <a:pt x="130" y="663"/>
                    </a:lnTo>
                    <a:lnTo>
                      <a:pt x="146" y="647"/>
                    </a:lnTo>
                    <a:lnTo>
                      <a:pt x="146" y="631"/>
                    </a:lnTo>
                    <a:lnTo>
                      <a:pt x="178" y="615"/>
                    </a:lnTo>
                    <a:lnTo>
                      <a:pt x="178" y="615"/>
                    </a:lnTo>
                    <a:lnTo>
                      <a:pt x="211" y="582"/>
                    </a:lnTo>
                    <a:lnTo>
                      <a:pt x="259" y="534"/>
                    </a:lnTo>
                    <a:lnTo>
                      <a:pt x="275" y="534"/>
                    </a:lnTo>
                    <a:lnTo>
                      <a:pt x="259" y="534"/>
                    </a:lnTo>
                    <a:lnTo>
                      <a:pt x="275" y="550"/>
                    </a:lnTo>
                    <a:lnTo>
                      <a:pt x="275" y="566"/>
                    </a:lnTo>
                    <a:lnTo>
                      <a:pt x="291" y="582"/>
                    </a:lnTo>
                    <a:lnTo>
                      <a:pt x="308" y="582"/>
                    </a:lnTo>
                    <a:lnTo>
                      <a:pt x="324" y="582"/>
                    </a:lnTo>
                    <a:lnTo>
                      <a:pt x="340" y="582"/>
                    </a:lnTo>
                    <a:lnTo>
                      <a:pt x="372" y="566"/>
                    </a:lnTo>
                    <a:lnTo>
                      <a:pt x="372" y="550"/>
                    </a:lnTo>
                    <a:lnTo>
                      <a:pt x="405" y="566"/>
                    </a:lnTo>
                    <a:lnTo>
                      <a:pt x="437" y="550"/>
                    </a:lnTo>
                    <a:lnTo>
                      <a:pt x="453" y="534"/>
                    </a:lnTo>
                    <a:lnTo>
                      <a:pt x="453" y="534"/>
                    </a:lnTo>
                    <a:lnTo>
                      <a:pt x="453" y="517"/>
                    </a:lnTo>
                    <a:lnTo>
                      <a:pt x="469" y="534"/>
                    </a:lnTo>
                    <a:lnTo>
                      <a:pt x="518" y="501"/>
                    </a:lnTo>
                    <a:lnTo>
                      <a:pt x="518" y="517"/>
                    </a:lnTo>
                    <a:lnTo>
                      <a:pt x="550" y="485"/>
                    </a:lnTo>
                    <a:lnTo>
                      <a:pt x="550" y="485"/>
                    </a:lnTo>
                    <a:lnTo>
                      <a:pt x="534" y="485"/>
                    </a:lnTo>
                    <a:lnTo>
                      <a:pt x="550" y="469"/>
                    </a:lnTo>
                    <a:lnTo>
                      <a:pt x="550" y="453"/>
                    </a:lnTo>
                    <a:lnTo>
                      <a:pt x="550" y="453"/>
                    </a:lnTo>
                    <a:lnTo>
                      <a:pt x="534" y="453"/>
                    </a:lnTo>
                    <a:lnTo>
                      <a:pt x="550" y="404"/>
                    </a:lnTo>
                    <a:lnTo>
                      <a:pt x="567" y="388"/>
                    </a:lnTo>
                    <a:lnTo>
                      <a:pt x="583" y="356"/>
                    </a:lnTo>
                    <a:lnTo>
                      <a:pt x="583" y="323"/>
                    </a:lnTo>
                    <a:lnTo>
                      <a:pt x="599" y="307"/>
                    </a:lnTo>
                    <a:lnTo>
                      <a:pt x="599" y="291"/>
                    </a:lnTo>
                    <a:lnTo>
                      <a:pt x="615" y="291"/>
                    </a:lnTo>
                    <a:lnTo>
                      <a:pt x="615" y="275"/>
                    </a:lnTo>
                    <a:lnTo>
                      <a:pt x="615" y="259"/>
                    </a:lnTo>
                    <a:lnTo>
                      <a:pt x="615" y="226"/>
                    </a:lnTo>
                    <a:lnTo>
                      <a:pt x="631" y="242"/>
                    </a:lnTo>
                    <a:lnTo>
                      <a:pt x="647" y="259"/>
                    </a:lnTo>
                    <a:lnTo>
                      <a:pt x="680" y="259"/>
                    </a:lnTo>
                    <a:lnTo>
                      <a:pt x="696" y="242"/>
                    </a:lnTo>
                    <a:lnTo>
                      <a:pt x="696" y="210"/>
                    </a:lnTo>
                    <a:lnTo>
                      <a:pt x="712" y="210"/>
                    </a:lnTo>
                    <a:lnTo>
                      <a:pt x="712" y="178"/>
                    </a:lnTo>
                    <a:lnTo>
                      <a:pt x="712" y="161"/>
                    </a:lnTo>
                    <a:lnTo>
                      <a:pt x="745" y="178"/>
                    </a:lnTo>
                    <a:lnTo>
                      <a:pt x="745" y="145"/>
                    </a:lnTo>
                    <a:lnTo>
                      <a:pt x="761" y="129"/>
                    </a:lnTo>
                    <a:lnTo>
                      <a:pt x="761" y="145"/>
                    </a:lnTo>
                    <a:lnTo>
                      <a:pt x="761" y="129"/>
                    </a:lnTo>
                    <a:lnTo>
                      <a:pt x="777" y="113"/>
                    </a:lnTo>
                    <a:lnTo>
                      <a:pt x="777" y="113"/>
                    </a:lnTo>
                    <a:lnTo>
                      <a:pt x="777" y="97"/>
                    </a:lnTo>
                    <a:lnTo>
                      <a:pt x="793" y="97"/>
                    </a:lnTo>
                    <a:lnTo>
                      <a:pt x="793" y="64"/>
                    </a:lnTo>
                    <a:lnTo>
                      <a:pt x="793" y="48"/>
                    </a:lnTo>
                    <a:lnTo>
                      <a:pt x="809" y="32"/>
                    </a:lnTo>
                    <a:lnTo>
                      <a:pt x="793" y="32"/>
                    </a:lnTo>
                    <a:lnTo>
                      <a:pt x="793" y="0"/>
                    </a:lnTo>
                    <a:lnTo>
                      <a:pt x="826" y="16"/>
                    </a:lnTo>
                    <a:lnTo>
                      <a:pt x="858" y="32"/>
                    </a:lnTo>
                    <a:lnTo>
                      <a:pt x="890" y="64"/>
                    </a:lnTo>
                    <a:lnTo>
                      <a:pt x="906" y="16"/>
                    </a:lnTo>
                    <a:lnTo>
                      <a:pt x="906" y="16"/>
                    </a:lnTo>
                    <a:lnTo>
                      <a:pt x="939" y="16"/>
                    </a:lnTo>
                    <a:lnTo>
                      <a:pt x="955" y="32"/>
                    </a:lnTo>
                    <a:lnTo>
                      <a:pt x="955" y="48"/>
                    </a:lnTo>
                    <a:lnTo>
                      <a:pt x="955" y="48"/>
                    </a:lnTo>
                    <a:lnTo>
                      <a:pt x="971" y="64"/>
                    </a:lnTo>
                    <a:lnTo>
                      <a:pt x="987" y="64"/>
                    </a:lnTo>
                    <a:lnTo>
                      <a:pt x="1004" y="64"/>
                    </a:lnTo>
                    <a:lnTo>
                      <a:pt x="1004" y="81"/>
                    </a:lnTo>
                    <a:lnTo>
                      <a:pt x="1020" y="81"/>
                    </a:lnTo>
                    <a:lnTo>
                      <a:pt x="1020" y="81"/>
                    </a:lnTo>
                    <a:lnTo>
                      <a:pt x="1036" y="81"/>
                    </a:lnTo>
                    <a:lnTo>
                      <a:pt x="1036" y="97"/>
                    </a:lnTo>
                    <a:lnTo>
                      <a:pt x="1036" y="113"/>
                    </a:lnTo>
                    <a:lnTo>
                      <a:pt x="1052" y="129"/>
                    </a:lnTo>
                    <a:lnTo>
                      <a:pt x="1036" y="129"/>
                    </a:lnTo>
                    <a:lnTo>
                      <a:pt x="1036" y="145"/>
                    </a:lnTo>
                    <a:lnTo>
                      <a:pt x="1020" y="145"/>
                    </a:lnTo>
                    <a:lnTo>
                      <a:pt x="1020" y="145"/>
                    </a:lnTo>
                    <a:lnTo>
                      <a:pt x="1020" y="145"/>
                    </a:lnTo>
                    <a:lnTo>
                      <a:pt x="1004" y="178"/>
                    </a:lnTo>
                    <a:lnTo>
                      <a:pt x="1004" y="194"/>
                    </a:lnTo>
                    <a:lnTo>
                      <a:pt x="1020" y="210"/>
                    </a:lnTo>
                    <a:lnTo>
                      <a:pt x="1020" y="210"/>
                    </a:lnTo>
                    <a:lnTo>
                      <a:pt x="1036" y="210"/>
                    </a:lnTo>
                    <a:lnTo>
                      <a:pt x="1052" y="194"/>
                    </a:lnTo>
                    <a:lnTo>
                      <a:pt x="1068" y="210"/>
                    </a:lnTo>
                    <a:lnTo>
                      <a:pt x="1084" y="226"/>
                    </a:lnTo>
                    <a:lnTo>
                      <a:pt x="1149" y="242"/>
                    </a:lnTo>
                    <a:lnTo>
                      <a:pt x="1149" y="242"/>
                    </a:lnTo>
                    <a:lnTo>
                      <a:pt x="1149" y="259"/>
                    </a:lnTo>
                    <a:lnTo>
                      <a:pt x="1149" y="259"/>
                    </a:lnTo>
                    <a:lnTo>
                      <a:pt x="1165" y="259"/>
                    </a:lnTo>
                    <a:lnTo>
                      <a:pt x="1198" y="259"/>
                    </a:lnTo>
                    <a:lnTo>
                      <a:pt x="1214" y="275"/>
                    </a:lnTo>
                    <a:lnTo>
                      <a:pt x="1214" y="291"/>
                    </a:lnTo>
                    <a:lnTo>
                      <a:pt x="1198" y="291"/>
                    </a:lnTo>
                    <a:lnTo>
                      <a:pt x="1214" y="307"/>
                    </a:lnTo>
                    <a:lnTo>
                      <a:pt x="1198" y="323"/>
                    </a:lnTo>
                    <a:lnTo>
                      <a:pt x="1214" y="323"/>
                    </a:lnTo>
                    <a:lnTo>
                      <a:pt x="1214" y="339"/>
                    </a:lnTo>
                    <a:lnTo>
                      <a:pt x="1182" y="339"/>
                    </a:lnTo>
                    <a:lnTo>
                      <a:pt x="1165" y="307"/>
                    </a:lnTo>
                    <a:lnTo>
                      <a:pt x="1149" y="307"/>
                    </a:lnTo>
                    <a:lnTo>
                      <a:pt x="1133" y="291"/>
                    </a:lnTo>
                    <a:lnTo>
                      <a:pt x="1117" y="291"/>
                    </a:lnTo>
                    <a:lnTo>
                      <a:pt x="1133" y="307"/>
                    </a:lnTo>
                    <a:lnTo>
                      <a:pt x="1149" y="323"/>
                    </a:lnTo>
                    <a:lnTo>
                      <a:pt x="1165" y="339"/>
                    </a:lnTo>
                    <a:lnTo>
                      <a:pt x="1214" y="356"/>
                    </a:lnTo>
                    <a:lnTo>
                      <a:pt x="1214" y="356"/>
                    </a:lnTo>
                    <a:lnTo>
                      <a:pt x="1182" y="356"/>
                    </a:lnTo>
                    <a:lnTo>
                      <a:pt x="1198" y="356"/>
                    </a:lnTo>
                    <a:lnTo>
                      <a:pt x="1214" y="356"/>
                    </a:lnTo>
                    <a:lnTo>
                      <a:pt x="1230" y="388"/>
                    </a:lnTo>
                    <a:lnTo>
                      <a:pt x="1230" y="404"/>
                    </a:lnTo>
                    <a:lnTo>
                      <a:pt x="1230" y="404"/>
                    </a:lnTo>
                    <a:lnTo>
                      <a:pt x="1214" y="388"/>
                    </a:lnTo>
                    <a:lnTo>
                      <a:pt x="1198" y="372"/>
                    </a:lnTo>
                    <a:lnTo>
                      <a:pt x="1198" y="388"/>
                    </a:lnTo>
                    <a:lnTo>
                      <a:pt x="1214" y="388"/>
                    </a:lnTo>
                    <a:lnTo>
                      <a:pt x="1214" y="388"/>
                    </a:lnTo>
                    <a:lnTo>
                      <a:pt x="1198" y="388"/>
                    </a:lnTo>
                    <a:lnTo>
                      <a:pt x="1214" y="404"/>
                    </a:lnTo>
                    <a:lnTo>
                      <a:pt x="1214" y="420"/>
                    </a:lnTo>
                    <a:lnTo>
                      <a:pt x="1165" y="388"/>
                    </a:lnTo>
                    <a:lnTo>
                      <a:pt x="1165" y="388"/>
                    </a:lnTo>
                    <a:lnTo>
                      <a:pt x="1165" y="404"/>
                    </a:lnTo>
                    <a:lnTo>
                      <a:pt x="1182" y="420"/>
                    </a:lnTo>
                    <a:lnTo>
                      <a:pt x="1214" y="420"/>
                    </a:lnTo>
                    <a:lnTo>
                      <a:pt x="1214" y="437"/>
                    </a:lnTo>
                    <a:lnTo>
                      <a:pt x="1214" y="437"/>
                    </a:lnTo>
                    <a:lnTo>
                      <a:pt x="1230" y="437"/>
                    </a:lnTo>
                    <a:lnTo>
                      <a:pt x="1230" y="437"/>
                    </a:lnTo>
                    <a:lnTo>
                      <a:pt x="1246" y="437"/>
                    </a:lnTo>
                    <a:lnTo>
                      <a:pt x="1230" y="453"/>
                    </a:lnTo>
                    <a:lnTo>
                      <a:pt x="1246" y="453"/>
                    </a:lnTo>
                    <a:lnTo>
                      <a:pt x="1246" y="469"/>
                    </a:lnTo>
                    <a:lnTo>
                      <a:pt x="1230" y="469"/>
                    </a:lnTo>
                    <a:lnTo>
                      <a:pt x="1230" y="485"/>
                    </a:lnTo>
                    <a:lnTo>
                      <a:pt x="1198" y="469"/>
                    </a:lnTo>
                    <a:lnTo>
                      <a:pt x="1198" y="453"/>
                    </a:lnTo>
                    <a:lnTo>
                      <a:pt x="1198" y="453"/>
                    </a:lnTo>
                    <a:lnTo>
                      <a:pt x="1198" y="453"/>
                    </a:lnTo>
                    <a:lnTo>
                      <a:pt x="1182" y="453"/>
                    </a:lnTo>
                    <a:lnTo>
                      <a:pt x="1182" y="437"/>
                    </a:lnTo>
                    <a:lnTo>
                      <a:pt x="1182" y="437"/>
                    </a:lnTo>
                    <a:lnTo>
                      <a:pt x="1165" y="437"/>
                    </a:lnTo>
                    <a:lnTo>
                      <a:pt x="1165" y="437"/>
                    </a:lnTo>
                    <a:lnTo>
                      <a:pt x="1149" y="437"/>
                    </a:lnTo>
                    <a:lnTo>
                      <a:pt x="1133" y="437"/>
                    </a:lnTo>
                    <a:lnTo>
                      <a:pt x="1133" y="420"/>
                    </a:lnTo>
                    <a:lnTo>
                      <a:pt x="1133" y="437"/>
                    </a:lnTo>
                    <a:lnTo>
                      <a:pt x="1133" y="437"/>
                    </a:lnTo>
                    <a:lnTo>
                      <a:pt x="1133" y="453"/>
                    </a:lnTo>
                    <a:lnTo>
                      <a:pt x="1149" y="437"/>
                    </a:lnTo>
                    <a:lnTo>
                      <a:pt x="1165" y="453"/>
                    </a:lnTo>
                    <a:lnTo>
                      <a:pt x="1165" y="437"/>
                    </a:lnTo>
                    <a:lnTo>
                      <a:pt x="1182" y="453"/>
                    </a:lnTo>
                    <a:lnTo>
                      <a:pt x="1182" y="469"/>
                    </a:lnTo>
                    <a:lnTo>
                      <a:pt x="1198" y="469"/>
                    </a:lnTo>
                    <a:lnTo>
                      <a:pt x="1198" y="485"/>
                    </a:lnTo>
                    <a:lnTo>
                      <a:pt x="1198" y="469"/>
                    </a:lnTo>
                    <a:lnTo>
                      <a:pt x="1214" y="485"/>
                    </a:lnTo>
                    <a:lnTo>
                      <a:pt x="1214" y="501"/>
                    </a:lnTo>
                    <a:lnTo>
                      <a:pt x="1214" y="485"/>
                    </a:lnTo>
                    <a:lnTo>
                      <a:pt x="1214" y="501"/>
                    </a:lnTo>
                    <a:lnTo>
                      <a:pt x="1214" y="517"/>
                    </a:lnTo>
                    <a:lnTo>
                      <a:pt x="1214" y="517"/>
                    </a:lnTo>
                    <a:lnTo>
                      <a:pt x="1214" y="501"/>
                    </a:lnTo>
                    <a:lnTo>
                      <a:pt x="1230" y="501"/>
                    </a:lnTo>
                    <a:lnTo>
                      <a:pt x="1246" y="485"/>
                    </a:lnTo>
                    <a:lnTo>
                      <a:pt x="1246" y="501"/>
                    </a:lnTo>
                    <a:lnTo>
                      <a:pt x="1230" y="501"/>
                    </a:lnTo>
                    <a:lnTo>
                      <a:pt x="1230" y="517"/>
                    </a:lnTo>
                    <a:lnTo>
                      <a:pt x="1246" y="501"/>
                    </a:lnTo>
                    <a:lnTo>
                      <a:pt x="1246" y="485"/>
                    </a:lnTo>
                    <a:lnTo>
                      <a:pt x="1246" y="469"/>
                    </a:lnTo>
                    <a:lnTo>
                      <a:pt x="1262" y="485"/>
                    </a:lnTo>
                    <a:lnTo>
                      <a:pt x="1262" y="485"/>
                    </a:lnTo>
                    <a:lnTo>
                      <a:pt x="1279" y="469"/>
                    </a:lnTo>
                    <a:lnTo>
                      <a:pt x="1295" y="469"/>
                    </a:lnTo>
                    <a:lnTo>
                      <a:pt x="1343" y="550"/>
                    </a:lnTo>
                    <a:lnTo>
                      <a:pt x="1327" y="550"/>
                    </a:lnTo>
                    <a:lnTo>
                      <a:pt x="1327" y="534"/>
                    </a:lnTo>
                    <a:lnTo>
                      <a:pt x="1311" y="517"/>
                    </a:lnTo>
                    <a:lnTo>
                      <a:pt x="1311" y="550"/>
                    </a:lnTo>
                    <a:lnTo>
                      <a:pt x="1311" y="550"/>
                    </a:lnTo>
                    <a:lnTo>
                      <a:pt x="1311" y="550"/>
                    </a:lnTo>
                    <a:lnTo>
                      <a:pt x="1311" y="550"/>
                    </a:lnTo>
                    <a:lnTo>
                      <a:pt x="1295" y="550"/>
                    </a:lnTo>
                    <a:lnTo>
                      <a:pt x="1262" y="566"/>
                    </a:lnTo>
                    <a:lnTo>
                      <a:pt x="1230" y="566"/>
                    </a:lnTo>
                    <a:lnTo>
                      <a:pt x="1214" y="566"/>
                    </a:lnTo>
                    <a:lnTo>
                      <a:pt x="1165" y="582"/>
                    </a:lnTo>
                    <a:lnTo>
                      <a:pt x="1165" y="582"/>
                    </a:lnTo>
                    <a:lnTo>
                      <a:pt x="1117" y="598"/>
                    </a:lnTo>
                    <a:lnTo>
                      <a:pt x="1084" y="598"/>
                    </a:lnTo>
                    <a:lnTo>
                      <a:pt x="1020" y="615"/>
                    </a:lnTo>
                    <a:lnTo>
                      <a:pt x="987" y="615"/>
                    </a:lnTo>
                    <a:lnTo>
                      <a:pt x="971" y="631"/>
                    </a:lnTo>
                    <a:lnTo>
                      <a:pt x="923" y="631"/>
                    </a:lnTo>
                    <a:lnTo>
                      <a:pt x="890" y="647"/>
                    </a:lnTo>
                    <a:lnTo>
                      <a:pt x="858" y="647"/>
                    </a:lnTo>
                    <a:lnTo>
                      <a:pt x="842" y="647"/>
                    </a:lnTo>
                    <a:lnTo>
                      <a:pt x="777" y="663"/>
                    </a:lnTo>
                    <a:lnTo>
                      <a:pt x="761" y="663"/>
                    </a:lnTo>
                    <a:lnTo>
                      <a:pt x="712" y="679"/>
                    </a:lnTo>
                    <a:lnTo>
                      <a:pt x="680" y="679"/>
                    </a:lnTo>
                    <a:lnTo>
                      <a:pt x="631" y="679"/>
                    </a:lnTo>
                    <a:lnTo>
                      <a:pt x="631" y="696"/>
                    </a:lnTo>
                    <a:lnTo>
                      <a:pt x="567" y="696"/>
                    </a:lnTo>
                    <a:lnTo>
                      <a:pt x="534" y="696"/>
                    </a:lnTo>
                    <a:lnTo>
                      <a:pt x="486" y="712"/>
                    </a:lnTo>
                    <a:lnTo>
                      <a:pt x="486" y="712"/>
                    </a:lnTo>
                    <a:lnTo>
                      <a:pt x="405" y="712"/>
                    </a:lnTo>
                    <a:lnTo>
                      <a:pt x="340" y="728"/>
                    </a:lnTo>
                    <a:lnTo>
                      <a:pt x="340" y="712"/>
                    </a:lnTo>
                    <a:lnTo>
                      <a:pt x="324" y="728"/>
                    </a:lnTo>
                    <a:lnTo>
                      <a:pt x="259" y="728"/>
                    </a:lnTo>
                    <a:lnTo>
                      <a:pt x="259" y="744"/>
                    </a:lnTo>
                    <a:lnTo>
                      <a:pt x="259" y="744"/>
                    </a:lnTo>
                    <a:close/>
                    <a:moveTo>
                      <a:pt x="1376" y="210"/>
                    </a:moveTo>
                    <a:lnTo>
                      <a:pt x="1376" y="210"/>
                    </a:lnTo>
                    <a:lnTo>
                      <a:pt x="1360" y="242"/>
                    </a:lnTo>
                    <a:lnTo>
                      <a:pt x="1360" y="242"/>
                    </a:lnTo>
                    <a:lnTo>
                      <a:pt x="1376" y="210"/>
                    </a:lnTo>
                    <a:lnTo>
                      <a:pt x="1376" y="210"/>
                    </a:lnTo>
                    <a:close/>
                    <a:moveTo>
                      <a:pt x="1311" y="356"/>
                    </a:moveTo>
                    <a:lnTo>
                      <a:pt x="1311" y="356"/>
                    </a:lnTo>
                    <a:lnTo>
                      <a:pt x="1311" y="356"/>
                    </a:lnTo>
                    <a:lnTo>
                      <a:pt x="1311" y="356"/>
                    </a:lnTo>
                    <a:lnTo>
                      <a:pt x="1295" y="372"/>
                    </a:lnTo>
                    <a:lnTo>
                      <a:pt x="1295" y="420"/>
                    </a:lnTo>
                    <a:lnTo>
                      <a:pt x="1295" y="437"/>
                    </a:lnTo>
                    <a:lnTo>
                      <a:pt x="1279" y="388"/>
                    </a:lnTo>
                    <a:lnTo>
                      <a:pt x="1279" y="356"/>
                    </a:lnTo>
                    <a:lnTo>
                      <a:pt x="1279" y="356"/>
                    </a:lnTo>
                    <a:lnTo>
                      <a:pt x="1279" y="339"/>
                    </a:lnTo>
                    <a:lnTo>
                      <a:pt x="1279" y="339"/>
                    </a:lnTo>
                    <a:lnTo>
                      <a:pt x="1295" y="339"/>
                    </a:lnTo>
                    <a:lnTo>
                      <a:pt x="1279" y="339"/>
                    </a:lnTo>
                    <a:lnTo>
                      <a:pt x="1279" y="323"/>
                    </a:lnTo>
                    <a:lnTo>
                      <a:pt x="1295" y="323"/>
                    </a:lnTo>
                    <a:lnTo>
                      <a:pt x="1279" y="323"/>
                    </a:lnTo>
                    <a:lnTo>
                      <a:pt x="1295" y="291"/>
                    </a:lnTo>
                    <a:lnTo>
                      <a:pt x="1295" y="275"/>
                    </a:lnTo>
                    <a:lnTo>
                      <a:pt x="1311" y="275"/>
                    </a:lnTo>
                    <a:lnTo>
                      <a:pt x="1311" y="259"/>
                    </a:lnTo>
                    <a:lnTo>
                      <a:pt x="1295" y="242"/>
                    </a:lnTo>
                    <a:lnTo>
                      <a:pt x="1311" y="242"/>
                    </a:lnTo>
                    <a:lnTo>
                      <a:pt x="1311" y="242"/>
                    </a:lnTo>
                    <a:lnTo>
                      <a:pt x="1311" y="226"/>
                    </a:lnTo>
                    <a:lnTo>
                      <a:pt x="1360" y="210"/>
                    </a:lnTo>
                    <a:lnTo>
                      <a:pt x="1327" y="291"/>
                    </a:lnTo>
                    <a:lnTo>
                      <a:pt x="1327" y="291"/>
                    </a:lnTo>
                    <a:lnTo>
                      <a:pt x="1327" y="323"/>
                    </a:lnTo>
                    <a:lnTo>
                      <a:pt x="1327" y="323"/>
                    </a:lnTo>
                    <a:lnTo>
                      <a:pt x="1311" y="323"/>
                    </a:lnTo>
                    <a:lnTo>
                      <a:pt x="1311" y="339"/>
                    </a:lnTo>
                    <a:lnTo>
                      <a:pt x="1327" y="339"/>
                    </a:lnTo>
                    <a:lnTo>
                      <a:pt x="1311" y="356"/>
                    </a:lnTo>
                    <a:lnTo>
                      <a:pt x="1311" y="356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15000" y="4493880"/>
                <a:ext cx="954000" cy="745920"/>
              </a:xfrm>
              <a:custGeom>
                <a:avLst/>
                <a:gdLst/>
                <a:ahLst/>
                <a:rect l="l" t="t" r="r" b="b"/>
                <a:pathLst>
                  <a:path w="1553" h="1214">
                    <a:moveTo>
                      <a:pt x="874" y="356"/>
                    </a:moveTo>
                    <a:lnTo>
                      <a:pt x="874" y="356"/>
                    </a:lnTo>
                    <a:lnTo>
                      <a:pt x="857" y="340"/>
                    </a:lnTo>
                    <a:lnTo>
                      <a:pt x="825" y="324"/>
                    </a:lnTo>
                    <a:lnTo>
                      <a:pt x="809" y="291"/>
                    </a:lnTo>
                    <a:lnTo>
                      <a:pt x="777" y="275"/>
                    </a:lnTo>
                    <a:lnTo>
                      <a:pt x="760" y="243"/>
                    </a:lnTo>
                    <a:lnTo>
                      <a:pt x="696" y="210"/>
                    </a:lnTo>
                    <a:lnTo>
                      <a:pt x="679" y="210"/>
                    </a:lnTo>
                    <a:lnTo>
                      <a:pt x="663" y="227"/>
                    </a:lnTo>
                    <a:lnTo>
                      <a:pt x="647" y="210"/>
                    </a:lnTo>
                    <a:lnTo>
                      <a:pt x="631" y="227"/>
                    </a:lnTo>
                    <a:lnTo>
                      <a:pt x="631" y="243"/>
                    </a:lnTo>
                    <a:lnTo>
                      <a:pt x="615" y="243"/>
                    </a:lnTo>
                    <a:lnTo>
                      <a:pt x="615" y="259"/>
                    </a:lnTo>
                    <a:lnTo>
                      <a:pt x="631" y="259"/>
                    </a:lnTo>
                    <a:lnTo>
                      <a:pt x="631" y="259"/>
                    </a:lnTo>
                    <a:lnTo>
                      <a:pt x="615" y="259"/>
                    </a:lnTo>
                    <a:lnTo>
                      <a:pt x="534" y="308"/>
                    </a:lnTo>
                    <a:lnTo>
                      <a:pt x="518" y="308"/>
                    </a:lnTo>
                    <a:lnTo>
                      <a:pt x="518" y="324"/>
                    </a:lnTo>
                    <a:lnTo>
                      <a:pt x="469" y="324"/>
                    </a:lnTo>
                    <a:lnTo>
                      <a:pt x="437" y="340"/>
                    </a:lnTo>
                    <a:lnTo>
                      <a:pt x="437" y="308"/>
                    </a:lnTo>
                    <a:lnTo>
                      <a:pt x="437" y="291"/>
                    </a:lnTo>
                    <a:lnTo>
                      <a:pt x="437" y="291"/>
                    </a:lnTo>
                    <a:lnTo>
                      <a:pt x="437" y="308"/>
                    </a:lnTo>
                    <a:lnTo>
                      <a:pt x="453" y="340"/>
                    </a:lnTo>
                    <a:lnTo>
                      <a:pt x="453" y="324"/>
                    </a:lnTo>
                    <a:lnTo>
                      <a:pt x="453" y="308"/>
                    </a:lnTo>
                    <a:lnTo>
                      <a:pt x="437" y="275"/>
                    </a:lnTo>
                    <a:lnTo>
                      <a:pt x="388" y="259"/>
                    </a:lnTo>
                    <a:lnTo>
                      <a:pt x="388" y="243"/>
                    </a:lnTo>
                    <a:lnTo>
                      <a:pt x="420" y="259"/>
                    </a:lnTo>
                    <a:lnTo>
                      <a:pt x="420" y="259"/>
                    </a:lnTo>
                    <a:lnTo>
                      <a:pt x="420" y="259"/>
                    </a:lnTo>
                    <a:lnTo>
                      <a:pt x="437" y="259"/>
                    </a:lnTo>
                    <a:lnTo>
                      <a:pt x="437" y="259"/>
                    </a:lnTo>
                    <a:lnTo>
                      <a:pt x="420" y="259"/>
                    </a:lnTo>
                    <a:lnTo>
                      <a:pt x="404" y="243"/>
                    </a:lnTo>
                    <a:lnTo>
                      <a:pt x="372" y="227"/>
                    </a:lnTo>
                    <a:lnTo>
                      <a:pt x="372" y="210"/>
                    </a:lnTo>
                    <a:lnTo>
                      <a:pt x="388" y="210"/>
                    </a:lnTo>
                    <a:lnTo>
                      <a:pt x="388" y="210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40" y="210"/>
                    </a:lnTo>
                    <a:lnTo>
                      <a:pt x="340" y="227"/>
                    </a:lnTo>
                    <a:lnTo>
                      <a:pt x="356" y="227"/>
                    </a:lnTo>
                    <a:lnTo>
                      <a:pt x="372" y="243"/>
                    </a:lnTo>
                    <a:lnTo>
                      <a:pt x="307" y="227"/>
                    </a:lnTo>
                    <a:lnTo>
                      <a:pt x="242" y="210"/>
                    </a:lnTo>
                    <a:lnTo>
                      <a:pt x="210" y="194"/>
                    </a:lnTo>
                    <a:lnTo>
                      <a:pt x="242" y="194"/>
                    </a:lnTo>
                    <a:lnTo>
                      <a:pt x="259" y="194"/>
                    </a:lnTo>
                    <a:lnTo>
                      <a:pt x="259" y="194"/>
                    </a:lnTo>
                    <a:lnTo>
                      <a:pt x="291" y="194"/>
                    </a:lnTo>
                    <a:lnTo>
                      <a:pt x="291" y="194"/>
                    </a:lnTo>
                    <a:lnTo>
                      <a:pt x="259" y="178"/>
                    </a:lnTo>
                    <a:lnTo>
                      <a:pt x="226" y="194"/>
                    </a:lnTo>
                    <a:lnTo>
                      <a:pt x="226" y="178"/>
                    </a:lnTo>
                    <a:lnTo>
                      <a:pt x="194" y="194"/>
                    </a:lnTo>
                    <a:lnTo>
                      <a:pt x="162" y="210"/>
                    </a:lnTo>
                    <a:lnTo>
                      <a:pt x="81" y="227"/>
                    </a:lnTo>
                    <a:lnTo>
                      <a:pt x="129" y="194"/>
                    </a:lnTo>
                    <a:lnTo>
                      <a:pt x="113" y="194"/>
                    </a:lnTo>
                    <a:lnTo>
                      <a:pt x="113" y="162"/>
                    </a:lnTo>
                    <a:lnTo>
                      <a:pt x="113" y="178"/>
                    </a:lnTo>
                    <a:lnTo>
                      <a:pt x="113" y="194"/>
                    </a:lnTo>
                    <a:lnTo>
                      <a:pt x="97" y="178"/>
                    </a:lnTo>
                    <a:lnTo>
                      <a:pt x="81" y="178"/>
                    </a:lnTo>
                    <a:lnTo>
                      <a:pt x="97" y="194"/>
                    </a:lnTo>
                    <a:lnTo>
                      <a:pt x="64" y="227"/>
                    </a:lnTo>
                    <a:lnTo>
                      <a:pt x="48" y="243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8" y="194"/>
                    </a:lnTo>
                    <a:lnTo>
                      <a:pt x="32" y="194"/>
                    </a:lnTo>
                    <a:lnTo>
                      <a:pt x="48" y="178"/>
                    </a:lnTo>
                    <a:lnTo>
                      <a:pt x="48" y="162"/>
                    </a:lnTo>
                    <a:lnTo>
                      <a:pt x="0" y="130"/>
                    </a:lnTo>
                    <a:lnTo>
                      <a:pt x="0" y="97"/>
                    </a:lnTo>
                    <a:lnTo>
                      <a:pt x="81" y="81"/>
                    </a:lnTo>
                    <a:lnTo>
                      <a:pt x="145" y="81"/>
                    </a:lnTo>
                    <a:lnTo>
                      <a:pt x="162" y="81"/>
                    </a:lnTo>
                    <a:lnTo>
                      <a:pt x="226" y="65"/>
                    </a:lnTo>
                    <a:lnTo>
                      <a:pt x="259" y="65"/>
                    </a:lnTo>
                    <a:lnTo>
                      <a:pt x="291" y="65"/>
                    </a:lnTo>
                    <a:lnTo>
                      <a:pt x="388" y="49"/>
                    </a:lnTo>
                    <a:lnTo>
                      <a:pt x="388" y="49"/>
                    </a:lnTo>
                    <a:lnTo>
                      <a:pt x="485" y="49"/>
                    </a:lnTo>
                    <a:lnTo>
                      <a:pt x="501" y="65"/>
                    </a:lnTo>
                    <a:lnTo>
                      <a:pt x="501" y="81"/>
                    </a:lnTo>
                    <a:lnTo>
                      <a:pt x="518" y="97"/>
                    </a:lnTo>
                    <a:lnTo>
                      <a:pt x="518" y="97"/>
                    </a:lnTo>
                    <a:lnTo>
                      <a:pt x="598" y="97"/>
                    </a:lnTo>
                    <a:lnTo>
                      <a:pt x="615" y="97"/>
                    </a:lnTo>
                    <a:lnTo>
                      <a:pt x="663" y="97"/>
                    </a:lnTo>
                    <a:lnTo>
                      <a:pt x="679" y="97"/>
                    </a:lnTo>
                    <a:lnTo>
                      <a:pt x="728" y="81"/>
                    </a:lnTo>
                    <a:lnTo>
                      <a:pt x="744" y="81"/>
                    </a:lnTo>
                    <a:lnTo>
                      <a:pt x="809" y="81"/>
                    </a:lnTo>
                    <a:lnTo>
                      <a:pt x="809" y="81"/>
                    </a:lnTo>
                    <a:lnTo>
                      <a:pt x="841" y="81"/>
                    </a:lnTo>
                    <a:lnTo>
                      <a:pt x="922" y="81"/>
                    </a:lnTo>
                    <a:lnTo>
                      <a:pt x="938" y="65"/>
                    </a:lnTo>
                    <a:lnTo>
                      <a:pt x="955" y="65"/>
                    </a:lnTo>
                    <a:lnTo>
                      <a:pt x="971" y="65"/>
                    </a:lnTo>
                    <a:lnTo>
                      <a:pt x="1003" y="65"/>
                    </a:lnTo>
                    <a:lnTo>
                      <a:pt x="1003" y="81"/>
                    </a:lnTo>
                    <a:lnTo>
                      <a:pt x="1019" y="81"/>
                    </a:lnTo>
                    <a:lnTo>
                      <a:pt x="1019" y="113"/>
                    </a:lnTo>
                    <a:lnTo>
                      <a:pt x="1052" y="113"/>
                    </a:lnTo>
                    <a:lnTo>
                      <a:pt x="1052" y="65"/>
                    </a:lnTo>
                    <a:lnTo>
                      <a:pt x="1035" y="49"/>
                    </a:lnTo>
                    <a:lnTo>
                      <a:pt x="1035" y="16"/>
                    </a:lnTo>
                    <a:lnTo>
                      <a:pt x="1035" y="16"/>
                    </a:lnTo>
                    <a:lnTo>
                      <a:pt x="1052" y="16"/>
                    </a:lnTo>
                    <a:lnTo>
                      <a:pt x="1052" y="0"/>
                    </a:lnTo>
                    <a:lnTo>
                      <a:pt x="1052" y="0"/>
                    </a:lnTo>
                    <a:lnTo>
                      <a:pt x="1084" y="16"/>
                    </a:lnTo>
                    <a:lnTo>
                      <a:pt x="1133" y="16"/>
                    </a:lnTo>
                    <a:lnTo>
                      <a:pt x="1133" y="49"/>
                    </a:lnTo>
                    <a:lnTo>
                      <a:pt x="1133" y="49"/>
                    </a:lnTo>
                    <a:lnTo>
                      <a:pt x="1149" y="65"/>
                    </a:lnTo>
                    <a:lnTo>
                      <a:pt x="1149" y="81"/>
                    </a:lnTo>
                    <a:lnTo>
                      <a:pt x="1165" y="97"/>
                    </a:lnTo>
                    <a:lnTo>
                      <a:pt x="1165" y="113"/>
                    </a:lnTo>
                    <a:lnTo>
                      <a:pt x="1197" y="178"/>
                    </a:lnTo>
                    <a:lnTo>
                      <a:pt x="1197" y="194"/>
                    </a:lnTo>
                    <a:lnTo>
                      <a:pt x="1213" y="210"/>
                    </a:lnTo>
                    <a:lnTo>
                      <a:pt x="1213" y="227"/>
                    </a:lnTo>
                    <a:lnTo>
                      <a:pt x="1246" y="275"/>
                    </a:lnTo>
                    <a:lnTo>
                      <a:pt x="1262" y="291"/>
                    </a:lnTo>
                    <a:lnTo>
                      <a:pt x="1343" y="405"/>
                    </a:lnTo>
                    <a:lnTo>
                      <a:pt x="1343" y="421"/>
                    </a:lnTo>
                    <a:lnTo>
                      <a:pt x="1327" y="405"/>
                    </a:lnTo>
                    <a:lnTo>
                      <a:pt x="1327" y="405"/>
                    </a:lnTo>
                    <a:lnTo>
                      <a:pt x="1359" y="486"/>
                    </a:lnTo>
                    <a:lnTo>
                      <a:pt x="1424" y="599"/>
                    </a:lnTo>
                    <a:lnTo>
                      <a:pt x="1424" y="599"/>
                    </a:lnTo>
                    <a:lnTo>
                      <a:pt x="1424" y="599"/>
                    </a:lnTo>
                    <a:lnTo>
                      <a:pt x="1440" y="631"/>
                    </a:lnTo>
                    <a:lnTo>
                      <a:pt x="1456" y="664"/>
                    </a:lnTo>
                    <a:lnTo>
                      <a:pt x="1489" y="712"/>
                    </a:lnTo>
                    <a:lnTo>
                      <a:pt x="1505" y="728"/>
                    </a:lnTo>
                    <a:lnTo>
                      <a:pt x="1489" y="728"/>
                    </a:lnTo>
                    <a:lnTo>
                      <a:pt x="1472" y="728"/>
                    </a:lnTo>
                    <a:lnTo>
                      <a:pt x="1489" y="728"/>
                    </a:lnTo>
                    <a:lnTo>
                      <a:pt x="1505" y="728"/>
                    </a:lnTo>
                    <a:lnTo>
                      <a:pt x="1521" y="745"/>
                    </a:lnTo>
                    <a:lnTo>
                      <a:pt x="1537" y="777"/>
                    </a:lnTo>
                    <a:lnTo>
                      <a:pt x="1521" y="777"/>
                    </a:lnTo>
                    <a:lnTo>
                      <a:pt x="1553" y="809"/>
                    </a:lnTo>
                    <a:lnTo>
                      <a:pt x="1553" y="906"/>
                    </a:lnTo>
                    <a:lnTo>
                      <a:pt x="1553" y="987"/>
                    </a:lnTo>
                    <a:lnTo>
                      <a:pt x="1553" y="1036"/>
                    </a:lnTo>
                    <a:lnTo>
                      <a:pt x="1537" y="1068"/>
                    </a:lnTo>
                    <a:lnTo>
                      <a:pt x="1537" y="1101"/>
                    </a:lnTo>
                    <a:lnTo>
                      <a:pt x="1553" y="1117"/>
                    </a:lnTo>
                    <a:lnTo>
                      <a:pt x="1537" y="1149"/>
                    </a:lnTo>
                    <a:lnTo>
                      <a:pt x="1537" y="1165"/>
                    </a:lnTo>
                    <a:lnTo>
                      <a:pt x="1505" y="1165"/>
                    </a:lnTo>
                    <a:lnTo>
                      <a:pt x="1472" y="1182"/>
                    </a:lnTo>
                    <a:lnTo>
                      <a:pt x="1440" y="1182"/>
                    </a:lnTo>
                    <a:lnTo>
                      <a:pt x="1424" y="1198"/>
                    </a:lnTo>
                    <a:lnTo>
                      <a:pt x="1392" y="1198"/>
                    </a:lnTo>
                    <a:lnTo>
                      <a:pt x="1392" y="1198"/>
                    </a:lnTo>
                    <a:lnTo>
                      <a:pt x="1375" y="1165"/>
                    </a:lnTo>
                    <a:lnTo>
                      <a:pt x="1392" y="1165"/>
                    </a:lnTo>
                    <a:lnTo>
                      <a:pt x="1408" y="1182"/>
                    </a:lnTo>
                    <a:lnTo>
                      <a:pt x="1424" y="1182"/>
                    </a:lnTo>
                    <a:lnTo>
                      <a:pt x="1424" y="1165"/>
                    </a:lnTo>
                    <a:lnTo>
                      <a:pt x="1424" y="1149"/>
                    </a:lnTo>
                    <a:lnTo>
                      <a:pt x="1375" y="1149"/>
                    </a:lnTo>
                    <a:lnTo>
                      <a:pt x="1343" y="1084"/>
                    </a:lnTo>
                    <a:lnTo>
                      <a:pt x="1359" y="1084"/>
                    </a:lnTo>
                    <a:lnTo>
                      <a:pt x="1343" y="1052"/>
                    </a:lnTo>
                    <a:lnTo>
                      <a:pt x="1294" y="1052"/>
                    </a:lnTo>
                    <a:lnTo>
                      <a:pt x="1246" y="1052"/>
                    </a:lnTo>
                    <a:lnTo>
                      <a:pt x="1246" y="1036"/>
                    </a:lnTo>
                    <a:lnTo>
                      <a:pt x="1230" y="1003"/>
                    </a:lnTo>
                    <a:lnTo>
                      <a:pt x="1213" y="971"/>
                    </a:lnTo>
                    <a:lnTo>
                      <a:pt x="1213" y="971"/>
                    </a:lnTo>
                    <a:lnTo>
                      <a:pt x="1213" y="939"/>
                    </a:lnTo>
                    <a:lnTo>
                      <a:pt x="1197" y="939"/>
                    </a:lnTo>
                    <a:lnTo>
                      <a:pt x="1181" y="923"/>
                    </a:lnTo>
                    <a:lnTo>
                      <a:pt x="1197" y="923"/>
                    </a:lnTo>
                    <a:lnTo>
                      <a:pt x="1197" y="906"/>
                    </a:lnTo>
                    <a:lnTo>
                      <a:pt x="1213" y="890"/>
                    </a:lnTo>
                    <a:lnTo>
                      <a:pt x="1197" y="890"/>
                    </a:lnTo>
                    <a:lnTo>
                      <a:pt x="1181" y="923"/>
                    </a:lnTo>
                    <a:lnTo>
                      <a:pt x="1165" y="923"/>
                    </a:lnTo>
                    <a:lnTo>
                      <a:pt x="1149" y="890"/>
                    </a:lnTo>
                    <a:lnTo>
                      <a:pt x="1149" y="874"/>
                    </a:lnTo>
                    <a:lnTo>
                      <a:pt x="1149" y="858"/>
                    </a:lnTo>
                    <a:lnTo>
                      <a:pt x="1149" y="842"/>
                    </a:lnTo>
                    <a:lnTo>
                      <a:pt x="1165" y="842"/>
                    </a:lnTo>
                    <a:lnTo>
                      <a:pt x="1165" y="825"/>
                    </a:lnTo>
                    <a:lnTo>
                      <a:pt x="1165" y="825"/>
                    </a:lnTo>
                    <a:lnTo>
                      <a:pt x="1165" y="825"/>
                    </a:lnTo>
                    <a:lnTo>
                      <a:pt x="1133" y="842"/>
                    </a:lnTo>
                    <a:lnTo>
                      <a:pt x="1116" y="825"/>
                    </a:lnTo>
                    <a:lnTo>
                      <a:pt x="1100" y="825"/>
                    </a:lnTo>
                    <a:lnTo>
                      <a:pt x="1116" y="842"/>
                    </a:lnTo>
                    <a:lnTo>
                      <a:pt x="1133" y="858"/>
                    </a:lnTo>
                    <a:lnTo>
                      <a:pt x="1133" y="874"/>
                    </a:lnTo>
                    <a:lnTo>
                      <a:pt x="1116" y="874"/>
                    </a:lnTo>
                    <a:lnTo>
                      <a:pt x="1100" y="842"/>
                    </a:lnTo>
                    <a:lnTo>
                      <a:pt x="1084" y="842"/>
                    </a:lnTo>
                    <a:lnTo>
                      <a:pt x="1084" y="842"/>
                    </a:lnTo>
                    <a:lnTo>
                      <a:pt x="1100" y="858"/>
                    </a:lnTo>
                    <a:lnTo>
                      <a:pt x="1084" y="842"/>
                    </a:lnTo>
                    <a:lnTo>
                      <a:pt x="1052" y="793"/>
                    </a:lnTo>
                    <a:lnTo>
                      <a:pt x="1052" y="793"/>
                    </a:lnTo>
                    <a:lnTo>
                      <a:pt x="1052" y="793"/>
                    </a:lnTo>
                    <a:lnTo>
                      <a:pt x="1035" y="777"/>
                    </a:lnTo>
                    <a:lnTo>
                      <a:pt x="1052" y="777"/>
                    </a:lnTo>
                    <a:lnTo>
                      <a:pt x="1035" y="761"/>
                    </a:lnTo>
                    <a:lnTo>
                      <a:pt x="1019" y="745"/>
                    </a:lnTo>
                    <a:lnTo>
                      <a:pt x="1019" y="745"/>
                    </a:lnTo>
                    <a:lnTo>
                      <a:pt x="1019" y="745"/>
                    </a:lnTo>
                    <a:lnTo>
                      <a:pt x="1019" y="728"/>
                    </a:lnTo>
                    <a:lnTo>
                      <a:pt x="1052" y="745"/>
                    </a:lnTo>
                    <a:lnTo>
                      <a:pt x="1052" y="728"/>
                    </a:lnTo>
                    <a:lnTo>
                      <a:pt x="1068" y="728"/>
                    </a:lnTo>
                    <a:lnTo>
                      <a:pt x="1035" y="728"/>
                    </a:lnTo>
                    <a:lnTo>
                      <a:pt x="1019" y="728"/>
                    </a:lnTo>
                    <a:lnTo>
                      <a:pt x="1035" y="728"/>
                    </a:lnTo>
                    <a:lnTo>
                      <a:pt x="1035" y="712"/>
                    </a:lnTo>
                    <a:lnTo>
                      <a:pt x="1019" y="728"/>
                    </a:lnTo>
                    <a:lnTo>
                      <a:pt x="1035" y="712"/>
                    </a:lnTo>
                    <a:lnTo>
                      <a:pt x="1035" y="712"/>
                    </a:lnTo>
                    <a:lnTo>
                      <a:pt x="1052" y="664"/>
                    </a:lnTo>
                    <a:lnTo>
                      <a:pt x="1052" y="647"/>
                    </a:lnTo>
                    <a:lnTo>
                      <a:pt x="1052" y="631"/>
                    </a:lnTo>
                    <a:lnTo>
                      <a:pt x="1035" y="664"/>
                    </a:lnTo>
                    <a:lnTo>
                      <a:pt x="1035" y="664"/>
                    </a:lnTo>
                    <a:lnTo>
                      <a:pt x="1035" y="647"/>
                    </a:lnTo>
                    <a:lnTo>
                      <a:pt x="1003" y="631"/>
                    </a:lnTo>
                    <a:lnTo>
                      <a:pt x="1003" y="631"/>
                    </a:lnTo>
                    <a:lnTo>
                      <a:pt x="1003" y="615"/>
                    </a:lnTo>
                    <a:lnTo>
                      <a:pt x="1003" y="631"/>
                    </a:lnTo>
                    <a:lnTo>
                      <a:pt x="1003" y="631"/>
                    </a:lnTo>
                    <a:lnTo>
                      <a:pt x="1003" y="631"/>
                    </a:lnTo>
                    <a:lnTo>
                      <a:pt x="987" y="647"/>
                    </a:lnTo>
                    <a:lnTo>
                      <a:pt x="1019" y="647"/>
                    </a:lnTo>
                    <a:lnTo>
                      <a:pt x="1019" y="664"/>
                    </a:lnTo>
                    <a:lnTo>
                      <a:pt x="1019" y="696"/>
                    </a:lnTo>
                    <a:lnTo>
                      <a:pt x="1003" y="696"/>
                    </a:lnTo>
                    <a:lnTo>
                      <a:pt x="987" y="664"/>
                    </a:lnTo>
                    <a:lnTo>
                      <a:pt x="1003" y="696"/>
                    </a:lnTo>
                    <a:lnTo>
                      <a:pt x="1003" y="696"/>
                    </a:lnTo>
                    <a:lnTo>
                      <a:pt x="971" y="664"/>
                    </a:lnTo>
                    <a:lnTo>
                      <a:pt x="971" y="599"/>
                    </a:lnTo>
                    <a:lnTo>
                      <a:pt x="987" y="534"/>
                    </a:lnTo>
                    <a:lnTo>
                      <a:pt x="987" y="486"/>
                    </a:lnTo>
                    <a:lnTo>
                      <a:pt x="971" y="453"/>
                    </a:lnTo>
                    <a:lnTo>
                      <a:pt x="987" y="453"/>
                    </a:lnTo>
                    <a:lnTo>
                      <a:pt x="987" y="437"/>
                    </a:lnTo>
                    <a:lnTo>
                      <a:pt x="955" y="421"/>
                    </a:lnTo>
                    <a:lnTo>
                      <a:pt x="938" y="388"/>
                    </a:lnTo>
                    <a:lnTo>
                      <a:pt x="890" y="388"/>
                    </a:lnTo>
                    <a:lnTo>
                      <a:pt x="890" y="372"/>
                    </a:lnTo>
                    <a:lnTo>
                      <a:pt x="874" y="372"/>
                    </a:lnTo>
                    <a:lnTo>
                      <a:pt x="874" y="356"/>
                    </a:lnTo>
                    <a:lnTo>
                      <a:pt x="874" y="356"/>
                    </a:lnTo>
                    <a:close/>
                    <a:moveTo>
                      <a:pt x="145" y="210"/>
                    </a:moveTo>
                    <a:lnTo>
                      <a:pt x="64" y="227"/>
                    </a:lnTo>
                    <a:lnTo>
                      <a:pt x="145" y="210"/>
                    </a:lnTo>
                    <a:lnTo>
                      <a:pt x="162" y="210"/>
                    </a:lnTo>
                    <a:lnTo>
                      <a:pt x="162" y="210"/>
                    </a:lnTo>
                    <a:lnTo>
                      <a:pt x="145" y="210"/>
                    </a:lnTo>
                    <a:lnTo>
                      <a:pt x="145" y="210"/>
                    </a:lnTo>
                    <a:close/>
                    <a:moveTo>
                      <a:pt x="1343" y="405"/>
                    </a:moveTo>
                    <a:lnTo>
                      <a:pt x="1327" y="388"/>
                    </a:lnTo>
                    <a:lnTo>
                      <a:pt x="1294" y="356"/>
                    </a:lnTo>
                    <a:lnTo>
                      <a:pt x="1327" y="388"/>
                    </a:lnTo>
                    <a:lnTo>
                      <a:pt x="1343" y="405"/>
                    </a:lnTo>
                    <a:lnTo>
                      <a:pt x="1343" y="405"/>
                    </a:lnTo>
                    <a:close/>
                    <a:moveTo>
                      <a:pt x="1343" y="405"/>
                    </a:moveTo>
                    <a:lnTo>
                      <a:pt x="1375" y="437"/>
                    </a:lnTo>
                    <a:lnTo>
                      <a:pt x="1392" y="469"/>
                    </a:lnTo>
                    <a:lnTo>
                      <a:pt x="1392" y="486"/>
                    </a:lnTo>
                    <a:lnTo>
                      <a:pt x="1375" y="486"/>
                    </a:lnTo>
                    <a:lnTo>
                      <a:pt x="1375" y="453"/>
                    </a:lnTo>
                    <a:lnTo>
                      <a:pt x="1375" y="437"/>
                    </a:lnTo>
                    <a:lnTo>
                      <a:pt x="1359" y="437"/>
                    </a:lnTo>
                    <a:lnTo>
                      <a:pt x="1359" y="453"/>
                    </a:lnTo>
                    <a:lnTo>
                      <a:pt x="1343" y="437"/>
                    </a:lnTo>
                    <a:lnTo>
                      <a:pt x="1343" y="437"/>
                    </a:lnTo>
                    <a:lnTo>
                      <a:pt x="1343" y="421"/>
                    </a:lnTo>
                    <a:lnTo>
                      <a:pt x="1343" y="421"/>
                    </a:lnTo>
                    <a:lnTo>
                      <a:pt x="1359" y="437"/>
                    </a:lnTo>
                    <a:lnTo>
                      <a:pt x="1343" y="405"/>
                    </a:lnTo>
                    <a:lnTo>
                      <a:pt x="1343" y="405"/>
                    </a:lnTo>
                    <a:close/>
                    <a:moveTo>
                      <a:pt x="1359" y="453"/>
                    </a:moveTo>
                    <a:lnTo>
                      <a:pt x="1359" y="437"/>
                    </a:lnTo>
                    <a:lnTo>
                      <a:pt x="1375" y="453"/>
                    </a:lnTo>
                    <a:lnTo>
                      <a:pt x="1375" y="486"/>
                    </a:lnTo>
                    <a:lnTo>
                      <a:pt x="1375" y="502"/>
                    </a:lnTo>
                    <a:lnTo>
                      <a:pt x="1392" y="534"/>
                    </a:lnTo>
                    <a:lnTo>
                      <a:pt x="1359" y="486"/>
                    </a:lnTo>
                    <a:lnTo>
                      <a:pt x="1359" y="453"/>
                    </a:lnTo>
                    <a:lnTo>
                      <a:pt x="1359" y="453"/>
                    </a:lnTo>
                    <a:close/>
                    <a:moveTo>
                      <a:pt x="1149" y="923"/>
                    </a:moveTo>
                    <a:lnTo>
                      <a:pt x="1165" y="939"/>
                    </a:lnTo>
                    <a:lnTo>
                      <a:pt x="1165" y="939"/>
                    </a:lnTo>
                    <a:lnTo>
                      <a:pt x="1149" y="906"/>
                    </a:lnTo>
                    <a:lnTo>
                      <a:pt x="1133" y="906"/>
                    </a:lnTo>
                    <a:lnTo>
                      <a:pt x="1149" y="890"/>
                    </a:lnTo>
                    <a:lnTo>
                      <a:pt x="1149" y="923"/>
                    </a:lnTo>
                    <a:lnTo>
                      <a:pt x="1149" y="923"/>
                    </a:lnTo>
                    <a:close/>
                    <a:moveTo>
                      <a:pt x="1553" y="1117"/>
                    </a:moveTo>
                    <a:lnTo>
                      <a:pt x="1537" y="1165"/>
                    </a:lnTo>
                    <a:lnTo>
                      <a:pt x="1505" y="1214"/>
                    </a:lnTo>
                    <a:lnTo>
                      <a:pt x="1537" y="1149"/>
                    </a:lnTo>
                    <a:lnTo>
                      <a:pt x="1553" y="1149"/>
                    </a:lnTo>
                    <a:lnTo>
                      <a:pt x="1537" y="1133"/>
                    </a:lnTo>
                    <a:lnTo>
                      <a:pt x="1553" y="1117"/>
                    </a:lnTo>
                    <a:lnTo>
                      <a:pt x="1553" y="1117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83120" y="3954240"/>
                <a:ext cx="566280" cy="607680"/>
              </a:xfrm>
              <a:custGeom>
                <a:avLst/>
                <a:gdLst/>
                <a:ahLst/>
                <a:rect l="l" t="t" r="r" b="b"/>
                <a:pathLst>
                  <a:path w="922" h="987">
                    <a:moveTo>
                      <a:pt x="162" y="745"/>
                    </a:moveTo>
                    <a:lnTo>
                      <a:pt x="162" y="745"/>
                    </a:lnTo>
                    <a:lnTo>
                      <a:pt x="162" y="728"/>
                    </a:lnTo>
                    <a:lnTo>
                      <a:pt x="162" y="712"/>
                    </a:lnTo>
                    <a:lnTo>
                      <a:pt x="162" y="680"/>
                    </a:lnTo>
                    <a:lnTo>
                      <a:pt x="178" y="664"/>
                    </a:lnTo>
                    <a:lnTo>
                      <a:pt x="194" y="647"/>
                    </a:lnTo>
                    <a:lnTo>
                      <a:pt x="194" y="631"/>
                    </a:lnTo>
                    <a:lnTo>
                      <a:pt x="178" y="631"/>
                    </a:lnTo>
                    <a:lnTo>
                      <a:pt x="178" y="615"/>
                    </a:lnTo>
                    <a:lnTo>
                      <a:pt x="162" y="583"/>
                    </a:lnTo>
                    <a:lnTo>
                      <a:pt x="145" y="567"/>
                    </a:lnTo>
                    <a:lnTo>
                      <a:pt x="145" y="534"/>
                    </a:lnTo>
                    <a:lnTo>
                      <a:pt x="129" y="518"/>
                    </a:lnTo>
                    <a:lnTo>
                      <a:pt x="113" y="453"/>
                    </a:lnTo>
                    <a:lnTo>
                      <a:pt x="113" y="453"/>
                    </a:lnTo>
                    <a:lnTo>
                      <a:pt x="97" y="389"/>
                    </a:lnTo>
                    <a:lnTo>
                      <a:pt x="81" y="389"/>
                    </a:lnTo>
                    <a:lnTo>
                      <a:pt x="81" y="340"/>
                    </a:lnTo>
                    <a:lnTo>
                      <a:pt x="65" y="291"/>
                    </a:lnTo>
                    <a:lnTo>
                      <a:pt x="65" y="275"/>
                    </a:lnTo>
                    <a:lnTo>
                      <a:pt x="48" y="259"/>
                    </a:lnTo>
                    <a:lnTo>
                      <a:pt x="32" y="211"/>
                    </a:lnTo>
                    <a:lnTo>
                      <a:pt x="32" y="162"/>
                    </a:lnTo>
                    <a:lnTo>
                      <a:pt x="16" y="146"/>
                    </a:lnTo>
                    <a:lnTo>
                      <a:pt x="16" y="146"/>
                    </a:lnTo>
                    <a:lnTo>
                      <a:pt x="0" y="81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32" y="49"/>
                    </a:lnTo>
                    <a:lnTo>
                      <a:pt x="48" y="49"/>
                    </a:lnTo>
                    <a:lnTo>
                      <a:pt x="113" y="49"/>
                    </a:lnTo>
                    <a:lnTo>
                      <a:pt x="113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78" y="49"/>
                    </a:lnTo>
                    <a:lnTo>
                      <a:pt x="226" y="32"/>
                    </a:lnTo>
                    <a:lnTo>
                      <a:pt x="259" y="32"/>
                    </a:lnTo>
                    <a:lnTo>
                      <a:pt x="275" y="32"/>
                    </a:lnTo>
                    <a:lnTo>
                      <a:pt x="291" y="32"/>
                    </a:lnTo>
                    <a:lnTo>
                      <a:pt x="356" y="16"/>
                    </a:lnTo>
                    <a:lnTo>
                      <a:pt x="372" y="16"/>
                    </a:lnTo>
                    <a:lnTo>
                      <a:pt x="437" y="0"/>
                    </a:lnTo>
                    <a:lnTo>
                      <a:pt x="437" y="16"/>
                    </a:lnTo>
                    <a:lnTo>
                      <a:pt x="421" y="32"/>
                    </a:lnTo>
                    <a:lnTo>
                      <a:pt x="404" y="81"/>
                    </a:lnTo>
                    <a:lnTo>
                      <a:pt x="404" y="81"/>
                    </a:lnTo>
                    <a:lnTo>
                      <a:pt x="437" y="97"/>
                    </a:lnTo>
                    <a:lnTo>
                      <a:pt x="453" y="113"/>
                    </a:lnTo>
                    <a:lnTo>
                      <a:pt x="453" y="113"/>
                    </a:lnTo>
                    <a:lnTo>
                      <a:pt x="469" y="113"/>
                    </a:lnTo>
                    <a:lnTo>
                      <a:pt x="502" y="113"/>
                    </a:lnTo>
                    <a:lnTo>
                      <a:pt x="518" y="146"/>
                    </a:lnTo>
                    <a:lnTo>
                      <a:pt x="518" y="162"/>
                    </a:lnTo>
                    <a:lnTo>
                      <a:pt x="550" y="211"/>
                    </a:lnTo>
                    <a:lnTo>
                      <a:pt x="566" y="211"/>
                    </a:lnTo>
                    <a:lnTo>
                      <a:pt x="615" y="243"/>
                    </a:lnTo>
                    <a:lnTo>
                      <a:pt x="631" y="259"/>
                    </a:lnTo>
                    <a:lnTo>
                      <a:pt x="647" y="275"/>
                    </a:lnTo>
                    <a:lnTo>
                      <a:pt x="663" y="291"/>
                    </a:lnTo>
                    <a:lnTo>
                      <a:pt x="663" y="291"/>
                    </a:lnTo>
                    <a:lnTo>
                      <a:pt x="680" y="291"/>
                    </a:lnTo>
                    <a:lnTo>
                      <a:pt x="696" y="308"/>
                    </a:lnTo>
                    <a:lnTo>
                      <a:pt x="696" y="324"/>
                    </a:lnTo>
                    <a:lnTo>
                      <a:pt x="712" y="340"/>
                    </a:lnTo>
                    <a:lnTo>
                      <a:pt x="712" y="340"/>
                    </a:lnTo>
                    <a:lnTo>
                      <a:pt x="712" y="340"/>
                    </a:lnTo>
                    <a:lnTo>
                      <a:pt x="712" y="340"/>
                    </a:lnTo>
                    <a:lnTo>
                      <a:pt x="712" y="356"/>
                    </a:lnTo>
                    <a:lnTo>
                      <a:pt x="728" y="356"/>
                    </a:lnTo>
                    <a:lnTo>
                      <a:pt x="744" y="372"/>
                    </a:lnTo>
                    <a:lnTo>
                      <a:pt x="760" y="389"/>
                    </a:lnTo>
                    <a:lnTo>
                      <a:pt x="777" y="389"/>
                    </a:lnTo>
                    <a:lnTo>
                      <a:pt x="793" y="389"/>
                    </a:lnTo>
                    <a:lnTo>
                      <a:pt x="793" y="405"/>
                    </a:lnTo>
                    <a:lnTo>
                      <a:pt x="793" y="421"/>
                    </a:lnTo>
                    <a:lnTo>
                      <a:pt x="793" y="421"/>
                    </a:lnTo>
                    <a:lnTo>
                      <a:pt x="809" y="437"/>
                    </a:lnTo>
                    <a:lnTo>
                      <a:pt x="809" y="453"/>
                    </a:lnTo>
                    <a:lnTo>
                      <a:pt x="809" y="469"/>
                    </a:lnTo>
                    <a:lnTo>
                      <a:pt x="825" y="486"/>
                    </a:lnTo>
                    <a:lnTo>
                      <a:pt x="841" y="486"/>
                    </a:lnTo>
                    <a:lnTo>
                      <a:pt x="874" y="534"/>
                    </a:lnTo>
                    <a:lnTo>
                      <a:pt x="874" y="550"/>
                    </a:lnTo>
                    <a:lnTo>
                      <a:pt x="890" y="583"/>
                    </a:lnTo>
                    <a:lnTo>
                      <a:pt x="922" y="599"/>
                    </a:lnTo>
                    <a:lnTo>
                      <a:pt x="922" y="615"/>
                    </a:lnTo>
                    <a:lnTo>
                      <a:pt x="922" y="615"/>
                    </a:lnTo>
                    <a:lnTo>
                      <a:pt x="890" y="631"/>
                    </a:lnTo>
                    <a:lnTo>
                      <a:pt x="874" y="631"/>
                    </a:lnTo>
                    <a:lnTo>
                      <a:pt x="874" y="631"/>
                    </a:lnTo>
                    <a:lnTo>
                      <a:pt x="874" y="615"/>
                    </a:lnTo>
                    <a:lnTo>
                      <a:pt x="874" y="631"/>
                    </a:lnTo>
                    <a:lnTo>
                      <a:pt x="858" y="615"/>
                    </a:lnTo>
                    <a:lnTo>
                      <a:pt x="874" y="631"/>
                    </a:lnTo>
                    <a:lnTo>
                      <a:pt x="874" y="615"/>
                    </a:lnTo>
                    <a:lnTo>
                      <a:pt x="874" y="631"/>
                    </a:lnTo>
                    <a:lnTo>
                      <a:pt x="874" y="631"/>
                    </a:lnTo>
                    <a:lnTo>
                      <a:pt x="890" y="631"/>
                    </a:lnTo>
                    <a:lnTo>
                      <a:pt x="906" y="631"/>
                    </a:lnTo>
                    <a:lnTo>
                      <a:pt x="906" y="647"/>
                    </a:lnTo>
                    <a:lnTo>
                      <a:pt x="890" y="664"/>
                    </a:lnTo>
                    <a:lnTo>
                      <a:pt x="890" y="647"/>
                    </a:lnTo>
                    <a:lnTo>
                      <a:pt x="874" y="647"/>
                    </a:lnTo>
                    <a:lnTo>
                      <a:pt x="890" y="664"/>
                    </a:lnTo>
                    <a:lnTo>
                      <a:pt x="858" y="647"/>
                    </a:lnTo>
                    <a:lnTo>
                      <a:pt x="890" y="680"/>
                    </a:lnTo>
                    <a:lnTo>
                      <a:pt x="890" y="696"/>
                    </a:lnTo>
                    <a:lnTo>
                      <a:pt x="874" y="680"/>
                    </a:lnTo>
                    <a:lnTo>
                      <a:pt x="874" y="696"/>
                    </a:lnTo>
                    <a:lnTo>
                      <a:pt x="890" y="712"/>
                    </a:lnTo>
                    <a:lnTo>
                      <a:pt x="890" y="712"/>
                    </a:lnTo>
                    <a:lnTo>
                      <a:pt x="874" y="745"/>
                    </a:lnTo>
                    <a:lnTo>
                      <a:pt x="858" y="745"/>
                    </a:lnTo>
                    <a:lnTo>
                      <a:pt x="858" y="761"/>
                    </a:lnTo>
                    <a:lnTo>
                      <a:pt x="858" y="761"/>
                    </a:lnTo>
                    <a:lnTo>
                      <a:pt x="858" y="761"/>
                    </a:lnTo>
                    <a:lnTo>
                      <a:pt x="874" y="761"/>
                    </a:lnTo>
                    <a:lnTo>
                      <a:pt x="874" y="777"/>
                    </a:lnTo>
                    <a:lnTo>
                      <a:pt x="874" y="793"/>
                    </a:lnTo>
                    <a:lnTo>
                      <a:pt x="841" y="793"/>
                    </a:lnTo>
                    <a:lnTo>
                      <a:pt x="841" y="809"/>
                    </a:lnTo>
                    <a:lnTo>
                      <a:pt x="858" y="826"/>
                    </a:lnTo>
                    <a:lnTo>
                      <a:pt x="841" y="809"/>
                    </a:lnTo>
                    <a:lnTo>
                      <a:pt x="858" y="826"/>
                    </a:lnTo>
                    <a:lnTo>
                      <a:pt x="841" y="842"/>
                    </a:lnTo>
                    <a:lnTo>
                      <a:pt x="858" y="842"/>
                    </a:lnTo>
                    <a:lnTo>
                      <a:pt x="858" y="858"/>
                    </a:lnTo>
                    <a:lnTo>
                      <a:pt x="858" y="874"/>
                    </a:lnTo>
                    <a:lnTo>
                      <a:pt x="858" y="890"/>
                    </a:lnTo>
                    <a:lnTo>
                      <a:pt x="809" y="890"/>
                    </a:lnTo>
                    <a:lnTo>
                      <a:pt x="777" y="874"/>
                    </a:lnTo>
                    <a:lnTo>
                      <a:pt x="777" y="874"/>
                    </a:lnTo>
                    <a:lnTo>
                      <a:pt x="777" y="890"/>
                    </a:lnTo>
                    <a:lnTo>
                      <a:pt x="760" y="890"/>
                    </a:lnTo>
                    <a:lnTo>
                      <a:pt x="760" y="890"/>
                    </a:lnTo>
                    <a:lnTo>
                      <a:pt x="760" y="923"/>
                    </a:lnTo>
                    <a:lnTo>
                      <a:pt x="777" y="939"/>
                    </a:lnTo>
                    <a:lnTo>
                      <a:pt x="777" y="987"/>
                    </a:lnTo>
                    <a:lnTo>
                      <a:pt x="744" y="987"/>
                    </a:lnTo>
                    <a:lnTo>
                      <a:pt x="744" y="955"/>
                    </a:lnTo>
                    <a:lnTo>
                      <a:pt x="728" y="955"/>
                    </a:lnTo>
                    <a:lnTo>
                      <a:pt x="728" y="939"/>
                    </a:lnTo>
                    <a:lnTo>
                      <a:pt x="696" y="939"/>
                    </a:lnTo>
                    <a:lnTo>
                      <a:pt x="680" y="939"/>
                    </a:lnTo>
                    <a:lnTo>
                      <a:pt x="663" y="939"/>
                    </a:lnTo>
                    <a:lnTo>
                      <a:pt x="647" y="955"/>
                    </a:lnTo>
                    <a:lnTo>
                      <a:pt x="566" y="955"/>
                    </a:lnTo>
                    <a:lnTo>
                      <a:pt x="534" y="955"/>
                    </a:lnTo>
                    <a:lnTo>
                      <a:pt x="534" y="955"/>
                    </a:lnTo>
                    <a:lnTo>
                      <a:pt x="469" y="955"/>
                    </a:lnTo>
                    <a:lnTo>
                      <a:pt x="453" y="955"/>
                    </a:lnTo>
                    <a:lnTo>
                      <a:pt x="404" y="971"/>
                    </a:lnTo>
                    <a:lnTo>
                      <a:pt x="388" y="971"/>
                    </a:lnTo>
                    <a:lnTo>
                      <a:pt x="340" y="971"/>
                    </a:lnTo>
                    <a:lnTo>
                      <a:pt x="323" y="971"/>
                    </a:lnTo>
                    <a:lnTo>
                      <a:pt x="243" y="971"/>
                    </a:lnTo>
                    <a:lnTo>
                      <a:pt x="243" y="971"/>
                    </a:lnTo>
                    <a:lnTo>
                      <a:pt x="226" y="955"/>
                    </a:lnTo>
                    <a:lnTo>
                      <a:pt x="226" y="939"/>
                    </a:lnTo>
                    <a:lnTo>
                      <a:pt x="210" y="923"/>
                    </a:lnTo>
                    <a:lnTo>
                      <a:pt x="194" y="906"/>
                    </a:lnTo>
                    <a:lnTo>
                      <a:pt x="178" y="874"/>
                    </a:lnTo>
                    <a:lnTo>
                      <a:pt x="178" y="842"/>
                    </a:lnTo>
                    <a:lnTo>
                      <a:pt x="178" y="809"/>
                    </a:lnTo>
                    <a:lnTo>
                      <a:pt x="162" y="745"/>
                    </a:lnTo>
                    <a:lnTo>
                      <a:pt x="162" y="745"/>
                    </a:lnTo>
                    <a:close/>
                    <a:moveTo>
                      <a:pt x="858" y="842"/>
                    </a:moveTo>
                    <a:lnTo>
                      <a:pt x="874" y="826"/>
                    </a:lnTo>
                    <a:lnTo>
                      <a:pt x="874" y="842"/>
                    </a:lnTo>
                    <a:lnTo>
                      <a:pt x="874" y="890"/>
                    </a:lnTo>
                    <a:lnTo>
                      <a:pt x="858" y="890"/>
                    </a:lnTo>
                    <a:lnTo>
                      <a:pt x="858" y="858"/>
                    </a:lnTo>
                    <a:lnTo>
                      <a:pt x="858" y="858"/>
                    </a:lnTo>
                    <a:lnTo>
                      <a:pt x="858" y="842"/>
                    </a:lnTo>
                    <a:lnTo>
                      <a:pt x="858" y="842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629400" y="4343400"/>
              <a:ext cx="2133720" cy="580680"/>
              <a:chOff x="6629400" y="4343400"/>
              <a:chExt cx="2133720" cy="580680"/>
            </a:xfrm>
          </p:grpSpPr>
          <p:sp>
            <p:nvSpPr>
              <p:cNvPr id="213" name=""/>
              <p:cNvSpPr/>
              <p:nvPr/>
            </p:nvSpPr>
            <p:spPr>
              <a:xfrm>
                <a:off x="6629400" y="4419720"/>
                <a:ext cx="152640" cy="152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58000" y="4343400"/>
                <a:ext cx="1905120" cy="5806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South East Region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 (49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4267080" y="4038480"/>
            <a:ext cx="2362320" cy="1952280"/>
            <a:chOff x="4267080" y="4038480"/>
            <a:chExt cx="2362320" cy="1952280"/>
          </a:xfrm>
        </p:grpSpPr>
        <p:grpSp>
          <p:nvGrpSpPr>
            <p:cNvPr id="216" name=""/>
            <p:cNvGrpSpPr/>
            <p:nvPr/>
          </p:nvGrpSpPr>
          <p:grpSpPr>
            <a:xfrm>
              <a:off x="4952880" y="4038480"/>
              <a:ext cx="657000" cy="826920"/>
              <a:chOff x="4952880" y="4038480"/>
              <a:chExt cx="657000" cy="826920"/>
            </a:xfrm>
          </p:grpSpPr>
          <p:sp>
            <p:nvSpPr>
              <p:cNvPr id="217" name=""/>
              <p:cNvSpPr/>
              <p:nvPr/>
            </p:nvSpPr>
            <p:spPr>
              <a:xfrm>
                <a:off x="5232240" y="4038480"/>
                <a:ext cx="377640" cy="657000"/>
              </a:xfrm>
              <a:custGeom>
                <a:avLst/>
                <a:gdLst/>
                <a:ahLst/>
                <a:rect l="l" t="t" r="r" b="b"/>
                <a:pathLst>
                  <a:path w="615" h="1068">
                    <a:moveTo>
                      <a:pt x="599" y="793"/>
                    </a:moveTo>
                    <a:lnTo>
                      <a:pt x="599" y="858"/>
                    </a:lnTo>
                    <a:lnTo>
                      <a:pt x="599" y="874"/>
                    </a:lnTo>
                    <a:lnTo>
                      <a:pt x="615" y="939"/>
                    </a:lnTo>
                    <a:lnTo>
                      <a:pt x="615" y="1020"/>
                    </a:lnTo>
                    <a:lnTo>
                      <a:pt x="615" y="1020"/>
                    </a:lnTo>
                    <a:lnTo>
                      <a:pt x="615" y="1036"/>
                    </a:lnTo>
                    <a:lnTo>
                      <a:pt x="583" y="1020"/>
                    </a:lnTo>
                    <a:lnTo>
                      <a:pt x="566" y="1020"/>
                    </a:lnTo>
                    <a:lnTo>
                      <a:pt x="534" y="1004"/>
                    </a:lnTo>
                    <a:lnTo>
                      <a:pt x="518" y="1020"/>
                    </a:lnTo>
                    <a:lnTo>
                      <a:pt x="534" y="1020"/>
                    </a:lnTo>
                    <a:lnTo>
                      <a:pt x="453" y="1036"/>
                    </a:lnTo>
                    <a:lnTo>
                      <a:pt x="453" y="1036"/>
                    </a:lnTo>
                    <a:lnTo>
                      <a:pt x="437" y="1036"/>
                    </a:lnTo>
                    <a:lnTo>
                      <a:pt x="437" y="1036"/>
                    </a:lnTo>
                    <a:lnTo>
                      <a:pt x="453" y="1036"/>
                    </a:lnTo>
                    <a:lnTo>
                      <a:pt x="437" y="1052"/>
                    </a:lnTo>
                    <a:lnTo>
                      <a:pt x="421" y="1068"/>
                    </a:lnTo>
                    <a:lnTo>
                      <a:pt x="405" y="1068"/>
                    </a:lnTo>
                    <a:lnTo>
                      <a:pt x="388" y="1052"/>
                    </a:lnTo>
                    <a:lnTo>
                      <a:pt x="388" y="1036"/>
                    </a:lnTo>
                    <a:lnTo>
                      <a:pt x="372" y="1036"/>
                    </a:lnTo>
                    <a:lnTo>
                      <a:pt x="372" y="1020"/>
                    </a:lnTo>
                    <a:lnTo>
                      <a:pt x="356" y="1004"/>
                    </a:lnTo>
                    <a:lnTo>
                      <a:pt x="356" y="971"/>
                    </a:lnTo>
                    <a:lnTo>
                      <a:pt x="340" y="971"/>
                    </a:lnTo>
                    <a:lnTo>
                      <a:pt x="340" y="939"/>
                    </a:lnTo>
                    <a:lnTo>
                      <a:pt x="356" y="939"/>
                    </a:lnTo>
                    <a:lnTo>
                      <a:pt x="356" y="923"/>
                    </a:lnTo>
                    <a:lnTo>
                      <a:pt x="356" y="907"/>
                    </a:lnTo>
                    <a:lnTo>
                      <a:pt x="356" y="890"/>
                    </a:lnTo>
                    <a:lnTo>
                      <a:pt x="340" y="907"/>
                    </a:lnTo>
                    <a:lnTo>
                      <a:pt x="259" y="907"/>
                    </a:lnTo>
                    <a:lnTo>
                      <a:pt x="243" y="907"/>
                    </a:lnTo>
                    <a:lnTo>
                      <a:pt x="210" y="907"/>
                    </a:lnTo>
                    <a:lnTo>
                      <a:pt x="210" y="907"/>
                    </a:lnTo>
                    <a:lnTo>
                      <a:pt x="162" y="907"/>
                    </a:lnTo>
                    <a:lnTo>
                      <a:pt x="113" y="907"/>
                    </a:lnTo>
                    <a:lnTo>
                      <a:pt x="97" y="907"/>
                    </a:lnTo>
                    <a:lnTo>
                      <a:pt x="0" y="923"/>
                    </a:lnTo>
                    <a:lnTo>
                      <a:pt x="16" y="907"/>
                    </a:lnTo>
                    <a:lnTo>
                      <a:pt x="0" y="890"/>
                    </a:lnTo>
                    <a:lnTo>
                      <a:pt x="16" y="874"/>
                    </a:lnTo>
                    <a:lnTo>
                      <a:pt x="0" y="858"/>
                    </a:lnTo>
                    <a:lnTo>
                      <a:pt x="32" y="858"/>
                    </a:lnTo>
                    <a:lnTo>
                      <a:pt x="16" y="826"/>
                    </a:lnTo>
                    <a:lnTo>
                      <a:pt x="16" y="826"/>
                    </a:lnTo>
                    <a:lnTo>
                      <a:pt x="16" y="826"/>
                    </a:lnTo>
                    <a:lnTo>
                      <a:pt x="32" y="842"/>
                    </a:lnTo>
                    <a:lnTo>
                      <a:pt x="32" y="809"/>
                    </a:lnTo>
                    <a:lnTo>
                      <a:pt x="49" y="793"/>
                    </a:lnTo>
                    <a:lnTo>
                      <a:pt x="32" y="793"/>
                    </a:lnTo>
                    <a:lnTo>
                      <a:pt x="16" y="777"/>
                    </a:lnTo>
                    <a:lnTo>
                      <a:pt x="49" y="777"/>
                    </a:lnTo>
                    <a:lnTo>
                      <a:pt x="49" y="745"/>
                    </a:lnTo>
                    <a:lnTo>
                      <a:pt x="49" y="745"/>
                    </a:lnTo>
                    <a:lnTo>
                      <a:pt x="65" y="745"/>
                    </a:lnTo>
                    <a:lnTo>
                      <a:pt x="49" y="745"/>
                    </a:lnTo>
                    <a:lnTo>
                      <a:pt x="65" y="729"/>
                    </a:lnTo>
                    <a:lnTo>
                      <a:pt x="65" y="745"/>
                    </a:lnTo>
                    <a:lnTo>
                      <a:pt x="65" y="729"/>
                    </a:lnTo>
                    <a:lnTo>
                      <a:pt x="81" y="696"/>
                    </a:lnTo>
                    <a:lnTo>
                      <a:pt x="97" y="696"/>
                    </a:lnTo>
                    <a:lnTo>
                      <a:pt x="81" y="680"/>
                    </a:lnTo>
                    <a:lnTo>
                      <a:pt x="97" y="680"/>
                    </a:lnTo>
                    <a:lnTo>
                      <a:pt x="97" y="680"/>
                    </a:lnTo>
                    <a:lnTo>
                      <a:pt x="113" y="664"/>
                    </a:lnTo>
                    <a:lnTo>
                      <a:pt x="97" y="648"/>
                    </a:lnTo>
                    <a:lnTo>
                      <a:pt x="97" y="664"/>
                    </a:lnTo>
                    <a:lnTo>
                      <a:pt x="81" y="664"/>
                    </a:lnTo>
                    <a:lnTo>
                      <a:pt x="81" y="648"/>
                    </a:lnTo>
                    <a:lnTo>
                      <a:pt x="81" y="648"/>
                    </a:lnTo>
                    <a:lnTo>
                      <a:pt x="97" y="648"/>
                    </a:lnTo>
                    <a:lnTo>
                      <a:pt x="113" y="648"/>
                    </a:lnTo>
                    <a:lnTo>
                      <a:pt x="113" y="631"/>
                    </a:lnTo>
                    <a:lnTo>
                      <a:pt x="130" y="631"/>
                    </a:lnTo>
                    <a:lnTo>
                      <a:pt x="130" y="615"/>
                    </a:lnTo>
                    <a:lnTo>
                      <a:pt x="130" y="615"/>
                    </a:lnTo>
                    <a:lnTo>
                      <a:pt x="113" y="615"/>
                    </a:lnTo>
                    <a:lnTo>
                      <a:pt x="113" y="615"/>
                    </a:lnTo>
                    <a:lnTo>
                      <a:pt x="113" y="599"/>
                    </a:lnTo>
                    <a:lnTo>
                      <a:pt x="97" y="599"/>
                    </a:lnTo>
                    <a:lnTo>
                      <a:pt x="81" y="583"/>
                    </a:lnTo>
                    <a:lnTo>
                      <a:pt x="97" y="583"/>
                    </a:lnTo>
                    <a:lnTo>
                      <a:pt x="97" y="583"/>
                    </a:lnTo>
                    <a:lnTo>
                      <a:pt x="113" y="583"/>
                    </a:lnTo>
                    <a:lnTo>
                      <a:pt x="97" y="567"/>
                    </a:lnTo>
                    <a:lnTo>
                      <a:pt x="97" y="567"/>
                    </a:lnTo>
                    <a:lnTo>
                      <a:pt x="97" y="550"/>
                    </a:lnTo>
                    <a:lnTo>
                      <a:pt x="81" y="567"/>
                    </a:lnTo>
                    <a:lnTo>
                      <a:pt x="81" y="550"/>
                    </a:lnTo>
                    <a:lnTo>
                      <a:pt x="97" y="534"/>
                    </a:lnTo>
                    <a:lnTo>
                      <a:pt x="81" y="534"/>
                    </a:lnTo>
                    <a:lnTo>
                      <a:pt x="81" y="518"/>
                    </a:lnTo>
                    <a:lnTo>
                      <a:pt x="81" y="502"/>
                    </a:lnTo>
                    <a:lnTo>
                      <a:pt x="81" y="486"/>
                    </a:lnTo>
                    <a:lnTo>
                      <a:pt x="81" y="486"/>
                    </a:lnTo>
                    <a:lnTo>
                      <a:pt x="81" y="502"/>
                    </a:lnTo>
                    <a:lnTo>
                      <a:pt x="65" y="502"/>
                    </a:lnTo>
                    <a:lnTo>
                      <a:pt x="65" y="470"/>
                    </a:lnTo>
                    <a:lnTo>
                      <a:pt x="65" y="470"/>
                    </a:lnTo>
                    <a:lnTo>
                      <a:pt x="81" y="470"/>
                    </a:lnTo>
                    <a:lnTo>
                      <a:pt x="65" y="453"/>
                    </a:lnTo>
                    <a:lnTo>
                      <a:pt x="81" y="453"/>
                    </a:lnTo>
                    <a:lnTo>
                      <a:pt x="81" y="421"/>
                    </a:lnTo>
                    <a:lnTo>
                      <a:pt x="97" y="421"/>
                    </a:lnTo>
                    <a:lnTo>
                      <a:pt x="81" y="421"/>
                    </a:lnTo>
                    <a:lnTo>
                      <a:pt x="81" y="421"/>
                    </a:lnTo>
                    <a:lnTo>
                      <a:pt x="65" y="405"/>
                    </a:lnTo>
                    <a:lnTo>
                      <a:pt x="81" y="372"/>
                    </a:lnTo>
                    <a:lnTo>
                      <a:pt x="65" y="389"/>
                    </a:lnTo>
                    <a:lnTo>
                      <a:pt x="65" y="389"/>
                    </a:lnTo>
                    <a:lnTo>
                      <a:pt x="65" y="389"/>
                    </a:lnTo>
                    <a:lnTo>
                      <a:pt x="81" y="372"/>
                    </a:lnTo>
                    <a:lnTo>
                      <a:pt x="65" y="372"/>
                    </a:lnTo>
                    <a:lnTo>
                      <a:pt x="65" y="372"/>
                    </a:lnTo>
                    <a:lnTo>
                      <a:pt x="49" y="389"/>
                    </a:lnTo>
                    <a:lnTo>
                      <a:pt x="65" y="372"/>
                    </a:lnTo>
                    <a:lnTo>
                      <a:pt x="65" y="356"/>
                    </a:lnTo>
                    <a:lnTo>
                      <a:pt x="49" y="356"/>
                    </a:lnTo>
                    <a:lnTo>
                      <a:pt x="49" y="356"/>
                    </a:lnTo>
                    <a:lnTo>
                      <a:pt x="65" y="356"/>
                    </a:lnTo>
                    <a:lnTo>
                      <a:pt x="65" y="340"/>
                    </a:lnTo>
                    <a:lnTo>
                      <a:pt x="49" y="324"/>
                    </a:lnTo>
                    <a:lnTo>
                      <a:pt x="65" y="324"/>
                    </a:lnTo>
                    <a:lnTo>
                      <a:pt x="81" y="340"/>
                    </a:lnTo>
                    <a:lnTo>
                      <a:pt x="81" y="324"/>
                    </a:lnTo>
                    <a:lnTo>
                      <a:pt x="81" y="324"/>
                    </a:lnTo>
                    <a:lnTo>
                      <a:pt x="65" y="324"/>
                    </a:lnTo>
                    <a:lnTo>
                      <a:pt x="65" y="308"/>
                    </a:lnTo>
                    <a:lnTo>
                      <a:pt x="97" y="308"/>
                    </a:lnTo>
                    <a:lnTo>
                      <a:pt x="97" y="308"/>
                    </a:lnTo>
                    <a:lnTo>
                      <a:pt x="81" y="292"/>
                    </a:lnTo>
                    <a:lnTo>
                      <a:pt x="81" y="275"/>
                    </a:lnTo>
                    <a:lnTo>
                      <a:pt x="81" y="259"/>
                    </a:lnTo>
                    <a:lnTo>
                      <a:pt x="97" y="259"/>
                    </a:lnTo>
                    <a:lnTo>
                      <a:pt x="97" y="259"/>
                    </a:lnTo>
                    <a:lnTo>
                      <a:pt x="113" y="243"/>
                    </a:lnTo>
                    <a:lnTo>
                      <a:pt x="113" y="227"/>
                    </a:lnTo>
                    <a:lnTo>
                      <a:pt x="97" y="227"/>
                    </a:lnTo>
                    <a:lnTo>
                      <a:pt x="97" y="211"/>
                    </a:lnTo>
                    <a:lnTo>
                      <a:pt x="113" y="227"/>
                    </a:lnTo>
                    <a:lnTo>
                      <a:pt x="130" y="227"/>
                    </a:lnTo>
                    <a:lnTo>
                      <a:pt x="97" y="211"/>
                    </a:lnTo>
                    <a:lnTo>
                      <a:pt x="97" y="194"/>
                    </a:lnTo>
                    <a:lnTo>
                      <a:pt x="113" y="211"/>
                    </a:lnTo>
                    <a:lnTo>
                      <a:pt x="113" y="211"/>
                    </a:lnTo>
                    <a:lnTo>
                      <a:pt x="113" y="194"/>
                    </a:lnTo>
                    <a:lnTo>
                      <a:pt x="130" y="194"/>
                    </a:lnTo>
                    <a:lnTo>
                      <a:pt x="130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62" y="162"/>
                    </a:lnTo>
                    <a:lnTo>
                      <a:pt x="162" y="130"/>
                    </a:lnTo>
                    <a:lnTo>
                      <a:pt x="162" y="130"/>
                    </a:lnTo>
                    <a:lnTo>
                      <a:pt x="162" y="114"/>
                    </a:lnTo>
                    <a:lnTo>
                      <a:pt x="162" y="97"/>
                    </a:lnTo>
                    <a:lnTo>
                      <a:pt x="162" y="114"/>
                    </a:lnTo>
                    <a:lnTo>
                      <a:pt x="178" y="114"/>
                    </a:lnTo>
                    <a:lnTo>
                      <a:pt x="178" y="97"/>
                    </a:lnTo>
                    <a:lnTo>
                      <a:pt x="162" y="97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2" y="97"/>
                    </a:lnTo>
                    <a:lnTo>
                      <a:pt x="178" y="97"/>
                    </a:lnTo>
                    <a:lnTo>
                      <a:pt x="178" y="65"/>
                    </a:lnTo>
                    <a:lnTo>
                      <a:pt x="178" y="65"/>
                    </a:lnTo>
                    <a:lnTo>
                      <a:pt x="178" y="65"/>
                    </a:lnTo>
                    <a:lnTo>
                      <a:pt x="178" y="65"/>
                    </a:lnTo>
                    <a:lnTo>
                      <a:pt x="210" y="65"/>
                    </a:lnTo>
                    <a:lnTo>
                      <a:pt x="210" y="49"/>
                    </a:lnTo>
                    <a:lnTo>
                      <a:pt x="194" y="33"/>
                    </a:lnTo>
                    <a:lnTo>
                      <a:pt x="308" y="33"/>
                    </a:lnTo>
                    <a:lnTo>
                      <a:pt x="324" y="33"/>
                    </a:lnTo>
                    <a:lnTo>
                      <a:pt x="372" y="16"/>
                    </a:lnTo>
                    <a:lnTo>
                      <a:pt x="405" y="16"/>
                    </a:lnTo>
                    <a:lnTo>
                      <a:pt x="437" y="16"/>
                    </a:lnTo>
                    <a:lnTo>
                      <a:pt x="469" y="16"/>
                    </a:lnTo>
                    <a:lnTo>
                      <a:pt x="469" y="16"/>
                    </a:lnTo>
                    <a:lnTo>
                      <a:pt x="534" y="0"/>
                    </a:lnTo>
                    <a:lnTo>
                      <a:pt x="550" y="0"/>
                    </a:lnTo>
                    <a:lnTo>
                      <a:pt x="583" y="0"/>
                    </a:lnTo>
                    <a:lnTo>
                      <a:pt x="599" y="33"/>
                    </a:lnTo>
                    <a:lnTo>
                      <a:pt x="599" y="97"/>
                    </a:lnTo>
                    <a:lnTo>
                      <a:pt x="599" y="130"/>
                    </a:lnTo>
                    <a:lnTo>
                      <a:pt x="599" y="146"/>
                    </a:lnTo>
                    <a:lnTo>
                      <a:pt x="583" y="211"/>
                    </a:lnTo>
                    <a:lnTo>
                      <a:pt x="583" y="211"/>
                    </a:lnTo>
                    <a:lnTo>
                      <a:pt x="583" y="275"/>
                    </a:lnTo>
                    <a:lnTo>
                      <a:pt x="583" y="324"/>
                    </a:lnTo>
                    <a:lnTo>
                      <a:pt x="583" y="389"/>
                    </a:lnTo>
                    <a:lnTo>
                      <a:pt x="583" y="453"/>
                    </a:lnTo>
                    <a:lnTo>
                      <a:pt x="583" y="453"/>
                    </a:lnTo>
                    <a:lnTo>
                      <a:pt x="583" y="534"/>
                    </a:lnTo>
                    <a:lnTo>
                      <a:pt x="583" y="599"/>
                    </a:lnTo>
                    <a:lnTo>
                      <a:pt x="583" y="615"/>
                    </a:lnTo>
                    <a:lnTo>
                      <a:pt x="583" y="696"/>
                    </a:lnTo>
                    <a:lnTo>
                      <a:pt x="583" y="729"/>
                    </a:lnTo>
                    <a:lnTo>
                      <a:pt x="599" y="793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52880" y="4327200"/>
                <a:ext cx="596880" cy="538200"/>
              </a:xfrm>
              <a:custGeom>
                <a:avLst/>
                <a:gdLst/>
                <a:ahLst/>
                <a:rect l="l" t="t" r="r" b="b"/>
                <a:pathLst>
                  <a:path w="971" h="874">
                    <a:moveTo>
                      <a:pt x="858" y="598"/>
                    </a:moveTo>
                    <a:lnTo>
                      <a:pt x="825" y="615"/>
                    </a:lnTo>
                    <a:lnTo>
                      <a:pt x="825" y="598"/>
                    </a:lnTo>
                    <a:lnTo>
                      <a:pt x="777" y="582"/>
                    </a:lnTo>
                    <a:lnTo>
                      <a:pt x="761" y="566"/>
                    </a:lnTo>
                    <a:lnTo>
                      <a:pt x="728" y="566"/>
                    </a:lnTo>
                    <a:lnTo>
                      <a:pt x="712" y="582"/>
                    </a:lnTo>
                    <a:lnTo>
                      <a:pt x="696" y="615"/>
                    </a:lnTo>
                    <a:lnTo>
                      <a:pt x="696" y="631"/>
                    </a:lnTo>
                    <a:lnTo>
                      <a:pt x="728" y="647"/>
                    </a:lnTo>
                    <a:lnTo>
                      <a:pt x="761" y="647"/>
                    </a:lnTo>
                    <a:lnTo>
                      <a:pt x="777" y="631"/>
                    </a:lnTo>
                    <a:lnTo>
                      <a:pt x="793" y="615"/>
                    </a:lnTo>
                    <a:lnTo>
                      <a:pt x="809" y="631"/>
                    </a:lnTo>
                    <a:lnTo>
                      <a:pt x="825" y="615"/>
                    </a:lnTo>
                    <a:lnTo>
                      <a:pt x="825" y="615"/>
                    </a:lnTo>
                    <a:lnTo>
                      <a:pt x="841" y="615"/>
                    </a:lnTo>
                    <a:lnTo>
                      <a:pt x="841" y="615"/>
                    </a:lnTo>
                    <a:lnTo>
                      <a:pt x="825" y="631"/>
                    </a:lnTo>
                    <a:lnTo>
                      <a:pt x="809" y="647"/>
                    </a:lnTo>
                    <a:lnTo>
                      <a:pt x="809" y="663"/>
                    </a:lnTo>
                    <a:lnTo>
                      <a:pt x="825" y="647"/>
                    </a:lnTo>
                    <a:lnTo>
                      <a:pt x="825" y="663"/>
                    </a:lnTo>
                    <a:lnTo>
                      <a:pt x="858" y="679"/>
                    </a:lnTo>
                    <a:lnTo>
                      <a:pt x="858" y="663"/>
                    </a:lnTo>
                    <a:lnTo>
                      <a:pt x="858" y="647"/>
                    </a:lnTo>
                    <a:lnTo>
                      <a:pt x="890" y="631"/>
                    </a:lnTo>
                    <a:lnTo>
                      <a:pt x="874" y="647"/>
                    </a:lnTo>
                    <a:lnTo>
                      <a:pt x="890" y="647"/>
                    </a:lnTo>
                    <a:lnTo>
                      <a:pt x="890" y="663"/>
                    </a:lnTo>
                    <a:lnTo>
                      <a:pt x="890" y="679"/>
                    </a:lnTo>
                    <a:lnTo>
                      <a:pt x="890" y="679"/>
                    </a:lnTo>
                    <a:lnTo>
                      <a:pt x="906" y="679"/>
                    </a:lnTo>
                    <a:lnTo>
                      <a:pt x="890" y="695"/>
                    </a:lnTo>
                    <a:lnTo>
                      <a:pt x="874" y="679"/>
                    </a:lnTo>
                    <a:lnTo>
                      <a:pt x="874" y="695"/>
                    </a:lnTo>
                    <a:lnTo>
                      <a:pt x="841" y="695"/>
                    </a:lnTo>
                    <a:lnTo>
                      <a:pt x="858" y="712"/>
                    </a:lnTo>
                    <a:lnTo>
                      <a:pt x="858" y="712"/>
                    </a:lnTo>
                    <a:lnTo>
                      <a:pt x="874" y="728"/>
                    </a:lnTo>
                    <a:lnTo>
                      <a:pt x="841" y="712"/>
                    </a:lnTo>
                    <a:lnTo>
                      <a:pt x="841" y="712"/>
                    </a:lnTo>
                    <a:lnTo>
                      <a:pt x="858" y="728"/>
                    </a:lnTo>
                    <a:lnTo>
                      <a:pt x="841" y="728"/>
                    </a:lnTo>
                    <a:lnTo>
                      <a:pt x="825" y="728"/>
                    </a:lnTo>
                    <a:lnTo>
                      <a:pt x="841" y="728"/>
                    </a:lnTo>
                    <a:lnTo>
                      <a:pt x="825" y="728"/>
                    </a:lnTo>
                    <a:lnTo>
                      <a:pt x="874" y="760"/>
                    </a:lnTo>
                    <a:lnTo>
                      <a:pt x="874" y="776"/>
                    </a:lnTo>
                    <a:lnTo>
                      <a:pt x="906" y="776"/>
                    </a:lnTo>
                    <a:lnTo>
                      <a:pt x="906" y="776"/>
                    </a:lnTo>
                    <a:lnTo>
                      <a:pt x="922" y="776"/>
                    </a:lnTo>
                    <a:lnTo>
                      <a:pt x="922" y="793"/>
                    </a:lnTo>
                    <a:lnTo>
                      <a:pt x="939" y="776"/>
                    </a:lnTo>
                    <a:lnTo>
                      <a:pt x="955" y="793"/>
                    </a:lnTo>
                    <a:lnTo>
                      <a:pt x="955" y="809"/>
                    </a:lnTo>
                    <a:lnTo>
                      <a:pt x="971" y="809"/>
                    </a:lnTo>
                    <a:lnTo>
                      <a:pt x="955" y="825"/>
                    </a:lnTo>
                    <a:lnTo>
                      <a:pt x="971" y="825"/>
                    </a:lnTo>
                    <a:lnTo>
                      <a:pt x="971" y="841"/>
                    </a:lnTo>
                    <a:lnTo>
                      <a:pt x="955" y="825"/>
                    </a:lnTo>
                    <a:lnTo>
                      <a:pt x="955" y="841"/>
                    </a:lnTo>
                    <a:lnTo>
                      <a:pt x="955" y="841"/>
                    </a:lnTo>
                    <a:lnTo>
                      <a:pt x="955" y="857"/>
                    </a:lnTo>
                    <a:lnTo>
                      <a:pt x="939" y="825"/>
                    </a:lnTo>
                    <a:lnTo>
                      <a:pt x="939" y="841"/>
                    </a:lnTo>
                    <a:lnTo>
                      <a:pt x="906" y="874"/>
                    </a:lnTo>
                    <a:lnTo>
                      <a:pt x="922" y="825"/>
                    </a:lnTo>
                    <a:lnTo>
                      <a:pt x="922" y="825"/>
                    </a:lnTo>
                    <a:lnTo>
                      <a:pt x="922" y="841"/>
                    </a:lnTo>
                    <a:lnTo>
                      <a:pt x="906" y="841"/>
                    </a:lnTo>
                    <a:lnTo>
                      <a:pt x="906" y="825"/>
                    </a:lnTo>
                    <a:lnTo>
                      <a:pt x="890" y="809"/>
                    </a:lnTo>
                    <a:lnTo>
                      <a:pt x="890" y="809"/>
                    </a:lnTo>
                    <a:lnTo>
                      <a:pt x="890" y="809"/>
                    </a:lnTo>
                    <a:lnTo>
                      <a:pt x="858" y="809"/>
                    </a:lnTo>
                    <a:lnTo>
                      <a:pt x="858" y="793"/>
                    </a:lnTo>
                    <a:lnTo>
                      <a:pt x="825" y="793"/>
                    </a:lnTo>
                    <a:lnTo>
                      <a:pt x="825" y="776"/>
                    </a:lnTo>
                    <a:lnTo>
                      <a:pt x="825" y="776"/>
                    </a:lnTo>
                    <a:lnTo>
                      <a:pt x="825" y="760"/>
                    </a:lnTo>
                    <a:lnTo>
                      <a:pt x="793" y="760"/>
                    </a:lnTo>
                    <a:lnTo>
                      <a:pt x="793" y="760"/>
                    </a:lnTo>
                    <a:lnTo>
                      <a:pt x="777" y="760"/>
                    </a:lnTo>
                    <a:lnTo>
                      <a:pt x="761" y="744"/>
                    </a:lnTo>
                    <a:lnTo>
                      <a:pt x="761" y="760"/>
                    </a:lnTo>
                    <a:lnTo>
                      <a:pt x="761" y="744"/>
                    </a:lnTo>
                    <a:lnTo>
                      <a:pt x="744" y="744"/>
                    </a:lnTo>
                    <a:lnTo>
                      <a:pt x="744" y="760"/>
                    </a:lnTo>
                    <a:lnTo>
                      <a:pt x="777" y="776"/>
                    </a:lnTo>
                    <a:lnTo>
                      <a:pt x="777" y="776"/>
                    </a:lnTo>
                    <a:lnTo>
                      <a:pt x="777" y="793"/>
                    </a:lnTo>
                    <a:lnTo>
                      <a:pt x="777" y="793"/>
                    </a:lnTo>
                    <a:lnTo>
                      <a:pt x="777" y="793"/>
                    </a:lnTo>
                    <a:lnTo>
                      <a:pt x="761" y="793"/>
                    </a:lnTo>
                    <a:lnTo>
                      <a:pt x="777" y="825"/>
                    </a:lnTo>
                    <a:lnTo>
                      <a:pt x="777" y="825"/>
                    </a:lnTo>
                    <a:lnTo>
                      <a:pt x="777" y="825"/>
                    </a:lnTo>
                    <a:lnTo>
                      <a:pt x="744" y="841"/>
                    </a:lnTo>
                    <a:lnTo>
                      <a:pt x="744" y="825"/>
                    </a:lnTo>
                    <a:lnTo>
                      <a:pt x="744" y="809"/>
                    </a:lnTo>
                    <a:lnTo>
                      <a:pt x="728" y="809"/>
                    </a:lnTo>
                    <a:lnTo>
                      <a:pt x="728" y="809"/>
                    </a:lnTo>
                    <a:lnTo>
                      <a:pt x="728" y="809"/>
                    </a:lnTo>
                    <a:lnTo>
                      <a:pt x="712" y="809"/>
                    </a:lnTo>
                    <a:lnTo>
                      <a:pt x="712" y="793"/>
                    </a:lnTo>
                    <a:lnTo>
                      <a:pt x="696" y="793"/>
                    </a:lnTo>
                    <a:lnTo>
                      <a:pt x="696" y="809"/>
                    </a:lnTo>
                    <a:lnTo>
                      <a:pt x="663" y="809"/>
                    </a:lnTo>
                    <a:lnTo>
                      <a:pt x="680" y="809"/>
                    </a:lnTo>
                    <a:lnTo>
                      <a:pt x="663" y="825"/>
                    </a:lnTo>
                    <a:lnTo>
                      <a:pt x="663" y="825"/>
                    </a:lnTo>
                    <a:lnTo>
                      <a:pt x="663" y="841"/>
                    </a:lnTo>
                    <a:lnTo>
                      <a:pt x="663" y="841"/>
                    </a:lnTo>
                    <a:lnTo>
                      <a:pt x="663" y="841"/>
                    </a:lnTo>
                    <a:lnTo>
                      <a:pt x="647" y="841"/>
                    </a:lnTo>
                    <a:lnTo>
                      <a:pt x="647" y="841"/>
                    </a:lnTo>
                    <a:lnTo>
                      <a:pt x="631" y="841"/>
                    </a:lnTo>
                    <a:lnTo>
                      <a:pt x="615" y="841"/>
                    </a:lnTo>
                    <a:lnTo>
                      <a:pt x="615" y="841"/>
                    </a:lnTo>
                    <a:lnTo>
                      <a:pt x="631" y="825"/>
                    </a:lnTo>
                    <a:lnTo>
                      <a:pt x="631" y="825"/>
                    </a:lnTo>
                    <a:lnTo>
                      <a:pt x="615" y="825"/>
                    </a:lnTo>
                    <a:lnTo>
                      <a:pt x="615" y="809"/>
                    </a:lnTo>
                    <a:lnTo>
                      <a:pt x="583" y="793"/>
                    </a:lnTo>
                    <a:lnTo>
                      <a:pt x="583" y="809"/>
                    </a:lnTo>
                    <a:lnTo>
                      <a:pt x="550" y="793"/>
                    </a:lnTo>
                    <a:lnTo>
                      <a:pt x="550" y="776"/>
                    </a:lnTo>
                    <a:lnTo>
                      <a:pt x="518" y="760"/>
                    </a:lnTo>
                    <a:lnTo>
                      <a:pt x="485" y="760"/>
                    </a:lnTo>
                    <a:lnTo>
                      <a:pt x="485" y="744"/>
                    </a:lnTo>
                    <a:lnTo>
                      <a:pt x="469" y="744"/>
                    </a:lnTo>
                    <a:lnTo>
                      <a:pt x="469" y="712"/>
                    </a:lnTo>
                    <a:lnTo>
                      <a:pt x="421" y="728"/>
                    </a:lnTo>
                    <a:lnTo>
                      <a:pt x="421" y="712"/>
                    </a:lnTo>
                    <a:lnTo>
                      <a:pt x="437" y="712"/>
                    </a:lnTo>
                    <a:lnTo>
                      <a:pt x="437" y="712"/>
                    </a:lnTo>
                    <a:lnTo>
                      <a:pt x="437" y="695"/>
                    </a:lnTo>
                    <a:lnTo>
                      <a:pt x="404" y="695"/>
                    </a:lnTo>
                    <a:lnTo>
                      <a:pt x="404" y="712"/>
                    </a:lnTo>
                    <a:lnTo>
                      <a:pt x="372" y="728"/>
                    </a:lnTo>
                    <a:lnTo>
                      <a:pt x="372" y="712"/>
                    </a:lnTo>
                    <a:lnTo>
                      <a:pt x="372" y="728"/>
                    </a:lnTo>
                    <a:lnTo>
                      <a:pt x="388" y="760"/>
                    </a:lnTo>
                    <a:lnTo>
                      <a:pt x="356" y="776"/>
                    </a:lnTo>
                    <a:lnTo>
                      <a:pt x="291" y="760"/>
                    </a:lnTo>
                    <a:lnTo>
                      <a:pt x="162" y="728"/>
                    </a:lnTo>
                    <a:lnTo>
                      <a:pt x="81" y="728"/>
                    </a:lnTo>
                    <a:lnTo>
                      <a:pt x="65" y="744"/>
                    </a:lnTo>
                    <a:lnTo>
                      <a:pt x="48" y="728"/>
                    </a:lnTo>
                    <a:lnTo>
                      <a:pt x="65" y="712"/>
                    </a:lnTo>
                    <a:lnTo>
                      <a:pt x="65" y="679"/>
                    </a:lnTo>
                    <a:lnTo>
                      <a:pt x="81" y="663"/>
                    </a:lnTo>
                    <a:lnTo>
                      <a:pt x="81" y="647"/>
                    </a:lnTo>
                    <a:lnTo>
                      <a:pt x="81" y="631"/>
                    </a:lnTo>
                    <a:lnTo>
                      <a:pt x="81" y="615"/>
                    </a:lnTo>
                    <a:lnTo>
                      <a:pt x="65" y="598"/>
                    </a:lnTo>
                    <a:lnTo>
                      <a:pt x="65" y="598"/>
                    </a:lnTo>
                    <a:lnTo>
                      <a:pt x="81" y="582"/>
                    </a:lnTo>
                    <a:lnTo>
                      <a:pt x="65" y="566"/>
                    </a:lnTo>
                    <a:lnTo>
                      <a:pt x="65" y="550"/>
                    </a:lnTo>
                    <a:lnTo>
                      <a:pt x="81" y="550"/>
                    </a:lnTo>
                    <a:lnTo>
                      <a:pt x="81" y="534"/>
                    </a:lnTo>
                    <a:lnTo>
                      <a:pt x="97" y="534"/>
                    </a:lnTo>
                    <a:lnTo>
                      <a:pt x="97" y="517"/>
                    </a:lnTo>
                    <a:lnTo>
                      <a:pt x="97" y="501"/>
                    </a:lnTo>
                    <a:lnTo>
                      <a:pt x="97" y="485"/>
                    </a:lnTo>
                    <a:lnTo>
                      <a:pt x="113" y="469"/>
                    </a:lnTo>
                    <a:lnTo>
                      <a:pt x="97" y="469"/>
                    </a:lnTo>
                    <a:lnTo>
                      <a:pt x="97" y="453"/>
                    </a:lnTo>
                    <a:lnTo>
                      <a:pt x="113" y="453"/>
                    </a:lnTo>
                    <a:lnTo>
                      <a:pt x="97" y="437"/>
                    </a:lnTo>
                    <a:lnTo>
                      <a:pt x="113" y="437"/>
                    </a:lnTo>
                    <a:lnTo>
                      <a:pt x="97" y="420"/>
                    </a:lnTo>
                    <a:lnTo>
                      <a:pt x="97" y="420"/>
                    </a:lnTo>
                    <a:lnTo>
                      <a:pt x="81" y="404"/>
                    </a:lnTo>
                    <a:lnTo>
                      <a:pt x="81" y="388"/>
                    </a:lnTo>
                    <a:lnTo>
                      <a:pt x="81" y="388"/>
                    </a:lnTo>
                    <a:lnTo>
                      <a:pt x="65" y="356"/>
                    </a:lnTo>
                    <a:lnTo>
                      <a:pt x="65" y="356"/>
                    </a:lnTo>
                    <a:lnTo>
                      <a:pt x="48" y="339"/>
                    </a:lnTo>
                    <a:lnTo>
                      <a:pt x="48" y="339"/>
                    </a:lnTo>
                    <a:lnTo>
                      <a:pt x="48" y="307"/>
                    </a:lnTo>
                    <a:lnTo>
                      <a:pt x="32" y="275"/>
                    </a:lnTo>
                    <a:lnTo>
                      <a:pt x="16" y="242"/>
                    </a:lnTo>
                    <a:lnTo>
                      <a:pt x="0" y="242"/>
                    </a:lnTo>
                    <a:lnTo>
                      <a:pt x="0" y="194"/>
                    </a:lnTo>
                    <a:lnTo>
                      <a:pt x="0" y="161"/>
                    </a:lnTo>
                    <a:lnTo>
                      <a:pt x="0" y="97"/>
                    </a:lnTo>
                    <a:lnTo>
                      <a:pt x="0" y="48"/>
                    </a:lnTo>
                    <a:lnTo>
                      <a:pt x="0" y="16"/>
                    </a:lnTo>
                    <a:lnTo>
                      <a:pt x="48" y="16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146" y="16"/>
                    </a:lnTo>
                    <a:lnTo>
                      <a:pt x="194" y="16"/>
                    </a:lnTo>
                    <a:lnTo>
                      <a:pt x="243" y="16"/>
                    </a:lnTo>
                    <a:lnTo>
                      <a:pt x="356" y="16"/>
                    </a:lnTo>
                    <a:lnTo>
                      <a:pt x="469" y="16"/>
                    </a:lnTo>
                    <a:lnTo>
                      <a:pt x="469" y="0"/>
                    </a:lnTo>
                    <a:lnTo>
                      <a:pt x="502" y="0"/>
                    </a:lnTo>
                    <a:lnTo>
                      <a:pt x="518" y="0"/>
                    </a:lnTo>
                    <a:lnTo>
                      <a:pt x="518" y="32"/>
                    </a:lnTo>
                    <a:lnTo>
                      <a:pt x="534" y="32"/>
                    </a:lnTo>
                    <a:lnTo>
                      <a:pt x="534" y="16"/>
                    </a:lnTo>
                    <a:lnTo>
                      <a:pt x="534" y="16"/>
                    </a:lnTo>
                    <a:lnTo>
                      <a:pt x="534" y="32"/>
                    </a:lnTo>
                    <a:lnTo>
                      <a:pt x="534" y="48"/>
                    </a:lnTo>
                    <a:lnTo>
                      <a:pt x="534" y="64"/>
                    </a:lnTo>
                    <a:lnTo>
                      <a:pt x="550" y="64"/>
                    </a:lnTo>
                    <a:lnTo>
                      <a:pt x="534" y="80"/>
                    </a:lnTo>
                    <a:lnTo>
                      <a:pt x="534" y="97"/>
                    </a:lnTo>
                    <a:lnTo>
                      <a:pt x="550" y="80"/>
                    </a:lnTo>
                    <a:lnTo>
                      <a:pt x="550" y="97"/>
                    </a:lnTo>
                    <a:lnTo>
                      <a:pt x="550" y="97"/>
                    </a:lnTo>
                    <a:lnTo>
                      <a:pt x="566" y="113"/>
                    </a:lnTo>
                    <a:lnTo>
                      <a:pt x="550" y="113"/>
                    </a:lnTo>
                    <a:lnTo>
                      <a:pt x="550" y="113"/>
                    </a:lnTo>
                    <a:lnTo>
                      <a:pt x="534" y="113"/>
                    </a:lnTo>
                    <a:lnTo>
                      <a:pt x="550" y="129"/>
                    </a:lnTo>
                    <a:lnTo>
                      <a:pt x="566" y="129"/>
                    </a:lnTo>
                    <a:lnTo>
                      <a:pt x="566" y="145"/>
                    </a:lnTo>
                    <a:lnTo>
                      <a:pt x="566" y="145"/>
                    </a:lnTo>
                    <a:lnTo>
                      <a:pt x="583" y="145"/>
                    </a:lnTo>
                    <a:lnTo>
                      <a:pt x="583" y="145"/>
                    </a:lnTo>
                    <a:lnTo>
                      <a:pt x="583" y="161"/>
                    </a:lnTo>
                    <a:lnTo>
                      <a:pt x="566" y="161"/>
                    </a:lnTo>
                    <a:lnTo>
                      <a:pt x="566" y="178"/>
                    </a:lnTo>
                    <a:lnTo>
                      <a:pt x="550" y="178"/>
                    </a:lnTo>
                    <a:lnTo>
                      <a:pt x="534" y="178"/>
                    </a:lnTo>
                    <a:lnTo>
                      <a:pt x="534" y="178"/>
                    </a:lnTo>
                    <a:lnTo>
                      <a:pt x="534" y="194"/>
                    </a:lnTo>
                    <a:lnTo>
                      <a:pt x="550" y="194"/>
                    </a:lnTo>
                    <a:lnTo>
                      <a:pt x="550" y="178"/>
                    </a:lnTo>
                    <a:lnTo>
                      <a:pt x="566" y="194"/>
                    </a:lnTo>
                    <a:lnTo>
                      <a:pt x="550" y="210"/>
                    </a:lnTo>
                    <a:lnTo>
                      <a:pt x="550" y="210"/>
                    </a:lnTo>
                    <a:lnTo>
                      <a:pt x="534" y="210"/>
                    </a:lnTo>
                    <a:lnTo>
                      <a:pt x="550" y="226"/>
                    </a:lnTo>
                    <a:lnTo>
                      <a:pt x="534" y="226"/>
                    </a:lnTo>
                    <a:lnTo>
                      <a:pt x="518" y="259"/>
                    </a:lnTo>
                    <a:lnTo>
                      <a:pt x="518" y="275"/>
                    </a:lnTo>
                    <a:lnTo>
                      <a:pt x="518" y="259"/>
                    </a:lnTo>
                    <a:lnTo>
                      <a:pt x="502" y="275"/>
                    </a:lnTo>
                    <a:lnTo>
                      <a:pt x="518" y="275"/>
                    </a:lnTo>
                    <a:lnTo>
                      <a:pt x="502" y="275"/>
                    </a:lnTo>
                    <a:lnTo>
                      <a:pt x="502" y="275"/>
                    </a:lnTo>
                    <a:lnTo>
                      <a:pt x="502" y="307"/>
                    </a:lnTo>
                    <a:lnTo>
                      <a:pt x="469" y="307"/>
                    </a:lnTo>
                    <a:lnTo>
                      <a:pt x="485" y="323"/>
                    </a:lnTo>
                    <a:lnTo>
                      <a:pt x="502" y="323"/>
                    </a:lnTo>
                    <a:lnTo>
                      <a:pt x="485" y="339"/>
                    </a:lnTo>
                    <a:lnTo>
                      <a:pt x="485" y="372"/>
                    </a:lnTo>
                    <a:lnTo>
                      <a:pt x="469" y="356"/>
                    </a:lnTo>
                    <a:lnTo>
                      <a:pt x="469" y="356"/>
                    </a:lnTo>
                    <a:lnTo>
                      <a:pt x="469" y="356"/>
                    </a:lnTo>
                    <a:lnTo>
                      <a:pt x="485" y="388"/>
                    </a:lnTo>
                    <a:lnTo>
                      <a:pt x="453" y="388"/>
                    </a:lnTo>
                    <a:lnTo>
                      <a:pt x="469" y="404"/>
                    </a:lnTo>
                    <a:lnTo>
                      <a:pt x="453" y="420"/>
                    </a:lnTo>
                    <a:lnTo>
                      <a:pt x="469" y="437"/>
                    </a:lnTo>
                    <a:lnTo>
                      <a:pt x="453" y="453"/>
                    </a:lnTo>
                    <a:lnTo>
                      <a:pt x="550" y="437"/>
                    </a:lnTo>
                    <a:lnTo>
                      <a:pt x="566" y="437"/>
                    </a:lnTo>
                    <a:lnTo>
                      <a:pt x="615" y="437"/>
                    </a:lnTo>
                    <a:lnTo>
                      <a:pt x="663" y="437"/>
                    </a:lnTo>
                    <a:lnTo>
                      <a:pt x="663" y="437"/>
                    </a:lnTo>
                    <a:lnTo>
                      <a:pt x="696" y="437"/>
                    </a:lnTo>
                    <a:lnTo>
                      <a:pt x="712" y="437"/>
                    </a:lnTo>
                    <a:lnTo>
                      <a:pt x="793" y="437"/>
                    </a:lnTo>
                    <a:lnTo>
                      <a:pt x="809" y="420"/>
                    </a:lnTo>
                    <a:lnTo>
                      <a:pt x="809" y="437"/>
                    </a:lnTo>
                    <a:lnTo>
                      <a:pt x="809" y="453"/>
                    </a:lnTo>
                    <a:lnTo>
                      <a:pt x="809" y="469"/>
                    </a:lnTo>
                    <a:lnTo>
                      <a:pt x="793" y="469"/>
                    </a:lnTo>
                    <a:lnTo>
                      <a:pt x="793" y="501"/>
                    </a:lnTo>
                    <a:lnTo>
                      <a:pt x="809" y="501"/>
                    </a:lnTo>
                    <a:lnTo>
                      <a:pt x="809" y="534"/>
                    </a:lnTo>
                    <a:lnTo>
                      <a:pt x="825" y="550"/>
                    </a:lnTo>
                    <a:lnTo>
                      <a:pt x="825" y="566"/>
                    </a:lnTo>
                    <a:lnTo>
                      <a:pt x="841" y="566"/>
                    </a:lnTo>
                    <a:lnTo>
                      <a:pt x="841" y="582"/>
                    </a:lnTo>
                    <a:lnTo>
                      <a:pt x="858" y="598"/>
                    </a:lnTo>
                    <a:lnTo>
                      <a:pt x="858" y="598"/>
                    </a:lnTo>
                    <a:close/>
                    <a:moveTo>
                      <a:pt x="404" y="760"/>
                    </a:moveTo>
                    <a:lnTo>
                      <a:pt x="421" y="744"/>
                    </a:lnTo>
                    <a:lnTo>
                      <a:pt x="453" y="760"/>
                    </a:lnTo>
                    <a:lnTo>
                      <a:pt x="453" y="760"/>
                    </a:lnTo>
                    <a:lnTo>
                      <a:pt x="453" y="776"/>
                    </a:lnTo>
                    <a:lnTo>
                      <a:pt x="453" y="776"/>
                    </a:lnTo>
                    <a:lnTo>
                      <a:pt x="437" y="776"/>
                    </a:lnTo>
                    <a:lnTo>
                      <a:pt x="404" y="760"/>
                    </a:lnTo>
                    <a:lnTo>
                      <a:pt x="404" y="760"/>
                    </a:lnTo>
                    <a:close/>
                    <a:moveTo>
                      <a:pt x="534" y="809"/>
                    </a:moveTo>
                    <a:lnTo>
                      <a:pt x="534" y="809"/>
                    </a:lnTo>
                    <a:lnTo>
                      <a:pt x="550" y="793"/>
                    </a:lnTo>
                    <a:lnTo>
                      <a:pt x="566" y="809"/>
                    </a:lnTo>
                    <a:lnTo>
                      <a:pt x="566" y="809"/>
                    </a:lnTo>
                    <a:lnTo>
                      <a:pt x="566" y="825"/>
                    </a:lnTo>
                    <a:lnTo>
                      <a:pt x="566" y="809"/>
                    </a:lnTo>
                    <a:lnTo>
                      <a:pt x="566" y="825"/>
                    </a:lnTo>
                    <a:lnTo>
                      <a:pt x="566" y="825"/>
                    </a:lnTo>
                    <a:lnTo>
                      <a:pt x="566" y="825"/>
                    </a:lnTo>
                    <a:lnTo>
                      <a:pt x="566" y="825"/>
                    </a:lnTo>
                    <a:lnTo>
                      <a:pt x="566" y="825"/>
                    </a:lnTo>
                    <a:lnTo>
                      <a:pt x="550" y="825"/>
                    </a:lnTo>
                    <a:lnTo>
                      <a:pt x="534" y="809"/>
                    </a:lnTo>
                    <a:lnTo>
                      <a:pt x="534" y="809"/>
                    </a:lnTo>
                    <a:close/>
                    <a:moveTo>
                      <a:pt x="615" y="825"/>
                    </a:moveTo>
                    <a:lnTo>
                      <a:pt x="599" y="825"/>
                    </a:lnTo>
                    <a:lnTo>
                      <a:pt x="599" y="825"/>
                    </a:lnTo>
                    <a:lnTo>
                      <a:pt x="599" y="825"/>
                    </a:lnTo>
                    <a:lnTo>
                      <a:pt x="599" y="825"/>
                    </a:lnTo>
                    <a:lnTo>
                      <a:pt x="615" y="825"/>
                    </a:lnTo>
                    <a:lnTo>
                      <a:pt x="599" y="841"/>
                    </a:lnTo>
                    <a:lnTo>
                      <a:pt x="599" y="841"/>
                    </a:lnTo>
                    <a:lnTo>
                      <a:pt x="599" y="825"/>
                    </a:lnTo>
                    <a:lnTo>
                      <a:pt x="583" y="825"/>
                    </a:lnTo>
                    <a:lnTo>
                      <a:pt x="599" y="825"/>
                    </a:lnTo>
                    <a:lnTo>
                      <a:pt x="583" y="825"/>
                    </a:lnTo>
                    <a:lnTo>
                      <a:pt x="583" y="841"/>
                    </a:lnTo>
                    <a:lnTo>
                      <a:pt x="566" y="825"/>
                    </a:lnTo>
                    <a:lnTo>
                      <a:pt x="566" y="809"/>
                    </a:lnTo>
                    <a:lnTo>
                      <a:pt x="599" y="809"/>
                    </a:lnTo>
                    <a:lnTo>
                      <a:pt x="599" y="809"/>
                    </a:lnTo>
                    <a:lnTo>
                      <a:pt x="615" y="825"/>
                    </a:lnTo>
                    <a:lnTo>
                      <a:pt x="615" y="82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267080" y="5410080"/>
              <a:ext cx="2362320" cy="580680"/>
              <a:chOff x="4267080" y="5410080"/>
              <a:chExt cx="2362320" cy="580680"/>
            </a:xfrm>
          </p:grpSpPr>
          <p:sp>
            <p:nvSpPr>
              <p:cNvPr id="220" name=""/>
              <p:cNvSpPr/>
              <p:nvPr/>
            </p:nvSpPr>
            <p:spPr>
              <a:xfrm>
                <a:off x="4267080" y="5486400"/>
                <a:ext cx="152640" cy="152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95680" y="5410080"/>
                <a:ext cx="2133720" cy="5806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South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Central Region           (33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C856-3C40-4494-BFB4-E4BE97BAB7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447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at we wanted to lear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286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ffspring really think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o one has asked befor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9640" y="3543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ir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f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how they think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eographicall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800600"/>
            <a:ext cx="72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re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f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inking betwe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ale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nd fema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sp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BD62-FA46-4841-9EFA-5ABF0597E4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514600"/>
            <a:ext cx="7696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P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andowner names suppli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y state forestry agencies, county assessors, university extension, county/state forest landowner association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35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35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ermission obtained from NIPF parents to interview their offspr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35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35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lepho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views conduct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offspr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809880"/>
            <a:ext cx="7543800" cy="1143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8AB7-5544-403F-87B7-AC85908EE8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at We Wanted to Learn from Offspr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56196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ho are the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0">
              <a:spcBef>
                <a:spcPts val="400"/>
              </a:spcBef>
              <a:buNone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-56196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level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volv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they have in the management of their family forest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0">
              <a:spcBef>
                <a:spcPts val="400"/>
              </a:spcBef>
              <a:buNone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-56196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thei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ercep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n the value of owning the family forest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0">
              <a:spcBef>
                <a:spcPts val="400"/>
              </a:spcBef>
              <a:buNone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-56196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cis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they likely to make with respect to managing their family forests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0725-9F36-4805-97BC-487ABF7AEF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2478240"/>
            <a:ext cx="73152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ing at 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demographic result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0709-2C92-4AEA-8F4E-FD2CA5BE4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1600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ges of Offspr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00480" y="2362320"/>
            <a:ext cx="4343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% 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20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% 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-40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5% 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-60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% 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60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054A-D63C-46DB-9CD5-32058A2994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76200" y="1143000"/>
            <a:ext cx="6743880" cy="60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cres Own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  10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 – 49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 –99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 – 499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0 – 999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0 +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2666880"/>
            <a:ext cx="1143000" cy="15242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B372-1296-459D-B229-85C1DD9509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95280" y="1477800"/>
            <a:ext cx="693432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Years Own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399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 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399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 – 30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29%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399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1 – 50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399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 50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3200400"/>
            <a:ext cx="1295280" cy="1447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3DB8-D3AD-461E-94A5-F9785E3F4A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19000" y="265104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. . 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99"/>
                </a:solidFill>
                <a:latin typeface="Times New Roman"/>
              </a:rPr>
              <a:t>but trouble may be brewing . .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2F93-F91B-4C39-A493-D35297D50F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76240" y="2495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er 50% of both male and females siblings earn more than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$50,000 per yea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76240" y="144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lf are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fessionals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vs. blue collar workers).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6% female;  50% ma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3505320"/>
            <a:ext cx="68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5960" indent="-231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3% were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ised on family forest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76240" y="4286160"/>
            <a:ext cx="76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2% live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ut-of-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t n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family forestla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76240" y="50292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%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n’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ive on the family forests in the future (another 44% weren’t su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5848-B866-47A9-97FC-747F0EFC45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rst, some backgrou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2860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vate lands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50% of all forest la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e US and 60% of all productive timberl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5812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5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60%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oday’s private forestland owner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re older than 5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more th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lf are older than 6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87692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 of family forestland will hav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wnership transfer in the next 5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67CE-259E-44E5-8C56-4B9E09967A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28335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do offspring know about their family fores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3809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ruth is . . . not much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1EDD-BF1C-4FF5-859C-4E376CD563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676520"/>
            <a:ext cx="7772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ny had to check with parents to confirm the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amount of acreag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of the family forest prior to interview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36060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Some did not even know that their family owned forestland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48320"/>
            <a:ext cx="7772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0%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did not know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whether their own family forests were contiguous or scattered among several trac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9679-2D6B-402C-9EBC-16AA4B21A6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1523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. . . 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2666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1160" y="2362320"/>
            <a:ext cx="678168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ear majority (87%)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wish to own family fore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hen transfer time occu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8880" indent="-2872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3% females; 88% m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8880" indent="-2872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ue for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ll age br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8880" indent="-2872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ue for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ll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04840" y="4800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E444-00C8-4994-9EC0-33DFD18C40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19320" y="1973160"/>
            <a:ext cx="739116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717560"/>
                <a:tab algn="l" pos="177480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d while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 parents have discuss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uture plans with offsp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1717560"/>
                <a:tab algn="l" pos="177480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7560" indent="-3459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717560"/>
                <a:tab algn="l" pos="177480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4% females say y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7560" indent="-3459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717560"/>
                <a:tab algn="l" pos="177480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5% males say 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BF0B-DFB3-4E47-900C-03A73A7D4E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43000" y="25909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56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f all offspring interviewed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have 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been involved with the management of the family fores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EFFD-19DC-4928-9A74-C82E0C40C6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4381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733920" y="2286000"/>
            <a:ext cx="1676160" cy="1447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114800"/>
            <a:ext cx="914400" cy="8380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DEC9-6681-488C-99E6-A40D6982D5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76240" y="3048120"/>
            <a:ext cx="739152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60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tated involvement did not begin until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dulthood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gan as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eenag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8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gan at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&lt;10 year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1600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ose tha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ave been invol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 managing family forests (44%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310A-B734-4062-80E8-1038CDB1A3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38080" y="1600200"/>
            <a:ext cx="777240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 almost all reg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ajority of offspr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invol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 family forest management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do not wish to be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d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ntiment is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har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tween male and female sibl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A3AD-55CB-4518-959E-0B40125774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21956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752480" y="2666880"/>
            <a:ext cx="5867640" cy="381240"/>
            <a:chOff x="1752480" y="2666880"/>
            <a:chExt cx="5867640" cy="381240"/>
          </a:xfrm>
        </p:grpSpPr>
        <p:sp>
          <p:nvSpPr>
            <p:cNvPr id="262" name=""/>
            <p:cNvSpPr/>
            <p:nvPr/>
          </p:nvSpPr>
          <p:spPr>
            <a:xfrm>
              <a:off x="3809880" y="2819520"/>
              <a:ext cx="38102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52480" y="2666880"/>
              <a:ext cx="457200" cy="38124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D585-EC58-40F7-9BB0-7B48A435F8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16765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sons for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not wan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be involv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743200"/>
            <a:ext cx="6553080" cy="383760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t’s not my land yet, it’s theirs  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[parents]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Don’t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live close enough to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the land to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manage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’m just not involved; my parents make    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all the decisions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C46E8-ED62-43A4-812F-9980297455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2720" y="1523520"/>
            <a:ext cx="8458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1004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Where we started with funding from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e Wood Education and Resource Cen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(WERC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n-Joiner” NIPFs:  What Drives their Decisions to </a:t>
            </a:r>
            <a:br>
              <a:rPr sz="2600"/>
            </a:b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agment and/or Convert their Forest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(2001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5F7C-8178-4FEC-B23A-CE3358CE25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2120" y="167652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sons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being invol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ut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wan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to be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048120"/>
            <a:ext cx="6553080" cy="294660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 lack the knowledge to manag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 just haven’t pursued it; I need to ask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My parents don’t ask for help; I don’t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know how to approach this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39DC-BBDC-418C-BDF0-8F75F7FD1D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09760" y="2286000"/>
            <a:ext cx="6324480" cy="3900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38080" y="1143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ood news … when involvement occur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’s meaningfu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2362320"/>
            <a:ext cx="1752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905120" y="3886200"/>
            <a:ext cx="5181480" cy="380880"/>
            <a:chOff x="1905120" y="3886200"/>
            <a:chExt cx="5181480" cy="380880"/>
          </a:xfrm>
        </p:grpSpPr>
        <p:sp>
          <p:nvSpPr>
            <p:cNvPr id="272" name=""/>
            <p:cNvSpPr/>
            <p:nvPr/>
          </p:nvSpPr>
          <p:spPr>
            <a:xfrm>
              <a:off x="2514600" y="4038480"/>
              <a:ext cx="457200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05120" y="3886200"/>
              <a:ext cx="457200" cy="38088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5643-D2EB-46CB-BCAF-E7A58B8E3C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1382760"/>
            <a:ext cx="73152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while offspring note that their parents manage the family forests for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everything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but income gener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3" marL="1833480" indent="-461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0% -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ildlif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33480" indent="-461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% -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ater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33480" indent="-461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% -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soil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5BBE-CE98-4271-98D6-0944FBA4CE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400800" cy="3911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38080" y="1066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clearly have different thoughts in mind for the family for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2819520"/>
            <a:ext cx="53352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419720" y="3200400"/>
            <a:ext cx="990360" cy="2590920"/>
            <a:chOff x="4419720" y="3200400"/>
            <a:chExt cx="990360" cy="2590920"/>
          </a:xfrm>
        </p:grpSpPr>
        <p:sp>
          <p:nvSpPr>
            <p:cNvPr id="280" name=""/>
            <p:cNvSpPr/>
            <p:nvPr/>
          </p:nvSpPr>
          <p:spPr>
            <a:xfrm>
              <a:off x="4876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419720" y="3200400"/>
              <a:ext cx="533160" cy="5335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CFC5-6C38-48C3-AFB0-7F4E2D8308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12193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re will income come from?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’s pretty clear . .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2743200"/>
            <a:ext cx="1219320" cy="4572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95600" y="2438280"/>
            <a:ext cx="5752800" cy="3508560"/>
            <a:chOff x="1695600" y="2438280"/>
            <a:chExt cx="5752800" cy="350856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1695600" y="2438280"/>
              <a:ext cx="5752800" cy="35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514600" y="4267080"/>
              <a:ext cx="47242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572000" y="2743200"/>
            <a:ext cx="1219320" cy="4572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16B3-F495-4367-8E35-2F5864BEBA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1640" y="1639800"/>
            <a:ext cx="6247080" cy="3830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5800" y="1066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united front on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reasons to ow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family for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4343400"/>
            <a:ext cx="5790960" cy="8380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5562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But . .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0FB9-31B1-4859-BED9-E3817EA8EC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68280" y="1905120"/>
            <a:ext cx="6607440" cy="40352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1430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. . “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’s all mine”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h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bottom lin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e where the benefits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4876920"/>
            <a:ext cx="685800" cy="7617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867280" y="4800600"/>
            <a:ext cx="990720" cy="1295280"/>
            <a:chOff x="5867280" y="4800600"/>
            <a:chExt cx="990720" cy="1295280"/>
          </a:xfrm>
        </p:grpSpPr>
        <p:sp>
          <p:nvSpPr>
            <p:cNvPr id="296" name=""/>
            <p:cNvSpPr/>
            <p:nvPr/>
          </p:nvSpPr>
          <p:spPr>
            <a:xfrm>
              <a:off x="5867280" y="4800600"/>
              <a:ext cx="533520" cy="53352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2200" y="5334120"/>
              <a:ext cx="685800" cy="76176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267080" y="4724280"/>
            <a:ext cx="1524240" cy="1219320"/>
            <a:chOff x="4267080" y="4724280"/>
            <a:chExt cx="1524240" cy="1219320"/>
          </a:xfrm>
        </p:grpSpPr>
        <p:sp>
          <p:nvSpPr>
            <p:cNvPr id="299" name=""/>
            <p:cNvSpPr/>
            <p:nvPr/>
          </p:nvSpPr>
          <p:spPr>
            <a:xfrm>
              <a:off x="4572000" y="4724280"/>
              <a:ext cx="1219320" cy="762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7080" y="5410080"/>
              <a:ext cx="68580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60D7-0127-4D93-A651-305B9AF818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09480" y="1982880"/>
            <a:ext cx="7925040" cy="43894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990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while parents didn’t ran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x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s a major challenge to ownership, the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hildren clearly do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5334120"/>
            <a:ext cx="609840" cy="6094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5334120"/>
            <a:ext cx="609480" cy="6094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905120" y="2819520"/>
            <a:ext cx="4800600" cy="3339720"/>
            <a:chOff x="1905120" y="2819520"/>
            <a:chExt cx="4800600" cy="3339720"/>
          </a:xfrm>
        </p:grpSpPr>
        <p:grpSp>
          <p:nvGrpSpPr>
            <p:cNvPr id="306" name=""/>
            <p:cNvGrpSpPr/>
            <p:nvPr/>
          </p:nvGrpSpPr>
          <p:grpSpPr>
            <a:xfrm>
              <a:off x="1905120" y="5638680"/>
              <a:ext cx="4800600" cy="520560"/>
              <a:chOff x="1905120" y="5638680"/>
              <a:chExt cx="4800600" cy="520560"/>
            </a:xfrm>
          </p:grpSpPr>
          <p:sp>
            <p:nvSpPr>
              <p:cNvPr id="307" name=""/>
              <p:cNvSpPr/>
              <p:nvPr/>
            </p:nvSpPr>
            <p:spPr>
              <a:xfrm>
                <a:off x="1905120" y="56386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38480" y="5638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72200" y="5638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886200" y="2819520"/>
              <a:ext cx="609480" cy="60948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5880" y="2819520"/>
              <a:ext cx="609840" cy="60948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5E61-B7B4-4C25-8DEA-7F3E4CA984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533520" y="2895480"/>
            <a:ext cx="8229600" cy="2695320"/>
            <a:chOff x="533520" y="2895480"/>
            <a:chExt cx="8229600" cy="269532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822960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086600" y="33271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roup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19320" y="11430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-looping back to the 2002 non-joiner NIPF landowner study results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axes were also not a major driver to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forest conversio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either now nor at transfer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114800"/>
            <a:ext cx="990720" cy="137160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1058-737A-43C1-9DA3-FC8091C1E8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523880" y="2104920"/>
            <a:ext cx="6324840" cy="388476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3048120" y="5181480"/>
            <a:ext cx="4038480" cy="642600"/>
            <a:chOff x="3048120" y="5181480"/>
            <a:chExt cx="4038480" cy="642600"/>
          </a:xfrm>
        </p:grpSpPr>
        <p:sp>
          <p:nvSpPr>
            <p:cNvPr id="319" name=""/>
            <p:cNvSpPr/>
            <p:nvPr/>
          </p:nvSpPr>
          <p:spPr>
            <a:xfrm>
              <a:off x="3048120" y="51814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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51814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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77120" y="51814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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066680" y="1143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 offspr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early view tax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as a ‘force’ condition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990720" y="1523880"/>
            <a:ext cx="7467480" cy="4191120"/>
            <a:chOff x="990720" y="1523880"/>
            <a:chExt cx="7467480" cy="4191120"/>
          </a:xfrm>
        </p:grpSpPr>
        <p:grpSp>
          <p:nvGrpSpPr>
            <p:cNvPr id="324" name=""/>
            <p:cNvGrpSpPr/>
            <p:nvPr/>
          </p:nvGrpSpPr>
          <p:grpSpPr>
            <a:xfrm>
              <a:off x="3581280" y="5029200"/>
              <a:ext cx="4114800" cy="685800"/>
              <a:chOff x="3581280" y="5029200"/>
              <a:chExt cx="4114800" cy="685800"/>
            </a:xfrm>
          </p:grpSpPr>
          <p:sp>
            <p:nvSpPr>
              <p:cNvPr id="325" name=""/>
              <p:cNvSpPr/>
              <p:nvPr/>
            </p:nvSpPr>
            <p:spPr>
              <a:xfrm>
                <a:off x="4724280" y="5029200"/>
                <a:ext cx="685800" cy="609480"/>
              </a:xfrm>
              <a:prstGeom prst="ellipse">
                <a:avLst/>
              </a:prstGeom>
              <a:noFill/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81280" y="5029200"/>
                <a:ext cx="685800" cy="609480"/>
              </a:xfrm>
              <a:prstGeom prst="ellipse">
                <a:avLst/>
              </a:prstGeom>
              <a:noFill/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010280" y="5105520"/>
                <a:ext cx="685800" cy="609480"/>
              </a:xfrm>
              <a:prstGeom prst="ellipse">
                <a:avLst/>
              </a:prstGeom>
              <a:noFill/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90720" y="152388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. . .   and the cost of 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Times New Roman"/>
                </a:rPr>
                <a:t>medical expens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474E-A73F-4749-9B84-A92365CB01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8380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3048120"/>
            <a:ext cx="123840" cy="183960"/>
          </a:xfrm>
          <a:custGeom>
            <a:avLst/>
            <a:gdLst/>
            <a:ahLst/>
            <a:rect l="l" t="t" r="r" b="b"/>
            <a:pathLst>
              <a:path w="194" h="291">
                <a:moveTo>
                  <a:pt x="64" y="259"/>
                </a:moveTo>
                <a:lnTo>
                  <a:pt x="64" y="210"/>
                </a:lnTo>
                <a:lnTo>
                  <a:pt x="48" y="145"/>
                </a:lnTo>
                <a:lnTo>
                  <a:pt x="32" y="129"/>
                </a:lnTo>
                <a:lnTo>
                  <a:pt x="32" y="113"/>
                </a:lnTo>
                <a:lnTo>
                  <a:pt x="32" y="97"/>
                </a:lnTo>
                <a:lnTo>
                  <a:pt x="0" y="32"/>
                </a:lnTo>
                <a:lnTo>
                  <a:pt x="16" y="0"/>
                </a:lnTo>
                <a:lnTo>
                  <a:pt x="32" y="0"/>
                </a:lnTo>
                <a:lnTo>
                  <a:pt x="64" y="0"/>
                </a:lnTo>
                <a:lnTo>
                  <a:pt x="64" y="0"/>
                </a:lnTo>
                <a:lnTo>
                  <a:pt x="64" y="16"/>
                </a:lnTo>
                <a:lnTo>
                  <a:pt x="48" y="48"/>
                </a:lnTo>
                <a:lnTo>
                  <a:pt x="48" y="48"/>
                </a:lnTo>
                <a:lnTo>
                  <a:pt x="48" y="81"/>
                </a:lnTo>
                <a:lnTo>
                  <a:pt x="64" y="97"/>
                </a:lnTo>
                <a:lnTo>
                  <a:pt x="97" y="113"/>
                </a:lnTo>
                <a:lnTo>
                  <a:pt x="97" y="145"/>
                </a:lnTo>
                <a:lnTo>
                  <a:pt x="113" y="162"/>
                </a:lnTo>
                <a:lnTo>
                  <a:pt x="129" y="178"/>
                </a:lnTo>
                <a:lnTo>
                  <a:pt x="145" y="210"/>
                </a:lnTo>
                <a:lnTo>
                  <a:pt x="162" y="194"/>
                </a:lnTo>
                <a:lnTo>
                  <a:pt x="194" y="275"/>
                </a:lnTo>
                <a:lnTo>
                  <a:pt x="178" y="275"/>
                </a:lnTo>
                <a:lnTo>
                  <a:pt x="178" y="275"/>
                </a:lnTo>
                <a:lnTo>
                  <a:pt x="145" y="291"/>
                </a:lnTo>
                <a:lnTo>
                  <a:pt x="81" y="291"/>
                </a:lnTo>
                <a:lnTo>
                  <a:pt x="81" y="275"/>
                </a:lnTo>
                <a:lnTo>
                  <a:pt x="64" y="25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3162240"/>
            <a:ext cx="20880" cy="31680"/>
          </a:xfrm>
          <a:custGeom>
            <a:avLst/>
            <a:gdLst/>
            <a:ahLst/>
            <a:rect l="l" t="t" r="r" b="b"/>
            <a:pathLst>
              <a:path w="32" h="49">
                <a:moveTo>
                  <a:pt x="16" y="0"/>
                </a:moveTo>
                <a:lnTo>
                  <a:pt x="32" y="17"/>
                </a:lnTo>
                <a:lnTo>
                  <a:pt x="16" y="49"/>
                </a:lnTo>
                <a:lnTo>
                  <a:pt x="16" y="33"/>
                </a:lnTo>
                <a:lnTo>
                  <a:pt x="16" y="17"/>
                </a:lnTo>
                <a:lnTo>
                  <a:pt x="0" y="17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7800" y="3274920"/>
            <a:ext cx="811440" cy="411120"/>
          </a:xfrm>
          <a:custGeom>
            <a:avLst/>
            <a:gdLst/>
            <a:ahLst/>
            <a:rect l="l" t="t" r="r" b="b"/>
            <a:pathLst>
              <a:path w="1278" h="648">
                <a:moveTo>
                  <a:pt x="922" y="534"/>
                </a:moveTo>
                <a:lnTo>
                  <a:pt x="825" y="551"/>
                </a:lnTo>
                <a:lnTo>
                  <a:pt x="825" y="551"/>
                </a:lnTo>
                <a:lnTo>
                  <a:pt x="793" y="551"/>
                </a:lnTo>
                <a:lnTo>
                  <a:pt x="744" y="551"/>
                </a:lnTo>
                <a:lnTo>
                  <a:pt x="744" y="551"/>
                </a:lnTo>
                <a:lnTo>
                  <a:pt x="712" y="567"/>
                </a:lnTo>
                <a:lnTo>
                  <a:pt x="647" y="567"/>
                </a:lnTo>
                <a:lnTo>
                  <a:pt x="615" y="567"/>
                </a:lnTo>
                <a:lnTo>
                  <a:pt x="582" y="567"/>
                </a:lnTo>
                <a:lnTo>
                  <a:pt x="550" y="567"/>
                </a:lnTo>
                <a:lnTo>
                  <a:pt x="534" y="567"/>
                </a:lnTo>
                <a:lnTo>
                  <a:pt x="485" y="583"/>
                </a:lnTo>
                <a:lnTo>
                  <a:pt x="437" y="583"/>
                </a:lnTo>
                <a:lnTo>
                  <a:pt x="420" y="583"/>
                </a:lnTo>
                <a:lnTo>
                  <a:pt x="388" y="583"/>
                </a:lnTo>
                <a:lnTo>
                  <a:pt x="339" y="599"/>
                </a:lnTo>
                <a:lnTo>
                  <a:pt x="323" y="599"/>
                </a:lnTo>
                <a:lnTo>
                  <a:pt x="258" y="599"/>
                </a:lnTo>
                <a:lnTo>
                  <a:pt x="258" y="632"/>
                </a:lnTo>
                <a:lnTo>
                  <a:pt x="194" y="632"/>
                </a:lnTo>
                <a:lnTo>
                  <a:pt x="178" y="632"/>
                </a:lnTo>
                <a:lnTo>
                  <a:pt x="129" y="648"/>
                </a:lnTo>
                <a:lnTo>
                  <a:pt x="129" y="648"/>
                </a:lnTo>
                <a:lnTo>
                  <a:pt x="129" y="648"/>
                </a:lnTo>
                <a:lnTo>
                  <a:pt x="48" y="648"/>
                </a:lnTo>
                <a:lnTo>
                  <a:pt x="32" y="648"/>
                </a:lnTo>
                <a:lnTo>
                  <a:pt x="32" y="615"/>
                </a:lnTo>
                <a:lnTo>
                  <a:pt x="32" y="615"/>
                </a:lnTo>
                <a:lnTo>
                  <a:pt x="64" y="632"/>
                </a:lnTo>
                <a:lnTo>
                  <a:pt x="64" y="615"/>
                </a:lnTo>
                <a:lnTo>
                  <a:pt x="64" y="599"/>
                </a:lnTo>
                <a:lnTo>
                  <a:pt x="80" y="583"/>
                </a:lnTo>
                <a:lnTo>
                  <a:pt x="64" y="567"/>
                </a:lnTo>
                <a:lnTo>
                  <a:pt x="64" y="567"/>
                </a:lnTo>
                <a:lnTo>
                  <a:pt x="80" y="551"/>
                </a:lnTo>
                <a:lnTo>
                  <a:pt x="64" y="534"/>
                </a:lnTo>
                <a:lnTo>
                  <a:pt x="64" y="534"/>
                </a:lnTo>
                <a:lnTo>
                  <a:pt x="64" y="518"/>
                </a:lnTo>
                <a:lnTo>
                  <a:pt x="80" y="486"/>
                </a:lnTo>
                <a:lnTo>
                  <a:pt x="97" y="486"/>
                </a:lnTo>
                <a:lnTo>
                  <a:pt x="161" y="518"/>
                </a:lnTo>
                <a:lnTo>
                  <a:pt x="178" y="518"/>
                </a:lnTo>
                <a:lnTo>
                  <a:pt x="194" y="486"/>
                </a:lnTo>
                <a:lnTo>
                  <a:pt x="178" y="470"/>
                </a:lnTo>
                <a:lnTo>
                  <a:pt x="178" y="437"/>
                </a:lnTo>
                <a:lnTo>
                  <a:pt x="178" y="437"/>
                </a:lnTo>
                <a:lnTo>
                  <a:pt x="194" y="437"/>
                </a:lnTo>
                <a:lnTo>
                  <a:pt x="210" y="421"/>
                </a:lnTo>
                <a:lnTo>
                  <a:pt x="242" y="421"/>
                </a:lnTo>
                <a:lnTo>
                  <a:pt x="242" y="405"/>
                </a:lnTo>
                <a:lnTo>
                  <a:pt x="226" y="389"/>
                </a:lnTo>
                <a:lnTo>
                  <a:pt x="226" y="373"/>
                </a:lnTo>
                <a:lnTo>
                  <a:pt x="242" y="340"/>
                </a:lnTo>
                <a:lnTo>
                  <a:pt x="258" y="356"/>
                </a:lnTo>
                <a:lnTo>
                  <a:pt x="258" y="340"/>
                </a:lnTo>
                <a:lnTo>
                  <a:pt x="258" y="324"/>
                </a:lnTo>
                <a:lnTo>
                  <a:pt x="258" y="324"/>
                </a:lnTo>
                <a:lnTo>
                  <a:pt x="275" y="324"/>
                </a:lnTo>
                <a:lnTo>
                  <a:pt x="291" y="324"/>
                </a:lnTo>
                <a:lnTo>
                  <a:pt x="307" y="324"/>
                </a:lnTo>
                <a:lnTo>
                  <a:pt x="307" y="340"/>
                </a:lnTo>
                <a:lnTo>
                  <a:pt x="307" y="340"/>
                </a:lnTo>
                <a:lnTo>
                  <a:pt x="323" y="324"/>
                </a:lnTo>
                <a:lnTo>
                  <a:pt x="307" y="308"/>
                </a:lnTo>
                <a:lnTo>
                  <a:pt x="307" y="308"/>
                </a:lnTo>
                <a:lnTo>
                  <a:pt x="339" y="308"/>
                </a:lnTo>
                <a:lnTo>
                  <a:pt x="339" y="308"/>
                </a:lnTo>
                <a:lnTo>
                  <a:pt x="372" y="308"/>
                </a:lnTo>
                <a:lnTo>
                  <a:pt x="372" y="324"/>
                </a:lnTo>
                <a:lnTo>
                  <a:pt x="404" y="340"/>
                </a:lnTo>
                <a:lnTo>
                  <a:pt x="404" y="308"/>
                </a:lnTo>
                <a:lnTo>
                  <a:pt x="420" y="308"/>
                </a:lnTo>
                <a:lnTo>
                  <a:pt x="453" y="292"/>
                </a:lnTo>
                <a:lnTo>
                  <a:pt x="453" y="308"/>
                </a:lnTo>
                <a:lnTo>
                  <a:pt x="469" y="292"/>
                </a:lnTo>
                <a:lnTo>
                  <a:pt x="469" y="308"/>
                </a:lnTo>
                <a:lnTo>
                  <a:pt x="485" y="308"/>
                </a:lnTo>
                <a:lnTo>
                  <a:pt x="485" y="292"/>
                </a:lnTo>
                <a:lnTo>
                  <a:pt x="501" y="292"/>
                </a:lnTo>
                <a:lnTo>
                  <a:pt x="501" y="259"/>
                </a:lnTo>
                <a:lnTo>
                  <a:pt x="501" y="259"/>
                </a:lnTo>
                <a:lnTo>
                  <a:pt x="501" y="243"/>
                </a:lnTo>
                <a:lnTo>
                  <a:pt x="517" y="259"/>
                </a:lnTo>
                <a:lnTo>
                  <a:pt x="534" y="243"/>
                </a:lnTo>
                <a:lnTo>
                  <a:pt x="517" y="227"/>
                </a:lnTo>
                <a:lnTo>
                  <a:pt x="517" y="243"/>
                </a:lnTo>
                <a:lnTo>
                  <a:pt x="534" y="243"/>
                </a:lnTo>
                <a:lnTo>
                  <a:pt x="534" y="259"/>
                </a:lnTo>
                <a:lnTo>
                  <a:pt x="550" y="259"/>
                </a:lnTo>
                <a:lnTo>
                  <a:pt x="566" y="275"/>
                </a:lnTo>
                <a:lnTo>
                  <a:pt x="582" y="275"/>
                </a:lnTo>
                <a:lnTo>
                  <a:pt x="582" y="275"/>
                </a:lnTo>
                <a:lnTo>
                  <a:pt x="598" y="259"/>
                </a:lnTo>
                <a:lnTo>
                  <a:pt x="598" y="259"/>
                </a:lnTo>
                <a:lnTo>
                  <a:pt x="598" y="227"/>
                </a:lnTo>
                <a:lnTo>
                  <a:pt x="598" y="211"/>
                </a:lnTo>
                <a:lnTo>
                  <a:pt x="615" y="211"/>
                </a:lnTo>
                <a:lnTo>
                  <a:pt x="631" y="195"/>
                </a:lnTo>
                <a:lnTo>
                  <a:pt x="631" y="178"/>
                </a:lnTo>
                <a:lnTo>
                  <a:pt x="647" y="162"/>
                </a:lnTo>
                <a:lnTo>
                  <a:pt x="663" y="162"/>
                </a:lnTo>
                <a:lnTo>
                  <a:pt x="663" y="146"/>
                </a:lnTo>
                <a:lnTo>
                  <a:pt x="663" y="130"/>
                </a:lnTo>
                <a:lnTo>
                  <a:pt x="663" y="97"/>
                </a:lnTo>
                <a:lnTo>
                  <a:pt x="679" y="97"/>
                </a:lnTo>
                <a:lnTo>
                  <a:pt x="695" y="97"/>
                </a:lnTo>
                <a:lnTo>
                  <a:pt x="695" y="97"/>
                </a:lnTo>
                <a:lnTo>
                  <a:pt x="728" y="81"/>
                </a:lnTo>
                <a:lnTo>
                  <a:pt x="760" y="81"/>
                </a:lnTo>
                <a:lnTo>
                  <a:pt x="760" y="65"/>
                </a:lnTo>
                <a:lnTo>
                  <a:pt x="776" y="49"/>
                </a:lnTo>
                <a:lnTo>
                  <a:pt x="760" y="49"/>
                </a:lnTo>
                <a:lnTo>
                  <a:pt x="760" y="49"/>
                </a:lnTo>
                <a:lnTo>
                  <a:pt x="760" y="33"/>
                </a:lnTo>
                <a:lnTo>
                  <a:pt x="744" y="17"/>
                </a:lnTo>
                <a:lnTo>
                  <a:pt x="744" y="17"/>
                </a:lnTo>
                <a:lnTo>
                  <a:pt x="760" y="0"/>
                </a:lnTo>
                <a:lnTo>
                  <a:pt x="776" y="0"/>
                </a:lnTo>
                <a:lnTo>
                  <a:pt x="793" y="0"/>
                </a:lnTo>
                <a:lnTo>
                  <a:pt x="809" y="0"/>
                </a:lnTo>
                <a:lnTo>
                  <a:pt x="825" y="0"/>
                </a:lnTo>
                <a:lnTo>
                  <a:pt x="825" y="17"/>
                </a:lnTo>
                <a:lnTo>
                  <a:pt x="841" y="17"/>
                </a:lnTo>
                <a:lnTo>
                  <a:pt x="857" y="49"/>
                </a:lnTo>
                <a:lnTo>
                  <a:pt x="857" y="65"/>
                </a:lnTo>
                <a:lnTo>
                  <a:pt x="890" y="65"/>
                </a:lnTo>
                <a:lnTo>
                  <a:pt x="922" y="65"/>
                </a:lnTo>
                <a:lnTo>
                  <a:pt x="954" y="81"/>
                </a:lnTo>
                <a:lnTo>
                  <a:pt x="971" y="81"/>
                </a:lnTo>
                <a:lnTo>
                  <a:pt x="971" y="81"/>
                </a:lnTo>
                <a:lnTo>
                  <a:pt x="987" y="65"/>
                </a:lnTo>
                <a:lnTo>
                  <a:pt x="1019" y="65"/>
                </a:lnTo>
                <a:lnTo>
                  <a:pt x="1019" y="81"/>
                </a:lnTo>
                <a:lnTo>
                  <a:pt x="1035" y="81"/>
                </a:lnTo>
                <a:lnTo>
                  <a:pt x="1051" y="81"/>
                </a:lnTo>
                <a:lnTo>
                  <a:pt x="1068" y="49"/>
                </a:lnTo>
                <a:lnTo>
                  <a:pt x="1084" y="49"/>
                </a:lnTo>
                <a:lnTo>
                  <a:pt x="1100" y="81"/>
                </a:lnTo>
                <a:lnTo>
                  <a:pt x="1132" y="81"/>
                </a:lnTo>
                <a:lnTo>
                  <a:pt x="1132" y="97"/>
                </a:lnTo>
                <a:lnTo>
                  <a:pt x="1149" y="97"/>
                </a:lnTo>
                <a:lnTo>
                  <a:pt x="1149" y="114"/>
                </a:lnTo>
                <a:lnTo>
                  <a:pt x="1149" y="146"/>
                </a:lnTo>
                <a:lnTo>
                  <a:pt x="1149" y="146"/>
                </a:lnTo>
                <a:lnTo>
                  <a:pt x="1149" y="162"/>
                </a:lnTo>
                <a:lnTo>
                  <a:pt x="1149" y="162"/>
                </a:lnTo>
                <a:lnTo>
                  <a:pt x="1181" y="195"/>
                </a:lnTo>
                <a:lnTo>
                  <a:pt x="1181" y="211"/>
                </a:lnTo>
                <a:lnTo>
                  <a:pt x="1197" y="227"/>
                </a:lnTo>
                <a:lnTo>
                  <a:pt x="1197" y="227"/>
                </a:lnTo>
                <a:lnTo>
                  <a:pt x="1213" y="243"/>
                </a:lnTo>
                <a:lnTo>
                  <a:pt x="1213" y="243"/>
                </a:lnTo>
                <a:lnTo>
                  <a:pt x="1230" y="259"/>
                </a:lnTo>
                <a:lnTo>
                  <a:pt x="1246" y="275"/>
                </a:lnTo>
                <a:lnTo>
                  <a:pt x="1246" y="259"/>
                </a:lnTo>
                <a:lnTo>
                  <a:pt x="1246" y="275"/>
                </a:lnTo>
                <a:lnTo>
                  <a:pt x="1246" y="275"/>
                </a:lnTo>
                <a:lnTo>
                  <a:pt x="1278" y="292"/>
                </a:lnTo>
                <a:lnTo>
                  <a:pt x="1230" y="340"/>
                </a:lnTo>
                <a:lnTo>
                  <a:pt x="1197" y="373"/>
                </a:lnTo>
                <a:lnTo>
                  <a:pt x="1197" y="373"/>
                </a:lnTo>
                <a:lnTo>
                  <a:pt x="1165" y="389"/>
                </a:lnTo>
                <a:lnTo>
                  <a:pt x="1165" y="405"/>
                </a:lnTo>
                <a:lnTo>
                  <a:pt x="1149" y="421"/>
                </a:lnTo>
                <a:lnTo>
                  <a:pt x="1149" y="437"/>
                </a:lnTo>
                <a:lnTo>
                  <a:pt x="1116" y="454"/>
                </a:lnTo>
                <a:lnTo>
                  <a:pt x="1100" y="486"/>
                </a:lnTo>
                <a:lnTo>
                  <a:pt x="1051" y="502"/>
                </a:lnTo>
                <a:lnTo>
                  <a:pt x="1019" y="534"/>
                </a:lnTo>
                <a:lnTo>
                  <a:pt x="971" y="534"/>
                </a:lnTo>
                <a:lnTo>
                  <a:pt x="954" y="534"/>
                </a:lnTo>
                <a:lnTo>
                  <a:pt x="922" y="534"/>
                </a:lnTo>
                <a:lnTo>
                  <a:pt x="922" y="534"/>
                </a:lnTo>
                <a:lnTo>
                  <a:pt x="922" y="534"/>
                </a:lnTo>
                <a:close/>
                <a:moveTo>
                  <a:pt x="16" y="648"/>
                </a:moveTo>
                <a:lnTo>
                  <a:pt x="16" y="648"/>
                </a:lnTo>
                <a:lnTo>
                  <a:pt x="0" y="648"/>
                </a:lnTo>
                <a:lnTo>
                  <a:pt x="0" y="632"/>
                </a:lnTo>
                <a:lnTo>
                  <a:pt x="16" y="632"/>
                </a:lnTo>
                <a:lnTo>
                  <a:pt x="16" y="648"/>
                </a:lnTo>
                <a:lnTo>
                  <a:pt x="16" y="64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4880" y="3038400"/>
            <a:ext cx="503280" cy="236520"/>
          </a:xfrm>
          <a:custGeom>
            <a:avLst/>
            <a:gdLst/>
            <a:ahLst/>
            <a:rect l="l" t="t" r="r" b="b"/>
            <a:pathLst>
              <a:path w="793" h="372">
                <a:moveTo>
                  <a:pt x="566" y="194"/>
                </a:moveTo>
                <a:lnTo>
                  <a:pt x="550" y="178"/>
                </a:lnTo>
                <a:lnTo>
                  <a:pt x="550" y="178"/>
                </a:lnTo>
                <a:lnTo>
                  <a:pt x="550" y="178"/>
                </a:lnTo>
                <a:lnTo>
                  <a:pt x="550" y="194"/>
                </a:lnTo>
                <a:lnTo>
                  <a:pt x="550" y="194"/>
                </a:lnTo>
                <a:lnTo>
                  <a:pt x="550" y="194"/>
                </a:lnTo>
                <a:lnTo>
                  <a:pt x="550" y="211"/>
                </a:lnTo>
                <a:lnTo>
                  <a:pt x="550" y="178"/>
                </a:lnTo>
                <a:lnTo>
                  <a:pt x="550" y="162"/>
                </a:lnTo>
                <a:lnTo>
                  <a:pt x="566" y="178"/>
                </a:lnTo>
                <a:lnTo>
                  <a:pt x="566" y="178"/>
                </a:lnTo>
                <a:lnTo>
                  <a:pt x="566" y="178"/>
                </a:lnTo>
                <a:lnTo>
                  <a:pt x="566" y="194"/>
                </a:lnTo>
                <a:lnTo>
                  <a:pt x="566" y="194"/>
                </a:lnTo>
                <a:close/>
                <a:moveTo>
                  <a:pt x="777" y="243"/>
                </a:moveTo>
                <a:lnTo>
                  <a:pt x="793" y="243"/>
                </a:lnTo>
                <a:lnTo>
                  <a:pt x="793" y="275"/>
                </a:lnTo>
                <a:lnTo>
                  <a:pt x="777" y="243"/>
                </a:lnTo>
                <a:lnTo>
                  <a:pt x="777" y="243"/>
                </a:lnTo>
                <a:close/>
                <a:moveTo>
                  <a:pt x="777" y="340"/>
                </a:moveTo>
                <a:lnTo>
                  <a:pt x="793" y="275"/>
                </a:lnTo>
                <a:lnTo>
                  <a:pt x="777" y="340"/>
                </a:lnTo>
                <a:lnTo>
                  <a:pt x="777" y="340"/>
                </a:lnTo>
                <a:lnTo>
                  <a:pt x="777" y="340"/>
                </a:lnTo>
                <a:close/>
                <a:moveTo>
                  <a:pt x="761" y="324"/>
                </a:move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close/>
                <a:moveTo>
                  <a:pt x="761" y="324"/>
                </a:move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lnTo>
                  <a:pt x="744" y="340"/>
                </a:lnTo>
                <a:lnTo>
                  <a:pt x="761" y="340"/>
                </a:lnTo>
                <a:lnTo>
                  <a:pt x="712" y="356"/>
                </a:lnTo>
                <a:lnTo>
                  <a:pt x="712" y="372"/>
                </a:lnTo>
                <a:lnTo>
                  <a:pt x="680" y="372"/>
                </a:lnTo>
                <a:lnTo>
                  <a:pt x="680" y="340"/>
                </a:lnTo>
                <a:lnTo>
                  <a:pt x="663" y="324"/>
                </a:lnTo>
                <a:lnTo>
                  <a:pt x="663" y="324"/>
                </a:lnTo>
                <a:lnTo>
                  <a:pt x="663" y="324"/>
                </a:lnTo>
                <a:lnTo>
                  <a:pt x="680" y="308"/>
                </a:lnTo>
                <a:lnTo>
                  <a:pt x="663" y="308"/>
                </a:lnTo>
                <a:lnTo>
                  <a:pt x="663" y="291"/>
                </a:lnTo>
                <a:lnTo>
                  <a:pt x="647" y="291"/>
                </a:lnTo>
                <a:lnTo>
                  <a:pt x="647" y="308"/>
                </a:lnTo>
                <a:lnTo>
                  <a:pt x="631" y="308"/>
                </a:lnTo>
                <a:lnTo>
                  <a:pt x="631" y="308"/>
                </a:lnTo>
                <a:lnTo>
                  <a:pt x="631" y="324"/>
                </a:lnTo>
                <a:lnTo>
                  <a:pt x="583" y="291"/>
                </a:lnTo>
                <a:lnTo>
                  <a:pt x="583" y="275"/>
                </a:lnTo>
                <a:lnTo>
                  <a:pt x="599" y="259"/>
                </a:lnTo>
                <a:lnTo>
                  <a:pt x="583" y="259"/>
                </a:lnTo>
                <a:lnTo>
                  <a:pt x="615" y="259"/>
                </a:lnTo>
                <a:lnTo>
                  <a:pt x="615" y="243"/>
                </a:lnTo>
                <a:lnTo>
                  <a:pt x="615" y="243"/>
                </a:lnTo>
                <a:lnTo>
                  <a:pt x="615" y="243"/>
                </a:lnTo>
                <a:lnTo>
                  <a:pt x="599" y="227"/>
                </a:lnTo>
                <a:lnTo>
                  <a:pt x="583" y="227"/>
                </a:lnTo>
                <a:lnTo>
                  <a:pt x="583" y="211"/>
                </a:lnTo>
                <a:lnTo>
                  <a:pt x="566" y="211"/>
                </a:lnTo>
                <a:lnTo>
                  <a:pt x="566" y="243"/>
                </a:lnTo>
                <a:lnTo>
                  <a:pt x="566" y="243"/>
                </a:lnTo>
                <a:lnTo>
                  <a:pt x="566" y="211"/>
                </a:lnTo>
                <a:lnTo>
                  <a:pt x="583" y="211"/>
                </a:lnTo>
                <a:lnTo>
                  <a:pt x="583" y="211"/>
                </a:lnTo>
                <a:lnTo>
                  <a:pt x="599" y="194"/>
                </a:lnTo>
                <a:lnTo>
                  <a:pt x="599" y="178"/>
                </a:lnTo>
                <a:lnTo>
                  <a:pt x="599" y="178"/>
                </a:lnTo>
                <a:lnTo>
                  <a:pt x="599" y="178"/>
                </a:lnTo>
                <a:lnTo>
                  <a:pt x="583" y="178"/>
                </a:lnTo>
                <a:lnTo>
                  <a:pt x="566" y="178"/>
                </a:lnTo>
                <a:lnTo>
                  <a:pt x="583" y="130"/>
                </a:lnTo>
                <a:lnTo>
                  <a:pt x="566" y="146"/>
                </a:lnTo>
                <a:lnTo>
                  <a:pt x="566" y="146"/>
                </a:lnTo>
                <a:lnTo>
                  <a:pt x="566" y="130"/>
                </a:lnTo>
                <a:lnTo>
                  <a:pt x="566" y="97"/>
                </a:lnTo>
                <a:lnTo>
                  <a:pt x="583" y="81"/>
                </a:lnTo>
                <a:lnTo>
                  <a:pt x="615" y="65"/>
                </a:lnTo>
                <a:lnTo>
                  <a:pt x="583" y="65"/>
                </a:lnTo>
                <a:lnTo>
                  <a:pt x="599" y="49"/>
                </a:lnTo>
                <a:lnTo>
                  <a:pt x="583" y="49"/>
                </a:lnTo>
                <a:lnTo>
                  <a:pt x="566" y="33"/>
                </a:lnTo>
                <a:lnTo>
                  <a:pt x="566" y="49"/>
                </a:lnTo>
                <a:lnTo>
                  <a:pt x="566" y="81"/>
                </a:lnTo>
                <a:lnTo>
                  <a:pt x="550" y="81"/>
                </a:lnTo>
                <a:lnTo>
                  <a:pt x="534" y="81"/>
                </a:lnTo>
                <a:lnTo>
                  <a:pt x="534" y="130"/>
                </a:lnTo>
                <a:lnTo>
                  <a:pt x="502" y="130"/>
                </a:lnTo>
                <a:lnTo>
                  <a:pt x="502" y="130"/>
                </a:lnTo>
                <a:lnTo>
                  <a:pt x="502" y="130"/>
                </a:lnTo>
                <a:lnTo>
                  <a:pt x="502" y="130"/>
                </a:lnTo>
                <a:lnTo>
                  <a:pt x="502" y="146"/>
                </a:lnTo>
                <a:lnTo>
                  <a:pt x="502" y="146"/>
                </a:lnTo>
                <a:lnTo>
                  <a:pt x="502" y="130"/>
                </a:lnTo>
                <a:lnTo>
                  <a:pt x="534" y="146"/>
                </a:lnTo>
                <a:lnTo>
                  <a:pt x="534" y="194"/>
                </a:lnTo>
                <a:lnTo>
                  <a:pt x="518" y="227"/>
                </a:lnTo>
                <a:lnTo>
                  <a:pt x="534" y="243"/>
                </a:lnTo>
                <a:lnTo>
                  <a:pt x="550" y="275"/>
                </a:lnTo>
                <a:lnTo>
                  <a:pt x="566" y="308"/>
                </a:lnTo>
                <a:lnTo>
                  <a:pt x="566" y="308"/>
                </a:lnTo>
                <a:lnTo>
                  <a:pt x="566" y="324"/>
                </a:lnTo>
                <a:lnTo>
                  <a:pt x="550" y="324"/>
                </a:lnTo>
                <a:lnTo>
                  <a:pt x="550" y="308"/>
                </a:lnTo>
                <a:lnTo>
                  <a:pt x="518" y="291"/>
                </a:lnTo>
                <a:lnTo>
                  <a:pt x="583" y="340"/>
                </a:lnTo>
                <a:lnTo>
                  <a:pt x="599" y="372"/>
                </a:lnTo>
                <a:lnTo>
                  <a:pt x="550" y="340"/>
                </a:lnTo>
                <a:lnTo>
                  <a:pt x="518" y="356"/>
                </a:lnTo>
                <a:lnTo>
                  <a:pt x="485" y="324"/>
                </a:lnTo>
                <a:lnTo>
                  <a:pt x="485" y="340"/>
                </a:lnTo>
                <a:lnTo>
                  <a:pt x="469" y="340"/>
                </a:lnTo>
                <a:lnTo>
                  <a:pt x="469" y="324"/>
                </a:lnTo>
                <a:lnTo>
                  <a:pt x="437" y="324"/>
                </a:lnTo>
                <a:lnTo>
                  <a:pt x="421" y="324"/>
                </a:lnTo>
                <a:lnTo>
                  <a:pt x="421" y="308"/>
                </a:lnTo>
                <a:lnTo>
                  <a:pt x="437" y="275"/>
                </a:lnTo>
                <a:lnTo>
                  <a:pt x="437" y="259"/>
                </a:lnTo>
                <a:lnTo>
                  <a:pt x="453" y="259"/>
                </a:lnTo>
                <a:lnTo>
                  <a:pt x="437" y="243"/>
                </a:lnTo>
                <a:lnTo>
                  <a:pt x="453" y="211"/>
                </a:lnTo>
                <a:lnTo>
                  <a:pt x="437" y="194"/>
                </a:lnTo>
                <a:lnTo>
                  <a:pt x="437" y="194"/>
                </a:lnTo>
                <a:lnTo>
                  <a:pt x="421" y="211"/>
                </a:lnTo>
                <a:lnTo>
                  <a:pt x="421" y="211"/>
                </a:lnTo>
                <a:lnTo>
                  <a:pt x="405" y="211"/>
                </a:lnTo>
                <a:lnTo>
                  <a:pt x="405" y="194"/>
                </a:lnTo>
                <a:lnTo>
                  <a:pt x="388" y="194"/>
                </a:lnTo>
                <a:lnTo>
                  <a:pt x="372" y="194"/>
                </a:lnTo>
                <a:lnTo>
                  <a:pt x="356" y="178"/>
                </a:lnTo>
                <a:lnTo>
                  <a:pt x="356" y="178"/>
                </a:lnTo>
                <a:lnTo>
                  <a:pt x="356" y="162"/>
                </a:lnTo>
                <a:lnTo>
                  <a:pt x="340" y="146"/>
                </a:lnTo>
                <a:lnTo>
                  <a:pt x="307" y="146"/>
                </a:lnTo>
                <a:lnTo>
                  <a:pt x="307" y="146"/>
                </a:lnTo>
                <a:lnTo>
                  <a:pt x="307" y="146"/>
                </a:lnTo>
                <a:lnTo>
                  <a:pt x="307" y="130"/>
                </a:lnTo>
                <a:lnTo>
                  <a:pt x="291" y="130"/>
                </a:lnTo>
                <a:lnTo>
                  <a:pt x="291" y="113"/>
                </a:lnTo>
                <a:lnTo>
                  <a:pt x="291" y="113"/>
                </a:lnTo>
                <a:lnTo>
                  <a:pt x="275" y="113"/>
                </a:lnTo>
                <a:lnTo>
                  <a:pt x="275" y="97"/>
                </a:lnTo>
                <a:lnTo>
                  <a:pt x="275" y="113"/>
                </a:lnTo>
                <a:lnTo>
                  <a:pt x="275" y="97"/>
                </a:lnTo>
                <a:lnTo>
                  <a:pt x="275" y="97"/>
                </a:lnTo>
                <a:lnTo>
                  <a:pt x="275" y="97"/>
                </a:lnTo>
                <a:lnTo>
                  <a:pt x="259" y="97"/>
                </a:lnTo>
                <a:lnTo>
                  <a:pt x="259" y="97"/>
                </a:lnTo>
                <a:lnTo>
                  <a:pt x="243" y="97"/>
                </a:lnTo>
                <a:lnTo>
                  <a:pt x="210" y="81"/>
                </a:lnTo>
                <a:lnTo>
                  <a:pt x="210" y="97"/>
                </a:lnTo>
                <a:lnTo>
                  <a:pt x="194" y="97"/>
                </a:lnTo>
                <a:lnTo>
                  <a:pt x="178" y="97"/>
                </a:lnTo>
                <a:lnTo>
                  <a:pt x="178" y="113"/>
                </a:lnTo>
                <a:lnTo>
                  <a:pt x="178" y="113"/>
                </a:lnTo>
                <a:lnTo>
                  <a:pt x="178" y="113"/>
                </a:lnTo>
                <a:lnTo>
                  <a:pt x="178" y="130"/>
                </a:lnTo>
                <a:lnTo>
                  <a:pt x="146" y="130"/>
                </a:lnTo>
                <a:lnTo>
                  <a:pt x="129" y="130"/>
                </a:lnTo>
                <a:lnTo>
                  <a:pt x="129" y="113"/>
                </a:lnTo>
                <a:lnTo>
                  <a:pt x="129" y="113"/>
                </a:lnTo>
                <a:lnTo>
                  <a:pt x="129" y="113"/>
                </a:lnTo>
                <a:lnTo>
                  <a:pt x="113" y="130"/>
                </a:lnTo>
                <a:lnTo>
                  <a:pt x="113" y="130"/>
                </a:lnTo>
                <a:lnTo>
                  <a:pt x="97" y="162"/>
                </a:lnTo>
                <a:lnTo>
                  <a:pt x="81" y="146"/>
                </a:lnTo>
                <a:lnTo>
                  <a:pt x="48" y="194"/>
                </a:lnTo>
                <a:lnTo>
                  <a:pt x="16" y="227"/>
                </a:lnTo>
                <a:lnTo>
                  <a:pt x="0" y="113"/>
                </a:lnTo>
                <a:lnTo>
                  <a:pt x="16" y="113"/>
                </a:lnTo>
                <a:lnTo>
                  <a:pt x="97" y="97"/>
                </a:lnTo>
                <a:lnTo>
                  <a:pt x="113" y="97"/>
                </a:lnTo>
                <a:lnTo>
                  <a:pt x="178" y="81"/>
                </a:lnTo>
                <a:lnTo>
                  <a:pt x="194" y="81"/>
                </a:lnTo>
                <a:lnTo>
                  <a:pt x="227" y="65"/>
                </a:lnTo>
                <a:lnTo>
                  <a:pt x="324" y="49"/>
                </a:lnTo>
                <a:lnTo>
                  <a:pt x="340" y="49"/>
                </a:lnTo>
                <a:lnTo>
                  <a:pt x="372" y="49"/>
                </a:lnTo>
                <a:lnTo>
                  <a:pt x="405" y="33"/>
                </a:lnTo>
                <a:lnTo>
                  <a:pt x="437" y="33"/>
                </a:lnTo>
                <a:lnTo>
                  <a:pt x="485" y="16"/>
                </a:lnTo>
                <a:lnTo>
                  <a:pt x="534" y="16"/>
                </a:lnTo>
                <a:lnTo>
                  <a:pt x="550" y="0"/>
                </a:lnTo>
                <a:lnTo>
                  <a:pt x="599" y="0"/>
                </a:lnTo>
                <a:lnTo>
                  <a:pt x="631" y="65"/>
                </a:lnTo>
                <a:lnTo>
                  <a:pt x="631" y="81"/>
                </a:lnTo>
                <a:lnTo>
                  <a:pt x="631" y="97"/>
                </a:lnTo>
                <a:lnTo>
                  <a:pt x="647" y="113"/>
                </a:lnTo>
                <a:lnTo>
                  <a:pt x="663" y="178"/>
                </a:lnTo>
                <a:lnTo>
                  <a:pt x="663" y="227"/>
                </a:lnTo>
                <a:lnTo>
                  <a:pt x="680" y="243"/>
                </a:lnTo>
                <a:lnTo>
                  <a:pt x="680" y="259"/>
                </a:lnTo>
                <a:lnTo>
                  <a:pt x="744" y="259"/>
                </a:lnTo>
                <a:lnTo>
                  <a:pt x="777" y="243"/>
                </a:lnTo>
                <a:lnTo>
                  <a:pt x="777" y="259"/>
                </a:lnTo>
                <a:lnTo>
                  <a:pt x="777" y="291"/>
                </a:lnTo>
                <a:lnTo>
                  <a:pt x="761" y="308"/>
                </a:lnTo>
                <a:lnTo>
                  <a:pt x="761" y="324"/>
                </a:lnTo>
                <a:lnTo>
                  <a:pt x="761" y="324"/>
                </a:lnTo>
                <a:close/>
                <a:moveTo>
                  <a:pt x="761" y="324"/>
                </a:move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29560" y="2484360"/>
            <a:ext cx="379440" cy="216000"/>
          </a:xfrm>
          <a:custGeom>
            <a:avLst/>
            <a:gdLst/>
            <a:ahLst/>
            <a:rect l="l" t="t" r="r" b="b"/>
            <a:pathLst>
              <a:path w="598" h="340">
                <a:moveTo>
                  <a:pt x="0" y="292"/>
                </a:moveTo>
                <a:lnTo>
                  <a:pt x="0" y="275"/>
                </a:lnTo>
                <a:lnTo>
                  <a:pt x="0" y="178"/>
                </a:lnTo>
                <a:lnTo>
                  <a:pt x="0" y="130"/>
                </a:lnTo>
                <a:lnTo>
                  <a:pt x="32" y="130"/>
                </a:lnTo>
                <a:lnTo>
                  <a:pt x="48" y="113"/>
                </a:lnTo>
                <a:lnTo>
                  <a:pt x="129" y="97"/>
                </a:lnTo>
                <a:lnTo>
                  <a:pt x="162" y="97"/>
                </a:lnTo>
                <a:lnTo>
                  <a:pt x="210" y="81"/>
                </a:lnTo>
                <a:lnTo>
                  <a:pt x="210" y="81"/>
                </a:lnTo>
                <a:lnTo>
                  <a:pt x="307" y="65"/>
                </a:lnTo>
                <a:lnTo>
                  <a:pt x="307" y="49"/>
                </a:lnTo>
                <a:lnTo>
                  <a:pt x="307" y="49"/>
                </a:lnTo>
                <a:lnTo>
                  <a:pt x="323" y="49"/>
                </a:lnTo>
                <a:lnTo>
                  <a:pt x="323" y="33"/>
                </a:lnTo>
                <a:lnTo>
                  <a:pt x="340" y="33"/>
                </a:lnTo>
                <a:lnTo>
                  <a:pt x="340" y="16"/>
                </a:lnTo>
                <a:lnTo>
                  <a:pt x="356" y="0"/>
                </a:lnTo>
                <a:lnTo>
                  <a:pt x="372" y="0"/>
                </a:lnTo>
                <a:lnTo>
                  <a:pt x="388" y="49"/>
                </a:lnTo>
                <a:lnTo>
                  <a:pt x="420" y="49"/>
                </a:lnTo>
                <a:lnTo>
                  <a:pt x="420" y="65"/>
                </a:lnTo>
                <a:lnTo>
                  <a:pt x="388" y="81"/>
                </a:lnTo>
                <a:lnTo>
                  <a:pt x="388" y="97"/>
                </a:lnTo>
                <a:lnTo>
                  <a:pt x="372" y="113"/>
                </a:lnTo>
                <a:lnTo>
                  <a:pt x="372" y="146"/>
                </a:lnTo>
                <a:lnTo>
                  <a:pt x="388" y="146"/>
                </a:lnTo>
                <a:lnTo>
                  <a:pt x="388" y="146"/>
                </a:lnTo>
                <a:lnTo>
                  <a:pt x="404" y="130"/>
                </a:lnTo>
                <a:lnTo>
                  <a:pt x="420" y="130"/>
                </a:lnTo>
                <a:lnTo>
                  <a:pt x="437" y="146"/>
                </a:lnTo>
                <a:lnTo>
                  <a:pt x="453" y="194"/>
                </a:lnTo>
                <a:lnTo>
                  <a:pt x="469" y="194"/>
                </a:lnTo>
                <a:lnTo>
                  <a:pt x="469" y="227"/>
                </a:lnTo>
                <a:lnTo>
                  <a:pt x="501" y="227"/>
                </a:lnTo>
                <a:lnTo>
                  <a:pt x="518" y="227"/>
                </a:lnTo>
                <a:lnTo>
                  <a:pt x="518" y="227"/>
                </a:lnTo>
                <a:lnTo>
                  <a:pt x="534" y="227"/>
                </a:lnTo>
                <a:lnTo>
                  <a:pt x="566" y="211"/>
                </a:lnTo>
                <a:lnTo>
                  <a:pt x="550" y="194"/>
                </a:lnTo>
                <a:lnTo>
                  <a:pt x="534" y="162"/>
                </a:lnTo>
                <a:lnTo>
                  <a:pt x="501" y="162"/>
                </a:lnTo>
                <a:lnTo>
                  <a:pt x="518" y="146"/>
                </a:lnTo>
                <a:lnTo>
                  <a:pt x="534" y="146"/>
                </a:lnTo>
                <a:lnTo>
                  <a:pt x="566" y="178"/>
                </a:lnTo>
                <a:lnTo>
                  <a:pt x="582" y="194"/>
                </a:lnTo>
                <a:lnTo>
                  <a:pt x="582" y="227"/>
                </a:lnTo>
                <a:lnTo>
                  <a:pt x="518" y="259"/>
                </a:lnTo>
                <a:lnTo>
                  <a:pt x="501" y="259"/>
                </a:lnTo>
                <a:lnTo>
                  <a:pt x="469" y="275"/>
                </a:lnTo>
                <a:lnTo>
                  <a:pt x="469" y="275"/>
                </a:lnTo>
                <a:lnTo>
                  <a:pt x="469" y="243"/>
                </a:lnTo>
                <a:lnTo>
                  <a:pt x="437" y="275"/>
                </a:lnTo>
                <a:lnTo>
                  <a:pt x="437" y="275"/>
                </a:lnTo>
                <a:lnTo>
                  <a:pt x="420" y="308"/>
                </a:lnTo>
                <a:lnTo>
                  <a:pt x="404" y="308"/>
                </a:lnTo>
                <a:lnTo>
                  <a:pt x="388" y="275"/>
                </a:lnTo>
                <a:lnTo>
                  <a:pt x="388" y="275"/>
                </a:lnTo>
                <a:lnTo>
                  <a:pt x="372" y="275"/>
                </a:lnTo>
                <a:lnTo>
                  <a:pt x="356" y="259"/>
                </a:lnTo>
                <a:lnTo>
                  <a:pt x="356" y="259"/>
                </a:lnTo>
                <a:lnTo>
                  <a:pt x="340" y="227"/>
                </a:lnTo>
                <a:lnTo>
                  <a:pt x="340" y="243"/>
                </a:lnTo>
                <a:lnTo>
                  <a:pt x="340" y="227"/>
                </a:lnTo>
                <a:lnTo>
                  <a:pt x="340" y="211"/>
                </a:lnTo>
                <a:lnTo>
                  <a:pt x="323" y="211"/>
                </a:lnTo>
                <a:lnTo>
                  <a:pt x="275" y="227"/>
                </a:lnTo>
                <a:lnTo>
                  <a:pt x="226" y="243"/>
                </a:lnTo>
                <a:lnTo>
                  <a:pt x="210" y="243"/>
                </a:lnTo>
                <a:lnTo>
                  <a:pt x="162" y="259"/>
                </a:lnTo>
                <a:lnTo>
                  <a:pt x="113" y="259"/>
                </a:lnTo>
                <a:lnTo>
                  <a:pt x="113" y="275"/>
                </a:lnTo>
                <a:lnTo>
                  <a:pt x="113" y="275"/>
                </a:lnTo>
                <a:lnTo>
                  <a:pt x="113" y="259"/>
                </a:lnTo>
                <a:lnTo>
                  <a:pt x="81" y="275"/>
                </a:lnTo>
                <a:lnTo>
                  <a:pt x="64" y="275"/>
                </a:lnTo>
                <a:lnTo>
                  <a:pt x="0" y="292"/>
                </a:lnTo>
                <a:lnTo>
                  <a:pt x="0" y="292"/>
                </a:lnTo>
                <a:close/>
                <a:moveTo>
                  <a:pt x="582" y="308"/>
                </a:moveTo>
                <a:lnTo>
                  <a:pt x="582" y="292"/>
                </a:lnTo>
                <a:lnTo>
                  <a:pt x="582" y="292"/>
                </a:lnTo>
                <a:lnTo>
                  <a:pt x="582" y="308"/>
                </a:lnTo>
                <a:lnTo>
                  <a:pt x="582" y="292"/>
                </a:lnTo>
                <a:lnTo>
                  <a:pt x="582" y="292"/>
                </a:lnTo>
                <a:lnTo>
                  <a:pt x="598" y="308"/>
                </a:lnTo>
                <a:lnTo>
                  <a:pt x="598" y="308"/>
                </a:lnTo>
                <a:lnTo>
                  <a:pt x="582" y="324"/>
                </a:lnTo>
                <a:lnTo>
                  <a:pt x="566" y="324"/>
                </a:lnTo>
                <a:lnTo>
                  <a:pt x="566" y="308"/>
                </a:lnTo>
                <a:lnTo>
                  <a:pt x="582" y="308"/>
                </a:lnTo>
                <a:lnTo>
                  <a:pt x="582" y="308"/>
                </a:lnTo>
                <a:lnTo>
                  <a:pt x="582" y="308"/>
                </a:lnTo>
                <a:close/>
                <a:moveTo>
                  <a:pt x="485" y="308"/>
                </a:moveTo>
                <a:lnTo>
                  <a:pt x="485" y="292"/>
                </a:lnTo>
                <a:lnTo>
                  <a:pt x="501" y="308"/>
                </a:lnTo>
                <a:lnTo>
                  <a:pt x="501" y="308"/>
                </a:lnTo>
                <a:lnTo>
                  <a:pt x="501" y="308"/>
                </a:lnTo>
                <a:lnTo>
                  <a:pt x="518" y="324"/>
                </a:lnTo>
                <a:lnTo>
                  <a:pt x="469" y="324"/>
                </a:lnTo>
                <a:lnTo>
                  <a:pt x="469" y="340"/>
                </a:lnTo>
                <a:lnTo>
                  <a:pt x="453" y="324"/>
                </a:lnTo>
                <a:lnTo>
                  <a:pt x="469" y="324"/>
                </a:lnTo>
                <a:lnTo>
                  <a:pt x="469" y="340"/>
                </a:lnTo>
                <a:lnTo>
                  <a:pt x="469" y="324"/>
                </a:lnTo>
                <a:lnTo>
                  <a:pt x="469" y="308"/>
                </a:lnTo>
                <a:lnTo>
                  <a:pt x="485" y="292"/>
                </a:lnTo>
                <a:lnTo>
                  <a:pt x="485" y="308"/>
                </a:lnTo>
                <a:lnTo>
                  <a:pt x="485" y="3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81760" y="2062080"/>
            <a:ext cx="831960" cy="873360"/>
          </a:xfrm>
          <a:custGeom>
            <a:avLst/>
            <a:gdLst/>
            <a:ahLst/>
            <a:rect l="l" t="t" r="r" b="b"/>
            <a:pathLst>
              <a:path w="1311" h="1375">
                <a:moveTo>
                  <a:pt x="259" y="0"/>
                </a:moveTo>
                <a:lnTo>
                  <a:pt x="243" y="32"/>
                </a:lnTo>
                <a:lnTo>
                  <a:pt x="211" y="48"/>
                </a:lnTo>
                <a:lnTo>
                  <a:pt x="195" y="81"/>
                </a:lnTo>
                <a:lnTo>
                  <a:pt x="178" y="81"/>
                </a:lnTo>
                <a:lnTo>
                  <a:pt x="162" y="81"/>
                </a:lnTo>
                <a:lnTo>
                  <a:pt x="162" y="64"/>
                </a:lnTo>
                <a:lnTo>
                  <a:pt x="162" y="64"/>
                </a:lnTo>
                <a:lnTo>
                  <a:pt x="259" y="0"/>
                </a:lnTo>
                <a:lnTo>
                  <a:pt x="259" y="0"/>
                </a:lnTo>
                <a:close/>
                <a:moveTo>
                  <a:pt x="276" y="194"/>
                </a:moveTo>
                <a:lnTo>
                  <a:pt x="292" y="178"/>
                </a:lnTo>
                <a:lnTo>
                  <a:pt x="324" y="145"/>
                </a:lnTo>
                <a:lnTo>
                  <a:pt x="373" y="145"/>
                </a:lnTo>
                <a:lnTo>
                  <a:pt x="389" y="145"/>
                </a:lnTo>
                <a:lnTo>
                  <a:pt x="389" y="161"/>
                </a:lnTo>
                <a:lnTo>
                  <a:pt x="356" y="161"/>
                </a:lnTo>
                <a:lnTo>
                  <a:pt x="324" y="210"/>
                </a:lnTo>
                <a:lnTo>
                  <a:pt x="292" y="259"/>
                </a:lnTo>
                <a:lnTo>
                  <a:pt x="292" y="226"/>
                </a:lnTo>
                <a:lnTo>
                  <a:pt x="259" y="226"/>
                </a:lnTo>
                <a:lnTo>
                  <a:pt x="259" y="194"/>
                </a:lnTo>
                <a:lnTo>
                  <a:pt x="276" y="194"/>
                </a:lnTo>
                <a:lnTo>
                  <a:pt x="276" y="194"/>
                </a:lnTo>
                <a:close/>
                <a:moveTo>
                  <a:pt x="292" y="275"/>
                </a:moveTo>
                <a:lnTo>
                  <a:pt x="292" y="291"/>
                </a:lnTo>
                <a:lnTo>
                  <a:pt x="292" y="291"/>
                </a:lnTo>
                <a:lnTo>
                  <a:pt x="324" y="259"/>
                </a:lnTo>
                <a:lnTo>
                  <a:pt x="324" y="275"/>
                </a:lnTo>
                <a:lnTo>
                  <a:pt x="356" y="259"/>
                </a:lnTo>
                <a:lnTo>
                  <a:pt x="373" y="259"/>
                </a:lnTo>
                <a:lnTo>
                  <a:pt x="405" y="275"/>
                </a:lnTo>
                <a:lnTo>
                  <a:pt x="454" y="340"/>
                </a:lnTo>
                <a:lnTo>
                  <a:pt x="502" y="340"/>
                </a:lnTo>
                <a:lnTo>
                  <a:pt x="518" y="340"/>
                </a:lnTo>
                <a:lnTo>
                  <a:pt x="534" y="356"/>
                </a:lnTo>
                <a:lnTo>
                  <a:pt x="551" y="340"/>
                </a:lnTo>
                <a:lnTo>
                  <a:pt x="567" y="356"/>
                </a:lnTo>
                <a:lnTo>
                  <a:pt x="599" y="323"/>
                </a:lnTo>
                <a:lnTo>
                  <a:pt x="648" y="291"/>
                </a:lnTo>
                <a:lnTo>
                  <a:pt x="648" y="291"/>
                </a:lnTo>
                <a:lnTo>
                  <a:pt x="680" y="275"/>
                </a:lnTo>
                <a:lnTo>
                  <a:pt x="729" y="275"/>
                </a:lnTo>
                <a:lnTo>
                  <a:pt x="777" y="259"/>
                </a:lnTo>
                <a:lnTo>
                  <a:pt x="810" y="259"/>
                </a:lnTo>
                <a:lnTo>
                  <a:pt x="810" y="275"/>
                </a:lnTo>
                <a:lnTo>
                  <a:pt x="810" y="307"/>
                </a:lnTo>
                <a:lnTo>
                  <a:pt x="810" y="307"/>
                </a:lnTo>
                <a:lnTo>
                  <a:pt x="810" y="323"/>
                </a:lnTo>
                <a:lnTo>
                  <a:pt x="826" y="307"/>
                </a:lnTo>
                <a:lnTo>
                  <a:pt x="842" y="323"/>
                </a:lnTo>
                <a:lnTo>
                  <a:pt x="874" y="307"/>
                </a:lnTo>
                <a:lnTo>
                  <a:pt x="891" y="323"/>
                </a:lnTo>
                <a:lnTo>
                  <a:pt x="907" y="307"/>
                </a:lnTo>
                <a:lnTo>
                  <a:pt x="923" y="307"/>
                </a:lnTo>
                <a:lnTo>
                  <a:pt x="939" y="356"/>
                </a:lnTo>
                <a:lnTo>
                  <a:pt x="939" y="356"/>
                </a:lnTo>
                <a:lnTo>
                  <a:pt x="939" y="372"/>
                </a:lnTo>
                <a:lnTo>
                  <a:pt x="955" y="372"/>
                </a:lnTo>
                <a:lnTo>
                  <a:pt x="971" y="372"/>
                </a:lnTo>
                <a:lnTo>
                  <a:pt x="971" y="388"/>
                </a:lnTo>
                <a:lnTo>
                  <a:pt x="988" y="388"/>
                </a:lnTo>
                <a:lnTo>
                  <a:pt x="988" y="404"/>
                </a:lnTo>
                <a:lnTo>
                  <a:pt x="988" y="404"/>
                </a:lnTo>
                <a:lnTo>
                  <a:pt x="955" y="404"/>
                </a:lnTo>
                <a:lnTo>
                  <a:pt x="923" y="404"/>
                </a:lnTo>
                <a:lnTo>
                  <a:pt x="907" y="420"/>
                </a:lnTo>
                <a:lnTo>
                  <a:pt x="891" y="404"/>
                </a:lnTo>
                <a:lnTo>
                  <a:pt x="874" y="404"/>
                </a:lnTo>
                <a:lnTo>
                  <a:pt x="874" y="437"/>
                </a:lnTo>
                <a:lnTo>
                  <a:pt x="858" y="437"/>
                </a:lnTo>
                <a:lnTo>
                  <a:pt x="826" y="420"/>
                </a:lnTo>
                <a:lnTo>
                  <a:pt x="777" y="404"/>
                </a:lnTo>
                <a:lnTo>
                  <a:pt x="745" y="404"/>
                </a:lnTo>
                <a:lnTo>
                  <a:pt x="729" y="437"/>
                </a:lnTo>
                <a:lnTo>
                  <a:pt x="696" y="437"/>
                </a:lnTo>
                <a:lnTo>
                  <a:pt x="696" y="437"/>
                </a:lnTo>
                <a:lnTo>
                  <a:pt x="696" y="453"/>
                </a:lnTo>
                <a:lnTo>
                  <a:pt x="664" y="437"/>
                </a:lnTo>
                <a:lnTo>
                  <a:pt x="632" y="453"/>
                </a:lnTo>
                <a:lnTo>
                  <a:pt x="632" y="453"/>
                </a:lnTo>
                <a:lnTo>
                  <a:pt x="632" y="469"/>
                </a:lnTo>
                <a:lnTo>
                  <a:pt x="615" y="501"/>
                </a:lnTo>
                <a:lnTo>
                  <a:pt x="599" y="501"/>
                </a:lnTo>
                <a:lnTo>
                  <a:pt x="599" y="501"/>
                </a:lnTo>
                <a:lnTo>
                  <a:pt x="599" y="501"/>
                </a:lnTo>
                <a:lnTo>
                  <a:pt x="583" y="534"/>
                </a:lnTo>
                <a:lnTo>
                  <a:pt x="583" y="518"/>
                </a:lnTo>
                <a:lnTo>
                  <a:pt x="583" y="518"/>
                </a:lnTo>
                <a:lnTo>
                  <a:pt x="599" y="485"/>
                </a:lnTo>
                <a:lnTo>
                  <a:pt x="567" y="485"/>
                </a:lnTo>
                <a:lnTo>
                  <a:pt x="551" y="518"/>
                </a:lnTo>
                <a:lnTo>
                  <a:pt x="518" y="518"/>
                </a:lnTo>
                <a:lnTo>
                  <a:pt x="502" y="550"/>
                </a:lnTo>
                <a:lnTo>
                  <a:pt x="486" y="582"/>
                </a:lnTo>
                <a:lnTo>
                  <a:pt x="454" y="647"/>
                </a:lnTo>
                <a:lnTo>
                  <a:pt x="454" y="647"/>
                </a:lnTo>
                <a:lnTo>
                  <a:pt x="437" y="647"/>
                </a:lnTo>
                <a:lnTo>
                  <a:pt x="437" y="631"/>
                </a:lnTo>
                <a:lnTo>
                  <a:pt x="437" y="598"/>
                </a:lnTo>
                <a:lnTo>
                  <a:pt x="437" y="598"/>
                </a:lnTo>
                <a:lnTo>
                  <a:pt x="421" y="598"/>
                </a:lnTo>
                <a:lnTo>
                  <a:pt x="405" y="598"/>
                </a:lnTo>
                <a:lnTo>
                  <a:pt x="405" y="598"/>
                </a:lnTo>
                <a:lnTo>
                  <a:pt x="405" y="582"/>
                </a:lnTo>
                <a:lnTo>
                  <a:pt x="421" y="566"/>
                </a:lnTo>
                <a:lnTo>
                  <a:pt x="405" y="550"/>
                </a:lnTo>
                <a:lnTo>
                  <a:pt x="421" y="550"/>
                </a:lnTo>
                <a:lnTo>
                  <a:pt x="421" y="550"/>
                </a:lnTo>
                <a:lnTo>
                  <a:pt x="405" y="534"/>
                </a:lnTo>
                <a:lnTo>
                  <a:pt x="421" y="534"/>
                </a:lnTo>
                <a:lnTo>
                  <a:pt x="405" y="518"/>
                </a:lnTo>
                <a:lnTo>
                  <a:pt x="373" y="501"/>
                </a:lnTo>
                <a:lnTo>
                  <a:pt x="373" y="518"/>
                </a:lnTo>
                <a:lnTo>
                  <a:pt x="356" y="501"/>
                </a:lnTo>
                <a:lnTo>
                  <a:pt x="373" y="485"/>
                </a:lnTo>
                <a:lnTo>
                  <a:pt x="356" y="485"/>
                </a:lnTo>
                <a:lnTo>
                  <a:pt x="324" y="469"/>
                </a:lnTo>
                <a:lnTo>
                  <a:pt x="292" y="469"/>
                </a:lnTo>
                <a:lnTo>
                  <a:pt x="276" y="469"/>
                </a:lnTo>
                <a:lnTo>
                  <a:pt x="276" y="469"/>
                </a:lnTo>
                <a:lnTo>
                  <a:pt x="259" y="469"/>
                </a:lnTo>
                <a:lnTo>
                  <a:pt x="227" y="453"/>
                </a:lnTo>
                <a:lnTo>
                  <a:pt x="227" y="453"/>
                </a:lnTo>
                <a:lnTo>
                  <a:pt x="81" y="420"/>
                </a:lnTo>
                <a:lnTo>
                  <a:pt x="49" y="420"/>
                </a:lnTo>
                <a:lnTo>
                  <a:pt x="33" y="372"/>
                </a:lnTo>
                <a:lnTo>
                  <a:pt x="17" y="372"/>
                </a:lnTo>
                <a:lnTo>
                  <a:pt x="0" y="372"/>
                </a:lnTo>
                <a:lnTo>
                  <a:pt x="0" y="372"/>
                </a:lnTo>
                <a:lnTo>
                  <a:pt x="65" y="340"/>
                </a:lnTo>
                <a:lnTo>
                  <a:pt x="81" y="323"/>
                </a:lnTo>
                <a:lnTo>
                  <a:pt x="98" y="307"/>
                </a:lnTo>
                <a:lnTo>
                  <a:pt x="146" y="291"/>
                </a:lnTo>
                <a:lnTo>
                  <a:pt x="178" y="275"/>
                </a:lnTo>
                <a:lnTo>
                  <a:pt x="195" y="259"/>
                </a:lnTo>
                <a:lnTo>
                  <a:pt x="211" y="259"/>
                </a:lnTo>
                <a:lnTo>
                  <a:pt x="211" y="259"/>
                </a:lnTo>
                <a:lnTo>
                  <a:pt x="227" y="242"/>
                </a:lnTo>
                <a:lnTo>
                  <a:pt x="259" y="210"/>
                </a:lnTo>
                <a:lnTo>
                  <a:pt x="259" y="226"/>
                </a:lnTo>
                <a:lnTo>
                  <a:pt x="276" y="226"/>
                </a:lnTo>
                <a:lnTo>
                  <a:pt x="276" y="242"/>
                </a:lnTo>
                <a:lnTo>
                  <a:pt x="292" y="259"/>
                </a:lnTo>
                <a:lnTo>
                  <a:pt x="292" y="275"/>
                </a:lnTo>
                <a:lnTo>
                  <a:pt x="292" y="275"/>
                </a:lnTo>
                <a:close/>
                <a:moveTo>
                  <a:pt x="1004" y="388"/>
                </a:moveTo>
                <a:lnTo>
                  <a:pt x="1004" y="404"/>
                </a:lnTo>
                <a:lnTo>
                  <a:pt x="1020" y="388"/>
                </a:lnTo>
                <a:lnTo>
                  <a:pt x="1020" y="388"/>
                </a:lnTo>
                <a:lnTo>
                  <a:pt x="1020" y="372"/>
                </a:lnTo>
                <a:lnTo>
                  <a:pt x="1020" y="372"/>
                </a:lnTo>
                <a:lnTo>
                  <a:pt x="1036" y="372"/>
                </a:lnTo>
                <a:lnTo>
                  <a:pt x="1036" y="372"/>
                </a:lnTo>
                <a:lnTo>
                  <a:pt x="1052" y="388"/>
                </a:lnTo>
                <a:lnTo>
                  <a:pt x="1052" y="388"/>
                </a:lnTo>
                <a:lnTo>
                  <a:pt x="1052" y="404"/>
                </a:lnTo>
                <a:lnTo>
                  <a:pt x="1052" y="404"/>
                </a:lnTo>
                <a:lnTo>
                  <a:pt x="1036" y="404"/>
                </a:lnTo>
                <a:lnTo>
                  <a:pt x="1004" y="404"/>
                </a:lnTo>
                <a:lnTo>
                  <a:pt x="1004" y="404"/>
                </a:lnTo>
                <a:lnTo>
                  <a:pt x="1004" y="404"/>
                </a:lnTo>
                <a:lnTo>
                  <a:pt x="1004" y="388"/>
                </a:lnTo>
                <a:lnTo>
                  <a:pt x="1004" y="388"/>
                </a:lnTo>
                <a:close/>
                <a:moveTo>
                  <a:pt x="1101" y="793"/>
                </a:moveTo>
                <a:lnTo>
                  <a:pt x="1101" y="809"/>
                </a:lnTo>
                <a:lnTo>
                  <a:pt x="1085" y="825"/>
                </a:lnTo>
                <a:lnTo>
                  <a:pt x="1052" y="841"/>
                </a:lnTo>
                <a:lnTo>
                  <a:pt x="1052" y="841"/>
                </a:lnTo>
                <a:lnTo>
                  <a:pt x="1052" y="890"/>
                </a:lnTo>
                <a:lnTo>
                  <a:pt x="1085" y="906"/>
                </a:lnTo>
                <a:lnTo>
                  <a:pt x="1101" y="906"/>
                </a:lnTo>
                <a:lnTo>
                  <a:pt x="1117" y="890"/>
                </a:lnTo>
                <a:lnTo>
                  <a:pt x="1117" y="890"/>
                </a:lnTo>
                <a:lnTo>
                  <a:pt x="1117" y="874"/>
                </a:lnTo>
                <a:lnTo>
                  <a:pt x="1133" y="857"/>
                </a:lnTo>
                <a:lnTo>
                  <a:pt x="1133" y="825"/>
                </a:lnTo>
                <a:lnTo>
                  <a:pt x="1198" y="793"/>
                </a:lnTo>
                <a:lnTo>
                  <a:pt x="1214" y="793"/>
                </a:lnTo>
                <a:lnTo>
                  <a:pt x="1230" y="809"/>
                </a:lnTo>
                <a:lnTo>
                  <a:pt x="1263" y="857"/>
                </a:lnTo>
                <a:lnTo>
                  <a:pt x="1263" y="874"/>
                </a:lnTo>
                <a:lnTo>
                  <a:pt x="1295" y="987"/>
                </a:lnTo>
                <a:lnTo>
                  <a:pt x="1311" y="1019"/>
                </a:lnTo>
                <a:lnTo>
                  <a:pt x="1311" y="1035"/>
                </a:lnTo>
                <a:lnTo>
                  <a:pt x="1311" y="1068"/>
                </a:lnTo>
                <a:lnTo>
                  <a:pt x="1311" y="1100"/>
                </a:lnTo>
                <a:lnTo>
                  <a:pt x="1279" y="1100"/>
                </a:lnTo>
                <a:lnTo>
                  <a:pt x="1295" y="1100"/>
                </a:lnTo>
                <a:lnTo>
                  <a:pt x="1279" y="1084"/>
                </a:lnTo>
                <a:lnTo>
                  <a:pt x="1263" y="1100"/>
                </a:lnTo>
                <a:lnTo>
                  <a:pt x="1263" y="1116"/>
                </a:lnTo>
                <a:lnTo>
                  <a:pt x="1247" y="1133"/>
                </a:lnTo>
                <a:lnTo>
                  <a:pt x="1263" y="1149"/>
                </a:lnTo>
                <a:lnTo>
                  <a:pt x="1247" y="1165"/>
                </a:lnTo>
                <a:lnTo>
                  <a:pt x="1230" y="1181"/>
                </a:lnTo>
                <a:lnTo>
                  <a:pt x="1214" y="1230"/>
                </a:lnTo>
                <a:lnTo>
                  <a:pt x="1214" y="1246"/>
                </a:lnTo>
                <a:lnTo>
                  <a:pt x="1182" y="1311"/>
                </a:lnTo>
                <a:lnTo>
                  <a:pt x="1133" y="1327"/>
                </a:lnTo>
                <a:lnTo>
                  <a:pt x="1117" y="1327"/>
                </a:lnTo>
                <a:lnTo>
                  <a:pt x="1036" y="1343"/>
                </a:lnTo>
                <a:lnTo>
                  <a:pt x="1036" y="1343"/>
                </a:lnTo>
                <a:lnTo>
                  <a:pt x="971" y="1343"/>
                </a:lnTo>
                <a:lnTo>
                  <a:pt x="971" y="1327"/>
                </a:lnTo>
                <a:lnTo>
                  <a:pt x="971" y="1343"/>
                </a:lnTo>
                <a:lnTo>
                  <a:pt x="907" y="1343"/>
                </a:lnTo>
                <a:lnTo>
                  <a:pt x="891" y="1343"/>
                </a:lnTo>
                <a:lnTo>
                  <a:pt x="826" y="1343"/>
                </a:lnTo>
                <a:lnTo>
                  <a:pt x="810" y="1359"/>
                </a:lnTo>
                <a:lnTo>
                  <a:pt x="761" y="1359"/>
                </a:lnTo>
                <a:lnTo>
                  <a:pt x="745" y="1359"/>
                </a:lnTo>
                <a:lnTo>
                  <a:pt x="696" y="1359"/>
                </a:lnTo>
                <a:lnTo>
                  <a:pt x="648" y="1375"/>
                </a:lnTo>
                <a:lnTo>
                  <a:pt x="680" y="1327"/>
                </a:lnTo>
                <a:lnTo>
                  <a:pt x="680" y="1278"/>
                </a:lnTo>
                <a:lnTo>
                  <a:pt x="696" y="1262"/>
                </a:lnTo>
                <a:lnTo>
                  <a:pt x="713" y="1213"/>
                </a:lnTo>
                <a:lnTo>
                  <a:pt x="713" y="1133"/>
                </a:lnTo>
                <a:lnTo>
                  <a:pt x="696" y="1068"/>
                </a:lnTo>
                <a:lnTo>
                  <a:pt x="664" y="987"/>
                </a:lnTo>
                <a:lnTo>
                  <a:pt x="648" y="955"/>
                </a:lnTo>
                <a:lnTo>
                  <a:pt x="664" y="922"/>
                </a:lnTo>
                <a:lnTo>
                  <a:pt x="664" y="922"/>
                </a:lnTo>
                <a:lnTo>
                  <a:pt x="664" y="922"/>
                </a:lnTo>
                <a:lnTo>
                  <a:pt x="664" y="922"/>
                </a:lnTo>
                <a:lnTo>
                  <a:pt x="648" y="890"/>
                </a:lnTo>
                <a:lnTo>
                  <a:pt x="664" y="890"/>
                </a:lnTo>
                <a:lnTo>
                  <a:pt x="648" y="857"/>
                </a:lnTo>
                <a:lnTo>
                  <a:pt x="664" y="841"/>
                </a:lnTo>
                <a:lnTo>
                  <a:pt x="680" y="793"/>
                </a:lnTo>
                <a:lnTo>
                  <a:pt x="680" y="760"/>
                </a:lnTo>
                <a:lnTo>
                  <a:pt x="664" y="728"/>
                </a:lnTo>
                <a:lnTo>
                  <a:pt x="696" y="712"/>
                </a:lnTo>
                <a:lnTo>
                  <a:pt x="696" y="696"/>
                </a:lnTo>
                <a:lnTo>
                  <a:pt x="696" y="679"/>
                </a:lnTo>
                <a:lnTo>
                  <a:pt x="696" y="679"/>
                </a:lnTo>
                <a:lnTo>
                  <a:pt x="729" y="647"/>
                </a:lnTo>
                <a:lnTo>
                  <a:pt x="761" y="598"/>
                </a:lnTo>
                <a:lnTo>
                  <a:pt x="761" y="598"/>
                </a:lnTo>
                <a:lnTo>
                  <a:pt x="761" y="647"/>
                </a:lnTo>
                <a:lnTo>
                  <a:pt x="761" y="696"/>
                </a:lnTo>
                <a:lnTo>
                  <a:pt x="777" y="696"/>
                </a:lnTo>
                <a:lnTo>
                  <a:pt x="793" y="679"/>
                </a:lnTo>
                <a:lnTo>
                  <a:pt x="793" y="631"/>
                </a:lnTo>
                <a:lnTo>
                  <a:pt x="793" y="598"/>
                </a:lnTo>
                <a:lnTo>
                  <a:pt x="793" y="582"/>
                </a:lnTo>
                <a:lnTo>
                  <a:pt x="793" y="566"/>
                </a:lnTo>
                <a:lnTo>
                  <a:pt x="826" y="550"/>
                </a:lnTo>
                <a:lnTo>
                  <a:pt x="842" y="550"/>
                </a:lnTo>
                <a:lnTo>
                  <a:pt x="858" y="550"/>
                </a:lnTo>
                <a:lnTo>
                  <a:pt x="826" y="534"/>
                </a:lnTo>
                <a:lnTo>
                  <a:pt x="826" y="518"/>
                </a:lnTo>
                <a:lnTo>
                  <a:pt x="826" y="501"/>
                </a:lnTo>
                <a:lnTo>
                  <a:pt x="842" y="485"/>
                </a:lnTo>
                <a:lnTo>
                  <a:pt x="842" y="469"/>
                </a:lnTo>
                <a:lnTo>
                  <a:pt x="874" y="453"/>
                </a:lnTo>
                <a:lnTo>
                  <a:pt x="923" y="485"/>
                </a:lnTo>
                <a:lnTo>
                  <a:pt x="939" y="485"/>
                </a:lnTo>
                <a:lnTo>
                  <a:pt x="955" y="485"/>
                </a:lnTo>
                <a:lnTo>
                  <a:pt x="971" y="501"/>
                </a:lnTo>
                <a:lnTo>
                  <a:pt x="971" y="518"/>
                </a:lnTo>
                <a:lnTo>
                  <a:pt x="1004" y="501"/>
                </a:lnTo>
                <a:lnTo>
                  <a:pt x="1036" y="518"/>
                </a:lnTo>
                <a:lnTo>
                  <a:pt x="1036" y="518"/>
                </a:lnTo>
                <a:lnTo>
                  <a:pt x="1052" y="534"/>
                </a:lnTo>
                <a:lnTo>
                  <a:pt x="1069" y="534"/>
                </a:lnTo>
                <a:lnTo>
                  <a:pt x="1069" y="534"/>
                </a:lnTo>
                <a:lnTo>
                  <a:pt x="1085" y="550"/>
                </a:lnTo>
                <a:lnTo>
                  <a:pt x="1085" y="550"/>
                </a:lnTo>
                <a:lnTo>
                  <a:pt x="1101" y="550"/>
                </a:lnTo>
                <a:lnTo>
                  <a:pt x="1117" y="582"/>
                </a:lnTo>
                <a:lnTo>
                  <a:pt x="1085" y="598"/>
                </a:lnTo>
                <a:lnTo>
                  <a:pt x="1101" y="598"/>
                </a:lnTo>
                <a:lnTo>
                  <a:pt x="1085" y="598"/>
                </a:lnTo>
                <a:lnTo>
                  <a:pt x="1101" y="615"/>
                </a:lnTo>
                <a:lnTo>
                  <a:pt x="1117" y="631"/>
                </a:lnTo>
                <a:lnTo>
                  <a:pt x="1133" y="663"/>
                </a:lnTo>
                <a:lnTo>
                  <a:pt x="1133" y="712"/>
                </a:lnTo>
                <a:lnTo>
                  <a:pt x="1117" y="744"/>
                </a:lnTo>
                <a:lnTo>
                  <a:pt x="1101" y="760"/>
                </a:lnTo>
                <a:lnTo>
                  <a:pt x="1101" y="793"/>
                </a:lnTo>
                <a:lnTo>
                  <a:pt x="1101" y="79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560" y="1928880"/>
            <a:ext cx="719280" cy="812880"/>
          </a:xfrm>
          <a:custGeom>
            <a:avLst/>
            <a:gdLst/>
            <a:ahLst/>
            <a:rect l="l" t="t" r="r" b="b"/>
            <a:pathLst>
              <a:path w="1133" h="1279">
                <a:moveTo>
                  <a:pt x="566" y="1263"/>
                </a:moveTo>
                <a:lnTo>
                  <a:pt x="550" y="1263"/>
                </a:lnTo>
                <a:lnTo>
                  <a:pt x="502" y="1263"/>
                </a:lnTo>
                <a:lnTo>
                  <a:pt x="453" y="1263"/>
                </a:lnTo>
                <a:lnTo>
                  <a:pt x="421" y="1263"/>
                </a:lnTo>
                <a:lnTo>
                  <a:pt x="356" y="1263"/>
                </a:lnTo>
                <a:lnTo>
                  <a:pt x="356" y="1263"/>
                </a:lnTo>
                <a:lnTo>
                  <a:pt x="275" y="1279"/>
                </a:lnTo>
                <a:lnTo>
                  <a:pt x="259" y="1279"/>
                </a:lnTo>
                <a:lnTo>
                  <a:pt x="194" y="1279"/>
                </a:lnTo>
                <a:lnTo>
                  <a:pt x="162" y="1279"/>
                </a:lnTo>
                <a:lnTo>
                  <a:pt x="113" y="1279"/>
                </a:lnTo>
                <a:lnTo>
                  <a:pt x="113" y="1198"/>
                </a:lnTo>
                <a:lnTo>
                  <a:pt x="113" y="1117"/>
                </a:lnTo>
                <a:lnTo>
                  <a:pt x="113" y="1052"/>
                </a:lnTo>
                <a:lnTo>
                  <a:pt x="113" y="1020"/>
                </a:lnTo>
                <a:lnTo>
                  <a:pt x="113" y="987"/>
                </a:lnTo>
                <a:lnTo>
                  <a:pt x="113" y="955"/>
                </a:lnTo>
                <a:lnTo>
                  <a:pt x="113" y="890"/>
                </a:lnTo>
                <a:lnTo>
                  <a:pt x="113" y="874"/>
                </a:lnTo>
                <a:lnTo>
                  <a:pt x="97" y="858"/>
                </a:lnTo>
                <a:lnTo>
                  <a:pt x="65" y="858"/>
                </a:lnTo>
                <a:lnTo>
                  <a:pt x="48" y="809"/>
                </a:lnTo>
                <a:lnTo>
                  <a:pt x="48" y="793"/>
                </a:lnTo>
                <a:lnTo>
                  <a:pt x="81" y="777"/>
                </a:lnTo>
                <a:lnTo>
                  <a:pt x="81" y="761"/>
                </a:lnTo>
                <a:lnTo>
                  <a:pt x="97" y="745"/>
                </a:lnTo>
                <a:lnTo>
                  <a:pt x="97" y="729"/>
                </a:lnTo>
                <a:lnTo>
                  <a:pt x="97" y="712"/>
                </a:lnTo>
                <a:lnTo>
                  <a:pt x="81" y="648"/>
                </a:lnTo>
                <a:lnTo>
                  <a:pt x="65" y="631"/>
                </a:lnTo>
                <a:lnTo>
                  <a:pt x="65" y="583"/>
                </a:lnTo>
                <a:lnTo>
                  <a:pt x="65" y="583"/>
                </a:lnTo>
                <a:lnTo>
                  <a:pt x="65" y="551"/>
                </a:lnTo>
                <a:lnTo>
                  <a:pt x="65" y="518"/>
                </a:lnTo>
                <a:lnTo>
                  <a:pt x="48" y="502"/>
                </a:lnTo>
                <a:lnTo>
                  <a:pt x="48" y="470"/>
                </a:lnTo>
                <a:lnTo>
                  <a:pt x="48" y="453"/>
                </a:lnTo>
                <a:lnTo>
                  <a:pt x="48" y="421"/>
                </a:lnTo>
                <a:lnTo>
                  <a:pt x="48" y="421"/>
                </a:lnTo>
                <a:lnTo>
                  <a:pt x="48" y="405"/>
                </a:lnTo>
                <a:lnTo>
                  <a:pt x="48" y="372"/>
                </a:lnTo>
                <a:lnTo>
                  <a:pt x="48" y="356"/>
                </a:lnTo>
                <a:lnTo>
                  <a:pt x="32" y="324"/>
                </a:lnTo>
                <a:lnTo>
                  <a:pt x="32" y="308"/>
                </a:lnTo>
                <a:lnTo>
                  <a:pt x="16" y="259"/>
                </a:lnTo>
                <a:lnTo>
                  <a:pt x="16" y="243"/>
                </a:lnTo>
                <a:lnTo>
                  <a:pt x="16" y="243"/>
                </a:lnTo>
                <a:lnTo>
                  <a:pt x="16" y="243"/>
                </a:lnTo>
                <a:lnTo>
                  <a:pt x="16" y="243"/>
                </a:lnTo>
                <a:lnTo>
                  <a:pt x="16" y="227"/>
                </a:lnTo>
                <a:lnTo>
                  <a:pt x="16" y="227"/>
                </a:lnTo>
                <a:lnTo>
                  <a:pt x="16" y="211"/>
                </a:lnTo>
                <a:lnTo>
                  <a:pt x="16" y="194"/>
                </a:lnTo>
                <a:lnTo>
                  <a:pt x="16" y="194"/>
                </a:lnTo>
                <a:lnTo>
                  <a:pt x="16" y="178"/>
                </a:lnTo>
                <a:lnTo>
                  <a:pt x="16" y="178"/>
                </a:lnTo>
                <a:lnTo>
                  <a:pt x="16" y="146"/>
                </a:lnTo>
                <a:lnTo>
                  <a:pt x="0" y="114"/>
                </a:lnTo>
                <a:lnTo>
                  <a:pt x="0" y="81"/>
                </a:lnTo>
                <a:lnTo>
                  <a:pt x="113" y="81"/>
                </a:lnTo>
                <a:lnTo>
                  <a:pt x="291" y="81"/>
                </a:lnTo>
                <a:lnTo>
                  <a:pt x="307" y="81"/>
                </a:lnTo>
                <a:lnTo>
                  <a:pt x="307" y="0"/>
                </a:lnTo>
                <a:lnTo>
                  <a:pt x="340" y="0"/>
                </a:lnTo>
                <a:lnTo>
                  <a:pt x="372" y="97"/>
                </a:lnTo>
                <a:lnTo>
                  <a:pt x="372" y="130"/>
                </a:lnTo>
                <a:lnTo>
                  <a:pt x="388" y="130"/>
                </a:lnTo>
                <a:lnTo>
                  <a:pt x="404" y="130"/>
                </a:lnTo>
                <a:lnTo>
                  <a:pt x="421" y="130"/>
                </a:lnTo>
                <a:lnTo>
                  <a:pt x="437" y="146"/>
                </a:lnTo>
                <a:lnTo>
                  <a:pt x="502" y="146"/>
                </a:lnTo>
                <a:lnTo>
                  <a:pt x="502" y="178"/>
                </a:lnTo>
                <a:lnTo>
                  <a:pt x="502" y="178"/>
                </a:lnTo>
                <a:lnTo>
                  <a:pt x="550" y="178"/>
                </a:lnTo>
                <a:lnTo>
                  <a:pt x="550" y="162"/>
                </a:lnTo>
                <a:lnTo>
                  <a:pt x="550" y="162"/>
                </a:lnTo>
                <a:lnTo>
                  <a:pt x="566" y="146"/>
                </a:lnTo>
                <a:lnTo>
                  <a:pt x="599" y="146"/>
                </a:lnTo>
                <a:lnTo>
                  <a:pt x="631" y="146"/>
                </a:lnTo>
                <a:lnTo>
                  <a:pt x="663" y="162"/>
                </a:lnTo>
                <a:lnTo>
                  <a:pt x="663" y="162"/>
                </a:lnTo>
                <a:lnTo>
                  <a:pt x="680" y="178"/>
                </a:lnTo>
                <a:lnTo>
                  <a:pt x="663" y="178"/>
                </a:lnTo>
                <a:lnTo>
                  <a:pt x="663" y="178"/>
                </a:lnTo>
                <a:lnTo>
                  <a:pt x="696" y="194"/>
                </a:lnTo>
                <a:lnTo>
                  <a:pt x="696" y="194"/>
                </a:lnTo>
                <a:lnTo>
                  <a:pt x="696" y="211"/>
                </a:lnTo>
                <a:lnTo>
                  <a:pt x="712" y="227"/>
                </a:lnTo>
                <a:lnTo>
                  <a:pt x="728" y="227"/>
                </a:lnTo>
                <a:lnTo>
                  <a:pt x="728" y="211"/>
                </a:lnTo>
                <a:lnTo>
                  <a:pt x="728" y="211"/>
                </a:lnTo>
                <a:lnTo>
                  <a:pt x="744" y="194"/>
                </a:lnTo>
                <a:lnTo>
                  <a:pt x="760" y="211"/>
                </a:lnTo>
                <a:lnTo>
                  <a:pt x="777" y="227"/>
                </a:lnTo>
                <a:lnTo>
                  <a:pt x="793" y="227"/>
                </a:lnTo>
                <a:lnTo>
                  <a:pt x="809" y="243"/>
                </a:lnTo>
                <a:lnTo>
                  <a:pt x="809" y="259"/>
                </a:lnTo>
                <a:lnTo>
                  <a:pt x="825" y="259"/>
                </a:lnTo>
                <a:lnTo>
                  <a:pt x="825" y="259"/>
                </a:lnTo>
                <a:lnTo>
                  <a:pt x="874" y="259"/>
                </a:lnTo>
                <a:lnTo>
                  <a:pt x="906" y="227"/>
                </a:lnTo>
                <a:lnTo>
                  <a:pt x="938" y="211"/>
                </a:lnTo>
                <a:lnTo>
                  <a:pt x="955" y="259"/>
                </a:lnTo>
                <a:lnTo>
                  <a:pt x="971" y="243"/>
                </a:lnTo>
                <a:lnTo>
                  <a:pt x="987" y="243"/>
                </a:lnTo>
                <a:lnTo>
                  <a:pt x="1036" y="243"/>
                </a:lnTo>
                <a:lnTo>
                  <a:pt x="1052" y="243"/>
                </a:lnTo>
                <a:lnTo>
                  <a:pt x="1068" y="259"/>
                </a:lnTo>
                <a:lnTo>
                  <a:pt x="1084" y="259"/>
                </a:lnTo>
                <a:lnTo>
                  <a:pt x="1100" y="259"/>
                </a:lnTo>
                <a:lnTo>
                  <a:pt x="1133" y="259"/>
                </a:lnTo>
                <a:lnTo>
                  <a:pt x="1117" y="259"/>
                </a:lnTo>
                <a:lnTo>
                  <a:pt x="1117" y="275"/>
                </a:lnTo>
                <a:lnTo>
                  <a:pt x="1068" y="308"/>
                </a:lnTo>
                <a:lnTo>
                  <a:pt x="987" y="324"/>
                </a:lnTo>
                <a:lnTo>
                  <a:pt x="922" y="389"/>
                </a:lnTo>
                <a:lnTo>
                  <a:pt x="858" y="470"/>
                </a:lnTo>
                <a:lnTo>
                  <a:pt x="809" y="518"/>
                </a:lnTo>
                <a:lnTo>
                  <a:pt x="760" y="534"/>
                </a:lnTo>
                <a:lnTo>
                  <a:pt x="744" y="567"/>
                </a:lnTo>
                <a:lnTo>
                  <a:pt x="728" y="567"/>
                </a:lnTo>
                <a:lnTo>
                  <a:pt x="744" y="567"/>
                </a:lnTo>
                <a:lnTo>
                  <a:pt x="744" y="631"/>
                </a:lnTo>
                <a:lnTo>
                  <a:pt x="744" y="680"/>
                </a:lnTo>
                <a:lnTo>
                  <a:pt x="744" y="696"/>
                </a:lnTo>
                <a:lnTo>
                  <a:pt x="728" y="712"/>
                </a:lnTo>
                <a:lnTo>
                  <a:pt x="728" y="712"/>
                </a:lnTo>
                <a:lnTo>
                  <a:pt x="712" y="712"/>
                </a:lnTo>
                <a:lnTo>
                  <a:pt x="712" y="712"/>
                </a:lnTo>
                <a:lnTo>
                  <a:pt x="680" y="729"/>
                </a:lnTo>
                <a:lnTo>
                  <a:pt x="663" y="777"/>
                </a:lnTo>
                <a:lnTo>
                  <a:pt x="647" y="793"/>
                </a:lnTo>
                <a:lnTo>
                  <a:pt x="663" y="809"/>
                </a:lnTo>
                <a:lnTo>
                  <a:pt x="680" y="809"/>
                </a:lnTo>
                <a:lnTo>
                  <a:pt x="696" y="842"/>
                </a:lnTo>
                <a:lnTo>
                  <a:pt x="696" y="842"/>
                </a:lnTo>
                <a:lnTo>
                  <a:pt x="680" y="874"/>
                </a:lnTo>
                <a:lnTo>
                  <a:pt x="680" y="890"/>
                </a:lnTo>
                <a:lnTo>
                  <a:pt x="680" y="907"/>
                </a:lnTo>
                <a:lnTo>
                  <a:pt x="680" y="923"/>
                </a:lnTo>
                <a:lnTo>
                  <a:pt x="680" y="923"/>
                </a:lnTo>
                <a:lnTo>
                  <a:pt x="680" y="971"/>
                </a:lnTo>
                <a:lnTo>
                  <a:pt x="680" y="987"/>
                </a:lnTo>
                <a:lnTo>
                  <a:pt x="680" y="1004"/>
                </a:lnTo>
                <a:lnTo>
                  <a:pt x="712" y="1020"/>
                </a:lnTo>
                <a:lnTo>
                  <a:pt x="744" y="1036"/>
                </a:lnTo>
                <a:lnTo>
                  <a:pt x="760" y="1052"/>
                </a:lnTo>
                <a:lnTo>
                  <a:pt x="793" y="1052"/>
                </a:lnTo>
                <a:lnTo>
                  <a:pt x="809" y="1068"/>
                </a:lnTo>
                <a:lnTo>
                  <a:pt x="825" y="1101"/>
                </a:lnTo>
                <a:lnTo>
                  <a:pt x="874" y="1133"/>
                </a:lnTo>
                <a:lnTo>
                  <a:pt x="890" y="1149"/>
                </a:lnTo>
                <a:lnTo>
                  <a:pt x="922" y="1182"/>
                </a:lnTo>
                <a:lnTo>
                  <a:pt x="922" y="1182"/>
                </a:lnTo>
                <a:lnTo>
                  <a:pt x="922" y="1198"/>
                </a:lnTo>
                <a:lnTo>
                  <a:pt x="938" y="1246"/>
                </a:lnTo>
                <a:lnTo>
                  <a:pt x="874" y="1263"/>
                </a:lnTo>
                <a:lnTo>
                  <a:pt x="858" y="1263"/>
                </a:lnTo>
                <a:lnTo>
                  <a:pt x="793" y="1263"/>
                </a:lnTo>
                <a:lnTo>
                  <a:pt x="744" y="1263"/>
                </a:lnTo>
                <a:lnTo>
                  <a:pt x="728" y="1263"/>
                </a:lnTo>
                <a:lnTo>
                  <a:pt x="647" y="1263"/>
                </a:lnTo>
                <a:lnTo>
                  <a:pt x="647" y="1263"/>
                </a:lnTo>
                <a:lnTo>
                  <a:pt x="566" y="126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2268360"/>
            <a:ext cx="831600" cy="627120"/>
          </a:xfrm>
          <a:custGeom>
            <a:avLst/>
            <a:gdLst/>
            <a:ahLst/>
            <a:rect l="l" t="t" r="r" b="b"/>
            <a:pathLst>
              <a:path w="1311" h="988">
                <a:moveTo>
                  <a:pt x="1004" y="890"/>
                </a:moveTo>
                <a:lnTo>
                  <a:pt x="987" y="874"/>
                </a:lnTo>
                <a:lnTo>
                  <a:pt x="939" y="858"/>
                </a:lnTo>
                <a:lnTo>
                  <a:pt x="939" y="858"/>
                </a:lnTo>
                <a:lnTo>
                  <a:pt x="907" y="842"/>
                </a:lnTo>
                <a:lnTo>
                  <a:pt x="858" y="826"/>
                </a:lnTo>
                <a:lnTo>
                  <a:pt x="842" y="810"/>
                </a:lnTo>
                <a:lnTo>
                  <a:pt x="793" y="810"/>
                </a:lnTo>
                <a:lnTo>
                  <a:pt x="777" y="777"/>
                </a:lnTo>
                <a:lnTo>
                  <a:pt x="777" y="745"/>
                </a:lnTo>
                <a:lnTo>
                  <a:pt x="761" y="729"/>
                </a:lnTo>
                <a:lnTo>
                  <a:pt x="745" y="729"/>
                </a:lnTo>
                <a:lnTo>
                  <a:pt x="729" y="712"/>
                </a:lnTo>
                <a:lnTo>
                  <a:pt x="712" y="712"/>
                </a:lnTo>
                <a:lnTo>
                  <a:pt x="696" y="712"/>
                </a:lnTo>
                <a:lnTo>
                  <a:pt x="599" y="729"/>
                </a:lnTo>
                <a:lnTo>
                  <a:pt x="583" y="729"/>
                </a:lnTo>
                <a:lnTo>
                  <a:pt x="518" y="745"/>
                </a:lnTo>
                <a:lnTo>
                  <a:pt x="470" y="761"/>
                </a:lnTo>
                <a:lnTo>
                  <a:pt x="453" y="761"/>
                </a:lnTo>
                <a:lnTo>
                  <a:pt x="356" y="777"/>
                </a:lnTo>
                <a:lnTo>
                  <a:pt x="340" y="777"/>
                </a:lnTo>
                <a:lnTo>
                  <a:pt x="259" y="793"/>
                </a:lnTo>
                <a:lnTo>
                  <a:pt x="243" y="793"/>
                </a:lnTo>
                <a:lnTo>
                  <a:pt x="146" y="826"/>
                </a:lnTo>
                <a:lnTo>
                  <a:pt x="130" y="826"/>
                </a:lnTo>
                <a:lnTo>
                  <a:pt x="49" y="842"/>
                </a:lnTo>
                <a:lnTo>
                  <a:pt x="16" y="842"/>
                </a:lnTo>
                <a:lnTo>
                  <a:pt x="0" y="777"/>
                </a:lnTo>
                <a:lnTo>
                  <a:pt x="49" y="745"/>
                </a:lnTo>
                <a:lnTo>
                  <a:pt x="65" y="729"/>
                </a:lnTo>
                <a:lnTo>
                  <a:pt x="97" y="696"/>
                </a:lnTo>
                <a:lnTo>
                  <a:pt x="97" y="664"/>
                </a:lnTo>
                <a:lnTo>
                  <a:pt x="130" y="648"/>
                </a:lnTo>
                <a:lnTo>
                  <a:pt x="114" y="615"/>
                </a:lnTo>
                <a:lnTo>
                  <a:pt x="114" y="599"/>
                </a:lnTo>
                <a:lnTo>
                  <a:pt x="114" y="583"/>
                </a:lnTo>
                <a:lnTo>
                  <a:pt x="81" y="583"/>
                </a:lnTo>
                <a:lnTo>
                  <a:pt x="81" y="583"/>
                </a:lnTo>
                <a:lnTo>
                  <a:pt x="81" y="551"/>
                </a:lnTo>
                <a:lnTo>
                  <a:pt x="162" y="518"/>
                </a:lnTo>
                <a:lnTo>
                  <a:pt x="243" y="502"/>
                </a:lnTo>
                <a:lnTo>
                  <a:pt x="275" y="502"/>
                </a:lnTo>
                <a:lnTo>
                  <a:pt x="308" y="518"/>
                </a:lnTo>
                <a:lnTo>
                  <a:pt x="340" y="502"/>
                </a:lnTo>
                <a:lnTo>
                  <a:pt x="421" y="486"/>
                </a:lnTo>
                <a:lnTo>
                  <a:pt x="437" y="470"/>
                </a:lnTo>
                <a:lnTo>
                  <a:pt x="437" y="470"/>
                </a:lnTo>
                <a:lnTo>
                  <a:pt x="453" y="437"/>
                </a:lnTo>
                <a:lnTo>
                  <a:pt x="470" y="421"/>
                </a:lnTo>
                <a:lnTo>
                  <a:pt x="502" y="405"/>
                </a:lnTo>
                <a:lnTo>
                  <a:pt x="518" y="389"/>
                </a:lnTo>
                <a:lnTo>
                  <a:pt x="502" y="373"/>
                </a:lnTo>
                <a:lnTo>
                  <a:pt x="486" y="340"/>
                </a:lnTo>
                <a:lnTo>
                  <a:pt x="502" y="324"/>
                </a:lnTo>
                <a:lnTo>
                  <a:pt x="502" y="324"/>
                </a:lnTo>
                <a:lnTo>
                  <a:pt x="502" y="308"/>
                </a:lnTo>
                <a:lnTo>
                  <a:pt x="486" y="292"/>
                </a:lnTo>
                <a:lnTo>
                  <a:pt x="470" y="308"/>
                </a:lnTo>
                <a:lnTo>
                  <a:pt x="470" y="292"/>
                </a:lnTo>
                <a:lnTo>
                  <a:pt x="534" y="211"/>
                </a:lnTo>
                <a:lnTo>
                  <a:pt x="534" y="178"/>
                </a:lnTo>
                <a:lnTo>
                  <a:pt x="583" y="97"/>
                </a:lnTo>
                <a:lnTo>
                  <a:pt x="631" y="65"/>
                </a:lnTo>
                <a:lnTo>
                  <a:pt x="664" y="49"/>
                </a:lnTo>
                <a:lnTo>
                  <a:pt x="777" y="17"/>
                </a:lnTo>
                <a:lnTo>
                  <a:pt x="874" y="0"/>
                </a:lnTo>
                <a:lnTo>
                  <a:pt x="874" y="17"/>
                </a:lnTo>
                <a:lnTo>
                  <a:pt x="874" y="33"/>
                </a:lnTo>
                <a:lnTo>
                  <a:pt x="890" y="33"/>
                </a:lnTo>
                <a:lnTo>
                  <a:pt x="890" y="49"/>
                </a:lnTo>
                <a:lnTo>
                  <a:pt x="890" y="81"/>
                </a:lnTo>
                <a:lnTo>
                  <a:pt x="907" y="97"/>
                </a:lnTo>
                <a:lnTo>
                  <a:pt x="907" y="97"/>
                </a:lnTo>
                <a:lnTo>
                  <a:pt x="907" y="114"/>
                </a:lnTo>
                <a:lnTo>
                  <a:pt x="907" y="130"/>
                </a:lnTo>
                <a:lnTo>
                  <a:pt x="923" y="146"/>
                </a:lnTo>
                <a:lnTo>
                  <a:pt x="907" y="162"/>
                </a:lnTo>
                <a:lnTo>
                  <a:pt x="907" y="195"/>
                </a:lnTo>
                <a:lnTo>
                  <a:pt x="923" y="227"/>
                </a:lnTo>
                <a:lnTo>
                  <a:pt x="939" y="243"/>
                </a:lnTo>
                <a:lnTo>
                  <a:pt x="939" y="259"/>
                </a:lnTo>
                <a:lnTo>
                  <a:pt x="939" y="292"/>
                </a:lnTo>
                <a:lnTo>
                  <a:pt x="939" y="292"/>
                </a:lnTo>
                <a:lnTo>
                  <a:pt x="939" y="308"/>
                </a:lnTo>
                <a:lnTo>
                  <a:pt x="939" y="292"/>
                </a:lnTo>
                <a:lnTo>
                  <a:pt x="955" y="292"/>
                </a:lnTo>
                <a:lnTo>
                  <a:pt x="971" y="308"/>
                </a:lnTo>
                <a:lnTo>
                  <a:pt x="971" y="356"/>
                </a:lnTo>
                <a:lnTo>
                  <a:pt x="987" y="437"/>
                </a:lnTo>
                <a:lnTo>
                  <a:pt x="1004" y="453"/>
                </a:lnTo>
                <a:lnTo>
                  <a:pt x="1004" y="470"/>
                </a:lnTo>
                <a:lnTo>
                  <a:pt x="1004" y="518"/>
                </a:lnTo>
                <a:lnTo>
                  <a:pt x="1004" y="615"/>
                </a:lnTo>
                <a:lnTo>
                  <a:pt x="1004" y="632"/>
                </a:lnTo>
                <a:lnTo>
                  <a:pt x="1020" y="712"/>
                </a:lnTo>
                <a:lnTo>
                  <a:pt x="1020" y="745"/>
                </a:lnTo>
                <a:lnTo>
                  <a:pt x="1036" y="777"/>
                </a:lnTo>
                <a:lnTo>
                  <a:pt x="1036" y="793"/>
                </a:lnTo>
                <a:lnTo>
                  <a:pt x="1052" y="810"/>
                </a:lnTo>
                <a:lnTo>
                  <a:pt x="1020" y="842"/>
                </a:lnTo>
                <a:lnTo>
                  <a:pt x="1036" y="858"/>
                </a:lnTo>
                <a:lnTo>
                  <a:pt x="1020" y="890"/>
                </a:lnTo>
                <a:lnTo>
                  <a:pt x="1020" y="907"/>
                </a:lnTo>
                <a:lnTo>
                  <a:pt x="1004" y="907"/>
                </a:lnTo>
                <a:lnTo>
                  <a:pt x="987" y="939"/>
                </a:lnTo>
                <a:lnTo>
                  <a:pt x="987" y="907"/>
                </a:lnTo>
                <a:lnTo>
                  <a:pt x="1004" y="890"/>
                </a:lnTo>
                <a:lnTo>
                  <a:pt x="1004" y="890"/>
                </a:lnTo>
                <a:lnTo>
                  <a:pt x="1004" y="890"/>
                </a:lnTo>
                <a:close/>
                <a:moveTo>
                  <a:pt x="1036" y="939"/>
                </a:moveTo>
                <a:lnTo>
                  <a:pt x="1020" y="939"/>
                </a:lnTo>
                <a:lnTo>
                  <a:pt x="1004" y="939"/>
                </a:lnTo>
                <a:lnTo>
                  <a:pt x="1020" y="955"/>
                </a:lnTo>
                <a:lnTo>
                  <a:pt x="1004" y="955"/>
                </a:lnTo>
                <a:lnTo>
                  <a:pt x="987" y="955"/>
                </a:lnTo>
                <a:lnTo>
                  <a:pt x="1004" y="923"/>
                </a:lnTo>
                <a:lnTo>
                  <a:pt x="1004" y="907"/>
                </a:lnTo>
                <a:lnTo>
                  <a:pt x="1036" y="907"/>
                </a:lnTo>
                <a:lnTo>
                  <a:pt x="1020" y="890"/>
                </a:lnTo>
                <a:lnTo>
                  <a:pt x="1052" y="874"/>
                </a:lnTo>
                <a:lnTo>
                  <a:pt x="1068" y="874"/>
                </a:lnTo>
                <a:lnTo>
                  <a:pt x="1068" y="858"/>
                </a:lnTo>
                <a:lnTo>
                  <a:pt x="1101" y="858"/>
                </a:lnTo>
                <a:lnTo>
                  <a:pt x="1117" y="842"/>
                </a:lnTo>
                <a:lnTo>
                  <a:pt x="1133" y="842"/>
                </a:lnTo>
                <a:lnTo>
                  <a:pt x="1198" y="826"/>
                </a:lnTo>
                <a:lnTo>
                  <a:pt x="1230" y="777"/>
                </a:lnTo>
                <a:lnTo>
                  <a:pt x="1246" y="777"/>
                </a:lnTo>
                <a:lnTo>
                  <a:pt x="1230" y="777"/>
                </a:lnTo>
                <a:lnTo>
                  <a:pt x="1230" y="810"/>
                </a:lnTo>
                <a:lnTo>
                  <a:pt x="1214" y="826"/>
                </a:lnTo>
                <a:lnTo>
                  <a:pt x="1198" y="842"/>
                </a:lnTo>
                <a:lnTo>
                  <a:pt x="1230" y="826"/>
                </a:lnTo>
                <a:lnTo>
                  <a:pt x="1246" y="793"/>
                </a:lnTo>
                <a:lnTo>
                  <a:pt x="1263" y="793"/>
                </a:lnTo>
                <a:lnTo>
                  <a:pt x="1279" y="793"/>
                </a:lnTo>
                <a:lnTo>
                  <a:pt x="1311" y="777"/>
                </a:lnTo>
                <a:lnTo>
                  <a:pt x="1311" y="777"/>
                </a:lnTo>
                <a:lnTo>
                  <a:pt x="1311" y="777"/>
                </a:lnTo>
                <a:lnTo>
                  <a:pt x="1230" y="858"/>
                </a:lnTo>
                <a:lnTo>
                  <a:pt x="1085" y="923"/>
                </a:lnTo>
                <a:lnTo>
                  <a:pt x="1036" y="955"/>
                </a:lnTo>
                <a:lnTo>
                  <a:pt x="1020" y="955"/>
                </a:lnTo>
                <a:lnTo>
                  <a:pt x="1036" y="939"/>
                </a:lnTo>
                <a:lnTo>
                  <a:pt x="1036" y="939"/>
                </a:lnTo>
                <a:lnTo>
                  <a:pt x="1036" y="939"/>
                </a:lnTo>
                <a:close/>
                <a:moveTo>
                  <a:pt x="1117" y="923"/>
                </a:moveTo>
                <a:lnTo>
                  <a:pt x="1182" y="874"/>
                </a:lnTo>
                <a:lnTo>
                  <a:pt x="1149" y="907"/>
                </a:lnTo>
                <a:lnTo>
                  <a:pt x="1117" y="923"/>
                </a:lnTo>
                <a:lnTo>
                  <a:pt x="1117" y="923"/>
                </a:lnTo>
                <a:close/>
                <a:moveTo>
                  <a:pt x="971" y="988"/>
                </a:moveTo>
                <a:lnTo>
                  <a:pt x="971" y="955"/>
                </a:lnTo>
                <a:lnTo>
                  <a:pt x="987" y="955"/>
                </a:lnTo>
                <a:lnTo>
                  <a:pt x="987" y="955"/>
                </a:lnTo>
                <a:lnTo>
                  <a:pt x="987" y="971"/>
                </a:lnTo>
                <a:lnTo>
                  <a:pt x="971" y="988"/>
                </a:lnTo>
                <a:lnTo>
                  <a:pt x="971" y="98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31160" y="2719440"/>
            <a:ext cx="637920" cy="411120"/>
          </a:xfrm>
          <a:custGeom>
            <a:avLst/>
            <a:gdLst/>
            <a:ahLst/>
            <a:rect l="l" t="t" r="r" b="b"/>
            <a:pathLst>
              <a:path w="1004" h="648">
                <a:moveTo>
                  <a:pt x="728" y="518"/>
                </a:moveTo>
                <a:lnTo>
                  <a:pt x="680" y="535"/>
                </a:lnTo>
                <a:lnTo>
                  <a:pt x="648" y="535"/>
                </a:lnTo>
                <a:lnTo>
                  <a:pt x="615" y="551"/>
                </a:lnTo>
                <a:lnTo>
                  <a:pt x="583" y="551"/>
                </a:lnTo>
                <a:lnTo>
                  <a:pt x="567" y="551"/>
                </a:lnTo>
                <a:lnTo>
                  <a:pt x="470" y="567"/>
                </a:lnTo>
                <a:lnTo>
                  <a:pt x="437" y="583"/>
                </a:lnTo>
                <a:lnTo>
                  <a:pt x="421" y="583"/>
                </a:lnTo>
                <a:lnTo>
                  <a:pt x="356" y="599"/>
                </a:lnTo>
                <a:lnTo>
                  <a:pt x="340" y="599"/>
                </a:lnTo>
                <a:lnTo>
                  <a:pt x="259" y="615"/>
                </a:lnTo>
                <a:lnTo>
                  <a:pt x="243" y="615"/>
                </a:lnTo>
                <a:lnTo>
                  <a:pt x="194" y="632"/>
                </a:lnTo>
                <a:lnTo>
                  <a:pt x="178" y="632"/>
                </a:lnTo>
                <a:lnTo>
                  <a:pt x="97" y="648"/>
                </a:lnTo>
                <a:lnTo>
                  <a:pt x="81" y="648"/>
                </a:lnTo>
                <a:lnTo>
                  <a:pt x="65" y="599"/>
                </a:lnTo>
                <a:lnTo>
                  <a:pt x="65" y="583"/>
                </a:lnTo>
                <a:lnTo>
                  <a:pt x="65" y="551"/>
                </a:lnTo>
                <a:lnTo>
                  <a:pt x="49" y="502"/>
                </a:lnTo>
                <a:lnTo>
                  <a:pt x="49" y="486"/>
                </a:lnTo>
                <a:lnTo>
                  <a:pt x="49" y="454"/>
                </a:lnTo>
                <a:lnTo>
                  <a:pt x="33" y="405"/>
                </a:lnTo>
                <a:lnTo>
                  <a:pt x="33" y="389"/>
                </a:lnTo>
                <a:lnTo>
                  <a:pt x="33" y="340"/>
                </a:lnTo>
                <a:lnTo>
                  <a:pt x="16" y="259"/>
                </a:lnTo>
                <a:lnTo>
                  <a:pt x="16" y="259"/>
                </a:lnTo>
                <a:lnTo>
                  <a:pt x="0" y="178"/>
                </a:lnTo>
                <a:lnTo>
                  <a:pt x="0" y="146"/>
                </a:lnTo>
                <a:lnTo>
                  <a:pt x="97" y="65"/>
                </a:lnTo>
                <a:lnTo>
                  <a:pt x="113" y="130"/>
                </a:lnTo>
                <a:lnTo>
                  <a:pt x="146" y="130"/>
                </a:lnTo>
                <a:lnTo>
                  <a:pt x="227" y="114"/>
                </a:lnTo>
                <a:lnTo>
                  <a:pt x="243" y="114"/>
                </a:lnTo>
                <a:lnTo>
                  <a:pt x="340" y="81"/>
                </a:lnTo>
                <a:lnTo>
                  <a:pt x="356" y="81"/>
                </a:lnTo>
                <a:lnTo>
                  <a:pt x="437" y="65"/>
                </a:lnTo>
                <a:lnTo>
                  <a:pt x="453" y="65"/>
                </a:lnTo>
                <a:lnTo>
                  <a:pt x="550" y="49"/>
                </a:lnTo>
                <a:lnTo>
                  <a:pt x="567" y="49"/>
                </a:lnTo>
                <a:lnTo>
                  <a:pt x="615" y="33"/>
                </a:lnTo>
                <a:lnTo>
                  <a:pt x="680" y="17"/>
                </a:lnTo>
                <a:lnTo>
                  <a:pt x="696" y="17"/>
                </a:lnTo>
                <a:lnTo>
                  <a:pt x="793" y="0"/>
                </a:lnTo>
                <a:lnTo>
                  <a:pt x="809" y="0"/>
                </a:lnTo>
                <a:lnTo>
                  <a:pt x="826" y="0"/>
                </a:lnTo>
                <a:lnTo>
                  <a:pt x="842" y="17"/>
                </a:lnTo>
                <a:lnTo>
                  <a:pt x="858" y="17"/>
                </a:lnTo>
                <a:lnTo>
                  <a:pt x="874" y="33"/>
                </a:lnTo>
                <a:lnTo>
                  <a:pt x="874" y="65"/>
                </a:lnTo>
                <a:lnTo>
                  <a:pt x="890" y="98"/>
                </a:lnTo>
                <a:lnTo>
                  <a:pt x="939" y="98"/>
                </a:lnTo>
                <a:lnTo>
                  <a:pt x="955" y="114"/>
                </a:lnTo>
                <a:lnTo>
                  <a:pt x="923" y="130"/>
                </a:lnTo>
                <a:lnTo>
                  <a:pt x="923" y="162"/>
                </a:lnTo>
                <a:lnTo>
                  <a:pt x="906" y="178"/>
                </a:lnTo>
                <a:lnTo>
                  <a:pt x="923" y="178"/>
                </a:lnTo>
                <a:lnTo>
                  <a:pt x="890" y="211"/>
                </a:lnTo>
                <a:lnTo>
                  <a:pt x="906" y="227"/>
                </a:lnTo>
                <a:lnTo>
                  <a:pt x="906" y="227"/>
                </a:lnTo>
                <a:lnTo>
                  <a:pt x="906" y="243"/>
                </a:lnTo>
                <a:lnTo>
                  <a:pt x="890" y="259"/>
                </a:lnTo>
                <a:lnTo>
                  <a:pt x="906" y="292"/>
                </a:lnTo>
                <a:lnTo>
                  <a:pt x="906" y="292"/>
                </a:lnTo>
                <a:lnTo>
                  <a:pt x="906" y="292"/>
                </a:lnTo>
                <a:lnTo>
                  <a:pt x="923" y="292"/>
                </a:lnTo>
                <a:lnTo>
                  <a:pt x="939" y="324"/>
                </a:lnTo>
                <a:lnTo>
                  <a:pt x="955" y="324"/>
                </a:lnTo>
                <a:lnTo>
                  <a:pt x="955" y="340"/>
                </a:lnTo>
                <a:lnTo>
                  <a:pt x="1004" y="373"/>
                </a:lnTo>
                <a:lnTo>
                  <a:pt x="971" y="405"/>
                </a:lnTo>
                <a:lnTo>
                  <a:pt x="955" y="421"/>
                </a:lnTo>
                <a:lnTo>
                  <a:pt x="939" y="421"/>
                </a:lnTo>
                <a:lnTo>
                  <a:pt x="939" y="437"/>
                </a:lnTo>
                <a:lnTo>
                  <a:pt x="939" y="454"/>
                </a:lnTo>
                <a:lnTo>
                  <a:pt x="923" y="454"/>
                </a:lnTo>
                <a:lnTo>
                  <a:pt x="906" y="470"/>
                </a:lnTo>
                <a:lnTo>
                  <a:pt x="874" y="470"/>
                </a:lnTo>
                <a:lnTo>
                  <a:pt x="858" y="470"/>
                </a:lnTo>
                <a:lnTo>
                  <a:pt x="842" y="502"/>
                </a:lnTo>
                <a:lnTo>
                  <a:pt x="793" y="502"/>
                </a:lnTo>
                <a:lnTo>
                  <a:pt x="777" y="518"/>
                </a:lnTo>
                <a:lnTo>
                  <a:pt x="728" y="51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04160" y="2617920"/>
            <a:ext cx="82440" cy="101520"/>
          </a:xfrm>
          <a:custGeom>
            <a:avLst/>
            <a:gdLst/>
            <a:ahLst/>
            <a:rect l="l" t="t" r="r" b="b"/>
            <a:pathLst>
              <a:path w="129" h="161">
                <a:moveTo>
                  <a:pt x="65" y="48"/>
                </a:moveTo>
                <a:lnTo>
                  <a:pt x="81" y="64"/>
                </a:lnTo>
                <a:lnTo>
                  <a:pt x="65" y="81"/>
                </a:lnTo>
                <a:lnTo>
                  <a:pt x="81" y="113"/>
                </a:lnTo>
                <a:lnTo>
                  <a:pt x="81" y="129"/>
                </a:lnTo>
                <a:lnTo>
                  <a:pt x="48" y="161"/>
                </a:lnTo>
                <a:lnTo>
                  <a:pt x="16" y="161"/>
                </a:lnTo>
                <a:lnTo>
                  <a:pt x="32" y="161"/>
                </a:lnTo>
                <a:lnTo>
                  <a:pt x="16" y="145"/>
                </a:lnTo>
                <a:lnTo>
                  <a:pt x="32" y="145"/>
                </a:lnTo>
                <a:lnTo>
                  <a:pt x="16" y="113"/>
                </a:lnTo>
                <a:lnTo>
                  <a:pt x="16" y="97"/>
                </a:lnTo>
                <a:lnTo>
                  <a:pt x="16" y="81"/>
                </a:lnTo>
                <a:lnTo>
                  <a:pt x="0" y="16"/>
                </a:lnTo>
                <a:lnTo>
                  <a:pt x="48" y="0"/>
                </a:lnTo>
                <a:lnTo>
                  <a:pt x="65" y="0"/>
                </a:lnTo>
                <a:lnTo>
                  <a:pt x="65" y="16"/>
                </a:lnTo>
                <a:lnTo>
                  <a:pt x="65" y="32"/>
                </a:lnTo>
                <a:lnTo>
                  <a:pt x="65" y="16"/>
                </a:lnTo>
                <a:lnTo>
                  <a:pt x="81" y="48"/>
                </a:lnTo>
                <a:lnTo>
                  <a:pt x="81" y="48"/>
                </a:lnTo>
                <a:lnTo>
                  <a:pt x="97" y="64"/>
                </a:lnTo>
                <a:lnTo>
                  <a:pt x="97" y="64"/>
                </a:lnTo>
                <a:lnTo>
                  <a:pt x="81" y="64"/>
                </a:lnTo>
                <a:lnTo>
                  <a:pt x="65" y="48"/>
                </a:lnTo>
                <a:lnTo>
                  <a:pt x="65" y="48"/>
                </a:lnTo>
                <a:close/>
                <a:moveTo>
                  <a:pt x="113" y="64"/>
                </a:moveTo>
                <a:lnTo>
                  <a:pt x="113" y="64"/>
                </a:lnTo>
                <a:lnTo>
                  <a:pt x="129" y="97"/>
                </a:lnTo>
                <a:lnTo>
                  <a:pt x="113" y="113"/>
                </a:lnTo>
                <a:lnTo>
                  <a:pt x="113" y="64"/>
                </a:lnTo>
                <a:lnTo>
                  <a:pt x="113" y="64"/>
                </a:lnTo>
                <a:close/>
                <a:moveTo>
                  <a:pt x="97" y="81"/>
                </a:moveTo>
                <a:lnTo>
                  <a:pt x="97" y="81"/>
                </a:lnTo>
                <a:lnTo>
                  <a:pt x="113" y="113"/>
                </a:lnTo>
                <a:lnTo>
                  <a:pt x="97" y="113"/>
                </a:lnTo>
                <a:lnTo>
                  <a:pt x="97" y="113"/>
                </a:lnTo>
                <a:lnTo>
                  <a:pt x="97" y="81"/>
                </a:lnTo>
                <a:lnTo>
                  <a:pt x="97" y="81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6440" y="3008160"/>
            <a:ext cx="492120" cy="482760"/>
          </a:xfrm>
          <a:custGeom>
            <a:avLst/>
            <a:gdLst/>
            <a:ahLst/>
            <a:rect l="l" t="t" r="r" b="b"/>
            <a:pathLst>
              <a:path w="776" h="760">
                <a:moveTo>
                  <a:pt x="550" y="437"/>
                </a:moveTo>
                <a:lnTo>
                  <a:pt x="517" y="437"/>
                </a:lnTo>
                <a:lnTo>
                  <a:pt x="501" y="420"/>
                </a:lnTo>
                <a:lnTo>
                  <a:pt x="485" y="404"/>
                </a:lnTo>
                <a:lnTo>
                  <a:pt x="485" y="437"/>
                </a:lnTo>
                <a:lnTo>
                  <a:pt x="485" y="453"/>
                </a:lnTo>
                <a:lnTo>
                  <a:pt x="485" y="469"/>
                </a:lnTo>
                <a:lnTo>
                  <a:pt x="469" y="469"/>
                </a:lnTo>
                <a:lnTo>
                  <a:pt x="469" y="485"/>
                </a:lnTo>
                <a:lnTo>
                  <a:pt x="453" y="501"/>
                </a:lnTo>
                <a:lnTo>
                  <a:pt x="453" y="534"/>
                </a:lnTo>
                <a:lnTo>
                  <a:pt x="437" y="566"/>
                </a:lnTo>
                <a:lnTo>
                  <a:pt x="420" y="582"/>
                </a:lnTo>
                <a:lnTo>
                  <a:pt x="404" y="631"/>
                </a:lnTo>
                <a:lnTo>
                  <a:pt x="420" y="631"/>
                </a:lnTo>
                <a:lnTo>
                  <a:pt x="420" y="631"/>
                </a:lnTo>
                <a:lnTo>
                  <a:pt x="420" y="647"/>
                </a:lnTo>
                <a:lnTo>
                  <a:pt x="404" y="663"/>
                </a:lnTo>
                <a:lnTo>
                  <a:pt x="420" y="663"/>
                </a:lnTo>
                <a:lnTo>
                  <a:pt x="420" y="663"/>
                </a:lnTo>
                <a:lnTo>
                  <a:pt x="388" y="695"/>
                </a:lnTo>
                <a:lnTo>
                  <a:pt x="388" y="679"/>
                </a:lnTo>
                <a:lnTo>
                  <a:pt x="339" y="712"/>
                </a:lnTo>
                <a:lnTo>
                  <a:pt x="323" y="695"/>
                </a:lnTo>
                <a:lnTo>
                  <a:pt x="323" y="712"/>
                </a:lnTo>
                <a:lnTo>
                  <a:pt x="323" y="712"/>
                </a:lnTo>
                <a:lnTo>
                  <a:pt x="307" y="728"/>
                </a:lnTo>
                <a:lnTo>
                  <a:pt x="275" y="744"/>
                </a:lnTo>
                <a:lnTo>
                  <a:pt x="242" y="728"/>
                </a:lnTo>
                <a:lnTo>
                  <a:pt x="242" y="744"/>
                </a:lnTo>
                <a:lnTo>
                  <a:pt x="210" y="760"/>
                </a:lnTo>
                <a:lnTo>
                  <a:pt x="194" y="760"/>
                </a:lnTo>
                <a:lnTo>
                  <a:pt x="178" y="760"/>
                </a:lnTo>
                <a:lnTo>
                  <a:pt x="161" y="760"/>
                </a:lnTo>
                <a:lnTo>
                  <a:pt x="145" y="744"/>
                </a:lnTo>
                <a:lnTo>
                  <a:pt x="145" y="728"/>
                </a:lnTo>
                <a:lnTo>
                  <a:pt x="129" y="712"/>
                </a:lnTo>
                <a:lnTo>
                  <a:pt x="145" y="712"/>
                </a:lnTo>
                <a:lnTo>
                  <a:pt x="129" y="712"/>
                </a:lnTo>
                <a:lnTo>
                  <a:pt x="97" y="695"/>
                </a:lnTo>
                <a:lnTo>
                  <a:pt x="97" y="695"/>
                </a:lnTo>
                <a:lnTo>
                  <a:pt x="97" y="679"/>
                </a:lnTo>
                <a:lnTo>
                  <a:pt x="97" y="695"/>
                </a:lnTo>
                <a:lnTo>
                  <a:pt x="81" y="679"/>
                </a:lnTo>
                <a:lnTo>
                  <a:pt x="64" y="663"/>
                </a:lnTo>
                <a:lnTo>
                  <a:pt x="64" y="663"/>
                </a:lnTo>
                <a:lnTo>
                  <a:pt x="48" y="647"/>
                </a:lnTo>
                <a:lnTo>
                  <a:pt x="48" y="647"/>
                </a:lnTo>
                <a:lnTo>
                  <a:pt x="32" y="631"/>
                </a:lnTo>
                <a:lnTo>
                  <a:pt x="32" y="615"/>
                </a:lnTo>
                <a:lnTo>
                  <a:pt x="0" y="582"/>
                </a:lnTo>
                <a:lnTo>
                  <a:pt x="0" y="582"/>
                </a:lnTo>
                <a:lnTo>
                  <a:pt x="0" y="566"/>
                </a:lnTo>
                <a:lnTo>
                  <a:pt x="0" y="566"/>
                </a:lnTo>
                <a:lnTo>
                  <a:pt x="0" y="534"/>
                </a:lnTo>
                <a:lnTo>
                  <a:pt x="16" y="534"/>
                </a:lnTo>
                <a:lnTo>
                  <a:pt x="48" y="517"/>
                </a:lnTo>
                <a:lnTo>
                  <a:pt x="48" y="485"/>
                </a:lnTo>
                <a:lnTo>
                  <a:pt x="64" y="485"/>
                </a:lnTo>
                <a:lnTo>
                  <a:pt x="64" y="469"/>
                </a:lnTo>
                <a:lnTo>
                  <a:pt x="48" y="437"/>
                </a:lnTo>
                <a:lnTo>
                  <a:pt x="64" y="420"/>
                </a:lnTo>
                <a:lnTo>
                  <a:pt x="64" y="404"/>
                </a:lnTo>
                <a:lnTo>
                  <a:pt x="81" y="388"/>
                </a:lnTo>
                <a:lnTo>
                  <a:pt x="81" y="388"/>
                </a:lnTo>
                <a:lnTo>
                  <a:pt x="97" y="388"/>
                </a:lnTo>
                <a:lnTo>
                  <a:pt x="97" y="404"/>
                </a:lnTo>
                <a:lnTo>
                  <a:pt x="97" y="404"/>
                </a:lnTo>
                <a:lnTo>
                  <a:pt x="113" y="404"/>
                </a:lnTo>
                <a:lnTo>
                  <a:pt x="113" y="388"/>
                </a:lnTo>
                <a:lnTo>
                  <a:pt x="129" y="388"/>
                </a:lnTo>
                <a:lnTo>
                  <a:pt x="113" y="372"/>
                </a:lnTo>
                <a:lnTo>
                  <a:pt x="113" y="372"/>
                </a:lnTo>
                <a:lnTo>
                  <a:pt x="113" y="356"/>
                </a:lnTo>
                <a:lnTo>
                  <a:pt x="113" y="339"/>
                </a:lnTo>
                <a:lnTo>
                  <a:pt x="113" y="339"/>
                </a:lnTo>
                <a:lnTo>
                  <a:pt x="129" y="323"/>
                </a:lnTo>
                <a:lnTo>
                  <a:pt x="145" y="323"/>
                </a:lnTo>
                <a:lnTo>
                  <a:pt x="145" y="307"/>
                </a:lnTo>
                <a:lnTo>
                  <a:pt x="161" y="291"/>
                </a:lnTo>
                <a:lnTo>
                  <a:pt x="178" y="291"/>
                </a:lnTo>
                <a:lnTo>
                  <a:pt x="194" y="275"/>
                </a:lnTo>
                <a:lnTo>
                  <a:pt x="210" y="259"/>
                </a:lnTo>
                <a:lnTo>
                  <a:pt x="226" y="242"/>
                </a:lnTo>
                <a:lnTo>
                  <a:pt x="242" y="226"/>
                </a:lnTo>
                <a:lnTo>
                  <a:pt x="242" y="226"/>
                </a:lnTo>
                <a:lnTo>
                  <a:pt x="242" y="194"/>
                </a:lnTo>
                <a:lnTo>
                  <a:pt x="242" y="194"/>
                </a:lnTo>
                <a:lnTo>
                  <a:pt x="242" y="178"/>
                </a:lnTo>
                <a:lnTo>
                  <a:pt x="242" y="178"/>
                </a:lnTo>
                <a:lnTo>
                  <a:pt x="259" y="161"/>
                </a:lnTo>
                <a:lnTo>
                  <a:pt x="242" y="161"/>
                </a:lnTo>
                <a:lnTo>
                  <a:pt x="259" y="161"/>
                </a:lnTo>
                <a:lnTo>
                  <a:pt x="259" y="129"/>
                </a:lnTo>
                <a:lnTo>
                  <a:pt x="259" y="97"/>
                </a:lnTo>
                <a:lnTo>
                  <a:pt x="259" y="97"/>
                </a:lnTo>
                <a:lnTo>
                  <a:pt x="275" y="64"/>
                </a:lnTo>
                <a:lnTo>
                  <a:pt x="259" y="48"/>
                </a:lnTo>
                <a:lnTo>
                  <a:pt x="259" y="32"/>
                </a:lnTo>
                <a:lnTo>
                  <a:pt x="242" y="16"/>
                </a:lnTo>
                <a:lnTo>
                  <a:pt x="275" y="0"/>
                </a:lnTo>
                <a:lnTo>
                  <a:pt x="275" y="32"/>
                </a:lnTo>
                <a:lnTo>
                  <a:pt x="275" y="48"/>
                </a:lnTo>
                <a:lnTo>
                  <a:pt x="291" y="97"/>
                </a:lnTo>
                <a:lnTo>
                  <a:pt x="291" y="129"/>
                </a:lnTo>
                <a:lnTo>
                  <a:pt x="291" y="145"/>
                </a:lnTo>
                <a:lnTo>
                  <a:pt x="307" y="194"/>
                </a:lnTo>
                <a:lnTo>
                  <a:pt x="323" y="194"/>
                </a:lnTo>
                <a:lnTo>
                  <a:pt x="404" y="178"/>
                </a:lnTo>
                <a:lnTo>
                  <a:pt x="420" y="178"/>
                </a:lnTo>
                <a:lnTo>
                  <a:pt x="469" y="161"/>
                </a:lnTo>
                <a:lnTo>
                  <a:pt x="485" y="275"/>
                </a:lnTo>
                <a:lnTo>
                  <a:pt x="517" y="242"/>
                </a:lnTo>
                <a:lnTo>
                  <a:pt x="550" y="194"/>
                </a:lnTo>
                <a:lnTo>
                  <a:pt x="566" y="210"/>
                </a:lnTo>
                <a:lnTo>
                  <a:pt x="582" y="178"/>
                </a:lnTo>
                <a:lnTo>
                  <a:pt x="582" y="178"/>
                </a:lnTo>
                <a:lnTo>
                  <a:pt x="598" y="161"/>
                </a:lnTo>
                <a:lnTo>
                  <a:pt x="598" y="161"/>
                </a:lnTo>
                <a:lnTo>
                  <a:pt x="598" y="161"/>
                </a:lnTo>
                <a:lnTo>
                  <a:pt x="598" y="178"/>
                </a:lnTo>
                <a:lnTo>
                  <a:pt x="615" y="178"/>
                </a:lnTo>
                <a:lnTo>
                  <a:pt x="647" y="178"/>
                </a:lnTo>
                <a:lnTo>
                  <a:pt x="647" y="161"/>
                </a:lnTo>
                <a:lnTo>
                  <a:pt x="647" y="161"/>
                </a:lnTo>
                <a:lnTo>
                  <a:pt x="647" y="161"/>
                </a:lnTo>
                <a:lnTo>
                  <a:pt x="647" y="145"/>
                </a:lnTo>
                <a:lnTo>
                  <a:pt x="663" y="145"/>
                </a:lnTo>
                <a:lnTo>
                  <a:pt x="679" y="145"/>
                </a:lnTo>
                <a:lnTo>
                  <a:pt x="679" y="129"/>
                </a:lnTo>
                <a:lnTo>
                  <a:pt x="712" y="145"/>
                </a:lnTo>
                <a:lnTo>
                  <a:pt x="728" y="145"/>
                </a:lnTo>
                <a:lnTo>
                  <a:pt x="728" y="145"/>
                </a:lnTo>
                <a:lnTo>
                  <a:pt x="744" y="145"/>
                </a:lnTo>
                <a:lnTo>
                  <a:pt x="744" y="145"/>
                </a:lnTo>
                <a:lnTo>
                  <a:pt x="744" y="145"/>
                </a:lnTo>
                <a:lnTo>
                  <a:pt x="744" y="161"/>
                </a:lnTo>
                <a:lnTo>
                  <a:pt x="744" y="145"/>
                </a:lnTo>
                <a:lnTo>
                  <a:pt x="744" y="161"/>
                </a:lnTo>
                <a:lnTo>
                  <a:pt x="760" y="161"/>
                </a:lnTo>
                <a:lnTo>
                  <a:pt x="760" y="161"/>
                </a:lnTo>
                <a:lnTo>
                  <a:pt x="760" y="178"/>
                </a:lnTo>
                <a:lnTo>
                  <a:pt x="776" y="178"/>
                </a:lnTo>
                <a:lnTo>
                  <a:pt x="776" y="194"/>
                </a:lnTo>
                <a:lnTo>
                  <a:pt x="776" y="194"/>
                </a:lnTo>
                <a:lnTo>
                  <a:pt x="760" y="242"/>
                </a:lnTo>
                <a:lnTo>
                  <a:pt x="728" y="210"/>
                </a:lnTo>
                <a:lnTo>
                  <a:pt x="696" y="194"/>
                </a:lnTo>
                <a:lnTo>
                  <a:pt x="663" y="178"/>
                </a:lnTo>
                <a:lnTo>
                  <a:pt x="663" y="210"/>
                </a:lnTo>
                <a:lnTo>
                  <a:pt x="679" y="210"/>
                </a:lnTo>
                <a:lnTo>
                  <a:pt x="663" y="226"/>
                </a:lnTo>
                <a:lnTo>
                  <a:pt x="663" y="242"/>
                </a:lnTo>
                <a:lnTo>
                  <a:pt x="663" y="275"/>
                </a:lnTo>
                <a:lnTo>
                  <a:pt x="647" y="275"/>
                </a:lnTo>
                <a:lnTo>
                  <a:pt x="647" y="291"/>
                </a:lnTo>
                <a:lnTo>
                  <a:pt x="647" y="291"/>
                </a:lnTo>
                <a:lnTo>
                  <a:pt x="631" y="307"/>
                </a:lnTo>
                <a:lnTo>
                  <a:pt x="631" y="323"/>
                </a:lnTo>
                <a:lnTo>
                  <a:pt x="631" y="307"/>
                </a:lnTo>
                <a:lnTo>
                  <a:pt x="615" y="323"/>
                </a:lnTo>
                <a:lnTo>
                  <a:pt x="615" y="356"/>
                </a:lnTo>
                <a:lnTo>
                  <a:pt x="582" y="339"/>
                </a:lnTo>
                <a:lnTo>
                  <a:pt x="582" y="356"/>
                </a:lnTo>
                <a:lnTo>
                  <a:pt x="582" y="388"/>
                </a:lnTo>
                <a:lnTo>
                  <a:pt x="566" y="388"/>
                </a:lnTo>
                <a:lnTo>
                  <a:pt x="566" y="420"/>
                </a:lnTo>
                <a:lnTo>
                  <a:pt x="550" y="43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6680" y="2247840"/>
            <a:ext cx="585720" cy="606600"/>
          </a:xfrm>
          <a:custGeom>
            <a:avLst/>
            <a:gdLst/>
            <a:ahLst/>
            <a:rect l="l" t="t" r="r" b="b"/>
            <a:pathLst>
              <a:path w="923" h="955">
                <a:moveTo>
                  <a:pt x="502" y="955"/>
                </a:moveTo>
                <a:lnTo>
                  <a:pt x="421" y="955"/>
                </a:lnTo>
                <a:lnTo>
                  <a:pt x="389" y="955"/>
                </a:lnTo>
                <a:lnTo>
                  <a:pt x="372" y="939"/>
                </a:lnTo>
                <a:lnTo>
                  <a:pt x="340" y="922"/>
                </a:lnTo>
                <a:lnTo>
                  <a:pt x="324" y="906"/>
                </a:lnTo>
                <a:lnTo>
                  <a:pt x="308" y="858"/>
                </a:lnTo>
                <a:lnTo>
                  <a:pt x="291" y="842"/>
                </a:lnTo>
                <a:lnTo>
                  <a:pt x="291" y="825"/>
                </a:lnTo>
                <a:lnTo>
                  <a:pt x="308" y="793"/>
                </a:lnTo>
                <a:lnTo>
                  <a:pt x="308" y="793"/>
                </a:lnTo>
                <a:lnTo>
                  <a:pt x="291" y="777"/>
                </a:lnTo>
                <a:lnTo>
                  <a:pt x="291" y="761"/>
                </a:lnTo>
                <a:lnTo>
                  <a:pt x="291" y="744"/>
                </a:lnTo>
                <a:lnTo>
                  <a:pt x="275" y="696"/>
                </a:lnTo>
                <a:lnTo>
                  <a:pt x="275" y="680"/>
                </a:lnTo>
                <a:lnTo>
                  <a:pt x="275" y="680"/>
                </a:lnTo>
                <a:lnTo>
                  <a:pt x="243" y="647"/>
                </a:lnTo>
                <a:lnTo>
                  <a:pt x="227" y="631"/>
                </a:lnTo>
                <a:lnTo>
                  <a:pt x="178" y="599"/>
                </a:lnTo>
                <a:lnTo>
                  <a:pt x="162" y="566"/>
                </a:lnTo>
                <a:lnTo>
                  <a:pt x="146" y="550"/>
                </a:lnTo>
                <a:lnTo>
                  <a:pt x="113" y="550"/>
                </a:lnTo>
                <a:lnTo>
                  <a:pt x="97" y="534"/>
                </a:lnTo>
                <a:lnTo>
                  <a:pt x="65" y="518"/>
                </a:lnTo>
                <a:lnTo>
                  <a:pt x="33" y="502"/>
                </a:lnTo>
                <a:lnTo>
                  <a:pt x="33" y="485"/>
                </a:lnTo>
                <a:lnTo>
                  <a:pt x="33" y="469"/>
                </a:lnTo>
                <a:lnTo>
                  <a:pt x="33" y="421"/>
                </a:lnTo>
                <a:lnTo>
                  <a:pt x="33" y="421"/>
                </a:lnTo>
                <a:lnTo>
                  <a:pt x="33" y="405"/>
                </a:lnTo>
                <a:lnTo>
                  <a:pt x="33" y="388"/>
                </a:lnTo>
                <a:lnTo>
                  <a:pt x="33" y="372"/>
                </a:lnTo>
                <a:lnTo>
                  <a:pt x="49" y="340"/>
                </a:lnTo>
                <a:lnTo>
                  <a:pt x="49" y="340"/>
                </a:lnTo>
                <a:lnTo>
                  <a:pt x="33" y="307"/>
                </a:lnTo>
                <a:lnTo>
                  <a:pt x="16" y="307"/>
                </a:lnTo>
                <a:lnTo>
                  <a:pt x="0" y="291"/>
                </a:lnTo>
                <a:lnTo>
                  <a:pt x="16" y="275"/>
                </a:lnTo>
                <a:lnTo>
                  <a:pt x="33" y="227"/>
                </a:lnTo>
                <a:lnTo>
                  <a:pt x="65" y="210"/>
                </a:lnTo>
                <a:lnTo>
                  <a:pt x="65" y="210"/>
                </a:lnTo>
                <a:lnTo>
                  <a:pt x="81" y="210"/>
                </a:lnTo>
                <a:lnTo>
                  <a:pt x="81" y="210"/>
                </a:lnTo>
                <a:lnTo>
                  <a:pt x="97" y="194"/>
                </a:lnTo>
                <a:lnTo>
                  <a:pt x="97" y="178"/>
                </a:lnTo>
                <a:lnTo>
                  <a:pt x="97" y="129"/>
                </a:lnTo>
                <a:lnTo>
                  <a:pt x="97" y="65"/>
                </a:lnTo>
                <a:lnTo>
                  <a:pt x="97" y="65"/>
                </a:lnTo>
                <a:lnTo>
                  <a:pt x="113" y="49"/>
                </a:lnTo>
                <a:lnTo>
                  <a:pt x="130" y="65"/>
                </a:lnTo>
                <a:lnTo>
                  <a:pt x="146" y="65"/>
                </a:lnTo>
                <a:lnTo>
                  <a:pt x="194" y="49"/>
                </a:lnTo>
                <a:lnTo>
                  <a:pt x="308" y="0"/>
                </a:lnTo>
                <a:lnTo>
                  <a:pt x="308" y="0"/>
                </a:lnTo>
                <a:lnTo>
                  <a:pt x="308" y="16"/>
                </a:lnTo>
                <a:lnTo>
                  <a:pt x="291" y="81"/>
                </a:lnTo>
                <a:lnTo>
                  <a:pt x="324" y="65"/>
                </a:lnTo>
                <a:lnTo>
                  <a:pt x="356" y="65"/>
                </a:lnTo>
                <a:lnTo>
                  <a:pt x="372" y="81"/>
                </a:lnTo>
                <a:lnTo>
                  <a:pt x="372" y="81"/>
                </a:lnTo>
                <a:lnTo>
                  <a:pt x="389" y="81"/>
                </a:lnTo>
                <a:lnTo>
                  <a:pt x="405" y="81"/>
                </a:lnTo>
                <a:lnTo>
                  <a:pt x="421" y="129"/>
                </a:lnTo>
                <a:lnTo>
                  <a:pt x="453" y="129"/>
                </a:lnTo>
                <a:lnTo>
                  <a:pt x="599" y="162"/>
                </a:lnTo>
                <a:lnTo>
                  <a:pt x="599" y="162"/>
                </a:lnTo>
                <a:lnTo>
                  <a:pt x="631" y="178"/>
                </a:lnTo>
                <a:lnTo>
                  <a:pt x="648" y="178"/>
                </a:lnTo>
                <a:lnTo>
                  <a:pt x="648" y="178"/>
                </a:lnTo>
                <a:lnTo>
                  <a:pt x="664" y="178"/>
                </a:lnTo>
                <a:lnTo>
                  <a:pt x="696" y="178"/>
                </a:lnTo>
                <a:lnTo>
                  <a:pt x="728" y="194"/>
                </a:lnTo>
                <a:lnTo>
                  <a:pt x="745" y="194"/>
                </a:lnTo>
                <a:lnTo>
                  <a:pt x="728" y="210"/>
                </a:lnTo>
                <a:lnTo>
                  <a:pt x="745" y="227"/>
                </a:lnTo>
                <a:lnTo>
                  <a:pt x="745" y="210"/>
                </a:lnTo>
                <a:lnTo>
                  <a:pt x="777" y="227"/>
                </a:lnTo>
                <a:lnTo>
                  <a:pt x="793" y="243"/>
                </a:lnTo>
                <a:lnTo>
                  <a:pt x="777" y="243"/>
                </a:lnTo>
                <a:lnTo>
                  <a:pt x="793" y="259"/>
                </a:lnTo>
                <a:lnTo>
                  <a:pt x="793" y="259"/>
                </a:lnTo>
                <a:lnTo>
                  <a:pt x="777" y="259"/>
                </a:lnTo>
                <a:lnTo>
                  <a:pt x="793" y="275"/>
                </a:lnTo>
                <a:lnTo>
                  <a:pt x="777" y="291"/>
                </a:lnTo>
                <a:lnTo>
                  <a:pt x="777" y="307"/>
                </a:lnTo>
                <a:lnTo>
                  <a:pt x="777" y="307"/>
                </a:lnTo>
                <a:lnTo>
                  <a:pt x="793" y="307"/>
                </a:lnTo>
                <a:lnTo>
                  <a:pt x="809" y="307"/>
                </a:lnTo>
                <a:lnTo>
                  <a:pt x="809" y="307"/>
                </a:lnTo>
                <a:lnTo>
                  <a:pt x="809" y="340"/>
                </a:lnTo>
                <a:lnTo>
                  <a:pt x="809" y="356"/>
                </a:lnTo>
                <a:lnTo>
                  <a:pt x="809" y="356"/>
                </a:lnTo>
                <a:lnTo>
                  <a:pt x="826" y="356"/>
                </a:lnTo>
                <a:lnTo>
                  <a:pt x="826" y="372"/>
                </a:lnTo>
                <a:lnTo>
                  <a:pt x="826" y="388"/>
                </a:lnTo>
                <a:lnTo>
                  <a:pt x="809" y="388"/>
                </a:lnTo>
                <a:lnTo>
                  <a:pt x="793" y="405"/>
                </a:lnTo>
                <a:lnTo>
                  <a:pt x="793" y="421"/>
                </a:lnTo>
                <a:lnTo>
                  <a:pt x="777" y="453"/>
                </a:lnTo>
                <a:lnTo>
                  <a:pt x="777" y="453"/>
                </a:lnTo>
                <a:lnTo>
                  <a:pt x="777" y="469"/>
                </a:lnTo>
                <a:lnTo>
                  <a:pt x="777" y="469"/>
                </a:lnTo>
                <a:lnTo>
                  <a:pt x="777" y="469"/>
                </a:lnTo>
                <a:lnTo>
                  <a:pt x="761" y="485"/>
                </a:lnTo>
                <a:lnTo>
                  <a:pt x="777" y="485"/>
                </a:lnTo>
                <a:lnTo>
                  <a:pt x="777" y="485"/>
                </a:lnTo>
                <a:lnTo>
                  <a:pt x="793" y="469"/>
                </a:lnTo>
                <a:lnTo>
                  <a:pt x="809" y="469"/>
                </a:lnTo>
                <a:lnTo>
                  <a:pt x="809" y="453"/>
                </a:lnTo>
                <a:lnTo>
                  <a:pt x="826" y="421"/>
                </a:lnTo>
                <a:lnTo>
                  <a:pt x="842" y="421"/>
                </a:lnTo>
                <a:lnTo>
                  <a:pt x="842" y="421"/>
                </a:lnTo>
                <a:lnTo>
                  <a:pt x="858" y="405"/>
                </a:lnTo>
                <a:lnTo>
                  <a:pt x="874" y="421"/>
                </a:lnTo>
                <a:lnTo>
                  <a:pt x="874" y="421"/>
                </a:lnTo>
                <a:lnTo>
                  <a:pt x="874" y="453"/>
                </a:lnTo>
                <a:lnTo>
                  <a:pt x="858" y="485"/>
                </a:lnTo>
                <a:lnTo>
                  <a:pt x="842" y="534"/>
                </a:lnTo>
                <a:lnTo>
                  <a:pt x="858" y="566"/>
                </a:lnTo>
                <a:lnTo>
                  <a:pt x="842" y="583"/>
                </a:lnTo>
                <a:lnTo>
                  <a:pt x="826" y="631"/>
                </a:lnTo>
                <a:lnTo>
                  <a:pt x="842" y="680"/>
                </a:lnTo>
                <a:lnTo>
                  <a:pt x="826" y="696"/>
                </a:lnTo>
                <a:lnTo>
                  <a:pt x="826" y="728"/>
                </a:lnTo>
                <a:lnTo>
                  <a:pt x="809" y="744"/>
                </a:lnTo>
                <a:lnTo>
                  <a:pt x="809" y="777"/>
                </a:lnTo>
                <a:lnTo>
                  <a:pt x="826" y="809"/>
                </a:lnTo>
                <a:lnTo>
                  <a:pt x="826" y="825"/>
                </a:lnTo>
                <a:lnTo>
                  <a:pt x="826" y="825"/>
                </a:lnTo>
                <a:lnTo>
                  <a:pt x="826" y="858"/>
                </a:lnTo>
                <a:lnTo>
                  <a:pt x="842" y="874"/>
                </a:lnTo>
                <a:lnTo>
                  <a:pt x="842" y="890"/>
                </a:lnTo>
                <a:lnTo>
                  <a:pt x="842" y="939"/>
                </a:lnTo>
                <a:lnTo>
                  <a:pt x="777" y="939"/>
                </a:lnTo>
                <a:lnTo>
                  <a:pt x="761" y="939"/>
                </a:lnTo>
                <a:lnTo>
                  <a:pt x="696" y="939"/>
                </a:lnTo>
                <a:lnTo>
                  <a:pt x="696" y="939"/>
                </a:lnTo>
                <a:lnTo>
                  <a:pt x="664" y="955"/>
                </a:lnTo>
                <a:lnTo>
                  <a:pt x="599" y="955"/>
                </a:lnTo>
                <a:lnTo>
                  <a:pt x="583" y="955"/>
                </a:lnTo>
                <a:lnTo>
                  <a:pt x="518" y="955"/>
                </a:lnTo>
                <a:lnTo>
                  <a:pt x="502" y="955"/>
                </a:lnTo>
                <a:lnTo>
                  <a:pt x="502" y="955"/>
                </a:lnTo>
                <a:close/>
                <a:moveTo>
                  <a:pt x="906" y="307"/>
                </a:moveTo>
                <a:lnTo>
                  <a:pt x="923" y="307"/>
                </a:lnTo>
                <a:lnTo>
                  <a:pt x="923" y="324"/>
                </a:lnTo>
                <a:lnTo>
                  <a:pt x="923" y="324"/>
                </a:lnTo>
                <a:lnTo>
                  <a:pt x="906" y="324"/>
                </a:lnTo>
                <a:lnTo>
                  <a:pt x="906" y="340"/>
                </a:lnTo>
                <a:lnTo>
                  <a:pt x="906" y="340"/>
                </a:lnTo>
                <a:lnTo>
                  <a:pt x="906" y="356"/>
                </a:lnTo>
                <a:lnTo>
                  <a:pt x="906" y="356"/>
                </a:lnTo>
                <a:lnTo>
                  <a:pt x="906" y="372"/>
                </a:lnTo>
                <a:lnTo>
                  <a:pt x="906" y="356"/>
                </a:lnTo>
                <a:lnTo>
                  <a:pt x="890" y="388"/>
                </a:lnTo>
                <a:lnTo>
                  <a:pt x="890" y="388"/>
                </a:lnTo>
                <a:lnTo>
                  <a:pt x="890" y="405"/>
                </a:lnTo>
                <a:lnTo>
                  <a:pt x="874" y="421"/>
                </a:lnTo>
                <a:lnTo>
                  <a:pt x="858" y="421"/>
                </a:lnTo>
                <a:lnTo>
                  <a:pt x="858" y="405"/>
                </a:lnTo>
                <a:lnTo>
                  <a:pt x="858" y="372"/>
                </a:lnTo>
                <a:lnTo>
                  <a:pt x="874" y="372"/>
                </a:lnTo>
                <a:lnTo>
                  <a:pt x="874" y="340"/>
                </a:lnTo>
                <a:lnTo>
                  <a:pt x="890" y="340"/>
                </a:lnTo>
                <a:lnTo>
                  <a:pt x="906" y="307"/>
                </a:lnTo>
                <a:lnTo>
                  <a:pt x="906" y="307"/>
                </a:lnTo>
                <a:lnTo>
                  <a:pt x="906" y="30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29560" y="2627280"/>
            <a:ext cx="195120" cy="184320"/>
          </a:xfrm>
          <a:custGeom>
            <a:avLst/>
            <a:gdLst/>
            <a:ahLst/>
            <a:rect l="l" t="t" r="r" b="b"/>
            <a:pathLst>
              <a:path w="307" h="291">
                <a:moveTo>
                  <a:pt x="16" y="145"/>
                </a:moveTo>
                <a:lnTo>
                  <a:pt x="0" y="65"/>
                </a:lnTo>
                <a:lnTo>
                  <a:pt x="64" y="48"/>
                </a:lnTo>
                <a:lnTo>
                  <a:pt x="81" y="48"/>
                </a:lnTo>
                <a:lnTo>
                  <a:pt x="113" y="32"/>
                </a:lnTo>
                <a:lnTo>
                  <a:pt x="113" y="48"/>
                </a:lnTo>
                <a:lnTo>
                  <a:pt x="113" y="48"/>
                </a:lnTo>
                <a:lnTo>
                  <a:pt x="113" y="32"/>
                </a:lnTo>
                <a:lnTo>
                  <a:pt x="162" y="32"/>
                </a:lnTo>
                <a:lnTo>
                  <a:pt x="210" y="16"/>
                </a:lnTo>
                <a:lnTo>
                  <a:pt x="226" y="16"/>
                </a:lnTo>
                <a:lnTo>
                  <a:pt x="275" y="0"/>
                </a:lnTo>
                <a:lnTo>
                  <a:pt x="291" y="65"/>
                </a:lnTo>
                <a:lnTo>
                  <a:pt x="291" y="81"/>
                </a:lnTo>
                <a:lnTo>
                  <a:pt x="291" y="97"/>
                </a:lnTo>
                <a:lnTo>
                  <a:pt x="307" y="129"/>
                </a:lnTo>
                <a:lnTo>
                  <a:pt x="291" y="129"/>
                </a:lnTo>
                <a:lnTo>
                  <a:pt x="307" y="145"/>
                </a:lnTo>
                <a:lnTo>
                  <a:pt x="291" y="145"/>
                </a:lnTo>
                <a:lnTo>
                  <a:pt x="226" y="178"/>
                </a:lnTo>
                <a:lnTo>
                  <a:pt x="226" y="178"/>
                </a:lnTo>
                <a:lnTo>
                  <a:pt x="210" y="162"/>
                </a:lnTo>
                <a:lnTo>
                  <a:pt x="210" y="178"/>
                </a:lnTo>
                <a:lnTo>
                  <a:pt x="194" y="194"/>
                </a:lnTo>
                <a:lnTo>
                  <a:pt x="129" y="210"/>
                </a:lnTo>
                <a:lnTo>
                  <a:pt x="113" y="243"/>
                </a:lnTo>
                <a:lnTo>
                  <a:pt x="32" y="291"/>
                </a:lnTo>
                <a:lnTo>
                  <a:pt x="16" y="275"/>
                </a:lnTo>
                <a:lnTo>
                  <a:pt x="48" y="243"/>
                </a:lnTo>
                <a:lnTo>
                  <a:pt x="32" y="226"/>
                </a:lnTo>
                <a:lnTo>
                  <a:pt x="32" y="210"/>
                </a:lnTo>
                <a:lnTo>
                  <a:pt x="16" y="178"/>
                </a:lnTo>
                <a:lnTo>
                  <a:pt x="16" y="14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2843280"/>
            <a:ext cx="441360" cy="770040"/>
          </a:xfrm>
          <a:custGeom>
            <a:avLst/>
            <a:gdLst/>
            <a:ahLst/>
            <a:rect l="l" t="t" r="r" b="b"/>
            <a:pathLst>
              <a:path w="696" h="1213">
                <a:moveTo>
                  <a:pt x="243" y="857"/>
                </a:moveTo>
                <a:lnTo>
                  <a:pt x="243" y="841"/>
                </a:lnTo>
                <a:lnTo>
                  <a:pt x="243" y="825"/>
                </a:lnTo>
                <a:lnTo>
                  <a:pt x="243" y="825"/>
                </a:lnTo>
                <a:lnTo>
                  <a:pt x="227" y="809"/>
                </a:lnTo>
                <a:lnTo>
                  <a:pt x="195" y="793"/>
                </a:lnTo>
                <a:lnTo>
                  <a:pt x="178" y="825"/>
                </a:lnTo>
                <a:lnTo>
                  <a:pt x="162" y="825"/>
                </a:lnTo>
                <a:lnTo>
                  <a:pt x="146" y="809"/>
                </a:lnTo>
                <a:lnTo>
                  <a:pt x="146" y="744"/>
                </a:lnTo>
                <a:lnTo>
                  <a:pt x="130" y="728"/>
                </a:lnTo>
                <a:lnTo>
                  <a:pt x="97" y="712"/>
                </a:lnTo>
                <a:lnTo>
                  <a:pt x="49" y="663"/>
                </a:lnTo>
                <a:lnTo>
                  <a:pt x="33" y="647"/>
                </a:lnTo>
                <a:lnTo>
                  <a:pt x="33" y="631"/>
                </a:lnTo>
                <a:lnTo>
                  <a:pt x="16" y="615"/>
                </a:lnTo>
                <a:lnTo>
                  <a:pt x="16" y="598"/>
                </a:lnTo>
                <a:lnTo>
                  <a:pt x="0" y="566"/>
                </a:lnTo>
                <a:lnTo>
                  <a:pt x="0" y="534"/>
                </a:lnTo>
                <a:lnTo>
                  <a:pt x="0" y="518"/>
                </a:lnTo>
                <a:lnTo>
                  <a:pt x="0" y="501"/>
                </a:lnTo>
                <a:lnTo>
                  <a:pt x="16" y="485"/>
                </a:lnTo>
                <a:lnTo>
                  <a:pt x="16" y="469"/>
                </a:lnTo>
                <a:lnTo>
                  <a:pt x="16" y="453"/>
                </a:lnTo>
                <a:lnTo>
                  <a:pt x="49" y="437"/>
                </a:lnTo>
                <a:lnTo>
                  <a:pt x="65" y="420"/>
                </a:lnTo>
                <a:lnTo>
                  <a:pt x="65" y="388"/>
                </a:lnTo>
                <a:lnTo>
                  <a:pt x="81" y="372"/>
                </a:lnTo>
                <a:lnTo>
                  <a:pt x="81" y="340"/>
                </a:lnTo>
                <a:lnTo>
                  <a:pt x="81" y="323"/>
                </a:lnTo>
                <a:lnTo>
                  <a:pt x="49" y="307"/>
                </a:lnTo>
                <a:lnTo>
                  <a:pt x="65" y="291"/>
                </a:lnTo>
                <a:lnTo>
                  <a:pt x="65" y="259"/>
                </a:lnTo>
                <a:lnTo>
                  <a:pt x="97" y="259"/>
                </a:lnTo>
                <a:lnTo>
                  <a:pt x="130" y="259"/>
                </a:lnTo>
                <a:lnTo>
                  <a:pt x="130" y="242"/>
                </a:lnTo>
                <a:lnTo>
                  <a:pt x="162" y="242"/>
                </a:lnTo>
                <a:lnTo>
                  <a:pt x="178" y="226"/>
                </a:lnTo>
                <a:lnTo>
                  <a:pt x="178" y="194"/>
                </a:lnTo>
                <a:lnTo>
                  <a:pt x="178" y="178"/>
                </a:lnTo>
                <a:lnTo>
                  <a:pt x="195" y="178"/>
                </a:lnTo>
                <a:lnTo>
                  <a:pt x="195" y="145"/>
                </a:lnTo>
                <a:lnTo>
                  <a:pt x="195" y="129"/>
                </a:lnTo>
                <a:lnTo>
                  <a:pt x="195" y="97"/>
                </a:lnTo>
                <a:lnTo>
                  <a:pt x="162" y="81"/>
                </a:lnTo>
                <a:lnTo>
                  <a:pt x="162" y="81"/>
                </a:lnTo>
                <a:lnTo>
                  <a:pt x="146" y="64"/>
                </a:lnTo>
                <a:lnTo>
                  <a:pt x="146" y="48"/>
                </a:lnTo>
                <a:lnTo>
                  <a:pt x="114" y="32"/>
                </a:lnTo>
                <a:lnTo>
                  <a:pt x="114" y="16"/>
                </a:lnTo>
                <a:lnTo>
                  <a:pt x="146" y="16"/>
                </a:lnTo>
                <a:lnTo>
                  <a:pt x="227" y="16"/>
                </a:lnTo>
                <a:lnTo>
                  <a:pt x="243" y="16"/>
                </a:lnTo>
                <a:lnTo>
                  <a:pt x="308" y="16"/>
                </a:lnTo>
                <a:lnTo>
                  <a:pt x="324" y="16"/>
                </a:lnTo>
                <a:lnTo>
                  <a:pt x="389" y="16"/>
                </a:lnTo>
                <a:lnTo>
                  <a:pt x="421" y="0"/>
                </a:lnTo>
                <a:lnTo>
                  <a:pt x="421" y="0"/>
                </a:lnTo>
                <a:lnTo>
                  <a:pt x="486" y="0"/>
                </a:lnTo>
                <a:lnTo>
                  <a:pt x="502" y="0"/>
                </a:lnTo>
                <a:lnTo>
                  <a:pt x="567" y="0"/>
                </a:lnTo>
                <a:lnTo>
                  <a:pt x="567" y="32"/>
                </a:lnTo>
                <a:lnTo>
                  <a:pt x="583" y="64"/>
                </a:lnTo>
                <a:lnTo>
                  <a:pt x="599" y="81"/>
                </a:lnTo>
                <a:lnTo>
                  <a:pt x="615" y="129"/>
                </a:lnTo>
                <a:lnTo>
                  <a:pt x="631" y="161"/>
                </a:lnTo>
                <a:lnTo>
                  <a:pt x="631" y="210"/>
                </a:lnTo>
                <a:lnTo>
                  <a:pt x="631" y="259"/>
                </a:lnTo>
                <a:lnTo>
                  <a:pt x="631" y="275"/>
                </a:lnTo>
                <a:lnTo>
                  <a:pt x="648" y="307"/>
                </a:lnTo>
                <a:lnTo>
                  <a:pt x="648" y="372"/>
                </a:lnTo>
                <a:lnTo>
                  <a:pt x="648" y="420"/>
                </a:lnTo>
                <a:lnTo>
                  <a:pt x="648" y="437"/>
                </a:lnTo>
                <a:lnTo>
                  <a:pt x="648" y="501"/>
                </a:lnTo>
                <a:lnTo>
                  <a:pt x="664" y="566"/>
                </a:lnTo>
                <a:lnTo>
                  <a:pt x="664" y="615"/>
                </a:lnTo>
                <a:lnTo>
                  <a:pt x="664" y="647"/>
                </a:lnTo>
                <a:lnTo>
                  <a:pt x="664" y="679"/>
                </a:lnTo>
                <a:lnTo>
                  <a:pt x="664" y="696"/>
                </a:lnTo>
                <a:lnTo>
                  <a:pt x="664" y="696"/>
                </a:lnTo>
                <a:lnTo>
                  <a:pt x="664" y="712"/>
                </a:lnTo>
                <a:lnTo>
                  <a:pt x="664" y="712"/>
                </a:lnTo>
                <a:lnTo>
                  <a:pt x="648" y="728"/>
                </a:lnTo>
                <a:lnTo>
                  <a:pt x="664" y="744"/>
                </a:lnTo>
                <a:lnTo>
                  <a:pt x="664" y="760"/>
                </a:lnTo>
                <a:lnTo>
                  <a:pt x="680" y="760"/>
                </a:lnTo>
                <a:lnTo>
                  <a:pt x="680" y="776"/>
                </a:lnTo>
                <a:lnTo>
                  <a:pt x="680" y="793"/>
                </a:lnTo>
                <a:lnTo>
                  <a:pt x="696" y="809"/>
                </a:lnTo>
                <a:lnTo>
                  <a:pt x="664" y="841"/>
                </a:lnTo>
                <a:lnTo>
                  <a:pt x="680" y="841"/>
                </a:lnTo>
                <a:lnTo>
                  <a:pt x="664" y="857"/>
                </a:lnTo>
                <a:lnTo>
                  <a:pt x="664" y="874"/>
                </a:lnTo>
                <a:lnTo>
                  <a:pt x="648" y="874"/>
                </a:lnTo>
                <a:lnTo>
                  <a:pt x="648" y="890"/>
                </a:lnTo>
                <a:lnTo>
                  <a:pt x="648" y="906"/>
                </a:lnTo>
                <a:lnTo>
                  <a:pt x="631" y="922"/>
                </a:lnTo>
                <a:lnTo>
                  <a:pt x="631" y="906"/>
                </a:lnTo>
                <a:lnTo>
                  <a:pt x="631" y="922"/>
                </a:lnTo>
                <a:lnTo>
                  <a:pt x="631" y="906"/>
                </a:lnTo>
                <a:lnTo>
                  <a:pt x="615" y="922"/>
                </a:lnTo>
                <a:lnTo>
                  <a:pt x="615" y="922"/>
                </a:lnTo>
                <a:lnTo>
                  <a:pt x="631" y="938"/>
                </a:lnTo>
                <a:lnTo>
                  <a:pt x="615" y="954"/>
                </a:lnTo>
                <a:lnTo>
                  <a:pt x="615" y="954"/>
                </a:lnTo>
                <a:lnTo>
                  <a:pt x="615" y="971"/>
                </a:lnTo>
                <a:lnTo>
                  <a:pt x="615" y="971"/>
                </a:lnTo>
                <a:lnTo>
                  <a:pt x="615" y="987"/>
                </a:lnTo>
                <a:lnTo>
                  <a:pt x="599" y="1003"/>
                </a:lnTo>
                <a:lnTo>
                  <a:pt x="615" y="1003"/>
                </a:lnTo>
                <a:lnTo>
                  <a:pt x="599" y="1003"/>
                </a:lnTo>
                <a:lnTo>
                  <a:pt x="615" y="1019"/>
                </a:lnTo>
                <a:lnTo>
                  <a:pt x="615" y="1019"/>
                </a:lnTo>
                <a:lnTo>
                  <a:pt x="615" y="1019"/>
                </a:lnTo>
                <a:lnTo>
                  <a:pt x="599" y="1052"/>
                </a:lnTo>
                <a:lnTo>
                  <a:pt x="599" y="1068"/>
                </a:lnTo>
                <a:lnTo>
                  <a:pt x="615" y="1084"/>
                </a:lnTo>
                <a:lnTo>
                  <a:pt x="615" y="1100"/>
                </a:lnTo>
                <a:lnTo>
                  <a:pt x="583" y="1100"/>
                </a:lnTo>
                <a:lnTo>
                  <a:pt x="567" y="1116"/>
                </a:lnTo>
                <a:lnTo>
                  <a:pt x="551" y="1116"/>
                </a:lnTo>
                <a:lnTo>
                  <a:pt x="551" y="1116"/>
                </a:lnTo>
                <a:lnTo>
                  <a:pt x="551" y="1149"/>
                </a:lnTo>
                <a:lnTo>
                  <a:pt x="567" y="1165"/>
                </a:lnTo>
                <a:lnTo>
                  <a:pt x="551" y="1197"/>
                </a:lnTo>
                <a:lnTo>
                  <a:pt x="534" y="1197"/>
                </a:lnTo>
                <a:lnTo>
                  <a:pt x="470" y="1165"/>
                </a:lnTo>
                <a:lnTo>
                  <a:pt x="453" y="1165"/>
                </a:lnTo>
                <a:lnTo>
                  <a:pt x="437" y="1197"/>
                </a:lnTo>
                <a:lnTo>
                  <a:pt x="437" y="1213"/>
                </a:lnTo>
                <a:lnTo>
                  <a:pt x="437" y="1213"/>
                </a:lnTo>
                <a:lnTo>
                  <a:pt x="437" y="1213"/>
                </a:lnTo>
                <a:lnTo>
                  <a:pt x="421" y="1197"/>
                </a:lnTo>
                <a:lnTo>
                  <a:pt x="405" y="1197"/>
                </a:lnTo>
                <a:lnTo>
                  <a:pt x="421" y="1213"/>
                </a:lnTo>
                <a:lnTo>
                  <a:pt x="405" y="1213"/>
                </a:lnTo>
                <a:lnTo>
                  <a:pt x="405" y="1213"/>
                </a:lnTo>
                <a:lnTo>
                  <a:pt x="405" y="1197"/>
                </a:lnTo>
                <a:lnTo>
                  <a:pt x="373" y="1165"/>
                </a:lnTo>
                <a:lnTo>
                  <a:pt x="373" y="1149"/>
                </a:lnTo>
                <a:lnTo>
                  <a:pt x="373" y="1149"/>
                </a:lnTo>
                <a:lnTo>
                  <a:pt x="389" y="1133"/>
                </a:lnTo>
                <a:lnTo>
                  <a:pt x="389" y="1133"/>
                </a:lnTo>
                <a:lnTo>
                  <a:pt x="373" y="1100"/>
                </a:lnTo>
                <a:lnTo>
                  <a:pt x="373" y="1068"/>
                </a:lnTo>
                <a:lnTo>
                  <a:pt x="340" y="1052"/>
                </a:lnTo>
                <a:lnTo>
                  <a:pt x="340" y="1052"/>
                </a:lnTo>
                <a:lnTo>
                  <a:pt x="308" y="1019"/>
                </a:lnTo>
                <a:lnTo>
                  <a:pt x="292" y="1035"/>
                </a:lnTo>
                <a:lnTo>
                  <a:pt x="292" y="1019"/>
                </a:lnTo>
                <a:lnTo>
                  <a:pt x="292" y="1019"/>
                </a:lnTo>
                <a:lnTo>
                  <a:pt x="243" y="987"/>
                </a:lnTo>
                <a:lnTo>
                  <a:pt x="227" y="987"/>
                </a:lnTo>
                <a:lnTo>
                  <a:pt x="211" y="954"/>
                </a:lnTo>
                <a:lnTo>
                  <a:pt x="211" y="922"/>
                </a:lnTo>
                <a:lnTo>
                  <a:pt x="227" y="890"/>
                </a:lnTo>
                <a:lnTo>
                  <a:pt x="227" y="890"/>
                </a:lnTo>
                <a:lnTo>
                  <a:pt x="243" y="874"/>
                </a:lnTo>
                <a:lnTo>
                  <a:pt x="243" y="85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905200"/>
            <a:ext cx="349200" cy="595080"/>
          </a:xfrm>
          <a:custGeom>
            <a:avLst/>
            <a:gdLst/>
            <a:ahLst/>
            <a:rect l="l" t="t" r="r" b="b"/>
            <a:pathLst>
              <a:path w="550" h="938">
                <a:moveTo>
                  <a:pt x="81" y="696"/>
                </a:moveTo>
                <a:lnTo>
                  <a:pt x="81" y="679"/>
                </a:lnTo>
                <a:lnTo>
                  <a:pt x="81" y="663"/>
                </a:lnTo>
                <a:lnTo>
                  <a:pt x="65" y="663"/>
                </a:lnTo>
                <a:lnTo>
                  <a:pt x="65" y="647"/>
                </a:lnTo>
                <a:lnTo>
                  <a:pt x="49" y="631"/>
                </a:lnTo>
                <a:lnTo>
                  <a:pt x="65" y="615"/>
                </a:lnTo>
                <a:lnTo>
                  <a:pt x="65" y="615"/>
                </a:lnTo>
                <a:lnTo>
                  <a:pt x="65" y="599"/>
                </a:lnTo>
                <a:lnTo>
                  <a:pt x="65" y="599"/>
                </a:lnTo>
                <a:lnTo>
                  <a:pt x="65" y="582"/>
                </a:lnTo>
                <a:lnTo>
                  <a:pt x="65" y="550"/>
                </a:lnTo>
                <a:lnTo>
                  <a:pt x="65" y="518"/>
                </a:lnTo>
                <a:lnTo>
                  <a:pt x="65" y="469"/>
                </a:lnTo>
                <a:lnTo>
                  <a:pt x="49" y="404"/>
                </a:lnTo>
                <a:lnTo>
                  <a:pt x="49" y="340"/>
                </a:lnTo>
                <a:lnTo>
                  <a:pt x="49" y="323"/>
                </a:lnTo>
                <a:lnTo>
                  <a:pt x="49" y="275"/>
                </a:lnTo>
                <a:lnTo>
                  <a:pt x="49" y="210"/>
                </a:lnTo>
                <a:lnTo>
                  <a:pt x="32" y="178"/>
                </a:lnTo>
                <a:lnTo>
                  <a:pt x="32" y="162"/>
                </a:lnTo>
                <a:lnTo>
                  <a:pt x="32" y="113"/>
                </a:lnTo>
                <a:lnTo>
                  <a:pt x="32" y="64"/>
                </a:lnTo>
                <a:lnTo>
                  <a:pt x="32" y="64"/>
                </a:lnTo>
                <a:lnTo>
                  <a:pt x="49" y="64"/>
                </a:lnTo>
                <a:lnTo>
                  <a:pt x="49" y="81"/>
                </a:lnTo>
                <a:lnTo>
                  <a:pt x="49" y="81"/>
                </a:lnTo>
                <a:lnTo>
                  <a:pt x="81" y="81"/>
                </a:lnTo>
                <a:lnTo>
                  <a:pt x="130" y="48"/>
                </a:lnTo>
                <a:lnTo>
                  <a:pt x="146" y="48"/>
                </a:lnTo>
                <a:lnTo>
                  <a:pt x="194" y="32"/>
                </a:lnTo>
                <a:lnTo>
                  <a:pt x="243" y="32"/>
                </a:lnTo>
                <a:lnTo>
                  <a:pt x="259" y="32"/>
                </a:lnTo>
                <a:lnTo>
                  <a:pt x="308" y="32"/>
                </a:lnTo>
                <a:lnTo>
                  <a:pt x="324" y="16"/>
                </a:lnTo>
                <a:lnTo>
                  <a:pt x="389" y="16"/>
                </a:lnTo>
                <a:lnTo>
                  <a:pt x="405" y="16"/>
                </a:lnTo>
                <a:lnTo>
                  <a:pt x="469" y="16"/>
                </a:lnTo>
                <a:lnTo>
                  <a:pt x="469" y="0"/>
                </a:lnTo>
                <a:lnTo>
                  <a:pt x="469" y="16"/>
                </a:lnTo>
                <a:lnTo>
                  <a:pt x="469" y="64"/>
                </a:lnTo>
                <a:lnTo>
                  <a:pt x="469" y="81"/>
                </a:lnTo>
                <a:lnTo>
                  <a:pt x="486" y="113"/>
                </a:lnTo>
                <a:lnTo>
                  <a:pt x="486" y="113"/>
                </a:lnTo>
                <a:lnTo>
                  <a:pt x="486" y="178"/>
                </a:lnTo>
                <a:lnTo>
                  <a:pt x="486" y="194"/>
                </a:lnTo>
                <a:lnTo>
                  <a:pt x="486" y="226"/>
                </a:lnTo>
                <a:lnTo>
                  <a:pt x="502" y="259"/>
                </a:lnTo>
                <a:lnTo>
                  <a:pt x="502" y="307"/>
                </a:lnTo>
                <a:lnTo>
                  <a:pt x="502" y="323"/>
                </a:lnTo>
                <a:lnTo>
                  <a:pt x="518" y="388"/>
                </a:lnTo>
                <a:lnTo>
                  <a:pt x="518" y="404"/>
                </a:lnTo>
                <a:lnTo>
                  <a:pt x="518" y="453"/>
                </a:lnTo>
                <a:lnTo>
                  <a:pt x="518" y="485"/>
                </a:lnTo>
                <a:lnTo>
                  <a:pt x="518" y="501"/>
                </a:lnTo>
                <a:lnTo>
                  <a:pt x="534" y="550"/>
                </a:lnTo>
                <a:lnTo>
                  <a:pt x="534" y="550"/>
                </a:lnTo>
                <a:lnTo>
                  <a:pt x="534" y="582"/>
                </a:lnTo>
                <a:lnTo>
                  <a:pt x="518" y="599"/>
                </a:lnTo>
                <a:lnTo>
                  <a:pt x="518" y="599"/>
                </a:lnTo>
                <a:lnTo>
                  <a:pt x="534" y="615"/>
                </a:lnTo>
                <a:lnTo>
                  <a:pt x="534" y="631"/>
                </a:lnTo>
                <a:lnTo>
                  <a:pt x="534" y="631"/>
                </a:lnTo>
                <a:lnTo>
                  <a:pt x="550" y="631"/>
                </a:lnTo>
                <a:lnTo>
                  <a:pt x="534" y="647"/>
                </a:lnTo>
                <a:lnTo>
                  <a:pt x="534" y="663"/>
                </a:lnTo>
                <a:lnTo>
                  <a:pt x="502" y="663"/>
                </a:lnTo>
                <a:lnTo>
                  <a:pt x="469" y="679"/>
                </a:lnTo>
                <a:lnTo>
                  <a:pt x="469" y="679"/>
                </a:lnTo>
                <a:lnTo>
                  <a:pt x="453" y="679"/>
                </a:lnTo>
                <a:lnTo>
                  <a:pt x="437" y="679"/>
                </a:lnTo>
                <a:lnTo>
                  <a:pt x="437" y="712"/>
                </a:lnTo>
                <a:lnTo>
                  <a:pt x="437" y="728"/>
                </a:lnTo>
                <a:lnTo>
                  <a:pt x="437" y="744"/>
                </a:lnTo>
                <a:lnTo>
                  <a:pt x="421" y="744"/>
                </a:lnTo>
                <a:lnTo>
                  <a:pt x="405" y="760"/>
                </a:lnTo>
                <a:lnTo>
                  <a:pt x="405" y="777"/>
                </a:lnTo>
                <a:lnTo>
                  <a:pt x="389" y="793"/>
                </a:lnTo>
                <a:lnTo>
                  <a:pt x="372" y="793"/>
                </a:lnTo>
                <a:lnTo>
                  <a:pt x="372" y="809"/>
                </a:lnTo>
                <a:lnTo>
                  <a:pt x="372" y="841"/>
                </a:lnTo>
                <a:lnTo>
                  <a:pt x="372" y="841"/>
                </a:lnTo>
                <a:lnTo>
                  <a:pt x="356" y="857"/>
                </a:lnTo>
                <a:lnTo>
                  <a:pt x="356" y="857"/>
                </a:lnTo>
                <a:lnTo>
                  <a:pt x="340" y="857"/>
                </a:lnTo>
                <a:lnTo>
                  <a:pt x="324" y="841"/>
                </a:lnTo>
                <a:lnTo>
                  <a:pt x="308" y="841"/>
                </a:lnTo>
                <a:lnTo>
                  <a:pt x="308" y="825"/>
                </a:lnTo>
                <a:lnTo>
                  <a:pt x="291" y="825"/>
                </a:lnTo>
                <a:lnTo>
                  <a:pt x="291" y="809"/>
                </a:lnTo>
                <a:lnTo>
                  <a:pt x="308" y="825"/>
                </a:lnTo>
                <a:lnTo>
                  <a:pt x="291" y="841"/>
                </a:lnTo>
                <a:lnTo>
                  <a:pt x="275" y="825"/>
                </a:lnTo>
                <a:lnTo>
                  <a:pt x="275" y="841"/>
                </a:lnTo>
                <a:lnTo>
                  <a:pt x="275" y="841"/>
                </a:lnTo>
                <a:lnTo>
                  <a:pt x="275" y="874"/>
                </a:lnTo>
                <a:lnTo>
                  <a:pt x="259" y="874"/>
                </a:lnTo>
                <a:lnTo>
                  <a:pt x="259" y="890"/>
                </a:lnTo>
                <a:lnTo>
                  <a:pt x="243" y="890"/>
                </a:lnTo>
                <a:lnTo>
                  <a:pt x="243" y="874"/>
                </a:lnTo>
                <a:lnTo>
                  <a:pt x="227" y="890"/>
                </a:lnTo>
                <a:lnTo>
                  <a:pt x="227" y="874"/>
                </a:lnTo>
                <a:lnTo>
                  <a:pt x="194" y="890"/>
                </a:lnTo>
                <a:lnTo>
                  <a:pt x="178" y="890"/>
                </a:lnTo>
                <a:lnTo>
                  <a:pt x="178" y="922"/>
                </a:lnTo>
                <a:lnTo>
                  <a:pt x="146" y="906"/>
                </a:lnTo>
                <a:lnTo>
                  <a:pt x="146" y="890"/>
                </a:lnTo>
                <a:lnTo>
                  <a:pt x="113" y="890"/>
                </a:lnTo>
                <a:lnTo>
                  <a:pt x="113" y="890"/>
                </a:lnTo>
                <a:lnTo>
                  <a:pt x="81" y="890"/>
                </a:lnTo>
                <a:lnTo>
                  <a:pt x="81" y="890"/>
                </a:lnTo>
                <a:lnTo>
                  <a:pt x="97" y="906"/>
                </a:lnTo>
                <a:lnTo>
                  <a:pt x="81" y="922"/>
                </a:lnTo>
                <a:lnTo>
                  <a:pt x="81" y="922"/>
                </a:lnTo>
                <a:lnTo>
                  <a:pt x="81" y="906"/>
                </a:lnTo>
                <a:lnTo>
                  <a:pt x="65" y="906"/>
                </a:lnTo>
                <a:lnTo>
                  <a:pt x="49" y="906"/>
                </a:lnTo>
                <a:lnTo>
                  <a:pt x="32" y="906"/>
                </a:lnTo>
                <a:lnTo>
                  <a:pt x="32" y="906"/>
                </a:lnTo>
                <a:lnTo>
                  <a:pt x="32" y="922"/>
                </a:lnTo>
                <a:lnTo>
                  <a:pt x="32" y="938"/>
                </a:lnTo>
                <a:lnTo>
                  <a:pt x="16" y="922"/>
                </a:lnTo>
                <a:lnTo>
                  <a:pt x="16" y="922"/>
                </a:lnTo>
                <a:lnTo>
                  <a:pt x="16" y="922"/>
                </a:lnTo>
                <a:lnTo>
                  <a:pt x="0" y="906"/>
                </a:lnTo>
                <a:lnTo>
                  <a:pt x="16" y="906"/>
                </a:lnTo>
                <a:lnTo>
                  <a:pt x="0" y="906"/>
                </a:lnTo>
                <a:lnTo>
                  <a:pt x="16" y="890"/>
                </a:lnTo>
                <a:lnTo>
                  <a:pt x="16" y="874"/>
                </a:lnTo>
                <a:lnTo>
                  <a:pt x="16" y="874"/>
                </a:lnTo>
                <a:lnTo>
                  <a:pt x="16" y="857"/>
                </a:lnTo>
                <a:lnTo>
                  <a:pt x="16" y="857"/>
                </a:lnTo>
                <a:lnTo>
                  <a:pt x="32" y="841"/>
                </a:lnTo>
                <a:lnTo>
                  <a:pt x="16" y="825"/>
                </a:lnTo>
                <a:lnTo>
                  <a:pt x="16" y="825"/>
                </a:lnTo>
                <a:lnTo>
                  <a:pt x="32" y="809"/>
                </a:lnTo>
                <a:lnTo>
                  <a:pt x="32" y="825"/>
                </a:lnTo>
                <a:lnTo>
                  <a:pt x="32" y="809"/>
                </a:lnTo>
                <a:lnTo>
                  <a:pt x="32" y="825"/>
                </a:lnTo>
                <a:lnTo>
                  <a:pt x="49" y="809"/>
                </a:lnTo>
                <a:lnTo>
                  <a:pt x="49" y="793"/>
                </a:lnTo>
                <a:lnTo>
                  <a:pt x="49" y="777"/>
                </a:lnTo>
                <a:lnTo>
                  <a:pt x="65" y="777"/>
                </a:lnTo>
                <a:lnTo>
                  <a:pt x="65" y="760"/>
                </a:lnTo>
                <a:lnTo>
                  <a:pt x="81" y="744"/>
                </a:lnTo>
                <a:lnTo>
                  <a:pt x="65" y="744"/>
                </a:lnTo>
                <a:lnTo>
                  <a:pt x="97" y="712"/>
                </a:lnTo>
                <a:lnTo>
                  <a:pt x="81" y="69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86320" y="2719440"/>
            <a:ext cx="657360" cy="441360"/>
          </a:xfrm>
          <a:custGeom>
            <a:avLst/>
            <a:gdLst/>
            <a:ahLst/>
            <a:rect l="l" t="t" r="r" b="b"/>
            <a:pathLst>
              <a:path w="1036" h="696">
                <a:moveTo>
                  <a:pt x="113" y="567"/>
                </a:moveTo>
                <a:lnTo>
                  <a:pt x="113" y="535"/>
                </a:lnTo>
                <a:lnTo>
                  <a:pt x="113" y="535"/>
                </a:lnTo>
                <a:lnTo>
                  <a:pt x="113" y="535"/>
                </a:lnTo>
                <a:lnTo>
                  <a:pt x="113" y="502"/>
                </a:lnTo>
                <a:lnTo>
                  <a:pt x="113" y="502"/>
                </a:lnTo>
                <a:lnTo>
                  <a:pt x="113" y="502"/>
                </a:lnTo>
                <a:lnTo>
                  <a:pt x="113" y="486"/>
                </a:lnTo>
                <a:lnTo>
                  <a:pt x="113" y="470"/>
                </a:lnTo>
                <a:lnTo>
                  <a:pt x="97" y="470"/>
                </a:lnTo>
                <a:lnTo>
                  <a:pt x="97" y="454"/>
                </a:lnTo>
                <a:lnTo>
                  <a:pt x="97" y="454"/>
                </a:lnTo>
                <a:lnTo>
                  <a:pt x="81" y="454"/>
                </a:lnTo>
                <a:lnTo>
                  <a:pt x="81" y="421"/>
                </a:lnTo>
                <a:lnTo>
                  <a:pt x="81" y="421"/>
                </a:lnTo>
                <a:lnTo>
                  <a:pt x="81" y="405"/>
                </a:lnTo>
                <a:lnTo>
                  <a:pt x="81" y="389"/>
                </a:lnTo>
                <a:lnTo>
                  <a:pt x="81" y="356"/>
                </a:lnTo>
                <a:lnTo>
                  <a:pt x="64" y="356"/>
                </a:lnTo>
                <a:lnTo>
                  <a:pt x="48" y="340"/>
                </a:lnTo>
                <a:lnTo>
                  <a:pt x="48" y="324"/>
                </a:lnTo>
                <a:lnTo>
                  <a:pt x="48" y="324"/>
                </a:lnTo>
                <a:lnTo>
                  <a:pt x="32" y="308"/>
                </a:lnTo>
                <a:lnTo>
                  <a:pt x="48" y="308"/>
                </a:lnTo>
                <a:lnTo>
                  <a:pt x="48" y="292"/>
                </a:lnTo>
                <a:lnTo>
                  <a:pt x="32" y="276"/>
                </a:lnTo>
                <a:lnTo>
                  <a:pt x="32" y="259"/>
                </a:lnTo>
                <a:lnTo>
                  <a:pt x="32" y="243"/>
                </a:lnTo>
                <a:lnTo>
                  <a:pt x="16" y="227"/>
                </a:lnTo>
                <a:lnTo>
                  <a:pt x="16" y="211"/>
                </a:lnTo>
                <a:lnTo>
                  <a:pt x="0" y="195"/>
                </a:lnTo>
                <a:lnTo>
                  <a:pt x="16" y="162"/>
                </a:lnTo>
                <a:lnTo>
                  <a:pt x="16" y="146"/>
                </a:lnTo>
                <a:lnTo>
                  <a:pt x="16" y="130"/>
                </a:lnTo>
                <a:lnTo>
                  <a:pt x="16" y="130"/>
                </a:lnTo>
                <a:lnTo>
                  <a:pt x="32" y="114"/>
                </a:lnTo>
                <a:lnTo>
                  <a:pt x="16" y="81"/>
                </a:lnTo>
                <a:lnTo>
                  <a:pt x="16" y="81"/>
                </a:lnTo>
                <a:lnTo>
                  <a:pt x="0" y="81"/>
                </a:lnTo>
                <a:lnTo>
                  <a:pt x="16" y="49"/>
                </a:lnTo>
                <a:lnTo>
                  <a:pt x="0" y="33"/>
                </a:lnTo>
                <a:lnTo>
                  <a:pt x="0" y="33"/>
                </a:lnTo>
                <a:lnTo>
                  <a:pt x="32" y="33"/>
                </a:lnTo>
                <a:lnTo>
                  <a:pt x="81" y="33"/>
                </a:lnTo>
                <a:lnTo>
                  <a:pt x="113" y="33"/>
                </a:lnTo>
                <a:lnTo>
                  <a:pt x="178" y="33"/>
                </a:lnTo>
                <a:lnTo>
                  <a:pt x="194" y="33"/>
                </a:lnTo>
                <a:lnTo>
                  <a:pt x="275" y="17"/>
                </a:lnTo>
                <a:lnTo>
                  <a:pt x="275" y="17"/>
                </a:lnTo>
                <a:lnTo>
                  <a:pt x="340" y="17"/>
                </a:lnTo>
                <a:lnTo>
                  <a:pt x="372" y="17"/>
                </a:lnTo>
                <a:lnTo>
                  <a:pt x="421" y="17"/>
                </a:lnTo>
                <a:lnTo>
                  <a:pt x="469" y="17"/>
                </a:lnTo>
                <a:lnTo>
                  <a:pt x="485" y="17"/>
                </a:lnTo>
                <a:lnTo>
                  <a:pt x="566" y="17"/>
                </a:lnTo>
                <a:lnTo>
                  <a:pt x="566" y="17"/>
                </a:lnTo>
                <a:lnTo>
                  <a:pt x="647" y="17"/>
                </a:lnTo>
                <a:lnTo>
                  <a:pt x="663" y="17"/>
                </a:lnTo>
                <a:lnTo>
                  <a:pt x="712" y="17"/>
                </a:lnTo>
                <a:lnTo>
                  <a:pt x="777" y="17"/>
                </a:lnTo>
                <a:lnTo>
                  <a:pt x="793" y="17"/>
                </a:lnTo>
                <a:lnTo>
                  <a:pt x="857" y="0"/>
                </a:lnTo>
                <a:lnTo>
                  <a:pt x="857" y="17"/>
                </a:lnTo>
                <a:lnTo>
                  <a:pt x="857" y="33"/>
                </a:lnTo>
                <a:lnTo>
                  <a:pt x="874" y="49"/>
                </a:lnTo>
                <a:lnTo>
                  <a:pt x="874" y="49"/>
                </a:lnTo>
                <a:lnTo>
                  <a:pt x="857" y="81"/>
                </a:lnTo>
                <a:lnTo>
                  <a:pt x="857" y="98"/>
                </a:lnTo>
                <a:lnTo>
                  <a:pt x="874" y="114"/>
                </a:lnTo>
                <a:lnTo>
                  <a:pt x="890" y="162"/>
                </a:lnTo>
                <a:lnTo>
                  <a:pt x="906" y="178"/>
                </a:lnTo>
                <a:lnTo>
                  <a:pt x="938" y="195"/>
                </a:lnTo>
                <a:lnTo>
                  <a:pt x="955" y="211"/>
                </a:lnTo>
                <a:lnTo>
                  <a:pt x="955" y="227"/>
                </a:lnTo>
                <a:lnTo>
                  <a:pt x="987" y="243"/>
                </a:lnTo>
                <a:lnTo>
                  <a:pt x="987" y="259"/>
                </a:lnTo>
                <a:lnTo>
                  <a:pt x="1003" y="276"/>
                </a:lnTo>
                <a:lnTo>
                  <a:pt x="1003" y="276"/>
                </a:lnTo>
                <a:lnTo>
                  <a:pt x="1036" y="292"/>
                </a:lnTo>
                <a:lnTo>
                  <a:pt x="1036" y="324"/>
                </a:lnTo>
                <a:lnTo>
                  <a:pt x="1036" y="340"/>
                </a:lnTo>
                <a:lnTo>
                  <a:pt x="1036" y="373"/>
                </a:lnTo>
                <a:lnTo>
                  <a:pt x="1019" y="373"/>
                </a:lnTo>
                <a:lnTo>
                  <a:pt x="1019" y="389"/>
                </a:lnTo>
                <a:lnTo>
                  <a:pt x="1019" y="421"/>
                </a:lnTo>
                <a:lnTo>
                  <a:pt x="1003" y="437"/>
                </a:lnTo>
                <a:lnTo>
                  <a:pt x="971" y="437"/>
                </a:lnTo>
                <a:lnTo>
                  <a:pt x="971" y="454"/>
                </a:lnTo>
                <a:lnTo>
                  <a:pt x="938" y="454"/>
                </a:lnTo>
                <a:lnTo>
                  <a:pt x="906" y="454"/>
                </a:lnTo>
                <a:lnTo>
                  <a:pt x="906" y="486"/>
                </a:lnTo>
                <a:lnTo>
                  <a:pt x="890" y="502"/>
                </a:lnTo>
                <a:lnTo>
                  <a:pt x="922" y="518"/>
                </a:lnTo>
                <a:lnTo>
                  <a:pt x="922" y="535"/>
                </a:lnTo>
                <a:lnTo>
                  <a:pt x="922" y="567"/>
                </a:lnTo>
                <a:lnTo>
                  <a:pt x="906" y="583"/>
                </a:lnTo>
                <a:lnTo>
                  <a:pt x="906" y="615"/>
                </a:lnTo>
                <a:lnTo>
                  <a:pt x="890" y="632"/>
                </a:lnTo>
                <a:lnTo>
                  <a:pt x="857" y="648"/>
                </a:lnTo>
                <a:lnTo>
                  <a:pt x="857" y="664"/>
                </a:lnTo>
                <a:lnTo>
                  <a:pt x="857" y="680"/>
                </a:lnTo>
                <a:lnTo>
                  <a:pt x="841" y="696"/>
                </a:lnTo>
                <a:lnTo>
                  <a:pt x="841" y="680"/>
                </a:lnTo>
                <a:lnTo>
                  <a:pt x="841" y="680"/>
                </a:lnTo>
                <a:lnTo>
                  <a:pt x="825" y="680"/>
                </a:lnTo>
                <a:lnTo>
                  <a:pt x="825" y="664"/>
                </a:lnTo>
                <a:lnTo>
                  <a:pt x="809" y="648"/>
                </a:lnTo>
                <a:lnTo>
                  <a:pt x="809" y="648"/>
                </a:lnTo>
                <a:lnTo>
                  <a:pt x="760" y="648"/>
                </a:lnTo>
                <a:lnTo>
                  <a:pt x="728" y="648"/>
                </a:lnTo>
                <a:lnTo>
                  <a:pt x="696" y="648"/>
                </a:lnTo>
                <a:lnTo>
                  <a:pt x="647" y="648"/>
                </a:lnTo>
                <a:lnTo>
                  <a:pt x="631" y="648"/>
                </a:lnTo>
                <a:lnTo>
                  <a:pt x="582" y="664"/>
                </a:lnTo>
                <a:lnTo>
                  <a:pt x="534" y="664"/>
                </a:lnTo>
                <a:lnTo>
                  <a:pt x="501" y="664"/>
                </a:lnTo>
                <a:lnTo>
                  <a:pt x="469" y="664"/>
                </a:lnTo>
                <a:lnTo>
                  <a:pt x="421" y="664"/>
                </a:lnTo>
                <a:lnTo>
                  <a:pt x="388" y="664"/>
                </a:lnTo>
                <a:lnTo>
                  <a:pt x="340" y="664"/>
                </a:lnTo>
                <a:lnTo>
                  <a:pt x="323" y="664"/>
                </a:lnTo>
                <a:lnTo>
                  <a:pt x="275" y="664"/>
                </a:lnTo>
                <a:lnTo>
                  <a:pt x="226" y="664"/>
                </a:lnTo>
                <a:lnTo>
                  <a:pt x="194" y="664"/>
                </a:lnTo>
                <a:lnTo>
                  <a:pt x="129" y="664"/>
                </a:lnTo>
                <a:lnTo>
                  <a:pt x="129" y="648"/>
                </a:lnTo>
                <a:lnTo>
                  <a:pt x="113" y="632"/>
                </a:lnTo>
                <a:lnTo>
                  <a:pt x="129" y="615"/>
                </a:lnTo>
                <a:lnTo>
                  <a:pt x="129" y="599"/>
                </a:lnTo>
                <a:lnTo>
                  <a:pt x="113" y="56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8760" y="3132000"/>
            <a:ext cx="739800" cy="636840"/>
          </a:xfrm>
          <a:custGeom>
            <a:avLst/>
            <a:gdLst/>
            <a:ahLst/>
            <a:rect l="l" t="t" r="r" b="b"/>
            <a:pathLst>
              <a:path w="1165" h="1003">
                <a:moveTo>
                  <a:pt x="211" y="809"/>
                </a:moveTo>
                <a:lnTo>
                  <a:pt x="211" y="793"/>
                </a:lnTo>
                <a:lnTo>
                  <a:pt x="211" y="728"/>
                </a:lnTo>
                <a:lnTo>
                  <a:pt x="211" y="728"/>
                </a:lnTo>
                <a:lnTo>
                  <a:pt x="211" y="663"/>
                </a:lnTo>
                <a:lnTo>
                  <a:pt x="211" y="647"/>
                </a:lnTo>
                <a:lnTo>
                  <a:pt x="211" y="582"/>
                </a:lnTo>
                <a:lnTo>
                  <a:pt x="211" y="566"/>
                </a:lnTo>
                <a:lnTo>
                  <a:pt x="211" y="501"/>
                </a:lnTo>
                <a:lnTo>
                  <a:pt x="211" y="485"/>
                </a:lnTo>
                <a:lnTo>
                  <a:pt x="211" y="421"/>
                </a:lnTo>
                <a:lnTo>
                  <a:pt x="194" y="404"/>
                </a:lnTo>
                <a:lnTo>
                  <a:pt x="194" y="356"/>
                </a:lnTo>
                <a:lnTo>
                  <a:pt x="194" y="340"/>
                </a:lnTo>
                <a:lnTo>
                  <a:pt x="194" y="323"/>
                </a:lnTo>
                <a:lnTo>
                  <a:pt x="178" y="323"/>
                </a:lnTo>
                <a:lnTo>
                  <a:pt x="146" y="291"/>
                </a:lnTo>
                <a:lnTo>
                  <a:pt x="146" y="275"/>
                </a:lnTo>
                <a:lnTo>
                  <a:pt x="146" y="275"/>
                </a:lnTo>
                <a:lnTo>
                  <a:pt x="114" y="243"/>
                </a:lnTo>
                <a:lnTo>
                  <a:pt x="130" y="226"/>
                </a:lnTo>
                <a:lnTo>
                  <a:pt x="146" y="210"/>
                </a:lnTo>
                <a:lnTo>
                  <a:pt x="162" y="194"/>
                </a:lnTo>
                <a:lnTo>
                  <a:pt x="146" y="194"/>
                </a:lnTo>
                <a:lnTo>
                  <a:pt x="146" y="178"/>
                </a:lnTo>
                <a:lnTo>
                  <a:pt x="146" y="162"/>
                </a:lnTo>
                <a:lnTo>
                  <a:pt x="114" y="178"/>
                </a:lnTo>
                <a:lnTo>
                  <a:pt x="81" y="145"/>
                </a:lnTo>
                <a:lnTo>
                  <a:pt x="65" y="129"/>
                </a:lnTo>
                <a:lnTo>
                  <a:pt x="65" y="113"/>
                </a:lnTo>
                <a:lnTo>
                  <a:pt x="49" y="97"/>
                </a:lnTo>
                <a:lnTo>
                  <a:pt x="49" y="81"/>
                </a:lnTo>
                <a:lnTo>
                  <a:pt x="33" y="81"/>
                </a:lnTo>
                <a:lnTo>
                  <a:pt x="33" y="81"/>
                </a:lnTo>
                <a:lnTo>
                  <a:pt x="33" y="65"/>
                </a:lnTo>
                <a:lnTo>
                  <a:pt x="16" y="32"/>
                </a:lnTo>
                <a:lnTo>
                  <a:pt x="16" y="16"/>
                </a:lnTo>
                <a:lnTo>
                  <a:pt x="16" y="16"/>
                </a:lnTo>
                <a:lnTo>
                  <a:pt x="16" y="32"/>
                </a:lnTo>
                <a:lnTo>
                  <a:pt x="16" y="32"/>
                </a:lnTo>
                <a:lnTo>
                  <a:pt x="0" y="16"/>
                </a:lnTo>
                <a:lnTo>
                  <a:pt x="65" y="16"/>
                </a:lnTo>
                <a:lnTo>
                  <a:pt x="97" y="16"/>
                </a:lnTo>
                <a:lnTo>
                  <a:pt x="146" y="16"/>
                </a:lnTo>
                <a:lnTo>
                  <a:pt x="194" y="16"/>
                </a:lnTo>
                <a:lnTo>
                  <a:pt x="211" y="16"/>
                </a:lnTo>
                <a:lnTo>
                  <a:pt x="259" y="16"/>
                </a:lnTo>
                <a:lnTo>
                  <a:pt x="292" y="16"/>
                </a:lnTo>
                <a:lnTo>
                  <a:pt x="340" y="16"/>
                </a:lnTo>
                <a:lnTo>
                  <a:pt x="372" y="16"/>
                </a:lnTo>
                <a:lnTo>
                  <a:pt x="405" y="16"/>
                </a:lnTo>
                <a:lnTo>
                  <a:pt x="453" y="16"/>
                </a:lnTo>
                <a:lnTo>
                  <a:pt x="502" y="0"/>
                </a:lnTo>
                <a:lnTo>
                  <a:pt x="518" y="0"/>
                </a:lnTo>
                <a:lnTo>
                  <a:pt x="567" y="0"/>
                </a:lnTo>
                <a:lnTo>
                  <a:pt x="599" y="0"/>
                </a:lnTo>
                <a:lnTo>
                  <a:pt x="631" y="0"/>
                </a:lnTo>
                <a:lnTo>
                  <a:pt x="680" y="0"/>
                </a:lnTo>
                <a:lnTo>
                  <a:pt x="680" y="0"/>
                </a:lnTo>
                <a:lnTo>
                  <a:pt x="696" y="16"/>
                </a:lnTo>
                <a:lnTo>
                  <a:pt x="696" y="32"/>
                </a:lnTo>
                <a:lnTo>
                  <a:pt x="712" y="32"/>
                </a:lnTo>
                <a:lnTo>
                  <a:pt x="712" y="32"/>
                </a:lnTo>
                <a:lnTo>
                  <a:pt x="712" y="48"/>
                </a:lnTo>
                <a:lnTo>
                  <a:pt x="712" y="65"/>
                </a:lnTo>
                <a:lnTo>
                  <a:pt x="712" y="81"/>
                </a:lnTo>
                <a:lnTo>
                  <a:pt x="712" y="113"/>
                </a:lnTo>
                <a:lnTo>
                  <a:pt x="728" y="145"/>
                </a:lnTo>
                <a:lnTo>
                  <a:pt x="728" y="162"/>
                </a:lnTo>
                <a:lnTo>
                  <a:pt x="745" y="178"/>
                </a:lnTo>
                <a:lnTo>
                  <a:pt x="745" y="194"/>
                </a:lnTo>
                <a:lnTo>
                  <a:pt x="761" y="210"/>
                </a:lnTo>
                <a:lnTo>
                  <a:pt x="809" y="259"/>
                </a:lnTo>
                <a:lnTo>
                  <a:pt x="842" y="275"/>
                </a:lnTo>
                <a:lnTo>
                  <a:pt x="858" y="291"/>
                </a:lnTo>
                <a:lnTo>
                  <a:pt x="858" y="356"/>
                </a:lnTo>
                <a:lnTo>
                  <a:pt x="874" y="372"/>
                </a:lnTo>
                <a:lnTo>
                  <a:pt x="890" y="372"/>
                </a:lnTo>
                <a:lnTo>
                  <a:pt x="907" y="340"/>
                </a:lnTo>
                <a:lnTo>
                  <a:pt x="939" y="356"/>
                </a:lnTo>
                <a:lnTo>
                  <a:pt x="955" y="372"/>
                </a:lnTo>
                <a:lnTo>
                  <a:pt x="955" y="372"/>
                </a:lnTo>
                <a:lnTo>
                  <a:pt x="955" y="388"/>
                </a:lnTo>
                <a:lnTo>
                  <a:pt x="955" y="404"/>
                </a:lnTo>
                <a:lnTo>
                  <a:pt x="955" y="421"/>
                </a:lnTo>
                <a:lnTo>
                  <a:pt x="939" y="437"/>
                </a:lnTo>
                <a:lnTo>
                  <a:pt x="939" y="437"/>
                </a:lnTo>
                <a:lnTo>
                  <a:pt x="923" y="469"/>
                </a:lnTo>
                <a:lnTo>
                  <a:pt x="923" y="501"/>
                </a:lnTo>
                <a:lnTo>
                  <a:pt x="939" y="534"/>
                </a:lnTo>
                <a:lnTo>
                  <a:pt x="955" y="534"/>
                </a:lnTo>
                <a:lnTo>
                  <a:pt x="1004" y="566"/>
                </a:lnTo>
                <a:lnTo>
                  <a:pt x="1004" y="566"/>
                </a:lnTo>
                <a:lnTo>
                  <a:pt x="1004" y="582"/>
                </a:lnTo>
                <a:lnTo>
                  <a:pt x="1020" y="566"/>
                </a:lnTo>
                <a:lnTo>
                  <a:pt x="1052" y="599"/>
                </a:lnTo>
                <a:lnTo>
                  <a:pt x="1052" y="599"/>
                </a:lnTo>
                <a:lnTo>
                  <a:pt x="1085" y="615"/>
                </a:lnTo>
                <a:lnTo>
                  <a:pt x="1085" y="647"/>
                </a:lnTo>
                <a:lnTo>
                  <a:pt x="1101" y="680"/>
                </a:lnTo>
                <a:lnTo>
                  <a:pt x="1101" y="680"/>
                </a:lnTo>
                <a:lnTo>
                  <a:pt x="1085" y="696"/>
                </a:lnTo>
                <a:lnTo>
                  <a:pt x="1085" y="696"/>
                </a:lnTo>
                <a:lnTo>
                  <a:pt x="1085" y="712"/>
                </a:lnTo>
                <a:lnTo>
                  <a:pt x="1117" y="744"/>
                </a:lnTo>
                <a:lnTo>
                  <a:pt x="1117" y="760"/>
                </a:lnTo>
                <a:lnTo>
                  <a:pt x="1117" y="760"/>
                </a:lnTo>
                <a:lnTo>
                  <a:pt x="1133" y="760"/>
                </a:lnTo>
                <a:lnTo>
                  <a:pt x="1117" y="744"/>
                </a:lnTo>
                <a:lnTo>
                  <a:pt x="1133" y="744"/>
                </a:lnTo>
                <a:lnTo>
                  <a:pt x="1149" y="760"/>
                </a:lnTo>
                <a:lnTo>
                  <a:pt x="1149" y="760"/>
                </a:lnTo>
                <a:lnTo>
                  <a:pt x="1165" y="777"/>
                </a:lnTo>
                <a:lnTo>
                  <a:pt x="1149" y="793"/>
                </a:lnTo>
                <a:lnTo>
                  <a:pt x="1149" y="793"/>
                </a:lnTo>
                <a:lnTo>
                  <a:pt x="1165" y="809"/>
                </a:lnTo>
                <a:lnTo>
                  <a:pt x="1149" y="825"/>
                </a:lnTo>
                <a:lnTo>
                  <a:pt x="1149" y="841"/>
                </a:lnTo>
                <a:lnTo>
                  <a:pt x="1149" y="858"/>
                </a:lnTo>
                <a:lnTo>
                  <a:pt x="1117" y="841"/>
                </a:lnTo>
                <a:lnTo>
                  <a:pt x="1117" y="841"/>
                </a:lnTo>
                <a:lnTo>
                  <a:pt x="1117" y="874"/>
                </a:lnTo>
                <a:lnTo>
                  <a:pt x="1101" y="890"/>
                </a:lnTo>
                <a:lnTo>
                  <a:pt x="1101" y="874"/>
                </a:lnTo>
                <a:lnTo>
                  <a:pt x="1101" y="858"/>
                </a:lnTo>
                <a:lnTo>
                  <a:pt x="1085" y="858"/>
                </a:lnTo>
                <a:lnTo>
                  <a:pt x="1085" y="874"/>
                </a:lnTo>
                <a:lnTo>
                  <a:pt x="1101" y="874"/>
                </a:lnTo>
                <a:lnTo>
                  <a:pt x="1101" y="906"/>
                </a:lnTo>
                <a:lnTo>
                  <a:pt x="1085" y="906"/>
                </a:lnTo>
                <a:lnTo>
                  <a:pt x="1101" y="922"/>
                </a:lnTo>
                <a:lnTo>
                  <a:pt x="1068" y="938"/>
                </a:lnTo>
                <a:lnTo>
                  <a:pt x="1085" y="938"/>
                </a:lnTo>
                <a:lnTo>
                  <a:pt x="1085" y="955"/>
                </a:lnTo>
                <a:lnTo>
                  <a:pt x="1068" y="971"/>
                </a:lnTo>
                <a:lnTo>
                  <a:pt x="1068" y="987"/>
                </a:lnTo>
                <a:lnTo>
                  <a:pt x="1020" y="987"/>
                </a:lnTo>
                <a:lnTo>
                  <a:pt x="971" y="1003"/>
                </a:lnTo>
                <a:lnTo>
                  <a:pt x="955" y="1003"/>
                </a:lnTo>
                <a:lnTo>
                  <a:pt x="955" y="971"/>
                </a:lnTo>
                <a:lnTo>
                  <a:pt x="987" y="955"/>
                </a:lnTo>
                <a:lnTo>
                  <a:pt x="1004" y="938"/>
                </a:lnTo>
                <a:lnTo>
                  <a:pt x="1004" y="906"/>
                </a:lnTo>
                <a:lnTo>
                  <a:pt x="987" y="906"/>
                </a:lnTo>
                <a:lnTo>
                  <a:pt x="987" y="890"/>
                </a:lnTo>
                <a:lnTo>
                  <a:pt x="971" y="890"/>
                </a:lnTo>
                <a:lnTo>
                  <a:pt x="907" y="890"/>
                </a:lnTo>
                <a:lnTo>
                  <a:pt x="874" y="890"/>
                </a:lnTo>
                <a:lnTo>
                  <a:pt x="809" y="890"/>
                </a:lnTo>
                <a:lnTo>
                  <a:pt x="761" y="890"/>
                </a:lnTo>
                <a:lnTo>
                  <a:pt x="761" y="890"/>
                </a:lnTo>
                <a:lnTo>
                  <a:pt x="712" y="906"/>
                </a:lnTo>
                <a:lnTo>
                  <a:pt x="648" y="906"/>
                </a:lnTo>
                <a:lnTo>
                  <a:pt x="631" y="906"/>
                </a:lnTo>
                <a:lnTo>
                  <a:pt x="567" y="906"/>
                </a:lnTo>
                <a:lnTo>
                  <a:pt x="534" y="906"/>
                </a:lnTo>
                <a:lnTo>
                  <a:pt x="518" y="906"/>
                </a:lnTo>
                <a:lnTo>
                  <a:pt x="437" y="906"/>
                </a:lnTo>
                <a:lnTo>
                  <a:pt x="437" y="906"/>
                </a:lnTo>
                <a:lnTo>
                  <a:pt x="389" y="906"/>
                </a:lnTo>
                <a:lnTo>
                  <a:pt x="340" y="906"/>
                </a:lnTo>
                <a:lnTo>
                  <a:pt x="308" y="906"/>
                </a:lnTo>
                <a:lnTo>
                  <a:pt x="211" y="922"/>
                </a:lnTo>
                <a:lnTo>
                  <a:pt x="211" y="874"/>
                </a:lnTo>
                <a:lnTo>
                  <a:pt x="211" y="858"/>
                </a:lnTo>
                <a:lnTo>
                  <a:pt x="211" y="8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91480" y="2165400"/>
            <a:ext cx="174600" cy="380880"/>
          </a:xfrm>
          <a:custGeom>
            <a:avLst/>
            <a:gdLst/>
            <a:ahLst/>
            <a:rect l="l" t="t" r="r" b="b"/>
            <a:pathLst>
              <a:path w="275" h="599">
                <a:moveTo>
                  <a:pt x="113" y="583"/>
                </a:moveTo>
                <a:lnTo>
                  <a:pt x="113" y="583"/>
                </a:lnTo>
                <a:lnTo>
                  <a:pt x="65" y="599"/>
                </a:lnTo>
                <a:lnTo>
                  <a:pt x="32" y="599"/>
                </a:lnTo>
                <a:lnTo>
                  <a:pt x="16" y="583"/>
                </a:lnTo>
                <a:lnTo>
                  <a:pt x="16" y="567"/>
                </a:lnTo>
                <a:lnTo>
                  <a:pt x="16" y="551"/>
                </a:lnTo>
                <a:lnTo>
                  <a:pt x="0" y="518"/>
                </a:lnTo>
                <a:lnTo>
                  <a:pt x="0" y="502"/>
                </a:lnTo>
                <a:lnTo>
                  <a:pt x="0" y="486"/>
                </a:lnTo>
                <a:lnTo>
                  <a:pt x="0" y="437"/>
                </a:lnTo>
                <a:lnTo>
                  <a:pt x="0" y="421"/>
                </a:lnTo>
                <a:lnTo>
                  <a:pt x="0" y="389"/>
                </a:lnTo>
                <a:lnTo>
                  <a:pt x="16" y="373"/>
                </a:lnTo>
                <a:lnTo>
                  <a:pt x="16" y="357"/>
                </a:lnTo>
                <a:lnTo>
                  <a:pt x="16" y="340"/>
                </a:lnTo>
                <a:lnTo>
                  <a:pt x="16" y="324"/>
                </a:lnTo>
                <a:lnTo>
                  <a:pt x="16" y="324"/>
                </a:lnTo>
                <a:lnTo>
                  <a:pt x="16" y="308"/>
                </a:lnTo>
                <a:lnTo>
                  <a:pt x="16" y="292"/>
                </a:lnTo>
                <a:lnTo>
                  <a:pt x="0" y="259"/>
                </a:lnTo>
                <a:lnTo>
                  <a:pt x="16" y="259"/>
                </a:lnTo>
                <a:lnTo>
                  <a:pt x="32" y="243"/>
                </a:lnTo>
                <a:lnTo>
                  <a:pt x="48" y="227"/>
                </a:lnTo>
                <a:lnTo>
                  <a:pt x="65" y="211"/>
                </a:lnTo>
                <a:lnTo>
                  <a:pt x="65" y="195"/>
                </a:lnTo>
                <a:lnTo>
                  <a:pt x="65" y="179"/>
                </a:lnTo>
                <a:lnTo>
                  <a:pt x="65" y="179"/>
                </a:lnTo>
                <a:lnTo>
                  <a:pt x="48" y="146"/>
                </a:lnTo>
                <a:lnTo>
                  <a:pt x="48" y="114"/>
                </a:lnTo>
                <a:lnTo>
                  <a:pt x="48" y="98"/>
                </a:lnTo>
                <a:lnTo>
                  <a:pt x="48" y="81"/>
                </a:lnTo>
                <a:lnTo>
                  <a:pt x="48" y="81"/>
                </a:lnTo>
                <a:lnTo>
                  <a:pt x="48" y="65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65" y="17"/>
                </a:lnTo>
                <a:lnTo>
                  <a:pt x="97" y="17"/>
                </a:lnTo>
                <a:lnTo>
                  <a:pt x="97" y="0"/>
                </a:lnTo>
                <a:lnTo>
                  <a:pt x="162" y="211"/>
                </a:lnTo>
                <a:lnTo>
                  <a:pt x="194" y="324"/>
                </a:lnTo>
                <a:lnTo>
                  <a:pt x="210" y="373"/>
                </a:lnTo>
                <a:lnTo>
                  <a:pt x="226" y="405"/>
                </a:lnTo>
                <a:lnTo>
                  <a:pt x="243" y="421"/>
                </a:lnTo>
                <a:lnTo>
                  <a:pt x="259" y="437"/>
                </a:lnTo>
                <a:lnTo>
                  <a:pt x="259" y="454"/>
                </a:lnTo>
                <a:lnTo>
                  <a:pt x="243" y="454"/>
                </a:lnTo>
                <a:lnTo>
                  <a:pt x="259" y="470"/>
                </a:lnTo>
                <a:lnTo>
                  <a:pt x="243" y="470"/>
                </a:lnTo>
                <a:lnTo>
                  <a:pt x="259" y="470"/>
                </a:lnTo>
                <a:lnTo>
                  <a:pt x="259" y="470"/>
                </a:lnTo>
                <a:lnTo>
                  <a:pt x="275" y="470"/>
                </a:lnTo>
                <a:lnTo>
                  <a:pt x="275" y="502"/>
                </a:lnTo>
                <a:lnTo>
                  <a:pt x="259" y="502"/>
                </a:lnTo>
                <a:lnTo>
                  <a:pt x="243" y="518"/>
                </a:lnTo>
                <a:lnTo>
                  <a:pt x="243" y="535"/>
                </a:lnTo>
                <a:lnTo>
                  <a:pt x="226" y="535"/>
                </a:lnTo>
                <a:lnTo>
                  <a:pt x="226" y="551"/>
                </a:lnTo>
                <a:lnTo>
                  <a:pt x="210" y="551"/>
                </a:lnTo>
                <a:lnTo>
                  <a:pt x="210" y="551"/>
                </a:lnTo>
                <a:lnTo>
                  <a:pt x="210" y="567"/>
                </a:lnTo>
                <a:lnTo>
                  <a:pt x="113" y="58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96360" y="2792520"/>
            <a:ext cx="144360" cy="328680"/>
          </a:xfrm>
          <a:custGeom>
            <a:avLst/>
            <a:gdLst/>
            <a:ahLst/>
            <a:rect l="l" t="t" r="r" b="b"/>
            <a:pathLst>
              <a:path w="227" h="518">
                <a:moveTo>
                  <a:pt x="16" y="372"/>
                </a:moveTo>
                <a:lnTo>
                  <a:pt x="16" y="356"/>
                </a:lnTo>
                <a:lnTo>
                  <a:pt x="16" y="356"/>
                </a:lnTo>
                <a:lnTo>
                  <a:pt x="33" y="340"/>
                </a:lnTo>
                <a:lnTo>
                  <a:pt x="49" y="340"/>
                </a:lnTo>
                <a:lnTo>
                  <a:pt x="49" y="323"/>
                </a:lnTo>
                <a:lnTo>
                  <a:pt x="49" y="307"/>
                </a:lnTo>
                <a:lnTo>
                  <a:pt x="65" y="307"/>
                </a:lnTo>
                <a:lnTo>
                  <a:pt x="81" y="291"/>
                </a:lnTo>
                <a:lnTo>
                  <a:pt x="114" y="259"/>
                </a:lnTo>
                <a:lnTo>
                  <a:pt x="65" y="226"/>
                </a:lnTo>
                <a:lnTo>
                  <a:pt x="65" y="210"/>
                </a:lnTo>
                <a:lnTo>
                  <a:pt x="49" y="210"/>
                </a:lnTo>
                <a:lnTo>
                  <a:pt x="33" y="178"/>
                </a:lnTo>
                <a:lnTo>
                  <a:pt x="16" y="178"/>
                </a:lnTo>
                <a:lnTo>
                  <a:pt x="16" y="178"/>
                </a:lnTo>
                <a:lnTo>
                  <a:pt x="16" y="178"/>
                </a:lnTo>
                <a:lnTo>
                  <a:pt x="0" y="145"/>
                </a:lnTo>
                <a:lnTo>
                  <a:pt x="16" y="129"/>
                </a:lnTo>
                <a:lnTo>
                  <a:pt x="16" y="113"/>
                </a:lnTo>
                <a:lnTo>
                  <a:pt x="16" y="113"/>
                </a:lnTo>
                <a:lnTo>
                  <a:pt x="0" y="97"/>
                </a:lnTo>
                <a:lnTo>
                  <a:pt x="33" y="64"/>
                </a:lnTo>
                <a:lnTo>
                  <a:pt x="16" y="64"/>
                </a:lnTo>
                <a:lnTo>
                  <a:pt x="33" y="48"/>
                </a:lnTo>
                <a:lnTo>
                  <a:pt x="33" y="16"/>
                </a:lnTo>
                <a:lnTo>
                  <a:pt x="65" y="0"/>
                </a:lnTo>
                <a:lnTo>
                  <a:pt x="114" y="16"/>
                </a:lnTo>
                <a:lnTo>
                  <a:pt x="146" y="32"/>
                </a:lnTo>
                <a:lnTo>
                  <a:pt x="146" y="32"/>
                </a:lnTo>
                <a:lnTo>
                  <a:pt x="194" y="48"/>
                </a:lnTo>
                <a:lnTo>
                  <a:pt x="211" y="64"/>
                </a:lnTo>
                <a:lnTo>
                  <a:pt x="211" y="64"/>
                </a:lnTo>
                <a:lnTo>
                  <a:pt x="194" y="81"/>
                </a:lnTo>
                <a:lnTo>
                  <a:pt x="194" y="113"/>
                </a:lnTo>
                <a:lnTo>
                  <a:pt x="178" y="129"/>
                </a:lnTo>
                <a:lnTo>
                  <a:pt x="178" y="113"/>
                </a:lnTo>
                <a:lnTo>
                  <a:pt x="178" y="113"/>
                </a:lnTo>
                <a:lnTo>
                  <a:pt x="178" y="145"/>
                </a:lnTo>
                <a:lnTo>
                  <a:pt x="162" y="162"/>
                </a:lnTo>
                <a:lnTo>
                  <a:pt x="162" y="162"/>
                </a:lnTo>
                <a:lnTo>
                  <a:pt x="178" y="178"/>
                </a:lnTo>
                <a:lnTo>
                  <a:pt x="194" y="162"/>
                </a:lnTo>
                <a:lnTo>
                  <a:pt x="227" y="194"/>
                </a:lnTo>
                <a:lnTo>
                  <a:pt x="227" y="242"/>
                </a:lnTo>
                <a:lnTo>
                  <a:pt x="211" y="242"/>
                </a:lnTo>
                <a:lnTo>
                  <a:pt x="211" y="242"/>
                </a:lnTo>
                <a:lnTo>
                  <a:pt x="227" y="242"/>
                </a:lnTo>
                <a:lnTo>
                  <a:pt x="227" y="242"/>
                </a:lnTo>
                <a:lnTo>
                  <a:pt x="211" y="259"/>
                </a:lnTo>
                <a:lnTo>
                  <a:pt x="227" y="259"/>
                </a:lnTo>
                <a:lnTo>
                  <a:pt x="211" y="291"/>
                </a:lnTo>
                <a:lnTo>
                  <a:pt x="227" y="323"/>
                </a:lnTo>
                <a:lnTo>
                  <a:pt x="211" y="356"/>
                </a:lnTo>
                <a:lnTo>
                  <a:pt x="211" y="356"/>
                </a:lnTo>
                <a:lnTo>
                  <a:pt x="211" y="372"/>
                </a:lnTo>
                <a:lnTo>
                  <a:pt x="194" y="372"/>
                </a:lnTo>
                <a:lnTo>
                  <a:pt x="194" y="388"/>
                </a:lnTo>
                <a:lnTo>
                  <a:pt x="194" y="404"/>
                </a:lnTo>
                <a:lnTo>
                  <a:pt x="194" y="404"/>
                </a:lnTo>
                <a:lnTo>
                  <a:pt x="162" y="437"/>
                </a:lnTo>
                <a:lnTo>
                  <a:pt x="178" y="437"/>
                </a:lnTo>
                <a:lnTo>
                  <a:pt x="178" y="437"/>
                </a:lnTo>
                <a:lnTo>
                  <a:pt x="146" y="501"/>
                </a:lnTo>
                <a:lnTo>
                  <a:pt x="146" y="501"/>
                </a:lnTo>
                <a:lnTo>
                  <a:pt x="146" y="518"/>
                </a:lnTo>
                <a:lnTo>
                  <a:pt x="130" y="518"/>
                </a:lnTo>
                <a:lnTo>
                  <a:pt x="130" y="485"/>
                </a:lnTo>
                <a:lnTo>
                  <a:pt x="130" y="469"/>
                </a:lnTo>
                <a:lnTo>
                  <a:pt x="114" y="469"/>
                </a:lnTo>
                <a:lnTo>
                  <a:pt x="97" y="469"/>
                </a:lnTo>
                <a:lnTo>
                  <a:pt x="33" y="453"/>
                </a:lnTo>
                <a:lnTo>
                  <a:pt x="16" y="421"/>
                </a:lnTo>
                <a:lnTo>
                  <a:pt x="16" y="404"/>
                </a:lnTo>
                <a:lnTo>
                  <a:pt x="0" y="404"/>
                </a:lnTo>
                <a:lnTo>
                  <a:pt x="16" y="37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62600" y="3470400"/>
            <a:ext cx="966960" cy="420480"/>
          </a:xfrm>
          <a:custGeom>
            <a:avLst/>
            <a:gdLst/>
            <a:ahLst/>
            <a:rect l="l" t="t" r="r" b="b"/>
            <a:pathLst>
              <a:path w="1522" h="663">
                <a:moveTo>
                  <a:pt x="1441" y="65"/>
                </a:moveTo>
                <a:lnTo>
                  <a:pt x="1489" y="146"/>
                </a:lnTo>
                <a:lnTo>
                  <a:pt x="1457" y="97"/>
                </a:lnTo>
                <a:lnTo>
                  <a:pt x="1457" y="97"/>
                </a:lnTo>
                <a:lnTo>
                  <a:pt x="1441" y="65"/>
                </a:lnTo>
                <a:lnTo>
                  <a:pt x="1392" y="0"/>
                </a:lnTo>
                <a:lnTo>
                  <a:pt x="1408" y="0"/>
                </a:lnTo>
                <a:lnTo>
                  <a:pt x="1441" y="65"/>
                </a:lnTo>
                <a:lnTo>
                  <a:pt x="1441" y="65"/>
                </a:lnTo>
                <a:close/>
                <a:moveTo>
                  <a:pt x="1376" y="0"/>
                </a:moveTo>
                <a:lnTo>
                  <a:pt x="1376" y="0"/>
                </a:lnTo>
                <a:lnTo>
                  <a:pt x="1392" y="0"/>
                </a:lnTo>
                <a:lnTo>
                  <a:pt x="1392" y="16"/>
                </a:lnTo>
                <a:lnTo>
                  <a:pt x="1392" y="16"/>
                </a:lnTo>
                <a:lnTo>
                  <a:pt x="1392" y="16"/>
                </a:lnTo>
                <a:lnTo>
                  <a:pt x="1376" y="0"/>
                </a:lnTo>
                <a:lnTo>
                  <a:pt x="1376" y="0"/>
                </a:lnTo>
                <a:close/>
                <a:moveTo>
                  <a:pt x="65" y="582"/>
                </a:moveTo>
                <a:lnTo>
                  <a:pt x="49" y="582"/>
                </a:lnTo>
                <a:lnTo>
                  <a:pt x="33" y="582"/>
                </a:lnTo>
                <a:lnTo>
                  <a:pt x="0" y="582"/>
                </a:lnTo>
                <a:lnTo>
                  <a:pt x="0" y="534"/>
                </a:lnTo>
                <a:lnTo>
                  <a:pt x="0" y="518"/>
                </a:lnTo>
                <a:lnTo>
                  <a:pt x="33" y="518"/>
                </a:lnTo>
                <a:lnTo>
                  <a:pt x="33" y="518"/>
                </a:lnTo>
                <a:lnTo>
                  <a:pt x="33" y="485"/>
                </a:lnTo>
                <a:lnTo>
                  <a:pt x="49" y="469"/>
                </a:lnTo>
                <a:lnTo>
                  <a:pt x="81" y="453"/>
                </a:lnTo>
                <a:lnTo>
                  <a:pt x="97" y="437"/>
                </a:lnTo>
                <a:lnTo>
                  <a:pt x="130" y="437"/>
                </a:lnTo>
                <a:lnTo>
                  <a:pt x="162" y="404"/>
                </a:lnTo>
                <a:lnTo>
                  <a:pt x="162" y="404"/>
                </a:lnTo>
                <a:lnTo>
                  <a:pt x="178" y="388"/>
                </a:lnTo>
                <a:lnTo>
                  <a:pt x="211" y="372"/>
                </a:lnTo>
                <a:lnTo>
                  <a:pt x="227" y="340"/>
                </a:lnTo>
                <a:lnTo>
                  <a:pt x="243" y="340"/>
                </a:lnTo>
                <a:lnTo>
                  <a:pt x="243" y="324"/>
                </a:lnTo>
                <a:lnTo>
                  <a:pt x="259" y="307"/>
                </a:lnTo>
                <a:lnTo>
                  <a:pt x="276" y="340"/>
                </a:lnTo>
                <a:lnTo>
                  <a:pt x="292" y="324"/>
                </a:lnTo>
                <a:lnTo>
                  <a:pt x="292" y="307"/>
                </a:lnTo>
                <a:lnTo>
                  <a:pt x="340" y="275"/>
                </a:lnTo>
                <a:lnTo>
                  <a:pt x="356" y="291"/>
                </a:lnTo>
                <a:lnTo>
                  <a:pt x="373" y="275"/>
                </a:lnTo>
                <a:lnTo>
                  <a:pt x="373" y="243"/>
                </a:lnTo>
                <a:lnTo>
                  <a:pt x="373" y="243"/>
                </a:lnTo>
                <a:lnTo>
                  <a:pt x="389" y="226"/>
                </a:lnTo>
                <a:lnTo>
                  <a:pt x="405" y="226"/>
                </a:lnTo>
                <a:lnTo>
                  <a:pt x="405" y="210"/>
                </a:lnTo>
                <a:lnTo>
                  <a:pt x="405" y="178"/>
                </a:lnTo>
                <a:lnTo>
                  <a:pt x="470" y="162"/>
                </a:lnTo>
                <a:lnTo>
                  <a:pt x="551" y="162"/>
                </a:lnTo>
                <a:lnTo>
                  <a:pt x="551" y="162"/>
                </a:lnTo>
                <a:lnTo>
                  <a:pt x="599" y="146"/>
                </a:lnTo>
                <a:lnTo>
                  <a:pt x="632" y="146"/>
                </a:lnTo>
                <a:lnTo>
                  <a:pt x="696" y="146"/>
                </a:lnTo>
                <a:lnTo>
                  <a:pt x="696" y="129"/>
                </a:lnTo>
                <a:lnTo>
                  <a:pt x="745" y="129"/>
                </a:lnTo>
                <a:lnTo>
                  <a:pt x="777" y="129"/>
                </a:lnTo>
                <a:lnTo>
                  <a:pt x="826" y="113"/>
                </a:lnTo>
                <a:lnTo>
                  <a:pt x="842" y="113"/>
                </a:lnTo>
                <a:lnTo>
                  <a:pt x="907" y="97"/>
                </a:lnTo>
                <a:lnTo>
                  <a:pt x="923" y="97"/>
                </a:lnTo>
                <a:lnTo>
                  <a:pt x="955" y="97"/>
                </a:lnTo>
                <a:lnTo>
                  <a:pt x="988" y="81"/>
                </a:lnTo>
                <a:lnTo>
                  <a:pt x="1036" y="81"/>
                </a:lnTo>
                <a:lnTo>
                  <a:pt x="1052" y="65"/>
                </a:lnTo>
                <a:lnTo>
                  <a:pt x="1085" y="65"/>
                </a:lnTo>
                <a:lnTo>
                  <a:pt x="1149" y="48"/>
                </a:lnTo>
                <a:lnTo>
                  <a:pt x="1182" y="48"/>
                </a:lnTo>
                <a:lnTo>
                  <a:pt x="1230" y="32"/>
                </a:lnTo>
                <a:lnTo>
                  <a:pt x="1230" y="32"/>
                </a:lnTo>
                <a:lnTo>
                  <a:pt x="1279" y="16"/>
                </a:lnTo>
                <a:lnTo>
                  <a:pt x="1295" y="16"/>
                </a:lnTo>
                <a:lnTo>
                  <a:pt x="1327" y="16"/>
                </a:lnTo>
                <a:lnTo>
                  <a:pt x="1360" y="0"/>
                </a:lnTo>
                <a:lnTo>
                  <a:pt x="1376" y="0"/>
                </a:lnTo>
                <a:lnTo>
                  <a:pt x="1376" y="16"/>
                </a:lnTo>
                <a:lnTo>
                  <a:pt x="1376" y="16"/>
                </a:lnTo>
                <a:lnTo>
                  <a:pt x="1392" y="32"/>
                </a:lnTo>
                <a:lnTo>
                  <a:pt x="1392" y="32"/>
                </a:lnTo>
                <a:lnTo>
                  <a:pt x="1392" y="32"/>
                </a:lnTo>
                <a:lnTo>
                  <a:pt x="1392" y="48"/>
                </a:lnTo>
                <a:lnTo>
                  <a:pt x="1392" y="32"/>
                </a:lnTo>
                <a:lnTo>
                  <a:pt x="1408" y="48"/>
                </a:lnTo>
                <a:lnTo>
                  <a:pt x="1441" y="97"/>
                </a:lnTo>
                <a:lnTo>
                  <a:pt x="1441" y="97"/>
                </a:lnTo>
                <a:lnTo>
                  <a:pt x="1425" y="97"/>
                </a:lnTo>
                <a:lnTo>
                  <a:pt x="1408" y="65"/>
                </a:lnTo>
                <a:lnTo>
                  <a:pt x="1408" y="65"/>
                </a:lnTo>
                <a:lnTo>
                  <a:pt x="1408" y="65"/>
                </a:lnTo>
                <a:lnTo>
                  <a:pt x="1392" y="48"/>
                </a:lnTo>
                <a:lnTo>
                  <a:pt x="1408" y="81"/>
                </a:lnTo>
                <a:lnTo>
                  <a:pt x="1408" y="81"/>
                </a:lnTo>
                <a:lnTo>
                  <a:pt x="1360" y="65"/>
                </a:lnTo>
                <a:lnTo>
                  <a:pt x="1360" y="65"/>
                </a:lnTo>
                <a:lnTo>
                  <a:pt x="1376" y="97"/>
                </a:lnTo>
                <a:lnTo>
                  <a:pt x="1376" y="97"/>
                </a:lnTo>
                <a:lnTo>
                  <a:pt x="1360" y="97"/>
                </a:lnTo>
                <a:lnTo>
                  <a:pt x="1344" y="81"/>
                </a:lnTo>
                <a:lnTo>
                  <a:pt x="1360" y="113"/>
                </a:lnTo>
                <a:lnTo>
                  <a:pt x="1327" y="129"/>
                </a:lnTo>
                <a:lnTo>
                  <a:pt x="1327" y="129"/>
                </a:lnTo>
                <a:lnTo>
                  <a:pt x="1311" y="146"/>
                </a:lnTo>
                <a:lnTo>
                  <a:pt x="1311" y="146"/>
                </a:lnTo>
                <a:lnTo>
                  <a:pt x="1295" y="129"/>
                </a:lnTo>
                <a:lnTo>
                  <a:pt x="1295" y="146"/>
                </a:lnTo>
                <a:lnTo>
                  <a:pt x="1279" y="129"/>
                </a:lnTo>
                <a:lnTo>
                  <a:pt x="1279" y="113"/>
                </a:lnTo>
                <a:lnTo>
                  <a:pt x="1279" y="81"/>
                </a:lnTo>
                <a:lnTo>
                  <a:pt x="1263" y="81"/>
                </a:lnTo>
                <a:lnTo>
                  <a:pt x="1230" y="65"/>
                </a:lnTo>
                <a:lnTo>
                  <a:pt x="1263" y="81"/>
                </a:lnTo>
                <a:lnTo>
                  <a:pt x="1279" y="97"/>
                </a:lnTo>
                <a:lnTo>
                  <a:pt x="1263" y="97"/>
                </a:lnTo>
                <a:lnTo>
                  <a:pt x="1263" y="113"/>
                </a:lnTo>
                <a:lnTo>
                  <a:pt x="1295" y="146"/>
                </a:lnTo>
                <a:lnTo>
                  <a:pt x="1279" y="162"/>
                </a:lnTo>
                <a:lnTo>
                  <a:pt x="1295" y="162"/>
                </a:lnTo>
                <a:lnTo>
                  <a:pt x="1344" y="146"/>
                </a:lnTo>
                <a:lnTo>
                  <a:pt x="1344" y="146"/>
                </a:lnTo>
                <a:lnTo>
                  <a:pt x="1376" y="129"/>
                </a:lnTo>
                <a:lnTo>
                  <a:pt x="1392" y="129"/>
                </a:lnTo>
                <a:lnTo>
                  <a:pt x="1408" y="146"/>
                </a:lnTo>
                <a:lnTo>
                  <a:pt x="1408" y="178"/>
                </a:lnTo>
                <a:lnTo>
                  <a:pt x="1408" y="194"/>
                </a:lnTo>
                <a:lnTo>
                  <a:pt x="1392" y="194"/>
                </a:lnTo>
                <a:lnTo>
                  <a:pt x="1408" y="194"/>
                </a:lnTo>
                <a:lnTo>
                  <a:pt x="1425" y="194"/>
                </a:lnTo>
                <a:lnTo>
                  <a:pt x="1408" y="146"/>
                </a:lnTo>
                <a:lnTo>
                  <a:pt x="1441" y="129"/>
                </a:lnTo>
                <a:lnTo>
                  <a:pt x="1457" y="146"/>
                </a:lnTo>
                <a:lnTo>
                  <a:pt x="1473" y="178"/>
                </a:lnTo>
                <a:lnTo>
                  <a:pt x="1457" y="210"/>
                </a:lnTo>
                <a:lnTo>
                  <a:pt x="1441" y="194"/>
                </a:lnTo>
                <a:lnTo>
                  <a:pt x="1425" y="243"/>
                </a:lnTo>
                <a:lnTo>
                  <a:pt x="1408" y="275"/>
                </a:lnTo>
                <a:lnTo>
                  <a:pt x="1344" y="259"/>
                </a:lnTo>
                <a:lnTo>
                  <a:pt x="1344" y="259"/>
                </a:lnTo>
                <a:lnTo>
                  <a:pt x="1344" y="243"/>
                </a:lnTo>
                <a:lnTo>
                  <a:pt x="1344" y="243"/>
                </a:lnTo>
                <a:lnTo>
                  <a:pt x="1344" y="226"/>
                </a:lnTo>
                <a:lnTo>
                  <a:pt x="1344" y="243"/>
                </a:lnTo>
                <a:lnTo>
                  <a:pt x="1311" y="243"/>
                </a:lnTo>
                <a:lnTo>
                  <a:pt x="1327" y="259"/>
                </a:lnTo>
                <a:lnTo>
                  <a:pt x="1311" y="275"/>
                </a:lnTo>
                <a:lnTo>
                  <a:pt x="1230" y="259"/>
                </a:lnTo>
                <a:lnTo>
                  <a:pt x="1263" y="275"/>
                </a:lnTo>
                <a:lnTo>
                  <a:pt x="1311" y="291"/>
                </a:lnTo>
                <a:lnTo>
                  <a:pt x="1327" y="307"/>
                </a:lnTo>
                <a:lnTo>
                  <a:pt x="1344" y="291"/>
                </a:lnTo>
                <a:lnTo>
                  <a:pt x="1344" y="291"/>
                </a:lnTo>
                <a:lnTo>
                  <a:pt x="1360" y="307"/>
                </a:lnTo>
                <a:lnTo>
                  <a:pt x="1327" y="324"/>
                </a:lnTo>
                <a:lnTo>
                  <a:pt x="1344" y="324"/>
                </a:lnTo>
                <a:lnTo>
                  <a:pt x="1344" y="340"/>
                </a:lnTo>
                <a:lnTo>
                  <a:pt x="1327" y="356"/>
                </a:lnTo>
                <a:lnTo>
                  <a:pt x="1311" y="372"/>
                </a:lnTo>
                <a:lnTo>
                  <a:pt x="1295" y="372"/>
                </a:lnTo>
                <a:lnTo>
                  <a:pt x="1279" y="356"/>
                </a:lnTo>
                <a:lnTo>
                  <a:pt x="1263" y="356"/>
                </a:lnTo>
                <a:lnTo>
                  <a:pt x="1263" y="356"/>
                </a:lnTo>
                <a:lnTo>
                  <a:pt x="1279" y="356"/>
                </a:lnTo>
                <a:lnTo>
                  <a:pt x="1295" y="388"/>
                </a:lnTo>
                <a:lnTo>
                  <a:pt x="1344" y="388"/>
                </a:lnTo>
                <a:lnTo>
                  <a:pt x="1344" y="372"/>
                </a:lnTo>
                <a:lnTo>
                  <a:pt x="1360" y="356"/>
                </a:lnTo>
                <a:lnTo>
                  <a:pt x="1376" y="356"/>
                </a:lnTo>
                <a:lnTo>
                  <a:pt x="1376" y="372"/>
                </a:lnTo>
                <a:lnTo>
                  <a:pt x="1392" y="356"/>
                </a:lnTo>
                <a:lnTo>
                  <a:pt x="1392" y="356"/>
                </a:lnTo>
                <a:lnTo>
                  <a:pt x="1408" y="356"/>
                </a:lnTo>
                <a:lnTo>
                  <a:pt x="1376" y="404"/>
                </a:lnTo>
                <a:lnTo>
                  <a:pt x="1360" y="421"/>
                </a:lnTo>
                <a:lnTo>
                  <a:pt x="1279" y="437"/>
                </a:lnTo>
                <a:lnTo>
                  <a:pt x="1263" y="437"/>
                </a:lnTo>
                <a:lnTo>
                  <a:pt x="1263" y="453"/>
                </a:lnTo>
                <a:lnTo>
                  <a:pt x="1263" y="453"/>
                </a:lnTo>
                <a:lnTo>
                  <a:pt x="1214" y="502"/>
                </a:lnTo>
                <a:lnTo>
                  <a:pt x="1198" y="518"/>
                </a:lnTo>
                <a:lnTo>
                  <a:pt x="1198" y="518"/>
                </a:lnTo>
                <a:lnTo>
                  <a:pt x="1198" y="518"/>
                </a:lnTo>
                <a:lnTo>
                  <a:pt x="1182" y="550"/>
                </a:lnTo>
                <a:lnTo>
                  <a:pt x="1166" y="582"/>
                </a:lnTo>
                <a:lnTo>
                  <a:pt x="1166" y="599"/>
                </a:lnTo>
                <a:lnTo>
                  <a:pt x="1149" y="615"/>
                </a:lnTo>
                <a:lnTo>
                  <a:pt x="1149" y="582"/>
                </a:lnTo>
                <a:lnTo>
                  <a:pt x="1149" y="631"/>
                </a:lnTo>
                <a:lnTo>
                  <a:pt x="1149" y="647"/>
                </a:lnTo>
                <a:lnTo>
                  <a:pt x="1052" y="663"/>
                </a:lnTo>
                <a:lnTo>
                  <a:pt x="1036" y="663"/>
                </a:lnTo>
                <a:lnTo>
                  <a:pt x="939" y="599"/>
                </a:lnTo>
                <a:lnTo>
                  <a:pt x="874" y="534"/>
                </a:lnTo>
                <a:lnTo>
                  <a:pt x="858" y="534"/>
                </a:lnTo>
                <a:lnTo>
                  <a:pt x="826" y="502"/>
                </a:lnTo>
                <a:lnTo>
                  <a:pt x="777" y="518"/>
                </a:lnTo>
                <a:lnTo>
                  <a:pt x="712" y="518"/>
                </a:lnTo>
                <a:lnTo>
                  <a:pt x="664" y="534"/>
                </a:lnTo>
                <a:lnTo>
                  <a:pt x="615" y="534"/>
                </a:lnTo>
                <a:lnTo>
                  <a:pt x="615" y="502"/>
                </a:lnTo>
                <a:lnTo>
                  <a:pt x="615" y="502"/>
                </a:lnTo>
                <a:lnTo>
                  <a:pt x="599" y="485"/>
                </a:lnTo>
                <a:lnTo>
                  <a:pt x="583" y="469"/>
                </a:lnTo>
                <a:lnTo>
                  <a:pt x="567" y="485"/>
                </a:lnTo>
                <a:lnTo>
                  <a:pt x="567" y="485"/>
                </a:lnTo>
                <a:lnTo>
                  <a:pt x="567" y="485"/>
                </a:lnTo>
                <a:lnTo>
                  <a:pt x="567" y="469"/>
                </a:lnTo>
                <a:lnTo>
                  <a:pt x="518" y="469"/>
                </a:lnTo>
                <a:lnTo>
                  <a:pt x="518" y="469"/>
                </a:lnTo>
                <a:lnTo>
                  <a:pt x="437" y="485"/>
                </a:lnTo>
                <a:lnTo>
                  <a:pt x="421" y="485"/>
                </a:lnTo>
                <a:lnTo>
                  <a:pt x="405" y="485"/>
                </a:lnTo>
                <a:lnTo>
                  <a:pt x="356" y="485"/>
                </a:lnTo>
                <a:lnTo>
                  <a:pt x="340" y="502"/>
                </a:lnTo>
                <a:lnTo>
                  <a:pt x="324" y="485"/>
                </a:lnTo>
                <a:lnTo>
                  <a:pt x="324" y="502"/>
                </a:lnTo>
                <a:lnTo>
                  <a:pt x="308" y="502"/>
                </a:lnTo>
                <a:lnTo>
                  <a:pt x="259" y="534"/>
                </a:lnTo>
                <a:lnTo>
                  <a:pt x="243" y="534"/>
                </a:lnTo>
                <a:lnTo>
                  <a:pt x="227" y="550"/>
                </a:lnTo>
                <a:lnTo>
                  <a:pt x="211" y="550"/>
                </a:lnTo>
                <a:lnTo>
                  <a:pt x="146" y="566"/>
                </a:lnTo>
                <a:lnTo>
                  <a:pt x="130" y="566"/>
                </a:lnTo>
                <a:lnTo>
                  <a:pt x="65" y="582"/>
                </a:lnTo>
                <a:lnTo>
                  <a:pt x="65" y="582"/>
                </a:lnTo>
                <a:close/>
                <a:moveTo>
                  <a:pt x="1505" y="178"/>
                </a:moveTo>
                <a:lnTo>
                  <a:pt x="1505" y="162"/>
                </a:lnTo>
                <a:lnTo>
                  <a:pt x="1522" y="178"/>
                </a:lnTo>
                <a:lnTo>
                  <a:pt x="1522" y="275"/>
                </a:lnTo>
                <a:lnTo>
                  <a:pt x="1489" y="291"/>
                </a:lnTo>
                <a:lnTo>
                  <a:pt x="1489" y="275"/>
                </a:lnTo>
                <a:lnTo>
                  <a:pt x="1522" y="259"/>
                </a:lnTo>
                <a:lnTo>
                  <a:pt x="1522" y="194"/>
                </a:lnTo>
                <a:lnTo>
                  <a:pt x="1505" y="178"/>
                </a:lnTo>
                <a:lnTo>
                  <a:pt x="1505" y="178"/>
                </a:lnTo>
                <a:close/>
                <a:moveTo>
                  <a:pt x="1441" y="324"/>
                </a:moveTo>
                <a:lnTo>
                  <a:pt x="1457" y="307"/>
                </a:lnTo>
                <a:lnTo>
                  <a:pt x="1489" y="291"/>
                </a:lnTo>
                <a:lnTo>
                  <a:pt x="1441" y="324"/>
                </a:lnTo>
                <a:lnTo>
                  <a:pt x="1441" y="324"/>
                </a:lnTo>
                <a:close/>
                <a:moveTo>
                  <a:pt x="1376" y="453"/>
                </a:moveTo>
                <a:lnTo>
                  <a:pt x="1376" y="437"/>
                </a:lnTo>
                <a:lnTo>
                  <a:pt x="1392" y="404"/>
                </a:lnTo>
                <a:lnTo>
                  <a:pt x="1408" y="372"/>
                </a:lnTo>
                <a:lnTo>
                  <a:pt x="1376" y="453"/>
                </a:lnTo>
                <a:lnTo>
                  <a:pt x="1376" y="45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99160" y="2813040"/>
            <a:ext cx="463680" cy="534960"/>
          </a:xfrm>
          <a:custGeom>
            <a:avLst/>
            <a:gdLst/>
            <a:ahLst/>
            <a:rect l="l" t="t" r="r" b="b"/>
            <a:pathLst>
              <a:path w="729" h="842">
                <a:moveTo>
                  <a:pt x="98" y="728"/>
                </a:moveTo>
                <a:lnTo>
                  <a:pt x="81" y="728"/>
                </a:lnTo>
                <a:lnTo>
                  <a:pt x="65" y="728"/>
                </a:lnTo>
                <a:lnTo>
                  <a:pt x="65" y="696"/>
                </a:lnTo>
                <a:lnTo>
                  <a:pt x="65" y="696"/>
                </a:lnTo>
                <a:lnTo>
                  <a:pt x="49" y="647"/>
                </a:lnTo>
                <a:lnTo>
                  <a:pt x="49" y="631"/>
                </a:lnTo>
                <a:lnTo>
                  <a:pt x="49" y="599"/>
                </a:lnTo>
                <a:lnTo>
                  <a:pt x="49" y="550"/>
                </a:lnTo>
                <a:lnTo>
                  <a:pt x="49" y="534"/>
                </a:lnTo>
                <a:lnTo>
                  <a:pt x="33" y="469"/>
                </a:lnTo>
                <a:lnTo>
                  <a:pt x="33" y="453"/>
                </a:lnTo>
                <a:lnTo>
                  <a:pt x="33" y="405"/>
                </a:lnTo>
                <a:lnTo>
                  <a:pt x="17" y="372"/>
                </a:lnTo>
                <a:lnTo>
                  <a:pt x="17" y="340"/>
                </a:lnTo>
                <a:lnTo>
                  <a:pt x="17" y="324"/>
                </a:lnTo>
                <a:lnTo>
                  <a:pt x="17" y="259"/>
                </a:lnTo>
                <a:lnTo>
                  <a:pt x="17" y="259"/>
                </a:lnTo>
                <a:lnTo>
                  <a:pt x="0" y="227"/>
                </a:lnTo>
                <a:lnTo>
                  <a:pt x="0" y="210"/>
                </a:lnTo>
                <a:lnTo>
                  <a:pt x="0" y="162"/>
                </a:lnTo>
                <a:lnTo>
                  <a:pt x="65" y="162"/>
                </a:lnTo>
                <a:lnTo>
                  <a:pt x="65" y="162"/>
                </a:lnTo>
                <a:lnTo>
                  <a:pt x="146" y="146"/>
                </a:lnTo>
                <a:lnTo>
                  <a:pt x="162" y="146"/>
                </a:lnTo>
                <a:lnTo>
                  <a:pt x="211" y="130"/>
                </a:lnTo>
                <a:lnTo>
                  <a:pt x="259" y="146"/>
                </a:lnTo>
                <a:lnTo>
                  <a:pt x="292" y="162"/>
                </a:lnTo>
                <a:lnTo>
                  <a:pt x="324" y="162"/>
                </a:lnTo>
                <a:lnTo>
                  <a:pt x="324" y="162"/>
                </a:lnTo>
                <a:lnTo>
                  <a:pt x="292" y="178"/>
                </a:lnTo>
                <a:lnTo>
                  <a:pt x="308" y="194"/>
                </a:lnTo>
                <a:lnTo>
                  <a:pt x="340" y="178"/>
                </a:lnTo>
                <a:lnTo>
                  <a:pt x="373" y="194"/>
                </a:lnTo>
                <a:lnTo>
                  <a:pt x="405" y="178"/>
                </a:lnTo>
                <a:lnTo>
                  <a:pt x="454" y="146"/>
                </a:lnTo>
                <a:lnTo>
                  <a:pt x="454" y="146"/>
                </a:lnTo>
                <a:lnTo>
                  <a:pt x="502" y="146"/>
                </a:lnTo>
                <a:lnTo>
                  <a:pt x="535" y="113"/>
                </a:lnTo>
                <a:lnTo>
                  <a:pt x="551" y="81"/>
                </a:lnTo>
                <a:lnTo>
                  <a:pt x="599" y="49"/>
                </a:lnTo>
                <a:lnTo>
                  <a:pt x="680" y="0"/>
                </a:lnTo>
                <a:lnTo>
                  <a:pt x="680" y="32"/>
                </a:lnTo>
                <a:lnTo>
                  <a:pt x="696" y="113"/>
                </a:lnTo>
                <a:lnTo>
                  <a:pt x="696" y="113"/>
                </a:lnTo>
                <a:lnTo>
                  <a:pt x="713" y="194"/>
                </a:lnTo>
                <a:lnTo>
                  <a:pt x="713" y="243"/>
                </a:lnTo>
                <a:lnTo>
                  <a:pt x="713" y="259"/>
                </a:lnTo>
                <a:lnTo>
                  <a:pt x="729" y="308"/>
                </a:lnTo>
                <a:lnTo>
                  <a:pt x="696" y="324"/>
                </a:lnTo>
                <a:lnTo>
                  <a:pt x="713" y="340"/>
                </a:lnTo>
                <a:lnTo>
                  <a:pt x="713" y="356"/>
                </a:lnTo>
                <a:lnTo>
                  <a:pt x="729" y="372"/>
                </a:lnTo>
                <a:lnTo>
                  <a:pt x="713" y="405"/>
                </a:lnTo>
                <a:lnTo>
                  <a:pt x="713" y="405"/>
                </a:lnTo>
                <a:lnTo>
                  <a:pt x="713" y="437"/>
                </a:lnTo>
                <a:lnTo>
                  <a:pt x="713" y="469"/>
                </a:lnTo>
                <a:lnTo>
                  <a:pt x="696" y="469"/>
                </a:lnTo>
                <a:lnTo>
                  <a:pt x="713" y="469"/>
                </a:lnTo>
                <a:lnTo>
                  <a:pt x="696" y="486"/>
                </a:lnTo>
                <a:lnTo>
                  <a:pt x="696" y="486"/>
                </a:lnTo>
                <a:lnTo>
                  <a:pt x="696" y="502"/>
                </a:lnTo>
                <a:lnTo>
                  <a:pt x="696" y="502"/>
                </a:lnTo>
                <a:lnTo>
                  <a:pt x="696" y="534"/>
                </a:lnTo>
                <a:lnTo>
                  <a:pt x="696" y="534"/>
                </a:lnTo>
                <a:lnTo>
                  <a:pt x="680" y="550"/>
                </a:lnTo>
                <a:lnTo>
                  <a:pt x="664" y="567"/>
                </a:lnTo>
                <a:lnTo>
                  <a:pt x="648" y="583"/>
                </a:lnTo>
                <a:lnTo>
                  <a:pt x="632" y="599"/>
                </a:lnTo>
                <a:lnTo>
                  <a:pt x="615" y="599"/>
                </a:lnTo>
                <a:lnTo>
                  <a:pt x="599" y="615"/>
                </a:lnTo>
                <a:lnTo>
                  <a:pt x="599" y="631"/>
                </a:lnTo>
                <a:lnTo>
                  <a:pt x="583" y="631"/>
                </a:lnTo>
                <a:lnTo>
                  <a:pt x="567" y="647"/>
                </a:lnTo>
                <a:lnTo>
                  <a:pt x="567" y="647"/>
                </a:lnTo>
                <a:lnTo>
                  <a:pt x="567" y="664"/>
                </a:lnTo>
                <a:lnTo>
                  <a:pt x="567" y="680"/>
                </a:lnTo>
                <a:lnTo>
                  <a:pt x="567" y="680"/>
                </a:lnTo>
                <a:lnTo>
                  <a:pt x="583" y="696"/>
                </a:lnTo>
                <a:lnTo>
                  <a:pt x="567" y="696"/>
                </a:lnTo>
                <a:lnTo>
                  <a:pt x="567" y="712"/>
                </a:lnTo>
                <a:lnTo>
                  <a:pt x="551" y="712"/>
                </a:lnTo>
                <a:lnTo>
                  <a:pt x="551" y="712"/>
                </a:lnTo>
                <a:lnTo>
                  <a:pt x="551" y="696"/>
                </a:lnTo>
                <a:lnTo>
                  <a:pt x="535" y="696"/>
                </a:lnTo>
                <a:lnTo>
                  <a:pt x="535" y="696"/>
                </a:lnTo>
                <a:lnTo>
                  <a:pt x="518" y="712"/>
                </a:lnTo>
                <a:lnTo>
                  <a:pt x="518" y="728"/>
                </a:lnTo>
                <a:lnTo>
                  <a:pt x="502" y="745"/>
                </a:lnTo>
                <a:lnTo>
                  <a:pt x="518" y="777"/>
                </a:lnTo>
                <a:lnTo>
                  <a:pt x="518" y="793"/>
                </a:lnTo>
                <a:lnTo>
                  <a:pt x="502" y="793"/>
                </a:lnTo>
                <a:lnTo>
                  <a:pt x="502" y="825"/>
                </a:lnTo>
                <a:lnTo>
                  <a:pt x="470" y="842"/>
                </a:lnTo>
                <a:lnTo>
                  <a:pt x="454" y="842"/>
                </a:lnTo>
                <a:lnTo>
                  <a:pt x="454" y="825"/>
                </a:lnTo>
                <a:lnTo>
                  <a:pt x="437" y="825"/>
                </a:lnTo>
                <a:lnTo>
                  <a:pt x="437" y="809"/>
                </a:lnTo>
                <a:lnTo>
                  <a:pt x="405" y="809"/>
                </a:lnTo>
                <a:lnTo>
                  <a:pt x="389" y="777"/>
                </a:lnTo>
                <a:lnTo>
                  <a:pt x="373" y="777"/>
                </a:lnTo>
                <a:lnTo>
                  <a:pt x="356" y="809"/>
                </a:lnTo>
                <a:lnTo>
                  <a:pt x="340" y="809"/>
                </a:lnTo>
                <a:lnTo>
                  <a:pt x="324" y="809"/>
                </a:lnTo>
                <a:lnTo>
                  <a:pt x="324" y="793"/>
                </a:lnTo>
                <a:lnTo>
                  <a:pt x="292" y="793"/>
                </a:lnTo>
                <a:lnTo>
                  <a:pt x="276" y="809"/>
                </a:lnTo>
                <a:lnTo>
                  <a:pt x="276" y="809"/>
                </a:lnTo>
                <a:lnTo>
                  <a:pt x="259" y="809"/>
                </a:lnTo>
                <a:lnTo>
                  <a:pt x="227" y="793"/>
                </a:lnTo>
                <a:lnTo>
                  <a:pt x="195" y="793"/>
                </a:lnTo>
                <a:lnTo>
                  <a:pt x="162" y="793"/>
                </a:lnTo>
                <a:lnTo>
                  <a:pt x="162" y="777"/>
                </a:lnTo>
                <a:lnTo>
                  <a:pt x="146" y="745"/>
                </a:lnTo>
                <a:lnTo>
                  <a:pt x="130" y="745"/>
                </a:lnTo>
                <a:lnTo>
                  <a:pt x="130" y="728"/>
                </a:lnTo>
                <a:lnTo>
                  <a:pt x="114" y="728"/>
                </a:lnTo>
                <a:lnTo>
                  <a:pt x="98" y="72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3768840"/>
            <a:ext cx="555480" cy="422280"/>
          </a:xfrm>
          <a:custGeom>
            <a:avLst/>
            <a:gdLst/>
            <a:ahLst/>
            <a:rect l="l" t="t" r="r" b="b"/>
            <a:pathLst>
              <a:path w="874" h="664">
                <a:moveTo>
                  <a:pt x="324" y="437"/>
                </a:moveTo>
                <a:lnTo>
                  <a:pt x="308" y="437"/>
                </a:lnTo>
                <a:lnTo>
                  <a:pt x="308" y="421"/>
                </a:lnTo>
                <a:lnTo>
                  <a:pt x="308" y="421"/>
                </a:lnTo>
                <a:lnTo>
                  <a:pt x="308" y="421"/>
                </a:lnTo>
                <a:lnTo>
                  <a:pt x="308" y="421"/>
                </a:lnTo>
                <a:lnTo>
                  <a:pt x="292" y="405"/>
                </a:lnTo>
                <a:lnTo>
                  <a:pt x="292" y="389"/>
                </a:lnTo>
                <a:lnTo>
                  <a:pt x="276" y="372"/>
                </a:lnTo>
                <a:lnTo>
                  <a:pt x="259" y="372"/>
                </a:lnTo>
                <a:lnTo>
                  <a:pt x="259" y="372"/>
                </a:lnTo>
                <a:lnTo>
                  <a:pt x="243" y="356"/>
                </a:lnTo>
                <a:lnTo>
                  <a:pt x="227" y="340"/>
                </a:lnTo>
                <a:lnTo>
                  <a:pt x="211" y="324"/>
                </a:lnTo>
                <a:lnTo>
                  <a:pt x="162" y="292"/>
                </a:lnTo>
                <a:lnTo>
                  <a:pt x="146" y="292"/>
                </a:lnTo>
                <a:lnTo>
                  <a:pt x="114" y="243"/>
                </a:lnTo>
                <a:lnTo>
                  <a:pt x="114" y="227"/>
                </a:lnTo>
                <a:lnTo>
                  <a:pt x="98" y="194"/>
                </a:lnTo>
                <a:lnTo>
                  <a:pt x="65" y="194"/>
                </a:lnTo>
                <a:lnTo>
                  <a:pt x="49" y="194"/>
                </a:lnTo>
                <a:lnTo>
                  <a:pt x="49" y="194"/>
                </a:lnTo>
                <a:lnTo>
                  <a:pt x="33" y="178"/>
                </a:lnTo>
                <a:lnTo>
                  <a:pt x="0" y="162"/>
                </a:lnTo>
                <a:lnTo>
                  <a:pt x="0" y="162"/>
                </a:lnTo>
                <a:lnTo>
                  <a:pt x="17" y="113"/>
                </a:lnTo>
                <a:lnTo>
                  <a:pt x="33" y="97"/>
                </a:lnTo>
                <a:lnTo>
                  <a:pt x="33" y="81"/>
                </a:lnTo>
                <a:lnTo>
                  <a:pt x="49" y="81"/>
                </a:lnTo>
                <a:lnTo>
                  <a:pt x="65" y="65"/>
                </a:lnTo>
                <a:lnTo>
                  <a:pt x="81" y="65"/>
                </a:lnTo>
                <a:lnTo>
                  <a:pt x="130" y="33"/>
                </a:lnTo>
                <a:lnTo>
                  <a:pt x="146" y="33"/>
                </a:lnTo>
                <a:lnTo>
                  <a:pt x="146" y="16"/>
                </a:lnTo>
                <a:lnTo>
                  <a:pt x="162" y="33"/>
                </a:lnTo>
                <a:lnTo>
                  <a:pt x="178" y="16"/>
                </a:lnTo>
                <a:lnTo>
                  <a:pt x="227" y="16"/>
                </a:lnTo>
                <a:lnTo>
                  <a:pt x="243" y="16"/>
                </a:lnTo>
                <a:lnTo>
                  <a:pt x="259" y="16"/>
                </a:lnTo>
                <a:lnTo>
                  <a:pt x="340" y="0"/>
                </a:lnTo>
                <a:lnTo>
                  <a:pt x="340" y="0"/>
                </a:lnTo>
                <a:lnTo>
                  <a:pt x="389" y="0"/>
                </a:lnTo>
                <a:lnTo>
                  <a:pt x="389" y="16"/>
                </a:lnTo>
                <a:lnTo>
                  <a:pt x="389" y="16"/>
                </a:lnTo>
                <a:lnTo>
                  <a:pt x="389" y="16"/>
                </a:lnTo>
                <a:lnTo>
                  <a:pt x="405" y="0"/>
                </a:lnTo>
                <a:lnTo>
                  <a:pt x="421" y="16"/>
                </a:lnTo>
                <a:lnTo>
                  <a:pt x="437" y="33"/>
                </a:lnTo>
                <a:lnTo>
                  <a:pt x="437" y="33"/>
                </a:lnTo>
                <a:lnTo>
                  <a:pt x="437" y="65"/>
                </a:lnTo>
                <a:lnTo>
                  <a:pt x="486" y="65"/>
                </a:lnTo>
                <a:lnTo>
                  <a:pt x="534" y="49"/>
                </a:lnTo>
                <a:lnTo>
                  <a:pt x="599" y="49"/>
                </a:lnTo>
                <a:lnTo>
                  <a:pt x="648" y="33"/>
                </a:lnTo>
                <a:lnTo>
                  <a:pt x="680" y="65"/>
                </a:lnTo>
                <a:lnTo>
                  <a:pt x="696" y="65"/>
                </a:lnTo>
                <a:lnTo>
                  <a:pt x="761" y="130"/>
                </a:lnTo>
                <a:lnTo>
                  <a:pt x="858" y="194"/>
                </a:lnTo>
                <a:lnTo>
                  <a:pt x="874" y="194"/>
                </a:lnTo>
                <a:lnTo>
                  <a:pt x="858" y="211"/>
                </a:lnTo>
                <a:lnTo>
                  <a:pt x="874" y="211"/>
                </a:lnTo>
                <a:lnTo>
                  <a:pt x="826" y="243"/>
                </a:lnTo>
                <a:lnTo>
                  <a:pt x="810" y="275"/>
                </a:lnTo>
                <a:lnTo>
                  <a:pt x="793" y="308"/>
                </a:lnTo>
                <a:lnTo>
                  <a:pt x="793" y="340"/>
                </a:lnTo>
                <a:lnTo>
                  <a:pt x="793" y="340"/>
                </a:lnTo>
                <a:lnTo>
                  <a:pt x="777" y="340"/>
                </a:lnTo>
                <a:lnTo>
                  <a:pt x="793" y="372"/>
                </a:lnTo>
                <a:lnTo>
                  <a:pt x="777" y="372"/>
                </a:lnTo>
                <a:lnTo>
                  <a:pt x="761" y="372"/>
                </a:lnTo>
                <a:lnTo>
                  <a:pt x="777" y="389"/>
                </a:lnTo>
                <a:lnTo>
                  <a:pt x="777" y="389"/>
                </a:lnTo>
                <a:lnTo>
                  <a:pt x="761" y="405"/>
                </a:lnTo>
                <a:lnTo>
                  <a:pt x="729" y="421"/>
                </a:lnTo>
                <a:lnTo>
                  <a:pt x="713" y="421"/>
                </a:lnTo>
                <a:lnTo>
                  <a:pt x="729" y="437"/>
                </a:lnTo>
                <a:lnTo>
                  <a:pt x="729" y="437"/>
                </a:lnTo>
                <a:lnTo>
                  <a:pt x="696" y="470"/>
                </a:lnTo>
                <a:lnTo>
                  <a:pt x="680" y="470"/>
                </a:lnTo>
                <a:lnTo>
                  <a:pt x="696" y="437"/>
                </a:lnTo>
                <a:lnTo>
                  <a:pt x="680" y="453"/>
                </a:lnTo>
                <a:lnTo>
                  <a:pt x="664" y="453"/>
                </a:lnTo>
                <a:lnTo>
                  <a:pt x="664" y="453"/>
                </a:lnTo>
                <a:lnTo>
                  <a:pt x="664" y="470"/>
                </a:lnTo>
                <a:lnTo>
                  <a:pt x="680" y="486"/>
                </a:lnTo>
                <a:lnTo>
                  <a:pt x="680" y="502"/>
                </a:lnTo>
                <a:lnTo>
                  <a:pt x="664" y="518"/>
                </a:lnTo>
                <a:lnTo>
                  <a:pt x="632" y="534"/>
                </a:lnTo>
                <a:lnTo>
                  <a:pt x="615" y="550"/>
                </a:lnTo>
                <a:lnTo>
                  <a:pt x="599" y="550"/>
                </a:lnTo>
                <a:lnTo>
                  <a:pt x="599" y="518"/>
                </a:lnTo>
                <a:lnTo>
                  <a:pt x="583" y="518"/>
                </a:lnTo>
                <a:lnTo>
                  <a:pt x="599" y="550"/>
                </a:lnTo>
                <a:lnTo>
                  <a:pt x="583" y="550"/>
                </a:lnTo>
                <a:lnTo>
                  <a:pt x="567" y="550"/>
                </a:lnTo>
                <a:lnTo>
                  <a:pt x="567" y="550"/>
                </a:lnTo>
                <a:lnTo>
                  <a:pt x="551" y="550"/>
                </a:lnTo>
                <a:lnTo>
                  <a:pt x="551" y="567"/>
                </a:lnTo>
                <a:lnTo>
                  <a:pt x="583" y="567"/>
                </a:lnTo>
                <a:lnTo>
                  <a:pt x="599" y="583"/>
                </a:lnTo>
                <a:lnTo>
                  <a:pt x="599" y="599"/>
                </a:lnTo>
                <a:lnTo>
                  <a:pt x="567" y="615"/>
                </a:lnTo>
                <a:lnTo>
                  <a:pt x="551" y="615"/>
                </a:lnTo>
                <a:lnTo>
                  <a:pt x="534" y="599"/>
                </a:lnTo>
                <a:lnTo>
                  <a:pt x="518" y="567"/>
                </a:lnTo>
                <a:lnTo>
                  <a:pt x="534" y="567"/>
                </a:lnTo>
                <a:lnTo>
                  <a:pt x="518" y="567"/>
                </a:lnTo>
                <a:lnTo>
                  <a:pt x="518" y="567"/>
                </a:lnTo>
                <a:lnTo>
                  <a:pt x="518" y="583"/>
                </a:lnTo>
                <a:lnTo>
                  <a:pt x="534" y="615"/>
                </a:lnTo>
                <a:lnTo>
                  <a:pt x="518" y="664"/>
                </a:lnTo>
                <a:lnTo>
                  <a:pt x="486" y="664"/>
                </a:lnTo>
                <a:lnTo>
                  <a:pt x="470" y="631"/>
                </a:lnTo>
                <a:lnTo>
                  <a:pt x="470" y="615"/>
                </a:lnTo>
                <a:lnTo>
                  <a:pt x="437" y="567"/>
                </a:lnTo>
                <a:lnTo>
                  <a:pt x="421" y="567"/>
                </a:lnTo>
                <a:lnTo>
                  <a:pt x="405" y="550"/>
                </a:lnTo>
                <a:lnTo>
                  <a:pt x="405" y="534"/>
                </a:lnTo>
                <a:lnTo>
                  <a:pt x="405" y="518"/>
                </a:lnTo>
                <a:lnTo>
                  <a:pt x="389" y="502"/>
                </a:lnTo>
                <a:lnTo>
                  <a:pt x="389" y="502"/>
                </a:lnTo>
                <a:lnTo>
                  <a:pt x="389" y="486"/>
                </a:lnTo>
                <a:lnTo>
                  <a:pt x="389" y="470"/>
                </a:lnTo>
                <a:lnTo>
                  <a:pt x="373" y="470"/>
                </a:lnTo>
                <a:lnTo>
                  <a:pt x="356" y="470"/>
                </a:lnTo>
                <a:lnTo>
                  <a:pt x="340" y="453"/>
                </a:lnTo>
                <a:lnTo>
                  <a:pt x="324" y="437"/>
                </a:lnTo>
                <a:lnTo>
                  <a:pt x="324" y="437"/>
                </a:lnTo>
                <a:close/>
                <a:moveTo>
                  <a:pt x="534" y="615"/>
                </a:moveTo>
                <a:lnTo>
                  <a:pt x="551" y="615"/>
                </a:lnTo>
                <a:lnTo>
                  <a:pt x="551" y="615"/>
                </a:lnTo>
                <a:lnTo>
                  <a:pt x="534" y="648"/>
                </a:lnTo>
                <a:lnTo>
                  <a:pt x="534" y="615"/>
                </a:lnTo>
                <a:lnTo>
                  <a:pt x="534" y="6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3573360"/>
            <a:ext cx="935280" cy="328680"/>
          </a:xfrm>
          <a:custGeom>
            <a:avLst/>
            <a:gdLst/>
            <a:ahLst/>
            <a:rect l="l" t="t" r="r" b="b"/>
            <a:pathLst>
              <a:path w="1473" h="518">
                <a:moveTo>
                  <a:pt x="1068" y="372"/>
                </a:moveTo>
                <a:lnTo>
                  <a:pt x="1068" y="420"/>
                </a:lnTo>
                <a:lnTo>
                  <a:pt x="1020" y="437"/>
                </a:lnTo>
                <a:lnTo>
                  <a:pt x="987" y="437"/>
                </a:lnTo>
                <a:lnTo>
                  <a:pt x="987" y="437"/>
                </a:lnTo>
                <a:lnTo>
                  <a:pt x="955" y="437"/>
                </a:lnTo>
                <a:lnTo>
                  <a:pt x="955" y="437"/>
                </a:lnTo>
                <a:lnTo>
                  <a:pt x="890" y="437"/>
                </a:lnTo>
                <a:lnTo>
                  <a:pt x="874" y="437"/>
                </a:lnTo>
                <a:lnTo>
                  <a:pt x="858" y="453"/>
                </a:lnTo>
                <a:lnTo>
                  <a:pt x="842" y="453"/>
                </a:lnTo>
                <a:lnTo>
                  <a:pt x="793" y="453"/>
                </a:lnTo>
                <a:lnTo>
                  <a:pt x="712" y="453"/>
                </a:lnTo>
                <a:lnTo>
                  <a:pt x="712" y="453"/>
                </a:lnTo>
                <a:lnTo>
                  <a:pt x="631" y="469"/>
                </a:lnTo>
                <a:lnTo>
                  <a:pt x="615" y="469"/>
                </a:lnTo>
                <a:lnTo>
                  <a:pt x="551" y="469"/>
                </a:lnTo>
                <a:lnTo>
                  <a:pt x="551" y="469"/>
                </a:lnTo>
                <a:lnTo>
                  <a:pt x="486" y="485"/>
                </a:lnTo>
                <a:lnTo>
                  <a:pt x="421" y="485"/>
                </a:lnTo>
                <a:lnTo>
                  <a:pt x="389" y="485"/>
                </a:lnTo>
                <a:lnTo>
                  <a:pt x="356" y="485"/>
                </a:lnTo>
                <a:lnTo>
                  <a:pt x="340" y="485"/>
                </a:lnTo>
                <a:lnTo>
                  <a:pt x="275" y="501"/>
                </a:lnTo>
                <a:lnTo>
                  <a:pt x="275" y="501"/>
                </a:lnTo>
                <a:lnTo>
                  <a:pt x="243" y="501"/>
                </a:lnTo>
                <a:lnTo>
                  <a:pt x="211" y="501"/>
                </a:lnTo>
                <a:lnTo>
                  <a:pt x="178" y="501"/>
                </a:lnTo>
                <a:lnTo>
                  <a:pt x="130" y="518"/>
                </a:lnTo>
                <a:lnTo>
                  <a:pt x="114" y="518"/>
                </a:lnTo>
                <a:lnTo>
                  <a:pt x="0" y="518"/>
                </a:lnTo>
                <a:lnTo>
                  <a:pt x="16" y="501"/>
                </a:lnTo>
                <a:lnTo>
                  <a:pt x="33" y="501"/>
                </a:lnTo>
                <a:lnTo>
                  <a:pt x="33" y="485"/>
                </a:lnTo>
                <a:lnTo>
                  <a:pt x="49" y="485"/>
                </a:lnTo>
                <a:lnTo>
                  <a:pt x="49" y="453"/>
                </a:lnTo>
                <a:lnTo>
                  <a:pt x="33" y="453"/>
                </a:lnTo>
                <a:lnTo>
                  <a:pt x="33" y="453"/>
                </a:lnTo>
                <a:lnTo>
                  <a:pt x="49" y="420"/>
                </a:lnTo>
                <a:lnTo>
                  <a:pt x="33" y="437"/>
                </a:lnTo>
                <a:lnTo>
                  <a:pt x="33" y="420"/>
                </a:lnTo>
                <a:lnTo>
                  <a:pt x="33" y="420"/>
                </a:lnTo>
                <a:lnTo>
                  <a:pt x="33" y="404"/>
                </a:lnTo>
                <a:lnTo>
                  <a:pt x="49" y="420"/>
                </a:lnTo>
                <a:lnTo>
                  <a:pt x="49" y="420"/>
                </a:lnTo>
                <a:lnTo>
                  <a:pt x="49" y="404"/>
                </a:lnTo>
                <a:lnTo>
                  <a:pt x="49" y="388"/>
                </a:lnTo>
                <a:lnTo>
                  <a:pt x="49" y="388"/>
                </a:lnTo>
                <a:lnTo>
                  <a:pt x="65" y="404"/>
                </a:lnTo>
                <a:lnTo>
                  <a:pt x="65" y="388"/>
                </a:lnTo>
                <a:lnTo>
                  <a:pt x="65" y="388"/>
                </a:lnTo>
                <a:lnTo>
                  <a:pt x="81" y="372"/>
                </a:lnTo>
                <a:lnTo>
                  <a:pt x="81" y="372"/>
                </a:lnTo>
                <a:lnTo>
                  <a:pt x="65" y="372"/>
                </a:lnTo>
                <a:lnTo>
                  <a:pt x="65" y="356"/>
                </a:lnTo>
                <a:lnTo>
                  <a:pt x="81" y="340"/>
                </a:lnTo>
                <a:lnTo>
                  <a:pt x="81" y="340"/>
                </a:lnTo>
                <a:lnTo>
                  <a:pt x="97" y="323"/>
                </a:lnTo>
                <a:lnTo>
                  <a:pt x="97" y="323"/>
                </a:lnTo>
                <a:lnTo>
                  <a:pt x="97" y="307"/>
                </a:lnTo>
                <a:lnTo>
                  <a:pt x="114" y="323"/>
                </a:lnTo>
                <a:lnTo>
                  <a:pt x="114" y="307"/>
                </a:lnTo>
                <a:lnTo>
                  <a:pt x="97" y="291"/>
                </a:lnTo>
                <a:lnTo>
                  <a:pt x="97" y="275"/>
                </a:lnTo>
                <a:lnTo>
                  <a:pt x="114" y="259"/>
                </a:lnTo>
                <a:lnTo>
                  <a:pt x="114" y="242"/>
                </a:lnTo>
                <a:lnTo>
                  <a:pt x="97" y="242"/>
                </a:lnTo>
                <a:lnTo>
                  <a:pt x="130" y="226"/>
                </a:lnTo>
                <a:lnTo>
                  <a:pt x="114" y="210"/>
                </a:lnTo>
                <a:lnTo>
                  <a:pt x="130" y="210"/>
                </a:lnTo>
                <a:lnTo>
                  <a:pt x="130" y="178"/>
                </a:lnTo>
                <a:lnTo>
                  <a:pt x="130" y="178"/>
                </a:lnTo>
                <a:lnTo>
                  <a:pt x="130" y="194"/>
                </a:lnTo>
                <a:lnTo>
                  <a:pt x="146" y="178"/>
                </a:lnTo>
                <a:lnTo>
                  <a:pt x="162" y="178"/>
                </a:lnTo>
                <a:lnTo>
                  <a:pt x="243" y="178"/>
                </a:lnTo>
                <a:lnTo>
                  <a:pt x="243" y="178"/>
                </a:lnTo>
                <a:lnTo>
                  <a:pt x="243" y="178"/>
                </a:lnTo>
                <a:lnTo>
                  <a:pt x="292" y="162"/>
                </a:lnTo>
                <a:lnTo>
                  <a:pt x="308" y="162"/>
                </a:lnTo>
                <a:lnTo>
                  <a:pt x="372" y="162"/>
                </a:lnTo>
                <a:lnTo>
                  <a:pt x="372" y="129"/>
                </a:lnTo>
                <a:lnTo>
                  <a:pt x="437" y="129"/>
                </a:lnTo>
                <a:lnTo>
                  <a:pt x="453" y="129"/>
                </a:lnTo>
                <a:lnTo>
                  <a:pt x="502" y="113"/>
                </a:lnTo>
                <a:lnTo>
                  <a:pt x="534" y="113"/>
                </a:lnTo>
                <a:lnTo>
                  <a:pt x="551" y="113"/>
                </a:lnTo>
                <a:lnTo>
                  <a:pt x="599" y="113"/>
                </a:lnTo>
                <a:lnTo>
                  <a:pt x="648" y="97"/>
                </a:lnTo>
                <a:lnTo>
                  <a:pt x="664" y="97"/>
                </a:lnTo>
                <a:lnTo>
                  <a:pt x="696" y="97"/>
                </a:lnTo>
                <a:lnTo>
                  <a:pt x="729" y="97"/>
                </a:lnTo>
                <a:lnTo>
                  <a:pt x="761" y="97"/>
                </a:lnTo>
                <a:lnTo>
                  <a:pt x="826" y="97"/>
                </a:lnTo>
                <a:lnTo>
                  <a:pt x="858" y="81"/>
                </a:lnTo>
                <a:lnTo>
                  <a:pt x="858" y="81"/>
                </a:lnTo>
                <a:lnTo>
                  <a:pt x="907" y="81"/>
                </a:lnTo>
                <a:lnTo>
                  <a:pt x="939" y="81"/>
                </a:lnTo>
                <a:lnTo>
                  <a:pt x="939" y="81"/>
                </a:lnTo>
                <a:lnTo>
                  <a:pt x="1036" y="64"/>
                </a:lnTo>
                <a:lnTo>
                  <a:pt x="1036" y="64"/>
                </a:lnTo>
                <a:lnTo>
                  <a:pt x="1068" y="64"/>
                </a:lnTo>
                <a:lnTo>
                  <a:pt x="1085" y="64"/>
                </a:lnTo>
                <a:lnTo>
                  <a:pt x="1133" y="64"/>
                </a:lnTo>
                <a:lnTo>
                  <a:pt x="1165" y="48"/>
                </a:lnTo>
                <a:lnTo>
                  <a:pt x="1246" y="48"/>
                </a:lnTo>
                <a:lnTo>
                  <a:pt x="1279" y="48"/>
                </a:lnTo>
                <a:lnTo>
                  <a:pt x="1311" y="32"/>
                </a:lnTo>
                <a:lnTo>
                  <a:pt x="1376" y="32"/>
                </a:lnTo>
                <a:lnTo>
                  <a:pt x="1392" y="32"/>
                </a:lnTo>
                <a:lnTo>
                  <a:pt x="1392" y="16"/>
                </a:lnTo>
                <a:lnTo>
                  <a:pt x="1457" y="16"/>
                </a:lnTo>
                <a:lnTo>
                  <a:pt x="1473" y="0"/>
                </a:lnTo>
                <a:lnTo>
                  <a:pt x="1473" y="16"/>
                </a:lnTo>
                <a:lnTo>
                  <a:pt x="1473" y="48"/>
                </a:lnTo>
                <a:lnTo>
                  <a:pt x="1473" y="64"/>
                </a:lnTo>
                <a:lnTo>
                  <a:pt x="1457" y="64"/>
                </a:lnTo>
                <a:lnTo>
                  <a:pt x="1441" y="81"/>
                </a:lnTo>
                <a:lnTo>
                  <a:pt x="1441" y="81"/>
                </a:lnTo>
                <a:lnTo>
                  <a:pt x="1441" y="113"/>
                </a:lnTo>
                <a:lnTo>
                  <a:pt x="1424" y="129"/>
                </a:lnTo>
                <a:lnTo>
                  <a:pt x="1408" y="113"/>
                </a:lnTo>
                <a:lnTo>
                  <a:pt x="1360" y="145"/>
                </a:lnTo>
                <a:lnTo>
                  <a:pt x="1360" y="162"/>
                </a:lnTo>
                <a:lnTo>
                  <a:pt x="1344" y="178"/>
                </a:lnTo>
                <a:lnTo>
                  <a:pt x="1327" y="145"/>
                </a:lnTo>
                <a:lnTo>
                  <a:pt x="1311" y="162"/>
                </a:lnTo>
                <a:lnTo>
                  <a:pt x="1311" y="178"/>
                </a:lnTo>
                <a:lnTo>
                  <a:pt x="1295" y="178"/>
                </a:lnTo>
                <a:lnTo>
                  <a:pt x="1279" y="210"/>
                </a:lnTo>
                <a:lnTo>
                  <a:pt x="1246" y="226"/>
                </a:lnTo>
                <a:lnTo>
                  <a:pt x="1230" y="242"/>
                </a:lnTo>
                <a:lnTo>
                  <a:pt x="1230" y="242"/>
                </a:lnTo>
                <a:lnTo>
                  <a:pt x="1198" y="275"/>
                </a:lnTo>
                <a:lnTo>
                  <a:pt x="1165" y="275"/>
                </a:lnTo>
                <a:lnTo>
                  <a:pt x="1149" y="291"/>
                </a:lnTo>
                <a:lnTo>
                  <a:pt x="1117" y="307"/>
                </a:lnTo>
                <a:lnTo>
                  <a:pt x="1101" y="323"/>
                </a:lnTo>
                <a:lnTo>
                  <a:pt x="1101" y="356"/>
                </a:lnTo>
                <a:lnTo>
                  <a:pt x="1101" y="356"/>
                </a:lnTo>
                <a:lnTo>
                  <a:pt x="1068" y="356"/>
                </a:lnTo>
                <a:lnTo>
                  <a:pt x="1068" y="372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47120" y="2216160"/>
            <a:ext cx="185760" cy="349200"/>
          </a:xfrm>
          <a:custGeom>
            <a:avLst/>
            <a:gdLst/>
            <a:ahLst/>
            <a:rect l="l" t="t" r="r" b="b"/>
            <a:pathLst>
              <a:path w="292" h="551">
                <a:moveTo>
                  <a:pt x="178" y="534"/>
                </a:moveTo>
                <a:lnTo>
                  <a:pt x="162" y="551"/>
                </a:lnTo>
                <a:lnTo>
                  <a:pt x="130" y="551"/>
                </a:lnTo>
                <a:lnTo>
                  <a:pt x="130" y="534"/>
                </a:lnTo>
                <a:lnTo>
                  <a:pt x="113" y="518"/>
                </a:lnTo>
                <a:lnTo>
                  <a:pt x="97" y="437"/>
                </a:lnTo>
                <a:lnTo>
                  <a:pt x="97" y="389"/>
                </a:lnTo>
                <a:lnTo>
                  <a:pt x="81" y="373"/>
                </a:lnTo>
                <a:lnTo>
                  <a:pt x="65" y="373"/>
                </a:lnTo>
                <a:lnTo>
                  <a:pt x="65" y="389"/>
                </a:lnTo>
                <a:lnTo>
                  <a:pt x="65" y="373"/>
                </a:lnTo>
                <a:lnTo>
                  <a:pt x="65" y="373"/>
                </a:lnTo>
                <a:lnTo>
                  <a:pt x="65" y="340"/>
                </a:lnTo>
                <a:lnTo>
                  <a:pt x="65" y="324"/>
                </a:lnTo>
                <a:lnTo>
                  <a:pt x="49" y="308"/>
                </a:lnTo>
                <a:lnTo>
                  <a:pt x="33" y="276"/>
                </a:lnTo>
                <a:lnTo>
                  <a:pt x="33" y="243"/>
                </a:lnTo>
                <a:lnTo>
                  <a:pt x="49" y="227"/>
                </a:lnTo>
                <a:lnTo>
                  <a:pt x="33" y="211"/>
                </a:lnTo>
                <a:lnTo>
                  <a:pt x="33" y="195"/>
                </a:lnTo>
                <a:lnTo>
                  <a:pt x="33" y="178"/>
                </a:lnTo>
                <a:lnTo>
                  <a:pt x="33" y="178"/>
                </a:lnTo>
                <a:lnTo>
                  <a:pt x="16" y="162"/>
                </a:lnTo>
                <a:lnTo>
                  <a:pt x="16" y="130"/>
                </a:lnTo>
                <a:lnTo>
                  <a:pt x="16" y="114"/>
                </a:lnTo>
                <a:lnTo>
                  <a:pt x="0" y="114"/>
                </a:lnTo>
                <a:lnTo>
                  <a:pt x="0" y="98"/>
                </a:lnTo>
                <a:lnTo>
                  <a:pt x="0" y="81"/>
                </a:lnTo>
                <a:lnTo>
                  <a:pt x="33" y="65"/>
                </a:lnTo>
                <a:lnTo>
                  <a:pt x="113" y="49"/>
                </a:lnTo>
                <a:lnTo>
                  <a:pt x="211" y="17"/>
                </a:lnTo>
                <a:lnTo>
                  <a:pt x="275" y="0"/>
                </a:lnTo>
                <a:lnTo>
                  <a:pt x="275" y="17"/>
                </a:lnTo>
                <a:lnTo>
                  <a:pt x="275" y="33"/>
                </a:lnTo>
                <a:lnTo>
                  <a:pt x="275" y="65"/>
                </a:lnTo>
                <a:lnTo>
                  <a:pt x="292" y="98"/>
                </a:lnTo>
                <a:lnTo>
                  <a:pt x="292" y="98"/>
                </a:lnTo>
                <a:lnTo>
                  <a:pt x="292" y="114"/>
                </a:lnTo>
                <a:lnTo>
                  <a:pt x="292" y="130"/>
                </a:lnTo>
                <a:lnTo>
                  <a:pt x="275" y="146"/>
                </a:lnTo>
                <a:lnTo>
                  <a:pt x="259" y="162"/>
                </a:lnTo>
                <a:lnTo>
                  <a:pt x="243" y="178"/>
                </a:lnTo>
                <a:lnTo>
                  <a:pt x="227" y="178"/>
                </a:lnTo>
                <a:lnTo>
                  <a:pt x="243" y="211"/>
                </a:lnTo>
                <a:lnTo>
                  <a:pt x="243" y="227"/>
                </a:lnTo>
                <a:lnTo>
                  <a:pt x="243" y="243"/>
                </a:lnTo>
                <a:lnTo>
                  <a:pt x="243" y="243"/>
                </a:lnTo>
                <a:lnTo>
                  <a:pt x="243" y="259"/>
                </a:lnTo>
                <a:lnTo>
                  <a:pt x="243" y="276"/>
                </a:lnTo>
                <a:lnTo>
                  <a:pt x="243" y="292"/>
                </a:lnTo>
                <a:lnTo>
                  <a:pt x="227" y="308"/>
                </a:lnTo>
                <a:lnTo>
                  <a:pt x="227" y="340"/>
                </a:lnTo>
                <a:lnTo>
                  <a:pt x="227" y="356"/>
                </a:lnTo>
                <a:lnTo>
                  <a:pt x="227" y="405"/>
                </a:lnTo>
                <a:lnTo>
                  <a:pt x="227" y="421"/>
                </a:lnTo>
                <a:lnTo>
                  <a:pt x="227" y="437"/>
                </a:lnTo>
                <a:lnTo>
                  <a:pt x="243" y="470"/>
                </a:lnTo>
                <a:lnTo>
                  <a:pt x="243" y="486"/>
                </a:lnTo>
                <a:lnTo>
                  <a:pt x="243" y="502"/>
                </a:lnTo>
                <a:lnTo>
                  <a:pt x="259" y="518"/>
                </a:lnTo>
                <a:lnTo>
                  <a:pt x="178" y="53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3121200"/>
            <a:ext cx="873000" cy="492120"/>
          </a:xfrm>
          <a:custGeom>
            <a:avLst/>
            <a:gdLst/>
            <a:ahLst/>
            <a:rect l="l" t="t" r="r" b="b"/>
            <a:pathLst>
              <a:path w="1376" h="776">
                <a:moveTo>
                  <a:pt x="259" y="744"/>
                </a:moveTo>
                <a:lnTo>
                  <a:pt x="243" y="744"/>
                </a:lnTo>
                <a:lnTo>
                  <a:pt x="178" y="744"/>
                </a:lnTo>
                <a:lnTo>
                  <a:pt x="146" y="760"/>
                </a:lnTo>
                <a:lnTo>
                  <a:pt x="113" y="760"/>
                </a:lnTo>
                <a:lnTo>
                  <a:pt x="32" y="760"/>
                </a:lnTo>
                <a:lnTo>
                  <a:pt x="0" y="776"/>
                </a:lnTo>
                <a:lnTo>
                  <a:pt x="32" y="744"/>
                </a:lnTo>
                <a:lnTo>
                  <a:pt x="81" y="728"/>
                </a:lnTo>
                <a:lnTo>
                  <a:pt x="97" y="696"/>
                </a:lnTo>
                <a:lnTo>
                  <a:pt x="130" y="679"/>
                </a:lnTo>
                <a:lnTo>
                  <a:pt x="130" y="663"/>
                </a:lnTo>
                <a:lnTo>
                  <a:pt x="146" y="647"/>
                </a:lnTo>
                <a:lnTo>
                  <a:pt x="146" y="631"/>
                </a:lnTo>
                <a:lnTo>
                  <a:pt x="178" y="615"/>
                </a:lnTo>
                <a:lnTo>
                  <a:pt x="178" y="615"/>
                </a:lnTo>
                <a:lnTo>
                  <a:pt x="211" y="582"/>
                </a:lnTo>
                <a:lnTo>
                  <a:pt x="259" y="534"/>
                </a:lnTo>
                <a:lnTo>
                  <a:pt x="275" y="534"/>
                </a:lnTo>
                <a:lnTo>
                  <a:pt x="259" y="534"/>
                </a:lnTo>
                <a:lnTo>
                  <a:pt x="275" y="550"/>
                </a:lnTo>
                <a:lnTo>
                  <a:pt x="275" y="566"/>
                </a:lnTo>
                <a:lnTo>
                  <a:pt x="291" y="582"/>
                </a:lnTo>
                <a:lnTo>
                  <a:pt x="308" y="582"/>
                </a:lnTo>
                <a:lnTo>
                  <a:pt x="324" y="582"/>
                </a:lnTo>
                <a:lnTo>
                  <a:pt x="340" y="582"/>
                </a:lnTo>
                <a:lnTo>
                  <a:pt x="372" y="566"/>
                </a:lnTo>
                <a:lnTo>
                  <a:pt x="372" y="550"/>
                </a:lnTo>
                <a:lnTo>
                  <a:pt x="405" y="566"/>
                </a:lnTo>
                <a:lnTo>
                  <a:pt x="437" y="550"/>
                </a:lnTo>
                <a:lnTo>
                  <a:pt x="453" y="534"/>
                </a:lnTo>
                <a:lnTo>
                  <a:pt x="453" y="534"/>
                </a:lnTo>
                <a:lnTo>
                  <a:pt x="453" y="517"/>
                </a:lnTo>
                <a:lnTo>
                  <a:pt x="469" y="534"/>
                </a:lnTo>
                <a:lnTo>
                  <a:pt x="518" y="501"/>
                </a:lnTo>
                <a:lnTo>
                  <a:pt x="518" y="517"/>
                </a:lnTo>
                <a:lnTo>
                  <a:pt x="550" y="485"/>
                </a:lnTo>
                <a:lnTo>
                  <a:pt x="550" y="485"/>
                </a:lnTo>
                <a:lnTo>
                  <a:pt x="534" y="485"/>
                </a:lnTo>
                <a:lnTo>
                  <a:pt x="550" y="469"/>
                </a:lnTo>
                <a:lnTo>
                  <a:pt x="550" y="453"/>
                </a:lnTo>
                <a:lnTo>
                  <a:pt x="550" y="453"/>
                </a:lnTo>
                <a:lnTo>
                  <a:pt x="534" y="453"/>
                </a:lnTo>
                <a:lnTo>
                  <a:pt x="550" y="404"/>
                </a:lnTo>
                <a:lnTo>
                  <a:pt x="567" y="388"/>
                </a:lnTo>
                <a:lnTo>
                  <a:pt x="583" y="356"/>
                </a:lnTo>
                <a:lnTo>
                  <a:pt x="583" y="323"/>
                </a:lnTo>
                <a:lnTo>
                  <a:pt x="599" y="307"/>
                </a:lnTo>
                <a:lnTo>
                  <a:pt x="599" y="291"/>
                </a:lnTo>
                <a:lnTo>
                  <a:pt x="615" y="291"/>
                </a:lnTo>
                <a:lnTo>
                  <a:pt x="615" y="275"/>
                </a:lnTo>
                <a:lnTo>
                  <a:pt x="615" y="259"/>
                </a:lnTo>
                <a:lnTo>
                  <a:pt x="615" y="226"/>
                </a:lnTo>
                <a:lnTo>
                  <a:pt x="631" y="242"/>
                </a:lnTo>
                <a:lnTo>
                  <a:pt x="647" y="259"/>
                </a:lnTo>
                <a:lnTo>
                  <a:pt x="680" y="259"/>
                </a:lnTo>
                <a:lnTo>
                  <a:pt x="696" y="242"/>
                </a:lnTo>
                <a:lnTo>
                  <a:pt x="696" y="210"/>
                </a:lnTo>
                <a:lnTo>
                  <a:pt x="712" y="210"/>
                </a:lnTo>
                <a:lnTo>
                  <a:pt x="712" y="178"/>
                </a:lnTo>
                <a:lnTo>
                  <a:pt x="712" y="161"/>
                </a:lnTo>
                <a:lnTo>
                  <a:pt x="745" y="178"/>
                </a:lnTo>
                <a:lnTo>
                  <a:pt x="745" y="145"/>
                </a:lnTo>
                <a:lnTo>
                  <a:pt x="761" y="129"/>
                </a:lnTo>
                <a:lnTo>
                  <a:pt x="761" y="145"/>
                </a:lnTo>
                <a:lnTo>
                  <a:pt x="761" y="129"/>
                </a:lnTo>
                <a:lnTo>
                  <a:pt x="777" y="113"/>
                </a:lnTo>
                <a:lnTo>
                  <a:pt x="777" y="113"/>
                </a:lnTo>
                <a:lnTo>
                  <a:pt x="777" y="97"/>
                </a:lnTo>
                <a:lnTo>
                  <a:pt x="793" y="97"/>
                </a:lnTo>
                <a:lnTo>
                  <a:pt x="793" y="64"/>
                </a:lnTo>
                <a:lnTo>
                  <a:pt x="793" y="48"/>
                </a:lnTo>
                <a:lnTo>
                  <a:pt x="809" y="32"/>
                </a:lnTo>
                <a:lnTo>
                  <a:pt x="793" y="32"/>
                </a:lnTo>
                <a:lnTo>
                  <a:pt x="793" y="0"/>
                </a:lnTo>
                <a:lnTo>
                  <a:pt x="826" y="16"/>
                </a:lnTo>
                <a:lnTo>
                  <a:pt x="858" y="32"/>
                </a:lnTo>
                <a:lnTo>
                  <a:pt x="890" y="64"/>
                </a:lnTo>
                <a:lnTo>
                  <a:pt x="906" y="16"/>
                </a:lnTo>
                <a:lnTo>
                  <a:pt x="906" y="16"/>
                </a:lnTo>
                <a:lnTo>
                  <a:pt x="939" y="16"/>
                </a:lnTo>
                <a:lnTo>
                  <a:pt x="955" y="32"/>
                </a:lnTo>
                <a:lnTo>
                  <a:pt x="955" y="48"/>
                </a:lnTo>
                <a:lnTo>
                  <a:pt x="955" y="48"/>
                </a:lnTo>
                <a:lnTo>
                  <a:pt x="971" y="64"/>
                </a:lnTo>
                <a:lnTo>
                  <a:pt x="987" y="64"/>
                </a:lnTo>
                <a:lnTo>
                  <a:pt x="1004" y="64"/>
                </a:lnTo>
                <a:lnTo>
                  <a:pt x="1004" y="81"/>
                </a:lnTo>
                <a:lnTo>
                  <a:pt x="1020" y="81"/>
                </a:lnTo>
                <a:lnTo>
                  <a:pt x="1020" y="81"/>
                </a:lnTo>
                <a:lnTo>
                  <a:pt x="1036" y="81"/>
                </a:lnTo>
                <a:lnTo>
                  <a:pt x="1036" y="97"/>
                </a:lnTo>
                <a:lnTo>
                  <a:pt x="1036" y="113"/>
                </a:lnTo>
                <a:lnTo>
                  <a:pt x="1052" y="129"/>
                </a:lnTo>
                <a:lnTo>
                  <a:pt x="1036" y="129"/>
                </a:lnTo>
                <a:lnTo>
                  <a:pt x="1036" y="145"/>
                </a:lnTo>
                <a:lnTo>
                  <a:pt x="1020" y="145"/>
                </a:lnTo>
                <a:lnTo>
                  <a:pt x="1020" y="145"/>
                </a:lnTo>
                <a:lnTo>
                  <a:pt x="1020" y="145"/>
                </a:lnTo>
                <a:lnTo>
                  <a:pt x="1004" y="178"/>
                </a:lnTo>
                <a:lnTo>
                  <a:pt x="1004" y="194"/>
                </a:lnTo>
                <a:lnTo>
                  <a:pt x="1020" y="210"/>
                </a:lnTo>
                <a:lnTo>
                  <a:pt x="1020" y="210"/>
                </a:lnTo>
                <a:lnTo>
                  <a:pt x="1036" y="210"/>
                </a:lnTo>
                <a:lnTo>
                  <a:pt x="1052" y="194"/>
                </a:lnTo>
                <a:lnTo>
                  <a:pt x="1068" y="210"/>
                </a:lnTo>
                <a:lnTo>
                  <a:pt x="1084" y="226"/>
                </a:lnTo>
                <a:lnTo>
                  <a:pt x="1149" y="242"/>
                </a:lnTo>
                <a:lnTo>
                  <a:pt x="1149" y="242"/>
                </a:lnTo>
                <a:lnTo>
                  <a:pt x="1149" y="259"/>
                </a:lnTo>
                <a:lnTo>
                  <a:pt x="1149" y="259"/>
                </a:lnTo>
                <a:lnTo>
                  <a:pt x="1165" y="259"/>
                </a:lnTo>
                <a:lnTo>
                  <a:pt x="1198" y="259"/>
                </a:lnTo>
                <a:lnTo>
                  <a:pt x="1214" y="275"/>
                </a:lnTo>
                <a:lnTo>
                  <a:pt x="1214" y="291"/>
                </a:lnTo>
                <a:lnTo>
                  <a:pt x="1198" y="291"/>
                </a:lnTo>
                <a:lnTo>
                  <a:pt x="1214" y="307"/>
                </a:lnTo>
                <a:lnTo>
                  <a:pt x="1198" y="323"/>
                </a:lnTo>
                <a:lnTo>
                  <a:pt x="1214" y="323"/>
                </a:lnTo>
                <a:lnTo>
                  <a:pt x="1214" y="339"/>
                </a:lnTo>
                <a:lnTo>
                  <a:pt x="1182" y="339"/>
                </a:lnTo>
                <a:lnTo>
                  <a:pt x="1165" y="307"/>
                </a:lnTo>
                <a:lnTo>
                  <a:pt x="1149" y="307"/>
                </a:lnTo>
                <a:lnTo>
                  <a:pt x="1133" y="291"/>
                </a:lnTo>
                <a:lnTo>
                  <a:pt x="1117" y="291"/>
                </a:lnTo>
                <a:lnTo>
                  <a:pt x="1133" y="307"/>
                </a:lnTo>
                <a:lnTo>
                  <a:pt x="1149" y="323"/>
                </a:lnTo>
                <a:lnTo>
                  <a:pt x="1165" y="339"/>
                </a:lnTo>
                <a:lnTo>
                  <a:pt x="1214" y="356"/>
                </a:lnTo>
                <a:lnTo>
                  <a:pt x="1214" y="356"/>
                </a:lnTo>
                <a:lnTo>
                  <a:pt x="1182" y="356"/>
                </a:lnTo>
                <a:lnTo>
                  <a:pt x="1198" y="356"/>
                </a:lnTo>
                <a:lnTo>
                  <a:pt x="1214" y="356"/>
                </a:lnTo>
                <a:lnTo>
                  <a:pt x="1230" y="388"/>
                </a:lnTo>
                <a:lnTo>
                  <a:pt x="1230" y="404"/>
                </a:lnTo>
                <a:lnTo>
                  <a:pt x="1230" y="404"/>
                </a:lnTo>
                <a:lnTo>
                  <a:pt x="1214" y="388"/>
                </a:lnTo>
                <a:lnTo>
                  <a:pt x="1198" y="372"/>
                </a:lnTo>
                <a:lnTo>
                  <a:pt x="1198" y="388"/>
                </a:lnTo>
                <a:lnTo>
                  <a:pt x="1214" y="388"/>
                </a:lnTo>
                <a:lnTo>
                  <a:pt x="1214" y="388"/>
                </a:lnTo>
                <a:lnTo>
                  <a:pt x="1198" y="388"/>
                </a:lnTo>
                <a:lnTo>
                  <a:pt x="1214" y="404"/>
                </a:lnTo>
                <a:lnTo>
                  <a:pt x="1214" y="420"/>
                </a:lnTo>
                <a:lnTo>
                  <a:pt x="1165" y="388"/>
                </a:lnTo>
                <a:lnTo>
                  <a:pt x="1165" y="388"/>
                </a:lnTo>
                <a:lnTo>
                  <a:pt x="1165" y="404"/>
                </a:lnTo>
                <a:lnTo>
                  <a:pt x="1182" y="420"/>
                </a:lnTo>
                <a:lnTo>
                  <a:pt x="1214" y="420"/>
                </a:lnTo>
                <a:lnTo>
                  <a:pt x="1214" y="437"/>
                </a:lnTo>
                <a:lnTo>
                  <a:pt x="1214" y="437"/>
                </a:lnTo>
                <a:lnTo>
                  <a:pt x="1230" y="437"/>
                </a:lnTo>
                <a:lnTo>
                  <a:pt x="1230" y="437"/>
                </a:lnTo>
                <a:lnTo>
                  <a:pt x="1246" y="437"/>
                </a:lnTo>
                <a:lnTo>
                  <a:pt x="1230" y="453"/>
                </a:lnTo>
                <a:lnTo>
                  <a:pt x="1246" y="453"/>
                </a:lnTo>
                <a:lnTo>
                  <a:pt x="1246" y="469"/>
                </a:lnTo>
                <a:lnTo>
                  <a:pt x="1230" y="469"/>
                </a:lnTo>
                <a:lnTo>
                  <a:pt x="1230" y="485"/>
                </a:lnTo>
                <a:lnTo>
                  <a:pt x="1198" y="469"/>
                </a:lnTo>
                <a:lnTo>
                  <a:pt x="1198" y="453"/>
                </a:lnTo>
                <a:lnTo>
                  <a:pt x="1198" y="453"/>
                </a:lnTo>
                <a:lnTo>
                  <a:pt x="1198" y="453"/>
                </a:lnTo>
                <a:lnTo>
                  <a:pt x="1182" y="453"/>
                </a:lnTo>
                <a:lnTo>
                  <a:pt x="1182" y="437"/>
                </a:lnTo>
                <a:lnTo>
                  <a:pt x="1182" y="437"/>
                </a:lnTo>
                <a:lnTo>
                  <a:pt x="1165" y="437"/>
                </a:lnTo>
                <a:lnTo>
                  <a:pt x="1165" y="437"/>
                </a:lnTo>
                <a:lnTo>
                  <a:pt x="1149" y="437"/>
                </a:lnTo>
                <a:lnTo>
                  <a:pt x="1133" y="437"/>
                </a:lnTo>
                <a:lnTo>
                  <a:pt x="1133" y="420"/>
                </a:lnTo>
                <a:lnTo>
                  <a:pt x="1133" y="437"/>
                </a:lnTo>
                <a:lnTo>
                  <a:pt x="1133" y="437"/>
                </a:lnTo>
                <a:lnTo>
                  <a:pt x="1133" y="453"/>
                </a:lnTo>
                <a:lnTo>
                  <a:pt x="1149" y="437"/>
                </a:lnTo>
                <a:lnTo>
                  <a:pt x="1165" y="453"/>
                </a:lnTo>
                <a:lnTo>
                  <a:pt x="1165" y="437"/>
                </a:lnTo>
                <a:lnTo>
                  <a:pt x="1182" y="453"/>
                </a:lnTo>
                <a:lnTo>
                  <a:pt x="1182" y="469"/>
                </a:lnTo>
                <a:lnTo>
                  <a:pt x="1198" y="469"/>
                </a:lnTo>
                <a:lnTo>
                  <a:pt x="1198" y="485"/>
                </a:lnTo>
                <a:lnTo>
                  <a:pt x="1198" y="469"/>
                </a:lnTo>
                <a:lnTo>
                  <a:pt x="1214" y="485"/>
                </a:lnTo>
                <a:lnTo>
                  <a:pt x="1214" y="501"/>
                </a:lnTo>
                <a:lnTo>
                  <a:pt x="1214" y="485"/>
                </a:lnTo>
                <a:lnTo>
                  <a:pt x="1214" y="501"/>
                </a:lnTo>
                <a:lnTo>
                  <a:pt x="1214" y="517"/>
                </a:lnTo>
                <a:lnTo>
                  <a:pt x="1214" y="517"/>
                </a:lnTo>
                <a:lnTo>
                  <a:pt x="1214" y="501"/>
                </a:lnTo>
                <a:lnTo>
                  <a:pt x="1230" y="501"/>
                </a:lnTo>
                <a:lnTo>
                  <a:pt x="1246" y="485"/>
                </a:lnTo>
                <a:lnTo>
                  <a:pt x="1246" y="501"/>
                </a:lnTo>
                <a:lnTo>
                  <a:pt x="1230" y="501"/>
                </a:lnTo>
                <a:lnTo>
                  <a:pt x="1230" y="517"/>
                </a:lnTo>
                <a:lnTo>
                  <a:pt x="1246" y="501"/>
                </a:lnTo>
                <a:lnTo>
                  <a:pt x="1246" y="485"/>
                </a:lnTo>
                <a:lnTo>
                  <a:pt x="1246" y="469"/>
                </a:lnTo>
                <a:lnTo>
                  <a:pt x="1262" y="485"/>
                </a:lnTo>
                <a:lnTo>
                  <a:pt x="1262" y="485"/>
                </a:lnTo>
                <a:lnTo>
                  <a:pt x="1279" y="469"/>
                </a:lnTo>
                <a:lnTo>
                  <a:pt x="1295" y="469"/>
                </a:lnTo>
                <a:lnTo>
                  <a:pt x="1343" y="550"/>
                </a:lnTo>
                <a:lnTo>
                  <a:pt x="1327" y="550"/>
                </a:lnTo>
                <a:lnTo>
                  <a:pt x="1327" y="534"/>
                </a:lnTo>
                <a:lnTo>
                  <a:pt x="1311" y="517"/>
                </a:lnTo>
                <a:lnTo>
                  <a:pt x="1311" y="550"/>
                </a:lnTo>
                <a:lnTo>
                  <a:pt x="1311" y="550"/>
                </a:lnTo>
                <a:lnTo>
                  <a:pt x="1311" y="550"/>
                </a:lnTo>
                <a:lnTo>
                  <a:pt x="1311" y="550"/>
                </a:lnTo>
                <a:lnTo>
                  <a:pt x="1295" y="550"/>
                </a:lnTo>
                <a:lnTo>
                  <a:pt x="1262" y="566"/>
                </a:lnTo>
                <a:lnTo>
                  <a:pt x="1230" y="566"/>
                </a:lnTo>
                <a:lnTo>
                  <a:pt x="1214" y="566"/>
                </a:lnTo>
                <a:lnTo>
                  <a:pt x="1165" y="582"/>
                </a:lnTo>
                <a:lnTo>
                  <a:pt x="1165" y="582"/>
                </a:lnTo>
                <a:lnTo>
                  <a:pt x="1117" y="598"/>
                </a:lnTo>
                <a:lnTo>
                  <a:pt x="1084" y="598"/>
                </a:lnTo>
                <a:lnTo>
                  <a:pt x="1020" y="615"/>
                </a:lnTo>
                <a:lnTo>
                  <a:pt x="987" y="615"/>
                </a:lnTo>
                <a:lnTo>
                  <a:pt x="971" y="631"/>
                </a:lnTo>
                <a:lnTo>
                  <a:pt x="923" y="631"/>
                </a:lnTo>
                <a:lnTo>
                  <a:pt x="890" y="647"/>
                </a:lnTo>
                <a:lnTo>
                  <a:pt x="858" y="647"/>
                </a:lnTo>
                <a:lnTo>
                  <a:pt x="842" y="647"/>
                </a:lnTo>
                <a:lnTo>
                  <a:pt x="777" y="663"/>
                </a:lnTo>
                <a:lnTo>
                  <a:pt x="761" y="663"/>
                </a:lnTo>
                <a:lnTo>
                  <a:pt x="712" y="679"/>
                </a:lnTo>
                <a:lnTo>
                  <a:pt x="680" y="679"/>
                </a:lnTo>
                <a:lnTo>
                  <a:pt x="631" y="679"/>
                </a:lnTo>
                <a:lnTo>
                  <a:pt x="631" y="696"/>
                </a:lnTo>
                <a:lnTo>
                  <a:pt x="567" y="696"/>
                </a:lnTo>
                <a:lnTo>
                  <a:pt x="534" y="696"/>
                </a:lnTo>
                <a:lnTo>
                  <a:pt x="486" y="712"/>
                </a:lnTo>
                <a:lnTo>
                  <a:pt x="486" y="712"/>
                </a:lnTo>
                <a:lnTo>
                  <a:pt x="405" y="712"/>
                </a:lnTo>
                <a:lnTo>
                  <a:pt x="340" y="728"/>
                </a:lnTo>
                <a:lnTo>
                  <a:pt x="340" y="712"/>
                </a:lnTo>
                <a:lnTo>
                  <a:pt x="324" y="728"/>
                </a:lnTo>
                <a:lnTo>
                  <a:pt x="259" y="728"/>
                </a:lnTo>
                <a:lnTo>
                  <a:pt x="259" y="744"/>
                </a:lnTo>
                <a:lnTo>
                  <a:pt x="259" y="744"/>
                </a:lnTo>
                <a:close/>
                <a:moveTo>
                  <a:pt x="1376" y="210"/>
                </a:moveTo>
                <a:lnTo>
                  <a:pt x="1376" y="210"/>
                </a:lnTo>
                <a:lnTo>
                  <a:pt x="1360" y="242"/>
                </a:lnTo>
                <a:lnTo>
                  <a:pt x="1360" y="242"/>
                </a:lnTo>
                <a:lnTo>
                  <a:pt x="1376" y="210"/>
                </a:lnTo>
                <a:lnTo>
                  <a:pt x="1376" y="210"/>
                </a:lnTo>
                <a:close/>
                <a:moveTo>
                  <a:pt x="1311" y="356"/>
                </a:moveTo>
                <a:lnTo>
                  <a:pt x="1311" y="356"/>
                </a:lnTo>
                <a:lnTo>
                  <a:pt x="1311" y="356"/>
                </a:lnTo>
                <a:lnTo>
                  <a:pt x="1311" y="356"/>
                </a:lnTo>
                <a:lnTo>
                  <a:pt x="1295" y="372"/>
                </a:lnTo>
                <a:lnTo>
                  <a:pt x="1295" y="420"/>
                </a:lnTo>
                <a:lnTo>
                  <a:pt x="1295" y="437"/>
                </a:lnTo>
                <a:lnTo>
                  <a:pt x="1279" y="388"/>
                </a:lnTo>
                <a:lnTo>
                  <a:pt x="1279" y="356"/>
                </a:lnTo>
                <a:lnTo>
                  <a:pt x="1279" y="356"/>
                </a:lnTo>
                <a:lnTo>
                  <a:pt x="1279" y="339"/>
                </a:lnTo>
                <a:lnTo>
                  <a:pt x="1279" y="339"/>
                </a:lnTo>
                <a:lnTo>
                  <a:pt x="1295" y="339"/>
                </a:lnTo>
                <a:lnTo>
                  <a:pt x="1279" y="339"/>
                </a:lnTo>
                <a:lnTo>
                  <a:pt x="1279" y="323"/>
                </a:lnTo>
                <a:lnTo>
                  <a:pt x="1295" y="323"/>
                </a:lnTo>
                <a:lnTo>
                  <a:pt x="1279" y="323"/>
                </a:lnTo>
                <a:lnTo>
                  <a:pt x="1295" y="291"/>
                </a:lnTo>
                <a:lnTo>
                  <a:pt x="1295" y="275"/>
                </a:lnTo>
                <a:lnTo>
                  <a:pt x="1311" y="275"/>
                </a:lnTo>
                <a:lnTo>
                  <a:pt x="1311" y="259"/>
                </a:lnTo>
                <a:lnTo>
                  <a:pt x="1295" y="242"/>
                </a:lnTo>
                <a:lnTo>
                  <a:pt x="1311" y="242"/>
                </a:lnTo>
                <a:lnTo>
                  <a:pt x="1311" y="242"/>
                </a:lnTo>
                <a:lnTo>
                  <a:pt x="1311" y="226"/>
                </a:lnTo>
                <a:lnTo>
                  <a:pt x="1360" y="210"/>
                </a:lnTo>
                <a:lnTo>
                  <a:pt x="1327" y="291"/>
                </a:lnTo>
                <a:lnTo>
                  <a:pt x="1327" y="291"/>
                </a:lnTo>
                <a:lnTo>
                  <a:pt x="1327" y="323"/>
                </a:lnTo>
                <a:lnTo>
                  <a:pt x="1327" y="323"/>
                </a:lnTo>
                <a:lnTo>
                  <a:pt x="1311" y="323"/>
                </a:lnTo>
                <a:lnTo>
                  <a:pt x="1311" y="339"/>
                </a:lnTo>
                <a:lnTo>
                  <a:pt x="1327" y="339"/>
                </a:lnTo>
                <a:lnTo>
                  <a:pt x="1311" y="356"/>
                </a:lnTo>
                <a:lnTo>
                  <a:pt x="1311" y="35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53400" y="1825560"/>
            <a:ext cx="399960" cy="627120"/>
          </a:xfrm>
          <a:custGeom>
            <a:avLst/>
            <a:gdLst/>
            <a:ahLst/>
            <a:rect l="l" t="t" r="r" b="b"/>
            <a:pathLst>
              <a:path w="631" h="988">
                <a:moveTo>
                  <a:pt x="340" y="745"/>
                </a:moveTo>
                <a:lnTo>
                  <a:pt x="324" y="745"/>
                </a:lnTo>
                <a:lnTo>
                  <a:pt x="324" y="777"/>
                </a:lnTo>
                <a:lnTo>
                  <a:pt x="307" y="777"/>
                </a:lnTo>
                <a:lnTo>
                  <a:pt x="291" y="793"/>
                </a:lnTo>
                <a:lnTo>
                  <a:pt x="291" y="761"/>
                </a:lnTo>
                <a:lnTo>
                  <a:pt x="291" y="745"/>
                </a:lnTo>
                <a:lnTo>
                  <a:pt x="275" y="777"/>
                </a:lnTo>
                <a:lnTo>
                  <a:pt x="275" y="777"/>
                </a:lnTo>
                <a:lnTo>
                  <a:pt x="291" y="810"/>
                </a:lnTo>
                <a:lnTo>
                  <a:pt x="291" y="810"/>
                </a:lnTo>
                <a:lnTo>
                  <a:pt x="275" y="810"/>
                </a:lnTo>
                <a:lnTo>
                  <a:pt x="259" y="761"/>
                </a:lnTo>
                <a:lnTo>
                  <a:pt x="275" y="745"/>
                </a:lnTo>
                <a:lnTo>
                  <a:pt x="259" y="745"/>
                </a:lnTo>
                <a:lnTo>
                  <a:pt x="259" y="761"/>
                </a:lnTo>
                <a:lnTo>
                  <a:pt x="275" y="810"/>
                </a:lnTo>
                <a:lnTo>
                  <a:pt x="275" y="826"/>
                </a:lnTo>
                <a:lnTo>
                  <a:pt x="275" y="826"/>
                </a:lnTo>
                <a:lnTo>
                  <a:pt x="275" y="793"/>
                </a:lnTo>
                <a:lnTo>
                  <a:pt x="259" y="793"/>
                </a:lnTo>
                <a:lnTo>
                  <a:pt x="259" y="810"/>
                </a:lnTo>
                <a:lnTo>
                  <a:pt x="259" y="826"/>
                </a:lnTo>
                <a:lnTo>
                  <a:pt x="243" y="810"/>
                </a:lnTo>
                <a:lnTo>
                  <a:pt x="243" y="810"/>
                </a:lnTo>
                <a:lnTo>
                  <a:pt x="243" y="810"/>
                </a:lnTo>
                <a:lnTo>
                  <a:pt x="226" y="826"/>
                </a:lnTo>
                <a:lnTo>
                  <a:pt x="226" y="842"/>
                </a:lnTo>
                <a:lnTo>
                  <a:pt x="226" y="874"/>
                </a:lnTo>
                <a:lnTo>
                  <a:pt x="210" y="891"/>
                </a:lnTo>
                <a:lnTo>
                  <a:pt x="210" y="907"/>
                </a:lnTo>
                <a:lnTo>
                  <a:pt x="210" y="923"/>
                </a:lnTo>
                <a:lnTo>
                  <a:pt x="194" y="939"/>
                </a:lnTo>
                <a:lnTo>
                  <a:pt x="194" y="988"/>
                </a:lnTo>
                <a:lnTo>
                  <a:pt x="162" y="988"/>
                </a:lnTo>
                <a:lnTo>
                  <a:pt x="162" y="971"/>
                </a:lnTo>
                <a:lnTo>
                  <a:pt x="146" y="955"/>
                </a:lnTo>
                <a:lnTo>
                  <a:pt x="129" y="939"/>
                </a:lnTo>
                <a:lnTo>
                  <a:pt x="113" y="907"/>
                </a:lnTo>
                <a:lnTo>
                  <a:pt x="97" y="858"/>
                </a:lnTo>
                <a:lnTo>
                  <a:pt x="65" y="745"/>
                </a:lnTo>
                <a:lnTo>
                  <a:pt x="0" y="534"/>
                </a:lnTo>
                <a:lnTo>
                  <a:pt x="16" y="534"/>
                </a:lnTo>
                <a:lnTo>
                  <a:pt x="32" y="551"/>
                </a:lnTo>
                <a:lnTo>
                  <a:pt x="32" y="534"/>
                </a:lnTo>
                <a:lnTo>
                  <a:pt x="32" y="518"/>
                </a:lnTo>
                <a:lnTo>
                  <a:pt x="32" y="518"/>
                </a:lnTo>
                <a:lnTo>
                  <a:pt x="32" y="502"/>
                </a:lnTo>
                <a:lnTo>
                  <a:pt x="65" y="502"/>
                </a:lnTo>
                <a:lnTo>
                  <a:pt x="48" y="486"/>
                </a:lnTo>
                <a:lnTo>
                  <a:pt x="65" y="437"/>
                </a:lnTo>
                <a:lnTo>
                  <a:pt x="81" y="421"/>
                </a:lnTo>
                <a:lnTo>
                  <a:pt x="65" y="405"/>
                </a:lnTo>
                <a:lnTo>
                  <a:pt x="81" y="389"/>
                </a:lnTo>
                <a:lnTo>
                  <a:pt x="81" y="373"/>
                </a:lnTo>
                <a:lnTo>
                  <a:pt x="81" y="373"/>
                </a:lnTo>
                <a:lnTo>
                  <a:pt x="81" y="356"/>
                </a:lnTo>
                <a:lnTo>
                  <a:pt x="65" y="356"/>
                </a:lnTo>
                <a:lnTo>
                  <a:pt x="81" y="324"/>
                </a:lnTo>
                <a:lnTo>
                  <a:pt x="65" y="324"/>
                </a:lnTo>
                <a:lnTo>
                  <a:pt x="65" y="292"/>
                </a:lnTo>
                <a:lnTo>
                  <a:pt x="81" y="259"/>
                </a:lnTo>
                <a:lnTo>
                  <a:pt x="81" y="227"/>
                </a:lnTo>
                <a:lnTo>
                  <a:pt x="81" y="211"/>
                </a:lnTo>
                <a:lnTo>
                  <a:pt x="146" y="17"/>
                </a:lnTo>
                <a:lnTo>
                  <a:pt x="178" y="17"/>
                </a:lnTo>
                <a:lnTo>
                  <a:pt x="178" y="49"/>
                </a:lnTo>
                <a:lnTo>
                  <a:pt x="210" y="65"/>
                </a:lnTo>
                <a:lnTo>
                  <a:pt x="259" y="17"/>
                </a:lnTo>
                <a:lnTo>
                  <a:pt x="275" y="17"/>
                </a:lnTo>
                <a:lnTo>
                  <a:pt x="275" y="0"/>
                </a:lnTo>
                <a:lnTo>
                  <a:pt x="291" y="0"/>
                </a:lnTo>
                <a:lnTo>
                  <a:pt x="372" y="33"/>
                </a:lnTo>
                <a:lnTo>
                  <a:pt x="453" y="259"/>
                </a:lnTo>
                <a:lnTo>
                  <a:pt x="453" y="276"/>
                </a:lnTo>
                <a:lnTo>
                  <a:pt x="453" y="276"/>
                </a:lnTo>
                <a:lnTo>
                  <a:pt x="453" y="292"/>
                </a:lnTo>
                <a:lnTo>
                  <a:pt x="453" y="292"/>
                </a:lnTo>
                <a:lnTo>
                  <a:pt x="453" y="324"/>
                </a:lnTo>
                <a:lnTo>
                  <a:pt x="469" y="324"/>
                </a:lnTo>
                <a:lnTo>
                  <a:pt x="469" y="324"/>
                </a:lnTo>
                <a:lnTo>
                  <a:pt x="485" y="324"/>
                </a:lnTo>
                <a:lnTo>
                  <a:pt x="518" y="324"/>
                </a:lnTo>
                <a:lnTo>
                  <a:pt x="534" y="340"/>
                </a:lnTo>
                <a:lnTo>
                  <a:pt x="518" y="356"/>
                </a:lnTo>
                <a:lnTo>
                  <a:pt x="534" y="373"/>
                </a:lnTo>
                <a:lnTo>
                  <a:pt x="534" y="389"/>
                </a:lnTo>
                <a:lnTo>
                  <a:pt x="550" y="405"/>
                </a:lnTo>
                <a:lnTo>
                  <a:pt x="566" y="421"/>
                </a:lnTo>
                <a:lnTo>
                  <a:pt x="566" y="405"/>
                </a:lnTo>
                <a:lnTo>
                  <a:pt x="583" y="405"/>
                </a:lnTo>
                <a:lnTo>
                  <a:pt x="599" y="405"/>
                </a:lnTo>
                <a:lnTo>
                  <a:pt x="615" y="437"/>
                </a:lnTo>
                <a:lnTo>
                  <a:pt x="599" y="454"/>
                </a:lnTo>
                <a:lnTo>
                  <a:pt x="631" y="470"/>
                </a:lnTo>
                <a:lnTo>
                  <a:pt x="631" y="470"/>
                </a:lnTo>
                <a:lnTo>
                  <a:pt x="615" y="502"/>
                </a:lnTo>
                <a:lnTo>
                  <a:pt x="599" y="518"/>
                </a:lnTo>
                <a:lnTo>
                  <a:pt x="583" y="502"/>
                </a:lnTo>
                <a:lnTo>
                  <a:pt x="566" y="534"/>
                </a:lnTo>
                <a:lnTo>
                  <a:pt x="566" y="551"/>
                </a:lnTo>
                <a:lnTo>
                  <a:pt x="534" y="551"/>
                </a:lnTo>
                <a:lnTo>
                  <a:pt x="518" y="567"/>
                </a:lnTo>
                <a:lnTo>
                  <a:pt x="518" y="583"/>
                </a:lnTo>
                <a:lnTo>
                  <a:pt x="518" y="583"/>
                </a:lnTo>
                <a:lnTo>
                  <a:pt x="518" y="583"/>
                </a:lnTo>
                <a:lnTo>
                  <a:pt x="502" y="583"/>
                </a:lnTo>
                <a:lnTo>
                  <a:pt x="518" y="599"/>
                </a:lnTo>
                <a:lnTo>
                  <a:pt x="502" y="599"/>
                </a:lnTo>
                <a:lnTo>
                  <a:pt x="485" y="583"/>
                </a:lnTo>
                <a:lnTo>
                  <a:pt x="469" y="583"/>
                </a:lnTo>
                <a:lnTo>
                  <a:pt x="453" y="615"/>
                </a:lnTo>
                <a:lnTo>
                  <a:pt x="437" y="599"/>
                </a:lnTo>
                <a:lnTo>
                  <a:pt x="437" y="632"/>
                </a:lnTo>
                <a:lnTo>
                  <a:pt x="437" y="648"/>
                </a:lnTo>
                <a:lnTo>
                  <a:pt x="437" y="648"/>
                </a:lnTo>
                <a:lnTo>
                  <a:pt x="404" y="648"/>
                </a:lnTo>
                <a:lnTo>
                  <a:pt x="388" y="648"/>
                </a:lnTo>
                <a:lnTo>
                  <a:pt x="388" y="632"/>
                </a:lnTo>
                <a:lnTo>
                  <a:pt x="388" y="615"/>
                </a:lnTo>
                <a:lnTo>
                  <a:pt x="388" y="599"/>
                </a:lnTo>
                <a:lnTo>
                  <a:pt x="372" y="599"/>
                </a:lnTo>
                <a:lnTo>
                  <a:pt x="372" y="583"/>
                </a:lnTo>
                <a:lnTo>
                  <a:pt x="372" y="599"/>
                </a:lnTo>
                <a:lnTo>
                  <a:pt x="388" y="599"/>
                </a:lnTo>
                <a:lnTo>
                  <a:pt x="388" y="615"/>
                </a:lnTo>
                <a:lnTo>
                  <a:pt x="372" y="632"/>
                </a:lnTo>
                <a:lnTo>
                  <a:pt x="372" y="664"/>
                </a:lnTo>
                <a:lnTo>
                  <a:pt x="372" y="680"/>
                </a:lnTo>
                <a:lnTo>
                  <a:pt x="372" y="713"/>
                </a:lnTo>
                <a:lnTo>
                  <a:pt x="356" y="745"/>
                </a:lnTo>
                <a:lnTo>
                  <a:pt x="340" y="745"/>
                </a:lnTo>
                <a:lnTo>
                  <a:pt x="340" y="745"/>
                </a:lnTo>
                <a:lnTo>
                  <a:pt x="340" y="745"/>
                </a:lnTo>
                <a:close/>
                <a:moveTo>
                  <a:pt x="453" y="615"/>
                </a:moveTo>
                <a:lnTo>
                  <a:pt x="453" y="615"/>
                </a:lnTo>
                <a:lnTo>
                  <a:pt x="453" y="615"/>
                </a:lnTo>
                <a:lnTo>
                  <a:pt x="469" y="599"/>
                </a:lnTo>
                <a:lnTo>
                  <a:pt x="485" y="615"/>
                </a:lnTo>
                <a:lnTo>
                  <a:pt x="469" y="632"/>
                </a:lnTo>
                <a:lnTo>
                  <a:pt x="469" y="648"/>
                </a:lnTo>
                <a:lnTo>
                  <a:pt x="453" y="648"/>
                </a:lnTo>
                <a:lnTo>
                  <a:pt x="453" y="615"/>
                </a:lnTo>
                <a:lnTo>
                  <a:pt x="453" y="61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02320" y="3697200"/>
            <a:ext cx="555480" cy="493920"/>
          </a:xfrm>
          <a:custGeom>
            <a:avLst/>
            <a:gdLst/>
            <a:ahLst/>
            <a:rect l="l" t="t" r="r" b="b"/>
            <a:pathLst>
              <a:path w="874" h="777">
                <a:moveTo>
                  <a:pt x="32" y="534"/>
                </a:moveTo>
                <a:lnTo>
                  <a:pt x="32" y="453"/>
                </a:lnTo>
                <a:lnTo>
                  <a:pt x="32" y="405"/>
                </a:lnTo>
                <a:lnTo>
                  <a:pt x="32" y="372"/>
                </a:lnTo>
                <a:lnTo>
                  <a:pt x="32" y="259"/>
                </a:lnTo>
                <a:lnTo>
                  <a:pt x="32" y="210"/>
                </a:lnTo>
                <a:lnTo>
                  <a:pt x="16" y="178"/>
                </a:lnTo>
                <a:lnTo>
                  <a:pt x="16" y="113"/>
                </a:lnTo>
                <a:lnTo>
                  <a:pt x="16" y="97"/>
                </a:lnTo>
                <a:lnTo>
                  <a:pt x="0" y="32"/>
                </a:lnTo>
                <a:lnTo>
                  <a:pt x="97" y="16"/>
                </a:lnTo>
                <a:lnTo>
                  <a:pt x="129" y="16"/>
                </a:lnTo>
                <a:lnTo>
                  <a:pt x="178" y="16"/>
                </a:lnTo>
                <a:lnTo>
                  <a:pt x="226" y="16"/>
                </a:lnTo>
                <a:lnTo>
                  <a:pt x="226" y="16"/>
                </a:lnTo>
                <a:lnTo>
                  <a:pt x="307" y="16"/>
                </a:lnTo>
                <a:lnTo>
                  <a:pt x="323" y="16"/>
                </a:lnTo>
                <a:lnTo>
                  <a:pt x="356" y="16"/>
                </a:lnTo>
                <a:lnTo>
                  <a:pt x="420" y="16"/>
                </a:lnTo>
                <a:lnTo>
                  <a:pt x="437" y="16"/>
                </a:lnTo>
                <a:lnTo>
                  <a:pt x="501" y="16"/>
                </a:lnTo>
                <a:lnTo>
                  <a:pt x="550" y="0"/>
                </a:lnTo>
                <a:lnTo>
                  <a:pt x="550" y="0"/>
                </a:lnTo>
                <a:lnTo>
                  <a:pt x="598" y="0"/>
                </a:lnTo>
                <a:lnTo>
                  <a:pt x="663" y="0"/>
                </a:lnTo>
                <a:lnTo>
                  <a:pt x="696" y="0"/>
                </a:lnTo>
                <a:lnTo>
                  <a:pt x="760" y="0"/>
                </a:lnTo>
                <a:lnTo>
                  <a:pt x="776" y="0"/>
                </a:lnTo>
                <a:lnTo>
                  <a:pt x="776" y="16"/>
                </a:lnTo>
                <a:lnTo>
                  <a:pt x="793" y="16"/>
                </a:lnTo>
                <a:lnTo>
                  <a:pt x="793" y="48"/>
                </a:lnTo>
                <a:lnTo>
                  <a:pt x="776" y="65"/>
                </a:lnTo>
                <a:lnTo>
                  <a:pt x="744" y="81"/>
                </a:lnTo>
                <a:lnTo>
                  <a:pt x="744" y="113"/>
                </a:lnTo>
                <a:lnTo>
                  <a:pt x="760" y="113"/>
                </a:lnTo>
                <a:lnTo>
                  <a:pt x="809" y="97"/>
                </a:lnTo>
                <a:lnTo>
                  <a:pt x="857" y="97"/>
                </a:lnTo>
                <a:lnTo>
                  <a:pt x="874" y="113"/>
                </a:lnTo>
                <a:lnTo>
                  <a:pt x="874" y="129"/>
                </a:lnTo>
                <a:lnTo>
                  <a:pt x="857" y="113"/>
                </a:lnTo>
                <a:lnTo>
                  <a:pt x="857" y="129"/>
                </a:lnTo>
                <a:lnTo>
                  <a:pt x="857" y="129"/>
                </a:lnTo>
                <a:lnTo>
                  <a:pt x="841" y="146"/>
                </a:lnTo>
                <a:lnTo>
                  <a:pt x="841" y="146"/>
                </a:lnTo>
                <a:lnTo>
                  <a:pt x="825" y="162"/>
                </a:lnTo>
                <a:lnTo>
                  <a:pt x="825" y="178"/>
                </a:lnTo>
                <a:lnTo>
                  <a:pt x="841" y="178"/>
                </a:lnTo>
                <a:lnTo>
                  <a:pt x="841" y="178"/>
                </a:lnTo>
                <a:lnTo>
                  <a:pt x="825" y="194"/>
                </a:lnTo>
                <a:lnTo>
                  <a:pt x="825" y="194"/>
                </a:lnTo>
                <a:lnTo>
                  <a:pt x="825" y="210"/>
                </a:lnTo>
                <a:lnTo>
                  <a:pt x="809" y="194"/>
                </a:lnTo>
                <a:lnTo>
                  <a:pt x="809" y="194"/>
                </a:lnTo>
                <a:lnTo>
                  <a:pt x="809" y="210"/>
                </a:lnTo>
                <a:lnTo>
                  <a:pt x="809" y="226"/>
                </a:lnTo>
                <a:lnTo>
                  <a:pt x="809" y="226"/>
                </a:lnTo>
                <a:lnTo>
                  <a:pt x="793" y="210"/>
                </a:lnTo>
                <a:lnTo>
                  <a:pt x="793" y="226"/>
                </a:lnTo>
                <a:lnTo>
                  <a:pt x="793" y="226"/>
                </a:lnTo>
                <a:lnTo>
                  <a:pt x="793" y="243"/>
                </a:lnTo>
                <a:lnTo>
                  <a:pt x="809" y="226"/>
                </a:lnTo>
                <a:lnTo>
                  <a:pt x="793" y="259"/>
                </a:lnTo>
                <a:lnTo>
                  <a:pt x="793" y="259"/>
                </a:lnTo>
                <a:lnTo>
                  <a:pt x="809" y="259"/>
                </a:lnTo>
                <a:lnTo>
                  <a:pt x="809" y="291"/>
                </a:lnTo>
                <a:lnTo>
                  <a:pt x="793" y="291"/>
                </a:lnTo>
                <a:lnTo>
                  <a:pt x="793" y="307"/>
                </a:lnTo>
                <a:lnTo>
                  <a:pt x="776" y="307"/>
                </a:lnTo>
                <a:lnTo>
                  <a:pt x="760" y="324"/>
                </a:lnTo>
                <a:lnTo>
                  <a:pt x="776" y="340"/>
                </a:lnTo>
                <a:lnTo>
                  <a:pt x="776" y="356"/>
                </a:lnTo>
                <a:lnTo>
                  <a:pt x="744" y="356"/>
                </a:lnTo>
                <a:lnTo>
                  <a:pt x="744" y="356"/>
                </a:lnTo>
                <a:lnTo>
                  <a:pt x="744" y="356"/>
                </a:lnTo>
                <a:lnTo>
                  <a:pt x="744" y="356"/>
                </a:lnTo>
                <a:lnTo>
                  <a:pt x="744" y="388"/>
                </a:lnTo>
                <a:lnTo>
                  <a:pt x="728" y="388"/>
                </a:lnTo>
                <a:lnTo>
                  <a:pt x="728" y="372"/>
                </a:lnTo>
                <a:lnTo>
                  <a:pt x="728" y="372"/>
                </a:lnTo>
                <a:lnTo>
                  <a:pt x="728" y="388"/>
                </a:lnTo>
                <a:lnTo>
                  <a:pt x="744" y="388"/>
                </a:lnTo>
                <a:lnTo>
                  <a:pt x="744" y="405"/>
                </a:lnTo>
                <a:lnTo>
                  <a:pt x="728" y="405"/>
                </a:lnTo>
                <a:lnTo>
                  <a:pt x="728" y="388"/>
                </a:lnTo>
                <a:lnTo>
                  <a:pt x="728" y="405"/>
                </a:lnTo>
                <a:lnTo>
                  <a:pt x="728" y="421"/>
                </a:lnTo>
                <a:lnTo>
                  <a:pt x="728" y="421"/>
                </a:lnTo>
                <a:lnTo>
                  <a:pt x="728" y="453"/>
                </a:lnTo>
                <a:lnTo>
                  <a:pt x="712" y="469"/>
                </a:lnTo>
                <a:lnTo>
                  <a:pt x="712" y="469"/>
                </a:lnTo>
                <a:lnTo>
                  <a:pt x="712" y="469"/>
                </a:lnTo>
                <a:lnTo>
                  <a:pt x="712" y="469"/>
                </a:lnTo>
                <a:lnTo>
                  <a:pt x="696" y="469"/>
                </a:lnTo>
                <a:lnTo>
                  <a:pt x="696" y="485"/>
                </a:lnTo>
                <a:lnTo>
                  <a:pt x="679" y="485"/>
                </a:lnTo>
                <a:lnTo>
                  <a:pt x="679" y="502"/>
                </a:lnTo>
                <a:lnTo>
                  <a:pt x="679" y="502"/>
                </a:lnTo>
                <a:lnTo>
                  <a:pt x="663" y="485"/>
                </a:lnTo>
                <a:lnTo>
                  <a:pt x="663" y="502"/>
                </a:lnTo>
                <a:lnTo>
                  <a:pt x="696" y="518"/>
                </a:lnTo>
                <a:lnTo>
                  <a:pt x="679" y="518"/>
                </a:lnTo>
                <a:lnTo>
                  <a:pt x="663" y="502"/>
                </a:lnTo>
                <a:lnTo>
                  <a:pt x="663" y="518"/>
                </a:lnTo>
                <a:lnTo>
                  <a:pt x="679" y="518"/>
                </a:lnTo>
                <a:lnTo>
                  <a:pt x="679" y="534"/>
                </a:lnTo>
                <a:lnTo>
                  <a:pt x="663" y="550"/>
                </a:lnTo>
                <a:lnTo>
                  <a:pt x="663" y="550"/>
                </a:lnTo>
                <a:lnTo>
                  <a:pt x="647" y="550"/>
                </a:lnTo>
                <a:lnTo>
                  <a:pt x="647" y="566"/>
                </a:lnTo>
                <a:lnTo>
                  <a:pt x="647" y="583"/>
                </a:lnTo>
                <a:lnTo>
                  <a:pt x="663" y="599"/>
                </a:lnTo>
                <a:lnTo>
                  <a:pt x="663" y="599"/>
                </a:lnTo>
                <a:lnTo>
                  <a:pt x="631" y="599"/>
                </a:lnTo>
                <a:lnTo>
                  <a:pt x="631" y="615"/>
                </a:lnTo>
                <a:lnTo>
                  <a:pt x="647" y="615"/>
                </a:lnTo>
                <a:lnTo>
                  <a:pt x="647" y="615"/>
                </a:lnTo>
                <a:lnTo>
                  <a:pt x="647" y="631"/>
                </a:lnTo>
                <a:lnTo>
                  <a:pt x="631" y="615"/>
                </a:lnTo>
                <a:lnTo>
                  <a:pt x="615" y="615"/>
                </a:lnTo>
                <a:lnTo>
                  <a:pt x="631" y="631"/>
                </a:lnTo>
                <a:lnTo>
                  <a:pt x="631" y="647"/>
                </a:lnTo>
                <a:lnTo>
                  <a:pt x="615" y="647"/>
                </a:lnTo>
                <a:lnTo>
                  <a:pt x="615" y="647"/>
                </a:lnTo>
                <a:lnTo>
                  <a:pt x="631" y="647"/>
                </a:lnTo>
                <a:lnTo>
                  <a:pt x="631" y="663"/>
                </a:lnTo>
                <a:lnTo>
                  <a:pt x="615" y="680"/>
                </a:lnTo>
                <a:lnTo>
                  <a:pt x="631" y="663"/>
                </a:lnTo>
                <a:lnTo>
                  <a:pt x="631" y="663"/>
                </a:lnTo>
                <a:lnTo>
                  <a:pt x="647" y="663"/>
                </a:lnTo>
                <a:lnTo>
                  <a:pt x="631" y="680"/>
                </a:lnTo>
                <a:lnTo>
                  <a:pt x="631" y="680"/>
                </a:lnTo>
                <a:lnTo>
                  <a:pt x="631" y="680"/>
                </a:lnTo>
                <a:lnTo>
                  <a:pt x="647" y="663"/>
                </a:lnTo>
                <a:lnTo>
                  <a:pt x="631" y="696"/>
                </a:lnTo>
                <a:lnTo>
                  <a:pt x="647" y="712"/>
                </a:lnTo>
                <a:lnTo>
                  <a:pt x="647" y="712"/>
                </a:lnTo>
                <a:lnTo>
                  <a:pt x="663" y="712"/>
                </a:lnTo>
                <a:lnTo>
                  <a:pt x="647" y="712"/>
                </a:lnTo>
                <a:lnTo>
                  <a:pt x="647" y="744"/>
                </a:lnTo>
                <a:lnTo>
                  <a:pt x="631" y="744"/>
                </a:lnTo>
                <a:lnTo>
                  <a:pt x="647" y="761"/>
                </a:lnTo>
                <a:lnTo>
                  <a:pt x="631" y="761"/>
                </a:lnTo>
                <a:lnTo>
                  <a:pt x="631" y="761"/>
                </a:lnTo>
                <a:lnTo>
                  <a:pt x="615" y="761"/>
                </a:lnTo>
                <a:lnTo>
                  <a:pt x="582" y="761"/>
                </a:lnTo>
                <a:lnTo>
                  <a:pt x="582" y="777"/>
                </a:lnTo>
                <a:lnTo>
                  <a:pt x="469" y="777"/>
                </a:lnTo>
                <a:lnTo>
                  <a:pt x="356" y="777"/>
                </a:lnTo>
                <a:lnTo>
                  <a:pt x="307" y="777"/>
                </a:lnTo>
                <a:lnTo>
                  <a:pt x="259" y="777"/>
                </a:lnTo>
                <a:lnTo>
                  <a:pt x="210" y="777"/>
                </a:lnTo>
                <a:lnTo>
                  <a:pt x="210" y="777"/>
                </a:lnTo>
                <a:lnTo>
                  <a:pt x="161" y="777"/>
                </a:lnTo>
                <a:lnTo>
                  <a:pt x="113" y="777"/>
                </a:lnTo>
                <a:lnTo>
                  <a:pt x="113" y="728"/>
                </a:lnTo>
                <a:lnTo>
                  <a:pt x="113" y="663"/>
                </a:lnTo>
                <a:lnTo>
                  <a:pt x="97" y="663"/>
                </a:lnTo>
                <a:lnTo>
                  <a:pt x="97" y="663"/>
                </a:lnTo>
                <a:lnTo>
                  <a:pt x="97" y="663"/>
                </a:lnTo>
                <a:lnTo>
                  <a:pt x="81" y="663"/>
                </a:lnTo>
                <a:lnTo>
                  <a:pt x="81" y="663"/>
                </a:lnTo>
                <a:lnTo>
                  <a:pt x="48" y="663"/>
                </a:lnTo>
                <a:lnTo>
                  <a:pt x="48" y="663"/>
                </a:lnTo>
                <a:lnTo>
                  <a:pt x="48" y="663"/>
                </a:lnTo>
                <a:lnTo>
                  <a:pt x="48" y="663"/>
                </a:lnTo>
                <a:lnTo>
                  <a:pt x="32" y="663"/>
                </a:lnTo>
                <a:lnTo>
                  <a:pt x="32" y="647"/>
                </a:lnTo>
                <a:lnTo>
                  <a:pt x="32" y="647"/>
                </a:lnTo>
                <a:lnTo>
                  <a:pt x="32" y="583"/>
                </a:lnTo>
                <a:lnTo>
                  <a:pt x="32" y="53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62680" y="3881520"/>
            <a:ext cx="390600" cy="677880"/>
          </a:xfrm>
          <a:custGeom>
            <a:avLst/>
            <a:gdLst/>
            <a:ahLst/>
            <a:rect l="l" t="t" r="r" b="b"/>
            <a:pathLst>
              <a:path w="615" h="1068">
                <a:moveTo>
                  <a:pt x="599" y="793"/>
                </a:moveTo>
                <a:lnTo>
                  <a:pt x="599" y="858"/>
                </a:lnTo>
                <a:lnTo>
                  <a:pt x="599" y="874"/>
                </a:lnTo>
                <a:lnTo>
                  <a:pt x="615" y="939"/>
                </a:lnTo>
                <a:lnTo>
                  <a:pt x="615" y="1020"/>
                </a:lnTo>
                <a:lnTo>
                  <a:pt x="615" y="1020"/>
                </a:lnTo>
                <a:lnTo>
                  <a:pt x="615" y="1036"/>
                </a:lnTo>
                <a:lnTo>
                  <a:pt x="583" y="1020"/>
                </a:lnTo>
                <a:lnTo>
                  <a:pt x="566" y="1020"/>
                </a:lnTo>
                <a:lnTo>
                  <a:pt x="534" y="1004"/>
                </a:lnTo>
                <a:lnTo>
                  <a:pt x="518" y="1020"/>
                </a:lnTo>
                <a:lnTo>
                  <a:pt x="534" y="1020"/>
                </a:lnTo>
                <a:lnTo>
                  <a:pt x="453" y="1036"/>
                </a:lnTo>
                <a:lnTo>
                  <a:pt x="453" y="1036"/>
                </a:lnTo>
                <a:lnTo>
                  <a:pt x="437" y="1036"/>
                </a:lnTo>
                <a:lnTo>
                  <a:pt x="437" y="1036"/>
                </a:lnTo>
                <a:lnTo>
                  <a:pt x="453" y="1036"/>
                </a:lnTo>
                <a:lnTo>
                  <a:pt x="437" y="1052"/>
                </a:lnTo>
                <a:lnTo>
                  <a:pt x="421" y="1068"/>
                </a:lnTo>
                <a:lnTo>
                  <a:pt x="405" y="1068"/>
                </a:lnTo>
                <a:lnTo>
                  <a:pt x="388" y="1052"/>
                </a:lnTo>
                <a:lnTo>
                  <a:pt x="388" y="1036"/>
                </a:lnTo>
                <a:lnTo>
                  <a:pt x="372" y="1036"/>
                </a:lnTo>
                <a:lnTo>
                  <a:pt x="372" y="1020"/>
                </a:lnTo>
                <a:lnTo>
                  <a:pt x="356" y="1004"/>
                </a:lnTo>
                <a:lnTo>
                  <a:pt x="356" y="971"/>
                </a:lnTo>
                <a:lnTo>
                  <a:pt x="340" y="971"/>
                </a:lnTo>
                <a:lnTo>
                  <a:pt x="340" y="939"/>
                </a:lnTo>
                <a:lnTo>
                  <a:pt x="356" y="939"/>
                </a:lnTo>
                <a:lnTo>
                  <a:pt x="356" y="923"/>
                </a:lnTo>
                <a:lnTo>
                  <a:pt x="356" y="907"/>
                </a:lnTo>
                <a:lnTo>
                  <a:pt x="356" y="890"/>
                </a:lnTo>
                <a:lnTo>
                  <a:pt x="340" y="907"/>
                </a:lnTo>
                <a:lnTo>
                  <a:pt x="259" y="907"/>
                </a:lnTo>
                <a:lnTo>
                  <a:pt x="243" y="907"/>
                </a:lnTo>
                <a:lnTo>
                  <a:pt x="210" y="907"/>
                </a:lnTo>
                <a:lnTo>
                  <a:pt x="210" y="907"/>
                </a:lnTo>
                <a:lnTo>
                  <a:pt x="162" y="907"/>
                </a:lnTo>
                <a:lnTo>
                  <a:pt x="113" y="907"/>
                </a:lnTo>
                <a:lnTo>
                  <a:pt x="97" y="907"/>
                </a:lnTo>
                <a:lnTo>
                  <a:pt x="0" y="923"/>
                </a:lnTo>
                <a:lnTo>
                  <a:pt x="16" y="907"/>
                </a:lnTo>
                <a:lnTo>
                  <a:pt x="0" y="890"/>
                </a:lnTo>
                <a:lnTo>
                  <a:pt x="16" y="874"/>
                </a:lnTo>
                <a:lnTo>
                  <a:pt x="0" y="858"/>
                </a:lnTo>
                <a:lnTo>
                  <a:pt x="32" y="858"/>
                </a:lnTo>
                <a:lnTo>
                  <a:pt x="16" y="826"/>
                </a:lnTo>
                <a:lnTo>
                  <a:pt x="16" y="826"/>
                </a:lnTo>
                <a:lnTo>
                  <a:pt x="16" y="826"/>
                </a:lnTo>
                <a:lnTo>
                  <a:pt x="32" y="842"/>
                </a:lnTo>
                <a:lnTo>
                  <a:pt x="32" y="809"/>
                </a:lnTo>
                <a:lnTo>
                  <a:pt x="49" y="793"/>
                </a:lnTo>
                <a:lnTo>
                  <a:pt x="32" y="793"/>
                </a:lnTo>
                <a:lnTo>
                  <a:pt x="16" y="777"/>
                </a:lnTo>
                <a:lnTo>
                  <a:pt x="49" y="777"/>
                </a:lnTo>
                <a:lnTo>
                  <a:pt x="49" y="745"/>
                </a:lnTo>
                <a:lnTo>
                  <a:pt x="49" y="745"/>
                </a:lnTo>
                <a:lnTo>
                  <a:pt x="65" y="745"/>
                </a:lnTo>
                <a:lnTo>
                  <a:pt x="49" y="745"/>
                </a:lnTo>
                <a:lnTo>
                  <a:pt x="65" y="729"/>
                </a:lnTo>
                <a:lnTo>
                  <a:pt x="65" y="745"/>
                </a:lnTo>
                <a:lnTo>
                  <a:pt x="65" y="729"/>
                </a:lnTo>
                <a:lnTo>
                  <a:pt x="81" y="696"/>
                </a:lnTo>
                <a:lnTo>
                  <a:pt x="97" y="696"/>
                </a:lnTo>
                <a:lnTo>
                  <a:pt x="81" y="680"/>
                </a:lnTo>
                <a:lnTo>
                  <a:pt x="97" y="680"/>
                </a:lnTo>
                <a:lnTo>
                  <a:pt x="97" y="680"/>
                </a:lnTo>
                <a:lnTo>
                  <a:pt x="113" y="664"/>
                </a:lnTo>
                <a:lnTo>
                  <a:pt x="97" y="648"/>
                </a:lnTo>
                <a:lnTo>
                  <a:pt x="97" y="664"/>
                </a:lnTo>
                <a:lnTo>
                  <a:pt x="81" y="664"/>
                </a:lnTo>
                <a:lnTo>
                  <a:pt x="81" y="648"/>
                </a:lnTo>
                <a:lnTo>
                  <a:pt x="81" y="648"/>
                </a:lnTo>
                <a:lnTo>
                  <a:pt x="97" y="648"/>
                </a:lnTo>
                <a:lnTo>
                  <a:pt x="113" y="648"/>
                </a:lnTo>
                <a:lnTo>
                  <a:pt x="113" y="631"/>
                </a:lnTo>
                <a:lnTo>
                  <a:pt x="130" y="631"/>
                </a:lnTo>
                <a:lnTo>
                  <a:pt x="130" y="615"/>
                </a:lnTo>
                <a:lnTo>
                  <a:pt x="130" y="615"/>
                </a:lnTo>
                <a:lnTo>
                  <a:pt x="113" y="615"/>
                </a:lnTo>
                <a:lnTo>
                  <a:pt x="113" y="615"/>
                </a:lnTo>
                <a:lnTo>
                  <a:pt x="113" y="599"/>
                </a:lnTo>
                <a:lnTo>
                  <a:pt x="97" y="599"/>
                </a:lnTo>
                <a:lnTo>
                  <a:pt x="81" y="583"/>
                </a:lnTo>
                <a:lnTo>
                  <a:pt x="97" y="583"/>
                </a:lnTo>
                <a:lnTo>
                  <a:pt x="97" y="583"/>
                </a:lnTo>
                <a:lnTo>
                  <a:pt x="113" y="583"/>
                </a:lnTo>
                <a:lnTo>
                  <a:pt x="97" y="567"/>
                </a:lnTo>
                <a:lnTo>
                  <a:pt x="97" y="567"/>
                </a:lnTo>
                <a:lnTo>
                  <a:pt x="97" y="550"/>
                </a:lnTo>
                <a:lnTo>
                  <a:pt x="81" y="567"/>
                </a:lnTo>
                <a:lnTo>
                  <a:pt x="81" y="550"/>
                </a:lnTo>
                <a:lnTo>
                  <a:pt x="97" y="534"/>
                </a:lnTo>
                <a:lnTo>
                  <a:pt x="81" y="534"/>
                </a:lnTo>
                <a:lnTo>
                  <a:pt x="81" y="518"/>
                </a:lnTo>
                <a:lnTo>
                  <a:pt x="81" y="502"/>
                </a:lnTo>
                <a:lnTo>
                  <a:pt x="81" y="486"/>
                </a:lnTo>
                <a:lnTo>
                  <a:pt x="81" y="486"/>
                </a:lnTo>
                <a:lnTo>
                  <a:pt x="81" y="502"/>
                </a:lnTo>
                <a:lnTo>
                  <a:pt x="65" y="502"/>
                </a:lnTo>
                <a:lnTo>
                  <a:pt x="65" y="470"/>
                </a:lnTo>
                <a:lnTo>
                  <a:pt x="65" y="470"/>
                </a:lnTo>
                <a:lnTo>
                  <a:pt x="81" y="470"/>
                </a:lnTo>
                <a:lnTo>
                  <a:pt x="65" y="453"/>
                </a:lnTo>
                <a:lnTo>
                  <a:pt x="81" y="453"/>
                </a:lnTo>
                <a:lnTo>
                  <a:pt x="81" y="421"/>
                </a:lnTo>
                <a:lnTo>
                  <a:pt x="97" y="421"/>
                </a:lnTo>
                <a:lnTo>
                  <a:pt x="81" y="421"/>
                </a:lnTo>
                <a:lnTo>
                  <a:pt x="81" y="421"/>
                </a:lnTo>
                <a:lnTo>
                  <a:pt x="65" y="405"/>
                </a:lnTo>
                <a:lnTo>
                  <a:pt x="81" y="372"/>
                </a:lnTo>
                <a:lnTo>
                  <a:pt x="65" y="389"/>
                </a:lnTo>
                <a:lnTo>
                  <a:pt x="65" y="389"/>
                </a:lnTo>
                <a:lnTo>
                  <a:pt x="65" y="389"/>
                </a:lnTo>
                <a:lnTo>
                  <a:pt x="81" y="372"/>
                </a:lnTo>
                <a:lnTo>
                  <a:pt x="65" y="372"/>
                </a:lnTo>
                <a:lnTo>
                  <a:pt x="65" y="372"/>
                </a:lnTo>
                <a:lnTo>
                  <a:pt x="49" y="389"/>
                </a:lnTo>
                <a:lnTo>
                  <a:pt x="65" y="372"/>
                </a:lnTo>
                <a:lnTo>
                  <a:pt x="65" y="356"/>
                </a:lnTo>
                <a:lnTo>
                  <a:pt x="49" y="356"/>
                </a:lnTo>
                <a:lnTo>
                  <a:pt x="49" y="356"/>
                </a:lnTo>
                <a:lnTo>
                  <a:pt x="65" y="356"/>
                </a:lnTo>
                <a:lnTo>
                  <a:pt x="65" y="340"/>
                </a:lnTo>
                <a:lnTo>
                  <a:pt x="49" y="324"/>
                </a:lnTo>
                <a:lnTo>
                  <a:pt x="65" y="324"/>
                </a:lnTo>
                <a:lnTo>
                  <a:pt x="81" y="340"/>
                </a:lnTo>
                <a:lnTo>
                  <a:pt x="81" y="324"/>
                </a:lnTo>
                <a:lnTo>
                  <a:pt x="81" y="324"/>
                </a:lnTo>
                <a:lnTo>
                  <a:pt x="65" y="324"/>
                </a:lnTo>
                <a:lnTo>
                  <a:pt x="65" y="308"/>
                </a:lnTo>
                <a:lnTo>
                  <a:pt x="97" y="308"/>
                </a:lnTo>
                <a:lnTo>
                  <a:pt x="97" y="308"/>
                </a:lnTo>
                <a:lnTo>
                  <a:pt x="81" y="292"/>
                </a:lnTo>
                <a:lnTo>
                  <a:pt x="81" y="275"/>
                </a:lnTo>
                <a:lnTo>
                  <a:pt x="81" y="259"/>
                </a:lnTo>
                <a:lnTo>
                  <a:pt x="97" y="259"/>
                </a:lnTo>
                <a:lnTo>
                  <a:pt x="97" y="259"/>
                </a:lnTo>
                <a:lnTo>
                  <a:pt x="113" y="243"/>
                </a:lnTo>
                <a:lnTo>
                  <a:pt x="113" y="227"/>
                </a:lnTo>
                <a:lnTo>
                  <a:pt x="97" y="227"/>
                </a:lnTo>
                <a:lnTo>
                  <a:pt x="97" y="211"/>
                </a:lnTo>
                <a:lnTo>
                  <a:pt x="113" y="227"/>
                </a:lnTo>
                <a:lnTo>
                  <a:pt x="130" y="227"/>
                </a:lnTo>
                <a:lnTo>
                  <a:pt x="97" y="211"/>
                </a:lnTo>
                <a:lnTo>
                  <a:pt x="97" y="194"/>
                </a:lnTo>
                <a:lnTo>
                  <a:pt x="113" y="211"/>
                </a:lnTo>
                <a:lnTo>
                  <a:pt x="113" y="211"/>
                </a:lnTo>
                <a:lnTo>
                  <a:pt x="113" y="194"/>
                </a:lnTo>
                <a:lnTo>
                  <a:pt x="130" y="194"/>
                </a:lnTo>
                <a:lnTo>
                  <a:pt x="130" y="178"/>
                </a:lnTo>
                <a:lnTo>
                  <a:pt x="146" y="178"/>
                </a:lnTo>
                <a:lnTo>
                  <a:pt x="146" y="178"/>
                </a:lnTo>
                <a:lnTo>
                  <a:pt x="146" y="178"/>
                </a:lnTo>
                <a:lnTo>
                  <a:pt x="146" y="178"/>
                </a:lnTo>
                <a:lnTo>
                  <a:pt x="162" y="162"/>
                </a:lnTo>
                <a:lnTo>
                  <a:pt x="162" y="130"/>
                </a:lnTo>
                <a:lnTo>
                  <a:pt x="162" y="130"/>
                </a:lnTo>
                <a:lnTo>
                  <a:pt x="162" y="114"/>
                </a:lnTo>
                <a:lnTo>
                  <a:pt x="162" y="97"/>
                </a:lnTo>
                <a:lnTo>
                  <a:pt x="162" y="114"/>
                </a:lnTo>
                <a:lnTo>
                  <a:pt x="178" y="114"/>
                </a:lnTo>
                <a:lnTo>
                  <a:pt x="178" y="97"/>
                </a:lnTo>
                <a:lnTo>
                  <a:pt x="162" y="97"/>
                </a:lnTo>
                <a:lnTo>
                  <a:pt x="162" y="81"/>
                </a:lnTo>
                <a:lnTo>
                  <a:pt x="162" y="81"/>
                </a:lnTo>
                <a:lnTo>
                  <a:pt x="162" y="97"/>
                </a:lnTo>
                <a:lnTo>
                  <a:pt x="178" y="97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210" y="65"/>
                </a:lnTo>
                <a:lnTo>
                  <a:pt x="210" y="49"/>
                </a:lnTo>
                <a:lnTo>
                  <a:pt x="194" y="33"/>
                </a:lnTo>
                <a:lnTo>
                  <a:pt x="308" y="33"/>
                </a:lnTo>
                <a:lnTo>
                  <a:pt x="324" y="33"/>
                </a:lnTo>
                <a:lnTo>
                  <a:pt x="372" y="16"/>
                </a:lnTo>
                <a:lnTo>
                  <a:pt x="405" y="16"/>
                </a:lnTo>
                <a:lnTo>
                  <a:pt x="437" y="16"/>
                </a:lnTo>
                <a:lnTo>
                  <a:pt x="469" y="16"/>
                </a:lnTo>
                <a:lnTo>
                  <a:pt x="469" y="16"/>
                </a:lnTo>
                <a:lnTo>
                  <a:pt x="534" y="0"/>
                </a:lnTo>
                <a:lnTo>
                  <a:pt x="550" y="0"/>
                </a:lnTo>
                <a:lnTo>
                  <a:pt x="583" y="0"/>
                </a:lnTo>
                <a:lnTo>
                  <a:pt x="599" y="33"/>
                </a:lnTo>
                <a:lnTo>
                  <a:pt x="599" y="97"/>
                </a:lnTo>
                <a:lnTo>
                  <a:pt x="599" y="130"/>
                </a:lnTo>
                <a:lnTo>
                  <a:pt x="599" y="146"/>
                </a:lnTo>
                <a:lnTo>
                  <a:pt x="583" y="211"/>
                </a:lnTo>
                <a:lnTo>
                  <a:pt x="583" y="211"/>
                </a:lnTo>
                <a:lnTo>
                  <a:pt x="583" y="275"/>
                </a:lnTo>
                <a:lnTo>
                  <a:pt x="583" y="324"/>
                </a:lnTo>
                <a:lnTo>
                  <a:pt x="583" y="389"/>
                </a:lnTo>
                <a:lnTo>
                  <a:pt x="583" y="453"/>
                </a:lnTo>
                <a:lnTo>
                  <a:pt x="583" y="453"/>
                </a:lnTo>
                <a:lnTo>
                  <a:pt x="583" y="534"/>
                </a:lnTo>
                <a:lnTo>
                  <a:pt x="583" y="599"/>
                </a:lnTo>
                <a:lnTo>
                  <a:pt x="583" y="615"/>
                </a:lnTo>
                <a:lnTo>
                  <a:pt x="583" y="696"/>
                </a:lnTo>
                <a:lnTo>
                  <a:pt x="583" y="729"/>
                </a:lnTo>
                <a:lnTo>
                  <a:pt x="599" y="79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2400" y="3860640"/>
            <a:ext cx="420840" cy="677880"/>
          </a:xfrm>
          <a:custGeom>
            <a:avLst/>
            <a:gdLst/>
            <a:ahLst/>
            <a:rect l="l" t="t" r="r" b="b"/>
            <a:pathLst>
              <a:path w="663" h="1068">
                <a:moveTo>
                  <a:pt x="615" y="680"/>
                </a:moveTo>
                <a:lnTo>
                  <a:pt x="615" y="680"/>
                </a:lnTo>
                <a:lnTo>
                  <a:pt x="631" y="744"/>
                </a:lnTo>
                <a:lnTo>
                  <a:pt x="631" y="777"/>
                </a:lnTo>
                <a:lnTo>
                  <a:pt x="631" y="809"/>
                </a:lnTo>
                <a:lnTo>
                  <a:pt x="647" y="841"/>
                </a:lnTo>
                <a:lnTo>
                  <a:pt x="663" y="858"/>
                </a:lnTo>
                <a:lnTo>
                  <a:pt x="566" y="858"/>
                </a:lnTo>
                <a:lnTo>
                  <a:pt x="566" y="858"/>
                </a:lnTo>
                <a:lnTo>
                  <a:pt x="469" y="874"/>
                </a:lnTo>
                <a:lnTo>
                  <a:pt x="437" y="874"/>
                </a:lnTo>
                <a:lnTo>
                  <a:pt x="404" y="874"/>
                </a:lnTo>
                <a:lnTo>
                  <a:pt x="340" y="890"/>
                </a:lnTo>
                <a:lnTo>
                  <a:pt x="323" y="890"/>
                </a:lnTo>
                <a:lnTo>
                  <a:pt x="259" y="890"/>
                </a:lnTo>
                <a:lnTo>
                  <a:pt x="178" y="906"/>
                </a:lnTo>
                <a:lnTo>
                  <a:pt x="178" y="939"/>
                </a:lnTo>
                <a:lnTo>
                  <a:pt x="226" y="971"/>
                </a:lnTo>
                <a:lnTo>
                  <a:pt x="226" y="987"/>
                </a:lnTo>
                <a:lnTo>
                  <a:pt x="210" y="1003"/>
                </a:lnTo>
                <a:lnTo>
                  <a:pt x="226" y="1003"/>
                </a:lnTo>
                <a:lnTo>
                  <a:pt x="226" y="1019"/>
                </a:lnTo>
                <a:lnTo>
                  <a:pt x="210" y="1036"/>
                </a:lnTo>
                <a:lnTo>
                  <a:pt x="194" y="1052"/>
                </a:lnTo>
                <a:lnTo>
                  <a:pt x="194" y="1052"/>
                </a:lnTo>
                <a:lnTo>
                  <a:pt x="145" y="1068"/>
                </a:lnTo>
                <a:lnTo>
                  <a:pt x="113" y="1068"/>
                </a:lnTo>
                <a:lnTo>
                  <a:pt x="162" y="1068"/>
                </a:lnTo>
                <a:lnTo>
                  <a:pt x="162" y="1052"/>
                </a:lnTo>
                <a:lnTo>
                  <a:pt x="129" y="1036"/>
                </a:lnTo>
                <a:lnTo>
                  <a:pt x="129" y="987"/>
                </a:lnTo>
                <a:lnTo>
                  <a:pt x="97" y="955"/>
                </a:lnTo>
                <a:lnTo>
                  <a:pt x="81" y="1052"/>
                </a:lnTo>
                <a:lnTo>
                  <a:pt x="48" y="1036"/>
                </a:lnTo>
                <a:lnTo>
                  <a:pt x="32" y="1052"/>
                </a:lnTo>
                <a:lnTo>
                  <a:pt x="32" y="971"/>
                </a:lnTo>
                <a:lnTo>
                  <a:pt x="16" y="906"/>
                </a:lnTo>
                <a:lnTo>
                  <a:pt x="16" y="890"/>
                </a:lnTo>
                <a:lnTo>
                  <a:pt x="16" y="825"/>
                </a:lnTo>
                <a:lnTo>
                  <a:pt x="0" y="761"/>
                </a:lnTo>
                <a:lnTo>
                  <a:pt x="0" y="728"/>
                </a:lnTo>
                <a:lnTo>
                  <a:pt x="0" y="647"/>
                </a:lnTo>
                <a:lnTo>
                  <a:pt x="0" y="631"/>
                </a:lnTo>
                <a:lnTo>
                  <a:pt x="0" y="566"/>
                </a:lnTo>
                <a:lnTo>
                  <a:pt x="0" y="485"/>
                </a:lnTo>
                <a:lnTo>
                  <a:pt x="0" y="485"/>
                </a:lnTo>
                <a:lnTo>
                  <a:pt x="0" y="421"/>
                </a:lnTo>
                <a:lnTo>
                  <a:pt x="0" y="356"/>
                </a:lnTo>
                <a:lnTo>
                  <a:pt x="0" y="307"/>
                </a:lnTo>
                <a:lnTo>
                  <a:pt x="0" y="243"/>
                </a:lnTo>
                <a:lnTo>
                  <a:pt x="0" y="243"/>
                </a:lnTo>
                <a:lnTo>
                  <a:pt x="16" y="178"/>
                </a:lnTo>
                <a:lnTo>
                  <a:pt x="16" y="162"/>
                </a:lnTo>
                <a:lnTo>
                  <a:pt x="16" y="129"/>
                </a:lnTo>
                <a:lnTo>
                  <a:pt x="16" y="65"/>
                </a:lnTo>
                <a:lnTo>
                  <a:pt x="0" y="32"/>
                </a:lnTo>
                <a:lnTo>
                  <a:pt x="32" y="32"/>
                </a:lnTo>
                <a:lnTo>
                  <a:pt x="97" y="32"/>
                </a:lnTo>
                <a:lnTo>
                  <a:pt x="162" y="16"/>
                </a:lnTo>
                <a:lnTo>
                  <a:pt x="162" y="16"/>
                </a:lnTo>
                <a:lnTo>
                  <a:pt x="226" y="16"/>
                </a:lnTo>
                <a:lnTo>
                  <a:pt x="242" y="16"/>
                </a:lnTo>
                <a:lnTo>
                  <a:pt x="323" y="0"/>
                </a:lnTo>
                <a:lnTo>
                  <a:pt x="323" y="0"/>
                </a:lnTo>
                <a:lnTo>
                  <a:pt x="404" y="0"/>
                </a:lnTo>
                <a:lnTo>
                  <a:pt x="453" y="0"/>
                </a:lnTo>
                <a:lnTo>
                  <a:pt x="453" y="16"/>
                </a:lnTo>
                <a:lnTo>
                  <a:pt x="469" y="81"/>
                </a:lnTo>
                <a:lnTo>
                  <a:pt x="469" y="81"/>
                </a:lnTo>
                <a:lnTo>
                  <a:pt x="485" y="97"/>
                </a:lnTo>
                <a:lnTo>
                  <a:pt x="485" y="146"/>
                </a:lnTo>
                <a:lnTo>
                  <a:pt x="501" y="194"/>
                </a:lnTo>
                <a:lnTo>
                  <a:pt x="518" y="210"/>
                </a:lnTo>
                <a:lnTo>
                  <a:pt x="518" y="226"/>
                </a:lnTo>
                <a:lnTo>
                  <a:pt x="534" y="275"/>
                </a:lnTo>
                <a:lnTo>
                  <a:pt x="534" y="324"/>
                </a:lnTo>
                <a:lnTo>
                  <a:pt x="550" y="324"/>
                </a:lnTo>
                <a:lnTo>
                  <a:pt x="566" y="388"/>
                </a:lnTo>
                <a:lnTo>
                  <a:pt x="566" y="388"/>
                </a:lnTo>
                <a:lnTo>
                  <a:pt x="582" y="453"/>
                </a:lnTo>
                <a:lnTo>
                  <a:pt x="598" y="469"/>
                </a:lnTo>
                <a:lnTo>
                  <a:pt x="598" y="502"/>
                </a:lnTo>
                <a:lnTo>
                  <a:pt x="615" y="518"/>
                </a:lnTo>
                <a:lnTo>
                  <a:pt x="631" y="550"/>
                </a:lnTo>
                <a:lnTo>
                  <a:pt x="631" y="566"/>
                </a:lnTo>
                <a:lnTo>
                  <a:pt x="647" y="566"/>
                </a:lnTo>
                <a:lnTo>
                  <a:pt x="647" y="582"/>
                </a:lnTo>
                <a:lnTo>
                  <a:pt x="631" y="599"/>
                </a:lnTo>
                <a:lnTo>
                  <a:pt x="615" y="615"/>
                </a:lnTo>
                <a:lnTo>
                  <a:pt x="615" y="647"/>
                </a:lnTo>
                <a:lnTo>
                  <a:pt x="615" y="663"/>
                </a:lnTo>
                <a:lnTo>
                  <a:pt x="615" y="68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5080" y="4375080"/>
            <a:ext cx="986040" cy="771480"/>
          </a:xfrm>
          <a:custGeom>
            <a:avLst/>
            <a:gdLst/>
            <a:ahLst/>
            <a:rect l="l" t="t" r="r" b="b"/>
            <a:pathLst>
              <a:path w="1553" h="1214">
                <a:moveTo>
                  <a:pt x="874" y="356"/>
                </a:moveTo>
                <a:lnTo>
                  <a:pt x="874" y="356"/>
                </a:lnTo>
                <a:lnTo>
                  <a:pt x="857" y="340"/>
                </a:lnTo>
                <a:lnTo>
                  <a:pt x="825" y="324"/>
                </a:lnTo>
                <a:lnTo>
                  <a:pt x="809" y="291"/>
                </a:lnTo>
                <a:lnTo>
                  <a:pt x="777" y="275"/>
                </a:lnTo>
                <a:lnTo>
                  <a:pt x="760" y="243"/>
                </a:lnTo>
                <a:lnTo>
                  <a:pt x="696" y="210"/>
                </a:lnTo>
                <a:lnTo>
                  <a:pt x="679" y="210"/>
                </a:lnTo>
                <a:lnTo>
                  <a:pt x="663" y="227"/>
                </a:lnTo>
                <a:lnTo>
                  <a:pt x="647" y="210"/>
                </a:lnTo>
                <a:lnTo>
                  <a:pt x="631" y="227"/>
                </a:lnTo>
                <a:lnTo>
                  <a:pt x="631" y="243"/>
                </a:lnTo>
                <a:lnTo>
                  <a:pt x="615" y="243"/>
                </a:lnTo>
                <a:lnTo>
                  <a:pt x="615" y="259"/>
                </a:lnTo>
                <a:lnTo>
                  <a:pt x="631" y="259"/>
                </a:lnTo>
                <a:lnTo>
                  <a:pt x="631" y="259"/>
                </a:lnTo>
                <a:lnTo>
                  <a:pt x="615" y="259"/>
                </a:lnTo>
                <a:lnTo>
                  <a:pt x="534" y="308"/>
                </a:lnTo>
                <a:lnTo>
                  <a:pt x="518" y="308"/>
                </a:lnTo>
                <a:lnTo>
                  <a:pt x="518" y="324"/>
                </a:lnTo>
                <a:lnTo>
                  <a:pt x="469" y="324"/>
                </a:lnTo>
                <a:lnTo>
                  <a:pt x="437" y="340"/>
                </a:lnTo>
                <a:lnTo>
                  <a:pt x="437" y="308"/>
                </a:lnTo>
                <a:lnTo>
                  <a:pt x="437" y="291"/>
                </a:lnTo>
                <a:lnTo>
                  <a:pt x="437" y="291"/>
                </a:lnTo>
                <a:lnTo>
                  <a:pt x="437" y="308"/>
                </a:lnTo>
                <a:lnTo>
                  <a:pt x="453" y="340"/>
                </a:lnTo>
                <a:lnTo>
                  <a:pt x="453" y="324"/>
                </a:lnTo>
                <a:lnTo>
                  <a:pt x="453" y="308"/>
                </a:lnTo>
                <a:lnTo>
                  <a:pt x="437" y="275"/>
                </a:lnTo>
                <a:lnTo>
                  <a:pt x="388" y="259"/>
                </a:lnTo>
                <a:lnTo>
                  <a:pt x="388" y="243"/>
                </a:lnTo>
                <a:lnTo>
                  <a:pt x="420" y="259"/>
                </a:lnTo>
                <a:lnTo>
                  <a:pt x="420" y="259"/>
                </a:lnTo>
                <a:lnTo>
                  <a:pt x="420" y="259"/>
                </a:lnTo>
                <a:lnTo>
                  <a:pt x="437" y="259"/>
                </a:lnTo>
                <a:lnTo>
                  <a:pt x="437" y="259"/>
                </a:lnTo>
                <a:lnTo>
                  <a:pt x="420" y="259"/>
                </a:lnTo>
                <a:lnTo>
                  <a:pt x="404" y="243"/>
                </a:lnTo>
                <a:lnTo>
                  <a:pt x="372" y="227"/>
                </a:lnTo>
                <a:lnTo>
                  <a:pt x="372" y="210"/>
                </a:lnTo>
                <a:lnTo>
                  <a:pt x="388" y="210"/>
                </a:lnTo>
                <a:lnTo>
                  <a:pt x="388" y="210"/>
                </a:lnTo>
                <a:lnTo>
                  <a:pt x="356" y="210"/>
                </a:lnTo>
                <a:lnTo>
                  <a:pt x="356" y="210"/>
                </a:lnTo>
                <a:lnTo>
                  <a:pt x="340" y="210"/>
                </a:lnTo>
                <a:lnTo>
                  <a:pt x="340" y="227"/>
                </a:lnTo>
                <a:lnTo>
                  <a:pt x="356" y="227"/>
                </a:lnTo>
                <a:lnTo>
                  <a:pt x="372" y="243"/>
                </a:lnTo>
                <a:lnTo>
                  <a:pt x="307" y="227"/>
                </a:lnTo>
                <a:lnTo>
                  <a:pt x="242" y="210"/>
                </a:lnTo>
                <a:lnTo>
                  <a:pt x="210" y="194"/>
                </a:lnTo>
                <a:lnTo>
                  <a:pt x="242" y="194"/>
                </a:lnTo>
                <a:lnTo>
                  <a:pt x="259" y="194"/>
                </a:lnTo>
                <a:lnTo>
                  <a:pt x="259" y="194"/>
                </a:lnTo>
                <a:lnTo>
                  <a:pt x="291" y="194"/>
                </a:lnTo>
                <a:lnTo>
                  <a:pt x="291" y="194"/>
                </a:lnTo>
                <a:lnTo>
                  <a:pt x="259" y="178"/>
                </a:lnTo>
                <a:lnTo>
                  <a:pt x="226" y="194"/>
                </a:lnTo>
                <a:lnTo>
                  <a:pt x="226" y="178"/>
                </a:lnTo>
                <a:lnTo>
                  <a:pt x="194" y="194"/>
                </a:lnTo>
                <a:lnTo>
                  <a:pt x="162" y="210"/>
                </a:lnTo>
                <a:lnTo>
                  <a:pt x="81" y="227"/>
                </a:lnTo>
                <a:lnTo>
                  <a:pt x="129" y="194"/>
                </a:lnTo>
                <a:lnTo>
                  <a:pt x="113" y="194"/>
                </a:lnTo>
                <a:lnTo>
                  <a:pt x="113" y="162"/>
                </a:lnTo>
                <a:lnTo>
                  <a:pt x="113" y="178"/>
                </a:lnTo>
                <a:lnTo>
                  <a:pt x="113" y="194"/>
                </a:lnTo>
                <a:lnTo>
                  <a:pt x="97" y="178"/>
                </a:lnTo>
                <a:lnTo>
                  <a:pt x="81" y="178"/>
                </a:lnTo>
                <a:lnTo>
                  <a:pt x="97" y="194"/>
                </a:lnTo>
                <a:lnTo>
                  <a:pt x="64" y="227"/>
                </a:lnTo>
                <a:lnTo>
                  <a:pt x="48" y="243"/>
                </a:lnTo>
                <a:lnTo>
                  <a:pt x="48" y="210"/>
                </a:lnTo>
                <a:lnTo>
                  <a:pt x="48" y="210"/>
                </a:lnTo>
                <a:lnTo>
                  <a:pt x="48" y="210"/>
                </a:lnTo>
                <a:lnTo>
                  <a:pt x="48" y="194"/>
                </a:lnTo>
                <a:lnTo>
                  <a:pt x="32" y="194"/>
                </a:lnTo>
                <a:lnTo>
                  <a:pt x="48" y="178"/>
                </a:lnTo>
                <a:lnTo>
                  <a:pt x="48" y="162"/>
                </a:lnTo>
                <a:lnTo>
                  <a:pt x="0" y="130"/>
                </a:lnTo>
                <a:lnTo>
                  <a:pt x="0" y="97"/>
                </a:lnTo>
                <a:lnTo>
                  <a:pt x="81" y="81"/>
                </a:lnTo>
                <a:lnTo>
                  <a:pt x="145" y="81"/>
                </a:lnTo>
                <a:lnTo>
                  <a:pt x="162" y="81"/>
                </a:lnTo>
                <a:lnTo>
                  <a:pt x="226" y="65"/>
                </a:lnTo>
                <a:lnTo>
                  <a:pt x="259" y="65"/>
                </a:lnTo>
                <a:lnTo>
                  <a:pt x="291" y="65"/>
                </a:lnTo>
                <a:lnTo>
                  <a:pt x="388" y="49"/>
                </a:lnTo>
                <a:lnTo>
                  <a:pt x="388" y="49"/>
                </a:lnTo>
                <a:lnTo>
                  <a:pt x="485" y="49"/>
                </a:lnTo>
                <a:lnTo>
                  <a:pt x="501" y="65"/>
                </a:lnTo>
                <a:lnTo>
                  <a:pt x="501" y="81"/>
                </a:lnTo>
                <a:lnTo>
                  <a:pt x="518" y="97"/>
                </a:lnTo>
                <a:lnTo>
                  <a:pt x="518" y="97"/>
                </a:lnTo>
                <a:lnTo>
                  <a:pt x="598" y="97"/>
                </a:lnTo>
                <a:lnTo>
                  <a:pt x="615" y="97"/>
                </a:lnTo>
                <a:lnTo>
                  <a:pt x="663" y="97"/>
                </a:lnTo>
                <a:lnTo>
                  <a:pt x="679" y="97"/>
                </a:lnTo>
                <a:lnTo>
                  <a:pt x="728" y="81"/>
                </a:lnTo>
                <a:lnTo>
                  <a:pt x="744" y="81"/>
                </a:lnTo>
                <a:lnTo>
                  <a:pt x="809" y="81"/>
                </a:lnTo>
                <a:lnTo>
                  <a:pt x="809" y="81"/>
                </a:lnTo>
                <a:lnTo>
                  <a:pt x="841" y="81"/>
                </a:lnTo>
                <a:lnTo>
                  <a:pt x="922" y="81"/>
                </a:lnTo>
                <a:lnTo>
                  <a:pt x="938" y="65"/>
                </a:lnTo>
                <a:lnTo>
                  <a:pt x="955" y="65"/>
                </a:lnTo>
                <a:lnTo>
                  <a:pt x="971" y="65"/>
                </a:lnTo>
                <a:lnTo>
                  <a:pt x="1003" y="65"/>
                </a:lnTo>
                <a:lnTo>
                  <a:pt x="1003" y="81"/>
                </a:lnTo>
                <a:lnTo>
                  <a:pt x="1019" y="81"/>
                </a:lnTo>
                <a:lnTo>
                  <a:pt x="1019" y="113"/>
                </a:lnTo>
                <a:lnTo>
                  <a:pt x="1052" y="113"/>
                </a:lnTo>
                <a:lnTo>
                  <a:pt x="1052" y="65"/>
                </a:lnTo>
                <a:lnTo>
                  <a:pt x="1035" y="49"/>
                </a:lnTo>
                <a:lnTo>
                  <a:pt x="1035" y="16"/>
                </a:lnTo>
                <a:lnTo>
                  <a:pt x="1035" y="16"/>
                </a:lnTo>
                <a:lnTo>
                  <a:pt x="1052" y="16"/>
                </a:lnTo>
                <a:lnTo>
                  <a:pt x="1052" y="0"/>
                </a:lnTo>
                <a:lnTo>
                  <a:pt x="1052" y="0"/>
                </a:lnTo>
                <a:lnTo>
                  <a:pt x="1084" y="16"/>
                </a:lnTo>
                <a:lnTo>
                  <a:pt x="1133" y="16"/>
                </a:lnTo>
                <a:lnTo>
                  <a:pt x="1133" y="49"/>
                </a:lnTo>
                <a:lnTo>
                  <a:pt x="1133" y="49"/>
                </a:lnTo>
                <a:lnTo>
                  <a:pt x="1149" y="65"/>
                </a:lnTo>
                <a:lnTo>
                  <a:pt x="1149" y="81"/>
                </a:lnTo>
                <a:lnTo>
                  <a:pt x="1165" y="97"/>
                </a:lnTo>
                <a:lnTo>
                  <a:pt x="1165" y="113"/>
                </a:lnTo>
                <a:lnTo>
                  <a:pt x="1197" y="178"/>
                </a:lnTo>
                <a:lnTo>
                  <a:pt x="1197" y="194"/>
                </a:lnTo>
                <a:lnTo>
                  <a:pt x="1213" y="210"/>
                </a:lnTo>
                <a:lnTo>
                  <a:pt x="1213" y="227"/>
                </a:lnTo>
                <a:lnTo>
                  <a:pt x="1246" y="275"/>
                </a:lnTo>
                <a:lnTo>
                  <a:pt x="1262" y="291"/>
                </a:lnTo>
                <a:lnTo>
                  <a:pt x="1343" y="405"/>
                </a:lnTo>
                <a:lnTo>
                  <a:pt x="1343" y="421"/>
                </a:lnTo>
                <a:lnTo>
                  <a:pt x="1327" y="405"/>
                </a:lnTo>
                <a:lnTo>
                  <a:pt x="1327" y="405"/>
                </a:lnTo>
                <a:lnTo>
                  <a:pt x="1359" y="486"/>
                </a:lnTo>
                <a:lnTo>
                  <a:pt x="1424" y="599"/>
                </a:lnTo>
                <a:lnTo>
                  <a:pt x="1424" y="599"/>
                </a:lnTo>
                <a:lnTo>
                  <a:pt x="1424" y="599"/>
                </a:lnTo>
                <a:lnTo>
                  <a:pt x="1440" y="631"/>
                </a:lnTo>
                <a:lnTo>
                  <a:pt x="1456" y="664"/>
                </a:lnTo>
                <a:lnTo>
                  <a:pt x="1489" y="712"/>
                </a:lnTo>
                <a:lnTo>
                  <a:pt x="1505" y="728"/>
                </a:lnTo>
                <a:lnTo>
                  <a:pt x="1489" y="728"/>
                </a:lnTo>
                <a:lnTo>
                  <a:pt x="1472" y="728"/>
                </a:lnTo>
                <a:lnTo>
                  <a:pt x="1489" y="728"/>
                </a:lnTo>
                <a:lnTo>
                  <a:pt x="1505" y="728"/>
                </a:lnTo>
                <a:lnTo>
                  <a:pt x="1521" y="745"/>
                </a:lnTo>
                <a:lnTo>
                  <a:pt x="1537" y="777"/>
                </a:lnTo>
                <a:lnTo>
                  <a:pt x="1521" y="777"/>
                </a:lnTo>
                <a:lnTo>
                  <a:pt x="1553" y="809"/>
                </a:lnTo>
                <a:lnTo>
                  <a:pt x="1553" y="906"/>
                </a:lnTo>
                <a:lnTo>
                  <a:pt x="1553" y="987"/>
                </a:lnTo>
                <a:lnTo>
                  <a:pt x="1553" y="1036"/>
                </a:lnTo>
                <a:lnTo>
                  <a:pt x="1537" y="1068"/>
                </a:lnTo>
                <a:lnTo>
                  <a:pt x="1537" y="1101"/>
                </a:lnTo>
                <a:lnTo>
                  <a:pt x="1553" y="1117"/>
                </a:lnTo>
                <a:lnTo>
                  <a:pt x="1537" y="1149"/>
                </a:lnTo>
                <a:lnTo>
                  <a:pt x="1537" y="1165"/>
                </a:lnTo>
                <a:lnTo>
                  <a:pt x="1505" y="1165"/>
                </a:lnTo>
                <a:lnTo>
                  <a:pt x="1472" y="1182"/>
                </a:lnTo>
                <a:lnTo>
                  <a:pt x="1440" y="1182"/>
                </a:lnTo>
                <a:lnTo>
                  <a:pt x="1424" y="1198"/>
                </a:lnTo>
                <a:lnTo>
                  <a:pt x="1392" y="1198"/>
                </a:lnTo>
                <a:lnTo>
                  <a:pt x="1392" y="1198"/>
                </a:lnTo>
                <a:lnTo>
                  <a:pt x="1375" y="1165"/>
                </a:lnTo>
                <a:lnTo>
                  <a:pt x="1392" y="1165"/>
                </a:lnTo>
                <a:lnTo>
                  <a:pt x="1408" y="1182"/>
                </a:lnTo>
                <a:lnTo>
                  <a:pt x="1424" y="1182"/>
                </a:lnTo>
                <a:lnTo>
                  <a:pt x="1424" y="1165"/>
                </a:lnTo>
                <a:lnTo>
                  <a:pt x="1424" y="1149"/>
                </a:lnTo>
                <a:lnTo>
                  <a:pt x="1375" y="1149"/>
                </a:lnTo>
                <a:lnTo>
                  <a:pt x="1343" y="1084"/>
                </a:lnTo>
                <a:lnTo>
                  <a:pt x="1359" y="1084"/>
                </a:lnTo>
                <a:lnTo>
                  <a:pt x="1343" y="1052"/>
                </a:lnTo>
                <a:lnTo>
                  <a:pt x="1294" y="1052"/>
                </a:lnTo>
                <a:lnTo>
                  <a:pt x="1246" y="1052"/>
                </a:lnTo>
                <a:lnTo>
                  <a:pt x="1246" y="1036"/>
                </a:lnTo>
                <a:lnTo>
                  <a:pt x="1230" y="1003"/>
                </a:lnTo>
                <a:lnTo>
                  <a:pt x="1213" y="971"/>
                </a:lnTo>
                <a:lnTo>
                  <a:pt x="1213" y="971"/>
                </a:lnTo>
                <a:lnTo>
                  <a:pt x="1213" y="939"/>
                </a:lnTo>
                <a:lnTo>
                  <a:pt x="1197" y="939"/>
                </a:lnTo>
                <a:lnTo>
                  <a:pt x="1181" y="923"/>
                </a:lnTo>
                <a:lnTo>
                  <a:pt x="1197" y="923"/>
                </a:lnTo>
                <a:lnTo>
                  <a:pt x="1197" y="906"/>
                </a:lnTo>
                <a:lnTo>
                  <a:pt x="1213" y="890"/>
                </a:lnTo>
                <a:lnTo>
                  <a:pt x="1197" y="890"/>
                </a:lnTo>
                <a:lnTo>
                  <a:pt x="1181" y="923"/>
                </a:lnTo>
                <a:lnTo>
                  <a:pt x="1165" y="923"/>
                </a:lnTo>
                <a:lnTo>
                  <a:pt x="1149" y="890"/>
                </a:lnTo>
                <a:lnTo>
                  <a:pt x="1149" y="874"/>
                </a:lnTo>
                <a:lnTo>
                  <a:pt x="1149" y="858"/>
                </a:lnTo>
                <a:lnTo>
                  <a:pt x="1149" y="842"/>
                </a:lnTo>
                <a:lnTo>
                  <a:pt x="1165" y="842"/>
                </a:lnTo>
                <a:lnTo>
                  <a:pt x="1165" y="825"/>
                </a:lnTo>
                <a:lnTo>
                  <a:pt x="1165" y="825"/>
                </a:lnTo>
                <a:lnTo>
                  <a:pt x="1165" y="825"/>
                </a:lnTo>
                <a:lnTo>
                  <a:pt x="1133" y="842"/>
                </a:lnTo>
                <a:lnTo>
                  <a:pt x="1116" y="825"/>
                </a:lnTo>
                <a:lnTo>
                  <a:pt x="1100" y="825"/>
                </a:lnTo>
                <a:lnTo>
                  <a:pt x="1116" y="842"/>
                </a:lnTo>
                <a:lnTo>
                  <a:pt x="1133" y="858"/>
                </a:lnTo>
                <a:lnTo>
                  <a:pt x="1133" y="874"/>
                </a:lnTo>
                <a:lnTo>
                  <a:pt x="1116" y="874"/>
                </a:lnTo>
                <a:lnTo>
                  <a:pt x="1100" y="842"/>
                </a:lnTo>
                <a:lnTo>
                  <a:pt x="1084" y="842"/>
                </a:lnTo>
                <a:lnTo>
                  <a:pt x="1084" y="842"/>
                </a:lnTo>
                <a:lnTo>
                  <a:pt x="1100" y="858"/>
                </a:lnTo>
                <a:lnTo>
                  <a:pt x="1084" y="842"/>
                </a:lnTo>
                <a:lnTo>
                  <a:pt x="1052" y="793"/>
                </a:lnTo>
                <a:lnTo>
                  <a:pt x="1052" y="793"/>
                </a:lnTo>
                <a:lnTo>
                  <a:pt x="1052" y="793"/>
                </a:lnTo>
                <a:lnTo>
                  <a:pt x="1035" y="777"/>
                </a:lnTo>
                <a:lnTo>
                  <a:pt x="1052" y="777"/>
                </a:lnTo>
                <a:lnTo>
                  <a:pt x="1035" y="761"/>
                </a:lnTo>
                <a:lnTo>
                  <a:pt x="1019" y="745"/>
                </a:lnTo>
                <a:lnTo>
                  <a:pt x="1019" y="745"/>
                </a:lnTo>
                <a:lnTo>
                  <a:pt x="1019" y="745"/>
                </a:lnTo>
                <a:lnTo>
                  <a:pt x="1019" y="728"/>
                </a:lnTo>
                <a:lnTo>
                  <a:pt x="1052" y="745"/>
                </a:lnTo>
                <a:lnTo>
                  <a:pt x="1052" y="728"/>
                </a:lnTo>
                <a:lnTo>
                  <a:pt x="1068" y="728"/>
                </a:lnTo>
                <a:lnTo>
                  <a:pt x="1035" y="728"/>
                </a:lnTo>
                <a:lnTo>
                  <a:pt x="1019" y="728"/>
                </a:lnTo>
                <a:lnTo>
                  <a:pt x="1035" y="728"/>
                </a:lnTo>
                <a:lnTo>
                  <a:pt x="1035" y="712"/>
                </a:lnTo>
                <a:lnTo>
                  <a:pt x="1019" y="728"/>
                </a:lnTo>
                <a:lnTo>
                  <a:pt x="1035" y="712"/>
                </a:lnTo>
                <a:lnTo>
                  <a:pt x="1035" y="712"/>
                </a:lnTo>
                <a:lnTo>
                  <a:pt x="1052" y="664"/>
                </a:lnTo>
                <a:lnTo>
                  <a:pt x="1052" y="647"/>
                </a:lnTo>
                <a:lnTo>
                  <a:pt x="1052" y="631"/>
                </a:lnTo>
                <a:lnTo>
                  <a:pt x="1035" y="664"/>
                </a:lnTo>
                <a:lnTo>
                  <a:pt x="1035" y="664"/>
                </a:lnTo>
                <a:lnTo>
                  <a:pt x="1035" y="647"/>
                </a:lnTo>
                <a:lnTo>
                  <a:pt x="1003" y="631"/>
                </a:lnTo>
                <a:lnTo>
                  <a:pt x="1003" y="631"/>
                </a:lnTo>
                <a:lnTo>
                  <a:pt x="1003" y="615"/>
                </a:lnTo>
                <a:lnTo>
                  <a:pt x="1003" y="631"/>
                </a:lnTo>
                <a:lnTo>
                  <a:pt x="1003" y="631"/>
                </a:lnTo>
                <a:lnTo>
                  <a:pt x="1003" y="631"/>
                </a:lnTo>
                <a:lnTo>
                  <a:pt x="987" y="647"/>
                </a:lnTo>
                <a:lnTo>
                  <a:pt x="1019" y="647"/>
                </a:lnTo>
                <a:lnTo>
                  <a:pt x="1019" y="664"/>
                </a:lnTo>
                <a:lnTo>
                  <a:pt x="1019" y="696"/>
                </a:lnTo>
                <a:lnTo>
                  <a:pt x="1003" y="696"/>
                </a:lnTo>
                <a:lnTo>
                  <a:pt x="987" y="664"/>
                </a:lnTo>
                <a:lnTo>
                  <a:pt x="1003" y="696"/>
                </a:lnTo>
                <a:lnTo>
                  <a:pt x="1003" y="696"/>
                </a:lnTo>
                <a:lnTo>
                  <a:pt x="971" y="664"/>
                </a:lnTo>
                <a:lnTo>
                  <a:pt x="971" y="599"/>
                </a:lnTo>
                <a:lnTo>
                  <a:pt x="987" y="534"/>
                </a:lnTo>
                <a:lnTo>
                  <a:pt x="987" y="486"/>
                </a:lnTo>
                <a:lnTo>
                  <a:pt x="971" y="453"/>
                </a:lnTo>
                <a:lnTo>
                  <a:pt x="987" y="453"/>
                </a:lnTo>
                <a:lnTo>
                  <a:pt x="987" y="437"/>
                </a:lnTo>
                <a:lnTo>
                  <a:pt x="955" y="421"/>
                </a:lnTo>
                <a:lnTo>
                  <a:pt x="938" y="388"/>
                </a:lnTo>
                <a:lnTo>
                  <a:pt x="890" y="388"/>
                </a:lnTo>
                <a:lnTo>
                  <a:pt x="890" y="372"/>
                </a:lnTo>
                <a:lnTo>
                  <a:pt x="874" y="372"/>
                </a:lnTo>
                <a:lnTo>
                  <a:pt x="874" y="356"/>
                </a:lnTo>
                <a:lnTo>
                  <a:pt x="874" y="356"/>
                </a:lnTo>
                <a:close/>
                <a:moveTo>
                  <a:pt x="145" y="210"/>
                </a:moveTo>
                <a:lnTo>
                  <a:pt x="64" y="227"/>
                </a:lnTo>
                <a:lnTo>
                  <a:pt x="145" y="210"/>
                </a:lnTo>
                <a:lnTo>
                  <a:pt x="162" y="210"/>
                </a:lnTo>
                <a:lnTo>
                  <a:pt x="162" y="210"/>
                </a:lnTo>
                <a:lnTo>
                  <a:pt x="145" y="210"/>
                </a:lnTo>
                <a:lnTo>
                  <a:pt x="145" y="210"/>
                </a:lnTo>
                <a:close/>
                <a:moveTo>
                  <a:pt x="1343" y="405"/>
                </a:moveTo>
                <a:lnTo>
                  <a:pt x="1327" y="388"/>
                </a:lnTo>
                <a:lnTo>
                  <a:pt x="1294" y="356"/>
                </a:lnTo>
                <a:lnTo>
                  <a:pt x="1327" y="388"/>
                </a:lnTo>
                <a:lnTo>
                  <a:pt x="1343" y="405"/>
                </a:lnTo>
                <a:lnTo>
                  <a:pt x="1343" y="405"/>
                </a:lnTo>
                <a:close/>
                <a:moveTo>
                  <a:pt x="1343" y="405"/>
                </a:moveTo>
                <a:lnTo>
                  <a:pt x="1375" y="437"/>
                </a:lnTo>
                <a:lnTo>
                  <a:pt x="1392" y="469"/>
                </a:lnTo>
                <a:lnTo>
                  <a:pt x="1392" y="486"/>
                </a:lnTo>
                <a:lnTo>
                  <a:pt x="1375" y="486"/>
                </a:lnTo>
                <a:lnTo>
                  <a:pt x="1375" y="453"/>
                </a:lnTo>
                <a:lnTo>
                  <a:pt x="1375" y="437"/>
                </a:lnTo>
                <a:lnTo>
                  <a:pt x="1359" y="437"/>
                </a:lnTo>
                <a:lnTo>
                  <a:pt x="1359" y="453"/>
                </a:lnTo>
                <a:lnTo>
                  <a:pt x="1343" y="437"/>
                </a:lnTo>
                <a:lnTo>
                  <a:pt x="1343" y="437"/>
                </a:lnTo>
                <a:lnTo>
                  <a:pt x="1343" y="421"/>
                </a:lnTo>
                <a:lnTo>
                  <a:pt x="1343" y="421"/>
                </a:lnTo>
                <a:lnTo>
                  <a:pt x="1359" y="437"/>
                </a:lnTo>
                <a:lnTo>
                  <a:pt x="1343" y="405"/>
                </a:lnTo>
                <a:lnTo>
                  <a:pt x="1343" y="405"/>
                </a:lnTo>
                <a:close/>
                <a:moveTo>
                  <a:pt x="1359" y="453"/>
                </a:moveTo>
                <a:lnTo>
                  <a:pt x="1359" y="437"/>
                </a:lnTo>
                <a:lnTo>
                  <a:pt x="1375" y="453"/>
                </a:lnTo>
                <a:lnTo>
                  <a:pt x="1375" y="486"/>
                </a:lnTo>
                <a:lnTo>
                  <a:pt x="1375" y="502"/>
                </a:lnTo>
                <a:lnTo>
                  <a:pt x="1392" y="534"/>
                </a:lnTo>
                <a:lnTo>
                  <a:pt x="1359" y="486"/>
                </a:lnTo>
                <a:lnTo>
                  <a:pt x="1359" y="453"/>
                </a:lnTo>
                <a:lnTo>
                  <a:pt x="1359" y="453"/>
                </a:lnTo>
                <a:close/>
                <a:moveTo>
                  <a:pt x="1149" y="923"/>
                </a:moveTo>
                <a:lnTo>
                  <a:pt x="1165" y="939"/>
                </a:lnTo>
                <a:lnTo>
                  <a:pt x="1165" y="939"/>
                </a:lnTo>
                <a:lnTo>
                  <a:pt x="1149" y="906"/>
                </a:lnTo>
                <a:lnTo>
                  <a:pt x="1133" y="906"/>
                </a:lnTo>
                <a:lnTo>
                  <a:pt x="1149" y="890"/>
                </a:lnTo>
                <a:lnTo>
                  <a:pt x="1149" y="923"/>
                </a:lnTo>
                <a:lnTo>
                  <a:pt x="1149" y="923"/>
                </a:lnTo>
                <a:close/>
                <a:moveTo>
                  <a:pt x="1553" y="1117"/>
                </a:moveTo>
                <a:lnTo>
                  <a:pt x="1537" y="1165"/>
                </a:lnTo>
                <a:lnTo>
                  <a:pt x="1505" y="1214"/>
                </a:lnTo>
                <a:lnTo>
                  <a:pt x="1537" y="1149"/>
                </a:lnTo>
                <a:lnTo>
                  <a:pt x="1553" y="1149"/>
                </a:lnTo>
                <a:lnTo>
                  <a:pt x="1537" y="1133"/>
                </a:lnTo>
                <a:lnTo>
                  <a:pt x="1553" y="1117"/>
                </a:lnTo>
                <a:lnTo>
                  <a:pt x="1553" y="111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0040" y="3819600"/>
            <a:ext cx="585720" cy="627120"/>
          </a:xfrm>
          <a:custGeom>
            <a:avLst/>
            <a:gdLst/>
            <a:ahLst/>
            <a:rect l="l" t="t" r="r" b="b"/>
            <a:pathLst>
              <a:path w="922" h="987">
                <a:moveTo>
                  <a:pt x="162" y="745"/>
                </a:moveTo>
                <a:lnTo>
                  <a:pt x="162" y="745"/>
                </a:lnTo>
                <a:lnTo>
                  <a:pt x="162" y="728"/>
                </a:lnTo>
                <a:lnTo>
                  <a:pt x="162" y="712"/>
                </a:lnTo>
                <a:lnTo>
                  <a:pt x="162" y="680"/>
                </a:lnTo>
                <a:lnTo>
                  <a:pt x="178" y="664"/>
                </a:lnTo>
                <a:lnTo>
                  <a:pt x="194" y="647"/>
                </a:lnTo>
                <a:lnTo>
                  <a:pt x="194" y="631"/>
                </a:lnTo>
                <a:lnTo>
                  <a:pt x="178" y="631"/>
                </a:lnTo>
                <a:lnTo>
                  <a:pt x="178" y="615"/>
                </a:lnTo>
                <a:lnTo>
                  <a:pt x="162" y="583"/>
                </a:lnTo>
                <a:lnTo>
                  <a:pt x="145" y="567"/>
                </a:lnTo>
                <a:lnTo>
                  <a:pt x="145" y="534"/>
                </a:lnTo>
                <a:lnTo>
                  <a:pt x="129" y="518"/>
                </a:lnTo>
                <a:lnTo>
                  <a:pt x="113" y="453"/>
                </a:lnTo>
                <a:lnTo>
                  <a:pt x="113" y="453"/>
                </a:lnTo>
                <a:lnTo>
                  <a:pt x="97" y="389"/>
                </a:lnTo>
                <a:lnTo>
                  <a:pt x="81" y="389"/>
                </a:lnTo>
                <a:lnTo>
                  <a:pt x="81" y="340"/>
                </a:lnTo>
                <a:lnTo>
                  <a:pt x="65" y="291"/>
                </a:lnTo>
                <a:lnTo>
                  <a:pt x="65" y="275"/>
                </a:lnTo>
                <a:lnTo>
                  <a:pt x="48" y="259"/>
                </a:lnTo>
                <a:lnTo>
                  <a:pt x="32" y="211"/>
                </a:lnTo>
                <a:lnTo>
                  <a:pt x="32" y="162"/>
                </a:lnTo>
                <a:lnTo>
                  <a:pt x="16" y="146"/>
                </a:lnTo>
                <a:lnTo>
                  <a:pt x="16" y="146"/>
                </a:lnTo>
                <a:lnTo>
                  <a:pt x="0" y="81"/>
                </a:lnTo>
                <a:lnTo>
                  <a:pt x="0" y="65"/>
                </a:lnTo>
                <a:lnTo>
                  <a:pt x="16" y="65"/>
                </a:lnTo>
                <a:lnTo>
                  <a:pt x="32" y="49"/>
                </a:lnTo>
                <a:lnTo>
                  <a:pt x="48" y="49"/>
                </a:lnTo>
                <a:lnTo>
                  <a:pt x="113" y="49"/>
                </a:lnTo>
                <a:lnTo>
                  <a:pt x="113" y="49"/>
                </a:lnTo>
                <a:lnTo>
                  <a:pt x="145" y="49"/>
                </a:lnTo>
                <a:lnTo>
                  <a:pt x="145" y="49"/>
                </a:lnTo>
                <a:lnTo>
                  <a:pt x="178" y="49"/>
                </a:lnTo>
                <a:lnTo>
                  <a:pt x="226" y="32"/>
                </a:lnTo>
                <a:lnTo>
                  <a:pt x="259" y="32"/>
                </a:lnTo>
                <a:lnTo>
                  <a:pt x="275" y="32"/>
                </a:lnTo>
                <a:lnTo>
                  <a:pt x="291" y="32"/>
                </a:lnTo>
                <a:lnTo>
                  <a:pt x="356" y="16"/>
                </a:lnTo>
                <a:lnTo>
                  <a:pt x="372" y="16"/>
                </a:lnTo>
                <a:lnTo>
                  <a:pt x="437" y="0"/>
                </a:lnTo>
                <a:lnTo>
                  <a:pt x="437" y="16"/>
                </a:lnTo>
                <a:lnTo>
                  <a:pt x="421" y="32"/>
                </a:lnTo>
                <a:lnTo>
                  <a:pt x="404" y="81"/>
                </a:lnTo>
                <a:lnTo>
                  <a:pt x="404" y="81"/>
                </a:lnTo>
                <a:lnTo>
                  <a:pt x="437" y="97"/>
                </a:lnTo>
                <a:lnTo>
                  <a:pt x="453" y="113"/>
                </a:lnTo>
                <a:lnTo>
                  <a:pt x="453" y="113"/>
                </a:lnTo>
                <a:lnTo>
                  <a:pt x="469" y="113"/>
                </a:lnTo>
                <a:lnTo>
                  <a:pt x="502" y="113"/>
                </a:lnTo>
                <a:lnTo>
                  <a:pt x="518" y="146"/>
                </a:lnTo>
                <a:lnTo>
                  <a:pt x="518" y="162"/>
                </a:lnTo>
                <a:lnTo>
                  <a:pt x="550" y="211"/>
                </a:lnTo>
                <a:lnTo>
                  <a:pt x="566" y="211"/>
                </a:lnTo>
                <a:lnTo>
                  <a:pt x="615" y="243"/>
                </a:lnTo>
                <a:lnTo>
                  <a:pt x="631" y="259"/>
                </a:lnTo>
                <a:lnTo>
                  <a:pt x="647" y="275"/>
                </a:lnTo>
                <a:lnTo>
                  <a:pt x="663" y="291"/>
                </a:lnTo>
                <a:lnTo>
                  <a:pt x="663" y="291"/>
                </a:lnTo>
                <a:lnTo>
                  <a:pt x="680" y="291"/>
                </a:lnTo>
                <a:lnTo>
                  <a:pt x="696" y="308"/>
                </a:lnTo>
                <a:lnTo>
                  <a:pt x="696" y="324"/>
                </a:lnTo>
                <a:lnTo>
                  <a:pt x="712" y="340"/>
                </a:lnTo>
                <a:lnTo>
                  <a:pt x="712" y="340"/>
                </a:lnTo>
                <a:lnTo>
                  <a:pt x="712" y="340"/>
                </a:lnTo>
                <a:lnTo>
                  <a:pt x="712" y="340"/>
                </a:lnTo>
                <a:lnTo>
                  <a:pt x="712" y="356"/>
                </a:lnTo>
                <a:lnTo>
                  <a:pt x="728" y="356"/>
                </a:lnTo>
                <a:lnTo>
                  <a:pt x="744" y="372"/>
                </a:lnTo>
                <a:lnTo>
                  <a:pt x="760" y="389"/>
                </a:lnTo>
                <a:lnTo>
                  <a:pt x="777" y="389"/>
                </a:lnTo>
                <a:lnTo>
                  <a:pt x="793" y="389"/>
                </a:lnTo>
                <a:lnTo>
                  <a:pt x="793" y="405"/>
                </a:lnTo>
                <a:lnTo>
                  <a:pt x="793" y="421"/>
                </a:lnTo>
                <a:lnTo>
                  <a:pt x="793" y="421"/>
                </a:lnTo>
                <a:lnTo>
                  <a:pt x="809" y="437"/>
                </a:lnTo>
                <a:lnTo>
                  <a:pt x="809" y="453"/>
                </a:lnTo>
                <a:lnTo>
                  <a:pt x="809" y="469"/>
                </a:lnTo>
                <a:lnTo>
                  <a:pt x="825" y="486"/>
                </a:lnTo>
                <a:lnTo>
                  <a:pt x="841" y="486"/>
                </a:lnTo>
                <a:lnTo>
                  <a:pt x="874" y="534"/>
                </a:lnTo>
                <a:lnTo>
                  <a:pt x="874" y="550"/>
                </a:lnTo>
                <a:lnTo>
                  <a:pt x="890" y="583"/>
                </a:lnTo>
                <a:lnTo>
                  <a:pt x="922" y="599"/>
                </a:lnTo>
                <a:lnTo>
                  <a:pt x="922" y="615"/>
                </a:lnTo>
                <a:lnTo>
                  <a:pt x="922" y="615"/>
                </a:lnTo>
                <a:lnTo>
                  <a:pt x="890" y="631"/>
                </a:lnTo>
                <a:lnTo>
                  <a:pt x="874" y="631"/>
                </a:lnTo>
                <a:lnTo>
                  <a:pt x="874" y="631"/>
                </a:lnTo>
                <a:lnTo>
                  <a:pt x="874" y="615"/>
                </a:lnTo>
                <a:lnTo>
                  <a:pt x="874" y="631"/>
                </a:lnTo>
                <a:lnTo>
                  <a:pt x="858" y="615"/>
                </a:lnTo>
                <a:lnTo>
                  <a:pt x="874" y="631"/>
                </a:lnTo>
                <a:lnTo>
                  <a:pt x="874" y="615"/>
                </a:lnTo>
                <a:lnTo>
                  <a:pt x="874" y="631"/>
                </a:lnTo>
                <a:lnTo>
                  <a:pt x="874" y="631"/>
                </a:lnTo>
                <a:lnTo>
                  <a:pt x="890" y="631"/>
                </a:lnTo>
                <a:lnTo>
                  <a:pt x="906" y="631"/>
                </a:lnTo>
                <a:lnTo>
                  <a:pt x="906" y="647"/>
                </a:lnTo>
                <a:lnTo>
                  <a:pt x="890" y="664"/>
                </a:lnTo>
                <a:lnTo>
                  <a:pt x="890" y="647"/>
                </a:lnTo>
                <a:lnTo>
                  <a:pt x="874" y="647"/>
                </a:lnTo>
                <a:lnTo>
                  <a:pt x="890" y="664"/>
                </a:lnTo>
                <a:lnTo>
                  <a:pt x="858" y="647"/>
                </a:lnTo>
                <a:lnTo>
                  <a:pt x="890" y="680"/>
                </a:lnTo>
                <a:lnTo>
                  <a:pt x="890" y="696"/>
                </a:lnTo>
                <a:lnTo>
                  <a:pt x="874" y="680"/>
                </a:lnTo>
                <a:lnTo>
                  <a:pt x="874" y="696"/>
                </a:lnTo>
                <a:lnTo>
                  <a:pt x="890" y="712"/>
                </a:lnTo>
                <a:lnTo>
                  <a:pt x="890" y="712"/>
                </a:lnTo>
                <a:lnTo>
                  <a:pt x="874" y="745"/>
                </a:lnTo>
                <a:lnTo>
                  <a:pt x="858" y="745"/>
                </a:lnTo>
                <a:lnTo>
                  <a:pt x="858" y="761"/>
                </a:lnTo>
                <a:lnTo>
                  <a:pt x="858" y="761"/>
                </a:lnTo>
                <a:lnTo>
                  <a:pt x="858" y="761"/>
                </a:lnTo>
                <a:lnTo>
                  <a:pt x="874" y="761"/>
                </a:lnTo>
                <a:lnTo>
                  <a:pt x="874" y="777"/>
                </a:lnTo>
                <a:lnTo>
                  <a:pt x="874" y="793"/>
                </a:lnTo>
                <a:lnTo>
                  <a:pt x="841" y="793"/>
                </a:lnTo>
                <a:lnTo>
                  <a:pt x="841" y="809"/>
                </a:lnTo>
                <a:lnTo>
                  <a:pt x="858" y="826"/>
                </a:lnTo>
                <a:lnTo>
                  <a:pt x="841" y="809"/>
                </a:lnTo>
                <a:lnTo>
                  <a:pt x="858" y="826"/>
                </a:lnTo>
                <a:lnTo>
                  <a:pt x="841" y="842"/>
                </a:lnTo>
                <a:lnTo>
                  <a:pt x="858" y="842"/>
                </a:lnTo>
                <a:lnTo>
                  <a:pt x="858" y="858"/>
                </a:lnTo>
                <a:lnTo>
                  <a:pt x="858" y="874"/>
                </a:lnTo>
                <a:lnTo>
                  <a:pt x="858" y="890"/>
                </a:lnTo>
                <a:lnTo>
                  <a:pt x="809" y="890"/>
                </a:lnTo>
                <a:lnTo>
                  <a:pt x="777" y="874"/>
                </a:lnTo>
                <a:lnTo>
                  <a:pt x="777" y="874"/>
                </a:lnTo>
                <a:lnTo>
                  <a:pt x="777" y="890"/>
                </a:lnTo>
                <a:lnTo>
                  <a:pt x="760" y="890"/>
                </a:lnTo>
                <a:lnTo>
                  <a:pt x="760" y="890"/>
                </a:lnTo>
                <a:lnTo>
                  <a:pt x="760" y="923"/>
                </a:lnTo>
                <a:lnTo>
                  <a:pt x="777" y="939"/>
                </a:lnTo>
                <a:lnTo>
                  <a:pt x="777" y="987"/>
                </a:lnTo>
                <a:lnTo>
                  <a:pt x="744" y="987"/>
                </a:lnTo>
                <a:lnTo>
                  <a:pt x="744" y="955"/>
                </a:lnTo>
                <a:lnTo>
                  <a:pt x="728" y="955"/>
                </a:lnTo>
                <a:lnTo>
                  <a:pt x="728" y="939"/>
                </a:lnTo>
                <a:lnTo>
                  <a:pt x="696" y="939"/>
                </a:lnTo>
                <a:lnTo>
                  <a:pt x="680" y="939"/>
                </a:lnTo>
                <a:lnTo>
                  <a:pt x="663" y="939"/>
                </a:lnTo>
                <a:lnTo>
                  <a:pt x="647" y="955"/>
                </a:lnTo>
                <a:lnTo>
                  <a:pt x="566" y="955"/>
                </a:lnTo>
                <a:lnTo>
                  <a:pt x="534" y="955"/>
                </a:lnTo>
                <a:lnTo>
                  <a:pt x="534" y="955"/>
                </a:lnTo>
                <a:lnTo>
                  <a:pt x="469" y="955"/>
                </a:lnTo>
                <a:lnTo>
                  <a:pt x="453" y="955"/>
                </a:lnTo>
                <a:lnTo>
                  <a:pt x="404" y="971"/>
                </a:lnTo>
                <a:lnTo>
                  <a:pt x="388" y="971"/>
                </a:lnTo>
                <a:lnTo>
                  <a:pt x="340" y="971"/>
                </a:lnTo>
                <a:lnTo>
                  <a:pt x="323" y="971"/>
                </a:lnTo>
                <a:lnTo>
                  <a:pt x="243" y="971"/>
                </a:lnTo>
                <a:lnTo>
                  <a:pt x="243" y="971"/>
                </a:lnTo>
                <a:lnTo>
                  <a:pt x="226" y="955"/>
                </a:lnTo>
                <a:lnTo>
                  <a:pt x="226" y="939"/>
                </a:lnTo>
                <a:lnTo>
                  <a:pt x="210" y="923"/>
                </a:lnTo>
                <a:lnTo>
                  <a:pt x="194" y="906"/>
                </a:lnTo>
                <a:lnTo>
                  <a:pt x="178" y="874"/>
                </a:lnTo>
                <a:lnTo>
                  <a:pt x="178" y="842"/>
                </a:lnTo>
                <a:lnTo>
                  <a:pt x="178" y="809"/>
                </a:lnTo>
                <a:lnTo>
                  <a:pt x="162" y="745"/>
                </a:lnTo>
                <a:lnTo>
                  <a:pt x="162" y="745"/>
                </a:lnTo>
                <a:close/>
                <a:moveTo>
                  <a:pt x="858" y="842"/>
                </a:moveTo>
                <a:lnTo>
                  <a:pt x="874" y="826"/>
                </a:lnTo>
                <a:lnTo>
                  <a:pt x="874" y="842"/>
                </a:lnTo>
                <a:lnTo>
                  <a:pt x="874" y="890"/>
                </a:lnTo>
                <a:lnTo>
                  <a:pt x="858" y="890"/>
                </a:lnTo>
                <a:lnTo>
                  <a:pt x="858" y="858"/>
                </a:lnTo>
                <a:lnTo>
                  <a:pt x="858" y="858"/>
                </a:lnTo>
                <a:lnTo>
                  <a:pt x="858" y="842"/>
                </a:lnTo>
                <a:lnTo>
                  <a:pt x="858" y="84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73600" y="4179960"/>
            <a:ext cx="615960" cy="555480"/>
          </a:xfrm>
          <a:custGeom>
            <a:avLst/>
            <a:gdLst/>
            <a:ahLst/>
            <a:rect l="l" t="t" r="r" b="b"/>
            <a:pathLst>
              <a:path w="971" h="874">
                <a:moveTo>
                  <a:pt x="858" y="598"/>
                </a:moveTo>
                <a:lnTo>
                  <a:pt x="825" y="615"/>
                </a:lnTo>
                <a:lnTo>
                  <a:pt x="825" y="598"/>
                </a:lnTo>
                <a:lnTo>
                  <a:pt x="777" y="582"/>
                </a:lnTo>
                <a:lnTo>
                  <a:pt x="761" y="566"/>
                </a:lnTo>
                <a:lnTo>
                  <a:pt x="728" y="566"/>
                </a:lnTo>
                <a:lnTo>
                  <a:pt x="712" y="582"/>
                </a:lnTo>
                <a:lnTo>
                  <a:pt x="696" y="615"/>
                </a:lnTo>
                <a:lnTo>
                  <a:pt x="696" y="631"/>
                </a:lnTo>
                <a:lnTo>
                  <a:pt x="728" y="647"/>
                </a:lnTo>
                <a:lnTo>
                  <a:pt x="761" y="647"/>
                </a:lnTo>
                <a:lnTo>
                  <a:pt x="777" y="631"/>
                </a:lnTo>
                <a:lnTo>
                  <a:pt x="793" y="615"/>
                </a:lnTo>
                <a:lnTo>
                  <a:pt x="809" y="631"/>
                </a:lnTo>
                <a:lnTo>
                  <a:pt x="825" y="615"/>
                </a:lnTo>
                <a:lnTo>
                  <a:pt x="825" y="615"/>
                </a:lnTo>
                <a:lnTo>
                  <a:pt x="841" y="615"/>
                </a:lnTo>
                <a:lnTo>
                  <a:pt x="841" y="615"/>
                </a:lnTo>
                <a:lnTo>
                  <a:pt x="825" y="631"/>
                </a:lnTo>
                <a:lnTo>
                  <a:pt x="809" y="647"/>
                </a:lnTo>
                <a:lnTo>
                  <a:pt x="809" y="663"/>
                </a:lnTo>
                <a:lnTo>
                  <a:pt x="825" y="647"/>
                </a:lnTo>
                <a:lnTo>
                  <a:pt x="825" y="663"/>
                </a:lnTo>
                <a:lnTo>
                  <a:pt x="858" y="679"/>
                </a:lnTo>
                <a:lnTo>
                  <a:pt x="858" y="663"/>
                </a:lnTo>
                <a:lnTo>
                  <a:pt x="858" y="647"/>
                </a:lnTo>
                <a:lnTo>
                  <a:pt x="890" y="631"/>
                </a:lnTo>
                <a:lnTo>
                  <a:pt x="874" y="647"/>
                </a:lnTo>
                <a:lnTo>
                  <a:pt x="890" y="647"/>
                </a:lnTo>
                <a:lnTo>
                  <a:pt x="890" y="663"/>
                </a:lnTo>
                <a:lnTo>
                  <a:pt x="890" y="679"/>
                </a:lnTo>
                <a:lnTo>
                  <a:pt x="890" y="679"/>
                </a:lnTo>
                <a:lnTo>
                  <a:pt x="906" y="679"/>
                </a:lnTo>
                <a:lnTo>
                  <a:pt x="890" y="695"/>
                </a:lnTo>
                <a:lnTo>
                  <a:pt x="874" y="679"/>
                </a:lnTo>
                <a:lnTo>
                  <a:pt x="874" y="695"/>
                </a:lnTo>
                <a:lnTo>
                  <a:pt x="841" y="695"/>
                </a:lnTo>
                <a:lnTo>
                  <a:pt x="858" y="712"/>
                </a:lnTo>
                <a:lnTo>
                  <a:pt x="858" y="712"/>
                </a:lnTo>
                <a:lnTo>
                  <a:pt x="874" y="728"/>
                </a:lnTo>
                <a:lnTo>
                  <a:pt x="841" y="712"/>
                </a:lnTo>
                <a:lnTo>
                  <a:pt x="841" y="712"/>
                </a:lnTo>
                <a:lnTo>
                  <a:pt x="858" y="728"/>
                </a:lnTo>
                <a:lnTo>
                  <a:pt x="841" y="728"/>
                </a:lnTo>
                <a:lnTo>
                  <a:pt x="825" y="728"/>
                </a:lnTo>
                <a:lnTo>
                  <a:pt x="841" y="728"/>
                </a:lnTo>
                <a:lnTo>
                  <a:pt x="825" y="728"/>
                </a:lnTo>
                <a:lnTo>
                  <a:pt x="874" y="760"/>
                </a:lnTo>
                <a:lnTo>
                  <a:pt x="874" y="776"/>
                </a:lnTo>
                <a:lnTo>
                  <a:pt x="906" y="776"/>
                </a:lnTo>
                <a:lnTo>
                  <a:pt x="906" y="776"/>
                </a:lnTo>
                <a:lnTo>
                  <a:pt x="922" y="776"/>
                </a:lnTo>
                <a:lnTo>
                  <a:pt x="922" y="793"/>
                </a:lnTo>
                <a:lnTo>
                  <a:pt x="939" y="776"/>
                </a:lnTo>
                <a:lnTo>
                  <a:pt x="955" y="793"/>
                </a:lnTo>
                <a:lnTo>
                  <a:pt x="955" y="809"/>
                </a:lnTo>
                <a:lnTo>
                  <a:pt x="971" y="809"/>
                </a:lnTo>
                <a:lnTo>
                  <a:pt x="955" y="825"/>
                </a:lnTo>
                <a:lnTo>
                  <a:pt x="971" y="825"/>
                </a:lnTo>
                <a:lnTo>
                  <a:pt x="971" y="841"/>
                </a:lnTo>
                <a:lnTo>
                  <a:pt x="955" y="825"/>
                </a:lnTo>
                <a:lnTo>
                  <a:pt x="955" y="841"/>
                </a:lnTo>
                <a:lnTo>
                  <a:pt x="955" y="841"/>
                </a:lnTo>
                <a:lnTo>
                  <a:pt x="955" y="857"/>
                </a:lnTo>
                <a:lnTo>
                  <a:pt x="939" y="825"/>
                </a:lnTo>
                <a:lnTo>
                  <a:pt x="939" y="841"/>
                </a:lnTo>
                <a:lnTo>
                  <a:pt x="906" y="874"/>
                </a:lnTo>
                <a:lnTo>
                  <a:pt x="922" y="825"/>
                </a:lnTo>
                <a:lnTo>
                  <a:pt x="922" y="825"/>
                </a:lnTo>
                <a:lnTo>
                  <a:pt x="922" y="841"/>
                </a:lnTo>
                <a:lnTo>
                  <a:pt x="906" y="841"/>
                </a:lnTo>
                <a:lnTo>
                  <a:pt x="906" y="825"/>
                </a:lnTo>
                <a:lnTo>
                  <a:pt x="890" y="809"/>
                </a:lnTo>
                <a:lnTo>
                  <a:pt x="890" y="809"/>
                </a:lnTo>
                <a:lnTo>
                  <a:pt x="890" y="809"/>
                </a:lnTo>
                <a:lnTo>
                  <a:pt x="858" y="809"/>
                </a:lnTo>
                <a:lnTo>
                  <a:pt x="858" y="793"/>
                </a:lnTo>
                <a:lnTo>
                  <a:pt x="825" y="793"/>
                </a:lnTo>
                <a:lnTo>
                  <a:pt x="825" y="776"/>
                </a:lnTo>
                <a:lnTo>
                  <a:pt x="825" y="776"/>
                </a:lnTo>
                <a:lnTo>
                  <a:pt x="825" y="760"/>
                </a:lnTo>
                <a:lnTo>
                  <a:pt x="793" y="760"/>
                </a:lnTo>
                <a:lnTo>
                  <a:pt x="793" y="760"/>
                </a:lnTo>
                <a:lnTo>
                  <a:pt x="777" y="760"/>
                </a:lnTo>
                <a:lnTo>
                  <a:pt x="761" y="744"/>
                </a:lnTo>
                <a:lnTo>
                  <a:pt x="761" y="760"/>
                </a:lnTo>
                <a:lnTo>
                  <a:pt x="761" y="744"/>
                </a:lnTo>
                <a:lnTo>
                  <a:pt x="744" y="744"/>
                </a:lnTo>
                <a:lnTo>
                  <a:pt x="744" y="760"/>
                </a:lnTo>
                <a:lnTo>
                  <a:pt x="777" y="776"/>
                </a:lnTo>
                <a:lnTo>
                  <a:pt x="777" y="776"/>
                </a:lnTo>
                <a:lnTo>
                  <a:pt x="777" y="793"/>
                </a:lnTo>
                <a:lnTo>
                  <a:pt x="777" y="793"/>
                </a:lnTo>
                <a:lnTo>
                  <a:pt x="777" y="793"/>
                </a:lnTo>
                <a:lnTo>
                  <a:pt x="761" y="793"/>
                </a:lnTo>
                <a:lnTo>
                  <a:pt x="777" y="825"/>
                </a:lnTo>
                <a:lnTo>
                  <a:pt x="777" y="825"/>
                </a:lnTo>
                <a:lnTo>
                  <a:pt x="777" y="825"/>
                </a:lnTo>
                <a:lnTo>
                  <a:pt x="744" y="841"/>
                </a:lnTo>
                <a:lnTo>
                  <a:pt x="744" y="825"/>
                </a:lnTo>
                <a:lnTo>
                  <a:pt x="744" y="809"/>
                </a:lnTo>
                <a:lnTo>
                  <a:pt x="728" y="809"/>
                </a:lnTo>
                <a:lnTo>
                  <a:pt x="728" y="809"/>
                </a:lnTo>
                <a:lnTo>
                  <a:pt x="728" y="809"/>
                </a:lnTo>
                <a:lnTo>
                  <a:pt x="712" y="809"/>
                </a:lnTo>
                <a:lnTo>
                  <a:pt x="712" y="793"/>
                </a:lnTo>
                <a:lnTo>
                  <a:pt x="696" y="793"/>
                </a:lnTo>
                <a:lnTo>
                  <a:pt x="696" y="809"/>
                </a:lnTo>
                <a:lnTo>
                  <a:pt x="663" y="809"/>
                </a:lnTo>
                <a:lnTo>
                  <a:pt x="680" y="809"/>
                </a:lnTo>
                <a:lnTo>
                  <a:pt x="663" y="825"/>
                </a:lnTo>
                <a:lnTo>
                  <a:pt x="663" y="825"/>
                </a:lnTo>
                <a:lnTo>
                  <a:pt x="663" y="841"/>
                </a:lnTo>
                <a:lnTo>
                  <a:pt x="663" y="841"/>
                </a:lnTo>
                <a:lnTo>
                  <a:pt x="663" y="841"/>
                </a:lnTo>
                <a:lnTo>
                  <a:pt x="647" y="841"/>
                </a:lnTo>
                <a:lnTo>
                  <a:pt x="647" y="841"/>
                </a:lnTo>
                <a:lnTo>
                  <a:pt x="631" y="841"/>
                </a:lnTo>
                <a:lnTo>
                  <a:pt x="615" y="841"/>
                </a:lnTo>
                <a:lnTo>
                  <a:pt x="615" y="841"/>
                </a:lnTo>
                <a:lnTo>
                  <a:pt x="631" y="825"/>
                </a:lnTo>
                <a:lnTo>
                  <a:pt x="631" y="825"/>
                </a:lnTo>
                <a:lnTo>
                  <a:pt x="615" y="825"/>
                </a:lnTo>
                <a:lnTo>
                  <a:pt x="615" y="809"/>
                </a:lnTo>
                <a:lnTo>
                  <a:pt x="583" y="793"/>
                </a:lnTo>
                <a:lnTo>
                  <a:pt x="583" y="809"/>
                </a:lnTo>
                <a:lnTo>
                  <a:pt x="550" y="793"/>
                </a:lnTo>
                <a:lnTo>
                  <a:pt x="550" y="776"/>
                </a:lnTo>
                <a:lnTo>
                  <a:pt x="518" y="760"/>
                </a:lnTo>
                <a:lnTo>
                  <a:pt x="485" y="760"/>
                </a:lnTo>
                <a:lnTo>
                  <a:pt x="485" y="744"/>
                </a:lnTo>
                <a:lnTo>
                  <a:pt x="469" y="744"/>
                </a:lnTo>
                <a:lnTo>
                  <a:pt x="469" y="712"/>
                </a:lnTo>
                <a:lnTo>
                  <a:pt x="421" y="728"/>
                </a:lnTo>
                <a:lnTo>
                  <a:pt x="421" y="712"/>
                </a:lnTo>
                <a:lnTo>
                  <a:pt x="437" y="712"/>
                </a:lnTo>
                <a:lnTo>
                  <a:pt x="437" y="712"/>
                </a:lnTo>
                <a:lnTo>
                  <a:pt x="437" y="695"/>
                </a:lnTo>
                <a:lnTo>
                  <a:pt x="404" y="695"/>
                </a:lnTo>
                <a:lnTo>
                  <a:pt x="404" y="712"/>
                </a:lnTo>
                <a:lnTo>
                  <a:pt x="372" y="728"/>
                </a:lnTo>
                <a:lnTo>
                  <a:pt x="372" y="712"/>
                </a:lnTo>
                <a:lnTo>
                  <a:pt x="372" y="728"/>
                </a:lnTo>
                <a:lnTo>
                  <a:pt x="388" y="760"/>
                </a:lnTo>
                <a:lnTo>
                  <a:pt x="356" y="776"/>
                </a:lnTo>
                <a:lnTo>
                  <a:pt x="291" y="760"/>
                </a:lnTo>
                <a:lnTo>
                  <a:pt x="162" y="728"/>
                </a:lnTo>
                <a:lnTo>
                  <a:pt x="81" y="728"/>
                </a:lnTo>
                <a:lnTo>
                  <a:pt x="65" y="744"/>
                </a:lnTo>
                <a:lnTo>
                  <a:pt x="48" y="728"/>
                </a:lnTo>
                <a:lnTo>
                  <a:pt x="65" y="712"/>
                </a:lnTo>
                <a:lnTo>
                  <a:pt x="65" y="679"/>
                </a:lnTo>
                <a:lnTo>
                  <a:pt x="81" y="663"/>
                </a:lnTo>
                <a:lnTo>
                  <a:pt x="81" y="647"/>
                </a:lnTo>
                <a:lnTo>
                  <a:pt x="81" y="631"/>
                </a:lnTo>
                <a:lnTo>
                  <a:pt x="81" y="615"/>
                </a:lnTo>
                <a:lnTo>
                  <a:pt x="65" y="598"/>
                </a:lnTo>
                <a:lnTo>
                  <a:pt x="65" y="598"/>
                </a:lnTo>
                <a:lnTo>
                  <a:pt x="81" y="582"/>
                </a:lnTo>
                <a:lnTo>
                  <a:pt x="65" y="566"/>
                </a:lnTo>
                <a:lnTo>
                  <a:pt x="65" y="550"/>
                </a:lnTo>
                <a:lnTo>
                  <a:pt x="81" y="550"/>
                </a:lnTo>
                <a:lnTo>
                  <a:pt x="81" y="534"/>
                </a:lnTo>
                <a:lnTo>
                  <a:pt x="97" y="534"/>
                </a:lnTo>
                <a:lnTo>
                  <a:pt x="97" y="517"/>
                </a:lnTo>
                <a:lnTo>
                  <a:pt x="97" y="501"/>
                </a:lnTo>
                <a:lnTo>
                  <a:pt x="97" y="485"/>
                </a:lnTo>
                <a:lnTo>
                  <a:pt x="113" y="469"/>
                </a:lnTo>
                <a:lnTo>
                  <a:pt x="97" y="469"/>
                </a:lnTo>
                <a:lnTo>
                  <a:pt x="97" y="453"/>
                </a:lnTo>
                <a:lnTo>
                  <a:pt x="113" y="453"/>
                </a:lnTo>
                <a:lnTo>
                  <a:pt x="97" y="437"/>
                </a:lnTo>
                <a:lnTo>
                  <a:pt x="113" y="437"/>
                </a:lnTo>
                <a:lnTo>
                  <a:pt x="97" y="420"/>
                </a:lnTo>
                <a:lnTo>
                  <a:pt x="97" y="420"/>
                </a:lnTo>
                <a:lnTo>
                  <a:pt x="81" y="404"/>
                </a:lnTo>
                <a:lnTo>
                  <a:pt x="81" y="388"/>
                </a:lnTo>
                <a:lnTo>
                  <a:pt x="81" y="388"/>
                </a:lnTo>
                <a:lnTo>
                  <a:pt x="65" y="356"/>
                </a:lnTo>
                <a:lnTo>
                  <a:pt x="65" y="356"/>
                </a:lnTo>
                <a:lnTo>
                  <a:pt x="48" y="339"/>
                </a:lnTo>
                <a:lnTo>
                  <a:pt x="48" y="339"/>
                </a:lnTo>
                <a:lnTo>
                  <a:pt x="48" y="307"/>
                </a:lnTo>
                <a:lnTo>
                  <a:pt x="32" y="275"/>
                </a:lnTo>
                <a:lnTo>
                  <a:pt x="16" y="242"/>
                </a:lnTo>
                <a:lnTo>
                  <a:pt x="0" y="242"/>
                </a:lnTo>
                <a:lnTo>
                  <a:pt x="0" y="194"/>
                </a:lnTo>
                <a:lnTo>
                  <a:pt x="0" y="161"/>
                </a:lnTo>
                <a:lnTo>
                  <a:pt x="0" y="97"/>
                </a:lnTo>
                <a:lnTo>
                  <a:pt x="0" y="48"/>
                </a:lnTo>
                <a:lnTo>
                  <a:pt x="0" y="16"/>
                </a:lnTo>
                <a:lnTo>
                  <a:pt x="48" y="16"/>
                </a:lnTo>
                <a:lnTo>
                  <a:pt x="97" y="16"/>
                </a:lnTo>
                <a:lnTo>
                  <a:pt x="97" y="16"/>
                </a:lnTo>
                <a:lnTo>
                  <a:pt x="146" y="16"/>
                </a:lnTo>
                <a:lnTo>
                  <a:pt x="194" y="16"/>
                </a:lnTo>
                <a:lnTo>
                  <a:pt x="243" y="16"/>
                </a:lnTo>
                <a:lnTo>
                  <a:pt x="356" y="16"/>
                </a:lnTo>
                <a:lnTo>
                  <a:pt x="469" y="16"/>
                </a:lnTo>
                <a:lnTo>
                  <a:pt x="469" y="0"/>
                </a:lnTo>
                <a:lnTo>
                  <a:pt x="502" y="0"/>
                </a:lnTo>
                <a:lnTo>
                  <a:pt x="518" y="0"/>
                </a:lnTo>
                <a:lnTo>
                  <a:pt x="518" y="32"/>
                </a:lnTo>
                <a:lnTo>
                  <a:pt x="534" y="32"/>
                </a:lnTo>
                <a:lnTo>
                  <a:pt x="534" y="16"/>
                </a:lnTo>
                <a:lnTo>
                  <a:pt x="534" y="16"/>
                </a:lnTo>
                <a:lnTo>
                  <a:pt x="534" y="32"/>
                </a:lnTo>
                <a:lnTo>
                  <a:pt x="534" y="48"/>
                </a:lnTo>
                <a:lnTo>
                  <a:pt x="534" y="64"/>
                </a:lnTo>
                <a:lnTo>
                  <a:pt x="550" y="64"/>
                </a:lnTo>
                <a:lnTo>
                  <a:pt x="534" y="80"/>
                </a:lnTo>
                <a:lnTo>
                  <a:pt x="534" y="97"/>
                </a:lnTo>
                <a:lnTo>
                  <a:pt x="550" y="80"/>
                </a:lnTo>
                <a:lnTo>
                  <a:pt x="550" y="97"/>
                </a:lnTo>
                <a:lnTo>
                  <a:pt x="550" y="97"/>
                </a:lnTo>
                <a:lnTo>
                  <a:pt x="566" y="113"/>
                </a:lnTo>
                <a:lnTo>
                  <a:pt x="550" y="113"/>
                </a:lnTo>
                <a:lnTo>
                  <a:pt x="550" y="113"/>
                </a:lnTo>
                <a:lnTo>
                  <a:pt x="534" y="113"/>
                </a:lnTo>
                <a:lnTo>
                  <a:pt x="550" y="129"/>
                </a:lnTo>
                <a:lnTo>
                  <a:pt x="566" y="129"/>
                </a:lnTo>
                <a:lnTo>
                  <a:pt x="566" y="145"/>
                </a:lnTo>
                <a:lnTo>
                  <a:pt x="566" y="145"/>
                </a:lnTo>
                <a:lnTo>
                  <a:pt x="583" y="145"/>
                </a:lnTo>
                <a:lnTo>
                  <a:pt x="583" y="145"/>
                </a:lnTo>
                <a:lnTo>
                  <a:pt x="583" y="161"/>
                </a:lnTo>
                <a:lnTo>
                  <a:pt x="566" y="161"/>
                </a:lnTo>
                <a:lnTo>
                  <a:pt x="566" y="178"/>
                </a:lnTo>
                <a:lnTo>
                  <a:pt x="550" y="178"/>
                </a:lnTo>
                <a:lnTo>
                  <a:pt x="534" y="178"/>
                </a:lnTo>
                <a:lnTo>
                  <a:pt x="534" y="178"/>
                </a:lnTo>
                <a:lnTo>
                  <a:pt x="534" y="194"/>
                </a:lnTo>
                <a:lnTo>
                  <a:pt x="550" y="194"/>
                </a:lnTo>
                <a:lnTo>
                  <a:pt x="550" y="178"/>
                </a:lnTo>
                <a:lnTo>
                  <a:pt x="566" y="194"/>
                </a:lnTo>
                <a:lnTo>
                  <a:pt x="550" y="210"/>
                </a:lnTo>
                <a:lnTo>
                  <a:pt x="550" y="210"/>
                </a:lnTo>
                <a:lnTo>
                  <a:pt x="534" y="210"/>
                </a:lnTo>
                <a:lnTo>
                  <a:pt x="550" y="226"/>
                </a:lnTo>
                <a:lnTo>
                  <a:pt x="534" y="226"/>
                </a:lnTo>
                <a:lnTo>
                  <a:pt x="518" y="259"/>
                </a:lnTo>
                <a:lnTo>
                  <a:pt x="518" y="275"/>
                </a:lnTo>
                <a:lnTo>
                  <a:pt x="518" y="259"/>
                </a:lnTo>
                <a:lnTo>
                  <a:pt x="502" y="275"/>
                </a:lnTo>
                <a:lnTo>
                  <a:pt x="518" y="275"/>
                </a:lnTo>
                <a:lnTo>
                  <a:pt x="502" y="275"/>
                </a:lnTo>
                <a:lnTo>
                  <a:pt x="502" y="275"/>
                </a:lnTo>
                <a:lnTo>
                  <a:pt x="502" y="307"/>
                </a:lnTo>
                <a:lnTo>
                  <a:pt x="469" y="307"/>
                </a:lnTo>
                <a:lnTo>
                  <a:pt x="485" y="323"/>
                </a:lnTo>
                <a:lnTo>
                  <a:pt x="502" y="323"/>
                </a:lnTo>
                <a:lnTo>
                  <a:pt x="485" y="339"/>
                </a:lnTo>
                <a:lnTo>
                  <a:pt x="485" y="372"/>
                </a:lnTo>
                <a:lnTo>
                  <a:pt x="469" y="356"/>
                </a:lnTo>
                <a:lnTo>
                  <a:pt x="469" y="356"/>
                </a:lnTo>
                <a:lnTo>
                  <a:pt x="469" y="356"/>
                </a:lnTo>
                <a:lnTo>
                  <a:pt x="485" y="388"/>
                </a:lnTo>
                <a:lnTo>
                  <a:pt x="453" y="388"/>
                </a:lnTo>
                <a:lnTo>
                  <a:pt x="469" y="404"/>
                </a:lnTo>
                <a:lnTo>
                  <a:pt x="453" y="420"/>
                </a:lnTo>
                <a:lnTo>
                  <a:pt x="469" y="437"/>
                </a:lnTo>
                <a:lnTo>
                  <a:pt x="453" y="453"/>
                </a:lnTo>
                <a:lnTo>
                  <a:pt x="550" y="437"/>
                </a:lnTo>
                <a:lnTo>
                  <a:pt x="566" y="437"/>
                </a:lnTo>
                <a:lnTo>
                  <a:pt x="615" y="437"/>
                </a:lnTo>
                <a:lnTo>
                  <a:pt x="663" y="437"/>
                </a:lnTo>
                <a:lnTo>
                  <a:pt x="663" y="437"/>
                </a:lnTo>
                <a:lnTo>
                  <a:pt x="696" y="437"/>
                </a:lnTo>
                <a:lnTo>
                  <a:pt x="712" y="437"/>
                </a:lnTo>
                <a:lnTo>
                  <a:pt x="793" y="437"/>
                </a:lnTo>
                <a:lnTo>
                  <a:pt x="809" y="420"/>
                </a:lnTo>
                <a:lnTo>
                  <a:pt x="809" y="437"/>
                </a:lnTo>
                <a:lnTo>
                  <a:pt x="809" y="453"/>
                </a:lnTo>
                <a:lnTo>
                  <a:pt x="809" y="469"/>
                </a:lnTo>
                <a:lnTo>
                  <a:pt x="793" y="469"/>
                </a:lnTo>
                <a:lnTo>
                  <a:pt x="793" y="501"/>
                </a:lnTo>
                <a:lnTo>
                  <a:pt x="809" y="501"/>
                </a:lnTo>
                <a:lnTo>
                  <a:pt x="809" y="534"/>
                </a:lnTo>
                <a:lnTo>
                  <a:pt x="825" y="550"/>
                </a:lnTo>
                <a:lnTo>
                  <a:pt x="825" y="566"/>
                </a:lnTo>
                <a:lnTo>
                  <a:pt x="841" y="566"/>
                </a:lnTo>
                <a:lnTo>
                  <a:pt x="841" y="582"/>
                </a:lnTo>
                <a:lnTo>
                  <a:pt x="858" y="598"/>
                </a:lnTo>
                <a:lnTo>
                  <a:pt x="858" y="598"/>
                </a:lnTo>
                <a:close/>
                <a:moveTo>
                  <a:pt x="404" y="760"/>
                </a:moveTo>
                <a:lnTo>
                  <a:pt x="421" y="744"/>
                </a:lnTo>
                <a:lnTo>
                  <a:pt x="453" y="760"/>
                </a:lnTo>
                <a:lnTo>
                  <a:pt x="453" y="760"/>
                </a:lnTo>
                <a:lnTo>
                  <a:pt x="453" y="776"/>
                </a:lnTo>
                <a:lnTo>
                  <a:pt x="453" y="776"/>
                </a:lnTo>
                <a:lnTo>
                  <a:pt x="437" y="776"/>
                </a:lnTo>
                <a:lnTo>
                  <a:pt x="404" y="760"/>
                </a:lnTo>
                <a:lnTo>
                  <a:pt x="404" y="760"/>
                </a:lnTo>
                <a:close/>
                <a:moveTo>
                  <a:pt x="534" y="809"/>
                </a:moveTo>
                <a:lnTo>
                  <a:pt x="534" y="809"/>
                </a:lnTo>
                <a:lnTo>
                  <a:pt x="550" y="793"/>
                </a:lnTo>
                <a:lnTo>
                  <a:pt x="566" y="809"/>
                </a:lnTo>
                <a:lnTo>
                  <a:pt x="566" y="809"/>
                </a:lnTo>
                <a:lnTo>
                  <a:pt x="566" y="825"/>
                </a:lnTo>
                <a:lnTo>
                  <a:pt x="566" y="809"/>
                </a:lnTo>
                <a:lnTo>
                  <a:pt x="566" y="825"/>
                </a:lnTo>
                <a:lnTo>
                  <a:pt x="566" y="825"/>
                </a:lnTo>
                <a:lnTo>
                  <a:pt x="566" y="825"/>
                </a:lnTo>
                <a:lnTo>
                  <a:pt x="566" y="825"/>
                </a:lnTo>
                <a:lnTo>
                  <a:pt x="566" y="825"/>
                </a:lnTo>
                <a:lnTo>
                  <a:pt x="550" y="825"/>
                </a:lnTo>
                <a:lnTo>
                  <a:pt x="534" y="809"/>
                </a:lnTo>
                <a:lnTo>
                  <a:pt x="534" y="809"/>
                </a:lnTo>
                <a:close/>
                <a:moveTo>
                  <a:pt x="615" y="825"/>
                </a:moveTo>
                <a:lnTo>
                  <a:pt x="599" y="825"/>
                </a:lnTo>
                <a:lnTo>
                  <a:pt x="599" y="825"/>
                </a:lnTo>
                <a:lnTo>
                  <a:pt x="599" y="825"/>
                </a:lnTo>
                <a:lnTo>
                  <a:pt x="599" y="825"/>
                </a:lnTo>
                <a:lnTo>
                  <a:pt x="615" y="825"/>
                </a:lnTo>
                <a:lnTo>
                  <a:pt x="599" y="841"/>
                </a:lnTo>
                <a:lnTo>
                  <a:pt x="599" y="841"/>
                </a:lnTo>
                <a:lnTo>
                  <a:pt x="599" y="825"/>
                </a:lnTo>
                <a:lnTo>
                  <a:pt x="583" y="825"/>
                </a:lnTo>
                <a:lnTo>
                  <a:pt x="599" y="825"/>
                </a:lnTo>
                <a:lnTo>
                  <a:pt x="583" y="825"/>
                </a:lnTo>
                <a:lnTo>
                  <a:pt x="583" y="841"/>
                </a:lnTo>
                <a:lnTo>
                  <a:pt x="566" y="825"/>
                </a:lnTo>
                <a:lnTo>
                  <a:pt x="566" y="809"/>
                </a:lnTo>
                <a:lnTo>
                  <a:pt x="599" y="809"/>
                </a:lnTo>
                <a:lnTo>
                  <a:pt x="599" y="809"/>
                </a:lnTo>
                <a:lnTo>
                  <a:pt x="615" y="825"/>
                </a:lnTo>
                <a:lnTo>
                  <a:pt x="615" y="82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2860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066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In-depth interviews conducted:       n= 1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90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100 non-join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NIPF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29000"/>
            <a:ext cx="4114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lnSpc>
                <a:spcPct val="75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-join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IPF’s located in 59 coun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200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4 professional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foreste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843360"/>
            <a:ext cx="4647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“Smart growth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rganiz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267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te stewardship coordin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800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AF cha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 eastern hardwood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D260-ECDE-4D01-97A2-C6D4FA0BE7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14400" y="1066680"/>
            <a:ext cx="6400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– here’s the next generation.  They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1905120"/>
            <a:ext cx="678204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ingl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mo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rom their family for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ivelihoods less connect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the 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ack prior involve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e management of the land, and many do not wish to be involved 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ack the knowled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manage, but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ant to ow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and, and . . 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rive inco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90512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59092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42900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41972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18148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1406-FA53-4BFD-BC40-2056B53810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1219320"/>
            <a:ext cx="3581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icating mat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1981080"/>
            <a:ext cx="70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ale and female offsp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lly d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hink different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n important decision points (ie  income from the lan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3429000"/>
            <a:ext cx="70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ew ‘force’ condi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e are unprepared to deal with are likely to foster land conversion decisions (ie medical cost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4876920"/>
            <a:ext cx="71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outreach programs in plac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ddress these unique disconnec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F1B9-C09F-4FEB-BE2B-0FD68E832F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609480" y="990720"/>
            <a:ext cx="8534520" cy="5227560"/>
            <a:chOff x="609480" y="990720"/>
            <a:chExt cx="8534520" cy="522756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609480" y="990720"/>
              <a:ext cx="4372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410080" y="34290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99"/>
                  </a:solidFill>
                  <a:latin typeface="Times New Roman"/>
                </a:rPr>
                <a:t>If not this . . .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410080" y="2286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, what’s nex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D57E-50D4-4214-8275-86DBE61B5F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9907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. . 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hen perhaps th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2800440"/>
            <a:ext cx="7620120" cy="13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-think potential for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new financial incentive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orest health – human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yments for ecosystem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ccessional planning vs just transfer 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1828800"/>
            <a:ext cx="7620120" cy="77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-think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venues of communication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where they don’t exis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rents to offspring … siblings to sibl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4334040"/>
            <a:ext cx="76201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-think family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forest management at youth level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Future Farmers …. Future Foresters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5257800"/>
            <a:ext cx="76201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-think strategies for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reaching femal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versus male offspring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… Harvard was right –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they think differently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3B51-482B-404C-9CBE-BABD8A8842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at We Wanted to Lear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57168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on-join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PFs regard a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“drivers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family forest fragmentation and conversion deci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57168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ther landown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drivers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iffer with impact groups: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rofessional foresters, state agencies, Smart growth organization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E98B-4041-43EC-BB7E-23096C2DD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1371600"/>
            <a:ext cx="697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Planning to keep forestland in family hands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114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505240"/>
            <a:ext cx="39434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65000"/>
              </a:lnSpc>
              <a:spcBef>
                <a:spcPts val="19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86240"/>
                <a:tab algn="l" pos="737244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79% say y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3486240"/>
                <a:tab algn="l" pos="737244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but . . 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3581280"/>
            <a:ext cx="69343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estland future discussed with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spr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4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4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spring involved in forest pla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men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3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65E6-96CB-40EB-B06C-4067719417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533520" y="2133720"/>
            <a:ext cx="8229600" cy="2694960"/>
            <a:chOff x="533520" y="2133720"/>
            <a:chExt cx="8229600" cy="26949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33520" y="2133720"/>
              <a:ext cx="8229600" cy="269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086600" y="2565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roup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724280" y="3352680"/>
            <a:ext cx="914400" cy="19814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24160" y="1295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02 non-joiner study resul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3352680"/>
            <a:ext cx="990720" cy="137160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819520"/>
            <a:ext cx="2362320" cy="609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3196-A298-43C7-AEE0-73BEF6FD4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28480" y="5202360"/>
            <a:ext cx="828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137160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1160" y="990720"/>
            <a:ext cx="6781680" cy="1503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5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What offspring think is really importan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5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Do we know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5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That lead us to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1680" y="2819520"/>
            <a:ext cx="8001000" cy="3200400"/>
            <a:chOff x="571680" y="2819520"/>
            <a:chExt cx="8001000" cy="3200400"/>
          </a:xfrm>
        </p:grpSpPr>
        <p:sp>
          <p:nvSpPr>
            <p:cNvPr id="114" name=""/>
            <p:cNvSpPr/>
            <p:nvPr/>
          </p:nvSpPr>
          <p:spPr>
            <a:xfrm>
              <a:off x="571680" y="3962520"/>
              <a:ext cx="80010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9120" indent="-519120"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9120" indent="-519120"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Funding from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:  The USFS -  Dr. Brett Butler, N. Research S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9120" indent="-519120">
                <a:lnSpc>
                  <a:spcPct val="75000"/>
                </a:lnSpc>
                <a:spcBef>
                  <a:spcPts val="624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9120" indent="-519120"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What Offspring of NIPFs Think:  A National Perspective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9120" indent="-519120"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2004-2005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2819520"/>
              <a:ext cx="0" cy="1143000"/>
            </a:xfrm>
            <a:prstGeom prst="line">
              <a:avLst/>
            </a:prstGeom>
            <a:ln w="7632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86D8-E7C8-4043-A504-F9E39FB68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75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05 USFS Offspring Stud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743200"/>
            <a:ext cx="51055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300 direct offspring inter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8% female; 62% ma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25 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Over 200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lmost 300,000 ac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AD6A-BE1D-419A-BF7F-09D305672F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9T17:45:42Z</dcterms:created>
  <dc:creator>CATHERINE M. MATER</dc:creator>
  <dc:description/>
  <dc:language>en-US</dc:language>
  <cp:lastModifiedBy>Liz Siddle</cp:lastModifiedBy>
  <dcterms:modified xsi:type="dcterms:W3CDTF">2005-11-23T18:16:28Z</dcterms:modified>
  <cp:revision>1527</cp:revision>
  <dc:subject/>
  <dc:title>Public Lands Certification Pilot Projects</dc:title>
</cp:coreProperties>
</file>