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2739-CC80-46C1-95DB-7BF83BD97A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35B7-8C20-4676-9AE2-721D268B8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AB1A-E450-4E81-BAA2-1A04D2955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AEE0D-9D79-4E9C-97EF-D9FA8123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4E1D9-90C1-410B-B3BF-11EB173AE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9AA3C-5527-4536-A079-D1F31B52A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3EAF-83CB-4371-B410-E869F00BF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D3BB2-A7C6-4F03-8291-7875A141A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93624-3327-4A2C-B999-07A16DA76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4FEB2-D457-4008-9954-BEF57DC89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3D9B4-1D5B-43BA-9AB9-AF65C18C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469D3-5AFE-4667-AC5A-285D140D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FE891-66ED-4C79-B0F1-C118D7F6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B86F7-6A4B-4E05-AADC-350AC671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B89A1-A0D7-4025-A006-BF10AEADE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DA7C9-38EB-4CB1-962E-DD308C516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60020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98844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C6E49-20BD-4C58-A800-F9D8C84E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827-75F6-4C39-99C1-B9A9351C0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22FF-9EC7-406F-A247-38CDBADC4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FD29-AD61-4E72-9516-6FFCA338F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304560"/>
            <a:ext cx="8534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F7279-37C5-4559-894B-3B57718F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141EB-BD75-48F9-8DD5-949AED4E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8844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9BFC1-D8C8-4619-946F-263D0EB11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60020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8844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4B63-39CF-4351-912B-A13F9B611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52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90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19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7720-7B43-446B-96A6-522004C5CF06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c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98240" y="93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727680" y="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6E9EA-2DBA-4F1D-B38A-00D1B405A3C4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c26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280" y="533160"/>
            <a:ext cx="88394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5f5f5f"/>
            </a:outerShdw>
          </a:effectLst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ommunity Wood Energy: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Bristol - Bethel and Beyond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533520" y="16002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3581280"/>
            <a:ext cx="876312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obert Perschel, Forest Guild Northeast Region Director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508-756-4625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ob.perschel@verizon.ne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733920" y="2133720"/>
            <a:ext cx="1600200" cy="13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467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wood energy projects offer multiple benefit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artnership has experience working together and is learning valuable less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poised to transport our new expertise to the Mahoosuc reg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rcRect l="0" t="7500" r="9667" b="7500"/>
          <a:stretch/>
        </p:blipFill>
        <p:spPr>
          <a:xfrm>
            <a:off x="1371600" y="4724280"/>
            <a:ext cx="609588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Forest Guil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Guided by the highest Ethical Standar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disassociate if harmful to fo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e the forest as possessing intrinsic valu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ote and practice Excellent Fore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cused on rural communit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3352680" y="5410080"/>
            <a:ext cx="1981440" cy="14907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334120" y="5423040"/>
            <a:ext cx="1904760" cy="14349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7238880" y="5424480"/>
            <a:ext cx="1905120" cy="1433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1523880" y="5423040"/>
            <a:ext cx="1905120" cy="14349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-457200" y="5430960"/>
            <a:ext cx="1981080" cy="142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Guiding Philosophies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o what you can do in the place where you are with the resources at h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etter is Bet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are one of many guilds building sustainable commun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inciples of Community Wood Energy 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stainable produ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fficient 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ocal sourc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air ac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munity Wood Energy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Win-Win-Win-Win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pplies low cost energy solutions to rural communit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osters community engagement in resource decision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romotes sustainability on private and public land ba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22200" indent="-322200">
              <a:spcBef>
                <a:spcPts val="90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inforces rural economies, sense of place and sense of communit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Bristol, Vermont- Mount Abe High School Pilot Projec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owerful alignment of assets/commit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mmunity selected wood fired energy syste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 and community involve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mont Family For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FA- Vermont Town Forest Project,Farm Bil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RC- technological expertise and experi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rest Guild- NE program goals, forestry and funding connecti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ris Duke Foundation summer inter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ermont Community Foundatio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ompleting the Bristol Project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nduct harvests on private and municipal land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plete Mt. Abe sustainable sourcing storybook- Caitlin Cusac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0000"/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rompt a community decision making proc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ompleting the Bristol</a:t>
            </a:r>
            <a:r>
              <a:rPr b="0" i="1" lang="en-US" sz="32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Projec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464832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velop “Introduction to Community Wood Energy Projects for Guild Foresters”- Forest Gu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ynthesize lessons from Bristol into a model blueprint for additional Community Wood Energy Projects-  Forest Gui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715000" y="1676520"/>
            <a:ext cx="2122560" cy="445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534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5f5f5f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eliminary Lessons Learned</a:t>
            </a:r>
            <a:endParaRPr b="0" lang="en-US" sz="36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67000"/>
          </a:bodyPr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munity engagement is key- knowledge building and celeb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tnerships are crucial- need authentic community contacts to join with outside experti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fficient community based resources required- internship/contractor- the more connected to local scene the bette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practices that sequester more carb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29680" indent="-2296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etermine management regimes that sequester more carb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5T18:14:03Z</dcterms:created>
  <dc:creator>Bob Perschel</dc:creator>
  <dc:description/>
  <dc:language>en-US</dc:language>
  <cp:lastModifiedBy>Bob Perschel</cp:lastModifiedBy>
  <dcterms:modified xsi:type="dcterms:W3CDTF">2007-09-19T12:31:42Z</dcterms:modified>
  <cp:revision>12</cp:revision>
  <dc:subject/>
  <dc:title>Northeast Carbon Polices and the Northeast Forester</dc:title>
</cp:coreProperties>
</file>