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135A-4645-4822-A6FB-95E162E3C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884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0ACF-5B8A-4226-A15E-492B5D0C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88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88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13D6-43D6-4C50-B1A7-2E53B9D9B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88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88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88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EE0D-9BC6-42F0-8524-79AF4C2B8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4626-E258-4B6C-9505-96F3795F1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3DD6-5F93-4CDB-AFF1-00B529AF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38F0-B45D-4620-9E0E-F54E3EDB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0987-3782-40C7-9F54-82386675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7F90-3158-40C8-AC8C-6A838466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FB1F-083C-4277-8276-5113A9B2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988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FD86-EE60-46A0-8D3B-47652ECF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02C1-04EB-4AD6-9A00-367BEB12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988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BA6C6-C50B-4F0E-979A-A44AC8B7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884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D327-EB90-4037-AFEA-BAF92F04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9884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FEE1-3E14-4A66-A164-27FDF334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88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988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20E25-B3EE-4B99-AF93-3321A7D58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988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988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988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73A5-72A5-46A6-AC15-C361F34FA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6BCD-4FE6-493D-817C-EA5CFA90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7E0F-B1D5-4A7B-B0B6-F8261C37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8C67-A417-4211-8604-679AB870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112C-0458-4836-9C6E-78A23459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88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FFB3-749F-4F7C-B452-F22524B0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88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AA87-60B7-4264-A7EC-EC1E05FD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884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64DC-C3C1-457E-8E0B-8AB7B3A3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BE63-6472-47E6-9CAA-7FC22C19C72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c2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27E8-3867-46B5-A7BF-84A78D964622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c2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8394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5f5f5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mmunity Wood Energy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ristol - Bethel and Beyon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3581280"/>
            <a:ext cx="87631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bert Perschel, Forest Guild Northeast Region Direct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08-756-4625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b.perschel@verizon.ne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733920" y="2133720"/>
            <a:ext cx="160020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unity wood energy projects offer multiple benef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partnership has experience working together and is learning valuable less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are poised to transport our new expertise to the Mahoosuc reg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0" t="7500" r="9667" b="7500"/>
          <a:stretch/>
        </p:blipFill>
        <p:spPr>
          <a:xfrm>
            <a:off x="1371600" y="4724280"/>
            <a:ext cx="609588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Forest Guild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uided by the highest Ethical Stand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disassociate if harmful to for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e the forest as possessing intrinsic va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mote and practice Excellent Fore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used on rural commun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352680" y="5410080"/>
            <a:ext cx="1981440" cy="14907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334120" y="5423040"/>
            <a:ext cx="1904760" cy="14349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7238880" y="5424480"/>
            <a:ext cx="1905120" cy="1433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1523880" y="5423040"/>
            <a:ext cx="1905120" cy="1434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-457200" y="5430960"/>
            <a:ext cx="198108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Guiding Philosophi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what you can do in the place where you are with the resources at h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tter is Be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are one of many guilds building sustainable commun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inciples of Community Wood Energy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stainable p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t 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al sourc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ir ac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ommunity Wood Energy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Win-Win-Win-Wi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pplies low cost energy solutions to rural commun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sters community engagement in resource decis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motes sustainability on private and public land ba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inforces rural economies, sense of place and sense of commun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Bristol, Vermont- Mount Abe High School Pilot Projec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lignment of assets/commi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unity selected wood fired energy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ent and community involv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mont Family Fore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FA- Vermont Town Forest Project,Farm Bi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RC- technological expertise and experi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est Guild- NE program goals, forestry and funding conn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ris Duke Foundation summer int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mont Community Foun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ompleting the Bristol Projec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duct harvests on private and municipal land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te Mt. Abe sustainable sourcing storybook- Caitlin Cusa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mpt a community decision making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ompleting the Bristol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rojec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648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 “Introduction to Community Wood Energy Projects for Guild Foresters”- Forest Gui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nthesize lessons from Bristol into a model blueprint for additional Community Wood Energy Projects-  Forest Gui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715000" y="1676520"/>
            <a:ext cx="212256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eliminary Lessons Learned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7000"/>
          </a:bodyPr>
          <a:p>
            <a:pPr marL="229680" indent="-2296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unity engagement is key- knowledge building and celeb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-2296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nerships are crucial- need authentic community contacts to join with outside expert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-2296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fficient community based resources required- internship/contractor- the more connected to local scene the bett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-2296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termine practices that sequester more carb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-2296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termine management regimes that sequester more carb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18:14:03Z</dcterms:created>
  <dc:creator>Bob Perschel</dc:creator>
  <dc:description/>
  <dc:language>en-US</dc:language>
  <cp:lastModifiedBy>Bob Perschel</cp:lastModifiedBy>
  <dcterms:modified xsi:type="dcterms:W3CDTF">2007-09-19T12:31:42Z</dcterms:modified>
  <cp:revision>12</cp:revision>
  <dc:subject/>
  <dc:title>Northeast Carbon Polices and the Northeast Forester</dc:title>
</cp:coreProperties>
</file>