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855-CBC4-421D-9229-BB078069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734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C3B-278F-4838-BF30-A844FDC9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A47-A4DF-49FA-904C-11AFA829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740-3E3B-42F2-B8E0-D13FAEF4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B06A-C0FC-4421-B4A2-769FB2A2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ed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9FDB-88D9-410D-A414-25F1B198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259D-B0E0-4534-B6DF-2D3D1973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9ADA-F0DB-44FC-891A-2FA44619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5A20-B670-4657-9496-2E7B5D0E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ed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71B5-29E2-46C2-AA92-D6A22263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CF87-FE96-427B-B328-52ECB0A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ed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080-0AD8-4A62-A28C-4EF84971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6EA9-765C-48EB-9150-8E87725B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7D09-094B-43D4-878C-B17A002C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734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1698-542C-4C1A-8B9C-CD1B472A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6D23-37E1-4CAA-87BE-16D3E135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D289-C02F-495C-9DF6-68E71A6B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D2A-1244-400F-85B0-E5670394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51D-1A56-42AA-8D1C-EC7C508A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D3D-F506-43AD-B73E-B03C3F69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ed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639-C5F6-4044-9F13-B4324E45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222-9DE7-4797-910D-53CE7D3E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B9D-8532-468E-9836-15E90B5D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2DB-497F-45FB-9524-3EEFE023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33e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37373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37373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373737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363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363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CA9C-4F4D-4D3B-A17D-63EA3CD069E2}" type="slidenum">
              <a:rPr b="0" lang="en-US" sz="1400" spc="-1" strike="noStrike">
                <a:solidFill>
                  <a:srgbClr val="63636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363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363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536880"/>
            <a:ext cx="1447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CD35-9E67-44CE-829D-161F87B161E3}" type="slidenum">
              <a:rPr b="0" lang="en-US" sz="1400" spc="-1" strike="noStrike">
                <a:solidFill>
                  <a:srgbClr val="63636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ed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7eed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73737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73737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73737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73737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73737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24200" y="762120"/>
            <a:ext cx="2228760" cy="2438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3276720"/>
            <a:ext cx="754380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-energy Insurance Policy: Ensuring the Sustainability of Feedsto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rbara J. Bram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ior Program Advisor for International Affai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33e"/>
                </a:solidFill>
                <a:latin typeface="Verdana"/>
              </a:rPr>
              <a:t>But otherwise, </a:t>
            </a:r>
            <a:br>
              <a:rPr sz="4400"/>
            </a:br>
            <a:r>
              <a:rPr b="1" lang="en-US" sz="4400" spc="-1" strike="noStrike">
                <a:solidFill>
                  <a:srgbClr val="00533e"/>
                </a:solidFill>
                <a:latin typeface="Verdana"/>
              </a:rPr>
              <a:t>controversy may </a:t>
            </a:r>
            <a:br>
              <a:rPr sz="4400"/>
            </a:br>
            <a:r>
              <a:rPr b="1" lang="en-US" sz="4400" spc="-1" strike="noStrike">
                <a:solidFill>
                  <a:srgbClr val="00533e"/>
                </a:solidFill>
                <a:latin typeface="Verdana"/>
              </a:rPr>
              <a:t>stymie industry growth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533e"/>
                </a:solidFill>
                <a:latin typeface="Verdana"/>
              </a:rPr>
              <a:t>The pushback is already beginning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53280" y="5866920"/>
            <a:ext cx="76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4160" y="304920"/>
            <a:ext cx="4659120" cy="5410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Fossil Energy </a:t>
            </a:r>
            <a:br>
              <a:rPr sz="3200"/>
            </a:b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Balance 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688560" y="5715000"/>
            <a:ext cx="166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ource: Worldwatch Institut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33e"/>
                </a:solidFill>
                <a:latin typeface="Verdana"/>
              </a:rPr>
              <a:t>Greenhouse Gas Reductions</a:t>
            </a: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International Conference in Bonn:  </a:t>
            </a:r>
            <a:br>
              <a:rPr sz="3200"/>
            </a:b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“Sustainability Criteria for </a:t>
            </a:r>
            <a:br>
              <a:rPr sz="3200"/>
            </a:b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Bio-energy” October 12-13, 2006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73737"/>
                </a:solidFill>
                <a:latin typeface="Verdana"/>
              </a:rPr>
              <a:t>Products: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Compilation of concerns about the potentially serious negative impact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Awareness that these concerns may produce conflicts and impede growth of the Bio-energy industrie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Chair’s Final Statement recommended next step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Provocative conclusion from several experts’ studies</a:t>
            </a:r>
            <a:r>
              <a:rPr b="0" lang="en-US" sz="3200" spc="-1" strike="noStrike">
                <a:solidFill>
                  <a:srgbClr val="00533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If land that currently stores significant amounts of carbon (such as forests, native prairies, peat lands) is plowed up to produce </a:t>
            </a: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row crops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 for 1st generation biofuels, the GHG impacts are </a:t>
            </a:r>
            <a:r>
              <a:rPr b="1" lang="en-US" sz="3200" spc="-1" strike="noStrike">
                <a:solidFill>
                  <a:srgbClr val="373737"/>
                </a:solidFill>
                <a:latin typeface="Verdana"/>
              </a:rPr>
              <a:t>negative, not positive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Even if such land is plowed up to plant </a:t>
            </a: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perennial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 energy crops, such as palm oil trees, the GHG balance can still be </a:t>
            </a:r>
            <a:r>
              <a:rPr b="1" lang="en-US" sz="3200" spc="-1" strike="noStrike">
                <a:solidFill>
                  <a:srgbClr val="373737"/>
                </a:solidFill>
                <a:latin typeface="Verdana"/>
              </a:rPr>
              <a:t>negative from 50 to 100 years</a:t>
            </a: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Key Recommendations from Bonn Conference final document: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Sustainability” safeguards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 are essential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 To protect people and environment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-  To reduce controversies over negative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environmental and social impacts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Certification system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 is needed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To translate sustainability safeguards into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performance measures 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To involve stakeholders and ensure credibility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Can be legislative or voluntary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533e"/>
                </a:solidFill>
                <a:uFillTx/>
                <a:latin typeface="Verdana"/>
              </a:rPr>
              <a:t>Conservation/Sustainability Legislative and Regulatory Initiatives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The Netherlands: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 has proposed a new program to set Criteria for Sustainable Biomass Production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Germany: 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proposal to link tax breaks for biofuels to certification that they were produced in a sustainable way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The European Union: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 is evaluating how much biomass can be harvested sustainably from their forests.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California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’s new Biomass plan presumes need for sustainability standards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533e"/>
                </a:solidFill>
                <a:uFillTx/>
                <a:latin typeface="Verdana"/>
              </a:rPr>
              <a:t>Recently Launched Private Sector Sustainability Standards Initiative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Multi-stakeholder process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, including industry, environmental and social advocates, producer groups including from developing countries, academic experts and inter-governmental bodies.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Based in Switzerland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at a technical university.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Goal: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to build on existing internationally agreed standards and assurance schemes, to create a practical and credible evaluation process for use by purchasers, banks, NGOs, governments, etc. 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Process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will be transparent and balanced among stakeholders.</a:t>
            </a: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24200" y="762120"/>
            <a:ext cx="2228760" cy="243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8080" y="3276720"/>
            <a:ext cx="7543800" cy="26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rbara J. Bram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ior Program Advisor for Internation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fa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mble@nwf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3737"/>
                </a:solidFill>
                <a:latin typeface="Verdana"/>
              </a:rPr>
              <a:t>Civil Society Organizations value forests for:</a:t>
            </a:r>
            <a:endParaRPr b="0" lang="en-US" sz="4000" spc="-1" strike="noStrike">
              <a:solidFill>
                <a:srgbClr val="373737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Water retention  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Biological diversity 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Ecosystem service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In addition to wood products.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33e"/>
                </a:solidFill>
                <a:latin typeface="Verdana"/>
              </a:rPr>
              <a:t>NWF’s priorities are to</a:t>
            </a:r>
            <a:br>
              <a:rPr sz="3600"/>
            </a:b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73737"/>
                </a:solidFill>
                <a:uFillTx/>
                <a:latin typeface="Verdana"/>
              </a:rPr>
              <a:t>Confront Global Warming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, as the single most urgent challenge to protecting wildlife for our children’s future 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and to 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73737"/>
                </a:solidFill>
                <a:uFillTx/>
                <a:latin typeface="Verdana"/>
              </a:rPr>
              <a:t>Restore Wildlife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, through a robust network of habitats (terrestrial and aquatic) to support healthy plants and animals.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33e"/>
                </a:solidFill>
                <a:latin typeface="Verdana"/>
              </a:rPr>
              <a:t>Don’t repeat the mistakes of the past</a:t>
            </a:r>
            <a:br>
              <a:rPr sz="3600"/>
            </a:b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The bio-energy/ forestry industry could be a terrific and publicly supported piece of the overall solution to global warming, 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IF sustainable land management and production are the hallmarks.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What a shame if it goes a different route, and runs into damaging controversy.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rif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NW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sition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support a long-term growth pattern to “sustainable”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Next Generation Bio-energ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one among many long-term strategies to reduce greenhouse gas (GHG) emission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propose a specific new Farm Bill program for cellulosic ethano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Low Grade Woody Biomass Could Help Keep Standing Forests Standing: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There is a CURRENT market for pellets and chips. No need to wait for carbon markets.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Incentive to help pay for fire management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Potentially an incentive to forestall forest conversion 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Deforestation produces almost 20% of global GHG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The Industry Must Demonstrate </a:t>
            </a:r>
            <a:br>
              <a:rPr sz="3200"/>
            </a:b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Sustainable Harvesting Practices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Otherwise, biomass for power may get caught up in the NEW frenzy over biofuel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And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The decades OLD fight over logging practices and the role of the National Forest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Woody Biomass May Benefit from New Technology, as part of the Next Generation of Biofuels: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Cellulosic ethanol, using mixed grasses 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and wood as feedstocks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Clean biogas and pyrolysis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Using a variety of waste products, 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instead of dedicated energy crops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But the current market is for 1st generation technology, using forest thinnings and residues for power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Moderate contribution to energy consumption 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Conservation groups see this as a good use for limited biomass removal, if done with safeguards. 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--NOT ALL BIO-ENERGY IS “SUSTAINABLE”--</a:t>
            </a:r>
            <a:br>
              <a:rPr sz="3200"/>
            </a:b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THE BENEFITS ARE NOT PRODUCED AUTOMATICALLY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THEY MUST BE PRODUCED UNDER SOCIAL AND ENVIRONMENTAL SAFEGUARD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Bio-energy that is produced with conservation safeguards for Water and Wildlife may gain public Support: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Protect watersheds and waterways 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(Water will be even more stressed as global warming advances)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Avoid erosion, water pollution and run-off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Protect habitat values and biological diversity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Follow the principles and criteria of the Forest Stewardship Council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5:23:49Z</dcterms:created>
  <dc:creator>Joshua Anderson</dc:creator>
  <dc:description/>
  <dc:language>en-US</dc:language>
  <cp:lastModifiedBy>Liz Siddle</cp:lastModifiedBy>
  <dcterms:modified xsi:type="dcterms:W3CDTF">2007-01-30T15:38:00Z</dcterms:modified>
  <cp:revision>36</cp:revision>
  <dc:subject/>
  <dc:title>PowerPoint Presentation</dc:title>
</cp:coreProperties>
</file>