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964AE-06A1-4F3D-8FBA-866F4783A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5E524-7730-4872-B471-EC9D08D81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E1F9E0-5691-401A-AF36-F4133BDB0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374571-0050-43F8-90E2-FDDB21A22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D8AB6C-1F8E-49E8-B68C-3D9C37594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04D5D-253C-44E9-B50D-07D9D62C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3A5F15-7CA6-456A-A615-C3C1C6E47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FA5482-CC39-4BE9-A21D-916976047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0A86CF-3B2A-4C93-B6DD-17F4558F9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EEF4D8-1B50-445C-9A73-347A83489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79F5FB-68B6-482E-B508-B101CA4DD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FF39BA-4D1D-415A-9146-676DD5C67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BC2C-1610-46DA-BE42-A35BF68264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B6A89-1BCD-458B-9987-6062EAA5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09CEB9-4B22-4934-A4B5-F1514433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2BCB3D-84C9-4B6A-BC12-1C356C51E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0709B5-B2D6-4568-919C-CA8C5D69A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0BAB8C-5CE4-4DD4-BC99-F58626D17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AECDF6-67A6-4215-8395-BEE1C89C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0F10B3-B9FA-4A97-B97B-46C2D89E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D8C052-3A65-47C4-8A9D-D35E0EF9B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E683FD-7192-42FC-B8E1-A8CF947CF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4DC512-ED01-4720-85B8-3F9E27CD8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4C90-0FDD-4A96-88B3-A5ECEB099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282ADD-CCFC-453D-828E-81158539D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B5A773-DC99-47E6-AD1D-B2C3B0D93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6E99C-5686-458B-8ADF-27557CE54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BF19CE-66D2-42A0-B9FB-54F505AB9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08C80B-97F6-4D12-8367-DF7DE6C61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A25424-4DBE-4471-8113-DE90B1B86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7B1712-02E2-4E86-8B60-12AC1BDE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B10D02-EB05-4B8D-B634-743C24ACA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89F664-C0AF-483B-A350-743B93495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3F3F6-EE34-4426-8226-CB51E5F8F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99E90-10F7-4CAD-AFE8-B362C47D9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4E8D9-9DF7-4795-A09A-76AE36EC6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2531D-80FF-4C1E-888C-F64AEA13F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FDF7BAD-07C3-4F14-B7D0-4FB759D8F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542619-1420-4873-9A6A-989CF9433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8C9774-8EA7-4A30-B749-05F80564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F623E3-3C4F-42FA-8155-3CFFD604F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3D76F3-A7D3-4D55-BDDC-2CCB7DD83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78E3C-2DFA-44A4-B82E-2EEA91E24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C523FA-9438-4386-B342-470620A8B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2D6795-0384-4411-A300-1CC559FDE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9AC74-5295-4669-AD54-C8932226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497EBD-1B1D-4467-A45F-C366EEF77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B06275-8ED5-45A9-AE07-98E8A39E2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1BC15C-47C9-4215-896B-E62B51D74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97F0D-D5DE-478F-82DD-3274C6546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01E91-4CF2-4B1F-926D-5AAAB84CB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D86E141-7078-46FE-AA5D-A22B5B493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3002A1-3778-4B15-88D9-11C27A738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FF47F5-4833-468C-AAF1-7084EB4C7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DD21C2-4CFF-41CB-8F97-7C6D0077A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435768-BCD2-4A4E-997C-9ACA1BAD7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4B2B8-0E06-4FFE-B46C-84AB3E6DD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49A0994-A605-4A4D-B242-847B998C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DB1A54-BBEC-435C-986A-C8238B731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7BB3B17-1797-432F-8997-D1E2D55A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3304C2-21FF-44D9-91AF-02884624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82705D-F8AB-4862-AFFE-AC2C28180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FF6673-73C9-4696-BCA3-1A4D0244F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351B40-879D-45FC-ADA1-2F3FC5345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BCBD7-4657-4927-B0D0-C087A5B8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93654-A0CF-471E-B5D2-B15A88C7F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01143-8130-4080-9367-74443E55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96205-8845-4ADE-A552-82C0D0F69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FD29-E132-4EA1-B1FF-607538BB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41E90-D0BA-4395-A89D-1C5A0654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9ACC5-8812-4849-A0A0-294AF2B9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50ED-4430-438B-BBA9-F7065A8C1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BBB8C-143E-412E-96E2-0BD4B4ADF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C92FF-E803-4AF2-AEDA-9DC058ED0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CBAA1-678E-44C6-A188-DCF623A28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FF61D2-15EE-47B5-B3FB-4BBF4631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00E88B-69D5-4B56-B7F2-0D52EF1C7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052D80-1864-4BAF-930D-F20C5D5F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B0ECA6-1042-4799-AF40-FE86EAF3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A825A-EC4F-466B-A5B8-8C5E947A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D10FC-EE13-4CD6-8DC2-69D1FFE9B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F20BD-00BA-4C29-BABB-94717A98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BC510F-68A4-40F0-A114-0F8429A3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D10F7-E8C2-4B16-8F23-A1BE3A288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9E586-2F76-4B33-AF2C-D48FC02FE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992CF-A623-49CF-9658-7180A795F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9AA27-B0D8-49D1-A1DB-91B2A8AFE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DD841-53FF-4AD1-A90B-A1640771F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030FF-E8D3-455F-925D-979610D01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F4E0A8-975A-4637-8EDB-9DA655742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10E2-20B3-4997-AA90-F8D78C407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1DBBC-ACB7-4295-822C-352B017EA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FA1FF-B79A-4AA0-AFCB-557749E35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7F4D4A-F89B-4EED-B1FC-FB5D20E41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1EC722-168A-49D3-BA49-B28165B26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CF6B3E-970A-400F-978A-3B017B0E8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36B81-C075-4A3B-83CA-BEC1D48CF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B3A9B6-A620-4095-BAA1-AEC77F94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AD2186-6E62-4286-97BA-43F780B10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DEA7B3-D50B-48E1-A0A2-EDE976C0A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F3F354-242A-41B3-9795-877B04195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54D3-B41D-4410-8890-49B30340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63A7DB-7931-4F25-B7D1-87040D73C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040642-6151-45F8-8CC1-D9DC84637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CDD4D5-B381-413A-B627-3912077CE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A6ABC6-E933-4DFD-95AF-063962F5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EF7500-FA4F-45EA-AC1D-53B871C1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B7CC9-6742-4E42-9CE8-50C7676F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DBAC40-E056-42FD-8000-76AE0936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A8A288-0895-496C-8992-D10F1343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C9482D-B4FF-4F99-B513-F6140DA6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52453-C031-498E-A6DE-847E71A37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8872-0A05-4E83-9128-8EA57870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5A5DC8-464E-42E3-B3F2-2225BC005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B6CFA0-5F20-412A-941E-5BD19E0F2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CB7A7C-996C-4068-8B16-B2482F373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8AD775-C3FE-4F07-B2BD-7DB26B817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A993E-A907-4107-9786-9BF8E0496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632BD-4AD7-41D5-9657-1FCC5B06B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1FE512-4F15-4E1F-813B-156C1632D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46BE7-86CA-49AF-90A4-73122A3A1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EE6D09-0C9B-4118-AD35-68CD610A7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9C5BE4-7FF9-4402-983F-CF4475275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8BA4E-1A05-40E5-9174-272AFD3E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6A4FBC-FB0C-470D-9865-97E17CCE5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49DCF0-0DE4-4D57-90E8-E1E228984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AE7A67-9982-49D9-A68C-B3A456AD1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EDF0F9-79DB-4623-A2F0-652DCECAE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D1BDF3-FEEE-4BF7-893C-69C8B9FC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972634-F011-4669-8C53-416869A3E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F95FB5-02FB-46B9-8C12-51DC6A36A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D1F50-615B-4985-BAC3-91B0BD7D5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A0EF84-15C9-47CD-B20C-CD2254B43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67BAC-A992-4A17-A8F5-D2E0C785D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4FE2-82A8-4200-8F6B-27B55B756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2EAEE-CCED-4F48-B2D5-2B0E887FE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844A25-BBC5-4B89-9F06-A63DF49C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F2E89-4F38-430B-B822-732C42E0A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FEC1E-AFF2-47F1-AA93-C642DC967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F44AF-2F4D-4DC6-854E-786B2C67C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D577F8-6D97-4EFC-BBE5-105CDAC9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6BBEC4-AB09-4210-A247-8FD835C2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4C8801-ECDF-42F4-829C-7F09D3C9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75D73B-2283-4788-949B-2B1B48A9D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94D3E-1BE3-43D6-8AC7-22880D8B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D544-BD88-445A-80B5-5131E3616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1309DC-1C9A-4933-B603-7ED834112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02F353-8477-4531-BB28-C3721D79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83C1F-B708-4D37-9313-79B72484D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A7BA9C-FAB8-48EF-B7AA-5DD0CE807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8D4ED-CF56-425E-B721-932FF77E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1B3C72-75AE-4E97-AC66-B11DADB2E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8EA60-CE19-49B8-B633-7728F6F2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F0E324-4F5F-4499-847B-DAD4B4E67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849CB7-4186-4958-A9B2-A21F73E7E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AADAA-AB93-4617-B3D3-BA891C4D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4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4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8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9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9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d1ea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2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4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4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7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39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spcBef>
                    <a:spcPts val="799"/>
                  </a:spcBef>
                  <a:buClr>
                    <a:srgbClr val="000000"/>
                  </a:buClr>
                  <a:buFont typeface="Arial"/>
                  <a:buChar char="•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algn="r">
              <a:spcBef>
                <a:spcPts val="300"/>
              </a:spcBef>
              <a:buClr>
                <a:srgbClr val="045c7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dg-energy.com/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Rectangle 5"/>
          <p:cNvSpPr/>
          <p:nvPr/>
        </p:nvSpPr>
        <p:spPr>
          <a:xfrm>
            <a:off x="612720" y="1752480"/>
            <a:ext cx="791856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1" i="1" lang="en-US" sz="2800" spc="-1" strike="noStrike">
                <a:solidFill>
                  <a:srgbClr val="dbf5f9"/>
                </a:solidFill>
                <a:latin typeface="Arial"/>
              </a:rPr>
              <a:t>Creating a Market for New Investment in Biomass Renewable Energy Generation Capacity</a:t>
            </a:r>
            <a:r>
              <a:rPr b="0" lang="en-US" sz="2000" spc="-1" strike="noStrike" u="sng">
                <a:solidFill>
                  <a:srgbClr val="dbf5f9"/>
                </a:solidFill>
                <a:uFillTx/>
                <a:latin typeface="Arial"/>
              </a:rPr>
              <a:t> </a:t>
            </a:r>
            <a:br>
              <a:rPr sz="2000"/>
            </a:b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Arial"/>
              </a:rPr>
              <a:t>Presented b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dbf5f9"/>
                </a:solidFill>
                <a:latin typeface="Arial"/>
              </a:rPr>
              <a:t>Steven Jay Mue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bf5f9"/>
                </a:solidFill>
                <a:latin typeface="Arial"/>
              </a:rPr>
              <a:t>President – </a:t>
            </a:r>
            <a:r>
              <a:rPr b="0" i="1" lang="en-US" sz="1800" spc="-1" strike="noStrike">
                <a:solidFill>
                  <a:srgbClr val="dbf5f9"/>
                </a:solidFill>
                <a:latin typeface="Arial"/>
              </a:rPr>
              <a:t>DG Energy ll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e2d700"/>
                </a:solidFill>
                <a:uFillTx/>
                <a:latin typeface="Arial"/>
                <a:hlinkClick r:id="rId2"/>
              </a:rPr>
              <a:t>www.dg-energy.com</a:t>
            </a:r>
            <a:r>
              <a:rPr b="0" i="1" lang="en-US" sz="1800" spc="-1" strike="noStrike">
                <a:solidFill>
                  <a:srgbClr val="dbf5f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Text Box 7"/>
          <p:cNvSpPr/>
          <p:nvPr/>
        </p:nvSpPr>
        <p:spPr>
          <a:xfrm>
            <a:off x="457200" y="304920"/>
            <a:ext cx="8534520" cy="7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dbf5f9"/>
                </a:solidFill>
                <a:latin typeface="Arial"/>
              </a:rPr>
              <a:t>Forum on Climate Change, Forests, and Bioener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dbf5f9"/>
                </a:solidFill>
                <a:latin typeface="Arial"/>
              </a:rPr>
              <a:t>Washington, DC - January 26,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10" descr=""/>
          <p:cNvPicPr/>
          <p:nvPr/>
        </p:nvPicPr>
        <p:blipFill>
          <a:blip r:embed="rId3"/>
          <a:stretch/>
        </p:blipFill>
        <p:spPr>
          <a:xfrm>
            <a:off x="3228840" y="5029200"/>
            <a:ext cx="2562480" cy="1160640"/>
          </a:xfrm>
          <a:prstGeom prst="rect">
            <a:avLst/>
          </a:prstGeom>
          <a:ln w="0">
            <a:noFill/>
          </a:ln>
        </p:spPr>
      </p:pic>
      <p:sp>
        <p:nvSpPr>
          <p:cNvPr id="639" name="Rectangle 6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4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Huge Potential Economic Impac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,700 MW of new wind capacity was installed during 2006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Equivalent to 900 MW of biomass </a:t>
            </a: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(wind operates at less than 40% availability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900 MW of biomass = 2,000 new long-term jobs in 60 commun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Recommended Federal Support for Biomass Gener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Recraft the Section 45 Production Tax Credit Program for Biomas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parity with wind and allow application to existing older plants with more appropriate repower condition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ppropriate Funds for Biowaste Removal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the Act provides for up to $20/gT but no funds have been yet appropriated nor have any regulations been promulgated since late 2005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Encourage Federal Agency and Military Base use of Biomass generation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there are numerous opportunities for private funding of on-base or near-base biomass potential – allowing for fire safety benefits and renewable power supply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-2617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Distributed Generation – An Important Key to America’s Energy Futur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mas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vides grid stability in rural are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t or below the cost of fossil fuel supp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With high reliability (typically 95%+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Creates significant rural employmen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A Long-Term Energy Supply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With proper support biomass renewable generation can triple in the next dec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5,000 MW of new generation potenti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awing only on timber industry wastes and hazardous fuels remov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ramatic reduction of transmission and distribution losses as well as new power line infrastruc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6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Conclusion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iomass generation is a truly </a:t>
            </a:r>
            <a:r>
              <a:rPr b="1" i="1" lang="en-US" sz="2600" spc="-1" strike="noStrike">
                <a:solidFill>
                  <a:srgbClr val="000000"/>
                </a:solidFill>
                <a:latin typeface="Constantia"/>
              </a:rPr>
              <a:t>sustainable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newable source of energ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Displaces fossil-fuel kwhrs (like wind &amp; PV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t offers the benefit of simultaneously reducing GHC by removing materials that will either combust or decompos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1218960" y="7045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State of the Nation – Biomass Renewable Generation in America today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295280" y="1905120"/>
            <a:ext cx="7391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,500 MW of installed capacity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In 18 sta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30 faciliti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16 MW average generation output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nnually </a:t>
            </a: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20,000,000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MWh supplied to utiliti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onstantia"/>
              </a:rPr>
              <a:t>Average age of plants &gt; 20 year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Rectangle 5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Text Box 7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conomic Impa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$150,000,000+ national payrol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45 full-time direct/indirect jobs per site (5,200 total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upplying remote generation to utilities with critical power suppor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onverts 20,000,000 BDT/year of woody biomass to electricity (50/50 mill waste &amp; forest slash/residue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Rectangle 5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Text Box 6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Environmental Benefi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x the renewable power delivery of win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x the benefit on GHG reduction – first by replacing fossil-fuel production and second by eliminating emissions from fires and decomposition of such waste material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Provides an assured disposal of mill waste that would otherwise be burned or landfill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Rectangle 5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914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04617b"/>
                </a:solidFill>
                <a:latin typeface="Calibri"/>
              </a:rPr>
              <a:t>Weak Current Federal Program for Biomass Generation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3" name=""/>
          <p:cNvSpPr txBox="1"/>
          <p:nvPr/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Inadequate Incentives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Wind receives a $20/MWh PTC – biomass receives $10/MWh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No Encouragement from Congress for new investment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the PTC section 45 credits for biomass are presently set to expire 12/31/08 and do not encourage repowering of older plan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Healthy Forest Initiative legislation - helpful but unfunded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calls for up to $20/gT subsidy to remove fire hazard materials with $500k cap per project – excellent concept but needs assured multi-year appropriation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Rectangle 5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Text Box 6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4617b"/>
                </a:solidFill>
                <a:latin typeface="Calibri"/>
              </a:rPr>
              <a:t>How to Encourage New Biomass Investment – An Example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7120" indent="-26712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akeview, Oregon 13 MW projec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Proactively supported by community and state agenci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Local sawmill owner (Collins Pine) provided land, steam purchase and a portion of the raw material supply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USFS and BLM provided additional surety of fuel supply through a stewardship  access to meet generation fuel need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26760" indent="-24084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e critical CROP analysis provided surety of long-term supply for the next 20 year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Defining a Success, continued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59200" indent="-25920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State of Oregon provided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Designation as an Oregon Solutions Project which ensured highest level agency attention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Access to 15 year long-term debt at highly favorable interest rates for up to 70% of the project cos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Reduction of capital project cost through a unique Business Energy Tax Credi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nstantia"/>
              </a:rPr>
              <a:t>Through the PUC, establishment of a standard PPA structure obligating the local utilities to buy biomass power under pre-negotiated, defined term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07680" indent="-2332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The Result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reated a viable private equity investment ‘environment’ </a:t>
            </a:r>
            <a:r>
              <a:rPr b="0" lang="en-US" sz="2000" spc="-1" strike="noStrike">
                <a:solidFill>
                  <a:srgbClr val="000000"/>
                </a:solidFill>
                <a:latin typeface="Constantia"/>
              </a:rPr>
              <a:t>(which is highly like to foster several more such investments)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On January 4th of this year, DG announced it would build the first new large biomass plant in the US since 1992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 (a second, smaller plant was announced simultaneously by the Gov of Oregon as well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5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Added 20 plant jobs &amp; 10-20 materials collectoin and transport-related jobs </a:t>
            </a: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(injecting more than $1.8mm of new wage base for the next 20 years+ in Lakeview)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4617b"/>
                </a:solidFill>
                <a:latin typeface="Calibri"/>
              </a:rPr>
              <a:t>Biomass Generation is Small &amp; Local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15 MW - typical new biomass plant siz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roduce 100,000MWh/year of power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Consume 90,000 BDT/year of fire hazard and thinning material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From a 75 mile radius on a 20 year sustainable basis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Power serves the rural commun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nstantia"/>
              </a:rPr>
              <a:t>Generation locally improves power reliability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Rectangle 4"/>
          <p:cNvSpPr/>
          <p:nvPr/>
        </p:nvSpPr>
        <p:spPr>
          <a:xfrm>
            <a:off x="0" y="6648480"/>
            <a:ext cx="9144000" cy="209520"/>
          </a:xfrm>
          <a:prstGeom prst="rect">
            <a:avLst/>
          </a:prstGeom>
          <a:blipFill rotWithShape="0">
            <a:blip r:embed="rId2">
              <a:alphaModFix amt="47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Text Box 5"/>
          <p:cNvSpPr/>
          <p:nvPr/>
        </p:nvSpPr>
        <p:spPr>
          <a:xfrm>
            <a:off x="6629400" y="632448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5T16:43:31Z</dcterms:created>
  <dc:creator>Melissa Moehrke</dc:creator>
  <dc:description/>
  <dc:language>en-US</dc:language>
  <cp:lastModifiedBy>Liz Siddle</cp:lastModifiedBy>
  <dcterms:modified xsi:type="dcterms:W3CDTF">2007-01-30T15:34:02Z</dcterms:modified>
  <cp:revision>19</cp:revision>
  <dc:subject/>
  <dc:title>Slide 1</dc:title>
</cp:coreProperties>
</file>