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BE6-AD14-4424-8D92-A44BCBDD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EE0-86A4-49A1-861B-32E13083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740FF-3E21-4F66-93B1-26FCFB59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478AA-1FB7-440E-8D6D-7BD8AB35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C1D8B-C267-4D88-BD3C-2D972B71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6FEC0-3AD6-4B51-8736-E85850F5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D0790-6B28-43CF-B3A6-74B6AB7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9929F-8F48-4FF0-BD5D-DBCFB9A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9FA0A-F3F0-4C54-8CDD-7A32AC70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8EEEF-C65D-4122-85F1-54009C38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17FE3-BF86-4AAB-81D1-421EAB7E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6DCC4-43EA-4BE0-8381-5750EDAC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EBA-344C-41F1-B03D-F9D5EFD3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170BB-847E-4D7D-9A57-EBD203E7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E1F39-697C-46A0-94A0-9C88652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3E339-3EA8-4B26-B616-C5340839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17BB5-6017-4838-A9B0-50E9038D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B69BE-0330-4117-8BDF-ED2F07EF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F884D-8028-49BC-A0E6-BEBC0CB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676C8-B0E4-4FDF-AFB3-2F66D89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E926F-FFEE-4BC8-8E11-063932D6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F37AB-B437-4C4A-BC86-C4E548E6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B3AC8-A55B-4D5F-9CF6-8BA8E0DC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31A-948A-4792-91A6-6E03E91C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A838E-7907-4C6E-BE1A-6523275B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BF7A4-BF80-4638-9E0F-2D63A0C1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18AD9-4FA3-4993-91B2-605234A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AD6CF-C2B6-4E3D-996E-097C114F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DD809-8D7F-4306-951E-7083B294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EDED1-9F16-4F3A-B834-0EF555B7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EC6C7-032F-4465-B29B-D41926A5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A07C0-3950-40A8-8D20-6846A77A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D2D24-CEBF-4946-91F4-29224698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193BA-E65E-4D1A-8673-F794932B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D25D-EDF0-42C8-8E64-0F804FAD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0CBEE-2EE6-43FD-862B-7C9FA300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A1B50-CE91-40A5-BE83-301D1F29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8BFD1-F435-4892-9DCC-86079F79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69B42-FCF7-44E7-86F2-8559E65C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33DCC-35AE-4606-9597-FE00B3A6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0CCA2-54ED-4953-87FC-DF0C1319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D2617-E753-4AFC-8C16-509FE2D6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FF33B-8BFA-48D7-AE83-5AB39527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096DB-F54A-4E68-A434-415027AC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591D9-2F57-4A3B-BB25-B8C585D3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F729-D473-4044-8199-F0967FFC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BD93D-F27B-4BDE-A519-ED2ECF31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6C17F-17E8-4A67-B76A-5746FA27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A46A9-3DDC-4F9B-84AA-FA183F39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A9F61-65E2-486B-8A7C-A8BD6D7A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B210A-2FDF-4988-BB0B-6C7FDC97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B1FC7-F8CB-495A-A88A-4A2D1C32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E47C5-D59B-439B-878B-330829C1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6FDE5-438C-414D-9079-CA13EED3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72AA7-FA76-4FFC-B5D7-96C70552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96147-C1C9-4048-9E21-BC54D0C5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95A9-7342-4CCF-A817-BAA1A11E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7EFE9-8770-47BE-AFA1-2A2D15BB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01DA2-8BA9-4581-8D43-222CE6E3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E1EC9-0433-4920-9792-F57AA0BB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AEB0E-9235-4A03-9B60-060E3E27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602A9-0BBD-439C-851E-03E6226C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E2F61-468B-4B97-A4B2-1F82D145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C2831-E580-460B-976A-536A8BE8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5B29-E405-4CF1-9502-1124F159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5C68-0318-4B3D-981B-6BE2EA1E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AEC9-CE05-4E68-B101-6A2547E7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7978-00BF-4C65-8324-A5A2888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CAE-697B-4752-8177-9E4EAB83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3F0C-B90E-4CDB-9D40-37F2ECA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0ACE-F895-4561-B3AF-1F8574B4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2A1-29CB-4213-BCF9-5A95AEE6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A342-4EC7-4734-97FE-85081965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071F-3CD3-4BFD-9CC0-88815EE0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FB22-27C1-411E-A65F-1A330967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074C-E721-4E03-A132-C43ABC80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616F-B00D-415F-8719-346FC2E8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69CF-2414-48B6-8921-FAED3118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2307-8775-458D-9436-6CAA7DD3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99C-0E6F-4D11-8969-ACC0D1E9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5569-9C80-4E7C-B347-9C0C9EE2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55DA-6996-4CD1-8311-3ED15A11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2F98-AE4C-4FAD-B4B5-ADBA41E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3841-A340-4B86-A77E-B12B2019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E5E8-894E-474F-861D-BCDB0B17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922B-50B8-40A4-825C-A47F6313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8140-A6BE-4226-BEE2-75BE74D3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ED9B-34C0-4589-81D3-CF7955E4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89B8-D29C-493B-912F-A7D82130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64F1-D253-4790-ABBA-8D668374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D72-0EA6-4C35-8A23-0BFBD7BA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3FFB-E445-49BE-8898-5131ADBA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745D-1307-4D72-B50E-DC01D955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514E-37C7-4246-929D-E1622DC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9BF3D-336E-41DC-8B1D-B053CA25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CE6D-5CA5-43A7-BEE4-785EC6B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4FED-E801-4710-8A88-604BE44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4C97F-B744-402F-B6B2-2DDD61AF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8AAD-BE6E-4D2F-B588-61816A7F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6CCC-BE15-4354-832F-A1A62C62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076D5-83E1-48DE-80F9-1A28E0E1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11B-80B2-475E-8E0B-9CFEDF8C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3182D-B312-44EC-ACF6-6ED91C9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F3822-6F9B-4E89-82D2-2165C56B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80447-CCE1-45F4-B468-8F71A23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5E0D-B8D4-4522-904C-333B306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B9F2-1CFE-408D-BFCA-3AFECA86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E6AEF-71BD-46A5-85E7-922AEF5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1CCD6-9CC7-4413-8415-69D69A4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248D5-BA99-42D1-98FD-4A0CF84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B9FD4-D37F-4F49-9366-A60A9326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4CC86-6301-49C7-BAC2-351FF707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C04-CA27-489B-9C3C-5DB99D8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F485E-6B0F-451F-84CC-E44F1C0D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E7E96-742B-4373-BD0B-8BF1D8FA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A6C5-8F72-46D1-8895-9CF6D1F8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90CF5-AFC1-4C11-98C2-79453A9D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DCCE9-81FC-46B1-8722-17043CB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4822-4A6F-4646-B7E4-F5683461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DD6F-060C-4899-9E4F-931A444A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0C470-4711-48A4-B40A-CF5149B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54AFB-7A22-4B58-858C-404D1FAE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32A8-2E34-4E71-98A3-29291E7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A2E-22EE-4215-9AE5-53D8E55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D3487-0822-478C-8FE6-3460954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093E3-B9CA-40D4-BCA1-437AA134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0052C-3819-4BA0-AE25-2C24D339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80162-D190-48B0-B45D-08FD0720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821DC-83F0-4495-BCA4-96A87A36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56651-D3E5-47A8-9F7C-CD9D9780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52682-5521-4C03-84CA-B1497922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6D413-DCB8-4B8E-9859-A2629BA6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BD717-380F-4C78-A436-881B8194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E124-15D2-4AA5-83EE-1221463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8D4-0683-4968-B064-1F97123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B076B-FE40-463C-A8B2-1FE8DC6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C3C0A-B9EA-42E3-9ED4-E8178002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743BC-1DA4-4CC8-B105-ACAC5B09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32CF8-249A-45D8-A64F-076CFA6B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459E2-BC9E-4FBB-AA6A-149F9FA1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07475-D91F-45A3-9A48-DAEA562F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929E7-BFC1-490F-8FA0-1D61ED21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1181F-B428-4AA8-83CE-299BAC72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37F50-8527-441F-93A6-193692E3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4870F-CF86-4AA9-B604-41886616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0AA-1720-462D-B02A-829874D3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2920-834C-4B41-97CD-FB4F79BE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42599-4D00-473C-B360-F492DB9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CFCC-3D1F-4F92-B811-F73A43A3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2AFBE-4556-4591-A3F7-1197A1A9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413D3-457F-40B5-A2A8-80CB9402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30E34-9D9C-4CBF-A76B-8C8154B5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9F802-71CF-4E65-9538-6A8A16CF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D555F-BA35-4402-90B8-64EF68CF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1BCA7-1341-4EED-835F-302A4518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BDD0-9949-4C13-B92A-ED74C3A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g-energy.com/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12720" y="1752480"/>
            <a:ext cx="79185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en-US" sz="2800" spc="-1" strike="noStrike">
                <a:solidFill>
                  <a:srgbClr val="dbf5f9"/>
                </a:solidFill>
                <a:latin typeface="Arial"/>
              </a:rPr>
              <a:t>Creating a Market for New Investment in Biomass Renewable Energy Generation Capacity</a:t>
            </a:r>
            <a:r>
              <a:rPr b="0" lang="en-US" sz="2000" spc="-1" strike="noStrike" u="sng">
                <a:solidFill>
                  <a:srgbClr val="dbf5f9"/>
                </a:solidFill>
                <a:uFillTx/>
                <a:latin typeface="Arial"/>
              </a:rPr>
              <a:t> </a:t>
            </a:r>
            <a:br>
              <a:rPr sz="2000"/>
            </a:b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Arial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Arial"/>
              </a:rPr>
              <a:t>Steven Jay Mu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Arial"/>
              </a:rPr>
              <a:t>President – </a:t>
            </a:r>
            <a:r>
              <a:rPr b="0" i="1" lang="en-US" sz="1800" spc="-1" strike="noStrike">
                <a:solidFill>
                  <a:srgbClr val="dbf5f9"/>
                </a:solidFill>
                <a:latin typeface="Arial"/>
              </a:rPr>
              <a:t>DG Energy 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www.dg-energy.com</a:t>
            </a:r>
            <a:r>
              <a:rPr b="0" i="1" lang="en-US" sz="1800" spc="-1" strike="noStrike">
                <a:solidFill>
                  <a:srgbClr val="dbf5f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457200" y="304920"/>
            <a:ext cx="853452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Arial"/>
              </a:rPr>
              <a:t>Forum on Climate Change, Forests, and Bio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Arial"/>
              </a:rPr>
              <a:t>Washington, DC - January 26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0" descr=""/>
          <p:cNvPicPr/>
          <p:nvPr/>
        </p:nvPicPr>
        <p:blipFill>
          <a:blip r:embed="rId3"/>
          <a:stretch/>
        </p:blipFill>
        <p:spPr>
          <a:xfrm>
            <a:off x="3228840" y="5029200"/>
            <a:ext cx="2562480" cy="116064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6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4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Huge Potential Economic Impac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,700 MW of new wind capacity was installed during 2006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uivalent to 900 MW of biomas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wind operates at less than 40% availability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00 MW of biomass = 2,000 new long-term jobs in 60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commended Federal Support for Biomass Gene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raft the Section 45 Production Tax Credit Program for Biomas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parity with wind and allow application to existing older plants with more appropriate repower condition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opriate Funds for Biowaste Removal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the Act provides for up to $20/gT but no funds have been yet appropriated nor have any regulations been promulgated since late 200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courage Federal Agency and Military Base use of Biomass generati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there are numerous opportunities for private funding of on-base or near-base biomass potential – allowing for fire safety benefits and renewable power supply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istributed Generation – An Important Key to America’s Energy Futur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mas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grid stability in rural ar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 or below the cost of fossil fuel supp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high reliability (typically 95%+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s significant rural employ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 Long-Term Energy Supply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th proper support biomass renewable generation can triple in the next dec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5,000 MW of new generation potent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awing only on timber industry wastes and hazardous fuels remov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amatic reduction of transmission and distribution losses as well as new power line infrastruc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clusio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mass generation is a truly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ustainab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newable source of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places fossil-fuel kwhrs (like wind &amp; PV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 offers the benefit of simultaneously reducing GHC by removing materials that will either combust or decomp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18960" y="704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ate of the Nation – Biomass Renewable Generation in America toda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295280" y="19051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,500 MW of installed capa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18 st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30 faciliti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6 MW average generation outpu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nually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,000,000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Wh supplied to ut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verage age of plants &gt; 20 ye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conomic Impa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150,000,000+ national payro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5 full-time direct/indirect jobs per site (5,200 tot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lying remote generation to utilities with critical power 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verts 20,000,000 BDT/year of woody biomass to electricity (50/50 mill waste &amp; forest slash/residu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vironmental Benef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x the renewable power delivery of wi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x the benefit on GHG reduction – first by replacing fossil-fuel production and second by eliminating emissions from fires and decomposition of such waste materi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s an assured disposal of mill waste that would otherwise be burned or landfill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ak Current Federal Program for Biomass Gene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adequate Incentiv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Wind receives a $20/MWh PTC – biomass receives $10/MWh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Encouragement from Congress for new investment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the PTC section 45 credits for biomass are presently set to expire 12/31/08 and do not encourage repowering of older plan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althy Forest Initiative legislation - helpful but unfund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calls for up to $20/gT subsidy to remove fire hazard materials with $500k cap per project – excellent concept but needs assured multi-year appropriati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ow to Encourage New Biomass Investment – An Exampl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keview, Oregon 13 MW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actively supported by community and state agen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cal sawmill owner (Collins Pine) provided land, steam purchase and a portion of the raw material supp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FS and BLM provided additional surety of fuel supply through a stewardship  access to meet generation fuel nee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ritical CROP analysis provided surety of long-term supply for the next 20 yea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efining a Success, continue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 of Oregon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ation as an Oregon Solutions Project which ensured highest level agency atten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to 15 year long-term debt at highly favorable interest rates for up to 70% of the project 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uction of capital project cost through a unique Business Energy Tax Cred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ugh the PUC, establishment of a standard PPA structure obligating the local utilities to buy biomass power under pre-negotiated, defined ter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he Resul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reated a viable private equity investment ‘environment’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which is highly like to foster several more such investmen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January 4th of this year, DG announced it would build the first new large biomass plant in the US since 199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a second, smaller plant was announced simultaneously by the Gov of Oregon as wel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dded 20 plant jobs &amp; 10-20 materials collectoin and transport-related jobs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injecting more than $1.8mm of new wage base for the next 20 years+ in Lakeview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iomass Generation is Small &amp; Local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MW - typical new biomass plant siz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duce 100,000MWh/year of pow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sume 90,000 BDT/year of fire hazard and thinning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rom a 75 mile radius on a 20 year sustainable ba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ower serves the rural commun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neration locally improves power reliabil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6:43:31Z</dcterms:created>
  <dc:creator>Melissa Moehrke</dc:creator>
  <dc:description/>
  <dc:language>en-US</dc:language>
  <cp:lastModifiedBy>Liz Siddle</cp:lastModifiedBy>
  <dcterms:modified xsi:type="dcterms:W3CDTF">2007-01-30T15:34:02Z</dcterms:modified>
  <cp:revision>19</cp:revision>
  <dc:subject/>
  <dc:title>Slide 1</dc:title>
</cp:coreProperties>
</file>